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B6A3-D7F7-4DCF-B3CC-1B9D0F6496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ur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ive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our ey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eive u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tical illusions fool our brains into seeing things that are not really there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liked the idea so much in Australia, they built on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enrose Triangle in Per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re’s what it looks like from a different angle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as created by Professor Akiyoshi Kitaoka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are more of the Professor’s illusions on the FaradaySchools websit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pparent rise and setting of the Sun each day fooled people for thousands of years into thinking that the Sun moves around 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r understanding today is supported by convincing evidence including photos of the Earth from sp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500-4317-4F82-94F3-BCB7332D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DF6-C629-4D84-ADF1-6E200E6F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594BE-00CE-40C0-ADC1-F78DE784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03BBE-3A1C-43F9-A73E-2E1707D7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5795F-C8E5-4CEC-81F9-C8B3D075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D1439-4472-4C1F-B96F-F19703A5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98AA4-C309-4747-85C1-1FD1375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B6A62-B8AC-48D0-9980-7357CA87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2F360-7C18-4786-83CD-DE29E068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25DAE-7447-40F1-92E3-5DD38EE2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FD31B-9776-4019-89A5-AB94B89E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A5896-7207-410A-8932-64A1CFBE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73B-A99F-4A17-BD25-CA71675C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FA97B-9A28-4AF9-9368-4F091EF5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EF211-7F8E-4914-87AB-B6E3E199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595DE-494F-423B-B029-249D69C9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6DF53-830D-43B0-B0E2-040EACCE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CB19F-1C31-42B5-905E-B37A189D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4EF7C-2E92-4AFF-BF8E-1DE21B9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0962A-C65E-46EB-847B-47B668F3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EC574-DAF8-4F75-942D-1C919403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D1EFF-E407-40C9-B995-1133A7DA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8E6DD-AF23-4E09-A06D-083337FB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F7C-C504-407D-8387-7501B2F2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8E755-0B50-4CAD-A344-20858977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CCAF1-EFCE-4BF5-B8B3-DFCE732A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70B23-A121-483D-89C4-94CB9C1E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85331-9A5A-4AEE-A0F3-A45AE743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662C0-3DEC-4E48-82B4-BB737C4C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F54A7-A822-48B2-B4BA-FD4A2069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75583-C60A-4D0C-8545-36EEB8BF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AC560-9163-4B65-AD17-8E89339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35A54-4233-43B1-A5CA-74C6A95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3AB1F-D4F5-41D2-ABAA-618DBCAC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D1AA-10B4-4117-B9C2-4D710884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05091-D071-4BCF-8F36-BBA4B371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51FF7-CA2C-4FD3-9588-5B8A2EAC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EB0C2-800C-4D36-9C39-CE74A158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E8C95-9B7A-43C5-BB3F-3E4D67BC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BACE2-EE04-429C-A886-9C37899D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97FC6-D725-489D-98E1-18FA8DCB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C3B03-B714-4697-A4B1-C96D54FA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53B99-E9C3-4540-A71E-7973B9F0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C16F9-03E8-4734-8F27-E4D03409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7F672-EA78-425F-A595-00EF0A90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C6F8-8458-45DC-9903-2CFFEEFE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3553B-C091-444C-9D0C-181E6FD6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71A9A-03E1-42B0-8BFB-2120C0C3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4A4F3-E279-4125-B90C-4696314A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E8235-FAA2-42F7-B7E1-E0178328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310C6-1D7A-495B-B7CE-E0884B57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DE4B-6DF1-40BE-92EE-25CD6F5A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CF1F-D48B-4F68-908B-D613A189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758A-BA86-4272-B42B-94A49960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081A-E359-4875-82CE-3D930B9E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1186-6F43-4FB0-A077-74D28C86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7CE-0733-4350-95C0-3CE8284E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C52E-7DF6-429C-BDC3-AFEC878E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8754-0F64-4DF9-91CB-011614DC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32A6-6472-4247-816B-B1E82E55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C0F6-A485-4AE7-A63B-D1BE4880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1F66-A625-4371-A58E-AA00028F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C5C2-3FE4-45AB-AF1E-768CA5CA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8F42-A138-4F5A-A1BA-1D7A6763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CAEC-8559-46FA-A007-64ED9D9E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A0CC-D092-4134-9A6F-3BDA8F21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DC6C-6D43-4BA5-BA53-67D950E0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944-1AB2-4453-A114-AF8F2868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D2259-FCFB-4B5D-8E3B-AEB4CA31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D5A3-5058-4E9E-8E77-F19D2635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BB62-F63B-44FB-AF61-227B1B6B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E028-14E9-4A1C-8450-F8030021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7514-624B-426F-AEC9-AAE81977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40CB-975C-493E-8DDA-91FBBAB9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9420E-803A-429F-859E-2686CD19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5A2CE-F4EE-4B3F-809D-8CD13935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051CA-9841-4FB6-AD4A-2FE0308B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E10F-88F2-4402-895E-E75838F1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D07-41B4-49C5-904D-4007B71A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6BD6-A07E-4D42-A3EE-119068B4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C4350-64D2-45CA-9A37-8EF4DD07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A997C-A176-4107-91F0-4AD60479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AAD1-05B1-430B-87A1-6F7F230A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C120-0916-4151-A9AE-C3CCC799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CBAEB-16DA-4ECD-AE5F-310EFB7C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F7BE-864E-4EAD-8F42-74207D26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92A32-4655-4531-8D16-6B96C8B4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1F52D-9364-48B0-B2C1-2F47FBC9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730C4-64F2-4890-BFDE-8223668D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EE9-559E-4645-BA90-34093A66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547FE-5C3C-450D-BF8A-816C6AE1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89C78-CC46-4030-B087-E83EF5A7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BA808-FB57-4A01-9474-56D1CA51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6BE30-18BF-4354-B028-2D592487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D257-140E-4186-88C4-F7C1D569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CCBBF-2BE5-45A0-980D-413D9814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7DF6-966B-4978-85C9-E94C3A41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05A41-2D0D-4FD0-B942-B5C8BBC3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3EF07-C247-40C7-9762-D8443D67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25D8E-4580-4002-9821-147E8AF3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8BF-FFF3-41E6-9B2E-A979513B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A0FE5-40D8-4EA1-ACF3-3B994264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286B1-959F-4676-94AC-F96EA3D9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A802-50C8-4207-8AB3-CA9275D0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3732D-2111-4495-9B43-A8B0DEEE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1E77E-7E85-460A-A002-A7E95510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2F6B7-0DF6-45FA-96A5-13234036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AE460-00A0-4CBA-9748-99C1130F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34B46-3350-4929-850D-BE666D9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72E3D-F8CA-4265-8E2E-4D0D3D02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B9C91-5496-467B-A52B-81392643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755-10EB-44C6-91E9-C926370D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4381-F106-406D-AF50-05031D7B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BF7CD-6C43-4BD5-8356-13914B99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B573A-EF18-4781-8EB0-EA214E77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93EF4-B40B-4D01-B1E7-61E0C831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92BAE-FEF5-44BE-B7A6-17142613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7B6D8-AD74-4F0E-A9FF-534FA078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A2A98-43B2-419E-AC02-CBA7A8C6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3F655-4753-40D9-80D0-D72EBF80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25A5C-C1AC-4357-BC16-F9B54310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E2672-6518-4DF7-8549-7B4A1404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49D-0542-41C4-9DF2-51666EEC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0B3F4-1AE3-4DAA-919E-1DD1A30E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20D9F-9ABC-41ED-A34D-9A42732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F6FBF-ADE5-4C38-872A-93985022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A0ACE-F34B-445A-B4ED-38483775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73A3A-40C2-407A-B860-BD23E9AF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EC540-B4FA-465D-9317-639EDB57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A93AF-75C5-4F5A-87D6-EF1D865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F14A3-E390-4C84-B435-886CF625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A392A-87C5-4CFC-9DAD-112C78D9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157E3-E459-4B71-84A0-43CF497F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9BD-0941-4348-BD56-F2589C76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86E2E-DA23-4A9E-B511-04634ED3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E982B-499C-4BE0-AF3D-D50054F7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1E9EA-1F1E-492E-9930-DB02E10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CCDFF-73BF-42F5-BCA4-D924920B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61A95-CBE1-49F2-87FF-39786616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C712B-C76B-4D2D-8009-28366763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46371-7467-48C5-80C1-8234EA44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B8830-1137-4121-A643-38684224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7E50F-8CF4-4E27-AE8A-5875B5C4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54665-81A4-4BC3-A477-A1F7CB44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75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117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BA36-93E7-4797-B91E-FD52A2F0730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A8F6-33CA-41C4-8AE9-CE5A2C2C796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E135-4419-42E7-A56A-D45D4DA1FC9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506D-DBD1-4989-8F16-FB08B2EC562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-4874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0" y="6143760"/>
            <a:ext cx="9144000" cy="214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12EA-F221-476A-ADF4-12C05367533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113600" y="6356520"/>
            <a:ext cx="15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F61B-624F-45DF-A5ED-FA6A0B012AD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81D1-8C7D-445E-AE45-7498C3D18F2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0EEF-1A4A-4BD9-B636-A2724F8E8F7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5A6D-C782-44F0-9611-FF522CDC9A3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B8C1-0AF4-4B4D-8E6A-1BBF8821C68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A9F3-9B09-4553-BAB6-F8AE64BB806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C491-4191-48DF-8619-78916F2E018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Oval 3"/>
          <p:cNvSpPr/>
          <p:nvPr/>
        </p:nvSpPr>
        <p:spPr>
          <a:xfrm flipV="1">
            <a:off x="4937040" y="5554800"/>
            <a:ext cx="738360" cy="2952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Can 4"/>
          <p:cNvSpPr/>
          <p:nvPr/>
        </p:nvSpPr>
        <p:spPr>
          <a:xfrm>
            <a:off x="5254560" y="4862520"/>
            <a:ext cx="130320" cy="860400"/>
          </a:xfrm>
          <a:prstGeom prst="can">
            <a:avLst>
              <a:gd name="adj" fmla="val 37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6" descr="C:\Users\Berry\AppData\Local\Microsoft\Windows\Temporary Internet Files\Content.IE5\JBHH6L3Y\MCj00787110000[1].wmf"/>
          <p:cNvPicPr/>
          <p:nvPr/>
        </p:nvPicPr>
        <p:blipFill>
          <a:blip r:embed="rId1"/>
          <a:stretch/>
        </p:blipFill>
        <p:spPr>
          <a:xfrm flipH="1">
            <a:off x="2946240" y="3724200"/>
            <a:ext cx="93528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6" descr=""/>
          <p:cNvPicPr/>
          <p:nvPr/>
        </p:nvPicPr>
        <p:blipFill>
          <a:blip r:embed="rId2"/>
          <a:stretch/>
        </p:blipFill>
        <p:spPr>
          <a:xfrm>
            <a:off x="219240" y="255600"/>
            <a:ext cx="8454960" cy="3548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http://www.psy.ritsumei.ac.jp/~akitaoka/damashiePenrose.jpg"/>
          <p:cNvPicPr/>
          <p:nvPr/>
        </p:nvPicPr>
        <p:blipFill>
          <a:blip r:embed="rId3"/>
          <a:stretch/>
        </p:blipFill>
        <p:spPr>
          <a:xfrm rot="18364800">
            <a:off x="4211280" y="3520800"/>
            <a:ext cx="1920960" cy="1793880"/>
          </a:xfrm>
          <a:prstGeom prst="rect">
            <a:avLst/>
          </a:prstGeom>
          <a:ln w="0">
            <a:noFill/>
          </a:ln>
        </p:spPr>
      </p:pic>
      <p:sp>
        <p:nvSpPr>
          <p:cNvPr id="62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37480" y="2482920"/>
            <a:ext cx="215712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4" descr="http://www.psy.ritsumei.ac.jp/~akitaoka/Bulge02cplastic.jpg"/>
          <p:cNvPicPr/>
          <p:nvPr/>
        </p:nvPicPr>
        <p:blipFill>
          <a:blip r:embed="rId1"/>
          <a:stretch/>
        </p:blipFill>
        <p:spPr>
          <a:xfrm>
            <a:off x="498600" y="133200"/>
            <a:ext cx="6099120" cy="6078600"/>
          </a:xfrm>
          <a:prstGeom prst="rect">
            <a:avLst/>
          </a:prstGeom>
          <a:ln w="0">
            <a:noFill/>
          </a:ln>
        </p:spPr>
      </p:pic>
      <p:sp>
        <p:nvSpPr>
          <p:cNvPr id="6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http://www.psy.ritsumei.ac.jp/~akitaoka/impossiblePerth.jpg"/>
          <p:cNvPicPr/>
          <p:nvPr/>
        </p:nvPicPr>
        <p:blipFill>
          <a:blip r:embed="rId1"/>
          <a:srcRect l="15922" t="11172" r="20810" b="0"/>
          <a:stretch/>
        </p:blipFill>
        <p:spPr>
          <a:xfrm>
            <a:off x="374760" y="415800"/>
            <a:ext cx="5160960" cy="5434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www.psy.ritsumei.ac.jp/~akitaoka/fukano01.gif"/>
          <p:cNvPicPr/>
          <p:nvPr/>
        </p:nvPicPr>
        <p:blipFill>
          <a:blip r:embed="rId2"/>
          <a:srcRect l="17666" t="0" r="23551" b="0"/>
          <a:stretch/>
        </p:blipFill>
        <p:spPr>
          <a:xfrm>
            <a:off x="7381800" y="644400"/>
            <a:ext cx="1762200" cy="3268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http://www.psy.ritsumei.ac.jp/~akitaoka/damashiePenrose.jpg"/>
          <p:cNvPicPr/>
          <p:nvPr/>
        </p:nvPicPr>
        <p:blipFill>
          <a:blip r:embed="rId3"/>
          <a:stretch/>
        </p:blipFill>
        <p:spPr>
          <a:xfrm>
            <a:off x="4800600" y="2882880"/>
            <a:ext cx="3666960" cy="34210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57840" y="1218960"/>
            <a:ext cx="182088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1198440" y="5850000"/>
            <a:ext cx="3313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http://upload.wikimedia.org/wikipedia/commons/3/38/Perth_Impossible_Triangle.jpg"/>
          <p:cNvPicPr/>
          <p:nvPr/>
        </p:nvPicPr>
        <p:blipFill>
          <a:blip r:embed="rId1"/>
          <a:srcRect l="6159" t="0" r="70078" b="16673"/>
          <a:stretch/>
        </p:blipFill>
        <p:spPr>
          <a:xfrm>
            <a:off x="426960" y="279360"/>
            <a:ext cx="6326280" cy="56023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1560" y="1366560"/>
            <a:ext cx="17492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4" descr="http://www.psy.ritsumei.ac.jp/~akitaoka/impossiblePerth.jpg"/>
          <p:cNvPicPr/>
          <p:nvPr/>
        </p:nvPicPr>
        <p:blipFill>
          <a:blip r:embed="rId2"/>
          <a:srcRect l="15930" t="11167" r="20812" b="0"/>
          <a:stretch/>
        </p:blipFill>
        <p:spPr>
          <a:xfrm>
            <a:off x="6950160" y="3902040"/>
            <a:ext cx="1881000" cy="1979640"/>
          </a:xfrm>
          <a:prstGeom prst="rect">
            <a:avLst/>
          </a:prstGeom>
          <a:ln w="0">
            <a:noFill/>
          </a:ln>
        </p:spPr>
      </p:pic>
      <p:sp>
        <p:nvSpPr>
          <p:cNvPr id="6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http://www.ritsumei.ac.jp/~akitaoka/rotsnake.gif"/>
          <p:cNvPicPr/>
          <p:nvPr/>
        </p:nvPicPr>
        <p:blipFill>
          <a:blip r:embed="rId1"/>
          <a:stretch/>
        </p:blipFill>
        <p:spPr>
          <a:xfrm>
            <a:off x="122400" y="2142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26440" y="1423800"/>
            <a:ext cx="156816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2" descr="http://faradayschools.com/wp-content/uploads/Professor-Akiyoshi-Kitaoka.jpg"/>
          <p:cNvPicPr/>
          <p:nvPr/>
        </p:nvPicPr>
        <p:blipFill>
          <a:blip r:embed="rId2"/>
          <a:stretch/>
        </p:blipFill>
        <p:spPr>
          <a:xfrm>
            <a:off x="7426440" y="4413240"/>
            <a:ext cx="1533240" cy="1685880"/>
          </a:xfrm>
          <a:prstGeom prst="rect">
            <a:avLst/>
          </a:prstGeom>
          <a:ln w="0">
            <a:noFill/>
          </a:ln>
        </p:spPr>
      </p:pic>
      <p:sp>
        <p:nvSpPr>
          <p:cNvPr id="645" name="Title 1"/>
          <p:cNvSpPr/>
          <p:nvPr/>
        </p:nvSpPr>
        <p:spPr>
          <a:xfrm>
            <a:off x="1747800" y="5587920"/>
            <a:ext cx="456084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http://upload.wikimedia.org/wikipedia/commons/1/10/Sunrise_in_Constanta%2CRomania.JPG"/>
          <p:cNvPicPr/>
          <p:nvPr/>
        </p:nvPicPr>
        <p:blipFill>
          <a:blip r:embed="rId1"/>
          <a:srcRect l="31647" t="25491" r="17932" b="14815"/>
          <a:stretch/>
        </p:blipFill>
        <p:spPr>
          <a:xfrm>
            <a:off x="176040" y="314280"/>
            <a:ext cx="6526440" cy="57927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37480" y="2151000"/>
            <a:ext cx="210960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0" descr="firmament.gif"/>
          <p:cNvPicPr/>
          <p:nvPr/>
        </p:nvPicPr>
        <p:blipFill>
          <a:blip r:embed="rId1"/>
          <a:stretch/>
        </p:blipFill>
        <p:spPr>
          <a:xfrm>
            <a:off x="331920" y="627120"/>
            <a:ext cx="6629400" cy="51703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1"/>
          <p:cNvSpPr/>
          <p:nvPr/>
        </p:nvSpPr>
        <p:spPr>
          <a:xfrm>
            <a:off x="7112160" y="1163520"/>
            <a:ext cx="1677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0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http://upload.wikimedia.org/wikipedia/commons/1/1f/As08-16-2593.jpg"/>
          <p:cNvPicPr/>
          <p:nvPr/>
        </p:nvPicPr>
        <p:blipFill>
          <a:blip r:embed="rId1"/>
          <a:srcRect l="18081" t="30394" r="0" b="0"/>
          <a:stretch/>
        </p:blipFill>
        <p:spPr>
          <a:xfrm>
            <a:off x="588960" y="173160"/>
            <a:ext cx="5634000" cy="478620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83"/>
          <p:cNvGrpSpPr/>
          <p:nvPr/>
        </p:nvGrpSpPr>
        <p:grpSpPr>
          <a:xfrm>
            <a:off x="4352760" y="4595760"/>
            <a:ext cx="4035600" cy="1841400"/>
            <a:chOff x="4352760" y="4595760"/>
            <a:chExt cx="4035600" cy="1841400"/>
          </a:xfrm>
        </p:grpSpPr>
        <p:sp>
          <p:nvSpPr>
            <p:cNvPr id="656" name="Oval 507"/>
            <p:cNvSpPr/>
            <p:nvPr/>
          </p:nvSpPr>
          <p:spPr>
            <a:xfrm>
              <a:off x="4352760" y="4659840"/>
              <a:ext cx="4035600" cy="1305360"/>
            </a:xfrm>
            <a:prstGeom prst="ellipse">
              <a:avLst/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Group 274" descr=""/>
            <p:cNvPicPr/>
            <p:nvPr/>
          </p:nvPicPr>
          <p:blipFill>
            <a:blip r:embed="rId2"/>
            <a:stretch/>
          </p:blipFill>
          <p:spPr>
            <a:xfrm>
              <a:off x="6095880" y="4595760"/>
              <a:ext cx="68868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220"/>
            <p:cNvSpPr/>
            <p:nvPr/>
          </p:nvSpPr>
          <p:spPr>
            <a:xfrm>
              <a:off x="6033960" y="572112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222"/>
            <p:cNvSpPr/>
            <p:nvPr/>
          </p:nvSpPr>
          <p:spPr>
            <a:xfrm>
              <a:off x="6931080" y="563940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505"/>
            <p:cNvSpPr/>
            <p:nvPr/>
          </p:nvSpPr>
          <p:spPr>
            <a:xfrm>
              <a:off x="6183360" y="5673960"/>
              <a:ext cx="1838520" cy="536040"/>
            </a:xfrm>
            <a:prstGeom prst="ellipse">
              <a:avLst/>
            </a:prstGeom>
            <a:noFill/>
            <a:ln w="5724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Group 221"/>
            <p:cNvGrpSpPr/>
            <p:nvPr/>
          </p:nvGrpSpPr>
          <p:grpSpPr>
            <a:xfrm>
              <a:off x="6819120" y="5394240"/>
              <a:ext cx="680760" cy="742680"/>
              <a:chOff x="6819120" y="5394240"/>
              <a:chExt cx="680760" cy="742680"/>
            </a:xfrm>
          </p:grpSpPr>
          <p:sp>
            <p:nvSpPr>
              <p:cNvPr id="662" name="Oval 509"/>
              <p:cNvSpPr/>
              <p:nvPr/>
            </p:nvSpPr>
            <p:spPr>
              <a:xfrm>
                <a:off x="6840360" y="5394240"/>
                <a:ext cx="658800" cy="68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3" name="Picture 2" descr="C:\Users\Berry\AppData\Local\Microsoft\Windows\Temporary Internet Files\Content.IE5\1FPHSRV6\MC900438504[1].jpg"/>
              <p:cNvPicPr/>
              <p:nvPr/>
            </p:nvPicPr>
            <p:blipFill>
              <a:blip r:embed="rId3"/>
              <a:stretch/>
            </p:blipFill>
            <p:spPr>
              <a:xfrm>
                <a:off x="6819120" y="5394960"/>
                <a:ext cx="680760" cy="74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Group 156"/>
            <p:cNvGrpSpPr/>
            <p:nvPr/>
          </p:nvGrpSpPr>
          <p:grpSpPr>
            <a:xfrm>
              <a:off x="6557400" y="6006240"/>
              <a:ext cx="408240" cy="430920"/>
              <a:chOff x="6557400" y="6006240"/>
              <a:chExt cx="408240" cy="430920"/>
            </a:xfrm>
          </p:grpSpPr>
          <p:sp>
            <p:nvSpPr>
              <p:cNvPr id="665" name="Freeform 484"/>
              <p:cNvSpPr/>
              <p:nvPr/>
            </p:nvSpPr>
            <p:spPr>
              <a:xfrm>
                <a:off x="6557760" y="6006240"/>
                <a:ext cx="395280" cy="415080"/>
              </a:xfrm>
              <a:custGeom>
                <a:avLst/>
                <a:gdLst/>
                <a:ahLst/>
                <a:rect l="l" t="t" r="r" b="b"/>
                <a:pathLst>
                  <a:path w="1357" h="1430">
                    <a:moveTo>
                      <a:pt x="1181" y="183"/>
                    </a:moveTo>
                    <a:lnTo>
                      <a:pt x="1177" y="181"/>
                    </a:lnTo>
                    <a:lnTo>
                      <a:pt x="1171" y="175"/>
                    </a:lnTo>
                    <a:lnTo>
                      <a:pt x="1165" y="170"/>
                    </a:lnTo>
                    <a:lnTo>
                      <a:pt x="1159" y="165"/>
                    </a:lnTo>
                    <a:lnTo>
                      <a:pt x="1152" y="159"/>
                    </a:lnTo>
                    <a:lnTo>
                      <a:pt x="1145" y="154"/>
                    </a:lnTo>
                    <a:lnTo>
                      <a:pt x="1134" y="147"/>
                    </a:lnTo>
                    <a:lnTo>
                      <a:pt x="1124" y="140"/>
                    </a:lnTo>
                    <a:lnTo>
                      <a:pt x="1113" y="132"/>
                    </a:lnTo>
                    <a:lnTo>
                      <a:pt x="1103" y="124"/>
                    </a:lnTo>
                    <a:lnTo>
                      <a:pt x="1095" y="119"/>
                    </a:lnTo>
                    <a:lnTo>
                      <a:pt x="1088" y="116"/>
                    </a:lnTo>
                    <a:lnTo>
                      <a:pt x="1081" y="111"/>
                    </a:lnTo>
                    <a:lnTo>
                      <a:pt x="1075" y="107"/>
                    </a:lnTo>
                    <a:lnTo>
                      <a:pt x="1068" y="103"/>
                    </a:lnTo>
                    <a:lnTo>
                      <a:pt x="1060" y="99"/>
                    </a:lnTo>
                    <a:lnTo>
                      <a:pt x="1053" y="95"/>
                    </a:lnTo>
                    <a:lnTo>
                      <a:pt x="1046" y="92"/>
                    </a:lnTo>
                    <a:lnTo>
                      <a:pt x="1036" y="87"/>
                    </a:lnTo>
                    <a:lnTo>
                      <a:pt x="1029" y="82"/>
                    </a:lnTo>
                    <a:lnTo>
                      <a:pt x="1019" y="77"/>
                    </a:lnTo>
                    <a:lnTo>
                      <a:pt x="1012" y="74"/>
                    </a:lnTo>
                    <a:lnTo>
                      <a:pt x="1003" y="69"/>
                    </a:lnTo>
                    <a:lnTo>
                      <a:pt x="994" y="65"/>
                    </a:lnTo>
                    <a:lnTo>
                      <a:pt x="984" y="62"/>
                    </a:lnTo>
                    <a:lnTo>
                      <a:pt x="976" y="58"/>
                    </a:lnTo>
                    <a:lnTo>
                      <a:pt x="965" y="53"/>
                    </a:lnTo>
                    <a:lnTo>
                      <a:pt x="955" y="50"/>
                    </a:lnTo>
                    <a:lnTo>
                      <a:pt x="946" y="45"/>
                    </a:lnTo>
                    <a:lnTo>
                      <a:pt x="936" y="41"/>
                    </a:lnTo>
                    <a:lnTo>
                      <a:pt x="925" y="37"/>
                    </a:lnTo>
                    <a:lnTo>
                      <a:pt x="916" y="34"/>
                    </a:lnTo>
                    <a:lnTo>
                      <a:pt x="905" y="30"/>
                    </a:lnTo>
                    <a:lnTo>
                      <a:pt x="895" y="28"/>
                    </a:lnTo>
                    <a:lnTo>
                      <a:pt x="883" y="24"/>
                    </a:lnTo>
                    <a:lnTo>
                      <a:pt x="872" y="21"/>
                    </a:lnTo>
                    <a:lnTo>
                      <a:pt x="861" y="18"/>
                    </a:lnTo>
                    <a:lnTo>
                      <a:pt x="851" y="16"/>
                    </a:lnTo>
                    <a:lnTo>
                      <a:pt x="839" y="12"/>
                    </a:lnTo>
                    <a:lnTo>
                      <a:pt x="828" y="11"/>
                    </a:lnTo>
                    <a:lnTo>
                      <a:pt x="817" y="9"/>
                    </a:lnTo>
                    <a:lnTo>
                      <a:pt x="806" y="7"/>
                    </a:lnTo>
                    <a:lnTo>
                      <a:pt x="793" y="5"/>
                    </a:lnTo>
                    <a:lnTo>
                      <a:pt x="782" y="4"/>
                    </a:lnTo>
                    <a:lnTo>
                      <a:pt x="769" y="1"/>
                    </a:lnTo>
                    <a:lnTo>
                      <a:pt x="758" y="1"/>
                    </a:lnTo>
                    <a:lnTo>
                      <a:pt x="744" y="0"/>
                    </a:lnTo>
                    <a:lnTo>
                      <a:pt x="734" y="0"/>
                    </a:lnTo>
                    <a:lnTo>
                      <a:pt x="720" y="0"/>
                    </a:lnTo>
                    <a:lnTo>
                      <a:pt x="709" y="1"/>
                    </a:lnTo>
                    <a:lnTo>
                      <a:pt x="696" y="1"/>
                    </a:lnTo>
                    <a:lnTo>
                      <a:pt x="684" y="1"/>
                    </a:lnTo>
                    <a:lnTo>
                      <a:pt x="672" y="1"/>
                    </a:lnTo>
                    <a:lnTo>
                      <a:pt x="660" y="3"/>
                    </a:lnTo>
                    <a:lnTo>
                      <a:pt x="647" y="3"/>
                    </a:lnTo>
                    <a:lnTo>
                      <a:pt x="635" y="5"/>
                    </a:lnTo>
                    <a:lnTo>
                      <a:pt x="621" y="6"/>
                    </a:lnTo>
                    <a:lnTo>
                      <a:pt x="609" y="10"/>
                    </a:lnTo>
                    <a:lnTo>
                      <a:pt x="602" y="10"/>
                    </a:lnTo>
                    <a:lnTo>
                      <a:pt x="596" y="11"/>
                    </a:lnTo>
                    <a:lnTo>
                      <a:pt x="589" y="12"/>
                    </a:lnTo>
                    <a:lnTo>
                      <a:pt x="583" y="13"/>
                    </a:lnTo>
                    <a:lnTo>
                      <a:pt x="570" y="17"/>
                    </a:lnTo>
                    <a:lnTo>
                      <a:pt x="558" y="21"/>
                    </a:lnTo>
                    <a:lnTo>
                      <a:pt x="544" y="24"/>
                    </a:lnTo>
                    <a:lnTo>
                      <a:pt x="532" y="28"/>
                    </a:lnTo>
                    <a:lnTo>
                      <a:pt x="519" y="33"/>
                    </a:lnTo>
                    <a:lnTo>
                      <a:pt x="507" y="39"/>
                    </a:lnTo>
                    <a:lnTo>
                      <a:pt x="489" y="45"/>
                    </a:lnTo>
                    <a:lnTo>
                      <a:pt x="472" y="51"/>
                    </a:lnTo>
                    <a:lnTo>
                      <a:pt x="455" y="58"/>
                    </a:lnTo>
                    <a:lnTo>
                      <a:pt x="441" y="65"/>
                    </a:lnTo>
                    <a:lnTo>
                      <a:pt x="424" y="72"/>
                    </a:lnTo>
                    <a:lnTo>
                      <a:pt x="408" y="80"/>
                    </a:lnTo>
                    <a:lnTo>
                      <a:pt x="394" y="88"/>
                    </a:lnTo>
                    <a:lnTo>
                      <a:pt x="379" y="98"/>
                    </a:lnTo>
                    <a:lnTo>
                      <a:pt x="363" y="105"/>
                    </a:lnTo>
                    <a:lnTo>
                      <a:pt x="349" y="113"/>
                    </a:lnTo>
                    <a:lnTo>
                      <a:pt x="336" y="122"/>
                    </a:lnTo>
                    <a:lnTo>
                      <a:pt x="321" y="133"/>
                    </a:lnTo>
                    <a:lnTo>
                      <a:pt x="308" y="141"/>
                    </a:lnTo>
                    <a:lnTo>
                      <a:pt x="296" y="151"/>
                    </a:lnTo>
                    <a:lnTo>
                      <a:pt x="283" y="160"/>
                    </a:lnTo>
                    <a:lnTo>
                      <a:pt x="271" y="171"/>
                    </a:lnTo>
                    <a:lnTo>
                      <a:pt x="257" y="181"/>
                    </a:lnTo>
                    <a:lnTo>
                      <a:pt x="245" y="191"/>
                    </a:lnTo>
                    <a:lnTo>
                      <a:pt x="232" y="201"/>
                    </a:lnTo>
                    <a:lnTo>
                      <a:pt x="221" y="212"/>
                    </a:lnTo>
                    <a:lnTo>
                      <a:pt x="210" y="223"/>
                    </a:lnTo>
                    <a:lnTo>
                      <a:pt x="199" y="234"/>
                    </a:lnTo>
                    <a:lnTo>
                      <a:pt x="189" y="245"/>
                    </a:lnTo>
                    <a:lnTo>
                      <a:pt x="179" y="257"/>
                    </a:lnTo>
                    <a:lnTo>
                      <a:pt x="168" y="268"/>
                    </a:lnTo>
                    <a:lnTo>
                      <a:pt x="157" y="280"/>
                    </a:lnTo>
                    <a:lnTo>
                      <a:pt x="148" y="292"/>
                    </a:lnTo>
                    <a:lnTo>
                      <a:pt x="139" y="304"/>
                    </a:lnTo>
                    <a:lnTo>
                      <a:pt x="129" y="315"/>
                    </a:lnTo>
                    <a:lnTo>
                      <a:pt x="121" y="328"/>
                    </a:lnTo>
                    <a:lnTo>
                      <a:pt x="114" y="340"/>
                    </a:lnTo>
                    <a:lnTo>
                      <a:pt x="107" y="353"/>
                    </a:lnTo>
                    <a:lnTo>
                      <a:pt x="98" y="364"/>
                    </a:lnTo>
                    <a:lnTo>
                      <a:pt x="90" y="378"/>
                    </a:lnTo>
                    <a:lnTo>
                      <a:pt x="82" y="390"/>
                    </a:lnTo>
                    <a:lnTo>
                      <a:pt x="75" y="403"/>
                    </a:lnTo>
                    <a:lnTo>
                      <a:pt x="68" y="415"/>
                    </a:lnTo>
                    <a:lnTo>
                      <a:pt x="62" y="428"/>
                    </a:lnTo>
                    <a:lnTo>
                      <a:pt x="56" y="440"/>
                    </a:lnTo>
                    <a:lnTo>
                      <a:pt x="51" y="455"/>
                    </a:lnTo>
                    <a:lnTo>
                      <a:pt x="45" y="467"/>
                    </a:lnTo>
                    <a:lnTo>
                      <a:pt x="40" y="480"/>
                    </a:lnTo>
                    <a:lnTo>
                      <a:pt x="34" y="493"/>
                    </a:lnTo>
                    <a:lnTo>
                      <a:pt x="31" y="507"/>
                    </a:lnTo>
                    <a:lnTo>
                      <a:pt x="27" y="520"/>
                    </a:lnTo>
                    <a:lnTo>
                      <a:pt x="23" y="533"/>
                    </a:lnTo>
                    <a:lnTo>
                      <a:pt x="20" y="546"/>
                    </a:lnTo>
                    <a:lnTo>
                      <a:pt x="17" y="561"/>
                    </a:lnTo>
                    <a:lnTo>
                      <a:pt x="14" y="574"/>
                    </a:lnTo>
                    <a:lnTo>
                      <a:pt x="10" y="589"/>
                    </a:lnTo>
                    <a:lnTo>
                      <a:pt x="8" y="601"/>
                    </a:lnTo>
                    <a:lnTo>
                      <a:pt x="6" y="614"/>
                    </a:lnTo>
                    <a:lnTo>
                      <a:pt x="4" y="628"/>
                    </a:lnTo>
                    <a:lnTo>
                      <a:pt x="3" y="640"/>
                    </a:lnTo>
                    <a:lnTo>
                      <a:pt x="2" y="655"/>
                    </a:lnTo>
                    <a:lnTo>
                      <a:pt x="2" y="668"/>
                    </a:lnTo>
                    <a:lnTo>
                      <a:pt x="0" y="681"/>
                    </a:lnTo>
                    <a:lnTo>
                      <a:pt x="0" y="696"/>
                    </a:lnTo>
                    <a:lnTo>
                      <a:pt x="0" y="708"/>
                    </a:lnTo>
                    <a:lnTo>
                      <a:pt x="2" y="724"/>
                    </a:lnTo>
                    <a:lnTo>
                      <a:pt x="2" y="736"/>
                    </a:lnTo>
                    <a:lnTo>
                      <a:pt x="4" y="750"/>
                    </a:lnTo>
                    <a:lnTo>
                      <a:pt x="5" y="763"/>
                    </a:lnTo>
                    <a:lnTo>
                      <a:pt x="9" y="778"/>
                    </a:lnTo>
                    <a:lnTo>
                      <a:pt x="10" y="790"/>
                    </a:lnTo>
                    <a:lnTo>
                      <a:pt x="12" y="802"/>
                    </a:lnTo>
                    <a:lnTo>
                      <a:pt x="14" y="814"/>
                    </a:lnTo>
                    <a:lnTo>
                      <a:pt x="16" y="825"/>
                    </a:lnTo>
                    <a:lnTo>
                      <a:pt x="17" y="836"/>
                    </a:lnTo>
                    <a:lnTo>
                      <a:pt x="20" y="848"/>
                    </a:lnTo>
                    <a:lnTo>
                      <a:pt x="22" y="859"/>
                    </a:lnTo>
                    <a:lnTo>
                      <a:pt x="25" y="870"/>
                    </a:lnTo>
                    <a:lnTo>
                      <a:pt x="26" y="880"/>
                    </a:lnTo>
                    <a:lnTo>
                      <a:pt x="28" y="890"/>
                    </a:lnTo>
                    <a:lnTo>
                      <a:pt x="31" y="900"/>
                    </a:lnTo>
                    <a:lnTo>
                      <a:pt x="33" y="909"/>
                    </a:lnTo>
                    <a:lnTo>
                      <a:pt x="34" y="918"/>
                    </a:lnTo>
                    <a:lnTo>
                      <a:pt x="38" y="926"/>
                    </a:lnTo>
                    <a:lnTo>
                      <a:pt x="39" y="936"/>
                    </a:lnTo>
                    <a:lnTo>
                      <a:pt x="43" y="945"/>
                    </a:lnTo>
                    <a:lnTo>
                      <a:pt x="44" y="953"/>
                    </a:lnTo>
                    <a:lnTo>
                      <a:pt x="46" y="960"/>
                    </a:lnTo>
                    <a:lnTo>
                      <a:pt x="49" y="967"/>
                    </a:lnTo>
                    <a:lnTo>
                      <a:pt x="51" y="976"/>
                    </a:lnTo>
                    <a:lnTo>
                      <a:pt x="53" y="982"/>
                    </a:lnTo>
                    <a:lnTo>
                      <a:pt x="56" y="990"/>
                    </a:lnTo>
                    <a:lnTo>
                      <a:pt x="58" y="997"/>
                    </a:lnTo>
                    <a:lnTo>
                      <a:pt x="62" y="1005"/>
                    </a:lnTo>
                    <a:lnTo>
                      <a:pt x="67" y="1017"/>
                    </a:lnTo>
                    <a:lnTo>
                      <a:pt x="73" y="1030"/>
                    </a:lnTo>
                    <a:lnTo>
                      <a:pt x="78" y="1041"/>
                    </a:lnTo>
                    <a:lnTo>
                      <a:pt x="85" y="1053"/>
                    </a:lnTo>
                    <a:lnTo>
                      <a:pt x="90" y="1062"/>
                    </a:lnTo>
                    <a:lnTo>
                      <a:pt x="96" y="1073"/>
                    </a:lnTo>
                    <a:lnTo>
                      <a:pt x="103" y="1083"/>
                    </a:lnTo>
                    <a:lnTo>
                      <a:pt x="110" y="1094"/>
                    </a:lnTo>
                    <a:lnTo>
                      <a:pt x="116" y="1102"/>
                    </a:lnTo>
                    <a:lnTo>
                      <a:pt x="123" y="1113"/>
                    </a:lnTo>
                    <a:lnTo>
                      <a:pt x="131" y="1122"/>
                    </a:lnTo>
                    <a:lnTo>
                      <a:pt x="139" y="1132"/>
                    </a:lnTo>
                    <a:lnTo>
                      <a:pt x="146" y="1142"/>
                    </a:lnTo>
                    <a:lnTo>
                      <a:pt x="155" y="1152"/>
                    </a:lnTo>
                    <a:lnTo>
                      <a:pt x="163" y="1161"/>
                    </a:lnTo>
                    <a:lnTo>
                      <a:pt x="173" y="1172"/>
                    </a:lnTo>
                    <a:lnTo>
                      <a:pt x="181" y="1183"/>
                    </a:lnTo>
                    <a:lnTo>
                      <a:pt x="191" y="1194"/>
                    </a:lnTo>
                    <a:lnTo>
                      <a:pt x="195" y="1200"/>
                    </a:lnTo>
                    <a:lnTo>
                      <a:pt x="201" y="1206"/>
                    </a:lnTo>
                    <a:lnTo>
                      <a:pt x="205" y="1213"/>
                    </a:lnTo>
                    <a:lnTo>
                      <a:pt x="211" y="1220"/>
                    </a:lnTo>
                    <a:lnTo>
                      <a:pt x="215" y="1225"/>
                    </a:lnTo>
                    <a:lnTo>
                      <a:pt x="221" y="1232"/>
                    </a:lnTo>
                    <a:lnTo>
                      <a:pt x="227" y="1237"/>
                    </a:lnTo>
                    <a:lnTo>
                      <a:pt x="234" y="1245"/>
                    </a:lnTo>
                    <a:lnTo>
                      <a:pt x="240" y="1249"/>
                    </a:lnTo>
                    <a:lnTo>
                      <a:pt x="248" y="1255"/>
                    </a:lnTo>
                    <a:lnTo>
                      <a:pt x="256" y="1261"/>
                    </a:lnTo>
                    <a:lnTo>
                      <a:pt x="265" y="1267"/>
                    </a:lnTo>
                    <a:lnTo>
                      <a:pt x="272" y="1272"/>
                    </a:lnTo>
                    <a:lnTo>
                      <a:pt x="281" y="1278"/>
                    </a:lnTo>
                    <a:lnTo>
                      <a:pt x="290" y="1283"/>
                    </a:lnTo>
                    <a:lnTo>
                      <a:pt x="301" y="1289"/>
                    </a:lnTo>
                    <a:lnTo>
                      <a:pt x="309" y="1294"/>
                    </a:lnTo>
                    <a:lnTo>
                      <a:pt x="320" y="1300"/>
                    </a:lnTo>
                    <a:lnTo>
                      <a:pt x="331" y="1305"/>
                    </a:lnTo>
                    <a:lnTo>
                      <a:pt x="342" y="1311"/>
                    </a:lnTo>
                    <a:lnTo>
                      <a:pt x="350" y="1314"/>
                    </a:lnTo>
                    <a:lnTo>
                      <a:pt x="361" y="1319"/>
                    </a:lnTo>
                    <a:lnTo>
                      <a:pt x="372" y="1323"/>
                    </a:lnTo>
                    <a:lnTo>
                      <a:pt x="384" y="1328"/>
                    </a:lnTo>
                    <a:lnTo>
                      <a:pt x="395" y="1331"/>
                    </a:lnTo>
                    <a:lnTo>
                      <a:pt x="407" y="1336"/>
                    </a:lnTo>
                    <a:lnTo>
                      <a:pt x="419" y="1341"/>
                    </a:lnTo>
                    <a:lnTo>
                      <a:pt x="431" y="1346"/>
                    </a:lnTo>
                    <a:lnTo>
                      <a:pt x="442" y="1349"/>
                    </a:lnTo>
                    <a:lnTo>
                      <a:pt x="454" y="1353"/>
                    </a:lnTo>
                    <a:lnTo>
                      <a:pt x="466" y="1357"/>
                    </a:lnTo>
                    <a:lnTo>
                      <a:pt x="478" y="1360"/>
                    </a:lnTo>
                    <a:lnTo>
                      <a:pt x="490" y="1364"/>
                    </a:lnTo>
                    <a:lnTo>
                      <a:pt x="502" y="1368"/>
                    </a:lnTo>
                    <a:lnTo>
                      <a:pt x="514" y="1371"/>
                    </a:lnTo>
                    <a:lnTo>
                      <a:pt x="527" y="1376"/>
                    </a:lnTo>
                    <a:lnTo>
                      <a:pt x="538" y="1378"/>
                    </a:lnTo>
                    <a:lnTo>
                      <a:pt x="550" y="1382"/>
                    </a:lnTo>
                    <a:lnTo>
                      <a:pt x="561" y="1384"/>
                    </a:lnTo>
                    <a:lnTo>
                      <a:pt x="573" y="1388"/>
                    </a:lnTo>
                    <a:lnTo>
                      <a:pt x="584" y="1390"/>
                    </a:lnTo>
                    <a:lnTo>
                      <a:pt x="595" y="1393"/>
                    </a:lnTo>
                    <a:lnTo>
                      <a:pt x="606" y="1395"/>
                    </a:lnTo>
                    <a:lnTo>
                      <a:pt x="618" y="1399"/>
                    </a:lnTo>
                    <a:lnTo>
                      <a:pt x="627" y="1400"/>
                    </a:lnTo>
                    <a:lnTo>
                      <a:pt x="638" y="1403"/>
                    </a:lnTo>
                    <a:lnTo>
                      <a:pt x="649" y="1405"/>
                    </a:lnTo>
                    <a:lnTo>
                      <a:pt x="660" y="1407"/>
                    </a:lnTo>
                    <a:lnTo>
                      <a:pt x="670" y="1409"/>
                    </a:lnTo>
                    <a:lnTo>
                      <a:pt x="679" y="1411"/>
                    </a:lnTo>
                    <a:lnTo>
                      <a:pt x="689" y="1413"/>
                    </a:lnTo>
                    <a:lnTo>
                      <a:pt x="699" y="1416"/>
                    </a:lnTo>
                    <a:lnTo>
                      <a:pt x="707" y="1417"/>
                    </a:lnTo>
                    <a:lnTo>
                      <a:pt x="716" y="1418"/>
                    </a:lnTo>
                    <a:lnTo>
                      <a:pt x="723" y="1419"/>
                    </a:lnTo>
                    <a:lnTo>
                      <a:pt x="731" y="1422"/>
                    </a:lnTo>
                    <a:lnTo>
                      <a:pt x="738" y="1422"/>
                    </a:lnTo>
                    <a:lnTo>
                      <a:pt x="746" y="1424"/>
                    </a:lnTo>
                    <a:lnTo>
                      <a:pt x="752" y="1424"/>
                    </a:lnTo>
                    <a:lnTo>
                      <a:pt x="759" y="1427"/>
                    </a:lnTo>
                    <a:lnTo>
                      <a:pt x="769" y="1428"/>
                    </a:lnTo>
                    <a:lnTo>
                      <a:pt x="778" y="1429"/>
                    </a:lnTo>
                    <a:lnTo>
                      <a:pt x="784" y="1429"/>
                    </a:lnTo>
                    <a:lnTo>
                      <a:pt x="790" y="1430"/>
                    </a:lnTo>
                    <a:lnTo>
                      <a:pt x="794" y="1428"/>
                    </a:lnTo>
                    <a:lnTo>
                      <a:pt x="796" y="1425"/>
                    </a:lnTo>
                    <a:lnTo>
                      <a:pt x="796" y="1419"/>
                    </a:lnTo>
                    <a:lnTo>
                      <a:pt x="794" y="1413"/>
                    </a:lnTo>
                    <a:lnTo>
                      <a:pt x="789" y="1405"/>
                    </a:lnTo>
                    <a:lnTo>
                      <a:pt x="783" y="1395"/>
                    </a:lnTo>
                    <a:lnTo>
                      <a:pt x="777" y="1384"/>
                    </a:lnTo>
                    <a:lnTo>
                      <a:pt x="771" y="1374"/>
                    </a:lnTo>
                    <a:lnTo>
                      <a:pt x="767" y="1366"/>
                    </a:lnTo>
                    <a:lnTo>
                      <a:pt x="764" y="1360"/>
                    </a:lnTo>
                    <a:lnTo>
                      <a:pt x="760" y="1353"/>
                    </a:lnTo>
                    <a:lnTo>
                      <a:pt x="758" y="1347"/>
                    </a:lnTo>
                    <a:lnTo>
                      <a:pt x="754" y="1340"/>
                    </a:lnTo>
                    <a:lnTo>
                      <a:pt x="752" y="1333"/>
                    </a:lnTo>
                    <a:lnTo>
                      <a:pt x="749" y="1325"/>
                    </a:lnTo>
                    <a:lnTo>
                      <a:pt x="748" y="1319"/>
                    </a:lnTo>
                    <a:lnTo>
                      <a:pt x="746" y="1312"/>
                    </a:lnTo>
                    <a:lnTo>
                      <a:pt x="744" y="1305"/>
                    </a:lnTo>
                    <a:lnTo>
                      <a:pt x="744" y="1298"/>
                    </a:lnTo>
                    <a:lnTo>
                      <a:pt x="746" y="1292"/>
                    </a:lnTo>
                    <a:lnTo>
                      <a:pt x="746" y="1284"/>
                    </a:lnTo>
                    <a:lnTo>
                      <a:pt x="748" y="1277"/>
                    </a:lnTo>
                    <a:lnTo>
                      <a:pt x="750" y="1270"/>
                    </a:lnTo>
                    <a:lnTo>
                      <a:pt x="754" y="1264"/>
                    </a:lnTo>
                    <a:lnTo>
                      <a:pt x="757" y="1257"/>
                    </a:lnTo>
                    <a:lnTo>
                      <a:pt x="760" y="1251"/>
                    </a:lnTo>
                    <a:lnTo>
                      <a:pt x="765" y="1245"/>
                    </a:lnTo>
                    <a:lnTo>
                      <a:pt x="771" y="1240"/>
                    </a:lnTo>
                    <a:lnTo>
                      <a:pt x="775" y="1234"/>
                    </a:lnTo>
                    <a:lnTo>
                      <a:pt x="781" y="1230"/>
                    </a:lnTo>
                    <a:lnTo>
                      <a:pt x="788" y="1226"/>
                    </a:lnTo>
                    <a:lnTo>
                      <a:pt x="795" y="1223"/>
                    </a:lnTo>
                    <a:lnTo>
                      <a:pt x="801" y="1219"/>
                    </a:lnTo>
                    <a:lnTo>
                      <a:pt x="807" y="1216"/>
                    </a:lnTo>
                    <a:lnTo>
                      <a:pt x="814" y="1212"/>
                    </a:lnTo>
                    <a:lnTo>
                      <a:pt x="822" y="1211"/>
                    </a:lnTo>
                    <a:lnTo>
                      <a:pt x="829" y="1207"/>
                    </a:lnTo>
                    <a:lnTo>
                      <a:pt x="836" y="1206"/>
                    </a:lnTo>
                    <a:lnTo>
                      <a:pt x="843" y="1204"/>
                    </a:lnTo>
                    <a:lnTo>
                      <a:pt x="851" y="1204"/>
                    </a:lnTo>
                    <a:lnTo>
                      <a:pt x="857" y="1201"/>
                    </a:lnTo>
                    <a:lnTo>
                      <a:pt x="863" y="1200"/>
                    </a:lnTo>
                    <a:lnTo>
                      <a:pt x="869" y="1199"/>
                    </a:lnTo>
                    <a:lnTo>
                      <a:pt x="876" y="1199"/>
                    </a:lnTo>
                    <a:lnTo>
                      <a:pt x="888" y="1198"/>
                    </a:lnTo>
                    <a:lnTo>
                      <a:pt x="899" y="1198"/>
                    </a:lnTo>
                    <a:lnTo>
                      <a:pt x="907" y="1198"/>
                    </a:lnTo>
                    <a:lnTo>
                      <a:pt x="914" y="1198"/>
                    </a:lnTo>
                    <a:lnTo>
                      <a:pt x="918" y="1198"/>
                    </a:lnTo>
                    <a:lnTo>
                      <a:pt x="921" y="1199"/>
                    </a:lnTo>
                    <a:lnTo>
                      <a:pt x="1029" y="1300"/>
                    </a:lnTo>
                    <a:lnTo>
                      <a:pt x="1029" y="1298"/>
                    </a:lnTo>
                    <a:lnTo>
                      <a:pt x="1034" y="1295"/>
                    </a:lnTo>
                    <a:lnTo>
                      <a:pt x="1040" y="1290"/>
                    </a:lnTo>
                    <a:lnTo>
                      <a:pt x="1050" y="1284"/>
                    </a:lnTo>
                    <a:lnTo>
                      <a:pt x="1053" y="1280"/>
                    </a:lnTo>
                    <a:lnTo>
                      <a:pt x="1059" y="1276"/>
                    </a:lnTo>
                    <a:lnTo>
                      <a:pt x="1064" y="1271"/>
                    </a:lnTo>
                    <a:lnTo>
                      <a:pt x="1071" y="1267"/>
                    </a:lnTo>
                    <a:lnTo>
                      <a:pt x="1077" y="1261"/>
                    </a:lnTo>
                    <a:lnTo>
                      <a:pt x="1083" y="1258"/>
                    </a:lnTo>
                    <a:lnTo>
                      <a:pt x="1091" y="1252"/>
                    </a:lnTo>
                    <a:lnTo>
                      <a:pt x="1098" y="1248"/>
                    </a:lnTo>
                    <a:lnTo>
                      <a:pt x="1104" y="1242"/>
                    </a:lnTo>
                    <a:lnTo>
                      <a:pt x="1111" y="1237"/>
                    </a:lnTo>
                    <a:lnTo>
                      <a:pt x="1118" y="1231"/>
                    </a:lnTo>
                    <a:lnTo>
                      <a:pt x="1126" y="1228"/>
                    </a:lnTo>
                    <a:lnTo>
                      <a:pt x="1132" y="1222"/>
                    </a:lnTo>
                    <a:lnTo>
                      <a:pt x="1139" y="1217"/>
                    </a:lnTo>
                    <a:lnTo>
                      <a:pt x="1146" y="1211"/>
                    </a:lnTo>
                    <a:lnTo>
                      <a:pt x="1153" y="1207"/>
                    </a:lnTo>
                    <a:lnTo>
                      <a:pt x="1159" y="1201"/>
                    </a:lnTo>
                    <a:lnTo>
                      <a:pt x="1165" y="1196"/>
                    </a:lnTo>
                    <a:lnTo>
                      <a:pt x="1171" y="1193"/>
                    </a:lnTo>
                    <a:lnTo>
                      <a:pt x="1177" y="1189"/>
                    </a:lnTo>
                    <a:lnTo>
                      <a:pt x="1187" y="1182"/>
                    </a:lnTo>
                    <a:lnTo>
                      <a:pt x="1195" y="1177"/>
                    </a:lnTo>
                    <a:lnTo>
                      <a:pt x="1195" y="1172"/>
                    </a:lnTo>
                    <a:lnTo>
                      <a:pt x="1200" y="1165"/>
                    </a:lnTo>
                    <a:lnTo>
                      <a:pt x="1201" y="1158"/>
                    </a:lnTo>
                    <a:lnTo>
                      <a:pt x="1205" y="1152"/>
                    </a:lnTo>
                    <a:lnTo>
                      <a:pt x="1209" y="1144"/>
                    </a:lnTo>
                    <a:lnTo>
                      <a:pt x="1214" y="1137"/>
                    </a:lnTo>
                    <a:lnTo>
                      <a:pt x="1217" y="1128"/>
                    </a:lnTo>
                    <a:lnTo>
                      <a:pt x="1222" y="1119"/>
                    </a:lnTo>
                    <a:lnTo>
                      <a:pt x="1227" y="1108"/>
                    </a:lnTo>
                    <a:lnTo>
                      <a:pt x="1233" y="1099"/>
                    </a:lnTo>
                    <a:lnTo>
                      <a:pt x="1238" y="1088"/>
                    </a:lnTo>
                    <a:lnTo>
                      <a:pt x="1245" y="1077"/>
                    </a:lnTo>
                    <a:lnTo>
                      <a:pt x="1250" y="1066"/>
                    </a:lnTo>
                    <a:lnTo>
                      <a:pt x="1257" y="1055"/>
                    </a:lnTo>
                    <a:lnTo>
                      <a:pt x="1262" y="1043"/>
                    </a:lnTo>
                    <a:lnTo>
                      <a:pt x="1268" y="1032"/>
                    </a:lnTo>
                    <a:lnTo>
                      <a:pt x="1273" y="1021"/>
                    </a:lnTo>
                    <a:lnTo>
                      <a:pt x="1279" y="1011"/>
                    </a:lnTo>
                    <a:lnTo>
                      <a:pt x="1283" y="1000"/>
                    </a:lnTo>
                    <a:lnTo>
                      <a:pt x="1288" y="990"/>
                    </a:lnTo>
                    <a:lnTo>
                      <a:pt x="1293" y="980"/>
                    </a:lnTo>
                    <a:lnTo>
                      <a:pt x="1298" y="973"/>
                    </a:lnTo>
                    <a:lnTo>
                      <a:pt x="1302" y="965"/>
                    </a:lnTo>
                    <a:lnTo>
                      <a:pt x="1305" y="958"/>
                    </a:lnTo>
                    <a:lnTo>
                      <a:pt x="1308" y="950"/>
                    </a:lnTo>
                    <a:lnTo>
                      <a:pt x="1311" y="947"/>
                    </a:lnTo>
                    <a:lnTo>
                      <a:pt x="1315" y="939"/>
                    </a:lnTo>
                    <a:lnTo>
                      <a:pt x="1318" y="937"/>
                    </a:lnTo>
                    <a:lnTo>
                      <a:pt x="1318" y="935"/>
                    </a:lnTo>
                    <a:lnTo>
                      <a:pt x="1321" y="926"/>
                    </a:lnTo>
                    <a:lnTo>
                      <a:pt x="1322" y="920"/>
                    </a:lnTo>
                    <a:lnTo>
                      <a:pt x="1324" y="913"/>
                    </a:lnTo>
                    <a:lnTo>
                      <a:pt x="1326" y="903"/>
                    </a:lnTo>
                    <a:lnTo>
                      <a:pt x="1329" y="897"/>
                    </a:lnTo>
                    <a:lnTo>
                      <a:pt x="1331" y="886"/>
                    </a:lnTo>
                    <a:lnTo>
                      <a:pt x="1333" y="876"/>
                    </a:lnTo>
                    <a:lnTo>
                      <a:pt x="1335" y="865"/>
                    </a:lnTo>
                    <a:lnTo>
                      <a:pt x="1339" y="853"/>
                    </a:lnTo>
                    <a:lnTo>
                      <a:pt x="1339" y="845"/>
                    </a:lnTo>
                    <a:lnTo>
                      <a:pt x="1341" y="837"/>
                    </a:lnTo>
                    <a:lnTo>
                      <a:pt x="1341" y="831"/>
                    </a:lnTo>
                    <a:lnTo>
                      <a:pt x="1344" y="825"/>
                    </a:lnTo>
                    <a:lnTo>
                      <a:pt x="1345" y="818"/>
                    </a:lnTo>
                    <a:lnTo>
                      <a:pt x="1346" y="809"/>
                    </a:lnTo>
                    <a:lnTo>
                      <a:pt x="1347" y="802"/>
                    </a:lnTo>
                    <a:lnTo>
                      <a:pt x="1350" y="796"/>
                    </a:lnTo>
                    <a:lnTo>
                      <a:pt x="1350" y="785"/>
                    </a:lnTo>
                    <a:lnTo>
                      <a:pt x="1351" y="779"/>
                    </a:lnTo>
                    <a:lnTo>
                      <a:pt x="1351" y="768"/>
                    </a:lnTo>
                    <a:lnTo>
                      <a:pt x="1352" y="762"/>
                    </a:lnTo>
                    <a:lnTo>
                      <a:pt x="1352" y="751"/>
                    </a:lnTo>
                    <a:lnTo>
                      <a:pt x="1353" y="745"/>
                    </a:lnTo>
                    <a:lnTo>
                      <a:pt x="1355" y="734"/>
                    </a:lnTo>
                    <a:lnTo>
                      <a:pt x="1356" y="728"/>
                    </a:lnTo>
                    <a:lnTo>
                      <a:pt x="1356" y="719"/>
                    </a:lnTo>
                    <a:lnTo>
                      <a:pt x="1356" y="709"/>
                    </a:lnTo>
                    <a:lnTo>
                      <a:pt x="1356" y="701"/>
                    </a:lnTo>
                    <a:lnTo>
                      <a:pt x="1357" y="691"/>
                    </a:lnTo>
                    <a:lnTo>
                      <a:pt x="1357" y="681"/>
                    </a:lnTo>
                    <a:lnTo>
                      <a:pt x="1357" y="673"/>
                    </a:lnTo>
                    <a:lnTo>
                      <a:pt x="1357" y="663"/>
                    </a:lnTo>
                    <a:lnTo>
                      <a:pt x="1357" y="656"/>
                    </a:lnTo>
                    <a:lnTo>
                      <a:pt x="1356" y="645"/>
                    </a:lnTo>
                    <a:lnTo>
                      <a:pt x="1355" y="634"/>
                    </a:lnTo>
                    <a:lnTo>
                      <a:pt x="1353" y="625"/>
                    </a:lnTo>
                    <a:lnTo>
                      <a:pt x="1353" y="618"/>
                    </a:lnTo>
                    <a:lnTo>
                      <a:pt x="1352" y="605"/>
                    </a:lnTo>
                    <a:lnTo>
                      <a:pt x="1351" y="596"/>
                    </a:lnTo>
                    <a:lnTo>
                      <a:pt x="1350" y="586"/>
                    </a:lnTo>
                    <a:lnTo>
                      <a:pt x="1350" y="578"/>
                    </a:lnTo>
                    <a:lnTo>
                      <a:pt x="1347" y="567"/>
                    </a:lnTo>
                    <a:lnTo>
                      <a:pt x="1346" y="558"/>
                    </a:lnTo>
                    <a:lnTo>
                      <a:pt x="1344" y="548"/>
                    </a:lnTo>
                    <a:lnTo>
                      <a:pt x="1343" y="539"/>
                    </a:lnTo>
                    <a:lnTo>
                      <a:pt x="1339" y="529"/>
                    </a:lnTo>
                    <a:lnTo>
                      <a:pt x="1338" y="520"/>
                    </a:lnTo>
                    <a:lnTo>
                      <a:pt x="1334" y="510"/>
                    </a:lnTo>
                    <a:lnTo>
                      <a:pt x="1333" y="502"/>
                    </a:lnTo>
                    <a:lnTo>
                      <a:pt x="1329" y="491"/>
                    </a:lnTo>
                    <a:lnTo>
                      <a:pt x="1326" y="482"/>
                    </a:lnTo>
                    <a:lnTo>
                      <a:pt x="1322" y="473"/>
                    </a:lnTo>
                    <a:lnTo>
                      <a:pt x="1320" y="464"/>
                    </a:lnTo>
                    <a:lnTo>
                      <a:pt x="1316" y="455"/>
                    </a:lnTo>
                    <a:lnTo>
                      <a:pt x="1314" y="446"/>
                    </a:lnTo>
                    <a:lnTo>
                      <a:pt x="1311" y="439"/>
                    </a:lnTo>
                    <a:lnTo>
                      <a:pt x="1309" y="432"/>
                    </a:lnTo>
                    <a:lnTo>
                      <a:pt x="1305" y="423"/>
                    </a:lnTo>
                    <a:lnTo>
                      <a:pt x="1303" y="416"/>
                    </a:lnTo>
                    <a:lnTo>
                      <a:pt x="1300" y="410"/>
                    </a:lnTo>
                    <a:lnTo>
                      <a:pt x="1298" y="402"/>
                    </a:lnTo>
                    <a:lnTo>
                      <a:pt x="1294" y="394"/>
                    </a:lnTo>
                    <a:lnTo>
                      <a:pt x="1292" y="387"/>
                    </a:lnTo>
                    <a:lnTo>
                      <a:pt x="1290" y="381"/>
                    </a:lnTo>
                    <a:lnTo>
                      <a:pt x="1287" y="376"/>
                    </a:lnTo>
                    <a:lnTo>
                      <a:pt x="1281" y="363"/>
                    </a:lnTo>
                    <a:lnTo>
                      <a:pt x="1276" y="352"/>
                    </a:lnTo>
                    <a:lnTo>
                      <a:pt x="1271" y="340"/>
                    </a:lnTo>
                    <a:lnTo>
                      <a:pt x="1268" y="332"/>
                    </a:lnTo>
                    <a:lnTo>
                      <a:pt x="1264" y="321"/>
                    </a:lnTo>
                    <a:lnTo>
                      <a:pt x="1261" y="314"/>
                    </a:lnTo>
                    <a:lnTo>
                      <a:pt x="1257" y="305"/>
                    </a:lnTo>
                    <a:lnTo>
                      <a:pt x="1253" y="299"/>
                    </a:lnTo>
                    <a:lnTo>
                      <a:pt x="1250" y="292"/>
                    </a:lnTo>
                    <a:lnTo>
                      <a:pt x="1246" y="285"/>
                    </a:lnTo>
                    <a:lnTo>
                      <a:pt x="1242" y="279"/>
                    </a:lnTo>
                    <a:lnTo>
                      <a:pt x="1240" y="274"/>
                    </a:lnTo>
                    <a:lnTo>
                      <a:pt x="1235" y="265"/>
                    </a:lnTo>
                    <a:lnTo>
                      <a:pt x="1232" y="259"/>
                    </a:lnTo>
                    <a:lnTo>
                      <a:pt x="1228" y="253"/>
                    </a:lnTo>
                    <a:lnTo>
                      <a:pt x="1226" y="250"/>
                    </a:lnTo>
                    <a:lnTo>
                      <a:pt x="1224" y="249"/>
                    </a:lnTo>
                    <a:lnTo>
                      <a:pt x="1224" y="249"/>
                    </a:lnTo>
                    <a:lnTo>
                      <a:pt x="1181" y="183"/>
                    </a:lnTo>
                    <a:lnTo>
                      <a:pt x="1181" y="18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485"/>
              <p:cNvSpPr/>
              <p:nvPr/>
            </p:nvSpPr>
            <p:spPr>
              <a:xfrm>
                <a:off x="6735240" y="6053040"/>
                <a:ext cx="64800" cy="62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24" h="217">
                    <a:moveTo>
                      <a:pt x="112" y="217"/>
                    </a:moveTo>
                    <a:lnTo>
                      <a:pt x="123" y="216"/>
                    </a:lnTo>
                    <a:lnTo>
                      <a:pt x="134" y="213"/>
                    </a:lnTo>
                    <a:lnTo>
                      <a:pt x="145" y="210"/>
                    </a:lnTo>
                    <a:lnTo>
                      <a:pt x="156" y="207"/>
                    </a:lnTo>
                    <a:lnTo>
                      <a:pt x="164" y="202"/>
                    </a:lnTo>
                    <a:lnTo>
                      <a:pt x="174" y="197"/>
                    </a:lnTo>
                    <a:lnTo>
                      <a:pt x="182" y="190"/>
                    </a:lnTo>
                    <a:lnTo>
                      <a:pt x="192" y="184"/>
                    </a:lnTo>
                    <a:lnTo>
                      <a:pt x="198" y="176"/>
                    </a:lnTo>
                    <a:lnTo>
                      <a:pt x="204" y="167"/>
                    </a:lnTo>
                    <a:lnTo>
                      <a:pt x="209" y="158"/>
                    </a:lnTo>
                    <a:lnTo>
                      <a:pt x="215" y="149"/>
                    </a:lnTo>
                    <a:lnTo>
                      <a:pt x="217" y="138"/>
                    </a:lnTo>
                    <a:lnTo>
                      <a:pt x="221" y="129"/>
                    </a:lnTo>
                    <a:lnTo>
                      <a:pt x="223" y="118"/>
                    </a:lnTo>
                    <a:lnTo>
                      <a:pt x="224" y="108"/>
                    </a:lnTo>
                    <a:lnTo>
                      <a:pt x="223" y="96"/>
                    </a:lnTo>
                    <a:lnTo>
                      <a:pt x="221" y="85"/>
                    </a:lnTo>
                    <a:lnTo>
                      <a:pt x="217" y="74"/>
                    </a:lnTo>
                    <a:lnTo>
                      <a:pt x="215" y="65"/>
                    </a:lnTo>
                    <a:lnTo>
                      <a:pt x="209" y="54"/>
                    </a:lnTo>
                    <a:lnTo>
                      <a:pt x="204" y="46"/>
                    </a:lnTo>
                    <a:lnTo>
                      <a:pt x="198" y="38"/>
                    </a:lnTo>
                    <a:lnTo>
                      <a:pt x="192" y="31"/>
                    </a:lnTo>
                    <a:lnTo>
                      <a:pt x="182" y="24"/>
                    </a:lnTo>
                    <a:lnTo>
                      <a:pt x="174" y="18"/>
                    </a:lnTo>
                    <a:lnTo>
                      <a:pt x="164" y="12"/>
                    </a:lnTo>
                    <a:lnTo>
                      <a:pt x="156" y="8"/>
                    </a:lnTo>
                    <a:lnTo>
                      <a:pt x="145" y="3"/>
                    </a:lnTo>
                    <a:lnTo>
                      <a:pt x="134" y="1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88" y="1"/>
                    </a:lnTo>
                    <a:lnTo>
                      <a:pt x="77" y="3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8" y="18"/>
                    </a:lnTo>
                    <a:lnTo>
                      <a:pt x="40" y="24"/>
                    </a:lnTo>
                    <a:lnTo>
                      <a:pt x="33" y="31"/>
                    </a:lnTo>
                    <a:lnTo>
                      <a:pt x="24" y="38"/>
                    </a:lnTo>
                    <a:lnTo>
                      <a:pt x="18" y="46"/>
                    </a:lnTo>
                    <a:lnTo>
                      <a:pt x="12" y="54"/>
                    </a:lnTo>
                    <a:lnTo>
                      <a:pt x="9" y="65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1" y="129"/>
                    </a:lnTo>
                    <a:lnTo>
                      <a:pt x="4" y="138"/>
                    </a:lnTo>
                    <a:lnTo>
                      <a:pt x="9" y="149"/>
                    </a:lnTo>
                    <a:lnTo>
                      <a:pt x="12" y="158"/>
                    </a:lnTo>
                    <a:lnTo>
                      <a:pt x="18" y="167"/>
                    </a:lnTo>
                    <a:lnTo>
                      <a:pt x="24" y="176"/>
                    </a:lnTo>
                    <a:lnTo>
                      <a:pt x="33" y="184"/>
                    </a:lnTo>
                    <a:lnTo>
                      <a:pt x="40" y="190"/>
                    </a:lnTo>
                    <a:lnTo>
                      <a:pt x="48" y="197"/>
                    </a:lnTo>
                    <a:lnTo>
                      <a:pt x="57" y="202"/>
                    </a:lnTo>
                    <a:lnTo>
                      <a:pt x="68" y="207"/>
                    </a:lnTo>
                    <a:lnTo>
                      <a:pt x="77" y="210"/>
                    </a:lnTo>
                    <a:lnTo>
                      <a:pt x="88" y="213"/>
                    </a:lnTo>
                    <a:lnTo>
                      <a:pt x="100" y="216"/>
                    </a:lnTo>
                    <a:lnTo>
                      <a:pt x="112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486"/>
              <p:cNvSpPr/>
              <p:nvPr/>
            </p:nvSpPr>
            <p:spPr>
              <a:xfrm>
                <a:off x="6663240" y="6151680"/>
                <a:ext cx="103320" cy="1094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56" h="378">
                    <a:moveTo>
                      <a:pt x="177" y="378"/>
                    </a:moveTo>
                    <a:lnTo>
                      <a:pt x="186" y="377"/>
                    </a:lnTo>
                    <a:lnTo>
                      <a:pt x="194" y="376"/>
                    </a:lnTo>
                    <a:lnTo>
                      <a:pt x="203" y="374"/>
                    </a:lnTo>
                    <a:lnTo>
                      <a:pt x="212" y="374"/>
                    </a:lnTo>
                    <a:lnTo>
                      <a:pt x="221" y="371"/>
                    </a:lnTo>
                    <a:lnTo>
                      <a:pt x="229" y="368"/>
                    </a:lnTo>
                    <a:lnTo>
                      <a:pt x="238" y="365"/>
                    </a:lnTo>
                    <a:lnTo>
                      <a:pt x="246" y="363"/>
                    </a:lnTo>
                    <a:lnTo>
                      <a:pt x="253" y="357"/>
                    </a:lnTo>
                    <a:lnTo>
                      <a:pt x="261" y="354"/>
                    </a:lnTo>
                    <a:lnTo>
                      <a:pt x="268" y="349"/>
                    </a:lnTo>
                    <a:lnTo>
                      <a:pt x="276" y="345"/>
                    </a:lnTo>
                    <a:lnTo>
                      <a:pt x="282" y="339"/>
                    </a:lnTo>
                    <a:lnTo>
                      <a:pt x="290" y="333"/>
                    </a:lnTo>
                    <a:lnTo>
                      <a:pt x="296" y="327"/>
                    </a:lnTo>
                    <a:lnTo>
                      <a:pt x="303" y="322"/>
                    </a:lnTo>
                    <a:lnTo>
                      <a:pt x="308" y="314"/>
                    </a:lnTo>
                    <a:lnTo>
                      <a:pt x="313" y="306"/>
                    </a:lnTo>
                    <a:lnTo>
                      <a:pt x="317" y="300"/>
                    </a:lnTo>
                    <a:lnTo>
                      <a:pt x="323" y="293"/>
                    </a:lnTo>
                    <a:lnTo>
                      <a:pt x="328" y="283"/>
                    </a:lnTo>
                    <a:lnTo>
                      <a:pt x="333" y="277"/>
                    </a:lnTo>
                    <a:lnTo>
                      <a:pt x="337" y="267"/>
                    </a:lnTo>
                    <a:lnTo>
                      <a:pt x="341" y="261"/>
                    </a:lnTo>
                    <a:lnTo>
                      <a:pt x="344" y="251"/>
                    </a:lnTo>
                    <a:lnTo>
                      <a:pt x="346" y="243"/>
                    </a:lnTo>
                    <a:lnTo>
                      <a:pt x="349" y="234"/>
                    </a:lnTo>
                    <a:lnTo>
                      <a:pt x="351" y="226"/>
                    </a:lnTo>
                    <a:lnTo>
                      <a:pt x="352" y="217"/>
                    </a:lnTo>
                    <a:lnTo>
                      <a:pt x="354" y="206"/>
                    </a:lnTo>
                    <a:lnTo>
                      <a:pt x="355" y="198"/>
                    </a:lnTo>
                    <a:lnTo>
                      <a:pt x="356" y="188"/>
                    </a:lnTo>
                    <a:lnTo>
                      <a:pt x="355" y="177"/>
                    </a:lnTo>
                    <a:lnTo>
                      <a:pt x="354" y="167"/>
                    </a:lnTo>
                    <a:lnTo>
                      <a:pt x="352" y="159"/>
                    </a:lnTo>
                    <a:lnTo>
                      <a:pt x="351" y="149"/>
                    </a:lnTo>
                    <a:lnTo>
                      <a:pt x="349" y="140"/>
                    </a:lnTo>
                    <a:lnTo>
                      <a:pt x="346" y="132"/>
                    </a:lnTo>
                    <a:lnTo>
                      <a:pt x="344" y="122"/>
                    </a:lnTo>
                    <a:lnTo>
                      <a:pt x="341" y="116"/>
                    </a:lnTo>
                    <a:lnTo>
                      <a:pt x="337" y="105"/>
                    </a:lnTo>
                    <a:lnTo>
                      <a:pt x="333" y="97"/>
                    </a:lnTo>
                    <a:lnTo>
                      <a:pt x="328" y="89"/>
                    </a:lnTo>
                    <a:lnTo>
                      <a:pt x="323" y="82"/>
                    </a:lnTo>
                    <a:lnTo>
                      <a:pt x="317" y="73"/>
                    </a:lnTo>
                    <a:lnTo>
                      <a:pt x="313" y="66"/>
                    </a:lnTo>
                    <a:lnTo>
                      <a:pt x="308" y="60"/>
                    </a:lnTo>
                    <a:lnTo>
                      <a:pt x="303" y="54"/>
                    </a:lnTo>
                    <a:lnTo>
                      <a:pt x="296" y="48"/>
                    </a:lnTo>
                    <a:lnTo>
                      <a:pt x="290" y="42"/>
                    </a:lnTo>
                    <a:lnTo>
                      <a:pt x="282" y="35"/>
                    </a:lnTo>
                    <a:lnTo>
                      <a:pt x="276" y="31"/>
                    </a:lnTo>
                    <a:lnTo>
                      <a:pt x="268" y="25"/>
                    </a:lnTo>
                    <a:lnTo>
                      <a:pt x="261" y="20"/>
                    </a:lnTo>
                    <a:lnTo>
                      <a:pt x="253" y="17"/>
                    </a:lnTo>
                    <a:lnTo>
                      <a:pt x="246" y="14"/>
                    </a:lnTo>
                    <a:lnTo>
                      <a:pt x="238" y="11"/>
                    </a:lnTo>
                    <a:lnTo>
                      <a:pt x="229" y="7"/>
                    </a:lnTo>
                    <a:lnTo>
                      <a:pt x="221" y="5"/>
                    </a:lnTo>
                    <a:lnTo>
                      <a:pt x="212" y="3"/>
                    </a:lnTo>
                    <a:lnTo>
                      <a:pt x="203" y="1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8" y="0"/>
                    </a:lnTo>
                    <a:lnTo>
                      <a:pt x="149" y="1"/>
                    </a:lnTo>
                    <a:lnTo>
                      <a:pt x="140" y="3"/>
                    </a:lnTo>
                    <a:lnTo>
                      <a:pt x="132" y="5"/>
                    </a:lnTo>
                    <a:lnTo>
                      <a:pt x="123" y="7"/>
                    </a:lnTo>
                    <a:lnTo>
                      <a:pt x="115" y="11"/>
                    </a:lnTo>
                    <a:lnTo>
                      <a:pt x="108" y="14"/>
                    </a:lnTo>
                    <a:lnTo>
                      <a:pt x="99" y="17"/>
                    </a:lnTo>
                    <a:lnTo>
                      <a:pt x="91" y="20"/>
                    </a:lnTo>
                    <a:lnTo>
                      <a:pt x="83" y="25"/>
                    </a:lnTo>
                    <a:lnTo>
                      <a:pt x="77" y="31"/>
                    </a:lnTo>
                    <a:lnTo>
                      <a:pt x="70" y="35"/>
                    </a:lnTo>
                    <a:lnTo>
                      <a:pt x="63" y="42"/>
                    </a:lnTo>
                    <a:lnTo>
                      <a:pt x="57" y="48"/>
                    </a:lnTo>
                    <a:lnTo>
                      <a:pt x="52" y="54"/>
                    </a:lnTo>
                    <a:lnTo>
                      <a:pt x="45" y="60"/>
                    </a:lnTo>
                    <a:lnTo>
                      <a:pt x="39" y="66"/>
                    </a:lnTo>
                    <a:lnTo>
                      <a:pt x="33" y="73"/>
                    </a:lnTo>
                    <a:lnTo>
                      <a:pt x="29" y="82"/>
                    </a:lnTo>
                    <a:lnTo>
                      <a:pt x="24" y="89"/>
                    </a:lnTo>
                    <a:lnTo>
                      <a:pt x="19" y="97"/>
                    </a:lnTo>
                    <a:lnTo>
                      <a:pt x="16" y="105"/>
                    </a:lnTo>
                    <a:lnTo>
                      <a:pt x="13" y="116"/>
                    </a:lnTo>
                    <a:lnTo>
                      <a:pt x="10" y="122"/>
                    </a:lnTo>
                    <a:lnTo>
                      <a:pt x="6" y="132"/>
                    </a:lnTo>
                    <a:lnTo>
                      <a:pt x="4" y="140"/>
                    </a:lnTo>
                    <a:lnTo>
                      <a:pt x="4" y="149"/>
                    </a:lnTo>
                    <a:lnTo>
                      <a:pt x="1" y="159"/>
                    </a:lnTo>
                    <a:lnTo>
                      <a:pt x="0" y="167"/>
                    </a:lnTo>
                    <a:lnTo>
                      <a:pt x="0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6"/>
                    </a:lnTo>
                    <a:lnTo>
                      <a:pt x="1" y="217"/>
                    </a:lnTo>
                    <a:lnTo>
                      <a:pt x="4" y="226"/>
                    </a:lnTo>
                    <a:lnTo>
                      <a:pt x="4" y="234"/>
                    </a:lnTo>
                    <a:lnTo>
                      <a:pt x="6" y="243"/>
                    </a:lnTo>
                    <a:lnTo>
                      <a:pt x="10" y="251"/>
                    </a:lnTo>
                    <a:lnTo>
                      <a:pt x="13" y="261"/>
                    </a:lnTo>
                    <a:lnTo>
                      <a:pt x="16" y="267"/>
                    </a:lnTo>
                    <a:lnTo>
                      <a:pt x="19" y="277"/>
                    </a:lnTo>
                    <a:lnTo>
                      <a:pt x="24" y="283"/>
                    </a:lnTo>
                    <a:lnTo>
                      <a:pt x="29" y="293"/>
                    </a:lnTo>
                    <a:lnTo>
                      <a:pt x="33" y="300"/>
                    </a:lnTo>
                    <a:lnTo>
                      <a:pt x="39" y="306"/>
                    </a:lnTo>
                    <a:lnTo>
                      <a:pt x="45" y="314"/>
                    </a:lnTo>
                    <a:lnTo>
                      <a:pt x="52" y="322"/>
                    </a:lnTo>
                    <a:lnTo>
                      <a:pt x="57" y="327"/>
                    </a:lnTo>
                    <a:lnTo>
                      <a:pt x="63" y="333"/>
                    </a:lnTo>
                    <a:lnTo>
                      <a:pt x="70" y="339"/>
                    </a:lnTo>
                    <a:lnTo>
                      <a:pt x="77" y="345"/>
                    </a:lnTo>
                    <a:lnTo>
                      <a:pt x="83" y="349"/>
                    </a:lnTo>
                    <a:lnTo>
                      <a:pt x="91" y="354"/>
                    </a:lnTo>
                    <a:lnTo>
                      <a:pt x="99" y="357"/>
                    </a:lnTo>
                    <a:lnTo>
                      <a:pt x="108" y="363"/>
                    </a:lnTo>
                    <a:lnTo>
                      <a:pt x="115" y="365"/>
                    </a:lnTo>
                    <a:lnTo>
                      <a:pt x="123" y="368"/>
                    </a:lnTo>
                    <a:lnTo>
                      <a:pt x="132" y="371"/>
                    </a:lnTo>
                    <a:lnTo>
                      <a:pt x="140" y="374"/>
                    </a:lnTo>
                    <a:lnTo>
                      <a:pt x="149" y="374"/>
                    </a:lnTo>
                    <a:lnTo>
                      <a:pt x="158" y="376"/>
                    </a:lnTo>
                    <a:lnTo>
                      <a:pt x="167" y="377"/>
                    </a:lnTo>
                    <a:lnTo>
                      <a:pt x="177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487"/>
              <p:cNvSpPr/>
              <p:nvPr/>
            </p:nvSpPr>
            <p:spPr>
              <a:xfrm>
                <a:off x="6557400" y="6006240"/>
                <a:ext cx="408240" cy="40572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1399" h="1399">
                    <a:moveTo>
                      <a:pt x="1394" y="795"/>
                    </a:moveTo>
                    <a:lnTo>
                      <a:pt x="1394" y="784"/>
                    </a:lnTo>
                    <a:lnTo>
                      <a:pt x="1395" y="777"/>
                    </a:lnTo>
                    <a:lnTo>
                      <a:pt x="1395" y="767"/>
                    </a:lnTo>
                    <a:lnTo>
                      <a:pt x="1397" y="759"/>
                    </a:lnTo>
                    <a:lnTo>
                      <a:pt x="1397" y="749"/>
                    </a:lnTo>
                    <a:lnTo>
                      <a:pt x="1397" y="742"/>
                    </a:lnTo>
                    <a:lnTo>
                      <a:pt x="1397" y="732"/>
                    </a:lnTo>
                    <a:lnTo>
                      <a:pt x="1399" y="725"/>
                    </a:lnTo>
                    <a:lnTo>
                      <a:pt x="1399" y="715"/>
                    </a:lnTo>
                    <a:lnTo>
                      <a:pt x="1399" y="706"/>
                    </a:lnTo>
                    <a:lnTo>
                      <a:pt x="1399" y="698"/>
                    </a:lnTo>
                    <a:lnTo>
                      <a:pt x="1399" y="689"/>
                    </a:lnTo>
                    <a:lnTo>
                      <a:pt x="1397" y="680"/>
                    </a:lnTo>
                    <a:lnTo>
                      <a:pt x="1397" y="672"/>
                    </a:lnTo>
                    <a:lnTo>
                      <a:pt x="1397" y="663"/>
                    </a:lnTo>
                    <a:lnTo>
                      <a:pt x="1397" y="655"/>
                    </a:lnTo>
                    <a:lnTo>
                      <a:pt x="1397" y="645"/>
                    </a:lnTo>
                    <a:lnTo>
                      <a:pt x="1395" y="638"/>
                    </a:lnTo>
                    <a:lnTo>
                      <a:pt x="1394" y="628"/>
                    </a:lnTo>
                    <a:lnTo>
                      <a:pt x="1394" y="621"/>
                    </a:lnTo>
                    <a:lnTo>
                      <a:pt x="1393" y="610"/>
                    </a:lnTo>
                    <a:lnTo>
                      <a:pt x="1392" y="604"/>
                    </a:lnTo>
                    <a:lnTo>
                      <a:pt x="1391" y="593"/>
                    </a:lnTo>
                    <a:lnTo>
                      <a:pt x="1391" y="587"/>
                    </a:lnTo>
                    <a:lnTo>
                      <a:pt x="1388" y="578"/>
                    </a:lnTo>
                    <a:lnTo>
                      <a:pt x="1387" y="570"/>
                    </a:lnTo>
                    <a:lnTo>
                      <a:pt x="1384" y="561"/>
                    </a:lnTo>
                    <a:lnTo>
                      <a:pt x="1383" y="555"/>
                    </a:lnTo>
                    <a:lnTo>
                      <a:pt x="1381" y="545"/>
                    </a:lnTo>
                    <a:lnTo>
                      <a:pt x="1380" y="538"/>
                    </a:lnTo>
                    <a:lnTo>
                      <a:pt x="1378" y="528"/>
                    </a:lnTo>
                    <a:lnTo>
                      <a:pt x="1377" y="521"/>
                    </a:lnTo>
                    <a:lnTo>
                      <a:pt x="1374" y="511"/>
                    </a:lnTo>
                    <a:lnTo>
                      <a:pt x="1371" y="504"/>
                    </a:lnTo>
                    <a:lnTo>
                      <a:pt x="1369" y="495"/>
                    </a:lnTo>
                    <a:lnTo>
                      <a:pt x="1366" y="487"/>
                    </a:lnTo>
                    <a:lnTo>
                      <a:pt x="1363" y="480"/>
                    </a:lnTo>
                    <a:lnTo>
                      <a:pt x="1360" y="470"/>
                    </a:lnTo>
                    <a:lnTo>
                      <a:pt x="1358" y="463"/>
                    </a:lnTo>
                    <a:lnTo>
                      <a:pt x="1356" y="455"/>
                    </a:lnTo>
                    <a:lnTo>
                      <a:pt x="1352" y="447"/>
                    </a:lnTo>
                    <a:lnTo>
                      <a:pt x="1348" y="439"/>
                    </a:lnTo>
                    <a:lnTo>
                      <a:pt x="1345" y="431"/>
                    </a:lnTo>
                    <a:lnTo>
                      <a:pt x="1342" y="425"/>
                    </a:lnTo>
                    <a:lnTo>
                      <a:pt x="1339" y="415"/>
                    </a:lnTo>
                    <a:lnTo>
                      <a:pt x="1335" y="408"/>
                    </a:lnTo>
                    <a:lnTo>
                      <a:pt x="1331" y="400"/>
                    </a:lnTo>
                    <a:lnTo>
                      <a:pt x="1329" y="393"/>
                    </a:lnTo>
                    <a:lnTo>
                      <a:pt x="1324" y="386"/>
                    </a:lnTo>
                    <a:lnTo>
                      <a:pt x="1321" y="378"/>
                    </a:lnTo>
                    <a:lnTo>
                      <a:pt x="1316" y="369"/>
                    </a:lnTo>
                    <a:lnTo>
                      <a:pt x="1312" y="363"/>
                    </a:lnTo>
                    <a:lnTo>
                      <a:pt x="1307" y="355"/>
                    </a:lnTo>
                    <a:lnTo>
                      <a:pt x="1304" y="347"/>
                    </a:lnTo>
                    <a:lnTo>
                      <a:pt x="1299" y="341"/>
                    </a:lnTo>
                    <a:lnTo>
                      <a:pt x="1295" y="333"/>
                    </a:lnTo>
                    <a:lnTo>
                      <a:pt x="1289" y="324"/>
                    </a:lnTo>
                    <a:lnTo>
                      <a:pt x="1286" y="318"/>
                    </a:lnTo>
                    <a:lnTo>
                      <a:pt x="1280" y="310"/>
                    </a:lnTo>
                    <a:lnTo>
                      <a:pt x="1276" y="303"/>
                    </a:lnTo>
                    <a:lnTo>
                      <a:pt x="1270" y="296"/>
                    </a:lnTo>
                    <a:lnTo>
                      <a:pt x="1266" y="291"/>
                    </a:lnTo>
                    <a:lnTo>
                      <a:pt x="1260" y="282"/>
                    </a:lnTo>
                    <a:lnTo>
                      <a:pt x="1257" y="276"/>
                    </a:lnTo>
                    <a:lnTo>
                      <a:pt x="1251" y="269"/>
                    </a:lnTo>
                    <a:lnTo>
                      <a:pt x="1245" y="262"/>
                    </a:lnTo>
                    <a:lnTo>
                      <a:pt x="1239" y="255"/>
                    </a:lnTo>
                    <a:lnTo>
                      <a:pt x="1234" y="247"/>
                    </a:lnTo>
                    <a:lnTo>
                      <a:pt x="1228" y="240"/>
                    </a:lnTo>
                    <a:lnTo>
                      <a:pt x="1222" y="234"/>
                    </a:lnTo>
                    <a:lnTo>
                      <a:pt x="1216" y="228"/>
                    </a:lnTo>
                    <a:lnTo>
                      <a:pt x="1211" y="222"/>
                    </a:lnTo>
                    <a:lnTo>
                      <a:pt x="1204" y="215"/>
                    </a:lnTo>
                    <a:lnTo>
                      <a:pt x="1198" y="209"/>
                    </a:lnTo>
                    <a:lnTo>
                      <a:pt x="1192" y="203"/>
                    </a:lnTo>
                    <a:lnTo>
                      <a:pt x="1185" y="197"/>
                    </a:lnTo>
                    <a:lnTo>
                      <a:pt x="1179" y="191"/>
                    </a:lnTo>
                    <a:lnTo>
                      <a:pt x="1173" y="186"/>
                    </a:lnTo>
                    <a:lnTo>
                      <a:pt x="1167" y="180"/>
                    </a:lnTo>
                    <a:lnTo>
                      <a:pt x="1161" y="175"/>
                    </a:lnTo>
                    <a:lnTo>
                      <a:pt x="1154" y="168"/>
                    </a:lnTo>
                    <a:lnTo>
                      <a:pt x="1148" y="163"/>
                    </a:lnTo>
                    <a:lnTo>
                      <a:pt x="1141" y="157"/>
                    </a:lnTo>
                    <a:lnTo>
                      <a:pt x="1135" y="152"/>
                    </a:lnTo>
                    <a:lnTo>
                      <a:pt x="1128" y="146"/>
                    </a:lnTo>
                    <a:lnTo>
                      <a:pt x="1122" y="141"/>
                    </a:lnTo>
                    <a:lnTo>
                      <a:pt x="1114" y="135"/>
                    </a:lnTo>
                    <a:lnTo>
                      <a:pt x="1108" y="132"/>
                    </a:lnTo>
                    <a:lnTo>
                      <a:pt x="1101" y="126"/>
                    </a:lnTo>
                    <a:lnTo>
                      <a:pt x="1094" y="121"/>
                    </a:lnTo>
                    <a:lnTo>
                      <a:pt x="1087" y="116"/>
                    </a:lnTo>
                    <a:lnTo>
                      <a:pt x="1079" y="112"/>
                    </a:lnTo>
                    <a:lnTo>
                      <a:pt x="1072" y="107"/>
                    </a:lnTo>
                    <a:lnTo>
                      <a:pt x="1065" y="103"/>
                    </a:lnTo>
                    <a:lnTo>
                      <a:pt x="1058" y="99"/>
                    </a:lnTo>
                    <a:lnTo>
                      <a:pt x="1052" y="95"/>
                    </a:lnTo>
                    <a:lnTo>
                      <a:pt x="1043" y="91"/>
                    </a:lnTo>
                    <a:lnTo>
                      <a:pt x="1036" y="86"/>
                    </a:lnTo>
                    <a:lnTo>
                      <a:pt x="1028" y="81"/>
                    </a:lnTo>
                    <a:lnTo>
                      <a:pt x="1020" y="77"/>
                    </a:lnTo>
                    <a:lnTo>
                      <a:pt x="1012" y="74"/>
                    </a:lnTo>
                    <a:lnTo>
                      <a:pt x="1005" y="70"/>
                    </a:lnTo>
                    <a:lnTo>
                      <a:pt x="997" y="66"/>
                    </a:lnTo>
                    <a:lnTo>
                      <a:pt x="990" y="63"/>
                    </a:lnTo>
                    <a:lnTo>
                      <a:pt x="982" y="59"/>
                    </a:lnTo>
                    <a:lnTo>
                      <a:pt x="974" y="56"/>
                    </a:lnTo>
                    <a:lnTo>
                      <a:pt x="966" y="52"/>
                    </a:lnTo>
                    <a:lnTo>
                      <a:pt x="959" y="50"/>
                    </a:lnTo>
                    <a:lnTo>
                      <a:pt x="950" y="46"/>
                    </a:lnTo>
                    <a:lnTo>
                      <a:pt x="943" y="44"/>
                    </a:lnTo>
                    <a:lnTo>
                      <a:pt x="935" y="41"/>
                    </a:lnTo>
                    <a:lnTo>
                      <a:pt x="927" y="39"/>
                    </a:lnTo>
                    <a:lnTo>
                      <a:pt x="918" y="35"/>
                    </a:lnTo>
                    <a:lnTo>
                      <a:pt x="911" y="31"/>
                    </a:lnTo>
                    <a:lnTo>
                      <a:pt x="901" y="29"/>
                    </a:lnTo>
                    <a:lnTo>
                      <a:pt x="894" y="27"/>
                    </a:lnTo>
                    <a:lnTo>
                      <a:pt x="885" y="24"/>
                    </a:lnTo>
                    <a:lnTo>
                      <a:pt x="877" y="23"/>
                    </a:lnTo>
                    <a:lnTo>
                      <a:pt x="868" y="21"/>
                    </a:lnTo>
                    <a:lnTo>
                      <a:pt x="861" y="19"/>
                    </a:lnTo>
                    <a:lnTo>
                      <a:pt x="851" y="16"/>
                    </a:lnTo>
                    <a:lnTo>
                      <a:pt x="843" y="15"/>
                    </a:lnTo>
                    <a:lnTo>
                      <a:pt x="835" y="12"/>
                    </a:lnTo>
                    <a:lnTo>
                      <a:pt x="827" y="11"/>
                    </a:lnTo>
                    <a:lnTo>
                      <a:pt x="818" y="10"/>
                    </a:lnTo>
                    <a:lnTo>
                      <a:pt x="809" y="9"/>
                    </a:lnTo>
                    <a:lnTo>
                      <a:pt x="801" y="7"/>
                    </a:lnTo>
                    <a:lnTo>
                      <a:pt x="794" y="7"/>
                    </a:lnTo>
                    <a:lnTo>
                      <a:pt x="782" y="5"/>
                    </a:lnTo>
                    <a:lnTo>
                      <a:pt x="771" y="4"/>
                    </a:lnTo>
                    <a:lnTo>
                      <a:pt x="760" y="1"/>
                    </a:lnTo>
                    <a:lnTo>
                      <a:pt x="749" y="1"/>
                    </a:lnTo>
                    <a:lnTo>
                      <a:pt x="738" y="0"/>
                    </a:lnTo>
                    <a:lnTo>
                      <a:pt x="727" y="0"/>
                    </a:lnTo>
                    <a:lnTo>
                      <a:pt x="716" y="0"/>
                    </a:lnTo>
                    <a:lnTo>
                      <a:pt x="706" y="0"/>
                    </a:lnTo>
                    <a:lnTo>
                      <a:pt x="695" y="0"/>
                    </a:lnTo>
                    <a:lnTo>
                      <a:pt x="684" y="0"/>
                    </a:lnTo>
                    <a:lnTo>
                      <a:pt x="673" y="0"/>
                    </a:lnTo>
                    <a:lnTo>
                      <a:pt x="662" y="0"/>
                    </a:lnTo>
                    <a:lnTo>
                      <a:pt x="651" y="0"/>
                    </a:lnTo>
                    <a:lnTo>
                      <a:pt x="640" y="1"/>
                    </a:lnTo>
                    <a:lnTo>
                      <a:pt x="630" y="3"/>
                    </a:lnTo>
                    <a:lnTo>
                      <a:pt x="620" y="5"/>
                    </a:lnTo>
                    <a:lnTo>
                      <a:pt x="608" y="5"/>
                    </a:lnTo>
                    <a:lnTo>
                      <a:pt x="596" y="7"/>
                    </a:lnTo>
                    <a:lnTo>
                      <a:pt x="584" y="9"/>
                    </a:lnTo>
                    <a:lnTo>
                      <a:pt x="573" y="11"/>
                    </a:lnTo>
                    <a:lnTo>
                      <a:pt x="561" y="12"/>
                    </a:lnTo>
                    <a:lnTo>
                      <a:pt x="549" y="15"/>
                    </a:lnTo>
                    <a:lnTo>
                      <a:pt x="538" y="18"/>
                    </a:lnTo>
                    <a:lnTo>
                      <a:pt x="527" y="22"/>
                    </a:lnTo>
                    <a:lnTo>
                      <a:pt x="515" y="24"/>
                    </a:lnTo>
                    <a:lnTo>
                      <a:pt x="504" y="27"/>
                    </a:lnTo>
                    <a:lnTo>
                      <a:pt x="493" y="30"/>
                    </a:lnTo>
                    <a:lnTo>
                      <a:pt x="482" y="34"/>
                    </a:lnTo>
                    <a:lnTo>
                      <a:pt x="472" y="37"/>
                    </a:lnTo>
                    <a:lnTo>
                      <a:pt x="461" y="41"/>
                    </a:lnTo>
                    <a:lnTo>
                      <a:pt x="450" y="46"/>
                    </a:lnTo>
                    <a:lnTo>
                      <a:pt x="439" y="51"/>
                    </a:lnTo>
                    <a:lnTo>
                      <a:pt x="428" y="54"/>
                    </a:lnTo>
                    <a:lnTo>
                      <a:pt x="417" y="59"/>
                    </a:lnTo>
                    <a:lnTo>
                      <a:pt x="406" y="64"/>
                    </a:lnTo>
                    <a:lnTo>
                      <a:pt x="396" y="69"/>
                    </a:lnTo>
                    <a:lnTo>
                      <a:pt x="385" y="74"/>
                    </a:lnTo>
                    <a:lnTo>
                      <a:pt x="375" y="80"/>
                    </a:lnTo>
                    <a:lnTo>
                      <a:pt x="364" y="85"/>
                    </a:lnTo>
                    <a:lnTo>
                      <a:pt x="355" y="92"/>
                    </a:lnTo>
                    <a:lnTo>
                      <a:pt x="344" y="97"/>
                    </a:lnTo>
                    <a:lnTo>
                      <a:pt x="334" y="103"/>
                    </a:lnTo>
                    <a:lnTo>
                      <a:pt x="324" y="109"/>
                    </a:lnTo>
                    <a:lnTo>
                      <a:pt x="315" y="116"/>
                    </a:lnTo>
                    <a:lnTo>
                      <a:pt x="304" y="123"/>
                    </a:lnTo>
                    <a:lnTo>
                      <a:pt x="294" y="130"/>
                    </a:lnTo>
                    <a:lnTo>
                      <a:pt x="286" y="138"/>
                    </a:lnTo>
                    <a:lnTo>
                      <a:pt x="276" y="145"/>
                    </a:lnTo>
                    <a:lnTo>
                      <a:pt x="270" y="148"/>
                    </a:lnTo>
                    <a:lnTo>
                      <a:pt x="263" y="154"/>
                    </a:lnTo>
                    <a:lnTo>
                      <a:pt x="256" y="159"/>
                    </a:lnTo>
                    <a:lnTo>
                      <a:pt x="247" y="165"/>
                    </a:lnTo>
                    <a:lnTo>
                      <a:pt x="241" y="170"/>
                    </a:lnTo>
                    <a:lnTo>
                      <a:pt x="235" y="176"/>
                    </a:lnTo>
                    <a:lnTo>
                      <a:pt x="229" y="181"/>
                    </a:lnTo>
                    <a:lnTo>
                      <a:pt x="223" y="188"/>
                    </a:lnTo>
                    <a:lnTo>
                      <a:pt x="216" y="193"/>
                    </a:lnTo>
                    <a:lnTo>
                      <a:pt x="210" y="199"/>
                    </a:lnTo>
                    <a:lnTo>
                      <a:pt x="204" y="205"/>
                    </a:lnTo>
                    <a:lnTo>
                      <a:pt x="198" y="212"/>
                    </a:lnTo>
                    <a:lnTo>
                      <a:pt x="192" y="218"/>
                    </a:lnTo>
                    <a:lnTo>
                      <a:pt x="187" y="224"/>
                    </a:lnTo>
                    <a:lnTo>
                      <a:pt x="181" y="230"/>
                    </a:lnTo>
                    <a:lnTo>
                      <a:pt x="176" y="238"/>
                    </a:lnTo>
                    <a:lnTo>
                      <a:pt x="169" y="244"/>
                    </a:lnTo>
                    <a:lnTo>
                      <a:pt x="164" y="250"/>
                    </a:lnTo>
                    <a:lnTo>
                      <a:pt x="158" y="256"/>
                    </a:lnTo>
                    <a:lnTo>
                      <a:pt x="153" y="263"/>
                    </a:lnTo>
                    <a:lnTo>
                      <a:pt x="147" y="269"/>
                    </a:lnTo>
                    <a:lnTo>
                      <a:pt x="142" y="276"/>
                    </a:lnTo>
                    <a:lnTo>
                      <a:pt x="136" y="283"/>
                    </a:lnTo>
                    <a:lnTo>
                      <a:pt x="133" y="291"/>
                    </a:lnTo>
                    <a:lnTo>
                      <a:pt x="127" y="297"/>
                    </a:lnTo>
                    <a:lnTo>
                      <a:pt x="122" y="304"/>
                    </a:lnTo>
                    <a:lnTo>
                      <a:pt x="117" y="311"/>
                    </a:lnTo>
                    <a:lnTo>
                      <a:pt x="113" y="318"/>
                    </a:lnTo>
                    <a:lnTo>
                      <a:pt x="109" y="326"/>
                    </a:lnTo>
                    <a:lnTo>
                      <a:pt x="104" y="333"/>
                    </a:lnTo>
                    <a:lnTo>
                      <a:pt x="100" y="341"/>
                    </a:lnTo>
                    <a:lnTo>
                      <a:pt x="97" y="349"/>
                    </a:lnTo>
                    <a:lnTo>
                      <a:pt x="92" y="356"/>
                    </a:lnTo>
                    <a:lnTo>
                      <a:pt x="87" y="363"/>
                    </a:lnTo>
                    <a:lnTo>
                      <a:pt x="82" y="370"/>
                    </a:lnTo>
                    <a:lnTo>
                      <a:pt x="78" y="378"/>
                    </a:lnTo>
                    <a:lnTo>
                      <a:pt x="75" y="386"/>
                    </a:lnTo>
                    <a:lnTo>
                      <a:pt x="71" y="392"/>
                    </a:lnTo>
                    <a:lnTo>
                      <a:pt x="68" y="399"/>
                    </a:lnTo>
                    <a:lnTo>
                      <a:pt x="64" y="408"/>
                    </a:lnTo>
                    <a:lnTo>
                      <a:pt x="60" y="415"/>
                    </a:lnTo>
                    <a:lnTo>
                      <a:pt x="57" y="422"/>
                    </a:lnTo>
                    <a:lnTo>
                      <a:pt x="53" y="431"/>
                    </a:lnTo>
                    <a:lnTo>
                      <a:pt x="51" y="439"/>
                    </a:lnTo>
                    <a:lnTo>
                      <a:pt x="47" y="447"/>
                    </a:lnTo>
                    <a:lnTo>
                      <a:pt x="45" y="455"/>
                    </a:lnTo>
                    <a:lnTo>
                      <a:pt x="42" y="464"/>
                    </a:lnTo>
                    <a:lnTo>
                      <a:pt x="40" y="472"/>
                    </a:lnTo>
                    <a:lnTo>
                      <a:pt x="36" y="480"/>
                    </a:lnTo>
                    <a:lnTo>
                      <a:pt x="33" y="487"/>
                    </a:lnTo>
                    <a:lnTo>
                      <a:pt x="30" y="497"/>
                    </a:lnTo>
                    <a:lnTo>
                      <a:pt x="28" y="504"/>
                    </a:lnTo>
                    <a:lnTo>
                      <a:pt x="25" y="511"/>
                    </a:lnTo>
                    <a:lnTo>
                      <a:pt x="24" y="521"/>
                    </a:lnTo>
                    <a:lnTo>
                      <a:pt x="22" y="528"/>
                    </a:lnTo>
                    <a:lnTo>
                      <a:pt x="21" y="538"/>
                    </a:lnTo>
                    <a:lnTo>
                      <a:pt x="17" y="544"/>
                    </a:lnTo>
                    <a:lnTo>
                      <a:pt x="16" y="555"/>
                    </a:lnTo>
                    <a:lnTo>
                      <a:pt x="13" y="561"/>
                    </a:lnTo>
                    <a:lnTo>
                      <a:pt x="12" y="570"/>
                    </a:lnTo>
                    <a:lnTo>
                      <a:pt x="11" y="580"/>
                    </a:lnTo>
                    <a:lnTo>
                      <a:pt x="10" y="589"/>
                    </a:lnTo>
                    <a:lnTo>
                      <a:pt x="9" y="598"/>
                    </a:lnTo>
                    <a:lnTo>
                      <a:pt x="9" y="608"/>
                    </a:lnTo>
                    <a:lnTo>
                      <a:pt x="6" y="615"/>
                    </a:lnTo>
                    <a:lnTo>
                      <a:pt x="5" y="625"/>
                    </a:lnTo>
                    <a:lnTo>
                      <a:pt x="4" y="632"/>
                    </a:lnTo>
                    <a:lnTo>
                      <a:pt x="4" y="642"/>
                    </a:lnTo>
                    <a:lnTo>
                      <a:pt x="2" y="650"/>
                    </a:lnTo>
                    <a:lnTo>
                      <a:pt x="1" y="658"/>
                    </a:lnTo>
                    <a:lnTo>
                      <a:pt x="1" y="667"/>
                    </a:lnTo>
                    <a:lnTo>
                      <a:pt x="1" y="677"/>
                    </a:lnTo>
                    <a:lnTo>
                      <a:pt x="0" y="684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10"/>
                    </a:lnTo>
                    <a:lnTo>
                      <a:pt x="0" y="718"/>
                    </a:lnTo>
                    <a:lnTo>
                      <a:pt x="1" y="727"/>
                    </a:lnTo>
                    <a:lnTo>
                      <a:pt x="1" y="736"/>
                    </a:lnTo>
                    <a:lnTo>
                      <a:pt x="2" y="745"/>
                    </a:lnTo>
                    <a:lnTo>
                      <a:pt x="2" y="753"/>
                    </a:lnTo>
                    <a:lnTo>
                      <a:pt x="2" y="761"/>
                    </a:lnTo>
                    <a:lnTo>
                      <a:pt x="4" y="769"/>
                    </a:lnTo>
                    <a:lnTo>
                      <a:pt x="5" y="778"/>
                    </a:lnTo>
                    <a:lnTo>
                      <a:pt x="5" y="784"/>
                    </a:lnTo>
                    <a:lnTo>
                      <a:pt x="6" y="795"/>
                    </a:lnTo>
                    <a:lnTo>
                      <a:pt x="7" y="801"/>
                    </a:lnTo>
                    <a:lnTo>
                      <a:pt x="10" y="812"/>
                    </a:lnTo>
                    <a:lnTo>
                      <a:pt x="10" y="818"/>
                    </a:lnTo>
                    <a:lnTo>
                      <a:pt x="12" y="829"/>
                    </a:lnTo>
                    <a:lnTo>
                      <a:pt x="13" y="836"/>
                    </a:lnTo>
                    <a:lnTo>
                      <a:pt x="16" y="845"/>
                    </a:lnTo>
                    <a:lnTo>
                      <a:pt x="17" y="853"/>
                    </a:lnTo>
                    <a:lnTo>
                      <a:pt x="19" y="862"/>
                    </a:lnTo>
                    <a:lnTo>
                      <a:pt x="21" y="870"/>
                    </a:lnTo>
                    <a:lnTo>
                      <a:pt x="24" y="879"/>
                    </a:lnTo>
                    <a:lnTo>
                      <a:pt x="25" y="886"/>
                    </a:lnTo>
                    <a:lnTo>
                      <a:pt x="28" y="895"/>
                    </a:lnTo>
                    <a:lnTo>
                      <a:pt x="30" y="902"/>
                    </a:lnTo>
                    <a:lnTo>
                      <a:pt x="33" y="911"/>
                    </a:lnTo>
                    <a:lnTo>
                      <a:pt x="35" y="918"/>
                    </a:lnTo>
                    <a:lnTo>
                      <a:pt x="37" y="926"/>
                    </a:lnTo>
                    <a:lnTo>
                      <a:pt x="41" y="935"/>
                    </a:lnTo>
                    <a:lnTo>
                      <a:pt x="45" y="943"/>
                    </a:lnTo>
                    <a:lnTo>
                      <a:pt x="47" y="950"/>
                    </a:lnTo>
                    <a:lnTo>
                      <a:pt x="51" y="959"/>
                    </a:lnTo>
                    <a:lnTo>
                      <a:pt x="53" y="966"/>
                    </a:lnTo>
                    <a:lnTo>
                      <a:pt x="57" y="974"/>
                    </a:lnTo>
                    <a:lnTo>
                      <a:pt x="60" y="982"/>
                    </a:lnTo>
                    <a:lnTo>
                      <a:pt x="64" y="990"/>
                    </a:lnTo>
                    <a:lnTo>
                      <a:pt x="68" y="999"/>
                    </a:lnTo>
                    <a:lnTo>
                      <a:pt x="72" y="1007"/>
                    </a:lnTo>
                    <a:lnTo>
                      <a:pt x="76" y="1014"/>
                    </a:lnTo>
                    <a:lnTo>
                      <a:pt x="80" y="1021"/>
                    </a:lnTo>
                    <a:lnTo>
                      <a:pt x="83" y="1029"/>
                    </a:lnTo>
                    <a:lnTo>
                      <a:pt x="87" y="1037"/>
                    </a:lnTo>
                    <a:lnTo>
                      <a:pt x="91" y="1044"/>
                    </a:lnTo>
                    <a:lnTo>
                      <a:pt x="95" y="1052"/>
                    </a:lnTo>
                    <a:lnTo>
                      <a:pt x="100" y="1059"/>
                    </a:lnTo>
                    <a:lnTo>
                      <a:pt x="105" y="1067"/>
                    </a:lnTo>
                    <a:lnTo>
                      <a:pt x="109" y="1075"/>
                    </a:lnTo>
                    <a:lnTo>
                      <a:pt x="115" y="1082"/>
                    </a:lnTo>
                    <a:lnTo>
                      <a:pt x="118" y="1089"/>
                    </a:lnTo>
                    <a:lnTo>
                      <a:pt x="124" y="1096"/>
                    </a:lnTo>
                    <a:lnTo>
                      <a:pt x="129" y="1103"/>
                    </a:lnTo>
                    <a:lnTo>
                      <a:pt x="135" y="1111"/>
                    </a:lnTo>
                    <a:lnTo>
                      <a:pt x="140" y="1118"/>
                    </a:lnTo>
                    <a:lnTo>
                      <a:pt x="146" y="1125"/>
                    </a:lnTo>
                    <a:lnTo>
                      <a:pt x="150" y="1131"/>
                    </a:lnTo>
                    <a:lnTo>
                      <a:pt x="156" y="1138"/>
                    </a:lnTo>
                    <a:lnTo>
                      <a:pt x="160" y="1144"/>
                    </a:lnTo>
                    <a:lnTo>
                      <a:pt x="167" y="1152"/>
                    </a:lnTo>
                    <a:lnTo>
                      <a:pt x="171" y="1158"/>
                    </a:lnTo>
                    <a:lnTo>
                      <a:pt x="177" y="1165"/>
                    </a:lnTo>
                    <a:lnTo>
                      <a:pt x="182" y="1171"/>
                    </a:lnTo>
                    <a:lnTo>
                      <a:pt x="189" y="1178"/>
                    </a:lnTo>
                    <a:lnTo>
                      <a:pt x="194" y="1183"/>
                    </a:lnTo>
                    <a:lnTo>
                      <a:pt x="200" y="1190"/>
                    </a:lnTo>
                    <a:lnTo>
                      <a:pt x="206" y="1195"/>
                    </a:lnTo>
                    <a:lnTo>
                      <a:pt x="214" y="1202"/>
                    </a:lnTo>
                    <a:lnTo>
                      <a:pt x="220" y="1207"/>
                    </a:lnTo>
                    <a:lnTo>
                      <a:pt x="226" y="1214"/>
                    </a:lnTo>
                    <a:lnTo>
                      <a:pt x="232" y="1219"/>
                    </a:lnTo>
                    <a:lnTo>
                      <a:pt x="239" y="1226"/>
                    </a:lnTo>
                    <a:lnTo>
                      <a:pt x="245" y="1231"/>
                    </a:lnTo>
                    <a:lnTo>
                      <a:pt x="251" y="1236"/>
                    </a:lnTo>
                    <a:lnTo>
                      <a:pt x="257" y="1241"/>
                    </a:lnTo>
                    <a:lnTo>
                      <a:pt x="264" y="1247"/>
                    </a:lnTo>
                    <a:lnTo>
                      <a:pt x="270" y="1252"/>
                    </a:lnTo>
                    <a:lnTo>
                      <a:pt x="276" y="1258"/>
                    </a:lnTo>
                    <a:lnTo>
                      <a:pt x="285" y="1263"/>
                    </a:lnTo>
                    <a:lnTo>
                      <a:pt x="292" y="1269"/>
                    </a:lnTo>
                    <a:lnTo>
                      <a:pt x="298" y="1272"/>
                    </a:lnTo>
                    <a:lnTo>
                      <a:pt x="304" y="1277"/>
                    </a:lnTo>
                    <a:lnTo>
                      <a:pt x="311" y="1282"/>
                    </a:lnTo>
                    <a:lnTo>
                      <a:pt x="318" y="1287"/>
                    </a:lnTo>
                    <a:lnTo>
                      <a:pt x="326" y="1292"/>
                    </a:lnTo>
                    <a:lnTo>
                      <a:pt x="333" y="1296"/>
                    </a:lnTo>
                    <a:lnTo>
                      <a:pt x="340" y="1301"/>
                    </a:lnTo>
                    <a:lnTo>
                      <a:pt x="349" y="1306"/>
                    </a:lnTo>
                    <a:lnTo>
                      <a:pt x="356" y="1310"/>
                    </a:lnTo>
                    <a:lnTo>
                      <a:pt x="363" y="1313"/>
                    </a:lnTo>
                    <a:lnTo>
                      <a:pt x="370" y="1317"/>
                    </a:lnTo>
                    <a:lnTo>
                      <a:pt x="378" y="1322"/>
                    </a:lnTo>
                    <a:lnTo>
                      <a:pt x="385" y="1325"/>
                    </a:lnTo>
                    <a:lnTo>
                      <a:pt x="392" y="1329"/>
                    </a:lnTo>
                    <a:lnTo>
                      <a:pt x="400" y="1333"/>
                    </a:lnTo>
                    <a:lnTo>
                      <a:pt x="409" y="1336"/>
                    </a:lnTo>
                    <a:lnTo>
                      <a:pt x="416" y="1339"/>
                    </a:lnTo>
                    <a:lnTo>
                      <a:pt x="423" y="1342"/>
                    </a:lnTo>
                    <a:lnTo>
                      <a:pt x="432" y="1346"/>
                    </a:lnTo>
                    <a:lnTo>
                      <a:pt x="440" y="1349"/>
                    </a:lnTo>
                    <a:lnTo>
                      <a:pt x="447" y="1352"/>
                    </a:lnTo>
                    <a:lnTo>
                      <a:pt x="456" y="1355"/>
                    </a:lnTo>
                    <a:lnTo>
                      <a:pt x="464" y="1359"/>
                    </a:lnTo>
                    <a:lnTo>
                      <a:pt x="473" y="1363"/>
                    </a:lnTo>
                    <a:lnTo>
                      <a:pt x="480" y="1364"/>
                    </a:lnTo>
                    <a:lnTo>
                      <a:pt x="488" y="1368"/>
                    </a:lnTo>
                    <a:lnTo>
                      <a:pt x="497" y="1369"/>
                    </a:lnTo>
                    <a:lnTo>
                      <a:pt x="505" y="1372"/>
                    </a:lnTo>
                    <a:lnTo>
                      <a:pt x="513" y="1374"/>
                    </a:lnTo>
                    <a:lnTo>
                      <a:pt x="521" y="1376"/>
                    </a:lnTo>
                    <a:lnTo>
                      <a:pt x="529" y="1378"/>
                    </a:lnTo>
                    <a:lnTo>
                      <a:pt x="538" y="1381"/>
                    </a:lnTo>
                    <a:lnTo>
                      <a:pt x="545" y="1382"/>
                    </a:lnTo>
                    <a:lnTo>
                      <a:pt x="555" y="1384"/>
                    </a:lnTo>
                    <a:lnTo>
                      <a:pt x="562" y="1386"/>
                    </a:lnTo>
                    <a:lnTo>
                      <a:pt x="572" y="1388"/>
                    </a:lnTo>
                    <a:lnTo>
                      <a:pt x="580" y="1389"/>
                    </a:lnTo>
                    <a:lnTo>
                      <a:pt x="590" y="1390"/>
                    </a:lnTo>
                    <a:lnTo>
                      <a:pt x="598" y="1392"/>
                    </a:lnTo>
                    <a:lnTo>
                      <a:pt x="608" y="1394"/>
                    </a:lnTo>
                    <a:lnTo>
                      <a:pt x="615" y="1394"/>
                    </a:lnTo>
                    <a:lnTo>
                      <a:pt x="622" y="1395"/>
                    </a:lnTo>
                    <a:lnTo>
                      <a:pt x="631" y="1395"/>
                    </a:lnTo>
                    <a:lnTo>
                      <a:pt x="639" y="1396"/>
                    </a:lnTo>
                    <a:lnTo>
                      <a:pt x="646" y="1396"/>
                    </a:lnTo>
                    <a:lnTo>
                      <a:pt x="655" y="1398"/>
                    </a:lnTo>
                    <a:lnTo>
                      <a:pt x="663" y="1398"/>
                    </a:lnTo>
                    <a:lnTo>
                      <a:pt x="672" y="1399"/>
                    </a:lnTo>
                    <a:lnTo>
                      <a:pt x="679" y="1399"/>
                    </a:lnTo>
                    <a:lnTo>
                      <a:pt x="687" y="1399"/>
                    </a:lnTo>
                    <a:lnTo>
                      <a:pt x="696" y="1399"/>
                    </a:lnTo>
                    <a:lnTo>
                      <a:pt x="704" y="1399"/>
                    </a:lnTo>
                    <a:lnTo>
                      <a:pt x="712" y="1398"/>
                    </a:lnTo>
                    <a:lnTo>
                      <a:pt x="720" y="1398"/>
                    </a:lnTo>
                    <a:lnTo>
                      <a:pt x="728" y="1398"/>
                    </a:lnTo>
                    <a:lnTo>
                      <a:pt x="737" y="1398"/>
                    </a:lnTo>
                    <a:lnTo>
                      <a:pt x="749" y="1395"/>
                    </a:lnTo>
                    <a:lnTo>
                      <a:pt x="761" y="1394"/>
                    </a:lnTo>
                    <a:lnTo>
                      <a:pt x="773" y="1393"/>
                    </a:lnTo>
                    <a:lnTo>
                      <a:pt x="786" y="1392"/>
                    </a:lnTo>
                    <a:lnTo>
                      <a:pt x="798" y="1388"/>
                    </a:lnTo>
                    <a:lnTo>
                      <a:pt x="812" y="1387"/>
                    </a:lnTo>
                    <a:lnTo>
                      <a:pt x="824" y="1383"/>
                    </a:lnTo>
                    <a:lnTo>
                      <a:pt x="837" y="1382"/>
                    </a:lnTo>
                    <a:lnTo>
                      <a:pt x="849" y="1378"/>
                    </a:lnTo>
                    <a:lnTo>
                      <a:pt x="861" y="1375"/>
                    </a:lnTo>
                    <a:lnTo>
                      <a:pt x="873" y="1371"/>
                    </a:lnTo>
                    <a:lnTo>
                      <a:pt x="886" y="1369"/>
                    </a:lnTo>
                    <a:lnTo>
                      <a:pt x="898" y="1364"/>
                    </a:lnTo>
                    <a:lnTo>
                      <a:pt x="912" y="1360"/>
                    </a:lnTo>
                    <a:lnTo>
                      <a:pt x="924" y="1355"/>
                    </a:lnTo>
                    <a:lnTo>
                      <a:pt x="937" y="1352"/>
                    </a:lnTo>
                    <a:lnTo>
                      <a:pt x="948" y="1346"/>
                    </a:lnTo>
                    <a:lnTo>
                      <a:pt x="960" y="1341"/>
                    </a:lnTo>
                    <a:lnTo>
                      <a:pt x="972" y="1335"/>
                    </a:lnTo>
                    <a:lnTo>
                      <a:pt x="984" y="1330"/>
                    </a:lnTo>
                    <a:lnTo>
                      <a:pt x="995" y="1324"/>
                    </a:lnTo>
                    <a:lnTo>
                      <a:pt x="1007" y="1318"/>
                    </a:lnTo>
                    <a:lnTo>
                      <a:pt x="1019" y="1312"/>
                    </a:lnTo>
                    <a:lnTo>
                      <a:pt x="1031" y="1307"/>
                    </a:lnTo>
                    <a:lnTo>
                      <a:pt x="1042" y="1300"/>
                    </a:lnTo>
                    <a:lnTo>
                      <a:pt x="1053" y="1294"/>
                    </a:lnTo>
                    <a:lnTo>
                      <a:pt x="1064" y="1287"/>
                    </a:lnTo>
                    <a:lnTo>
                      <a:pt x="1076" y="1281"/>
                    </a:lnTo>
                    <a:lnTo>
                      <a:pt x="1087" y="1273"/>
                    </a:lnTo>
                    <a:lnTo>
                      <a:pt x="1097" y="1266"/>
                    </a:lnTo>
                    <a:lnTo>
                      <a:pt x="1108" y="1259"/>
                    </a:lnTo>
                    <a:lnTo>
                      <a:pt x="1119" y="1252"/>
                    </a:lnTo>
                    <a:lnTo>
                      <a:pt x="1129" y="1242"/>
                    </a:lnTo>
                    <a:lnTo>
                      <a:pt x="1138" y="1235"/>
                    </a:lnTo>
                    <a:lnTo>
                      <a:pt x="1148" y="1225"/>
                    </a:lnTo>
                    <a:lnTo>
                      <a:pt x="1159" y="1218"/>
                    </a:lnTo>
                    <a:lnTo>
                      <a:pt x="1169" y="1208"/>
                    </a:lnTo>
                    <a:lnTo>
                      <a:pt x="1178" y="1200"/>
                    </a:lnTo>
                    <a:lnTo>
                      <a:pt x="1188" y="1191"/>
                    </a:lnTo>
                    <a:lnTo>
                      <a:pt x="1198" y="1183"/>
                    </a:lnTo>
                    <a:lnTo>
                      <a:pt x="1206" y="1173"/>
                    </a:lnTo>
                    <a:lnTo>
                      <a:pt x="1216" y="1164"/>
                    </a:lnTo>
                    <a:lnTo>
                      <a:pt x="1224" y="1154"/>
                    </a:lnTo>
                    <a:lnTo>
                      <a:pt x="1234" y="1144"/>
                    </a:lnTo>
                    <a:lnTo>
                      <a:pt x="1241" y="1135"/>
                    </a:lnTo>
                    <a:lnTo>
                      <a:pt x="1249" y="1125"/>
                    </a:lnTo>
                    <a:lnTo>
                      <a:pt x="1258" y="1116"/>
                    </a:lnTo>
                    <a:lnTo>
                      <a:pt x="1266" y="1106"/>
                    </a:lnTo>
                    <a:lnTo>
                      <a:pt x="1274" y="1095"/>
                    </a:lnTo>
                    <a:lnTo>
                      <a:pt x="1281" y="1084"/>
                    </a:lnTo>
                    <a:lnTo>
                      <a:pt x="1288" y="1073"/>
                    </a:lnTo>
                    <a:lnTo>
                      <a:pt x="1295" y="1062"/>
                    </a:lnTo>
                    <a:lnTo>
                      <a:pt x="1301" y="1052"/>
                    </a:lnTo>
                    <a:lnTo>
                      <a:pt x="1308" y="1041"/>
                    </a:lnTo>
                    <a:lnTo>
                      <a:pt x="1315" y="1030"/>
                    </a:lnTo>
                    <a:lnTo>
                      <a:pt x="1322" y="1019"/>
                    </a:lnTo>
                    <a:lnTo>
                      <a:pt x="1327" y="1007"/>
                    </a:lnTo>
                    <a:lnTo>
                      <a:pt x="1333" y="995"/>
                    </a:lnTo>
                    <a:lnTo>
                      <a:pt x="1339" y="983"/>
                    </a:lnTo>
                    <a:lnTo>
                      <a:pt x="1345" y="972"/>
                    </a:lnTo>
                    <a:lnTo>
                      <a:pt x="1348" y="960"/>
                    </a:lnTo>
                    <a:lnTo>
                      <a:pt x="1354" y="948"/>
                    </a:lnTo>
                    <a:lnTo>
                      <a:pt x="1358" y="936"/>
                    </a:lnTo>
                    <a:lnTo>
                      <a:pt x="1364" y="925"/>
                    </a:lnTo>
                    <a:lnTo>
                      <a:pt x="1278" y="979"/>
                    </a:lnTo>
                    <a:lnTo>
                      <a:pt x="1272" y="988"/>
                    </a:lnTo>
                    <a:lnTo>
                      <a:pt x="1267" y="996"/>
                    </a:lnTo>
                    <a:lnTo>
                      <a:pt x="1261" y="1005"/>
                    </a:lnTo>
                    <a:lnTo>
                      <a:pt x="1257" y="1014"/>
                    </a:lnTo>
                    <a:lnTo>
                      <a:pt x="1251" y="1021"/>
                    </a:lnTo>
                    <a:lnTo>
                      <a:pt x="1246" y="1031"/>
                    </a:lnTo>
                    <a:lnTo>
                      <a:pt x="1240" y="1038"/>
                    </a:lnTo>
                    <a:lnTo>
                      <a:pt x="1235" y="1048"/>
                    </a:lnTo>
                    <a:lnTo>
                      <a:pt x="1229" y="1055"/>
                    </a:lnTo>
                    <a:lnTo>
                      <a:pt x="1223" y="1064"/>
                    </a:lnTo>
                    <a:lnTo>
                      <a:pt x="1217" y="1072"/>
                    </a:lnTo>
                    <a:lnTo>
                      <a:pt x="1211" y="1081"/>
                    </a:lnTo>
                    <a:lnTo>
                      <a:pt x="1204" y="1088"/>
                    </a:lnTo>
                    <a:lnTo>
                      <a:pt x="1198" y="1096"/>
                    </a:lnTo>
                    <a:lnTo>
                      <a:pt x="1192" y="1105"/>
                    </a:lnTo>
                    <a:lnTo>
                      <a:pt x="1185" y="1113"/>
                    </a:lnTo>
                    <a:lnTo>
                      <a:pt x="1178" y="1119"/>
                    </a:lnTo>
                    <a:lnTo>
                      <a:pt x="1171" y="1126"/>
                    </a:lnTo>
                    <a:lnTo>
                      <a:pt x="1164" y="1134"/>
                    </a:lnTo>
                    <a:lnTo>
                      <a:pt x="1157" y="1141"/>
                    </a:lnTo>
                    <a:lnTo>
                      <a:pt x="1148" y="1148"/>
                    </a:lnTo>
                    <a:lnTo>
                      <a:pt x="1141" y="1155"/>
                    </a:lnTo>
                    <a:lnTo>
                      <a:pt x="1134" y="1163"/>
                    </a:lnTo>
                    <a:lnTo>
                      <a:pt x="1126" y="1170"/>
                    </a:lnTo>
                    <a:lnTo>
                      <a:pt x="1118" y="1176"/>
                    </a:lnTo>
                    <a:lnTo>
                      <a:pt x="1110" y="1183"/>
                    </a:lnTo>
                    <a:lnTo>
                      <a:pt x="1101" y="1189"/>
                    </a:lnTo>
                    <a:lnTo>
                      <a:pt x="1094" y="1196"/>
                    </a:lnTo>
                    <a:lnTo>
                      <a:pt x="1085" y="1202"/>
                    </a:lnTo>
                    <a:lnTo>
                      <a:pt x="1078" y="1208"/>
                    </a:lnTo>
                    <a:lnTo>
                      <a:pt x="1070" y="1214"/>
                    </a:lnTo>
                    <a:lnTo>
                      <a:pt x="1062" y="1222"/>
                    </a:lnTo>
                    <a:lnTo>
                      <a:pt x="1053" y="1226"/>
                    </a:lnTo>
                    <a:lnTo>
                      <a:pt x="1044" y="1232"/>
                    </a:lnTo>
                    <a:lnTo>
                      <a:pt x="1035" y="1237"/>
                    </a:lnTo>
                    <a:lnTo>
                      <a:pt x="1026" y="1243"/>
                    </a:lnTo>
                    <a:lnTo>
                      <a:pt x="1017" y="1248"/>
                    </a:lnTo>
                    <a:lnTo>
                      <a:pt x="1008" y="1253"/>
                    </a:lnTo>
                    <a:lnTo>
                      <a:pt x="1000" y="1258"/>
                    </a:lnTo>
                    <a:lnTo>
                      <a:pt x="991" y="1264"/>
                    </a:lnTo>
                    <a:lnTo>
                      <a:pt x="980" y="1267"/>
                    </a:lnTo>
                    <a:lnTo>
                      <a:pt x="972" y="1272"/>
                    </a:lnTo>
                    <a:lnTo>
                      <a:pt x="962" y="1276"/>
                    </a:lnTo>
                    <a:lnTo>
                      <a:pt x="954" y="1281"/>
                    </a:lnTo>
                    <a:lnTo>
                      <a:pt x="943" y="1284"/>
                    </a:lnTo>
                    <a:lnTo>
                      <a:pt x="935" y="1289"/>
                    </a:lnTo>
                    <a:lnTo>
                      <a:pt x="925" y="1293"/>
                    </a:lnTo>
                    <a:lnTo>
                      <a:pt x="917" y="1298"/>
                    </a:lnTo>
                    <a:lnTo>
                      <a:pt x="906" y="1300"/>
                    </a:lnTo>
                    <a:lnTo>
                      <a:pt x="896" y="1304"/>
                    </a:lnTo>
                    <a:lnTo>
                      <a:pt x="886" y="1307"/>
                    </a:lnTo>
                    <a:lnTo>
                      <a:pt x="877" y="1311"/>
                    </a:lnTo>
                    <a:lnTo>
                      <a:pt x="866" y="1313"/>
                    </a:lnTo>
                    <a:lnTo>
                      <a:pt x="856" y="1317"/>
                    </a:lnTo>
                    <a:lnTo>
                      <a:pt x="847" y="1319"/>
                    </a:lnTo>
                    <a:lnTo>
                      <a:pt x="837" y="1323"/>
                    </a:lnTo>
                    <a:lnTo>
                      <a:pt x="826" y="1324"/>
                    </a:lnTo>
                    <a:lnTo>
                      <a:pt x="816" y="1327"/>
                    </a:lnTo>
                    <a:lnTo>
                      <a:pt x="807" y="1329"/>
                    </a:lnTo>
                    <a:lnTo>
                      <a:pt x="797" y="1331"/>
                    </a:lnTo>
                    <a:lnTo>
                      <a:pt x="788" y="1333"/>
                    </a:lnTo>
                    <a:lnTo>
                      <a:pt x="778" y="1335"/>
                    </a:lnTo>
                    <a:lnTo>
                      <a:pt x="768" y="1336"/>
                    </a:lnTo>
                    <a:lnTo>
                      <a:pt x="759" y="1339"/>
                    </a:lnTo>
                    <a:lnTo>
                      <a:pt x="749" y="1339"/>
                    </a:lnTo>
                    <a:lnTo>
                      <a:pt x="741" y="1340"/>
                    </a:lnTo>
                    <a:lnTo>
                      <a:pt x="731" y="1340"/>
                    </a:lnTo>
                    <a:lnTo>
                      <a:pt x="722" y="1341"/>
                    </a:lnTo>
                    <a:lnTo>
                      <a:pt x="713" y="1341"/>
                    </a:lnTo>
                    <a:lnTo>
                      <a:pt x="704" y="1341"/>
                    </a:lnTo>
                    <a:lnTo>
                      <a:pt x="695" y="1341"/>
                    </a:lnTo>
                    <a:lnTo>
                      <a:pt x="686" y="1342"/>
                    </a:lnTo>
                    <a:lnTo>
                      <a:pt x="677" y="1341"/>
                    </a:lnTo>
                    <a:lnTo>
                      <a:pt x="668" y="1341"/>
                    </a:lnTo>
                    <a:lnTo>
                      <a:pt x="659" y="1341"/>
                    </a:lnTo>
                    <a:lnTo>
                      <a:pt x="650" y="1341"/>
                    </a:lnTo>
                    <a:lnTo>
                      <a:pt x="640" y="1340"/>
                    </a:lnTo>
                    <a:lnTo>
                      <a:pt x="632" y="1339"/>
                    </a:lnTo>
                    <a:lnTo>
                      <a:pt x="624" y="1337"/>
                    </a:lnTo>
                    <a:lnTo>
                      <a:pt x="615" y="1337"/>
                    </a:lnTo>
                    <a:lnTo>
                      <a:pt x="607" y="1335"/>
                    </a:lnTo>
                    <a:lnTo>
                      <a:pt x="598" y="1334"/>
                    </a:lnTo>
                    <a:lnTo>
                      <a:pt x="590" y="1333"/>
                    </a:lnTo>
                    <a:lnTo>
                      <a:pt x="583" y="1331"/>
                    </a:lnTo>
                    <a:lnTo>
                      <a:pt x="574" y="1329"/>
                    </a:lnTo>
                    <a:lnTo>
                      <a:pt x="566" y="1328"/>
                    </a:lnTo>
                    <a:lnTo>
                      <a:pt x="558" y="1325"/>
                    </a:lnTo>
                    <a:lnTo>
                      <a:pt x="551" y="1324"/>
                    </a:lnTo>
                    <a:lnTo>
                      <a:pt x="543" y="1322"/>
                    </a:lnTo>
                    <a:lnTo>
                      <a:pt x="536" y="1319"/>
                    </a:lnTo>
                    <a:lnTo>
                      <a:pt x="527" y="1317"/>
                    </a:lnTo>
                    <a:lnTo>
                      <a:pt x="520" y="1316"/>
                    </a:lnTo>
                    <a:lnTo>
                      <a:pt x="513" y="1313"/>
                    </a:lnTo>
                    <a:lnTo>
                      <a:pt x="505" y="1311"/>
                    </a:lnTo>
                    <a:lnTo>
                      <a:pt x="498" y="1308"/>
                    </a:lnTo>
                    <a:lnTo>
                      <a:pt x="491" y="1307"/>
                    </a:lnTo>
                    <a:lnTo>
                      <a:pt x="482" y="1304"/>
                    </a:lnTo>
                    <a:lnTo>
                      <a:pt x="475" y="1301"/>
                    </a:lnTo>
                    <a:lnTo>
                      <a:pt x="468" y="1298"/>
                    </a:lnTo>
                    <a:lnTo>
                      <a:pt x="461" y="1295"/>
                    </a:lnTo>
                    <a:lnTo>
                      <a:pt x="454" y="1292"/>
                    </a:lnTo>
                    <a:lnTo>
                      <a:pt x="446" y="1289"/>
                    </a:lnTo>
                    <a:lnTo>
                      <a:pt x="439" y="1286"/>
                    </a:lnTo>
                    <a:lnTo>
                      <a:pt x="432" y="1283"/>
                    </a:lnTo>
                    <a:lnTo>
                      <a:pt x="425" y="1280"/>
                    </a:lnTo>
                    <a:lnTo>
                      <a:pt x="417" y="1276"/>
                    </a:lnTo>
                    <a:lnTo>
                      <a:pt x="410" y="1272"/>
                    </a:lnTo>
                    <a:lnTo>
                      <a:pt x="404" y="1269"/>
                    </a:lnTo>
                    <a:lnTo>
                      <a:pt x="397" y="1265"/>
                    </a:lnTo>
                    <a:lnTo>
                      <a:pt x="391" y="1261"/>
                    </a:lnTo>
                    <a:lnTo>
                      <a:pt x="384" y="1258"/>
                    </a:lnTo>
                    <a:lnTo>
                      <a:pt x="378" y="1255"/>
                    </a:lnTo>
                    <a:lnTo>
                      <a:pt x="370" y="1251"/>
                    </a:lnTo>
                    <a:lnTo>
                      <a:pt x="363" y="1247"/>
                    </a:lnTo>
                    <a:lnTo>
                      <a:pt x="356" y="1242"/>
                    </a:lnTo>
                    <a:lnTo>
                      <a:pt x="350" y="1239"/>
                    </a:lnTo>
                    <a:lnTo>
                      <a:pt x="343" y="1234"/>
                    </a:lnTo>
                    <a:lnTo>
                      <a:pt x="337" y="1229"/>
                    </a:lnTo>
                    <a:lnTo>
                      <a:pt x="331" y="1224"/>
                    </a:lnTo>
                    <a:lnTo>
                      <a:pt x="324" y="1220"/>
                    </a:lnTo>
                    <a:lnTo>
                      <a:pt x="317" y="1214"/>
                    </a:lnTo>
                    <a:lnTo>
                      <a:pt x="311" y="1211"/>
                    </a:lnTo>
                    <a:lnTo>
                      <a:pt x="305" y="1205"/>
                    </a:lnTo>
                    <a:lnTo>
                      <a:pt x="299" y="1201"/>
                    </a:lnTo>
                    <a:lnTo>
                      <a:pt x="293" y="1195"/>
                    </a:lnTo>
                    <a:lnTo>
                      <a:pt x="287" y="1191"/>
                    </a:lnTo>
                    <a:lnTo>
                      <a:pt x="281" y="1185"/>
                    </a:lnTo>
                    <a:lnTo>
                      <a:pt x="276" y="1182"/>
                    </a:lnTo>
                    <a:lnTo>
                      <a:pt x="270" y="1176"/>
                    </a:lnTo>
                    <a:lnTo>
                      <a:pt x="264" y="1170"/>
                    </a:lnTo>
                    <a:lnTo>
                      <a:pt x="258" y="1164"/>
                    </a:lnTo>
                    <a:lnTo>
                      <a:pt x="253" y="1159"/>
                    </a:lnTo>
                    <a:lnTo>
                      <a:pt x="247" y="1153"/>
                    </a:lnTo>
                    <a:lnTo>
                      <a:pt x="241" y="1148"/>
                    </a:lnTo>
                    <a:lnTo>
                      <a:pt x="236" y="1142"/>
                    </a:lnTo>
                    <a:lnTo>
                      <a:pt x="232" y="1137"/>
                    </a:lnTo>
                    <a:lnTo>
                      <a:pt x="226" y="1131"/>
                    </a:lnTo>
                    <a:lnTo>
                      <a:pt x="221" y="1125"/>
                    </a:lnTo>
                    <a:lnTo>
                      <a:pt x="215" y="1119"/>
                    </a:lnTo>
                    <a:lnTo>
                      <a:pt x="210" y="1114"/>
                    </a:lnTo>
                    <a:lnTo>
                      <a:pt x="205" y="1107"/>
                    </a:lnTo>
                    <a:lnTo>
                      <a:pt x="200" y="1102"/>
                    </a:lnTo>
                    <a:lnTo>
                      <a:pt x="195" y="1095"/>
                    </a:lnTo>
                    <a:lnTo>
                      <a:pt x="192" y="1090"/>
                    </a:lnTo>
                    <a:lnTo>
                      <a:pt x="186" y="1083"/>
                    </a:lnTo>
                    <a:lnTo>
                      <a:pt x="181" y="1076"/>
                    </a:lnTo>
                    <a:lnTo>
                      <a:pt x="176" y="1068"/>
                    </a:lnTo>
                    <a:lnTo>
                      <a:pt x="171" y="1062"/>
                    </a:lnTo>
                    <a:lnTo>
                      <a:pt x="167" y="1055"/>
                    </a:lnTo>
                    <a:lnTo>
                      <a:pt x="162" y="1049"/>
                    </a:lnTo>
                    <a:lnTo>
                      <a:pt x="158" y="1042"/>
                    </a:lnTo>
                    <a:lnTo>
                      <a:pt x="154" y="1036"/>
                    </a:lnTo>
                    <a:lnTo>
                      <a:pt x="150" y="1029"/>
                    </a:lnTo>
                    <a:lnTo>
                      <a:pt x="145" y="1021"/>
                    </a:lnTo>
                    <a:lnTo>
                      <a:pt x="141" y="1014"/>
                    </a:lnTo>
                    <a:lnTo>
                      <a:pt x="138" y="1008"/>
                    </a:lnTo>
                    <a:lnTo>
                      <a:pt x="134" y="1001"/>
                    </a:lnTo>
                    <a:lnTo>
                      <a:pt x="130" y="995"/>
                    </a:lnTo>
                    <a:lnTo>
                      <a:pt x="127" y="988"/>
                    </a:lnTo>
                    <a:lnTo>
                      <a:pt x="123" y="982"/>
                    </a:lnTo>
                    <a:lnTo>
                      <a:pt x="119" y="974"/>
                    </a:lnTo>
                    <a:lnTo>
                      <a:pt x="116" y="967"/>
                    </a:lnTo>
                    <a:lnTo>
                      <a:pt x="112" y="960"/>
                    </a:lnTo>
                    <a:lnTo>
                      <a:pt x="109" y="953"/>
                    </a:lnTo>
                    <a:lnTo>
                      <a:pt x="105" y="945"/>
                    </a:lnTo>
                    <a:lnTo>
                      <a:pt x="103" y="938"/>
                    </a:lnTo>
                    <a:lnTo>
                      <a:pt x="100" y="931"/>
                    </a:lnTo>
                    <a:lnTo>
                      <a:pt x="98" y="924"/>
                    </a:lnTo>
                    <a:lnTo>
                      <a:pt x="94" y="915"/>
                    </a:lnTo>
                    <a:lnTo>
                      <a:pt x="92" y="908"/>
                    </a:lnTo>
                    <a:lnTo>
                      <a:pt x="89" y="901"/>
                    </a:lnTo>
                    <a:lnTo>
                      <a:pt x="87" y="894"/>
                    </a:lnTo>
                    <a:lnTo>
                      <a:pt x="84" y="886"/>
                    </a:lnTo>
                    <a:lnTo>
                      <a:pt x="83" y="879"/>
                    </a:lnTo>
                    <a:lnTo>
                      <a:pt x="81" y="872"/>
                    </a:lnTo>
                    <a:lnTo>
                      <a:pt x="80" y="865"/>
                    </a:lnTo>
                    <a:lnTo>
                      <a:pt x="76" y="856"/>
                    </a:lnTo>
                    <a:lnTo>
                      <a:pt x="75" y="849"/>
                    </a:lnTo>
                    <a:lnTo>
                      <a:pt x="72" y="841"/>
                    </a:lnTo>
                    <a:lnTo>
                      <a:pt x="71" y="833"/>
                    </a:lnTo>
                    <a:lnTo>
                      <a:pt x="69" y="825"/>
                    </a:lnTo>
                    <a:lnTo>
                      <a:pt x="69" y="818"/>
                    </a:lnTo>
                    <a:lnTo>
                      <a:pt x="66" y="809"/>
                    </a:lnTo>
                    <a:lnTo>
                      <a:pt x="66" y="801"/>
                    </a:lnTo>
                    <a:lnTo>
                      <a:pt x="64" y="794"/>
                    </a:lnTo>
                    <a:lnTo>
                      <a:pt x="63" y="786"/>
                    </a:lnTo>
                    <a:lnTo>
                      <a:pt x="62" y="778"/>
                    </a:lnTo>
                    <a:lnTo>
                      <a:pt x="62" y="771"/>
                    </a:lnTo>
                    <a:lnTo>
                      <a:pt x="60" y="762"/>
                    </a:lnTo>
                    <a:lnTo>
                      <a:pt x="59" y="755"/>
                    </a:lnTo>
                    <a:lnTo>
                      <a:pt x="59" y="748"/>
                    </a:lnTo>
                    <a:lnTo>
                      <a:pt x="59" y="739"/>
                    </a:lnTo>
                    <a:lnTo>
                      <a:pt x="58" y="732"/>
                    </a:lnTo>
                    <a:lnTo>
                      <a:pt x="58" y="722"/>
                    </a:lnTo>
                    <a:lnTo>
                      <a:pt x="58" y="716"/>
                    </a:lnTo>
                    <a:lnTo>
                      <a:pt x="58" y="709"/>
                    </a:lnTo>
                    <a:lnTo>
                      <a:pt x="58" y="701"/>
                    </a:lnTo>
                    <a:lnTo>
                      <a:pt x="58" y="692"/>
                    </a:lnTo>
                    <a:lnTo>
                      <a:pt x="58" y="684"/>
                    </a:lnTo>
                    <a:lnTo>
                      <a:pt x="58" y="678"/>
                    </a:lnTo>
                    <a:lnTo>
                      <a:pt x="58" y="669"/>
                    </a:lnTo>
                    <a:lnTo>
                      <a:pt x="58" y="661"/>
                    </a:lnTo>
                    <a:lnTo>
                      <a:pt x="59" y="654"/>
                    </a:lnTo>
                    <a:lnTo>
                      <a:pt x="60" y="645"/>
                    </a:lnTo>
                    <a:lnTo>
                      <a:pt x="60" y="638"/>
                    </a:lnTo>
                    <a:lnTo>
                      <a:pt x="62" y="628"/>
                    </a:lnTo>
                    <a:lnTo>
                      <a:pt x="63" y="621"/>
                    </a:lnTo>
                    <a:lnTo>
                      <a:pt x="65" y="615"/>
                    </a:lnTo>
                    <a:lnTo>
                      <a:pt x="65" y="605"/>
                    </a:lnTo>
                    <a:lnTo>
                      <a:pt x="66" y="598"/>
                    </a:lnTo>
                    <a:lnTo>
                      <a:pt x="68" y="589"/>
                    </a:lnTo>
                    <a:lnTo>
                      <a:pt x="69" y="583"/>
                    </a:lnTo>
                    <a:lnTo>
                      <a:pt x="70" y="573"/>
                    </a:lnTo>
                    <a:lnTo>
                      <a:pt x="71" y="566"/>
                    </a:lnTo>
                    <a:lnTo>
                      <a:pt x="72" y="558"/>
                    </a:lnTo>
                    <a:lnTo>
                      <a:pt x="75" y="550"/>
                    </a:lnTo>
                    <a:lnTo>
                      <a:pt x="76" y="543"/>
                    </a:lnTo>
                    <a:lnTo>
                      <a:pt x="78" y="536"/>
                    </a:lnTo>
                    <a:lnTo>
                      <a:pt x="80" y="526"/>
                    </a:lnTo>
                    <a:lnTo>
                      <a:pt x="82" y="520"/>
                    </a:lnTo>
                    <a:lnTo>
                      <a:pt x="84" y="511"/>
                    </a:lnTo>
                    <a:lnTo>
                      <a:pt x="87" y="504"/>
                    </a:lnTo>
                    <a:lnTo>
                      <a:pt x="89" y="498"/>
                    </a:lnTo>
                    <a:lnTo>
                      <a:pt x="93" y="491"/>
                    </a:lnTo>
                    <a:lnTo>
                      <a:pt x="95" y="482"/>
                    </a:lnTo>
                    <a:lnTo>
                      <a:pt x="98" y="475"/>
                    </a:lnTo>
                    <a:lnTo>
                      <a:pt x="100" y="469"/>
                    </a:lnTo>
                    <a:lnTo>
                      <a:pt x="104" y="461"/>
                    </a:lnTo>
                    <a:lnTo>
                      <a:pt x="106" y="454"/>
                    </a:lnTo>
                    <a:lnTo>
                      <a:pt x="109" y="447"/>
                    </a:lnTo>
                    <a:lnTo>
                      <a:pt x="112" y="439"/>
                    </a:lnTo>
                    <a:lnTo>
                      <a:pt x="116" y="432"/>
                    </a:lnTo>
                    <a:lnTo>
                      <a:pt x="119" y="425"/>
                    </a:lnTo>
                    <a:lnTo>
                      <a:pt x="123" y="419"/>
                    </a:lnTo>
                    <a:lnTo>
                      <a:pt x="127" y="410"/>
                    </a:lnTo>
                    <a:lnTo>
                      <a:pt x="130" y="403"/>
                    </a:lnTo>
                    <a:lnTo>
                      <a:pt x="134" y="397"/>
                    </a:lnTo>
                    <a:lnTo>
                      <a:pt x="138" y="391"/>
                    </a:lnTo>
                    <a:lnTo>
                      <a:pt x="141" y="384"/>
                    </a:lnTo>
                    <a:lnTo>
                      <a:pt x="146" y="378"/>
                    </a:lnTo>
                    <a:lnTo>
                      <a:pt x="150" y="370"/>
                    </a:lnTo>
                    <a:lnTo>
                      <a:pt x="153" y="363"/>
                    </a:lnTo>
                    <a:lnTo>
                      <a:pt x="157" y="356"/>
                    </a:lnTo>
                    <a:lnTo>
                      <a:pt x="160" y="350"/>
                    </a:lnTo>
                    <a:lnTo>
                      <a:pt x="164" y="343"/>
                    </a:lnTo>
                    <a:lnTo>
                      <a:pt x="169" y="337"/>
                    </a:lnTo>
                    <a:lnTo>
                      <a:pt x="174" y="331"/>
                    </a:lnTo>
                    <a:lnTo>
                      <a:pt x="179" y="324"/>
                    </a:lnTo>
                    <a:lnTo>
                      <a:pt x="182" y="318"/>
                    </a:lnTo>
                    <a:lnTo>
                      <a:pt x="187" y="310"/>
                    </a:lnTo>
                    <a:lnTo>
                      <a:pt x="192" y="304"/>
                    </a:lnTo>
                    <a:lnTo>
                      <a:pt x="197" y="298"/>
                    </a:lnTo>
                    <a:lnTo>
                      <a:pt x="201" y="292"/>
                    </a:lnTo>
                    <a:lnTo>
                      <a:pt x="208" y="286"/>
                    </a:lnTo>
                    <a:lnTo>
                      <a:pt x="212" y="280"/>
                    </a:lnTo>
                    <a:lnTo>
                      <a:pt x="218" y="275"/>
                    </a:lnTo>
                    <a:lnTo>
                      <a:pt x="222" y="268"/>
                    </a:lnTo>
                    <a:lnTo>
                      <a:pt x="228" y="263"/>
                    </a:lnTo>
                    <a:lnTo>
                      <a:pt x="233" y="256"/>
                    </a:lnTo>
                    <a:lnTo>
                      <a:pt x="239" y="251"/>
                    </a:lnTo>
                    <a:lnTo>
                      <a:pt x="244" y="246"/>
                    </a:lnTo>
                    <a:lnTo>
                      <a:pt x="250" y="240"/>
                    </a:lnTo>
                    <a:lnTo>
                      <a:pt x="253" y="234"/>
                    </a:lnTo>
                    <a:lnTo>
                      <a:pt x="262" y="229"/>
                    </a:lnTo>
                    <a:lnTo>
                      <a:pt x="265" y="223"/>
                    </a:lnTo>
                    <a:lnTo>
                      <a:pt x="271" y="218"/>
                    </a:lnTo>
                    <a:lnTo>
                      <a:pt x="279" y="212"/>
                    </a:lnTo>
                    <a:lnTo>
                      <a:pt x="286" y="208"/>
                    </a:lnTo>
                    <a:lnTo>
                      <a:pt x="292" y="203"/>
                    </a:lnTo>
                    <a:lnTo>
                      <a:pt x="298" y="198"/>
                    </a:lnTo>
                    <a:lnTo>
                      <a:pt x="304" y="193"/>
                    </a:lnTo>
                    <a:lnTo>
                      <a:pt x="311" y="189"/>
                    </a:lnTo>
                    <a:lnTo>
                      <a:pt x="317" y="183"/>
                    </a:lnTo>
                    <a:lnTo>
                      <a:pt x="323" y="179"/>
                    </a:lnTo>
                    <a:lnTo>
                      <a:pt x="329" y="174"/>
                    </a:lnTo>
                    <a:lnTo>
                      <a:pt x="337" y="170"/>
                    </a:lnTo>
                    <a:lnTo>
                      <a:pt x="343" y="165"/>
                    </a:lnTo>
                    <a:lnTo>
                      <a:pt x="349" y="160"/>
                    </a:lnTo>
                    <a:lnTo>
                      <a:pt x="355" y="156"/>
                    </a:lnTo>
                    <a:lnTo>
                      <a:pt x="362" y="152"/>
                    </a:lnTo>
                    <a:lnTo>
                      <a:pt x="368" y="147"/>
                    </a:lnTo>
                    <a:lnTo>
                      <a:pt x="375" y="144"/>
                    </a:lnTo>
                    <a:lnTo>
                      <a:pt x="381" y="140"/>
                    </a:lnTo>
                    <a:lnTo>
                      <a:pt x="388" y="136"/>
                    </a:lnTo>
                    <a:lnTo>
                      <a:pt x="396" y="133"/>
                    </a:lnTo>
                    <a:lnTo>
                      <a:pt x="403" y="129"/>
                    </a:lnTo>
                    <a:lnTo>
                      <a:pt x="410" y="126"/>
                    </a:lnTo>
                    <a:lnTo>
                      <a:pt x="417" y="122"/>
                    </a:lnTo>
                    <a:lnTo>
                      <a:pt x="425" y="118"/>
                    </a:lnTo>
                    <a:lnTo>
                      <a:pt x="432" y="115"/>
                    </a:lnTo>
                    <a:lnTo>
                      <a:pt x="439" y="111"/>
                    </a:lnTo>
                    <a:lnTo>
                      <a:pt x="446" y="107"/>
                    </a:lnTo>
                    <a:lnTo>
                      <a:pt x="454" y="104"/>
                    </a:lnTo>
                    <a:lnTo>
                      <a:pt x="461" y="101"/>
                    </a:lnTo>
                    <a:lnTo>
                      <a:pt x="468" y="99"/>
                    </a:lnTo>
                    <a:lnTo>
                      <a:pt x="475" y="97"/>
                    </a:lnTo>
                    <a:lnTo>
                      <a:pt x="482" y="93"/>
                    </a:lnTo>
                    <a:lnTo>
                      <a:pt x="490" y="91"/>
                    </a:lnTo>
                    <a:lnTo>
                      <a:pt x="497" y="88"/>
                    </a:lnTo>
                    <a:lnTo>
                      <a:pt x="504" y="86"/>
                    </a:lnTo>
                    <a:lnTo>
                      <a:pt x="511" y="83"/>
                    </a:lnTo>
                    <a:lnTo>
                      <a:pt x="520" y="82"/>
                    </a:lnTo>
                    <a:lnTo>
                      <a:pt x="527" y="80"/>
                    </a:lnTo>
                    <a:lnTo>
                      <a:pt x="536" y="78"/>
                    </a:lnTo>
                    <a:lnTo>
                      <a:pt x="543" y="75"/>
                    </a:lnTo>
                    <a:lnTo>
                      <a:pt x="550" y="74"/>
                    </a:lnTo>
                    <a:lnTo>
                      <a:pt x="557" y="71"/>
                    </a:lnTo>
                    <a:lnTo>
                      <a:pt x="564" y="70"/>
                    </a:lnTo>
                    <a:lnTo>
                      <a:pt x="572" y="68"/>
                    </a:lnTo>
                    <a:lnTo>
                      <a:pt x="580" y="68"/>
                    </a:lnTo>
                    <a:lnTo>
                      <a:pt x="587" y="65"/>
                    </a:lnTo>
                    <a:lnTo>
                      <a:pt x="596" y="65"/>
                    </a:lnTo>
                    <a:lnTo>
                      <a:pt x="603" y="63"/>
                    </a:lnTo>
                    <a:lnTo>
                      <a:pt x="610" y="62"/>
                    </a:lnTo>
                    <a:lnTo>
                      <a:pt x="618" y="60"/>
                    </a:lnTo>
                    <a:lnTo>
                      <a:pt x="626" y="60"/>
                    </a:lnTo>
                    <a:lnTo>
                      <a:pt x="633" y="59"/>
                    </a:lnTo>
                    <a:lnTo>
                      <a:pt x="642" y="58"/>
                    </a:lnTo>
                    <a:lnTo>
                      <a:pt x="650" y="58"/>
                    </a:lnTo>
                    <a:lnTo>
                      <a:pt x="659" y="58"/>
                    </a:lnTo>
                    <a:lnTo>
                      <a:pt x="666" y="57"/>
                    </a:lnTo>
                    <a:lnTo>
                      <a:pt x="673" y="57"/>
                    </a:lnTo>
                    <a:lnTo>
                      <a:pt x="681" y="57"/>
                    </a:lnTo>
                    <a:lnTo>
                      <a:pt x="690" y="57"/>
                    </a:lnTo>
                    <a:lnTo>
                      <a:pt x="697" y="57"/>
                    </a:lnTo>
                    <a:lnTo>
                      <a:pt x="704" y="57"/>
                    </a:lnTo>
                    <a:lnTo>
                      <a:pt x="713" y="57"/>
                    </a:lnTo>
                    <a:lnTo>
                      <a:pt x="721" y="57"/>
                    </a:lnTo>
                    <a:lnTo>
                      <a:pt x="728" y="57"/>
                    </a:lnTo>
                    <a:lnTo>
                      <a:pt x="737" y="57"/>
                    </a:lnTo>
                    <a:lnTo>
                      <a:pt x="745" y="58"/>
                    </a:lnTo>
                    <a:lnTo>
                      <a:pt x="754" y="59"/>
                    </a:lnTo>
                    <a:lnTo>
                      <a:pt x="761" y="59"/>
                    </a:lnTo>
                    <a:lnTo>
                      <a:pt x="769" y="60"/>
                    </a:lnTo>
                    <a:lnTo>
                      <a:pt x="778" y="62"/>
                    </a:lnTo>
                    <a:lnTo>
                      <a:pt x="786" y="64"/>
                    </a:lnTo>
                    <a:lnTo>
                      <a:pt x="794" y="64"/>
                    </a:lnTo>
                    <a:lnTo>
                      <a:pt x="801" y="65"/>
                    </a:lnTo>
                    <a:lnTo>
                      <a:pt x="808" y="66"/>
                    </a:lnTo>
                    <a:lnTo>
                      <a:pt x="816" y="68"/>
                    </a:lnTo>
                    <a:lnTo>
                      <a:pt x="824" y="69"/>
                    </a:lnTo>
                    <a:lnTo>
                      <a:pt x="832" y="70"/>
                    </a:lnTo>
                    <a:lnTo>
                      <a:pt x="839" y="71"/>
                    </a:lnTo>
                    <a:lnTo>
                      <a:pt x="848" y="74"/>
                    </a:lnTo>
                    <a:lnTo>
                      <a:pt x="855" y="75"/>
                    </a:lnTo>
                    <a:lnTo>
                      <a:pt x="862" y="77"/>
                    </a:lnTo>
                    <a:lnTo>
                      <a:pt x="870" y="78"/>
                    </a:lnTo>
                    <a:lnTo>
                      <a:pt x="878" y="81"/>
                    </a:lnTo>
                    <a:lnTo>
                      <a:pt x="885" y="83"/>
                    </a:lnTo>
                    <a:lnTo>
                      <a:pt x="894" y="86"/>
                    </a:lnTo>
                    <a:lnTo>
                      <a:pt x="901" y="88"/>
                    </a:lnTo>
                    <a:lnTo>
                      <a:pt x="909" y="92"/>
                    </a:lnTo>
                    <a:lnTo>
                      <a:pt x="917" y="94"/>
                    </a:lnTo>
                    <a:lnTo>
                      <a:pt x="924" y="97"/>
                    </a:lnTo>
                    <a:lnTo>
                      <a:pt x="931" y="99"/>
                    </a:lnTo>
                    <a:lnTo>
                      <a:pt x="938" y="103"/>
                    </a:lnTo>
                    <a:lnTo>
                      <a:pt x="946" y="105"/>
                    </a:lnTo>
                    <a:lnTo>
                      <a:pt x="953" y="107"/>
                    </a:lnTo>
                    <a:lnTo>
                      <a:pt x="960" y="111"/>
                    </a:lnTo>
                    <a:lnTo>
                      <a:pt x="967" y="115"/>
                    </a:lnTo>
                    <a:lnTo>
                      <a:pt x="973" y="118"/>
                    </a:lnTo>
                    <a:lnTo>
                      <a:pt x="980" y="122"/>
                    </a:lnTo>
                    <a:lnTo>
                      <a:pt x="988" y="126"/>
                    </a:lnTo>
                    <a:lnTo>
                      <a:pt x="995" y="129"/>
                    </a:lnTo>
                    <a:lnTo>
                      <a:pt x="1001" y="133"/>
                    </a:lnTo>
                    <a:lnTo>
                      <a:pt x="1008" y="136"/>
                    </a:lnTo>
                    <a:lnTo>
                      <a:pt x="1015" y="140"/>
                    </a:lnTo>
                    <a:lnTo>
                      <a:pt x="1023" y="145"/>
                    </a:lnTo>
                    <a:lnTo>
                      <a:pt x="1029" y="148"/>
                    </a:lnTo>
                    <a:lnTo>
                      <a:pt x="1035" y="152"/>
                    </a:lnTo>
                    <a:lnTo>
                      <a:pt x="1041" y="156"/>
                    </a:lnTo>
                    <a:lnTo>
                      <a:pt x="1048" y="159"/>
                    </a:lnTo>
                    <a:lnTo>
                      <a:pt x="1054" y="163"/>
                    </a:lnTo>
                    <a:lnTo>
                      <a:pt x="1061" y="168"/>
                    </a:lnTo>
                    <a:lnTo>
                      <a:pt x="1067" y="173"/>
                    </a:lnTo>
                    <a:lnTo>
                      <a:pt x="1075" y="177"/>
                    </a:lnTo>
                    <a:lnTo>
                      <a:pt x="1081" y="181"/>
                    </a:lnTo>
                    <a:lnTo>
                      <a:pt x="1087" y="186"/>
                    </a:lnTo>
                    <a:lnTo>
                      <a:pt x="1093" y="191"/>
                    </a:lnTo>
                    <a:lnTo>
                      <a:pt x="1099" y="195"/>
                    </a:lnTo>
                    <a:lnTo>
                      <a:pt x="1105" y="200"/>
                    </a:lnTo>
                    <a:lnTo>
                      <a:pt x="1111" y="206"/>
                    </a:lnTo>
                    <a:lnTo>
                      <a:pt x="1117" y="211"/>
                    </a:lnTo>
                    <a:lnTo>
                      <a:pt x="1124" y="217"/>
                    </a:lnTo>
                    <a:lnTo>
                      <a:pt x="1129" y="221"/>
                    </a:lnTo>
                    <a:lnTo>
                      <a:pt x="1135" y="227"/>
                    </a:lnTo>
                    <a:lnTo>
                      <a:pt x="1140" y="232"/>
                    </a:lnTo>
                    <a:lnTo>
                      <a:pt x="1146" y="238"/>
                    </a:lnTo>
                    <a:lnTo>
                      <a:pt x="1151" y="242"/>
                    </a:lnTo>
                    <a:lnTo>
                      <a:pt x="1157" y="249"/>
                    </a:lnTo>
                    <a:lnTo>
                      <a:pt x="1163" y="253"/>
                    </a:lnTo>
                    <a:lnTo>
                      <a:pt x="1169" y="261"/>
                    </a:lnTo>
                    <a:lnTo>
                      <a:pt x="1173" y="265"/>
                    </a:lnTo>
                    <a:lnTo>
                      <a:pt x="1178" y="271"/>
                    </a:lnTo>
                    <a:lnTo>
                      <a:pt x="1183" y="277"/>
                    </a:lnTo>
                    <a:lnTo>
                      <a:pt x="1189" y="285"/>
                    </a:lnTo>
                    <a:lnTo>
                      <a:pt x="1194" y="291"/>
                    </a:lnTo>
                    <a:lnTo>
                      <a:pt x="1200" y="297"/>
                    </a:lnTo>
                    <a:lnTo>
                      <a:pt x="1205" y="304"/>
                    </a:lnTo>
                    <a:lnTo>
                      <a:pt x="1211" y="311"/>
                    </a:lnTo>
                    <a:lnTo>
                      <a:pt x="1214" y="318"/>
                    </a:lnTo>
                    <a:lnTo>
                      <a:pt x="1219" y="324"/>
                    </a:lnTo>
                    <a:lnTo>
                      <a:pt x="1223" y="329"/>
                    </a:lnTo>
                    <a:lnTo>
                      <a:pt x="1228" y="337"/>
                    </a:lnTo>
                    <a:lnTo>
                      <a:pt x="1231" y="343"/>
                    </a:lnTo>
                    <a:lnTo>
                      <a:pt x="1236" y="349"/>
                    </a:lnTo>
                    <a:lnTo>
                      <a:pt x="1241" y="356"/>
                    </a:lnTo>
                    <a:lnTo>
                      <a:pt x="1246" y="363"/>
                    </a:lnTo>
                    <a:lnTo>
                      <a:pt x="1249" y="369"/>
                    </a:lnTo>
                    <a:lnTo>
                      <a:pt x="1253" y="376"/>
                    </a:lnTo>
                    <a:lnTo>
                      <a:pt x="1257" y="384"/>
                    </a:lnTo>
                    <a:lnTo>
                      <a:pt x="1260" y="392"/>
                    </a:lnTo>
                    <a:lnTo>
                      <a:pt x="1264" y="398"/>
                    </a:lnTo>
                    <a:lnTo>
                      <a:pt x="1267" y="405"/>
                    </a:lnTo>
                    <a:lnTo>
                      <a:pt x="1271" y="414"/>
                    </a:lnTo>
                    <a:lnTo>
                      <a:pt x="1276" y="420"/>
                    </a:lnTo>
                    <a:lnTo>
                      <a:pt x="1278" y="427"/>
                    </a:lnTo>
                    <a:lnTo>
                      <a:pt x="1281" y="435"/>
                    </a:lnTo>
                    <a:lnTo>
                      <a:pt x="1283" y="441"/>
                    </a:lnTo>
                    <a:lnTo>
                      <a:pt x="1287" y="449"/>
                    </a:lnTo>
                    <a:lnTo>
                      <a:pt x="1289" y="456"/>
                    </a:lnTo>
                    <a:lnTo>
                      <a:pt x="1293" y="464"/>
                    </a:lnTo>
                    <a:lnTo>
                      <a:pt x="1295" y="470"/>
                    </a:lnTo>
                    <a:lnTo>
                      <a:pt x="1299" y="480"/>
                    </a:lnTo>
                    <a:lnTo>
                      <a:pt x="1300" y="487"/>
                    </a:lnTo>
                    <a:lnTo>
                      <a:pt x="1304" y="493"/>
                    </a:lnTo>
                    <a:lnTo>
                      <a:pt x="1305" y="501"/>
                    </a:lnTo>
                    <a:lnTo>
                      <a:pt x="1308" y="509"/>
                    </a:lnTo>
                    <a:lnTo>
                      <a:pt x="1310" y="516"/>
                    </a:lnTo>
                    <a:lnTo>
                      <a:pt x="1312" y="526"/>
                    </a:lnTo>
                    <a:lnTo>
                      <a:pt x="1315" y="533"/>
                    </a:lnTo>
                    <a:lnTo>
                      <a:pt x="1317" y="543"/>
                    </a:lnTo>
                    <a:lnTo>
                      <a:pt x="1318" y="549"/>
                    </a:lnTo>
                    <a:lnTo>
                      <a:pt x="1319" y="556"/>
                    </a:lnTo>
                    <a:lnTo>
                      <a:pt x="1321" y="566"/>
                    </a:lnTo>
                    <a:lnTo>
                      <a:pt x="1323" y="573"/>
                    </a:lnTo>
                    <a:lnTo>
                      <a:pt x="1323" y="581"/>
                    </a:lnTo>
                    <a:lnTo>
                      <a:pt x="1325" y="589"/>
                    </a:lnTo>
                    <a:lnTo>
                      <a:pt x="1325" y="598"/>
                    </a:lnTo>
                    <a:lnTo>
                      <a:pt x="1328" y="605"/>
                    </a:lnTo>
                    <a:lnTo>
                      <a:pt x="1328" y="614"/>
                    </a:lnTo>
                    <a:lnTo>
                      <a:pt x="1329" y="621"/>
                    </a:lnTo>
                    <a:lnTo>
                      <a:pt x="1330" y="631"/>
                    </a:lnTo>
                    <a:lnTo>
                      <a:pt x="1331" y="638"/>
                    </a:lnTo>
                    <a:lnTo>
                      <a:pt x="1331" y="645"/>
                    </a:lnTo>
                    <a:lnTo>
                      <a:pt x="1333" y="655"/>
                    </a:lnTo>
                    <a:lnTo>
                      <a:pt x="1334" y="663"/>
                    </a:lnTo>
                    <a:lnTo>
                      <a:pt x="1335" y="672"/>
                    </a:lnTo>
                    <a:lnTo>
                      <a:pt x="1335" y="678"/>
                    </a:lnTo>
                    <a:lnTo>
                      <a:pt x="1335" y="687"/>
                    </a:lnTo>
                    <a:lnTo>
                      <a:pt x="1335" y="695"/>
                    </a:lnTo>
                    <a:lnTo>
                      <a:pt x="1335" y="704"/>
                    </a:lnTo>
                    <a:lnTo>
                      <a:pt x="1335" y="712"/>
                    </a:lnTo>
                    <a:lnTo>
                      <a:pt x="1335" y="721"/>
                    </a:lnTo>
                    <a:lnTo>
                      <a:pt x="1335" y="728"/>
                    </a:lnTo>
                    <a:lnTo>
                      <a:pt x="1336" y="739"/>
                    </a:lnTo>
                    <a:lnTo>
                      <a:pt x="1335" y="745"/>
                    </a:lnTo>
                    <a:lnTo>
                      <a:pt x="1335" y="756"/>
                    </a:lnTo>
                    <a:lnTo>
                      <a:pt x="1335" y="762"/>
                    </a:lnTo>
                    <a:lnTo>
                      <a:pt x="1335" y="773"/>
                    </a:lnTo>
                    <a:lnTo>
                      <a:pt x="1335" y="781"/>
                    </a:lnTo>
                    <a:lnTo>
                      <a:pt x="1335" y="790"/>
                    </a:lnTo>
                    <a:lnTo>
                      <a:pt x="1335" y="798"/>
                    </a:lnTo>
                    <a:lnTo>
                      <a:pt x="1335" y="808"/>
                    </a:lnTo>
                    <a:lnTo>
                      <a:pt x="1337" y="807"/>
                    </a:lnTo>
                    <a:lnTo>
                      <a:pt x="1343" y="807"/>
                    </a:lnTo>
                    <a:lnTo>
                      <a:pt x="1353" y="804"/>
                    </a:lnTo>
                    <a:lnTo>
                      <a:pt x="1364" y="801"/>
                    </a:lnTo>
                    <a:lnTo>
                      <a:pt x="1374" y="798"/>
                    </a:lnTo>
                    <a:lnTo>
                      <a:pt x="1384" y="796"/>
                    </a:lnTo>
                    <a:lnTo>
                      <a:pt x="1391" y="795"/>
                    </a:lnTo>
                    <a:lnTo>
                      <a:pt x="1394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488"/>
              <p:cNvSpPr/>
              <p:nvPr/>
            </p:nvSpPr>
            <p:spPr>
              <a:xfrm>
                <a:off x="6608160" y="6232680"/>
                <a:ext cx="54360" cy="554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88" h="191">
                    <a:moveTo>
                      <a:pt x="169" y="157"/>
                    </a:moveTo>
                    <a:lnTo>
                      <a:pt x="172" y="149"/>
                    </a:lnTo>
                    <a:lnTo>
                      <a:pt x="177" y="140"/>
                    </a:lnTo>
                    <a:lnTo>
                      <a:pt x="182" y="132"/>
                    </a:lnTo>
                    <a:lnTo>
                      <a:pt x="184" y="123"/>
                    </a:lnTo>
                    <a:lnTo>
                      <a:pt x="187" y="112"/>
                    </a:lnTo>
                    <a:lnTo>
                      <a:pt x="188" y="105"/>
                    </a:lnTo>
                    <a:lnTo>
                      <a:pt x="188" y="96"/>
                    </a:lnTo>
                    <a:lnTo>
                      <a:pt x="188" y="87"/>
                    </a:lnTo>
                    <a:lnTo>
                      <a:pt x="187" y="77"/>
                    </a:lnTo>
                    <a:lnTo>
                      <a:pt x="184" y="68"/>
                    </a:lnTo>
                    <a:lnTo>
                      <a:pt x="182" y="59"/>
                    </a:lnTo>
                    <a:lnTo>
                      <a:pt x="178" y="51"/>
                    </a:lnTo>
                    <a:lnTo>
                      <a:pt x="172" y="44"/>
                    </a:lnTo>
                    <a:lnTo>
                      <a:pt x="169" y="36"/>
                    </a:lnTo>
                    <a:lnTo>
                      <a:pt x="163" y="28"/>
                    </a:lnTo>
                    <a:lnTo>
                      <a:pt x="155" y="22"/>
                    </a:lnTo>
                    <a:lnTo>
                      <a:pt x="148" y="16"/>
                    </a:lnTo>
                    <a:lnTo>
                      <a:pt x="140" y="11"/>
                    </a:lnTo>
                    <a:lnTo>
                      <a:pt x="131" y="6"/>
                    </a:lnTo>
                    <a:lnTo>
                      <a:pt x="123" y="5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6" y="0"/>
                    </a:lnTo>
                    <a:lnTo>
                      <a:pt x="67" y="4"/>
                    </a:lnTo>
                    <a:lnTo>
                      <a:pt x="58" y="5"/>
                    </a:lnTo>
                    <a:lnTo>
                      <a:pt x="51" y="11"/>
                    </a:lnTo>
                    <a:lnTo>
                      <a:pt x="42" y="15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4"/>
                    </a:lnTo>
                    <a:lnTo>
                      <a:pt x="14" y="42"/>
                    </a:lnTo>
                    <a:lnTo>
                      <a:pt x="11" y="50"/>
                    </a:lnTo>
                    <a:lnTo>
                      <a:pt x="6" y="57"/>
                    </a:lnTo>
                    <a:lnTo>
                      <a:pt x="3" y="68"/>
                    </a:lnTo>
                    <a:lnTo>
                      <a:pt x="1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5"/>
                    </a:lnTo>
                    <a:lnTo>
                      <a:pt x="1" y="112"/>
                    </a:lnTo>
                    <a:lnTo>
                      <a:pt x="3" y="123"/>
                    </a:lnTo>
                    <a:lnTo>
                      <a:pt x="7" y="132"/>
                    </a:lnTo>
                    <a:lnTo>
                      <a:pt x="11" y="140"/>
                    </a:lnTo>
                    <a:lnTo>
                      <a:pt x="14" y="149"/>
                    </a:lnTo>
                    <a:lnTo>
                      <a:pt x="20" y="156"/>
                    </a:lnTo>
                    <a:lnTo>
                      <a:pt x="28" y="163"/>
                    </a:lnTo>
                    <a:lnTo>
                      <a:pt x="35" y="170"/>
                    </a:lnTo>
                    <a:lnTo>
                      <a:pt x="42" y="174"/>
                    </a:lnTo>
                    <a:lnTo>
                      <a:pt x="53" y="181"/>
                    </a:lnTo>
                    <a:lnTo>
                      <a:pt x="64" y="185"/>
                    </a:lnTo>
                    <a:lnTo>
                      <a:pt x="75" y="188"/>
                    </a:lnTo>
                    <a:lnTo>
                      <a:pt x="85" y="190"/>
                    </a:lnTo>
                    <a:lnTo>
                      <a:pt x="98" y="191"/>
                    </a:lnTo>
                    <a:lnTo>
                      <a:pt x="108" y="190"/>
                    </a:lnTo>
                    <a:lnTo>
                      <a:pt x="119" y="188"/>
                    </a:lnTo>
                    <a:lnTo>
                      <a:pt x="105" y="133"/>
                    </a:lnTo>
                    <a:lnTo>
                      <a:pt x="96" y="133"/>
                    </a:lnTo>
                    <a:lnTo>
                      <a:pt x="88" y="133"/>
                    </a:lnTo>
                    <a:lnTo>
                      <a:pt x="77" y="129"/>
                    </a:lnTo>
                    <a:lnTo>
                      <a:pt x="71" y="126"/>
                    </a:lnTo>
                    <a:lnTo>
                      <a:pt x="65" y="120"/>
                    </a:lnTo>
                    <a:lnTo>
                      <a:pt x="61" y="112"/>
                    </a:lnTo>
                    <a:lnTo>
                      <a:pt x="58" y="106"/>
                    </a:lnTo>
                    <a:lnTo>
                      <a:pt x="58" y="100"/>
                    </a:lnTo>
                    <a:lnTo>
                      <a:pt x="57" y="92"/>
                    </a:lnTo>
                    <a:lnTo>
                      <a:pt x="59" y="85"/>
                    </a:lnTo>
                    <a:lnTo>
                      <a:pt x="61" y="77"/>
                    </a:lnTo>
                    <a:lnTo>
                      <a:pt x="66" y="73"/>
                    </a:lnTo>
                    <a:lnTo>
                      <a:pt x="70" y="65"/>
                    </a:lnTo>
                    <a:lnTo>
                      <a:pt x="77" y="62"/>
                    </a:lnTo>
                    <a:lnTo>
                      <a:pt x="84" y="57"/>
                    </a:lnTo>
                    <a:lnTo>
                      <a:pt x="92" y="57"/>
                    </a:lnTo>
                    <a:lnTo>
                      <a:pt x="99" y="57"/>
                    </a:lnTo>
                    <a:lnTo>
                      <a:pt x="106" y="59"/>
                    </a:lnTo>
                    <a:lnTo>
                      <a:pt x="113" y="62"/>
                    </a:lnTo>
                    <a:lnTo>
                      <a:pt x="120" y="68"/>
                    </a:lnTo>
                    <a:lnTo>
                      <a:pt x="124" y="71"/>
                    </a:lnTo>
                    <a:lnTo>
                      <a:pt x="129" y="79"/>
                    </a:lnTo>
                    <a:lnTo>
                      <a:pt x="131" y="85"/>
                    </a:lnTo>
                    <a:lnTo>
                      <a:pt x="134" y="93"/>
                    </a:lnTo>
                    <a:lnTo>
                      <a:pt x="131" y="99"/>
                    </a:lnTo>
                    <a:lnTo>
                      <a:pt x="131" y="106"/>
                    </a:lnTo>
                    <a:lnTo>
                      <a:pt x="128" y="112"/>
                    </a:lnTo>
                    <a:lnTo>
                      <a:pt x="125" y="121"/>
                    </a:lnTo>
                    <a:lnTo>
                      <a:pt x="169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489"/>
              <p:cNvSpPr/>
              <p:nvPr/>
            </p:nvSpPr>
            <p:spPr>
              <a:xfrm>
                <a:off x="6671160" y="6170760"/>
                <a:ext cx="110160" cy="1094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76" h="376">
                    <a:moveTo>
                      <a:pt x="265" y="362"/>
                    </a:moveTo>
                    <a:lnTo>
                      <a:pt x="273" y="357"/>
                    </a:lnTo>
                    <a:lnTo>
                      <a:pt x="281" y="352"/>
                    </a:lnTo>
                    <a:lnTo>
                      <a:pt x="288" y="346"/>
                    </a:lnTo>
                    <a:lnTo>
                      <a:pt x="297" y="341"/>
                    </a:lnTo>
                    <a:lnTo>
                      <a:pt x="303" y="335"/>
                    </a:lnTo>
                    <a:lnTo>
                      <a:pt x="310" y="329"/>
                    </a:lnTo>
                    <a:lnTo>
                      <a:pt x="317" y="324"/>
                    </a:lnTo>
                    <a:lnTo>
                      <a:pt x="325" y="318"/>
                    </a:lnTo>
                    <a:lnTo>
                      <a:pt x="329" y="312"/>
                    </a:lnTo>
                    <a:lnTo>
                      <a:pt x="335" y="305"/>
                    </a:lnTo>
                    <a:lnTo>
                      <a:pt x="340" y="297"/>
                    </a:lnTo>
                    <a:lnTo>
                      <a:pt x="346" y="291"/>
                    </a:lnTo>
                    <a:lnTo>
                      <a:pt x="351" y="282"/>
                    </a:lnTo>
                    <a:lnTo>
                      <a:pt x="356" y="274"/>
                    </a:lnTo>
                    <a:lnTo>
                      <a:pt x="359" y="265"/>
                    </a:lnTo>
                    <a:lnTo>
                      <a:pt x="364" y="257"/>
                    </a:lnTo>
                    <a:lnTo>
                      <a:pt x="367" y="248"/>
                    </a:lnTo>
                    <a:lnTo>
                      <a:pt x="369" y="239"/>
                    </a:lnTo>
                    <a:lnTo>
                      <a:pt x="372" y="229"/>
                    </a:lnTo>
                    <a:lnTo>
                      <a:pt x="374" y="221"/>
                    </a:lnTo>
                    <a:lnTo>
                      <a:pt x="374" y="211"/>
                    </a:lnTo>
                    <a:lnTo>
                      <a:pt x="375" y="201"/>
                    </a:lnTo>
                    <a:lnTo>
                      <a:pt x="375" y="193"/>
                    </a:lnTo>
                    <a:lnTo>
                      <a:pt x="376" y="183"/>
                    </a:lnTo>
                    <a:lnTo>
                      <a:pt x="375" y="174"/>
                    </a:lnTo>
                    <a:lnTo>
                      <a:pt x="374" y="166"/>
                    </a:lnTo>
                    <a:lnTo>
                      <a:pt x="373" y="156"/>
                    </a:lnTo>
                    <a:lnTo>
                      <a:pt x="372" y="148"/>
                    </a:lnTo>
                    <a:lnTo>
                      <a:pt x="369" y="139"/>
                    </a:lnTo>
                    <a:lnTo>
                      <a:pt x="367" y="129"/>
                    </a:lnTo>
                    <a:lnTo>
                      <a:pt x="363" y="121"/>
                    </a:lnTo>
                    <a:lnTo>
                      <a:pt x="361" y="112"/>
                    </a:lnTo>
                    <a:lnTo>
                      <a:pt x="356" y="104"/>
                    </a:lnTo>
                    <a:lnTo>
                      <a:pt x="352" y="94"/>
                    </a:lnTo>
                    <a:lnTo>
                      <a:pt x="347" y="88"/>
                    </a:lnTo>
                    <a:lnTo>
                      <a:pt x="343" y="80"/>
                    </a:lnTo>
                    <a:lnTo>
                      <a:pt x="337" y="71"/>
                    </a:lnTo>
                    <a:lnTo>
                      <a:pt x="331" y="65"/>
                    </a:lnTo>
                    <a:lnTo>
                      <a:pt x="325" y="59"/>
                    </a:lnTo>
                    <a:lnTo>
                      <a:pt x="318" y="52"/>
                    </a:lnTo>
                    <a:lnTo>
                      <a:pt x="311" y="45"/>
                    </a:lnTo>
                    <a:lnTo>
                      <a:pt x="304" y="39"/>
                    </a:lnTo>
                    <a:lnTo>
                      <a:pt x="297" y="33"/>
                    </a:lnTo>
                    <a:lnTo>
                      <a:pt x="290" y="29"/>
                    </a:lnTo>
                    <a:lnTo>
                      <a:pt x="281" y="24"/>
                    </a:lnTo>
                    <a:lnTo>
                      <a:pt x="273" y="21"/>
                    </a:lnTo>
                    <a:lnTo>
                      <a:pt x="264" y="16"/>
                    </a:lnTo>
                    <a:lnTo>
                      <a:pt x="257" y="15"/>
                    </a:lnTo>
                    <a:lnTo>
                      <a:pt x="247" y="10"/>
                    </a:lnTo>
                    <a:lnTo>
                      <a:pt x="239" y="6"/>
                    </a:lnTo>
                    <a:lnTo>
                      <a:pt x="229" y="4"/>
                    </a:lnTo>
                    <a:lnTo>
                      <a:pt x="221" y="4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75" y="0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5"/>
                    </a:lnTo>
                    <a:lnTo>
                      <a:pt x="139" y="6"/>
                    </a:lnTo>
                    <a:lnTo>
                      <a:pt x="130" y="10"/>
                    </a:lnTo>
                    <a:lnTo>
                      <a:pt x="121" y="12"/>
                    </a:lnTo>
                    <a:lnTo>
                      <a:pt x="113" y="17"/>
                    </a:lnTo>
                    <a:lnTo>
                      <a:pt x="104" y="21"/>
                    </a:lnTo>
                    <a:lnTo>
                      <a:pt x="95" y="24"/>
                    </a:lnTo>
                    <a:lnTo>
                      <a:pt x="87" y="29"/>
                    </a:lnTo>
                    <a:lnTo>
                      <a:pt x="80" y="34"/>
                    </a:lnTo>
                    <a:lnTo>
                      <a:pt x="71" y="39"/>
                    </a:lnTo>
                    <a:lnTo>
                      <a:pt x="64" y="45"/>
                    </a:lnTo>
                    <a:lnTo>
                      <a:pt x="58" y="52"/>
                    </a:lnTo>
                    <a:lnTo>
                      <a:pt x="52" y="60"/>
                    </a:lnTo>
                    <a:lnTo>
                      <a:pt x="45" y="66"/>
                    </a:lnTo>
                    <a:lnTo>
                      <a:pt x="39" y="72"/>
                    </a:lnTo>
                    <a:lnTo>
                      <a:pt x="33" y="80"/>
                    </a:lnTo>
                    <a:lnTo>
                      <a:pt x="29" y="88"/>
                    </a:lnTo>
                    <a:lnTo>
                      <a:pt x="24" y="95"/>
                    </a:lnTo>
                    <a:lnTo>
                      <a:pt x="19" y="104"/>
                    </a:lnTo>
                    <a:lnTo>
                      <a:pt x="16" y="111"/>
                    </a:lnTo>
                    <a:lnTo>
                      <a:pt x="13" y="122"/>
                    </a:lnTo>
                    <a:lnTo>
                      <a:pt x="10" y="128"/>
                    </a:lnTo>
                    <a:lnTo>
                      <a:pt x="6" y="139"/>
                    </a:lnTo>
                    <a:lnTo>
                      <a:pt x="4" y="146"/>
                    </a:lnTo>
                    <a:lnTo>
                      <a:pt x="4" y="156"/>
                    </a:lnTo>
                    <a:lnTo>
                      <a:pt x="1" y="165"/>
                    </a:lnTo>
                    <a:lnTo>
                      <a:pt x="0" y="174"/>
                    </a:lnTo>
                    <a:lnTo>
                      <a:pt x="0" y="183"/>
                    </a:lnTo>
                    <a:lnTo>
                      <a:pt x="1" y="193"/>
                    </a:lnTo>
                    <a:lnTo>
                      <a:pt x="1" y="200"/>
                    </a:lnTo>
                    <a:lnTo>
                      <a:pt x="1" y="211"/>
                    </a:lnTo>
                    <a:lnTo>
                      <a:pt x="3" y="218"/>
                    </a:lnTo>
                    <a:lnTo>
                      <a:pt x="5" y="229"/>
                    </a:lnTo>
                    <a:lnTo>
                      <a:pt x="7" y="238"/>
                    </a:lnTo>
                    <a:lnTo>
                      <a:pt x="10" y="246"/>
                    </a:lnTo>
                    <a:lnTo>
                      <a:pt x="13" y="257"/>
                    </a:lnTo>
                    <a:lnTo>
                      <a:pt x="18" y="267"/>
                    </a:lnTo>
                    <a:lnTo>
                      <a:pt x="21" y="273"/>
                    </a:lnTo>
                    <a:lnTo>
                      <a:pt x="24" y="279"/>
                    </a:lnTo>
                    <a:lnTo>
                      <a:pt x="28" y="285"/>
                    </a:lnTo>
                    <a:lnTo>
                      <a:pt x="31" y="291"/>
                    </a:lnTo>
                    <a:lnTo>
                      <a:pt x="35" y="297"/>
                    </a:lnTo>
                    <a:lnTo>
                      <a:pt x="41" y="304"/>
                    </a:lnTo>
                    <a:lnTo>
                      <a:pt x="46" y="310"/>
                    </a:lnTo>
                    <a:lnTo>
                      <a:pt x="52" y="316"/>
                    </a:lnTo>
                    <a:lnTo>
                      <a:pt x="57" y="321"/>
                    </a:lnTo>
                    <a:lnTo>
                      <a:pt x="63" y="324"/>
                    </a:lnTo>
                    <a:lnTo>
                      <a:pt x="68" y="329"/>
                    </a:lnTo>
                    <a:lnTo>
                      <a:pt x="75" y="335"/>
                    </a:lnTo>
                    <a:lnTo>
                      <a:pt x="81" y="340"/>
                    </a:lnTo>
                    <a:lnTo>
                      <a:pt x="88" y="345"/>
                    </a:lnTo>
                    <a:lnTo>
                      <a:pt x="95" y="350"/>
                    </a:lnTo>
                    <a:lnTo>
                      <a:pt x="103" y="355"/>
                    </a:lnTo>
                    <a:lnTo>
                      <a:pt x="109" y="357"/>
                    </a:lnTo>
                    <a:lnTo>
                      <a:pt x="116" y="361"/>
                    </a:lnTo>
                    <a:lnTo>
                      <a:pt x="123" y="363"/>
                    </a:lnTo>
                    <a:lnTo>
                      <a:pt x="130" y="365"/>
                    </a:lnTo>
                    <a:lnTo>
                      <a:pt x="138" y="367"/>
                    </a:lnTo>
                    <a:lnTo>
                      <a:pt x="146" y="369"/>
                    </a:lnTo>
                    <a:lnTo>
                      <a:pt x="153" y="371"/>
                    </a:lnTo>
                    <a:lnTo>
                      <a:pt x="162" y="374"/>
                    </a:lnTo>
                    <a:lnTo>
                      <a:pt x="169" y="374"/>
                    </a:lnTo>
                    <a:lnTo>
                      <a:pt x="176" y="375"/>
                    </a:lnTo>
                    <a:lnTo>
                      <a:pt x="185" y="375"/>
                    </a:lnTo>
                    <a:lnTo>
                      <a:pt x="193" y="376"/>
                    </a:lnTo>
                    <a:lnTo>
                      <a:pt x="200" y="376"/>
                    </a:lnTo>
                    <a:lnTo>
                      <a:pt x="208" y="376"/>
                    </a:lnTo>
                    <a:lnTo>
                      <a:pt x="216" y="375"/>
                    </a:lnTo>
                    <a:lnTo>
                      <a:pt x="224" y="375"/>
                    </a:lnTo>
                    <a:lnTo>
                      <a:pt x="214" y="318"/>
                    </a:lnTo>
                    <a:lnTo>
                      <a:pt x="204" y="317"/>
                    </a:lnTo>
                    <a:lnTo>
                      <a:pt x="195" y="316"/>
                    </a:lnTo>
                    <a:lnTo>
                      <a:pt x="187" y="314"/>
                    </a:lnTo>
                    <a:lnTo>
                      <a:pt x="180" y="314"/>
                    </a:lnTo>
                    <a:lnTo>
                      <a:pt x="173" y="312"/>
                    </a:lnTo>
                    <a:lnTo>
                      <a:pt x="165" y="312"/>
                    </a:lnTo>
                    <a:lnTo>
                      <a:pt x="158" y="311"/>
                    </a:lnTo>
                    <a:lnTo>
                      <a:pt x="153" y="310"/>
                    </a:lnTo>
                    <a:lnTo>
                      <a:pt x="141" y="306"/>
                    </a:lnTo>
                    <a:lnTo>
                      <a:pt x="132" y="302"/>
                    </a:lnTo>
                    <a:lnTo>
                      <a:pt x="122" y="299"/>
                    </a:lnTo>
                    <a:lnTo>
                      <a:pt x="115" y="295"/>
                    </a:lnTo>
                    <a:lnTo>
                      <a:pt x="106" y="289"/>
                    </a:lnTo>
                    <a:lnTo>
                      <a:pt x="99" y="283"/>
                    </a:lnTo>
                    <a:lnTo>
                      <a:pt x="93" y="277"/>
                    </a:lnTo>
                    <a:lnTo>
                      <a:pt x="88" y="273"/>
                    </a:lnTo>
                    <a:lnTo>
                      <a:pt x="83" y="265"/>
                    </a:lnTo>
                    <a:lnTo>
                      <a:pt x="79" y="257"/>
                    </a:lnTo>
                    <a:lnTo>
                      <a:pt x="74" y="251"/>
                    </a:lnTo>
                    <a:lnTo>
                      <a:pt x="70" y="244"/>
                    </a:lnTo>
                    <a:lnTo>
                      <a:pt x="66" y="235"/>
                    </a:lnTo>
                    <a:lnTo>
                      <a:pt x="63" y="229"/>
                    </a:lnTo>
                    <a:lnTo>
                      <a:pt x="60" y="223"/>
                    </a:lnTo>
                    <a:lnTo>
                      <a:pt x="59" y="217"/>
                    </a:lnTo>
                    <a:lnTo>
                      <a:pt x="57" y="205"/>
                    </a:lnTo>
                    <a:lnTo>
                      <a:pt x="57" y="193"/>
                    </a:lnTo>
                    <a:lnTo>
                      <a:pt x="56" y="179"/>
                    </a:lnTo>
                    <a:lnTo>
                      <a:pt x="58" y="166"/>
                    </a:lnTo>
                    <a:lnTo>
                      <a:pt x="60" y="154"/>
                    </a:lnTo>
                    <a:lnTo>
                      <a:pt x="65" y="144"/>
                    </a:lnTo>
                    <a:lnTo>
                      <a:pt x="69" y="132"/>
                    </a:lnTo>
                    <a:lnTo>
                      <a:pt x="76" y="121"/>
                    </a:lnTo>
                    <a:lnTo>
                      <a:pt x="83" y="110"/>
                    </a:lnTo>
                    <a:lnTo>
                      <a:pt x="93" y="100"/>
                    </a:lnTo>
                    <a:lnTo>
                      <a:pt x="101" y="89"/>
                    </a:lnTo>
                    <a:lnTo>
                      <a:pt x="112" y="83"/>
                    </a:lnTo>
                    <a:lnTo>
                      <a:pt x="123" y="76"/>
                    </a:lnTo>
                    <a:lnTo>
                      <a:pt x="136" y="71"/>
                    </a:lnTo>
                    <a:lnTo>
                      <a:pt x="147" y="65"/>
                    </a:lnTo>
                    <a:lnTo>
                      <a:pt x="161" y="60"/>
                    </a:lnTo>
                    <a:lnTo>
                      <a:pt x="173" y="59"/>
                    </a:lnTo>
                    <a:lnTo>
                      <a:pt x="186" y="59"/>
                    </a:lnTo>
                    <a:lnTo>
                      <a:pt x="198" y="59"/>
                    </a:lnTo>
                    <a:lnTo>
                      <a:pt x="211" y="60"/>
                    </a:lnTo>
                    <a:lnTo>
                      <a:pt x="223" y="63"/>
                    </a:lnTo>
                    <a:lnTo>
                      <a:pt x="236" y="68"/>
                    </a:lnTo>
                    <a:lnTo>
                      <a:pt x="247" y="71"/>
                    </a:lnTo>
                    <a:lnTo>
                      <a:pt x="258" y="78"/>
                    </a:lnTo>
                    <a:lnTo>
                      <a:pt x="268" y="84"/>
                    </a:lnTo>
                    <a:lnTo>
                      <a:pt x="279" y="94"/>
                    </a:lnTo>
                    <a:lnTo>
                      <a:pt x="287" y="101"/>
                    </a:lnTo>
                    <a:lnTo>
                      <a:pt x="296" y="112"/>
                    </a:lnTo>
                    <a:lnTo>
                      <a:pt x="298" y="117"/>
                    </a:lnTo>
                    <a:lnTo>
                      <a:pt x="302" y="123"/>
                    </a:lnTo>
                    <a:lnTo>
                      <a:pt x="305" y="129"/>
                    </a:lnTo>
                    <a:lnTo>
                      <a:pt x="309" y="138"/>
                    </a:lnTo>
                    <a:lnTo>
                      <a:pt x="312" y="148"/>
                    </a:lnTo>
                    <a:lnTo>
                      <a:pt x="316" y="160"/>
                    </a:lnTo>
                    <a:lnTo>
                      <a:pt x="318" y="173"/>
                    </a:lnTo>
                    <a:lnTo>
                      <a:pt x="320" y="185"/>
                    </a:lnTo>
                    <a:lnTo>
                      <a:pt x="318" y="197"/>
                    </a:lnTo>
                    <a:lnTo>
                      <a:pt x="317" y="211"/>
                    </a:lnTo>
                    <a:lnTo>
                      <a:pt x="314" y="223"/>
                    </a:lnTo>
                    <a:lnTo>
                      <a:pt x="311" y="235"/>
                    </a:lnTo>
                    <a:lnTo>
                      <a:pt x="304" y="246"/>
                    </a:lnTo>
                    <a:lnTo>
                      <a:pt x="298" y="259"/>
                    </a:lnTo>
                    <a:lnTo>
                      <a:pt x="291" y="268"/>
                    </a:lnTo>
                    <a:lnTo>
                      <a:pt x="284" y="280"/>
                    </a:lnTo>
                    <a:lnTo>
                      <a:pt x="274" y="286"/>
                    </a:lnTo>
                    <a:lnTo>
                      <a:pt x="264" y="295"/>
                    </a:lnTo>
                    <a:lnTo>
                      <a:pt x="253" y="302"/>
                    </a:lnTo>
                    <a:lnTo>
                      <a:pt x="243" y="308"/>
                    </a:lnTo>
                    <a:lnTo>
                      <a:pt x="265" y="3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490"/>
              <p:cNvSpPr/>
              <p:nvPr/>
            </p:nvSpPr>
            <p:spPr>
              <a:xfrm>
                <a:off x="6782400" y="6374520"/>
                <a:ext cx="63720" cy="626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7" h="216">
                    <a:moveTo>
                      <a:pt x="205" y="160"/>
                    </a:moveTo>
                    <a:lnTo>
                      <a:pt x="209" y="149"/>
                    </a:lnTo>
                    <a:lnTo>
                      <a:pt x="212" y="138"/>
                    </a:lnTo>
                    <a:lnTo>
                      <a:pt x="215" y="127"/>
                    </a:lnTo>
                    <a:lnTo>
                      <a:pt x="217" y="118"/>
                    </a:lnTo>
                    <a:lnTo>
                      <a:pt x="217" y="107"/>
                    </a:lnTo>
                    <a:lnTo>
                      <a:pt x="217" y="96"/>
                    </a:lnTo>
                    <a:lnTo>
                      <a:pt x="215" y="86"/>
                    </a:lnTo>
                    <a:lnTo>
                      <a:pt x="214" y="77"/>
                    </a:lnTo>
                    <a:lnTo>
                      <a:pt x="209" y="66"/>
                    </a:lnTo>
                    <a:lnTo>
                      <a:pt x="205" y="56"/>
                    </a:lnTo>
                    <a:lnTo>
                      <a:pt x="199" y="47"/>
                    </a:lnTo>
                    <a:lnTo>
                      <a:pt x="193" y="39"/>
                    </a:lnTo>
                    <a:lnTo>
                      <a:pt x="186" y="31"/>
                    </a:lnTo>
                    <a:lnTo>
                      <a:pt x="179" y="24"/>
                    </a:lnTo>
                    <a:lnTo>
                      <a:pt x="170" y="18"/>
                    </a:lnTo>
                    <a:lnTo>
                      <a:pt x="162" y="13"/>
                    </a:lnTo>
                    <a:lnTo>
                      <a:pt x="151" y="7"/>
                    </a:lnTo>
                    <a:lnTo>
                      <a:pt x="140" y="4"/>
                    </a:lnTo>
                    <a:lnTo>
                      <a:pt x="129" y="1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9" y="1"/>
                    </a:lnTo>
                    <a:lnTo>
                      <a:pt x="88" y="2"/>
                    </a:lnTo>
                    <a:lnTo>
                      <a:pt x="79" y="6"/>
                    </a:lnTo>
                    <a:lnTo>
                      <a:pt x="68" y="8"/>
                    </a:lnTo>
                    <a:lnTo>
                      <a:pt x="58" y="13"/>
                    </a:lnTo>
                    <a:lnTo>
                      <a:pt x="48" y="17"/>
                    </a:lnTo>
                    <a:lnTo>
                      <a:pt x="41" y="24"/>
                    </a:lnTo>
                    <a:lnTo>
                      <a:pt x="33" y="31"/>
                    </a:lnTo>
                    <a:lnTo>
                      <a:pt x="26" y="38"/>
                    </a:lnTo>
                    <a:lnTo>
                      <a:pt x="18" y="47"/>
                    </a:lnTo>
                    <a:lnTo>
                      <a:pt x="15" y="58"/>
                    </a:lnTo>
                    <a:lnTo>
                      <a:pt x="9" y="66"/>
                    </a:lnTo>
                    <a:lnTo>
                      <a:pt x="6" y="76"/>
                    </a:lnTo>
                    <a:lnTo>
                      <a:pt x="3" y="86"/>
                    </a:lnTo>
                    <a:lnTo>
                      <a:pt x="1" y="97"/>
                    </a:lnTo>
                    <a:lnTo>
                      <a:pt x="0" y="107"/>
                    </a:lnTo>
                    <a:lnTo>
                      <a:pt x="1" y="118"/>
                    </a:lnTo>
                    <a:lnTo>
                      <a:pt x="3" y="129"/>
                    </a:lnTo>
                    <a:lnTo>
                      <a:pt x="6" y="140"/>
                    </a:lnTo>
                    <a:lnTo>
                      <a:pt x="9" y="149"/>
                    </a:lnTo>
                    <a:lnTo>
                      <a:pt x="13" y="159"/>
                    </a:lnTo>
                    <a:lnTo>
                      <a:pt x="18" y="167"/>
                    </a:lnTo>
                    <a:lnTo>
                      <a:pt x="26" y="177"/>
                    </a:lnTo>
                    <a:lnTo>
                      <a:pt x="32" y="184"/>
                    </a:lnTo>
                    <a:lnTo>
                      <a:pt x="40" y="191"/>
                    </a:lnTo>
                    <a:lnTo>
                      <a:pt x="48" y="197"/>
                    </a:lnTo>
                    <a:lnTo>
                      <a:pt x="59" y="203"/>
                    </a:lnTo>
                    <a:lnTo>
                      <a:pt x="68" y="207"/>
                    </a:lnTo>
                    <a:lnTo>
                      <a:pt x="79" y="211"/>
                    </a:lnTo>
                    <a:lnTo>
                      <a:pt x="89" y="213"/>
                    </a:lnTo>
                    <a:lnTo>
                      <a:pt x="101" y="216"/>
                    </a:lnTo>
                    <a:lnTo>
                      <a:pt x="112" y="214"/>
                    </a:lnTo>
                    <a:lnTo>
                      <a:pt x="124" y="214"/>
                    </a:lnTo>
                    <a:lnTo>
                      <a:pt x="135" y="213"/>
                    </a:lnTo>
                    <a:lnTo>
                      <a:pt x="147" y="211"/>
                    </a:lnTo>
                    <a:lnTo>
                      <a:pt x="128" y="156"/>
                    </a:lnTo>
                    <a:lnTo>
                      <a:pt x="117" y="158"/>
                    </a:lnTo>
                    <a:lnTo>
                      <a:pt x="106" y="158"/>
                    </a:lnTo>
                    <a:lnTo>
                      <a:pt x="94" y="156"/>
                    </a:lnTo>
                    <a:lnTo>
                      <a:pt x="86" y="154"/>
                    </a:lnTo>
                    <a:lnTo>
                      <a:pt x="76" y="147"/>
                    </a:lnTo>
                    <a:lnTo>
                      <a:pt x="70" y="140"/>
                    </a:lnTo>
                    <a:lnTo>
                      <a:pt x="64" y="131"/>
                    </a:lnTo>
                    <a:lnTo>
                      <a:pt x="62" y="123"/>
                    </a:lnTo>
                    <a:lnTo>
                      <a:pt x="59" y="113"/>
                    </a:lnTo>
                    <a:lnTo>
                      <a:pt x="59" y="103"/>
                    </a:lnTo>
                    <a:lnTo>
                      <a:pt x="60" y="93"/>
                    </a:lnTo>
                    <a:lnTo>
                      <a:pt x="65" y="85"/>
                    </a:lnTo>
                    <a:lnTo>
                      <a:pt x="70" y="76"/>
                    </a:lnTo>
                    <a:lnTo>
                      <a:pt x="77" y="70"/>
                    </a:lnTo>
                    <a:lnTo>
                      <a:pt x="85" y="64"/>
                    </a:lnTo>
                    <a:lnTo>
                      <a:pt x="95" y="60"/>
                    </a:lnTo>
                    <a:lnTo>
                      <a:pt x="105" y="58"/>
                    </a:lnTo>
                    <a:lnTo>
                      <a:pt x="115" y="58"/>
                    </a:lnTo>
                    <a:lnTo>
                      <a:pt x="124" y="59"/>
                    </a:lnTo>
                    <a:lnTo>
                      <a:pt x="134" y="64"/>
                    </a:lnTo>
                    <a:lnTo>
                      <a:pt x="141" y="68"/>
                    </a:lnTo>
                    <a:lnTo>
                      <a:pt x="149" y="76"/>
                    </a:lnTo>
                    <a:lnTo>
                      <a:pt x="153" y="83"/>
                    </a:lnTo>
                    <a:lnTo>
                      <a:pt x="158" y="94"/>
                    </a:lnTo>
                    <a:lnTo>
                      <a:pt x="159" y="102"/>
                    </a:lnTo>
                    <a:lnTo>
                      <a:pt x="159" y="113"/>
                    </a:lnTo>
                    <a:lnTo>
                      <a:pt x="157" y="123"/>
                    </a:lnTo>
                    <a:lnTo>
                      <a:pt x="155" y="132"/>
                    </a:lnTo>
                    <a:lnTo>
                      <a:pt x="205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491"/>
              <p:cNvSpPr/>
              <p:nvPr/>
            </p:nvSpPr>
            <p:spPr>
              <a:xfrm>
                <a:off x="6737760" y="6079320"/>
                <a:ext cx="64800" cy="64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22" h="222">
                    <a:moveTo>
                      <a:pt x="205" y="174"/>
                    </a:moveTo>
                    <a:lnTo>
                      <a:pt x="210" y="163"/>
                    </a:lnTo>
                    <a:lnTo>
                      <a:pt x="215" y="153"/>
                    </a:lnTo>
                    <a:lnTo>
                      <a:pt x="217" y="142"/>
                    </a:lnTo>
                    <a:lnTo>
                      <a:pt x="221" y="133"/>
                    </a:lnTo>
                    <a:lnTo>
                      <a:pt x="221" y="122"/>
                    </a:lnTo>
                    <a:lnTo>
                      <a:pt x="222" y="111"/>
                    </a:lnTo>
                    <a:lnTo>
                      <a:pt x="221" y="100"/>
                    </a:lnTo>
                    <a:lnTo>
                      <a:pt x="221" y="90"/>
                    </a:lnTo>
                    <a:lnTo>
                      <a:pt x="217" y="80"/>
                    </a:lnTo>
                    <a:lnTo>
                      <a:pt x="213" y="69"/>
                    </a:lnTo>
                    <a:lnTo>
                      <a:pt x="209" y="58"/>
                    </a:lnTo>
                    <a:lnTo>
                      <a:pt x="204" y="49"/>
                    </a:lnTo>
                    <a:lnTo>
                      <a:pt x="197" y="40"/>
                    </a:lnTo>
                    <a:lnTo>
                      <a:pt x="189" y="32"/>
                    </a:lnTo>
                    <a:lnTo>
                      <a:pt x="181" y="25"/>
                    </a:lnTo>
                    <a:lnTo>
                      <a:pt x="174" y="19"/>
                    </a:lnTo>
                    <a:lnTo>
                      <a:pt x="163" y="12"/>
                    </a:lnTo>
                    <a:lnTo>
                      <a:pt x="153" y="8"/>
                    </a:lnTo>
                    <a:lnTo>
                      <a:pt x="142" y="4"/>
                    </a:lnTo>
                    <a:lnTo>
                      <a:pt x="133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0" y="2"/>
                    </a:lnTo>
                    <a:lnTo>
                      <a:pt x="80" y="4"/>
                    </a:lnTo>
                    <a:lnTo>
                      <a:pt x="69" y="8"/>
                    </a:lnTo>
                    <a:lnTo>
                      <a:pt x="59" y="12"/>
                    </a:lnTo>
                    <a:lnTo>
                      <a:pt x="51" y="19"/>
                    </a:lnTo>
                    <a:lnTo>
                      <a:pt x="41" y="24"/>
                    </a:lnTo>
                    <a:lnTo>
                      <a:pt x="33" y="32"/>
                    </a:lnTo>
                    <a:lnTo>
                      <a:pt x="25" y="40"/>
                    </a:lnTo>
                    <a:lnTo>
                      <a:pt x="19" y="51"/>
                    </a:lnTo>
                    <a:lnTo>
                      <a:pt x="12" y="59"/>
                    </a:lnTo>
                    <a:lnTo>
                      <a:pt x="8" y="69"/>
                    </a:lnTo>
                    <a:lnTo>
                      <a:pt x="4" y="80"/>
                    </a:lnTo>
                    <a:lnTo>
                      <a:pt x="2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0" y="122"/>
                    </a:lnTo>
                    <a:lnTo>
                      <a:pt x="2" y="133"/>
                    </a:lnTo>
                    <a:lnTo>
                      <a:pt x="4" y="142"/>
                    </a:lnTo>
                    <a:lnTo>
                      <a:pt x="8" y="153"/>
                    </a:lnTo>
                    <a:lnTo>
                      <a:pt x="12" y="163"/>
                    </a:lnTo>
                    <a:lnTo>
                      <a:pt x="19" y="172"/>
                    </a:lnTo>
                    <a:lnTo>
                      <a:pt x="24" y="181"/>
                    </a:lnTo>
                    <a:lnTo>
                      <a:pt x="33" y="189"/>
                    </a:lnTo>
                    <a:lnTo>
                      <a:pt x="40" y="196"/>
                    </a:lnTo>
                    <a:lnTo>
                      <a:pt x="51" y="205"/>
                    </a:lnTo>
                    <a:lnTo>
                      <a:pt x="57" y="207"/>
                    </a:lnTo>
                    <a:lnTo>
                      <a:pt x="63" y="211"/>
                    </a:lnTo>
                    <a:lnTo>
                      <a:pt x="70" y="213"/>
                    </a:lnTo>
                    <a:lnTo>
                      <a:pt x="78" y="217"/>
                    </a:lnTo>
                    <a:lnTo>
                      <a:pt x="86" y="218"/>
                    </a:lnTo>
                    <a:lnTo>
                      <a:pt x="93" y="221"/>
                    </a:lnTo>
                    <a:lnTo>
                      <a:pt x="101" y="221"/>
                    </a:lnTo>
                    <a:lnTo>
                      <a:pt x="110" y="222"/>
                    </a:lnTo>
                    <a:lnTo>
                      <a:pt x="117" y="221"/>
                    </a:lnTo>
                    <a:lnTo>
                      <a:pt x="124" y="221"/>
                    </a:lnTo>
                    <a:lnTo>
                      <a:pt x="131" y="218"/>
                    </a:lnTo>
                    <a:lnTo>
                      <a:pt x="140" y="217"/>
                    </a:lnTo>
                    <a:lnTo>
                      <a:pt x="147" y="215"/>
                    </a:lnTo>
                    <a:lnTo>
                      <a:pt x="154" y="212"/>
                    </a:lnTo>
                    <a:lnTo>
                      <a:pt x="162" y="209"/>
                    </a:lnTo>
                    <a:lnTo>
                      <a:pt x="170" y="206"/>
                    </a:lnTo>
                    <a:lnTo>
                      <a:pt x="141" y="159"/>
                    </a:lnTo>
                    <a:lnTo>
                      <a:pt x="134" y="160"/>
                    </a:lnTo>
                    <a:lnTo>
                      <a:pt x="127" y="163"/>
                    </a:lnTo>
                    <a:lnTo>
                      <a:pt x="118" y="163"/>
                    </a:lnTo>
                    <a:lnTo>
                      <a:pt x="111" y="164"/>
                    </a:lnTo>
                    <a:lnTo>
                      <a:pt x="103" y="163"/>
                    </a:lnTo>
                    <a:lnTo>
                      <a:pt x="94" y="162"/>
                    </a:lnTo>
                    <a:lnTo>
                      <a:pt x="87" y="159"/>
                    </a:lnTo>
                    <a:lnTo>
                      <a:pt x="82" y="157"/>
                    </a:lnTo>
                    <a:lnTo>
                      <a:pt x="72" y="148"/>
                    </a:lnTo>
                    <a:lnTo>
                      <a:pt x="66" y="141"/>
                    </a:lnTo>
                    <a:lnTo>
                      <a:pt x="62" y="131"/>
                    </a:lnTo>
                    <a:lnTo>
                      <a:pt x="59" y="122"/>
                    </a:lnTo>
                    <a:lnTo>
                      <a:pt x="58" y="111"/>
                    </a:lnTo>
                    <a:lnTo>
                      <a:pt x="59" y="101"/>
                    </a:lnTo>
                    <a:lnTo>
                      <a:pt x="62" y="90"/>
                    </a:lnTo>
                    <a:lnTo>
                      <a:pt x="68" y="82"/>
                    </a:lnTo>
                    <a:lnTo>
                      <a:pt x="74" y="72"/>
                    </a:lnTo>
                    <a:lnTo>
                      <a:pt x="82" y="66"/>
                    </a:lnTo>
                    <a:lnTo>
                      <a:pt x="90" y="61"/>
                    </a:lnTo>
                    <a:lnTo>
                      <a:pt x="101" y="59"/>
                    </a:lnTo>
                    <a:lnTo>
                      <a:pt x="111" y="58"/>
                    </a:lnTo>
                    <a:lnTo>
                      <a:pt x="122" y="59"/>
                    </a:lnTo>
                    <a:lnTo>
                      <a:pt x="131" y="61"/>
                    </a:lnTo>
                    <a:lnTo>
                      <a:pt x="142" y="67"/>
                    </a:lnTo>
                    <a:lnTo>
                      <a:pt x="150" y="73"/>
                    </a:lnTo>
                    <a:lnTo>
                      <a:pt x="157" y="82"/>
                    </a:lnTo>
                    <a:lnTo>
                      <a:pt x="160" y="90"/>
                    </a:lnTo>
                    <a:lnTo>
                      <a:pt x="165" y="101"/>
                    </a:lnTo>
                    <a:lnTo>
                      <a:pt x="165" y="111"/>
                    </a:lnTo>
                    <a:lnTo>
                      <a:pt x="164" y="122"/>
                    </a:lnTo>
                    <a:lnTo>
                      <a:pt x="160" y="131"/>
                    </a:lnTo>
                    <a:lnTo>
                      <a:pt x="157" y="142"/>
                    </a:lnTo>
                    <a:lnTo>
                      <a:pt x="205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498"/>
              <p:cNvSpPr/>
              <p:nvPr/>
            </p:nvSpPr>
            <p:spPr>
              <a:xfrm>
                <a:off x="6634440" y="6265800"/>
                <a:ext cx="23400" cy="216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40" y="0"/>
                    </a:moveTo>
                    <a:lnTo>
                      <a:pt x="38" y="0"/>
                    </a:lnTo>
                    <a:lnTo>
                      <a:pt x="35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4" y="19"/>
                    </a:lnTo>
                    <a:lnTo>
                      <a:pt x="8" y="23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5" y="49"/>
                    </a:lnTo>
                    <a:lnTo>
                      <a:pt x="9" y="58"/>
                    </a:lnTo>
                    <a:lnTo>
                      <a:pt x="12" y="65"/>
                    </a:lnTo>
                    <a:lnTo>
                      <a:pt x="14" y="70"/>
                    </a:lnTo>
                    <a:lnTo>
                      <a:pt x="16" y="73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34" y="67"/>
                    </a:lnTo>
                    <a:lnTo>
                      <a:pt x="46" y="65"/>
                    </a:lnTo>
                    <a:lnTo>
                      <a:pt x="57" y="59"/>
                    </a:lnTo>
                    <a:lnTo>
                      <a:pt x="69" y="53"/>
                    </a:lnTo>
                    <a:lnTo>
                      <a:pt x="75" y="46"/>
                    </a:lnTo>
                    <a:lnTo>
                      <a:pt x="81" y="36"/>
                    </a:lnTo>
                    <a:lnTo>
                      <a:pt x="79" y="24"/>
                    </a:lnTo>
                    <a:lnTo>
                      <a:pt x="75" y="17"/>
                    </a:lnTo>
                    <a:lnTo>
                      <a:pt x="68" y="8"/>
                    </a:lnTo>
                    <a:lnTo>
                      <a:pt x="59" y="6"/>
                    </a:lnTo>
                    <a:lnTo>
                      <a:pt x="52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499"/>
              <p:cNvSpPr/>
              <p:nvPr/>
            </p:nvSpPr>
            <p:spPr>
              <a:xfrm>
                <a:off x="6729840" y="6259680"/>
                <a:ext cx="22680" cy="208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78" h="71">
                    <a:moveTo>
                      <a:pt x="4" y="15"/>
                    </a:moveTo>
                    <a:lnTo>
                      <a:pt x="50" y="0"/>
                    </a:lnTo>
                    <a:lnTo>
                      <a:pt x="78" y="50"/>
                    </a:lnTo>
                    <a:lnTo>
                      <a:pt x="75" y="50"/>
                    </a:lnTo>
                    <a:lnTo>
                      <a:pt x="68" y="52"/>
                    </a:lnTo>
                    <a:lnTo>
                      <a:pt x="57" y="57"/>
                    </a:lnTo>
                    <a:lnTo>
                      <a:pt x="46" y="62"/>
                    </a:lnTo>
                    <a:lnTo>
                      <a:pt x="39" y="63"/>
                    </a:lnTo>
                    <a:lnTo>
                      <a:pt x="33" y="65"/>
                    </a:lnTo>
                    <a:lnTo>
                      <a:pt x="25" y="67"/>
                    </a:lnTo>
                    <a:lnTo>
                      <a:pt x="21" y="69"/>
                    </a:lnTo>
                    <a:lnTo>
                      <a:pt x="11" y="70"/>
                    </a:lnTo>
                    <a:lnTo>
                      <a:pt x="6" y="71"/>
                    </a:lnTo>
                    <a:lnTo>
                      <a:pt x="1" y="67"/>
                    </a:lnTo>
                    <a:lnTo>
                      <a:pt x="0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00"/>
              <p:cNvSpPr/>
              <p:nvPr/>
            </p:nvSpPr>
            <p:spPr>
              <a:xfrm>
                <a:off x="6777360" y="6118560"/>
                <a:ext cx="20880" cy="198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73" h="71">
                    <a:moveTo>
                      <a:pt x="73" y="30"/>
                    </a:moveTo>
                    <a:lnTo>
                      <a:pt x="71" y="30"/>
                    </a:lnTo>
                    <a:lnTo>
                      <a:pt x="69" y="35"/>
                    </a:lnTo>
                    <a:lnTo>
                      <a:pt x="63" y="41"/>
                    </a:lnTo>
                    <a:lnTo>
                      <a:pt x="57" y="48"/>
                    </a:lnTo>
                    <a:lnTo>
                      <a:pt x="48" y="54"/>
                    </a:lnTo>
                    <a:lnTo>
                      <a:pt x="40" y="61"/>
                    </a:lnTo>
                    <a:lnTo>
                      <a:pt x="31" y="66"/>
                    </a:lnTo>
                    <a:lnTo>
                      <a:pt x="24" y="71"/>
                    </a:lnTo>
                    <a:lnTo>
                      <a:pt x="16" y="70"/>
                    </a:lnTo>
                    <a:lnTo>
                      <a:pt x="11" y="66"/>
                    </a:lnTo>
                    <a:lnTo>
                      <a:pt x="6" y="59"/>
                    </a:lnTo>
                    <a:lnTo>
                      <a:pt x="4" y="5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4" y="24"/>
                    </a:lnTo>
                    <a:lnTo>
                      <a:pt x="13" y="16"/>
                    </a:lnTo>
                    <a:lnTo>
                      <a:pt x="18" y="11"/>
                    </a:lnTo>
                    <a:lnTo>
                      <a:pt x="23" y="7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6" y="4"/>
                    </a:lnTo>
                    <a:lnTo>
                      <a:pt x="43" y="7"/>
                    </a:lnTo>
                    <a:lnTo>
                      <a:pt x="52" y="13"/>
                    </a:lnTo>
                    <a:lnTo>
                      <a:pt x="59" y="18"/>
                    </a:lnTo>
                    <a:lnTo>
                      <a:pt x="66" y="24"/>
                    </a:lnTo>
                    <a:lnTo>
                      <a:pt x="71" y="28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01"/>
              <p:cNvSpPr/>
              <p:nvPr/>
            </p:nvSpPr>
            <p:spPr>
              <a:xfrm>
                <a:off x="6815160" y="6410160"/>
                <a:ext cx="28800" cy="259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49" y="3"/>
                    </a:moveTo>
                    <a:lnTo>
                      <a:pt x="47" y="4"/>
                    </a:lnTo>
                    <a:lnTo>
                      <a:pt x="45" y="8"/>
                    </a:lnTo>
                    <a:lnTo>
                      <a:pt x="40" y="14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3"/>
                    </a:lnTo>
                    <a:lnTo>
                      <a:pt x="13" y="37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4" y="53"/>
                    </a:lnTo>
                    <a:lnTo>
                      <a:pt x="11" y="64"/>
                    </a:lnTo>
                    <a:lnTo>
                      <a:pt x="18" y="72"/>
                    </a:lnTo>
                    <a:lnTo>
                      <a:pt x="25" y="82"/>
                    </a:lnTo>
                    <a:lnTo>
                      <a:pt x="30" y="88"/>
                    </a:lnTo>
                    <a:lnTo>
                      <a:pt x="32" y="90"/>
                    </a:lnTo>
                    <a:lnTo>
                      <a:pt x="35" y="88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3" y="77"/>
                    </a:lnTo>
                    <a:lnTo>
                      <a:pt x="59" y="73"/>
                    </a:lnTo>
                    <a:lnTo>
                      <a:pt x="66" y="70"/>
                    </a:lnTo>
                    <a:lnTo>
                      <a:pt x="72" y="64"/>
                    </a:lnTo>
                    <a:lnTo>
                      <a:pt x="78" y="59"/>
                    </a:lnTo>
                    <a:lnTo>
                      <a:pt x="83" y="53"/>
                    </a:lnTo>
                    <a:lnTo>
                      <a:pt x="89" y="48"/>
                    </a:lnTo>
                    <a:lnTo>
                      <a:pt x="93" y="42"/>
                    </a:lnTo>
                    <a:lnTo>
                      <a:pt x="96" y="36"/>
                    </a:lnTo>
                    <a:lnTo>
                      <a:pt x="99" y="30"/>
                    </a:lnTo>
                    <a:lnTo>
                      <a:pt x="100" y="25"/>
                    </a:lnTo>
                    <a:lnTo>
                      <a:pt x="96" y="14"/>
                    </a:lnTo>
                    <a:lnTo>
                      <a:pt x="90" y="7"/>
                    </a:lnTo>
                    <a:lnTo>
                      <a:pt x="82" y="2"/>
                    </a:lnTo>
                    <a:lnTo>
                      <a:pt x="73" y="1"/>
                    </a:lnTo>
                    <a:lnTo>
                      <a:pt x="64" y="0"/>
                    </a:lnTo>
                    <a:lnTo>
                      <a:pt x="57" y="1"/>
                    </a:lnTo>
                    <a:lnTo>
                      <a:pt x="51" y="2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Rectangle 85"/>
          <p:cNvSpPr/>
          <p:nvPr/>
        </p:nvSpPr>
        <p:spPr>
          <a:xfrm>
            <a:off x="6033960" y="488880"/>
            <a:ext cx="2224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ижний колонтитул 8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1:24:55Z</dcterms:created>
  <dc:creator/>
  <dc:description/>
  <dc:language>en-US</dc:language>
  <cp:lastModifiedBy/>
  <dcterms:modified xsi:type="dcterms:W3CDTF">2018-03-22T08:33:46Z</dcterms:modified>
  <cp:revision>232</cp:revision>
  <dc:subject/>
  <dc:title>PowerPoint Presentation</dc:title>
</cp:coreProperties>
</file>