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02CD-F1BF-4238-8BA6-47E947CDE5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ur ey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ive 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our eye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eive us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of this square seem to bulge out?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ually, all the lines are straight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illusions fool our brains into seeing things that are not really there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es the middle of this square seem to bulge out?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ually, all the lines are straight!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tical illusions fool our brains into seeing things that are not really there!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llusion is called the Penrose Triangl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ked the idea so much in Australia, they built 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nrose Triangle in Pe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illusion is called the Penrose Triangle.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liked the idea so much in Australia, they built one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enrose Triangle in Pert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what it looks like from a different angle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re’s what it looks like from a different angle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llusion fools us into thinking that something is moving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reated by Professor Akiyoshi Kitaok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of the Professor’s illusions on the FaradaySchools webs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illusion fools us into thinking that something is moving!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was created by Professor Akiyoshi Kitaoka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are more of the Professor’s illusions on the FaradaySchools websit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rise and setting of the Sun each day fooled people for thousands of years into thinking that the Sun moves around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pparent rise and setting of the Sun each day fooled people for thousands of years into thinking that the Sun moves around 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days of the ancient Hebrews, when the Creation story of Christianity, Judaism and Islam was written, most people's idea of the universe was something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days of the ancient Hebrews, when the Creation story of Christianity, Judaism and Islam was written, most people's idea of the universe was something like th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understanding today is supported by convincing evidence including photos of the Earth from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ur understanding today is supported by convincing evidence including photos of the Earth from spa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945-41D5-438F-B124-B2484F31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CE39-4336-43A2-937B-9D7B0A33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882A7-42AD-4B19-A023-DF957029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2E2D9-5B49-4941-8BB3-6F5895F4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B952C-78DB-4EB7-B79E-2A2932E9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4067F-B3F3-42B8-A99C-0ECF4306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456A0-4D3D-49DA-BD1F-1437EE28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60EDC-1BA7-40B4-9342-30799A86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93558-DA18-4D31-B1A7-2BE4E87A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05802-8663-4D4B-ACF9-39BD19B5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71F5D-4CCE-4D61-8EFF-5A0B97B7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F9DED-4C5D-4F7D-AFDA-699F653D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088-E6B9-4AAB-9C88-B23F7800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F05BD-009B-45D0-9C73-560CC79B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02A1D-7766-4907-A3F5-A00F0D13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13D8E-3945-4CB0-979F-098C9985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FBD76-A0D3-409B-A099-01CC8557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76214-79FD-4324-8D70-FE3DC4E9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E6470-6B5C-4D35-AA1F-FBA30392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358EF-E502-4519-99DE-F2721A7B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3797B-844D-4916-818E-D324957A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C7768-2DDA-40E8-9F02-051D1956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0B4FD-04EC-4F95-9C7E-9A600154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E3A-999B-47EA-B6FB-FD1E2FFA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BC480-93B7-4449-8FAC-B05FCC45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E5A76-5012-4332-A967-9E59BCAD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75685-83B0-495C-9DA8-B499C3EA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3AB7B-3410-483A-9690-2854A273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F89DB-1824-4E27-817B-00D6D02A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683EB-19A6-4F3A-86B7-4293B655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A1FA3-ACEA-429E-85BC-88E28AC4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6B773-D945-4F24-9F2B-0EC91DD7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28E80-DF1F-4466-B811-9FDAE443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C8CC9-4770-418A-BF4A-0D65D31B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079B-729C-44DD-8276-0FC7C2DC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9149C-9B87-4156-8554-87BD590E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0328D-764A-463A-AD9E-50ED6DF1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B7F71-4B94-4C7F-BE37-BD016471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6AC85-E97A-41C8-B67F-2EDC508A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35389-F0F1-4ACF-817A-0A6F0058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55B98-03AA-4D1C-A6FA-1699BDAC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CB083-19EA-4996-A68E-43F853CE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080D9-942F-4DC8-BC6E-361C9247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24CF0-0978-4729-BD6F-C2CE7103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0C952-5129-4FDE-AF98-3BB4B6F5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7185-F388-49AD-9DC6-1ED828D0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7518E-7BA2-47AF-8917-1CE3FD03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D6299-3335-43E0-A03C-FFD3763B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59E53-9ADC-4184-B743-8C2127FD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BF136-3160-445A-8072-4495C1BF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81CFC-75DA-4DEA-B2D1-5B8B87F6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8308-0F59-4452-8207-4B34B6A6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5E61-B39A-4D2B-810E-D9140B51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8B49-47F7-43BE-8E7C-4FFF2684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C686-FC68-4CE3-B260-3B4D1D3C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47BF-E271-4552-8374-5F05187D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9B8E-B885-4701-BE77-1EDB076B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D6C3-C204-451D-A138-81AA324B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6E0D-89B9-43F6-8C86-B2F1088E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0ACF-0E82-4E7A-B040-2BF157EF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45F4-5799-4093-AE08-AAE9C555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8FF8-E45D-4771-A3A6-AF2A5DEF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6B49E-90D2-4F47-B26A-AD171318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896CD-6653-4AA1-A9F4-B47D142D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AA332-06E4-4A3C-B029-A96B9997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27A75-1F34-4829-A7E1-F1E39012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6821E-142B-4B9B-A4B7-BD7352A0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75A5-E1E5-4FEE-891A-23F8BA99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AA19A-0069-4666-AD5C-6CC0C38C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4AD48-7662-46EA-AF8B-B7982A39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483BC-01DC-4A01-8602-BD860EC9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211E9-C95B-41C9-8E98-F739B003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62325-2BEB-4D48-9C2D-6B29E391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A029F-C3E3-49FC-A39F-6AE6F43F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CCA09-9400-4E46-BD98-B3987BB8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A8C73-62C0-4D89-A64E-2B29B700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F1636-14AC-446E-BD94-FAE385C3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17E04-F6E5-4113-B72F-205C60F6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B9F7-A91B-4EFA-931F-67F7EA85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6FE91-CF99-4F82-8764-374C0C84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F179E-F1B1-493E-AE06-9DB77915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BD587-E2B6-493F-8A6B-47432B43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500DB-5266-4AA8-8668-B22AB548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7CC1B-9586-4343-BEFD-7FEF62E1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BC3D2-5C10-47B9-B56D-796750CC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3CB77-C6FB-4BFB-A5B4-8E861CD0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A660F-BFE8-4767-BE4E-6BBEB4CA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076DA-3BBB-411C-966F-F480281A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6C966-784A-4A13-9A16-133E35B8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64F-BFC0-43C7-8ECE-E046320B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6B75C-5A52-476B-920E-BE0F434D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8A82B-5780-4BD0-8ABC-2DBF3031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4540A-8255-4F53-9E87-6F629EEF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8FEE1-8156-41FB-9723-869629A2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CAFCF-A362-48CA-9326-8A21CA1B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BA339-6174-446D-8D77-D6D61616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82330-4C66-45EC-BC98-B662BFB1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5585F-2040-4C41-8FB6-BECA00C5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8FAF9-77D7-47ED-94A0-AB63B1EA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5A1CC-4B2F-4ABF-9711-8CC4BDDE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52C-A0FA-45B5-8A3E-C2C73372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4EE19-76E7-48FD-B593-7076AB81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32E1F-C68D-4E9D-8226-8643BB41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5E879-9079-4299-9F67-3FF397E2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BCE8C-83D6-41BD-BFE1-8D51D370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42962-5B96-4453-AABD-36F60B69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F59FC-DB19-4816-84C4-57E23C64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515F6-8894-4B35-966B-FAE9EA1F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DF8C5-A895-43E9-BDC0-AFD0B049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AA026-10A1-4D2E-8B04-959C2BF5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1F562-3C8D-411F-BDE9-FE1C5D40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1168-6710-4128-A988-28F66CD8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02D43-9C64-4E67-984A-6FB3C8C3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48A22-5D41-4410-8FEA-047251F8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30509-0B98-4DF8-AE68-CEAA7EAE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03328-0DB1-4328-8D58-A7BBB6A3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CE5DB-2FF9-4383-9A76-4A2CB208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46378-6A58-44D7-95D1-B42391D2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5DBE0-F0FB-40A1-938E-1B48F480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C847F-1A27-4A27-B3BE-1379CC8A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681B1-A78F-4F30-9D0C-E80FEBCA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41D7B-CDAD-44FE-A76E-85CFFD25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0314-87B7-46E1-997E-2B21B936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B9B9F-01E8-42B9-9C3C-987BCA8B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AEF34-4C94-473E-8439-9F2E9ED8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F33C9-1C17-41EC-9FC3-59535037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E184C-DBEF-40E4-B9BF-97E54D03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F74FF-CDB2-4C31-ADBA-61F12E7B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E4CB6-4E6A-4B2A-A77A-76911FFD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DFF37-07EC-436D-BD9A-CC1AF26E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CFBAA-AD8A-4747-B627-819755C2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B62B1-9EAB-405B-9E37-8B0031BB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55499-5566-4E4B-96D5-D760DB09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577-6A8C-46BE-93B1-993E7B49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A886A-0409-4472-A72E-0BF552E8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2959A-F7EE-41B3-A219-1A7D36A0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26F8D-2CEB-48C0-A30B-2F1C9097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2F5C8-7755-4E0D-AEC9-FB6D280B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1FDF5-6F97-4B6E-9B10-1EDFA5DD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4CC11-A4E9-4AC2-BB3E-00CB0D68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2D0D4-1106-44F4-8CD1-307DFC87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198A9-C99A-45BC-B9B4-EABE1D72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C146D-503C-477C-A1ED-0A785A82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8B4D3-7B39-4C82-A36C-1CCFACB1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75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117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80B7-40C3-4879-90F6-FE5580F3B67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1276-4DFB-4CDE-95ED-40F6A923F22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AC1D-C629-4919-BDF3-F387C0D05F2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5060-FB4B-44EA-B7BC-E0BF68F03B3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-4874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0" y="6143760"/>
            <a:ext cx="9144000" cy="214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4B5D-677E-443B-8847-94782A5FC0F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7113600" y="6356520"/>
            <a:ext cx="15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90A7-17E4-4902-9FF0-74A53F461DE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5EE3-89F3-4E0C-AC62-CD0B51A2854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6537-2970-40F6-9037-0D5C7056AD1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8B0E-4C98-42DE-8F43-F7A353D6298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3D3E-32B0-43A4-B6F4-5C220C05804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E9CC-3097-462B-9F1B-EB10A589068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6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9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30"/>
          <p:cNvSpPr/>
          <p:nvPr/>
        </p:nvSpPr>
        <p:spPr>
          <a:xfrm>
            <a:off x="-258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69b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ction Button: Forward or Next 24">
            <a:hlinkClick r:id="" action="ppaction://hlinkshowjump?jump=nextslide"/>
          </p:cNvPr>
          <p:cNvSpPr/>
          <p:nvPr/>
        </p:nvSpPr>
        <p:spPr>
          <a:xfrm>
            <a:off x="7412040" y="6340320"/>
            <a:ext cx="984240" cy="500040"/>
          </a:xfrm>
          <a:custGeom>
            <a:avLst/>
            <a:gdLst>
              <a:gd name="textAreaLeft" fmla="*/ 32400 w 984240"/>
              <a:gd name="textAreaRight" fmla="*/ 951840 w 98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2501" h="21600">
                <a:moveTo>
                  <a:pt x="0" y="0"/>
                </a:moveTo>
                <a:lnTo>
                  <a:pt x="42501" y="0"/>
                </a:lnTo>
                <a:lnTo>
                  <a:pt x="42501" y="21600"/>
                </a:lnTo>
                <a:lnTo>
                  <a:pt x="0" y="21600"/>
                </a:lnTo>
                <a:close/>
              </a:path>
              <a:path fill="lightenLess" w="42501" h="21600">
                <a:moveTo>
                  <a:pt x="0" y="0"/>
                </a:moveTo>
                <a:lnTo>
                  <a:pt x="42501" y="0"/>
                </a:lnTo>
                <a:lnTo>
                  <a:pt x="41101" y="1400"/>
                </a:lnTo>
                <a:lnTo>
                  <a:pt x="1400" y="1400"/>
                </a:lnTo>
                <a:close/>
              </a:path>
              <a:path fill="darken" w="42501" h="21600">
                <a:moveTo>
                  <a:pt x="42501" y="0"/>
                </a:moveTo>
                <a:lnTo>
                  <a:pt x="42501" y="21600"/>
                </a:lnTo>
                <a:lnTo>
                  <a:pt x="41101" y="20200"/>
                </a:lnTo>
                <a:lnTo>
                  <a:pt x="41101" y="1400"/>
                </a:lnTo>
                <a:close/>
              </a:path>
              <a:path fill="darkenLess" w="42501" h="21600">
                <a:moveTo>
                  <a:pt x="42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1" y="20200"/>
                </a:lnTo>
                <a:close/>
              </a:path>
              <a:path fill="lighten" w="42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1" h="21600">
                <a:moveTo>
                  <a:pt x="14244" y="3794"/>
                </a:moveTo>
                <a:lnTo>
                  <a:pt x="28257" y="10800"/>
                </a:lnTo>
                <a:lnTo>
                  <a:pt x="14244" y="1780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ction Button: Back or Previous 25">
            <a:hlinkClick r:id="" action="ppaction://hlinkshowjump?jump=previousslide"/>
          </p:cNvPr>
          <p:cNvSpPr/>
          <p:nvPr/>
        </p:nvSpPr>
        <p:spPr>
          <a:xfrm>
            <a:off x="6667560" y="6394320"/>
            <a:ext cx="428400" cy="351000"/>
          </a:xfrm>
          <a:custGeom>
            <a:avLst/>
            <a:gdLst>
              <a:gd name="textAreaLeft" fmla="*/ 22680 w 428400"/>
              <a:gd name="textAreaRight" fmla="*/ 405720 w 42840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26358" h="21600">
                <a:moveTo>
                  <a:pt x="0" y="0"/>
                </a:moveTo>
                <a:lnTo>
                  <a:pt x="26358" y="0"/>
                </a:lnTo>
                <a:lnTo>
                  <a:pt x="26358" y="21600"/>
                </a:lnTo>
                <a:lnTo>
                  <a:pt x="0" y="21600"/>
                </a:lnTo>
                <a:close/>
              </a:path>
              <a:path fill="lightenLess" w="26358" h="21600">
                <a:moveTo>
                  <a:pt x="0" y="0"/>
                </a:moveTo>
                <a:lnTo>
                  <a:pt x="26358" y="0"/>
                </a:lnTo>
                <a:lnTo>
                  <a:pt x="24958" y="1400"/>
                </a:lnTo>
                <a:lnTo>
                  <a:pt x="1400" y="1400"/>
                </a:lnTo>
                <a:close/>
              </a:path>
              <a:path fill="darken" w="26358" h="21600">
                <a:moveTo>
                  <a:pt x="26358" y="0"/>
                </a:moveTo>
                <a:lnTo>
                  <a:pt x="26358" y="21600"/>
                </a:lnTo>
                <a:lnTo>
                  <a:pt x="24958" y="20200"/>
                </a:lnTo>
                <a:lnTo>
                  <a:pt x="24958" y="1400"/>
                </a:lnTo>
                <a:close/>
              </a:path>
              <a:path fill="darkenLess" w="26358" h="21600">
                <a:moveTo>
                  <a:pt x="26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8" y="20200"/>
                </a:lnTo>
                <a:close/>
              </a:path>
              <a:path fill="lighten" w="26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8" h="21600">
                <a:moveTo>
                  <a:pt x="6173" y="10800"/>
                </a:moveTo>
                <a:lnTo>
                  <a:pt x="20186" y="3794"/>
                </a:lnTo>
                <a:lnTo>
                  <a:pt x="20186" y="17806"/>
                </a:lnTo>
                <a:close/>
              </a:path>
            </a:pathLst>
          </a:custGeom>
          <a:solidFill>
            <a:srgbClr val="558ed5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6"/>
          <p:cNvSpPr/>
          <p:nvPr/>
        </p:nvSpPr>
        <p:spPr>
          <a:xfrm>
            <a:off x="1049400" y="640404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FaradaySchools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27">
            <a:hlinkClick r:id="" action="ppaction://hlinkshowjump?jump=lastslide"/>
          </p:cNvPr>
          <p:cNvSpPr/>
          <p:nvPr/>
        </p:nvSpPr>
        <p:spPr>
          <a:xfrm>
            <a:off x="5796000" y="6388200"/>
            <a:ext cx="708120" cy="36828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ction Button: Custom 28">
            <a:hlinkClick r:id="" action="ppaction://hlinkshowjump?jump=firstslide"/>
          </p:cNvPr>
          <p:cNvSpPr/>
          <p:nvPr/>
        </p:nvSpPr>
        <p:spPr>
          <a:xfrm>
            <a:off x="4795920" y="6394320"/>
            <a:ext cx="869760" cy="363600"/>
          </a:xfrm>
          <a:custGeom>
            <a:avLst/>
            <a:gdLst>
              <a:gd name="textAreaLeft" fmla="*/ 23400 w 869760"/>
              <a:gd name="textAreaRight" fmla="*/ 846360 w 86976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51639" h="21600">
                <a:moveTo>
                  <a:pt x="0" y="0"/>
                </a:moveTo>
                <a:lnTo>
                  <a:pt x="51639" y="0"/>
                </a:lnTo>
                <a:lnTo>
                  <a:pt x="51639" y="21600"/>
                </a:lnTo>
                <a:lnTo>
                  <a:pt x="0" y="21600"/>
                </a:lnTo>
                <a:close/>
              </a:path>
              <a:path fill="lightenLess" w="51639" h="21600">
                <a:moveTo>
                  <a:pt x="0" y="0"/>
                </a:moveTo>
                <a:lnTo>
                  <a:pt x="51639" y="0"/>
                </a:lnTo>
                <a:lnTo>
                  <a:pt x="50239" y="1400"/>
                </a:lnTo>
                <a:lnTo>
                  <a:pt x="1400" y="1400"/>
                </a:lnTo>
                <a:close/>
              </a:path>
              <a:path fill="darken" w="51639" h="21600">
                <a:moveTo>
                  <a:pt x="51639" y="0"/>
                </a:moveTo>
                <a:lnTo>
                  <a:pt x="51639" y="21600"/>
                </a:lnTo>
                <a:lnTo>
                  <a:pt x="50239" y="20200"/>
                </a:lnTo>
                <a:lnTo>
                  <a:pt x="50239" y="1400"/>
                </a:lnTo>
                <a:close/>
              </a:path>
              <a:path fill="darkenLess" w="51639" h="21600">
                <a:moveTo>
                  <a:pt x="5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239" y="20200"/>
                </a:lnTo>
                <a:close/>
              </a:path>
              <a:path fill="lighten" w="5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29" descr="FaradaySchools-logo.png"/>
          <p:cNvPicPr/>
          <p:nvPr/>
        </p:nvPicPr>
        <p:blipFill>
          <a:blip r:embed="rId2"/>
          <a:stretch/>
        </p:blipFill>
        <p:spPr>
          <a:xfrm>
            <a:off x="555480" y="6300720"/>
            <a:ext cx="608040" cy="576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D714-4761-4900-BBDF-1AA8D28B006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Oval 3"/>
          <p:cNvSpPr/>
          <p:nvPr/>
        </p:nvSpPr>
        <p:spPr>
          <a:xfrm flipV="1">
            <a:off x="4937040" y="5554800"/>
            <a:ext cx="738360" cy="2952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Can 4"/>
          <p:cNvSpPr/>
          <p:nvPr/>
        </p:nvSpPr>
        <p:spPr>
          <a:xfrm>
            <a:off x="5254560" y="4862520"/>
            <a:ext cx="130320" cy="860400"/>
          </a:xfrm>
          <a:prstGeom prst="can">
            <a:avLst>
              <a:gd name="adj" fmla="val 378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6" descr="C:\Users\Berry\AppData\Local\Microsoft\Windows\Temporary Internet Files\Content.IE5\JBHH6L3Y\MCj00787110000[1].wmf"/>
          <p:cNvPicPr/>
          <p:nvPr/>
        </p:nvPicPr>
        <p:blipFill>
          <a:blip r:embed="rId1"/>
          <a:stretch/>
        </p:blipFill>
        <p:spPr>
          <a:xfrm flipH="1">
            <a:off x="2946240" y="3724200"/>
            <a:ext cx="935280" cy="1998720"/>
          </a:xfrm>
          <a:prstGeom prst="rect">
            <a:avLst/>
          </a:prstGeom>
          <a:ln w="0">
            <a:noFill/>
          </a:ln>
        </p:spPr>
      </p:pic>
      <p:pic>
        <p:nvPicPr>
          <p:cNvPr id="626" name="Rectangle 6" descr=""/>
          <p:cNvPicPr/>
          <p:nvPr/>
        </p:nvPicPr>
        <p:blipFill>
          <a:blip r:embed="rId2"/>
          <a:stretch/>
        </p:blipFill>
        <p:spPr>
          <a:xfrm>
            <a:off x="219240" y="255600"/>
            <a:ext cx="8454960" cy="35481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http://www.psy.ritsumei.ac.jp/~akitaoka/damashiePenrose.jpg"/>
          <p:cNvPicPr/>
          <p:nvPr/>
        </p:nvPicPr>
        <p:blipFill>
          <a:blip r:embed="rId3"/>
          <a:stretch/>
        </p:blipFill>
        <p:spPr>
          <a:xfrm rot="18364800">
            <a:off x="4211280" y="3520800"/>
            <a:ext cx="1920960" cy="1793880"/>
          </a:xfrm>
          <a:prstGeom prst="rect">
            <a:avLst/>
          </a:prstGeom>
          <a:ln w="0">
            <a:noFill/>
          </a:ln>
        </p:spPr>
      </p:pic>
      <p:sp>
        <p:nvSpPr>
          <p:cNvPr id="628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37480" y="2482920"/>
            <a:ext cx="215712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es the middle of this square seem to bulge out?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tually, all the lines are straight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ptical illusions fool our brains into seeing things that are not really there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4" descr="http://www.psy.ritsumei.ac.jp/~akitaoka/Bulge02cplastic.jpg"/>
          <p:cNvPicPr/>
          <p:nvPr/>
        </p:nvPicPr>
        <p:blipFill>
          <a:blip r:embed="rId1"/>
          <a:stretch/>
        </p:blipFill>
        <p:spPr>
          <a:xfrm>
            <a:off x="498600" y="133200"/>
            <a:ext cx="6099120" cy="6078600"/>
          </a:xfrm>
          <a:prstGeom prst="rect">
            <a:avLst/>
          </a:prstGeom>
          <a:ln w="0">
            <a:noFill/>
          </a:ln>
        </p:spPr>
      </p:pic>
      <p:sp>
        <p:nvSpPr>
          <p:cNvPr id="63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4" descr="http://www.psy.ritsumei.ac.jp/~akitaoka/impossiblePerth.jpg"/>
          <p:cNvPicPr/>
          <p:nvPr/>
        </p:nvPicPr>
        <p:blipFill>
          <a:blip r:embed="rId1"/>
          <a:srcRect l="15922" t="11172" r="20810" b="0"/>
          <a:stretch/>
        </p:blipFill>
        <p:spPr>
          <a:xfrm>
            <a:off x="374760" y="415800"/>
            <a:ext cx="5160960" cy="54342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http://www.psy.ritsumei.ac.jp/~akitaoka/fukano01.gif"/>
          <p:cNvPicPr/>
          <p:nvPr/>
        </p:nvPicPr>
        <p:blipFill>
          <a:blip r:embed="rId2"/>
          <a:srcRect l="17666" t="0" r="23551" b="0"/>
          <a:stretch/>
        </p:blipFill>
        <p:spPr>
          <a:xfrm>
            <a:off x="7381800" y="644400"/>
            <a:ext cx="1762200" cy="32688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" descr="http://www.psy.ritsumei.ac.jp/~akitaoka/damashiePenrose.jpg"/>
          <p:cNvPicPr/>
          <p:nvPr/>
        </p:nvPicPr>
        <p:blipFill>
          <a:blip r:embed="rId3"/>
          <a:stretch/>
        </p:blipFill>
        <p:spPr>
          <a:xfrm>
            <a:off x="4800600" y="2882880"/>
            <a:ext cx="3666960" cy="342108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757840" y="1218960"/>
            <a:ext cx="182088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illusion is called the Penrose Triangle.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liked the idea so much in Australia, they built on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itle 1"/>
          <p:cNvSpPr/>
          <p:nvPr/>
        </p:nvSpPr>
        <p:spPr>
          <a:xfrm>
            <a:off x="1198440" y="5850000"/>
            <a:ext cx="33130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Penrose Triangle in Pert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http://upload.wikimedia.org/wikipedia/commons/3/38/Perth_Impossible_Triangle.jpg"/>
          <p:cNvPicPr/>
          <p:nvPr/>
        </p:nvPicPr>
        <p:blipFill>
          <a:blip r:embed="rId1"/>
          <a:srcRect l="6159" t="0" r="70078" b="16673"/>
          <a:stretch/>
        </p:blipFill>
        <p:spPr>
          <a:xfrm>
            <a:off x="426960" y="279360"/>
            <a:ext cx="6326280" cy="56023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081560" y="1366560"/>
            <a:ext cx="1749240" cy="10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ere’s what it looks like from a different angle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4" descr="http://www.psy.ritsumei.ac.jp/~akitaoka/impossiblePerth.jpg"/>
          <p:cNvPicPr/>
          <p:nvPr/>
        </p:nvPicPr>
        <p:blipFill>
          <a:blip r:embed="rId2"/>
          <a:srcRect l="15930" t="11167" r="20812" b="0"/>
          <a:stretch/>
        </p:blipFill>
        <p:spPr>
          <a:xfrm>
            <a:off x="6950160" y="3902040"/>
            <a:ext cx="1881000" cy="1979640"/>
          </a:xfrm>
          <a:prstGeom prst="rect">
            <a:avLst/>
          </a:prstGeom>
          <a:ln w="0">
            <a:noFill/>
          </a:ln>
        </p:spPr>
      </p:pic>
      <p:sp>
        <p:nvSpPr>
          <p:cNvPr id="64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http://www.ritsumei.ac.jp/~akitaoka/rotsnake.gif"/>
          <p:cNvPicPr/>
          <p:nvPr/>
        </p:nvPicPr>
        <p:blipFill>
          <a:blip r:embed="rId1"/>
          <a:stretch/>
        </p:blipFill>
        <p:spPr>
          <a:xfrm>
            <a:off x="122400" y="214200"/>
            <a:ext cx="7164360" cy="537372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26440" y="1423800"/>
            <a:ext cx="1568160" cy="10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illusion fools us into thinking that something is moving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t was created by Professor Akiyoshi Kitaok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2" descr="http://faradayschools.com/wp-content/uploads/Professor-Akiyoshi-Kitaoka.jpg"/>
          <p:cNvPicPr/>
          <p:nvPr/>
        </p:nvPicPr>
        <p:blipFill>
          <a:blip r:embed="rId2"/>
          <a:stretch/>
        </p:blipFill>
        <p:spPr>
          <a:xfrm>
            <a:off x="7426440" y="4413240"/>
            <a:ext cx="1533240" cy="1685880"/>
          </a:xfrm>
          <a:prstGeom prst="rect">
            <a:avLst/>
          </a:prstGeom>
          <a:ln w="0">
            <a:noFill/>
          </a:ln>
        </p:spPr>
      </p:pic>
      <p:sp>
        <p:nvSpPr>
          <p:cNvPr id="645" name="Title 1"/>
          <p:cNvSpPr/>
          <p:nvPr/>
        </p:nvSpPr>
        <p:spPr>
          <a:xfrm>
            <a:off x="1747800" y="5587920"/>
            <a:ext cx="4560840" cy="5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re are more of the Professor’s illusions on the FaradaySchools websit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http://upload.wikimedia.org/wikipedia/commons/1/10/Sunrise_in_Constanta%2CRomania.JPG"/>
          <p:cNvPicPr/>
          <p:nvPr/>
        </p:nvPicPr>
        <p:blipFill>
          <a:blip r:embed="rId1"/>
          <a:srcRect l="31647" t="25491" r="17932" b="14815"/>
          <a:stretch/>
        </p:blipFill>
        <p:spPr>
          <a:xfrm>
            <a:off x="176040" y="314280"/>
            <a:ext cx="6526440" cy="57927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37480" y="2151000"/>
            <a:ext cx="210960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apparent rise and setting of the Sun each day fooled people for thousands of years into thinking that the Sun moves around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30" descr="firmament.gif"/>
          <p:cNvPicPr/>
          <p:nvPr/>
        </p:nvPicPr>
        <p:blipFill>
          <a:blip r:embed="rId1"/>
          <a:stretch/>
        </p:blipFill>
        <p:spPr>
          <a:xfrm>
            <a:off x="331920" y="627120"/>
            <a:ext cx="6629400" cy="517032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31"/>
          <p:cNvSpPr/>
          <p:nvPr/>
        </p:nvSpPr>
        <p:spPr>
          <a:xfrm>
            <a:off x="7112160" y="1163520"/>
            <a:ext cx="1677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the days of the ancient Hebrews, when the Creation story of Christianity, Judaism and Islam was written, most people's idea of the universe was something like thi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0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2" descr="http://upload.wikimedia.org/wikipedia/commons/1/1f/As08-16-2593.jpg"/>
          <p:cNvPicPr/>
          <p:nvPr/>
        </p:nvPicPr>
        <p:blipFill>
          <a:blip r:embed="rId1"/>
          <a:srcRect l="18081" t="30394" r="0" b="0"/>
          <a:stretch/>
        </p:blipFill>
        <p:spPr>
          <a:xfrm>
            <a:off x="588960" y="173160"/>
            <a:ext cx="5634000" cy="4786200"/>
          </a:xfrm>
          <a:prstGeom prst="rect">
            <a:avLst/>
          </a:prstGeom>
          <a:ln w="0">
            <a:noFill/>
          </a:ln>
        </p:spPr>
      </p:pic>
      <p:grpSp>
        <p:nvGrpSpPr>
          <p:cNvPr id="655" name="Group 83"/>
          <p:cNvGrpSpPr/>
          <p:nvPr/>
        </p:nvGrpSpPr>
        <p:grpSpPr>
          <a:xfrm>
            <a:off x="4352760" y="4595760"/>
            <a:ext cx="4035600" cy="1841400"/>
            <a:chOff x="4352760" y="4595760"/>
            <a:chExt cx="4035600" cy="1841400"/>
          </a:xfrm>
        </p:grpSpPr>
        <p:sp>
          <p:nvSpPr>
            <p:cNvPr id="656" name="Oval 507"/>
            <p:cNvSpPr/>
            <p:nvPr/>
          </p:nvSpPr>
          <p:spPr>
            <a:xfrm>
              <a:off x="4352760" y="4659840"/>
              <a:ext cx="4035600" cy="1305360"/>
            </a:xfrm>
            <a:prstGeom prst="ellipse">
              <a:avLst/>
            </a:prstGeom>
            <a:noFill/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7" name="Group 274" descr=""/>
            <p:cNvPicPr/>
            <p:nvPr/>
          </p:nvPicPr>
          <p:blipFill>
            <a:blip r:embed="rId2"/>
            <a:stretch/>
          </p:blipFill>
          <p:spPr>
            <a:xfrm>
              <a:off x="6095880" y="4595760"/>
              <a:ext cx="68868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Oval 220"/>
            <p:cNvSpPr/>
            <p:nvPr/>
          </p:nvSpPr>
          <p:spPr>
            <a:xfrm>
              <a:off x="6033960" y="5721120"/>
              <a:ext cx="1084320" cy="36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222"/>
            <p:cNvSpPr/>
            <p:nvPr/>
          </p:nvSpPr>
          <p:spPr>
            <a:xfrm>
              <a:off x="6931080" y="5639400"/>
              <a:ext cx="1084320" cy="36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505"/>
            <p:cNvSpPr/>
            <p:nvPr/>
          </p:nvSpPr>
          <p:spPr>
            <a:xfrm>
              <a:off x="6183360" y="5673960"/>
              <a:ext cx="1838520" cy="536040"/>
            </a:xfrm>
            <a:prstGeom prst="ellipse">
              <a:avLst/>
            </a:prstGeom>
            <a:noFill/>
            <a:ln w="5724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Group 221"/>
            <p:cNvGrpSpPr/>
            <p:nvPr/>
          </p:nvGrpSpPr>
          <p:grpSpPr>
            <a:xfrm>
              <a:off x="6819120" y="5394240"/>
              <a:ext cx="680760" cy="742680"/>
              <a:chOff x="6819120" y="5394240"/>
              <a:chExt cx="680760" cy="742680"/>
            </a:xfrm>
          </p:grpSpPr>
          <p:sp>
            <p:nvSpPr>
              <p:cNvPr id="662" name="Oval 509"/>
              <p:cNvSpPr/>
              <p:nvPr/>
            </p:nvSpPr>
            <p:spPr>
              <a:xfrm>
                <a:off x="6840360" y="5394240"/>
                <a:ext cx="658800" cy="687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3" name="Picture 2" descr="C:\Users\Berry\AppData\Local\Microsoft\Windows\Temporary Internet Files\Content.IE5\1FPHSRV6\MC900438504[1].jpg"/>
              <p:cNvPicPr/>
              <p:nvPr/>
            </p:nvPicPr>
            <p:blipFill>
              <a:blip r:embed="rId3"/>
              <a:stretch/>
            </p:blipFill>
            <p:spPr>
              <a:xfrm>
                <a:off x="6819120" y="5394960"/>
                <a:ext cx="680760" cy="741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4" name="Group 156"/>
            <p:cNvGrpSpPr/>
            <p:nvPr/>
          </p:nvGrpSpPr>
          <p:grpSpPr>
            <a:xfrm>
              <a:off x="6557400" y="6006240"/>
              <a:ext cx="408240" cy="430920"/>
              <a:chOff x="6557400" y="6006240"/>
              <a:chExt cx="408240" cy="430920"/>
            </a:xfrm>
          </p:grpSpPr>
          <p:sp>
            <p:nvSpPr>
              <p:cNvPr id="665" name="Freeform 484"/>
              <p:cNvSpPr/>
              <p:nvPr/>
            </p:nvSpPr>
            <p:spPr>
              <a:xfrm>
                <a:off x="6557760" y="6006240"/>
                <a:ext cx="395280" cy="415080"/>
              </a:xfrm>
              <a:custGeom>
                <a:avLst/>
                <a:gdLst/>
                <a:ahLst/>
                <a:rect l="l" t="t" r="r" b="b"/>
                <a:pathLst>
                  <a:path w="1357" h="1430">
                    <a:moveTo>
                      <a:pt x="1181" y="183"/>
                    </a:moveTo>
                    <a:lnTo>
                      <a:pt x="1177" y="181"/>
                    </a:lnTo>
                    <a:lnTo>
                      <a:pt x="1171" y="175"/>
                    </a:lnTo>
                    <a:lnTo>
                      <a:pt x="1165" y="170"/>
                    </a:lnTo>
                    <a:lnTo>
                      <a:pt x="1159" y="165"/>
                    </a:lnTo>
                    <a:lnTo>
                      <a:pt x="1152" y="159"/>
                    </a:lnTo>
                    <a:lnTo>
                      <a:pt x="1145" y="154"/>
                    </a:lnTo>
                    <a:lnTo>
                      <a:pt x="1134" y="147"/>
                    </a:lnTo>
                    <a:lnTo>
                      <a:pt x="1124" y="140"/>
                    </a:lnTo>
                    <a:lnTo>
                      <a:pt x="1113" y="132"/>
                    </a:lnTo>
                    <a:lnTo>
                      <a:pt x="1103" y="124"/>
                    </a:lnTo>
                    <a:lnTo>
                      <a:pt x="1095" y="119"/>
                    </a:lnTo>
                    <a:lnTo>
                      <a:pt x="1088" y="116"/>
                    </a:lnTo>
                    <a:lnTo>
                      <a:pt x="1081" y="111"/>
                    </a:lnTo>
                    <a:lnTo>
                      <a:pt x="1075" y="107"/>
                    </a:lnTo>
                    <a:lnTo>
                      <a:pt x="1068" y="103"/>
                    </a:lnTo>
                    <a:lnTo>
                      <a:pt x="1060" y="99"/>
                    </a:lnTo>
                    <a:lnTo>
                      <a:pt x="1053" y="95"/>
                    </a:lnTo>
                    <a:lnTo>
                      <a:pt x="1046" y="92"/>
                    </a:lnTo>
                    <a:lnTo>
                      <a:pt x="1036" y="87"/>
                    </a:lnTo>
                    <a:lnTo>
                      <a:pt x="1029" y="82"/>
                    </a:lnTo>
                    <a:lnTo>
                      <a:pt x="1019" y="77"/>
                    </a:lnTo>
                    <a:lnTo>
                      <a:pt x="1012" y="74"/>
                    </a:lnTo>
                    <a:lnTo>
                      <a:pt x="1003" y="69"/>
                    </a:lnTo>
                    <a:lnTo>
                      <a:pt x="994" y="65"/>
                    </a:lnTo>
                    <a:lnTo>
                      <a:pt x="984" y="62"/>
                    </a:lnTo>
                    <a:lnTo>
                      <a:pt x="976" y="58"/>
                    </a:lnTo>
                    <a:lnTo>
                      <a:pt x="965" y="53"/>
                    </a:lnTo>
                    <a:lnTo>
                      <a:pt x="955" y="50"/>
                    </a:lnTo>
                    <a:lnTo>
                      <a:pt x="946" y="45"/>
                    </a:lnTo>
                    <a:lnTo>
                      <a:pt x="936" y="41"/>
                    </a:lnTo>
                    <a:lnTo>
                      <a:pt x="925" y="37"/>
                    </a:lnTo>
                    <a:lnTo>
                      <a:pt x="916" y="34"/>
                    </a:lnTo>
                    <a:lnTo>
                      <a:pt x="905" y="30"/>
                    </a:lnTo>
                    <a:lnTo>
                      <a:pt x="895" y="28"/>
                    </a:lnTo>
                    <a:lnTo>
                      <a:pt x="883" y="24"/>
                    </a:lnTo>
                    <a:lnTo>
                      <a:pt x="872" y="21"/>
                    </a:lnTo>
                    <a:lnTo>
                      <a:pt x="861" y="18"/>
                    </a:lnTo>
                    <a:lnTo>
                      <a:pt x="851" y="16"/>
                    </a:lnTo>
                    <a:lnTo>
                      <a:pt x="839" y="12"/>
                    </a:lnTo>
                    <a:lnTo>
                      <a:pt x="828" y="11"/>
                    </a:lnTo>
                    <a:lnTo>
                      <a:pt x="817" y="9"/>
                    </a:lnTo>
                    <a:lnTo>
                      <a:pt x="806" y="7"/>
                    </a:lnTo>
                    <a:lnTo>
                      <a:pt x="793" y="5"/>
                    </a:lnTo>
                    <a:lnTo>
                      <a:pt x="782" y="4"/>
                    </a:lnTo>
                    <a:lnTo>
                      <a:pt x="769" y="1"/>
                    </a:lnTo>
                    <a:lnTo>
                      <a:pt x="758" y="1"/>
                    </a:lnTo>
                    <a:lnTo>
                      <a:pt x="744" y="0"/>
                    </a:lnTo>
                    <a:lnTo>
                      <a:pt x="734" y="0"/>
                    </a:lnTo>
                    <a:lnTo>
                      <a:pt x="720" y="0"/>
                    </a:lnTo>
                    <a:lnTo>
                      <a:pt x="709" y="1"/>
                    </a:lnTo>
                    <a:lnTo>
                      <a:pt x="696" y="1"/>
                    </a:lnTo>
                    <a:lnTo>
                      <a:pt x="684" y="1"/>
                    </a:lnTo>
                    <a:lnTo>
                      <a:pt x="672" y="1"/>
                    </a:lnTo>
                    <a:lnTo>
                      <a:pt x="660" y="3"/>
                    </a:lnTo>
                    <a:lnTo>
                      <a:pt x="647" y="3"/>
                    </a:lnTo>
                    <a:lnTo>
                      <a:pt x="635" y="5"/>
                    </a:lnTo>
                    <a:lnTo>
                      <a:pt x="621" y="6"/>
                    </a:lnTo>
                    <a:lnTo>
                      <a:pt x="609" y="10"/>
                    </a:lnTo>
                    <a:lnTo>
                      <a:pt x="602" y="10"/>
                    </a:lnTo>
                    <a:lnTo>
                      <a:pt x="596" y="11"/>
                    </a:lnTo>
                    <a:lnTo>
                      <a:pt x="589" y="12"/>
                    </a:lnTo>
                    <a:lnTo>
                      <a:pt x="583" y="13"/>
                    </a:lnTo>
                    <a:lnTo>
                      <a:pt x="570" y="17"/>
                    </a:lnTo>
                    <a:lnTo>
                      <a:pt x="558" y="21"/>
                    </a:lnTo>
                    <a:lnTo>
                      <a:pt x="544" y="24"/>
                    </a:lnTo>
                    <a:lnTo>
                      <a:pt x="532" y="28"/>
                    </a:lnTo>
                    <a:lnTo>
                      <a:pt x="519" y="33"/>
                    </a:lnTo>
                    <a:lnTo>
                      <a:pt x="507" y="39"/>
                    </a:lnTo>
                    <a:lnTo>
                      <a:pt x="489" y="45"/>
                    </a:lnTo>
                    <a:lnTo>
                      <a:pt x="472" y="51"/>
                    </a:lnTo>
                    <a:lnTo>
                      <a:pt x="455" y="58"/>
                    </a:lnTo>
                    <a:lnTo>
                      <a:pt x="441" y="65"/>
                    </a:lnTo>
                    <a:lnTo>
                      <a:pt x="424" y="72"/>
                    </a:lnTo>
                    <a:lnTo>
                      <a:pt x="408" y="80"/>
                    </a:lnTo>
                    <a:lnTo>
                      <a:pt x="394" y="88"/>
                    </a:lnTo>
                    <a:lnTo>
                      <a:pt x="379" y="98"/>
                    </a:lnTo>
                    <a:lnTo>
                      <a:pt x="363" y="105"/>
                    </a:lnTo>
                    <a:lnTo>
                      <a:pt x="349" y="113"/>
                    </a:lnTo>
                    <a:lnTo>
                      <a:pt x="336" y="122"/>
                    </a:lnTo>
                    <a:lnTo>
                      <a:pt x="321" y="133"/>
                    </a:lnTo>
                    <a:lnTo>
                      <a:pt x="308" y="141"/>
                    </a:lnTo>
                    <a:lnTo>
                      <a:pt x="296" y="151"/>
                    </a:lnTo>
                    <a:lnTo>
                      <a:pt x="283" y="160"/>
                    </a:lnTo>
                    <a:lnTo>
                      <a:pt x="271" y="171"/>
                    </a:lnTo>
                    <a:lnTo>
                      <a:pt x="257" y="181"/>
                    </a:lnTo>
                    <a:lnTo>
                      <a:pt x="245" y="191"/>
                    </a:lnTo>
                    <a:lnTo>
                      <a:pt x="232" y="201"/>
                    </a:lnTo>
                    <a:lnTo>
                      <a:pt x="221" y="212"/>
                    </a:lnTo>
                    <a:lnTo>
                      <a:pt x="210" y="223"/>
                    </a:lnTo>
                    <a:lnTo>
                      <a:pt x="199" y="234"/>
                    </a:lnTo>
                    <a:lnTo>
                      <a:pt x="189" y="245"/>
                    </a:lnTo>
                    <a:lnTo>
                      <a:pt x="179" y="257"/>
                    </a:lnTo>
                    <a:lnTo>
                      <a:pt x="168" y="268"/>
                    </a:lnTo>
                    <a:lnTo>
                      <a:pt x="157" y="280"/>
                    </a:lnTo>
                    <a:lnTo>
                      <a:pt x="148" y="292"/>
                    </a:lnTo>
                    <a:lnTo>
                      <a:pt x="139" y="304"/>
                    </a:lnTo>
                    <a:lnTo>
                      <a:pt x="129" y="315"/>
                    </a:lnTo>
                    <a:lnTo>
                      <a:pt x="121" y="328"/>
                    </a:lnTo>
                    <a:lnTo>
                      <a:pt x="114" y="340"/>
                    </a:lnTo>
                    <a:lnTo>
                      <a:pt x="107" y="353"/>
                    </a:lnTo>
                    <a:lnTo>
                      <a:pt x="98" y="364"/>
                    </a:lnTo>
                    <a:lnTo>
                      <a:pt x="90" y="378"/>
                    </a:lnTo>
                    <a:lnTo>
                      <a:pt x="82" y="390"/>
                    </a:lnTo>
                    <a:lnTo>
                      <a:pt x="75" y="403"/>
                    </a:lnTo>
                    <a:lnTo>
                      <a:pt x="68" y="415"/>
                    </a:lnTo>
                    <a:lnTo>
                      <a:pt x="62" y="428"/>
                    </a:lnTo>
                    <a:lnTo>
                      <a:pt x="56" y="440"/>
                    </a:lnTo>
                    <a:lnTo>
                      <a:pt x="51" y="455"/>
                    </a:lnTo>
                    <a:lnTo>
                      <a:pt x="45" y="467"/>
                    </a:lnTo>
                    <a:lnTo>
                      <a:pt x="40" y="480"/>
                    </a:lnTo>
                    <a:lnTo>
                      <a:pt x="34" y="493"/>
                    </a:lnTo>
                    <a:lnTo>
                      <a:pt x="31" y="507"/>
                    </a:lnTo>
                    <a:lnTo>
                      <a:pt x="27" y="520"/>
                    </a:lnTo>
                    <a:lnTo>
                      <a:pt x="23" y="533"/>
                    </a:lnTo>
                    <a:lnTo>
                      <a:pt x="20" y="546"/>
                    </a:lnTo>
                    <a:lnTo>
                      <a:pt x="17" y="561"/>
                    </a:lnTo>
                    <a:lnTo>
                      <a:pt x="14" y="574"/>
                    </a:lnTo>
                    <a:lnTo>
                      <a:pt x="10" y="589"/>
                    </a:lnTo>
                    <a:lnTo>
                      <a:pt x="8" y="601"/>
                    </a:lnTo>
                    <a:lnTo>
                      <a:pt x="6" y="614"/>
                    </a:lnTo>
                    <a:lnTo>
                      <a:pt x="4" y="628"/>
                    </a:lnTo>
                    <a:lnTo>
                      <a:pt x="3" y="640"/>
                    </a:lnTo>
                    <a:lnTo>
                      <a:pt x="2" y="655"/>
                    </a:lnTo>
                    <a:lnTo>
                      <a:pt x="2" y="668"/>
                    </a:lnTo>
                    <a:lnTo>
                      <a:pt x="0" y="681"/>
                    </a:lnTo>
                    <a:lnTo>
                      <a:pt x="0" y="696"/>
                    </a:lnTo>
                    <a:lnTo>
                      <a:pt x="0" y="708"/>
                    </a:lnTo>
                    <a:lnTo>
                      <a:pt x="2" y="724"/>
                    </a:lnTo>
                    <a:lnTo>
                      <a:pt x="2" y="736"/>
                    </a:lnTo>
                    <a:lnTo>
                      <a:pt x="4" y="750"/>
                    </a:lnTo>
                    <a:lnTo>
                      <a:pt x="5" y="763"/>
                    </a:lnTo>
                    <a:lnTo>
                      <a:pt x="9" y="778"/>
                    </a:lnTo>
                    <a:lnTo>
                      <a:pt x="10" y="790"/>
                    </a:lnTo>
                    <a:lnTo>
                      <a:pt x="12" y="802"/>
                    </a:lnTo>
                    <a:lnTo>
                      <a:pt x="14" y="814"/>
                    </a:lnTo>
                    <a:lnTo>
                      <a:pt x="16" y="825"/>
                    </a:lnTo>
                    <a:lnTo>
                      <a:pt x="17" y="836"/>
                    </a:lnTo>
                    <a:lnTo>
                      <a:pt x="20" y="848"/>
                    </a:lnTo>
                    <a:lnTo>
                      <a:pt x="22" y="859"/>
                    </a:lnTo>
                    <a:lnTo>
                      <a:pt x="25" y="870"/>
                    </a:lnTo>
                    <a:lnTo>
                      <a:pt x="26" y="880"/>
                    </a:lnTo>
                    <a:lnTo>
                      <a:pt x="28" y="890"/>
                    </a:lnTo>
                    <a:lnTo>
                      <a:pt x="31" y="900"/>
                    </a:lnTo>
                    <a:lnTo>
                      <a:pt x="33" y="909"/>
                    </a:lnTo>
                    <a:lnTo>
                      <a:pt x="34" y="918"/>
                    </a:lnTo>
                    <a:lnTo>
                      <a:pt x="38" y="926"/>
                    </a:lnTo>
                    <a:lnTo>
                      <a:pt x="39" y="936"/>
                    </a:lnTo>
                    <a:lnTo>
                      <a:pt x="43" y="945"/>
                    </a:lnTo>
                    <a:lnTo>
                      <a:pt x="44" y="953"/>
                    </a:lnTo>
                    <a:lnTo>
                      <a:pt x="46" y="960"/>
                    </a:lnTo>
                    <a:lnTo>
                      <a:pt x="49" y="967"/>
                    </a:lnTo>
                    <a:lnTo>
                      <a:pt x="51" y="976"/>
                    </a:lnTo>
                    <a:lnTo>
                      <a:pt x="53" y="982"/>
                    </a:lnTo>
                    <a:lnTo>
                      <a:pt x="56" y="990"/>
                    </a:lnTo>
                    <a:lnTo>
                      <a:pt x="58" y="997"/>
                    </a:lnTo>
                    <a:lnTo>
                      <a:pt x="62" y="1005"/>
                    </a:lnTo>
                    <a:lnTo>
                      <a:pt x="67" y="1017"/>
                    </a:lnTo>
                    <a:lnTo>
                      <a:pt x="73" y="1030"/>
                    </a:lnTo>
                    <a:lnTo>
                      <a:pt x="78" y="1041"/>
                    </a:lnTo>
                    <a:lnTo>
                      <a:pt x="85" y="1053"/>
                    </a:lnTo>
                    <a:lnTo>
                      <a:pt x="90" y="1062"/>
                    </a:lnTo>
                    <a:lnTo>
                      <a:pt x="96" y="1073"/>
                    </a:lnTo>
                    <a:lnTo>
                      <a:pt x="103" y="1083"/>
                    </a:lnTo>
                    <a:lnTo>
                      <a:pt x="110" y="1094"/>
                    </a:lnTo>
                    <a:lnTo>
                      <a:pt x="116" y="1102"/>
                    </a:lnTo>
                    <a:lnTo>
                      <a:pt x="123" y="1113"/>
                    </a:lnTo>
                    <a:lnTo>
                      <a:pt x="131" y="1122"/>
                    </a:lnTo>
                    <a:lnTo>
                      <a:pt x="139" y="1132"/>
                    </a:lnTo>
                    <a:lnTo>
                      <a:pt x="146" y="1142"/>
                    </a:lnTo>
                    <a:lnTo>
                      <a:pt x="155" y="1152"/>
                    </a:lnTo>
                    <a:lnTo>
                      <a:pt x="163" y="1161"/>
                    </a:lnTo>
                    <a:lnTo>
                      <a:pt x="173" y="1172"/>
                    </a:lnTo>
                    <a:lnTo>
                      <a:pt x="181" y="1183"/>
                    </a:lnTo>
                    <a:lnTo>
                      <a:pt x="191" y="1194"/>
                    </a:lnTo>
                    <a:lnTo>
                      <a:pt x="195" y="1200"/>
                    </a:lnTo>
                    <a:lnTo>
                      <a:pt x="201" y="1206"/>
                    </a:lnTo>
                    <a:lnTo>
                      <a:pt x="205" y="1213"/>
                    </a:lnTo>
                    <a:lnTo>
                      <a:pt x="211" y="1220"/>
                    </a:lnTo>
                    <a:lnTo>
                      <a:pt x="215" y="1225"/>
                    </a:lnTo>
                    <a:lnTo>
                      <a:pt x="221" y="1232"/>
                    </a:lnTo>
                    <a:lnTo>
                      <a:pt x="227" y="1237"/>
                    </a:lnTo>
                    <a:lnTo>
                      <a:pt x="234" y="1245"/>
                    </a:lnTo>
                    <a:lnTo>
                      <a:pt x="240" y="1249"/>
                    </a:lnTo>
                    <a:lnTo>
                      <a:pt x="248" y="1255"/>
                    </a:lnTo>
                    <a:lnTo>
                      <a:pt x="256" y="1261"/>
                    </a:lnTo>
                    <a:lnTo>
                      <a:pt x="265" y="1267"/>
                    </a:lnTo>
                    <a:lnTo>
                      <a:pt x="272" y="1272"/>
                    </a:lnTo>
                    <a:lnTo>
                      <a:pt x="281" y="1278"/>
                    </a:lnTo>
                    <a:lnTo>
                      <a:pt x="290" y="1283"/>
                    </a:lnTo>
                    <a:lnTo>
                      <a:pt x="301" y="1289"/>
                    </a:lnTo>
                    <a:lnTo>
                      <a:pt x="309" y="1294"/>
                    </a:lnTo>
                    <a:lnTo>
                      <a:pt x="320" y="1300"/>
                    </a:lnTo>
                    <a:lnTo>
                      <a:pt x="331" y="1305"/>
                    </a:lnTo>
                    <a:lnTo>
                      <a:pt x="342" y="1311"/>
                    </a:lnTo>
                    <a:lnTo>
                      <a:pt x="350" y="1314"/>
                    </a:lnTo>
                    <a:lnTo>
                      <a:pt x="361" y="1319"/>
                    </a:lnTo>
                    <a:lnTo>
                      <a:pt x="372" y="1323"/>
                    </a:lnTo>
                    <a:lnTo>
                      <a:pt x="384" y="1328"/>
                    </a:lnTo>
                    <a:lnTo>
                      <a:pt x="395" y="1331"/>
                    </a:lnTo>
                    <a:lnTo>
                      <a:pt x="407" y="1336"/>
                    </a:lnTo>
                    <a:lnTo>
                      <a:pt x="419" y="1341"/>
                    </a:lnTo>
                    <a:lnTo>
                      <a:pt x="431" y="1346"/>
                    </a:lnTo>
                    <a:lnTo>
                      <a:pt x="442" y="1349"/>
                    </a:lnTo>
                    <a:lnTo>
                      <a:pt x="454" y="1353"/>
                    </a:lnTo>
                    <a:lnTo>
                      <a:pt x="466" y="1357"/>
                    </a:lnTo>
                    <a:lnTo>
                      <a:pt x="478" y="1360"/>
                    </a:lnTo>
                    <a:lnTo>
                      <a:pt x="490" y="1364"/>
                    </a:lnTo>
                    <a:lnTo>
                      <a:pt x="502" y="1368"/>
                    </a:lnTo>
                    <a:lnTo>
                      <a:pt x="514" y="1371"/>
                    </a:lnTo>
                    <a:lnTo>
                      <a:pt x="527" y="1376"/>
                    </a:lnTo>
                    <a:lnTo>
                      <a:pt x="538" y="1378"/>
                    </a:lnTo>
                    <a:lnTo>
                      <a:pt x="550" y="1382"/>
                    </a:lnTo>
                    <a:lnTo>
                      <a:pt x="561" y="1384"/>
                    </a:lnTo>
                    <a:lnTo>
                      <a:pt x="573" y="1388"/>
                    </a:lnTo>
                    <a:lnTo>
                      <a:pt x="584" y="1390"/>
                    </a:lnTo>
                    <a:lnTo>
                      <a:pt x="595" y="1393"/>
                    </a:lnTo>
                    <a:lnTo>
                      <a:pt x="606" y="1395"/>
                    </a:lnTo>
                    <a:lnTo>
                      <a:pt x="618" y="1399"/>
                    </a:lnTo>
                    <a:lnTo>
                      <a:pt x="627" y="1400"/>
                    </a:lnTo>
                    <a:lnTo>
                      <a:pt x="638" y="1403"/>
                    </a:lnTo>
                    <a:lnTo>
                      <a:pt x="649" y="1405"/>
                    </a:lnTo>
                    <a:lnTo>
                      <a:pt x="660" y="1407"/>
                    </a:lnTo>
                    <a:lnTo>
                      <a:pt x="670" y="1409"/>
                    </a:lnTo>
                    <a:lnTo>
                      <a:pt x="679" y="1411"/>
                    </a:lnTo>
                    <a:lnTo>
                      <a:pt x="689" y="1413"/>
                    </a:lnTo>
                    <a:lnTo>
                      <a:pt x="699" y="1416"/>
                    </a:lnTo>
                    <a:lnTo>
                      <a:pt x="707" y="1417"/>
                    </a:lnTo>
                    <a:lnTo>
                      <a:pt x="716" y="1418"/>
                    </a:lnTo>
                    <a:lnTo>
                      <a:pt x="723" y="1419"/>
                    </a:lnTo>
                    <a:lnTo>
                      <a:pt x="731" y="1422"/>
                    </a:lnTo>
                    <a:lnTo>
                      <a:pt x="738" y="1422"/>
                    </a:lnTo>
                    <a:lnTo>
                      <a:pt x="746" y="1424"/>
                    </a:lnTo>
                    <a:lnTo>
                      <a:pt x="752" y="1424"/>
                    </a:lnTo>
                    <a:lnTo>
                      <a:pt x="759" y="1427"/>
                    </a:lnTo>
                    <a:lnTo>
                      <a:pt x="769" y="1428"/>
                    </a:lnTo>
                    <a:lnTo>
                      <a:pt x="778" y="1429"/>
                    </a:lnTo>
                    <a:lnTo>
                      <a:pt x="784" y="1429"/>
                    </a:lnTo>
                    <a:lnTo>
                      <a:pt x="790" y="1430"/>
                    </a:lnTo>
                    <a:lnTo>
                      <a:pt x="794" y="1428"/>
                    </a:lnTo>
                    <a:lnTo>
                      <a:pt x="796" y="1425"/>
                    </a:lnTo>
                    <a:lnTo>
                      <a:pt x="796" y="1419"/>
                    </a:lnTo>
                    <a:lnTo>
                      <a:pt x="794" y="1413"/>
                    </a:lnTo>
                    <a:lnTo>
                      <a:pt x="789" y="1405"/>
                    </a:lnTo>
                    <a:lnTo>
                      <a:pt x="783" y="1395"/>
                    </a:lnTo>
                    <a:lnTo>
                      <a:pt x="777" y="1384"/>
                    </a:lnTo>
                    <a:lnTo>
                      <a:pt x="771" y="1374"/>
                    </a:lnTo>
                    <a:lnTo>
                      <a:pt x="767" y="1366"/>
                    </a:lnTo>
                    <a:lnTo>
                      <a:pt x="764" y="1360"/>
                    </a:lnTo>
                    <a:lnTo>
                      <a:pt x="760" y="1353"/>
                    </a:lnTo>
                    <a:lnTo>
                      <a:pt x="758" y="1347"/>
                    </a:lnTo>
                    <a:lnTo>
                      <a:pt x="754" y="1340"/>
                    </a:lnTo>
                    <a:lnTo>
                      <a:pt x="752" y="1333"/>
                    </a:lnTo>
                    <a:lnTo>
                      <a:pt x="749" y="1325"/>
                    </a:lnTo>
                    <a:lnTo>
                      <a:pt x="748" y="1319"/>
                    </a:lnTo>
                    <a:lnTo>
                      <a:pt x="746" y="1312"/>
                    </a:lnTo>
                    <a:lnTo>
                      <a:pt x="744" y="1305"/>
                    </a:lnTo>
                    <a:lnTo>
                      <a:pt x="744" y="1298"/>
                    </a:lnTo>
                    <a:lnTo>
                      <a:pt x="746" y="1292"/>
                    </a:lnTo>
                    <a:lnTo>
                      <a:pt x="746" y="1284"/>
                    </a:lnTo>
                    <a:lnTo>
                      <a:pt x="748" y="1277"/>
                    </a:lnTo>
                    <a:lnTo>
                      <a:pt x="750" y="1270"/>
                    </a:lnTo>
                    <a:lnTo>
                      <a:pt x="754" y="1264"/>
                    </a:lnTo>
                    <a:lnTo>
                      <a:pt x="757" y="1257"/>
                    </a:lnTo>
                    <a:lnTo>
                      <a:pt x="760" y="1251"/>
                    </a:lnTo>
                    <a:lnTo>
                      <a:pt x="765" y="1245"/>
                    </a:lnTo>
                    <a:lnTo>
                      <a:pt x="771" y="1240"/>
                    </a:lnTo>
                    <a:lnTo>
                      <a:pt x="775" y="1234"/>
                    </a:lnTo>
                    <a:lnTo>
                      <a:pt x="781" y="1230"/>
                    </a:lnTo>
                    <a:lnTo>
                      <a:pt x="788" y="1226"/>
                    </a:lnTo>
                    <a:lnTo>
                      <a:pt x="795" y="1223"/>
                    </a:lnTo>
                    <a:lnTo>
                      <a:pt x="801" y="1219"/>
                    </a:lnTo>
                    <a:lnTo>
                      <a:pt x="807" y="1216"/>
                    </a:lnTo>
                    <a:lnTo>
                      <a:pt x="814" y="1212"/>
                    </a:lnTo>
                    <a:lnTo>
                      <a:pt x="822" y="1211"/>
                    </a:lnTo>
                    <a:lnTo>
                      <a:pt x="829" y="1207"/>
                    </a:lnTo>
                    <a:lnTo>
                      <a:pt x="836" y="1206"/>
                    </a:lnTo>
                    <a:lnTo>
                      <a:pt x="843" y="1204"/>
                    </a:lnTo>
                    <a:lnTo>
                      <a:pt x="851" y="1204"/>
                    </a:lnTo>
                    <a:lnTo>
                      <a:pt x="857" y="1201"/>
                    </a:lnTo>
                    <a:lnTo>
                      <a:pt x="863" y="1200"/>
                    </a:lnTo>
                    <a:lnTo>
                      <a:pt x="869" y="1199"/>
                    </a:lnTo>
                    <a:lnTo>
                      <a:pt x="876" y="1199"/>
                    </a:lnTo>
                    <a:lnTo>
                      <a:pt x="888" y="1198"/>
                    </a:lnTo>
                    <a:lnTo>
                      <a:pt x="899" y="1198"/>
                    </a:lnTo>
                    <a:lnTo>
                      <a:pt x="907" y="1198"/>
                    </a:lnTo>
                    <a:lnTo>
                      <a:pt x="914" y="1198"/>
                    </a:lnTo>
                    <a:lnTo>
                      <a:pt x="918" y="1198"/>
                    </a:lnTo>
                    <a:lnTo>
                      <a:pt x="921" y="1199"/>
                    </a:lnTo>
                    <a:lnTo>
                      <a:pt x="1029" y="1300"/>
                    </a:lnTo>
                    <a:lnTo>
                      <a:pt x="1029" y="1298"/>
                    </a:lnTo>
                    <a:lnTo>
                      <a:pt x="1034" y="1295"/>
                    </a:lnTo>
                    <a:lnTo>
                      <a:pt x="1040" y="1290"/>
                    </a:lnTo>
                    <a:lnTo>
                      <a:pt x="1050" y="1284"/>
                    </a:lnTo>
                    <a:lnTo>
                      <a:pt x="1053" y="1280"/>
                    </a:lnTo>
                    <a:lnTo>
                      <a:pt x="1059" y="1276"/>
                    </a:lnTo>
                    <a:lnTo>
                      <a:pt x="1064" y="1271"/>
                    </a:lnTo>
                    <a:lnTo>
                      <a:pt x="1071" y="1267"/>
                    </a:lnTo>
                    <a:lnTo>
                      <a:pt x="1077" y="1261"/>
                    </a:lnTo>
                    <a:lnTo>
                      <a:pt x="1083" y="1258"/>
                    </a:lnTo>
                    <a:lnTo>
                      <a:pt x="1091" y="1252"/>
                    </a:lnTo>
                    <a:lnTo>
                      <a:pt x="1098" y="1248"/>
                    </a:lnTo>
                    <a:lnTo>
                      <a:pt x="1104" y="1242"/>
                    </a:lnTo>
                    <a:lnTo>
                      <a:pt x="1111" y="1237"/>
                    </a:lnTo>
                    <a:lnTo>
                      <a:pt x="1118" y="1231"/>
                    </a:lnTo>
                    <a:lnTo>
                      <a:pt x="1126" y="1228"/>
                    </a:lnTo>
                    <a:lnTo>
                      <a:pt x="1132" y="1222"/>
                    </a:lnTo>
                    <a:lnTo>
                      <a:pt x="1139" y="1217"/>
                    </a:lnTo>
                    <a:lnTo>
                      <a:pt x="1146" y="1211"/>
                    </a:lnTo>
                    <a:lnTo>
                      <a:pt x="1153" y="1207"/>
                    </a:lnTo>
                    <a:lnTo>
                      <a:pt x="1159" y="1201"/>
                    </a:lnTo>
                    <a:lnTo>
                      <a:pt x="1165" y="1196"/>
                    </a:lnTo>
                    <a:lnTo>
                      <a:pt x="1171" y="1193"/>
                    </a:lnTo>
                    <a:lnTo>
                      <a:pt x="1177" y="1189"/>
                    </a:lnTo>
                    <a:lnTo>
                      <a:pt x="1187" y="1182"/>
                    </a:lnTo>
                    <a:lnTo>
                      <a:pt x="1195" y="1177"/>
                    </a:lnTo>
                    <a:lnTo>
                      <a:pt x="1195" y="1172"/>
                    </a:lnTo>
                    <a:lnTo>
                      <a:pt x="1200" y="1165"/>
                    </a:lnTo>
                    <a:lnTo>
                      <a:pt x="1201" y="1158"/>
                    </a:lnTo>
                    <a:lnTo>
                      <a:pt x="1205" y="1152"/>
                    </a:lnTo>
                    <a:lnTo>
                      <a:pt x="1209" y="1144"/>
                    </a:lnTo>
                    <a:lnTo>
                      <a:pt x="1214" y="1137"/>
                    </a:lnTo>
                    <a:lnTo>
                      <a:pt x="1217" y="1128"/>
                    </a:lnTo>
                    <a:lnTo>
                      <a:pt x="1222" y="1119"/>
                    </a:lnTo>
                    <a:lnTo>
                      <a:pt x="1227" y="1108"/>
                    </a:lnTo>
                    <a:lnTo>
                      <a:pt x="1233" y="1099"/>
                    </a:lnTo>
                    <a:lnTo>
                      <a:pt x="1238" y="1088"/>
                    </a:lnTo>
                    <a:lnTo>
                      <a:pt x="1245" y="1077"/>
                    </a:lnTo>
                    <a:lnTo>
                      <a:pt x="1250" y="1066"/>
                    </a:lnTo>
                    <a:lnTo>
                      <a:pt x="1257" y="1055"/>
                    </a:lnTo>
                    <a:lnTo>
                      <a:pt x="1262" y="1043"/>
                    </a:lnTo>
                    <a:lnTo>
                      <a:pt x="1268" y="1032"/>
                    </a:lnTo>
                    <a:lnTo>
                      <a:pt x="1273" y="1021"/>
                    </a:lnTo>
                    <a:lnTo>
                      <a:pt x="1279" y="1011"/>
                    </a:lnTo>
                    <a:lnTo>
                      <a:pt x="1283" y="1000"/>
                    </a:lnTo>
                    <a:lnTo>
                      <a:pt x="1288" y="990"/>
                    </a:lnTo>
                    <a:lnTo>
                      <a:pt x="1293" y="980"/>
                    </a:lnTo>
                    <a:lnTo>
                      <a:pt x="1298" y="973"/>
                    </a:lnTo>
                    <a:lnTo>
                      <a:pt x="1302" y="965"/>
                    </a:lnTo>
                    <a:lnTo>
                      <a:pt x="1305" y="958"/>
                    </a:lnTo>
                    <a:lnTo>
                      <a:pt x="1308" y="950"/>
                    </a:lnTo>
                    <a:lnTo>
                      <a:pt x="1311" y="947"/>
                    </a:lnTo>
                    <a:lnTo>
                      <a:pt x="1315" y="939"/>
                    </a:lnTo>
                    <a:lnTo>
                      <a:pt x="1318" y="937"/>
                    </a:lnTo>
                    <a:lnTo>
                      <a:pt x="1318" y="935"/>
                    </a:lnTo>
                    <a:lnTo>
                      <a:pt x="1321" y="926"/>
                    </a:lnTo>
                    <a:lnTo>
                      <a:pt x="1322" y="920"/>
                    </a:lnTo>
                    <a:lnTo>
                      <a:pt x="1324" y="913"/>
                    </a:lnTo>
                    <a:lnTo>
                      <a:pt x="1326" y="903"/>
                    </a:lnTo>
                    <a:lnTo>
                      <a:pt x="1329" y="897"/>
                    </a:lnTo>
                    <a:lnTo>
                      <a:pt x="1331" y="886"/>
                    </a:lnTo>
                    <a:lnTo>
                      <a:pt x="1333" y="876"/>
                    </a:lnTo>
                    <a:lnTo>
                      <a:pt x="1335" y="865"/>
                    </a:lnTo>
                    <a:lnTo>
                      <a:pt x="1339" y="853"/>
                    </a:lnTo>
                    <a:lnTo>
                      <a:pt x="1339" y="845"/>
                    </a:lnTo>
                    <a:lnTo>
                      <a:pt x="1341" y="837"/>
                    </a:lnTo>
                    <a:lnTo>
                      <a:pt x="1341" y="831"/>
                    </a:lnTo>
                    <a:lnTo>
                      <a:pt x="1344" y="825"/>
                    </a:lnTo>
                    <a:lnTo>
                      <a:pt x="1345" y="818"/>
                    </a:lnTo>
                    <a:lnTo>
                      <a:pt x="1346" y="809"/>
                    </a:lnTo>
                    <a:lnTo>
                      <a:pt x="1347" y="802"/>
                    </a:lnTo>
                    <a:lnTo>
                      <a:pt x="1350" y="796"/>
                    </a:lnTo>
                    <a:lnTo>
                      <a:pt x="1350" y="785"/>
                    </a:lnTo>
                    <a:lnTo>
                      <a:pt x="1351" y="779"/>
                    </a:lnTo>
                    <a:lnTo>
                      <a:pt x="1351" y="768"/>
                    </a:lnTo>
                    <a:lnTo>
                      <a:pt x="1352" y="762"/>
                    </a:lnTo>
                    <a:lnTo>
                      <a:pt x="1352" y="751"/>
                    </a:lnTo>
                    <a:lnTo>
                      <a:pt x="1353" y="745"/>
                    </a:lnTo>
                    <a:lnTo>
                      <a:pt x="1355" y="734"/>
                    </a:lnTo>
                    <a:lnTo>
                      <a:pt x="1356" y="728"/>
                    </a:lnTo>
                    <a:lnTo>
                      <a:pt x="1356" y="719"/>
                    </a:lnTo>
                    <a:lnTo>
                      <a:pt x="1356" y="709"/>
                    </a:lnTo>
                    <a:lnTo>
                      <a:pt x="1356" y="701"/>
                    </a:lnTo>
                    <a:lnTo>
                      <a:pt x="1357" y="691"/>
                    </a:lnTo>
                    <a:lnTo>
                      <a:pt x="1357" y="681"/>
                    </a:lnTo>
                    <a:lnTo>
                      <a:pt x="1357" y="673"/>
                    </a:lnTo>
                    <a:lnTo>
                      <a:pt x="1357" y="663"/>
                    </a:lnTo>
                    <a:lnTo>
                      <a:pt x="1357" y="656"/>
                    </a:lnTo>
                    <a:lnTo>
                      <a:pt x="1356" y="645"/>
                    </a:lnTo>
                    <a:lnTo>
                      <a:pt x="1355" y="634"/>
                    </a:lnTo>
                    <a:lnTo>
                      <a:pt x="1353" y="625"/>
                    </a:lnTo>
                    <a:lnTo>
                      <a:pt x="1353" y="618"/>
                    </a:lnTo>
                    <a:lnTo>
                      <a:pt x="1352" y="605"/>
                    </a:lnTo>
                    <a:lnTo>
                      <a:pt x="1351" y="596"/>
                    </a:lnTo>
                    <a:lnTo>
                      <a:pt x="1350" y="586"/>
                    </a:lnTo>
                    <a:lnTo>
                      <a:pt x="1350" y="578"/>
                    </a:lnTo>
                    <a:lnTo>
                      <a:pt x="1347" y="567"/>
                    </a:lnTo>
                    <a:lnTo>
                      <a:pt x="1346" y="558"/>
                    </a:lnTo>
                    <a:lnTo>
                      <a:pt x="1344" y="548"/>
                    </a:lnTo>
                    <a:lnTo>
                      <a:pt x="1343" y="539"/>
                    </a:lnTo>
                    <a:lnTo>
                      <a:pt x="1339" y="529"/>
                    </a:lnTo>
                    <a:lnTo>
                      <a:pt x="1338" y="520"/>
                    </a:lnTo>
                    <a:lnTo>
                      <a:pt x="1334" y="510"/>
                    </a:lnTo>
                    <a:lnTo>
                      <a:pt x="1333" y="502"/>
                    </a:lnTo>
                    <a:lnTo>
                      <a:pt x="1329" y="491"/>
                    </a:lnTo>
                    <a:lnTo>
                      <a:pt x="1326" y="482"/>
                    </a:lnTo>
                    <a:lnTo>
                      <a:pt x="1322" y="473"/>
                    </a:lnTo>
                    <a:lnTo>
                      <a:pt x="1320" y="464"/>
                    </a:lnTo>
                    <a:lnTo>
                      <a:pt x="1316" y="455"/>
                    </a:lnTo>
                    <a:lnTo>
                      <a:pt x="1314" y="446"/>
                    </a:lnTo>
                    <a:lnTo>
                      <a:pt x="1311" y="439"/>
                    </a:lnTo>
                    <a:lnTo>
                      <a:pt x="1309" y="432"/>
                    </a:lnTo>
                    <a:lnTo>
                      <a:pt x="1305" y="423"/>
                    </a:lnTo>
                    <a:lnTo>
                      <a:pt x="1303" y="416"/>
                    </a:lnTo>
                    <a:lnTo>
                      <a:pt x="1300" y="410"/>
                    </a:lnTo>
                    <a:lnTo>
                      <a:pt x="1298" y="402"/>
                    </a:lnTo>
                    <a:lnTo>
                      <a:pt x="1294" y="394"/>
                    </a:lnTo>
                    <a:lnTo>
                      <a:pt x="1292" y="387"/>
                    </a:lnTo>
                    <a:lnTo>
                      <a:pt x="1290" y="381"/>
                    </a:lnTo>
                    <a:lnTo>
                      <a:pt x="1287" y="376"/>
                    </a:lnTo>
                    <a:lnTo>
                      <a:pt x="1281" y="363"/>
                    </a:lnTo>
                    <a:lnTo>
                      <a:pt x="1276" y="352"/>
                    </a:lnTo>
                    <a:lnTo>
                      <a:pt x="1271" y="340"/>
                    </a:lnTo>
                    <a:lnTo>
                      <a:pt x="1268" y="332"/>
                    </a:lnTo>
                    <a:lnTo>
                      <a:pt x="1264" y="321"/>
                    </a:lnTo>
                    <a:lnTo>
                      <a:pt x="1261" y="314"/>
                    </a:lnTo>
                    <a:lnTo>
                      <a:pt x="1257" y="305"/>
                    </a:lnTo>
                    <a:lnTo>
                      <a:pt x="1253" y="299"/>
                    </a:lnTo>
                    <a:lnTo>
                      <a:pt x="1250" y="292"/>
                    </a:lnTo>
                    <a:lnTo>
                      <a:pt x="1246" y="285"/>
                    </a:lnTo>
                    <a:lnTo>
                      <a:pt x="1242" y="279"/>
                    </a:lnTo>
                    <a:lnTo>
                      <a:pt x="1240" y="274"/>
                    </a:lnTo>
                    <a:lnTo>
                      <a:pt x="1235" y="265"/>
                    </a:lnTo>
                    <a:lnTo>
                      <a:pt x="1232" y="259"/>
                    </a:lnTo>
                    <a:lnTo>
                      <a:pt x="1228" y="253"/>
                    </a:lnTo>
                    <a:lnTo>
                      <a:pt x="1226" y="250"/>
                    </a:lnTo>
                    <a:lnTo>
                      <a:pt x="1224" y="249"/>
                    </a:lnTo>
                    <a:lnTo>
                      <a:pt x="1224" y="249"/>
                    </a:lnTo>
                    <a:lnTo>
                      <a:pt x="1181" y="183"/>
                    </a:lnTo>
                    <a:lnTo>
                      <a:pt x="1181" y="18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485"/>
              <p:cNvSpPr/>
              <p:nvPr/>
            </p:nvSpPr>
            <p:spPr>
              <a:xfrm>
                <a:off x="6735240" y="6053040"/>
                <a:ext cx="64800" cy="626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24" h="217">
                    <a:moveTo>
                      <a:pt x="112" y="217"/>
                    </a:moveTo>
                    <a:lnTo>
                      <a:pt x="123" y="216"/>
                    </a:lnTo>
                    <a:lnTo>
                      <a:pt x="134" y="213"/>
                    </a:lnTo>
                    <a:lnTo>
                      <a:pt x="145" y="210"/>
                    </a:lnTo>
                    <a:lnTo>
                      <a:pt x="156" y="207"/>
                    </a:lnTo>
                    <a:lnTo>
                      <a:pt x="164" y="202"/>
                    </a:lnTo>
                    <a:lnTo>
                      <a:pt x="174" y="197"/>
                    </a:lnTo>
                    <a:lnTo>
                      <a:pt x="182" y="190"/>
                    </a:lnTo>
                    <a:lnTo>
                      <a:pt x="192" y="184"/>
                    </a:lnTo>
                    <a:lnTo>
                      <a:pt x="198" y="176"/>
                    </a:lnTo>
                    <a:lnTo>
                      <a:pt x="204" y="167"/>
                    </a:lnTo>
                    <a:lnTo>
                      <a:pt x="209" y="158"/>
                    </a:lnTo>
                    <a:lnTo>
                      <a:pt x="215" y="149"/>
                    </a:lnTo>
                    <a:lnTo>
                      <a:pt x="217" y="138"/>
                    </a:lnTo>
                    <a:lnTo>
                      <a:pt x="221" y="129"/>
                    </a:lnTo>
                    <a:lnTo>
                      <a:pt x="223" y="118"/>
                    </a:lnTo>
                    <a:lnTo>
                      <a:pt x="224" y="108"/>
                    </a:lnTo>
                    <a:lnTo>
                      <a:pt x="223" y="96"/>
                    </a:lnTo>
                    <a:lnTo>
                      <a:pt x="221" y="85"/>
                    </a:lnTo>
                    <a:lnTo>
                      <a:pt x="217" y="74"/>
                    </a:lnTo>
                    <a:lnTo>
                      <a:pt x="215" y="65"/>
                    </a:lnTo>
                    <a:lnTo>
                      <a:pt x="209" y="54"/>
                    </a:lnTo>
                    <a:lnTo>
                      <a:pt x="204" y="46"/>
                    </a:lnTo>
                    <a:lnTo>
                      <a:pt x="198" y="38"/>
                    </a:lnTo>
                    <a:lnTo>
                      <a:pt x="192" y="31"/>
                    </a:lnTo>
                    <a:lnTo>
                      <a:pt x="182" y="24"/>
                    </a:lnTo>
                    <a:lnTo>
                      <a:pt x="174" y="18"/>
                    </a:lnTo>
                    <a:lnTo>
                      <a:pt x="164" y="12"/>
                    </a:lnTo>
                    <a:lnTo>
                      <a:pt x="156" y="8"/>
                    </a:lnTo>
                    <a:lnTo>
                      <a:pt x="145" y="3"/>
                    </a:lnTo>
                    <a:lnTo>
                      <a:pt x="134" y="1"/>
                    </a:lnTo>
                    <a:lnTo>
                      <a:pt x="123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88" y="1"/>
                    </a:lnTo>
                    <a:lnTo>
                      <a:pt x="77" y="3"/>
                    </a:lnTo>
                    <a:lnTo>
                      <a:pt x="68" y="8"/>
                    </a:lnTo>
                    <a:lnTo>
                      <a:pt x="57" y="12"/>
                    </a:lnTo>
                    <a:lnTo>
                      <a:pt x="48" y="18"/>
                    </a:lnTo>
                    <a:lnTo>
                      <a:pt x="40" y="24"/>
                    </a:lnTo>
                    <a:lnTo>
                      <a:pt x="33" y="31"/>
                    </a:lnTo>
                    <a:lnTo>
                      <a:pt x="24" y="38"/>
                    </a:lnTo>
                    <a:lnTo>
                      <a:pt x="18" y="46"/>
                    </a:lnTo>
                    <a:lnTo>
                      <a:pt x="12" y="54"/>
                    </a:lnTo>
                    <a:lnTo>
                      <a:pt x="9" y="65"/>
                    </a:lnTo>
                    <a:lnTo>
                      <a:pt x="4" y="74"/>
                    </a:lnTo>
                    <a:lnTo>
                      <a:pt x="1" y="85"/>
                    </a:lnTo>
                    <a:lnTo>
                      <a:pt x="0" y="96"/>
                    </a:lnTo>
                    <a:lnTo>
                      <a:pt x="0" y="108"/>
                    </a:lnTo>
                    <a:lnTo>
                      <a:pt x="0" y="118"/>
                    </a:lnTo>
                    <a:lnTo>
                      <a:pt x="1" y="129"/>
                    </a:lnTo>
                    <a:lnTo>
                      <a:pt x="4" y="138"/>
                    </a:lnTo>
                    <a:lnTo>
                      <a:pt x="9" y="149"/>
                    </a:lnTo>
                    <a:lnTo>
                      <a:pt x="12" y="158"/>
                    </a:lnTo>
                    <a:lnTo>
                      <a:pt x="18" y="167"/>
                    </a:lnTo>
                    <a:lnTo>
                      <a:pt x="24" y="176"/>
                    </a:lnTo>
                    <a:lnTo>
                      <a:pt x="33" y="184"/>
                    </a:lnTo>
                    <a:lnTo>
                      <a:pt x="40" y="190"/>
                    </a:lnTo>
                    <a:lnTo>
                      <a:pt x="48" y="197"/>
                    </a:lnTo>
                    <a:lnTo>
                      <a:pt x="57" y="202"/>
                    </a:lnTo>
                    <a:lnTo>
                      <a:pt x="68" y="207"/>
                    </a:lnTo>
                    <a:lnTo>
                      <a:pt x="77" y="210"/>
                    </a:lnTo>
                    <a:lnTo>
                      <a:pt x="88" y="213"/>
                    </a:lnTo>
                    <a:lnTo>
                      <a:pt x="100" y="216"/>
                    </a:lnTo>
                    <a:lnTo>
                      <a:pt x="112" y="2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486"/>
              <p:cNvSpPr/>
              <p:nvPr/>
            </p:nvSpPr>
            <p:spPr>
              <a:xfrm>
                <a:off x="6663240" y="6151680"/>
                <a:ext cx="103320" cy="1094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56" h="378">
                    <a:moveTo>
                      <a:pt x="177" y="378"/>
                    </a:moveTo>
                    <a:lnTo>
                      <a:pt x="186" y="377"/>
                    </a:lnTo>
                    <a:lnTo>
                      <a:pt x="194" y="376"/>
                    </a:lnTo>
                    <a:lnTo>
                      <a:pt x="203" y="374"/>
                    </a:lnTo>
                    <a:lnTo>
                      <a:pt x="212" y="374"/>
                    </a:lnTo>
                    <a:lnTo>
                      <a:pt x="221" y="371"/>
                    </a:lnTo>
                    <a:lnTo>
                      <a:pt x="229" y="368"/>
                    </a:lnTo>
                    <a:lnTo>
                      <a:pt x="238" y="365"/>
                    </a:lnTo>
                    <a:lnTo>
                      <a:pt x="246" y="363"/>
                    </a:lnTo>
                    <a:lnTo>
                      <a:pt x="253" y="357"/>
                    </a:lnTo>
                    <a:lnTo>
                      <a:pt x="261" y="354"/>
                    </a:lnTo>
                    <a:lnTo>
                      <a:pt x="268" y="349"/>
                    </a:lnTo>
                    <a:lnTo>
                      <a:pt x="276" y="345"/>
                    </a:lnTo>
                    <a:lnTo>
                      <a:pt x="282" y="339"/>
                    </a:lnTo>
                    <a:lnTo>
                      <a:pt x="290" y="333"/>
                    </a:lnTo>
                    <a:lnTo>
                      <a:pt x="296" y="327"/>
                    </a:lnTo>
                    <a:lnTo>
                      <a:pt x="303" y="322"/>
                    </a:lnTo>
                    <a:lnTo>
                      <a:pt x="308" y="314"/>
                    </a:lnTo>
                    <a:lnTo>
                      <a:pt x="313" y="306"/>
                    </a:lnTo>
                    <a:lnTo>
                      <a:pt x="317" y="300"/>
                    </a:lnTo>
                    <a:lnTo>
                      <a:pt x="323" y="293"/>
                    </a:lnTo>
                    <a:lnTo>
                      <a:pt x="328" y="283"/>
                    </a:lnTo>
                    <a:lnTo>
                      <a:pt x="333" y="277"/>
                    </a:lnTo>
                    <a:lnTo>
                      <a:pt x="337" y="267"/>
                    </a:lnTo>
                    <a:lnTo>
                      <a:pt x="341" y="261"/>
                    </a:lnTo>
                    <a:lnTo>
                      <a:pt x="344" y="251"/>
                    </a:lnTo>
                    <a:lnTo>
                      <a:pt x="346" y="243"/>
                    </a:lnTo>
                    <a:lnTo>
                      <a:pt x="349" y="234"/>
                    </a:lnTo>
                    <a:lnTo>
                      <a:pt x="351" y="226"/>
                    </a:lnTo>
                    <a:lnTo>
                      <a:pt x="352" y="217"/>
                    </a:lnTo>
                    <a:lnTo>
                      <a:pt x="354" y="206"/>
                    </a:lnTo>
                    <a:lnTo>
                      <a:pt x="355" y="198"/>
                    </a:lnTo>
                    <a:lnTo>
                      <a:pt x="356" y="188"/>
                    </a:lnTo>
                    <a:lnTo>
                      <a:pt x="355" y="177"/>
                    </a:lnTo>
                    <a:lnTo>
                      <a:pt x="354" y="167"/>
                    </a:lnTo>
                    <a:lnTo>
                      <a:pt x="352" y="159"/>
                    </a:lnTo>
                    <a:lnTo>
                      <a:pt x="351" y="149"/>
                    </a:lnTo>
                    <a:lnTo>
                      <a:pt x="349" y="140"/>
                    </a:lnTo>
                    <a:lnTo>
                      <a:pt x="346" y="132"/>
                    </a:lnTo>
                    <a:lnTo>
                      <a:pt x="344" y="122"/>
                    </a:lnTo>
                    <a:lnTo>
                      <a:pt x="341" y="116"/>
                    </a:lnTo>
                    <a:lnTo>
                      <a:pt x="337" y="105"/>
                    </a:lnTo>
                    <a:lnTo>
                      <a:pt x="333" y="97"/>
                    </a:lnTo>
                    <a:lnTo>
                      <a:pt x="328" y="89"/>
                    </a:lnTo>
                    <a:lnTo>
                      <a:pt x="323" y="82"/>
                    </a:lnTo>
                    <a:lnTo>
                      <a:pt x="317" y="73"/>
                    </a:lnTo>
                    <a:lnTo>
                      <a:pt x="313" y="66"/>
                    </a:lnTo>
                    <a:lnTo>
                      <a:pt x="308" y="60"/>
                    </a:lnTo>
                    <a:lnTo>
                      <a:pt x="303" y="54"/>
                    </a:lnTo>
                    <a:lnTo>
                      <a:pt x="296" y="48"/>
                    </a:lnTo>
                    <a:lnTo>
                      <a:pt x="290" y="42"/>
                    </a:lnTo>
                    <a:lnTo>
                      <a:pt x="282" y="35"/>
                    </a:lnTo>
                    <a:lnTo>
                      <a:pt x="276" y="31"/>
                    </a:lnTo>
                    <a:lnTo>
                      <a:pt x="268" y="25"/>
                    </a:lnTo>
                    <a:lnTo>
                      <a:pt x="261" y="20"/>
                    </a:lnTo>
                    <a:lnTo>
                      <a:pt x="253" y="17"/>
                    </a:lnTo>
                    <a:lnTo>
                      <a:pt x="246" y="14"/>
                    </a:lnTo>
                    <a:lnTo>
                      <a:pt x="238" y="11"/>
                    </a:lnTo>
                    <a:lnTo>
                      <a:pt x="229" y="7"/>
                    </a:lnTo>
                    <a:lnTo>
                      <a:pt x="221" y="5"/>
                    </a:lnTo>
                    <a:lnTo>
                      <a:pt x="212" y="3"/>
                    </a:lnTo>
                    <a:lnTo>
                      <a:pt x="203" y="1"/>
                    </a:lnTo>
                    <a:lnTo>
                      <a:pt x="194" y="0"/>
                    </a:lnTo>
                    <a:lnTo>
                      <a:pt x="186" y="0"/>
                    </a:lnTo>
                    <a:lnTo>
                      <a:pt x="177" y="0"/>
                    </a:lnTo>
                    <a:lnTo>
                      <a:pt x="167" y="0"/>
                    </a:lnTo>
                    <a:lnTo>
                      <a:pt x="158" y="0"/>
                    </a:lnTo>
                    <a:lnTo>
                      <a:pt x="149" y="1"/>
                    </a:lnTo>
                    <a:lnTo>
                      <a:pt x="140" y="3"/>
                    </a:lnTo>
                    <a:lnTo>
                      <a:pt x="132" y="5"/>
                    </a:lnTo>
                    <a:lnTo>
                      <a:pt x="123" y="7"/>
                    </a:lnTo>
                    <a:lnTo>
                      <a:pt x="115" y="11"/>
                    </a:lnTo>
                    <a:lnTo>
                      <a:pt x="108" y="14"/>
                    </a:lnTo>
                    <a:lnTo>
                      <a:pt x="99" y="17"/>
                    </a:lnTo>
                    <a:lnTo>
                      <a:pt x="91" y="20"/>
                    </a:lnTo>
                    <a:lnTo>
                      <a:pt x="83" y="25"/>
                    </a:lnTo>
                    <a:lnTo>
                      <a:pt x="77" y="31"/>
                    </a:lnTo>
                    <a:lnTo>
                      <a:pt x="70" y="35"/>
                    </a:lnTo>
                    <a:lnTo>
                      <a:pt x="63" y="42"/>
                    </a:lnTo>
                    <a:lnTo>
                      <a:pt x="57" y="48"/>
                    </a:lnTo>
                    <a:lnTo>
                      <a:pt x="52" y="54"/>
                    </a:lnTo>
                    <a:lnTo>
                      <a:pt x="45" y="60"/>
                    </a:lnTo>
                    <a:lnTo>
                      <a:pt x="39" y="66"/>
                    </a:lnTo>
                    <a:lnTo>
                      <a:pt x="33" y="73"/>
                    </a:lnTo>
                    <a:lnTo>
                      <a:pt x="29" y="82"/>
                    </a:lnTo>
                    <a:lnTo>
                      <a:pt x="24" y="89"/>
                    </a:lnTo>
                    <a:lnTo>
                      <a:pt x="19" y="97"/>
                    </a:lnTo>
                    <a:lnTo>
                      <a:pt x="16" y="105"/>
                    </a:lnTo>
                    <a:lnTo>
                      <a:pt x="13" y="116"/>
                    </a:lnTo>
                    <a:lnTo>
                      <a:pt x="10" y="122"/>
                    </a:lnTo>
                    <a:lnTo>
                      <a:pt x="6" y="132"/>
                    </a:lnTo>
                    <a:lnTo>
                      <a:pt x="4" y="140"/>
                    </a:lnTo>
                    <a:lnTo>
                      <a:pt x="4" y="149"/>
                    </a:lnTo>
                    <a:lnTo>
                      <a:pt x="1" y="159"/>
                    </a:lnTo>
                    <a:lnTo>
                      <a:pt x="0" y="167"/>
                    </a:lnTo>
                    <a:lnTo>
                      <a:pt x="0" y="177"/>
                    </a:lnTo>
                    <a:lnTo>
                      <a:pt x="0" y="188"/>
                    </a:lnTo>
                    <a:lnTo>
                      <a:pt x="0" y="198"/>
                    </a:lnTo>
                    <a:lnTo>
                      <a:pt x="0" y="206"/>
                    </a:lnTo>
                    <a:lnTo>
                      <a:pt x="1" y="217"/>
                    </a:lnTo>
                    <a:lnTo>
                      <a:pt x="4" y="226"/>
                    </a:lnTo>
                    <a:lnTo>
                      <a:pt x="4" y="234"/>
                    </a:lnTo>
                    <a:lnTo>
                      <a:pt x="6" y="243"/>
                    </a:lnTo>
                    <a:lnTo>
                      <a:pt x="10" y="251"/>
                    </a:lnTo>
                    <a:lnTo>
                      <a:pt x="13" y="261"/>
                    </a:lnTo>
                    <a:lnTo>
                      <a:pt x="16" y="267"/>
                    </a:lnTo>
                    <a:lnTo>
                      <a:pt x="19" y="277"/>
                    </a:lnTo>
                    <a:lnTo>
                      <a:pt x="24" y="283"/>
                    </a:lnTo>
                    <a:lnTo>
                      <a:pt x="29" y="293"/>
                    </a:lnTo>
                    <a:lnTo>
                      <a:pt x="33" y="300"/>
                    </a:lnTo>
                    <a:lnTo>
                      <a:pt x="39" y="306"/>
                    </a:lnTo>
                    <a:lnTo>
                      <a:pt x="45" y="314"/>
                    </a:lnTo>
                    <a:lnTo>
                      <a:pt x="52" y="322"/>
                    </a:lnTo>
                    <a:lnTo>
                      <a:pt x="57" y="327"/>
                    </a:lnTo>
                    <a:lnTo>
                      <a:pt x="63" y="333"/>
                    </a:lnTo>
                    <a:lnTo>
                      <a:pt x="70" y="339"/>
                    </a:lnTo>
                    <a:lnTo>
                      <a:pt x="77" y="345"/>
                    </a:lnTo>
                    <a:lnTo>
                      <a:pt x="83" y="349"/>
                    </a:lnTo>
                    <a:lnTo>
                      <a:pt x="91" y="354"/>
                    </a:lnTo>
                    <a:lnTo>
                      <a:pt x="99" y="357"/>
                    </a:lnTo>
                    <a:lnTo>
                      <a:pt x="108" y="363"/>
                    </a:lnTo>
                    <a:lnTo>
                      <a:pt x="115" y="365"/>
                    </a:lnTo>
                    <a:lnTo>
                      <a:pt x="123" y="368"/>
                    </a:lnTo>
                    <a:lnTo>
                      <a:pt x="132" y="371"/>
                    </a:lnTo>
                    <a:lnTo>
                      <a:pt x="140" y="374"/>
                    </a:lnTo>
                    <a:lnTo>
                      <a:pt x="149" y="374"/>
                    </a:lnTo>
                    <a:lnTo>
                      <a:pt x="158" y="376"/>
                    </a:lnTo>
                    <a:lnTo>
                      <a:pt x="167" y="377"/>
                    </a:lnTo>
                    <a:lnTo>
                      <a:pt x="177" y="3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487"/>
              <p:cNvSpPr/>
              <p:nvPr/>
            </p:nvSpPr>
            <p:spPr>
              <a:xfrm>
                <a:off x="6557400" y="6006240"/>
                <a:ext cx="408240" cy="405720"/>
              </a:xfrm>
              <a:custGeom>
                <a:avLst/>
                <a:gdLst>
                  <a:gd name="textAreaLeft" fmla="*/ 0 w 408240"/>
                  <a:gd name="textAreaRight" fmla="*/ 408600 w 408240"/>
                  <a:gd name="textAreaTop" fmla="*/ 0 h 405720"/>
                  <a:gd name="textAreaBottom" fmla="*/ 406080 h 405720"/>
                </a:gdLst>
                <a:ahLst/>
                <a:rect l="textAreaLeft" t="textAreaTop" r="textAreaRight" b="textAreaBottom"/>
                <a:pathLst>
                  <a:path w="1399" h="1399">
                    <a:moveTo>
                      <a:pt x="1394" y="795"/>
                    </a:moveTo>
                    <a:lnTo>
                      <a:pt x="1394" y="784"/>
                    </a:lnTo>
                    <a:lnTo>
                      <a:pt x="1395" y="777"/>
                    </a:lnTo>
                    <a:lnTo>
                      <a:pt x="1395" y="767"/>
                    </a:lnTo>
                    <a:lnTo>
                      <a:pt x="1397" y="759"/>
                    </a:lnTo>
                    <a:lnTo>
                      <a:pt x="1397" y="749"/>
                    </a:lnTo>
                    <a:lnTo>
                      <a:pt x="1397" y="742"/>
                    </a:lnTo>
                    <a:lnTo>
                      <a:pt x="1397" y="732"/>
                    </a:lnTo>
                    <a:lnTo>
                      <a:pt x="1399" y="725"/>
                    </a:lnTo>
                    <a:lnTo>
                      <a:pt x="1399" y="715"/>
                    </a:lnTo>
                    <a:lnTo>
                      <a:pt x="1399" y="706"/>
                    </a:lnTo>
                    <a:lnTo>
                      <a:pt x="1399" y="698"/>
                    </a:lnTo>
                    <a:lnTo>
                      <a:pt x="1399" y="689"/>
                    </a:lnTo>
                    <a:lnTo>
                      <a:pt x="1397" y="680"/>
                    </a:lnTo>
                    <a:lnTo>
                      <a:pt x="1397" y="672"/>
                    </a:lnTo>
                    <a:lnTo>
                      <a:pt x="1397" y="663"/>
                    </a:lnTo>
                    <a:lnTo>
                      <a:pt x="1397" y="655"/>
                    </a:lnTo>
                    <a:lnTo>
                      <a:pt x="1397" y="645"/>
                    </a:lnTo>
                    <a:lnTo>
                      <a:pt x="1395" y="638"/>
                    </a:lnTo>
                    <a:lnTo>
                      <a:pt x="1394" y="628"/>
                    </a:lnTo>
                    <a:lnTo>
                      <a:pt x="1394" y="621"/>
                    </a:lnTo>
                    <a:lnTo>
                      <a:pt x="1393" y="610"/>
                    </a:lnTo>
                    <a:lnTo>
                      <a:pt x="1392" y="604"/>
                    </a:lnTo>
                    <a:lnTo>
                      <a:pt x="1391" y="593"/>
                    </a:lnTo>
                    <a:lnTo>
                      <a:pt x="1391" y="587"/>
                    </a:lnTo>
                    <a:lnTo>
                      <a:pt x="1388" y="578"/>
                    </a:lnTo>
                    <a:lnTo>
                      <a:pt x="1387" y="570"/>
                    </a:lnTo>
                    <a:lnTo>
                      <a:pt x="1384" y="561"/>
                    </a:lnTo>
                    <a:lnTo>
                      <a:pt x="1383" y="555"/>
                    </a:lnTo>
                    <a:lnTo>
                      <a:pt x="1381" y="545"/>
                    </a:lnTo>
                    <a:lnTo>
                      <a:pt x="1380" y="538"/>
                    </a:lnTo>
                    <a:lnTo>
                      <a:pt x="1378" y="528"/>
                    </a:lnTo>
                    <a:lnTo>
                      <a:pt x="1377" y="521"/>
                    </a:lnTo>
                    <a:lnTo>
                      <a:pt x="1374" y="511"/>
                    </a:lnTo>
                    <a:lnTo>
                      <a:pt x="1371" y="504"/>
                    </a:lnTo>
                    <a:lnTo>
                      <a:pt x="1369" y="495"/>
                    </a:lnTo>
                    <a:lnTo>
                      <a:pt x="1366" y="487"/>
                    </a:lnTo>
                    <a:lnTo>
                      <a:pt x="1363" y="480"/>
                    </a:lnTo>
                    <a:lnTo>
                      <a:pt x="1360" y="470"/>
                    </a:lnTo>
                    <a:lnTo>
                      <a:pt x="1358" y="463"/>
                    </a:lnTo>
                    <a:lnTo>
                      <a:pt x="1356" y="455"/>
                    </a:lnTo>
                    <a:lnTo>
                      <a:pt x="1352" y="447"/>
                    </a:lnTo>
                    <a:lnTo>
                      <a:pt x="1348" y="439"/>
                    </a:lnTo>
                    <a:lnTo>
                      <a:pt x="1345" y="431"/>
                    </a:lnTo>
                    <a:lnTo>
                      <a:pt x="1342" y="425"/>
                    </a:lnTo>
                    <a:lnTo>
                      <a:pt x="1339" y="415"/>
                    </a:lnTo>
                    <a:lnTo>
                      <a:pt x="1335" y="408"/>
                    </a:lnTo>
                    <a:lnTo>
                      <a:pt x="1331" y="400"/>
                    </a:lnTo>
                    <a:lnTo>
                      <a:pt x="1329" y="393"/>
                    </a:lnTo>
                    <a:lnTo>
                      <a:pt x="1324" y="386"/>
                    </a:lnTo>
                    <a:lnTo>
                      <a:pt x="1321" y="378"/>
                    </a:lnTo>
                    <a:lnTo>
                      <a:pt x="1316" y="369"/>
                    </a:lnTo>
                    <a:lnTo>
                      <a:pt x="1312" y="363"/>
                    </a:lnTo>
                    <a:lnTo>
                      <a:pt x="1307" y="355"/>
                    </a:lnTo>
                    <a:lnTo>
                      <a:pt x="1304" y="347"/>
                    </a:lnTo>
                    <a:lnTo>
                      <a:pt x="1299" y="341"/>
                    </a:lnTo>
                    <a:lnTo>
                      <a:pt x="1295" y="333"/>
                    </a:lnTo>
                    <a:lnTo>
                      <a:pt x="1289" y="324"/>
                    </a:lnTo>
                    <a:lnTo>
                      <a:pt x="1286" y="318"/>
                    </a:lnTo>
                    <a:lnTo>
                      <a:pt x="1280" y="310"/>
                    </a:lnTo>
                    <a:lnTo>
                      <a:pt x="1276" y="303"/>
                    </a:lnTo>
                    <a:lnTo>
                      <a:pt x="1270" y="296"/>
                    </a:lnTo>
                    <a:lnTo>
                      <a:pt x="1266" y="291"/>
                    </a:lnTo>
                    <a:lnTo>
                      <a:pt x="1260" y="282"/>
                    </a:lnTo>
                    <a:lnTo>
                      <a:pt x="1257" y="276"/>
                    </a:lnTo>
                    <a:lnTo>
                      <a:pt x="1251" y="269"/>
                    </a:lnTo>
                    <a:lnTo>
                      <a:pt x="1245" y="262"/>
                    </a:lnTo>
                    <a:lnTo>
                      <a:pt x="1239" y="255"/>
                    </a:lnTo>
                    <a:lnTo>
                      <a:pt x="1234" y="247"/>
                    </a:lnTo>
                    <a:lnTo>
                      <a:pt x="1228" y="240"/>
                    </a:lnTo>
                    <a:lnTo>
                      <a:pt x="1222" y="234"/>
                    </a:lnTo>
                    <a:lnTo>
                      <a:pt x="1216" y="228"/>
                    </a:lnTo>
                    <a:lnTo>
                      <a:pt x="1211" y="222"/>
                    </a:lnTo>
                    <a:lnTo>
                      <a:pt x="1204" y="215"/>
                    </a:lnTo>
                    <a:lnTo>
                      <a:pt x="1198" y="209"/>
                    </a:lnTo>
                    <a:lnTo>
                      <a:pt x="1192" y="203"/>
                    </a:lnTo>
                    <a:lnTo>
                      <a:pt x="1185" y="197"/>
                    </a:lnTo>
                    <a:lnTo>
                      <a:pt x="1179" y="191"/>
                    </a:lnTo>
                    <a:lnTo>
                      <a:pt x="1173" y="186"/>
                    </a:lnTo>
                    <a:lnTo>
                      <a:pt x="1167" y="180"/>
                    </a:lnTo>
                    <a:lnTo>
                      <a:pt x="1161" y="175"/>
                    </a:lnTo>
                    <a:lnTo>
                      <a:pt x="1154" y="168"/>
                    </a:lnTo>
                    <a:lnTo>
                      <a:pt x="1148" y="163"/>
                    </a:lnTo>
                    <a:lnTo>
                      <a:pt x="1141" y="157"/>
                    </a:lnTo>
                    <a:lnTo>
                      <a:pt x="1135" y="152"/>
                    </a:lnTo>
                    <a:lnTo>
                      <a:pt x="1128" y="146"/>
                    </a:lnTo>
                    <a:lnTo>
                      <a:pt x="1122" y="141"/>
                    </a:lnTo>
                    <a:lnTo>
                      <a:pt x="1114" y="135"/>
                    </a:lnTo>
                    <a:lnTo>
                      <a:pt x="1108" y="132"/>
                    </a:lnTo>
                    <a:lnTo>
                      <a:pt x="1101" y="126"/>
                    </a:lnTo>
                    <a:lnTo>
                      <a:pt x="1094" y="121"/>
                    </a:lnTo>
                    <a:lnTo>
                      <a:pt x="1087" y="116"/>
                    </a:lnTo>
                    <a:lnTo>
                      <a:pt x="1079" y="112"/>
                    </a:lnTo>
                    <a:lnTo>
                      <a:pt x="1072" y="107"/>
                    </a:lnTo>
                    <a:lnTo>
                      <a:pt x="1065" y="103"/>
                    </a:lnTo>
                    <a:lnTo>
                      <a:pt x="1058" y="99"/>
                    </a:lnTo>
                    <a:lnTo>
                      <a:pt x="1052" y="95"/>
                    </a:lnTo>
                    <a:lnTo>
                      <a:pt x="1043" y="91"/>
                    </a:lnTo>
                    <a:lnTo>
                      <a:pt x="1036" y="86"/>
                    </a:lnTo>
                    <a:lnTo>
                      <a:pt x="1028" y="81"/>
                    </a:lnTo>
                    <a:lnTo>
                      <a:pt x="1020" y="77"/>
                    </a:lnTo>
                    <a:lnTo>
                      <a:pt x="1012" y="74"/>
                    </a:lnTo>
                    <a:lnTo>
                      <a:pt x="1005" y="70"/>
                    </a:lnTo>
                    <a:lnTo>
                      <a:pt x="997" y="66"/>
                    </a:lnTo>
                    <a:lnTo>
                      <a:pt x="990" y="63"/>
                    </a:lnTo>
                    <a:lnTo>
                      <a:pt x="982" y="59"/>
                    </a:lnTo>
                    <a:lnTo>
                      <a:pt x="974" y="56"/>
                    </a:lnTo>
                    <a:lnTo>
                      <a:pt x="966" y="52"/>
                    </a:lnTo>
                    <a:lnTo>
                      <a:pt x="959" y="50"/>
                    </a:lnTo>
                    <a:lnTo>
                      <a:pt x="950" y="46"/>
                    </a:lnTo>
                    <a:lnTo>
                      <a:pt x="943" y="44"/>
                    </a:lnTo>
                    <a:lnTo>
                      <a:pt x="935" y="41"/>
                    </a:lnTo>
                    <a:lnTo>
                      <a:pt x="927" y="39"/>
                    </a:lnTo>
                    <a:lnTo>
                      <a:pt x="918" y="35"/>
                    </a:lnTo>
                    <a:lnTo>
                      <a:pt x="911" y="31"/>
                    </a:lnTo>
                    <a:lnTo>
                      <a:pt x="901" y="29"/>
                    </a:lnTo>
                    <a:lnTo>
                      <a:pt x="894" y="27"/>
                    </a:lnTo>
                    <a:lnTo>
                      <a:pt x="885" y="24"/>
                    </a:lnTo>
                    <a:lnTo>
                      <a:pt x="877" y="23"/>
                    </a:lnTo>
                    <a:lnTo>
                      <a:pt x="868" y="21"/>
                    </a:lnTo>
                    <a:lnTo>
                      <a:pt x="861" y="19"/>
                    </a:lnTo>
                    <a:lnTo>
                      <a:pt x="851" y="16"/>
                    </a:lnTo>
                    <a:lnTo>
                      <a:pt x="843" y="15"/>
                    </a:lnTo>
                    <a:lnTo>
                      <a:pt x="835" y="12"/>
                    </a:lnTo>
                    <a:lnTo>
                      <a:pt x="827" y="11"/>
                    </a:lnTo>
                    <a:lnTo>
                      <a:pt x="818" y="10"/>
                    </a:lnTo>
                    <a:lnTo>
                      <a:pt x="809" y="9"/>
                    </a:lnTo>
                    <a:lnTo>
                      <a:pt x="801" y="7"/>
                    </a:lnTo>
                    <a:lnTo>
                      <a:pt x="794" y="7"/>
                    </a:lnTo>
                    <a:lnTo>
                      <a:pt x="782" y="5"/>
                    </a:lnTo>
                    <a:lnTo>
                      <a:pt x="771" y="4"/>
                    </a:lnTo>
                    <a:lnTo>
                      <a:pt x="760" y="1"/>
                    </a:lnTo>
                    <a:lnTo>
                      <a:pt x="749" y="1"/>
                    </a:lnTo>
                    <a:lnTo>
                      <a:pt x="738" y="0"/>
                    </a:lnTo>
                    <a:lnTo>
                      <a:pt x="727" y="0"/>
                    </a:lnTo>
                    <a:lnTo>
                      <a:pt x="716" y="0"/>
                    </a:lnTo>
                    <a:lnTo>
                      <a:pt x="706" y="0"/>
                    </a:lnTo>
                    <a:lnTo>
                      <a:pt x="695" y="0"/>
                    </a:lnTo>
                    <a:lnTo>
                      <a:pt x="684" y="0"/>
                    </a:lnTo>
                    <a:lnTo>
                      <a:pt x="673" y="0"/>
                    </a:lnTo>
                    <a:lnTo>
                      <a:pt x="662" y="0"/>
                    </a:lnTo>
                    <a:lnTo>
                      <a:pt x="651" y="0"/>
                    </a:lnTo>
                    <a:lnTo>
                      <a:pt x="640" y="1"/>
                    </a:lnTo>
                    <a:lnTo>
                      <a:pt x="630" y="3"/>
                    </a:lnTo>
                    <a:lnTo>
                      <a:pt x="620" y="5"/>
                    </a:lnTo>
                    <a:lnTo>
                      <a:pt x="608" y="5"/>
                    </a:lnTo>
                    <a:lnTo>
                      <a:pt x="596" y="7"/>
                    </a:lnTo>
                    <a:lnTo>
                      <a:pt x="584" y="9"/>
                    </a:lnTo>
                    <a:lnTo>
                      <a:pt x="573" y="11"/>
                    </a:lnTo>
                    <a:lnTo>
                      <a:pt x="561" y="12"/>
                    </a:lnTo>
                    <a:lnTo>
                      <a:pt x="549" y="15"/>
                    </a:lnTo>
                    <a:lnTo>
                      <a:pt x="538" y="18"/>
                    </a:lnTo>
                    <a:lnTo>
                      <a:pt x="527" y="22"/>
                    </a:lnTo>
                    <a:lnTo>
                      <a:pt x="515" y="24"/>
                    </a:lnTo>
                    <a:lnTo>
                      <a:pt x="504" y="27"/>
                    </a:lnTo>
                    <a:lnTo>
                      <a:pt x="493" y="30"/>
                    </a:lnTo>
                    <a:lnTo>
                      <a:pt x="482" y="34"/>
                    </a:lnTo>
                    <a:lnTo>
                      <a:pt x="472" y="37"/>
                    </a:lnTo>
                    <a:lnTo>
                      <a:pt x="461" y="41"/>
                    </a:lnTo>
                    <a:lnTo>
                      <a:pt x="450" y="46"/>
                    </a:lnTo>
                    <a:lnTo>
                      <a:pt x="439" y="51"/>
                    </a:lnTo>
                    <a:lnTo>
                      <a:pt x="428" y="54"/>
                    </a:lnTo>
                    <a:lnTo>
                      <a:pt x="417" y="59"/>
                    </a:lnTo>
                    <a:lnTo>
                      <a:pt x="406" y="64"/>
                    </a:lnTo>
                    <a:lnTo>
                      <a:pt x="396" y="69"/>
                    </a:lnTo>
                    <a:lnTo>
                      <a:pt x="385" y="74"/>
                    </a:lnTo>
                    <a:lnTo>
                      <a:pt x="375" y="80"/>
                    </a:lnTo>
                    <a:lnTo>
                      <a:pt x="364" y="85"/>
                    </a:lnTo>
                    <a:lnTo>
                      <a:pt x="355" y="92"/>
                    </a:lnTo>
                    <a:lnTo>
                      <a:pt x="344" y="97"/>
                    </a:lnTo>
                    <a:lnTo>
                      <a:pt x="334" y="103"/>
                    </a:lnTo>
                    <a:lnTo>
                      <a:pt x="324" y="109"/>
                    </a:lnTo>
                    <a:lnTo>
                      <a:pt x="315" y="116"/>
                    </a:lnTo>
                    <a:lnTo>
                      <a:pt x="304" y="123"/>
                    </a:lnTo>
                    <a:lnTo>
                      <a:pt x="294" y="130"/>
                    </a:lnTo>
                    <a:lnTo>
                      <a:pt x="286" y="138"/>
                    </a:lnTo>
                    <a:lnTo>
                      <a:pt x="276" y="145"/>
                    </a:lnTo>
                    <a:lnTo>
                      <a:pt x="270" y="148"/>
                    </a:lnTo>
                    <a:lnTo>
                      <a:pt x="263" y="154"/>
                    </a:lnTo>
                    <a:lnTo>
                      <a:pt x="256" y="159"/>
                    </a:lnTo>
                    <a:lnTo>
                      <a:pt x="247" y="165"/>
                    </a:lnTo>
                    <a:lnTo>
                      <a:pt x="241" y="170"/>
                    </a:lnTo>
                    <a:lnTo>
                      <a:pt x="235" y="176"/>
                    </a:lnTo>
                    <a:lnTo>
                      <a:pt x="229" y="181"/>
                    </a:lnTo>
                    <a:lnTo>
                      <a:pt x="223" y="188"/>
                    </a:lnTo>
                    <a:lnTo>
                      <a:pt x="216" y="193"/>
                    </a:lnTo>
                    <a:lnTo>
                      <a:pt x="210" y="199"/>
                    </a:lnTo>
                    <a:lnTo>
                      <a:pt x="204" y="205"/>
                    </a:lnTo>
                    <a:lnTo>
                      <a:pt x="198" y="212"/>
                    </a:lnTo>
                    <a:lnTo>
                      <a:pt x="192" y="218"/>
                    </a:lnTo>
                    <a:lnTo>
                      <a:pt x="187" y="224"/>
                    </a:lnTo>
                    <a:lnTo>
                      <a:pt x="181" y="230"/>
                    </a:lnTo>
                    <a:lnTo>
                      <a:pt x="176" y="238"/>
                    </a:lnTo>
                    <a:lnTo>
                      <a:pt x="169" y="244"/>
                    </a:lnTo>
                    <a:lnTo>
                      <a:pt x="164" y="250"/>
                    </a:lnTo>
                    <a:lnTo>
                      <a:pt x="158" y="256"/>
                    </a:lnTo>
                    <a:lnTo>
                      <a:pt x="153" y="263"/>
                    </a:lnTo>
                    <a:lnTo>
                      <a:pt x="147" y="269"/>
                    </a:lnTo>
                    <a:lnTo>
                      <a:pt x="142" y="276"/>
                    </a:lnTo>
                    <a:lnTo>
                      <a:pt x="136" y="283"/>
                    </a:lnTo>
                    <a:lnTo>
                      <a:pt x="133" y="291"/>
                    </a:lnTo>
                    <a:lnTo>
                      <a:pt x="127" y="297"/>
                    </a:lnTo>
                    <a:lnTo>
                      <a:pt x="122" y="304"/>
                    </a:lnTo>
                    <a:lnTo>
                      <a:pt x="117" y="311"/>
                    </a:lnTo>
                    <a:lnTo>
                      <a:pt x="113" y="318"/>
                    </a:lnTo>
                    <a:lnTo>
                      <a:pt x="109" y="326"/>
                    </a:lnTo>
                    <a:lnTo>
                      <a:pt x="104" y="333"/>
                    </a:lnTo>
                    <a:lnTo>
                      <a:pt x="100" y="341"/>
                    </a:lnTo>
                    <a:lnTo>
                      <a:pt x="97" y="349"/>
                    </a:lnTo>
                    <a:lnTo>
                      <a:pt x="92" y="356"/>
                    </a:lnTo>
                    <a:lnTo>
                      <a:pt x="87" y="363"/>
                    </a:lnTo>
                    <a:lnTo>
                      <a:pt x="82" y="370"/>
                    </a:lnTo>
                    <a:lnTo>
                      <a:pt x="78" y="378"/>
                    </a:lnTo>
                    <a:lnTo>
                      <a:pt x="75" y="386"/>
                    </a:lnTo>
                    <a:lnTo>
                      <a:pt x="71" y="392"/>
                    </a:lnTo>
                    <a:lnTo>
                      <a:pt x="68" y="399"/>
                    </a:lnTo>
                    <a:lnTo>
                      <a:pt x="64" y="408"/>
                    </a:lnTo>
                    <a:lnTo>
                      <a:pt x="60" y="415"/>
                    </a:lnTo>
                    <a:lnTo>
                      <a:pt x="57" y="422"/>
                    </a:lnTo>
                    <a:lnTo>
                      <a:pt x="53" y="431"/>
                    </a:lnTo>
                    <a:lnTo>
                      <a:pt x="51" y="439"/>
                    </a:lnTo>
                    <a:lnTo>
                      <a:pt x="47" y="447"/>
                    </a:lnTo>
                    <a:lnTo>
                      <a:pt x="45" y="455"/>
                    </a:lnTo>
                    <a:lnTo>
                      <a:pt x="42" y="464"/>
                    </a:lnTo>
                    <a:lnTo>
                      <a:pt x="40" y="472"/>
                    </a:lnTo>
                    <a:lnTo>
                      <a:pt x="36" y="480"/>
                    </a:lnTo>
                    <a:lnTo>
                      <a:pt x="33" y="487"/>
                    </a:lnTo>
                    <a:lnTo>
                      <a:pt x="30" y="497"/>
                    </a:lnTo>
                    <a:lnTo>
                      <a:pt x="28" y="504"/>
                    </a:lnTo>
                    <a:lnTo>
                      <a:pt x="25" y="511"/>
                    </a:lnTo>
                    <a:lnTo>
                      <a:pt x="24" y="521"/>
                    </a:lnTo>
                    <a:lnTo>
                      <a:pt x="22" y="528"/>
                    </a:lnTo>
                    <a:lnTo>
                      <a:pt x="21" y="538"/>
                    </a:lnTo>
                    <a:lnTo>
                      <a:pt x="17" y="544"/>
                    </a:lnTo>
                    <a:lnTo>
                      <a:pt x="16" y="555"/>
                    </a:lnTo>
                    <a:lnTo>
                      <a:pt x="13" y="561"/>
                    </a:lnTo>
                    <a:lnTo>
                      <a:pt x="12" y="570"/>
                    </a:lnTo>
                    <a:lnTo>
                      <a:pt x="11" y="580"/>
                    </a:lnTo>
                    <a:lnTo>
                      <a:pt x="10" y="589"/>
                    </a:lnTo>
                    <a:lnTo>
                      <a:pt x="9" y="598"/>
                    </a:lnTo>
                    <a:lnTo>
                      <a:pt x="9" y="608"/>
                    </a:lnTo>
                    <a:lnTo>
                      <a:pt x="6" y="615"/>
                    </a:lnTo>
                    <a:lnTo>
                      <a:pt x="5" y="625"/>
                    </a:lnTo>
                    <a:lnTo>
                      <a:pt x="4" y="632"/>
                    </a:lnTo>
                    <a:lnTo>
                      <a:pt x="4" y="642"/>
                    </a:lnTo>
                    <a:lnTo>
                      <a:pt x="2" y="650"/>
                    </a:lnTo>
                    <a:lnTo>
                      <a:pt x="1" y="658"/>
                    </a:lnTo>
                    <a:lnTo>
                      <a:pt x="1" y="667"/>
                    </a:lnTo>
                    <a:lnTo>
                      <a:pt x="1" y="677"/>
                    </a:lnTo>
                    <a:lnTo>
                      <a:pt x="0" y="684"/>
                    </a:lnTo>
                    <a:lnTo>
                      <a:pt x="0" y="693"/>
                    </a:lnTo>
                    <a:lnTo>
                      <a:pt x="0" y="701"/>
                    </a:lnTo>
                    <a:lnTo>
                      <a:pt x="0" y="710"/>
                    </a:lnTo>
                    <a:lnTo>
                      <a:pt x="0" y="718"/>
                    </a:lnTo>
                    <a:lnTo>
                      <a:pt x="1" y="727"/>
                    </a:lnTo>
                    <a:lnTo>
                      <a:pt x="1" y="736"/>
                    </a:lnTo>
                    <a:lnTo>
                      <a:pt x="2" y="745"/>
                    </a:lnTo>
                    <a:lnTo>
                      <a:pt x="2" y="753"/>
                    </a:lnTo>
                    <a:lnTo>
                      <a:pt x="2" y="761"/>
                    </a:lnTo>
                    <a:lnTo>
                      <a:pt x="4" y="769"/>
                    </a:lnTo>
                    <a:lnTo>
                      <a:pt x="5" y="778"/>
                    </a:lnTo>
                    <a:lnTo>
                      <a:pt x="5" y="784"/>
                    </a:lnTo>
                    <a:lnTo>
                      <a:pt x="6" y="795"/>
                    </a:lnTo>
                    <a:lnTo>
                      <a:pt x="7" y="801"/>
                    </a:lnTo>
                    <a:lnTo>
                      <a:pt x="10" y="812"/>
                    </a:lnTo>
                    <a:lnTo>
                      <a:pt x="10" y="818"/>
                    </a:lnTo>
                    <a:lnTo>
                      <a:pt x="12" y="829"/>
                    </a:lnTo>
                    <a:lnTo>
                      <a:pt x="13" y="836"/>
                    </a:lnTo>
                    <a:lnTo>
                      <a:pt x="16" y="845"/>
                    </a:lnTo>
                    <a:lnTo>
                      <a:pt x="17" y="853"/>
                    </a:lnTo>
                    <a:lnTo>
                      <a:pt x="19" y="862"/>
                    </a:lnTo>
                    <a:lnTo>
                      <a:pt x="21" y="870"/>
                    </a:lnTo>
                    <a:lnTo>
                      <a:pt x="24" y="879"/>
                    </a:lnTo>
                    <a:lnTo>
                      <a:pt x="25" y="886"/>
                    </a:lnTo>
                    <a:lnTo>
                      <a:pt x="28" y="895"/>
                    </a:lnTo>
                    <a:lnTo>
                      <a:pt x="30" y="902"/>
                    </a:lnTo>
                    <a:lnTo>
                      <a:pt x="33" y="911"/>
                    </a:lnTo>
                    <a:lnTo>
                      <a:pt x="35" y="918"/>
                    </a:lnTo>
                    <a:lnTo>
                      <a:pt x="37" y="926"/>
                    </a:lnTo>
                    <a:lnTo>
                      <a:pt x="41" y="935"/>
                    </a:lnTo>
                    <a:lnTo>
                      <a:pt x="45" y="943"/>
                    </a:lnTo>
                    <a:lnTo>
                      <a:pt x="47" y="950"/>
                    </a:lnTo>
                    <a:lnTo>
                      <a:pt x="51" y="959"/>
                    </a:lnTo>
                    <a:lnTo>
                      <a:pt x="53" y="966"/>
                    </a:lnTo>
                    <a:lnTo>
                      <a:pt x="57" y="974"/>
                    </a:lnTo>
                    <a:lnTo>
                      <a:pt x="60" y="982"/>
                    </a:lnTo>
                    <a:lnTo>
                      <a:pt x="64" y="990"/>
                    </a:lnTo>
                    <a:lnTo>
                      <a:pt x="68" y="999"/>
                    </a:lnTo>
                    <a:lnTo>
                      <a:pt x="72" y="1007"/>
                    </a:lnTo>
                    <a:lnTo>
                      <a:pt x="76" y="1014"/>
                    </a:lnTo>
                    <a:lnTo>
                      <a:pt x="80" y="1021"/>
                    </a:lnTo>
                    <a:lnTo>
                      <a:pt x="83" y="1029"/>
                    </a:lnTo>
                    <a:lnTo>
                      <a:pt x="87" y="1037"/>
                    </a:lnTo>
                    <a:lnTo>
                      <a:pt x="91" y="1044"/>
                    </a:lnTo>
                    <a:lnTo>
                      <a:pt x="95" y="1052"/>
                    </a:lnTo>
                    <a:lnTo>
                      <a:pt x="100" y="1059"/>
                    </a:lnTo>
                    <a:lnTo>
                      <a:pt x="105" y="1067"/>
                    </a:lnTo>
                    <a:lnTo>
                      <a:pt x="109" y="1075"/>
                    </a:lnTo>
                    <a:lnTo>
                      <a:pt x="115" y="1082"/>
                    </a:lnTo>
                    <a:lnTo>
                      <a:pt x="118" y="1089"/>
                    </a:lnTo>
                    <a:lnTo>
                      <a:pt x="124" y="1096"/>
                    </a:lnTo>
                    <a:lnTo>
                      <a:pt x="129" y="1103"/>
                    </a:lnTo>
                    <a:lnTo>
                      <a:pt x="135" y="1111"/>
                    </a:lnTo>
                    <a:lnTo>
                      <a:pt x="140" y="1118"/>
                    </a:lnTo>
                    <a:lnTo>
                      <a:pt x="146" y="1125"/>
                    </a:lnTo>
                    <a:lnTo>
                      <a:pt x="150" y="1131"/>
                    </a:lnTo>
                    <a:lnTo>
                      <a:pt x="156" y="1138"/>
                    </a:lnTo>
                    <a:lnTo>
                      <a:pt x="160" y="1144"/>
                    </a:lnTo>
                    <a:lnTo>
                      <a:pt x="167" y="1152"/>
                    </a:lnTo>
                    <a:lnTo>
                      <a:pt x="171" y="1158"/>
                    </a:lnTo>
                    <a:lnTo>
                      <a:pt x="177" y="1165"/>
                    </a:lnTo>
                    <a:lnTo>
                      <a:pt x="182" y="1171"/>
                    </a:lnTo>
                    <a:lnTo>
                      <a:pt x="189" y="1178"/>
                    </a:lnTo>
                    <a:lnTo>
                      <a:pt x="194" y="1183"/>
                    </a:lnTo>
                    <a:lnTo>
                      <a:pt x="200" y="1190"/>
                    </a:lnTo>
                    <a:lnTo>
                      <a:pt x="206" y="1195"/>
                    </a:lnTo>
                    <a:lnTo>
                      <a:pt x="214" y="1202"/>
                    </a:lnTo>
                    <a:lnTo>
                      <a:pt x="220" y="1207"/>
                    </a:lnTo>
                    <a:lnTo>
                      <a:pt x="226" y="1214"/>
                    </a:lnTo>
                    <a:lnTo>
                      <a:pt x="232" y="1219"/>
                    </a:lnTo>
                    <a:lnTo>
                      <a:pt x="239" y="1226"/>
                    </a:lnTo>
                    <a:lnTo>
                      <a:pt x="245" y="1231"/>
                    </a:lnTo>
                    <a:lnTo>
                      <a:pt x="251" y="1236"/>
                    </a:lnTo>
                    <a:lnTo>
                      <a:pt x="257" y="1241"/>
                    </a:lnTo>
                    <a:lnTo>
                      <a:pt x="264" y="1247"/>
                    </a:lnTo>
                    <a:lnTo>
                      <a:pt x="270" y="1252"/>
                    </a:lnTo>
                    <a:lnTo>
                      <a:pt x="276" y="1258"/>
                    </a:lnTo>
                    <a:lnTo>
                      <a:pt x="285" y="1263"/>
                    </a:lnTo>
                    <a:lnTo>
                      <a:pt x="292" y="1269"/>
                    </a:lnTo>
                    <a:lnTo>
                      <a:pt x="298" y="1272"/>
                    </a:lnTo>
                    <a:lnTo>
                      <a:pt x="304" y="1277"/>
                    </a:lnTo>
                    <a:lnTo>
                      <a:pt x="311" y="1282"/>
                    </a:lnTo>
                    <a:lnTo>
                      <a:pt x="318" y="1287"/>
                    </a:lnTo>
                    <a:lnTo>
                      <a:pt x="326" y="1292"/>
                    </a:lnTo>
                    <a:lnTo>
                      <a:pt x="333" y="1296"/>
                    </a:lnTo>
                    <a:lnTo>
                      <a:pt x="340" y="1301"/>
                    </a:lnTo>
                    <a:lnTo>
                      <a:pt x="349" y="1306"/>
                    </a:lnTo>
                    <a:lnTo>
                      <a:pt x="356" y="1310"/>
                    </a:lnTo>
                    <a:lnTo>
                      <a:pt x="363" y="1313"/>
                    </a:lnTo>
                    <a:lnTo>
                      <a:pt x="370" y="1317"/>
                    </a:lnTo>
                    <a:lnTo>
                      <a:pt x="378" y="1322"/>
                    </a:lnTo>
                    <a:lnTo>
                      <a:pt x="385" y="1325"/>
                    </a:lnTo>
                    <a:lnTo>
                      <a:pt x="392" y="1329"/>
                    </a:lnTo>
                    <a:lnTo>
                      <a:pt x="400" y="1333"/>
                    </a:lnTo>
                    <a:lnTo>
                      <a:pt x="409" y="1336"/>
                    </a:lnTo>
                    <a:lnTo>
                      <a:pt x="416" y="1339"/>
                    </a:lnTo>
                    <a:lnTo>
                      <a:pt x="423" y="1342"/>
                    </a:lnTo>
                    <a:lnTo>
                      <a:pt x="432" y="1346"/>
                    </a:lnTo>
                    <a:lnTo>
                      <a:pt x="440" y="1349"/>
                    </a:lnTo>
                    <a:lnTo>
                      <a:pt x="447" y="1352"/>
                    </a:lnTo>
                    <a:lnTo>
                      <a:pt x="456" y="1355"/>
                    </a:lnTo>
                    <a:lnTo>
                      <a:pt x="464" y="1359"/>
                    </a:lnTo>
                    <a:lnTo>
                      <a:pt x="473" y="1363"/>
                    </a:lnTo>
                    <a:lnTo>
                      <a:pt x="480" y="1364"/>
                    </a:lnTo>
                    <a:lnTo>
                      <a:pt x="488" y="1368"/>
                    </a:lnTo>
                    <a:lnTo>
                      <a:pt x="497" y="1369"/>
                    </a:lnTo>
                    <a:lnTo>
                      <a:pt x="505" y="1372"/>
                    </a:lnTo>
                    <a:lnTo>
                      <a:pt x="513" y="1374"/>
                    </a:lnTo>
                    <a:lnTo>
                      <a:pt x="521" y="1376"/>
                    </a:lnTo>
                    <a:lnTo>
                      <a:pt x="529" y="1378"/>
                    </a:lnTo>
                    <a:lnTo>
                      <a:pt x="538" y="1381"/>
                    </a:lnTo>
                    <a:lnTo>
                      <a:pt x="545" y="1382"/>
                    </a:lnTo>
                    <a:lnTo>
                      <a:pt x="555" y="1384"/>
                    </a:lnTo>
                    <a:lnTo>
                      <a:pt x="562" y="1386"/>
                    </a:lnTo>
                    <a:lnTo>
                      <a:pt x="572" y="1388"/>
                    </a:lnTo>
                    <a:lnTo>
                      <a:pt x="580" y="1389"/>
                    </a:lnTo>
                    <a:lnTo>
                      <a:pt x="590" y="1390"/>
                    </a:lnTo>
                    <a:lnTo>
                      <a:pt x="598" y="1392"/>
                    </a:lnTo>
                    <a:lnTo>
                      <a:pt x="608" y="1394"/>
                    </a:lnTo>
                    <a:lnTo>
                      <a:pt x="615" y="1394"/>
                    </a:lnTo>
                    <a:lnTo>
                      <a:pt x="622" y="1395"/>
                    </a:lnTo>
                    <a:lnTo>
                      <a:pt x="631" y="1395"/>
                    </a:lnTo>
                    <a:lnTo>
                      <a:pt x="639" y="1396"/>
                    </a:lnTo>
                    <a:lnTo>
                      <a:pt x="646" y="1396"/>
                    </a:lnTo>
                    <a:lnTo>
                      <a:pt x="655" y="1398"/>
                    </a:lnTo>
                    <a:lnTo>
                      <a:pt x="663" y="1398"/>
                    </a:lnTo>
                    <a:lnTo>
                      <a:pt x="672" y="1399"/>
                    </a:lnTo>
                    <a:lnTo>
                      <a:pt x="679" y="1399"/>
                    </a:lnTo>
                    <a:lnTo>
                      <a:pt x="687" y="1399"/>
                    </a:lnTo>
                    <a:lnTo>
                      <a:pt x="696" y="1399"/>
                    </a:lnTo>
                    <a:lnTo>
                      <a:pt x="704" y="1399"/>
                    </a:lnTo>
                    <a:lnTo>
                      <a:pt x="712" y="1398"/>
                    </a:lnTo>
                    <a:lnTo>
                      <a:pt x="720" y="1398"/>
                    </a:lnTo>
                    <a:lnTo>
                      <a:pt x="728" y="1398"/>
                    </a:lnTo>
                    <a:lnTo>
                      <a:pt x="737" y="1398"/>
                    </a:lnTo>
                    <a:lnTo>
                      <a:pt x="749" y="1395"/>
                    </a:lnTo>
                    <a:lnTo>
                      <a:pt x="761" y="1394"/>
                    </a:lnTo>
                    <a:lnTo>
                      <a:pt x="773" y="1393"/>
                    </a:lnTo>
                    <a:lnTo>
                      <a:pt x="786" y="1392"/>
                    </a:lnTo>
                    <a:lnTo>
                      <a:pt x="798" y="1388"/>
                    </a:lnTo>
                    <a:lnTo>
                      <a:pt x="812" y="1387"/>
                    </a:lnTo>
                    <a:lnTo>
                      <a:pt x="824" y="1383"/>
                    </a:lnTo>
                    <a:lnTo>
                      <a:pt x="837" y="1382"/>
                    </a:lnTo>
                    <a:lnTo>
                      <a:pt x="849" y="1378"/>
                    </a:lnTo>
                    <a:lnTo>
                      <a:pt x="861" y="1375"/>
                    </a:lnTo>
                    <a:lnTo>
                      <a:pt x="873" y="1371"/>
                    </a:lnTo>
                    <a:lnTo>
                      <a:pt x="886" y="1369"/>
                    </a:lnTo>
                    <a:lnTo>
                      <a:pt x="898" y="1364"/>
                    </a:lnTo>
                    <a:lnTo>
                      <a:pt x="912" y="1360"/>
                    </a:lnTo>
                    <a:lnTo>
                      <a:pt x="924" y="1355"/>
                    </a:lnTo>
                    <a:lnTo>
                      <a:pt x="937" y="1352"/>
                    </a:lnTo>
                    <a:lnTo>
                      <a:pt x="948" y="1346"/>
                    </a:lnTo>
                    <a:lnTo>
                      <a:pt x="960" y="1341"/>
                    </a:lnTo>
                    <a:lnTo>
                      <a:pt x="972" y="1335"/>
                    </a:lnTo>
                    <a:lnTo>
                      <a:pt x="984" y="1330"/>
                    </a:lnTo>
                    <a:lnTo>
                      <a:pt x="995" y="1324"/>
                    </a:lnTo>
                    <a:lnTo>
                      <a:pt x="1007" y="1318"/>
                    </a:lnTo>
                    <a:lnTo>
                      <a:pt x="1019" y="1312"/>
                    </a:lnTo>
                    <a:lnTo>
                      <a:pt x="1031" y="1307"/>
                    </a:lnTo>
                    <a:lnTo>
                      <a:pt x="1042" y="1300"/>
                    </a:lnTo>
                    <a:lnTo>
                      <a:pt x="1053" y="1294"/>
                    </a:lnTo>
                    <a:lnTo>
                      <a:pt x="1064" y="1287"/>
                    </a:lnTo>
                    <a:lnTo>
                      <a:pt x="1076" y="1281"/>
                    </a:lnTo>
                    <a:lnTo>
                      <a:pt x="1087" y="1273"/>
                    </a:lnTo>
                    <a:lnTo>
                      <a:pt x="1097" y="1266"/>
                    </a:lnTo>
                    <a:lnTo>
                      <a:pt x="1108" y="1259"/>
                    </a:lnTo>
                    <a:lnTo>
                      <a:pt x="1119" y="1252"/>
                    </a:lnTo>
                    <a:lnTo>
                      <a:pt x="1129" y="1242"/>
                    </a:lnTo>
                    <a:lnTo>
                      <a:pt x="1138" y="1235"/>
                    </a:lnTo>
                    <a:lnTo>
                      <a:pt x="1148" y="1225"/>
                    </a:lnTo>
                    <a:lnTo>
                      <a:pt x="1159" y="1218"/>
                    </a:lnTo>
                    <a:lnTo>
                      <a:pt x="1169" y="1208"/>
                    </a:lnTo>
                    <a:lnTo>
                      <a:pt x="1178" y="1200"/>
                    </a:lnTo>
                    <a:lnTo>
                      <a:pt x="1188" y="1191"/>
                    </a:lnTo>
                    <a:lnTo>
                      <a:pt x="1198" y="1183"/>
                    </a:lnTo>
                    <a:lnTo>
                      <a:pt x="1206" y="1173"/>
                    </a:lnTo>
                    <a:lnTo>
                      <a:pt x="1216" y="1164"/>
                    </a:lnTo>
                    <a:lnTo>
                      <a:pt x="1224" y="1154"/>
                    </a:lnTo>
                    <a:lnTo>
                      <a:pt x="1234" y="1144"/>
                    </a:lnTo>
                    <a:lnTo>
                      <a:pt x="1241" y="1135"/>
                    </a:lnTo>
                    <a:lnTo>
                      <a:pt x="1249" y="1125"/>
                    </a:lnTo>
                    <a:lnTo>
                      <a:pt x="1258" y="1116"/>
                    </a:lnTo>
                    <a:lnTo>
                      <a:pt x="1266" y="1106"/>
                    </a:lnTo>
                    <a:lnTo>
                      <a:pt x="1274" y="1095"/>
                    </a:lnTo>
                    <a:lnTo>
                      <a:pt x="1281" y="1084"/>
                    </a:lnTo>
                    <a:lnTo>
                      <a:pt x="1288" y="1073"/>
                    </a:lnTo>
                    <a:lnTo>
                      <a:pt x="1295" y="1062"/>
                    </a:lnTo>
                    <a:lnTo>
                      <a:pt x="1301" y="1052"/>
                    </a:lnTo>
                    <a:lnTo>
                      <a:pt x="1308" y="1041"/>
                    </a:lnTo>
                    <a:lnTo>
                      <a:pt x="1315" y="1030"/>
                    </a:lnTo>
                    <a:lnTo>
                      <a:pt x="1322" y="1019"/>
                    </a:lnTo>
                    <a:lnTo>
                      <a:pt x="1327" y="1007"/>
                    </a:lnTo>
                    <a:lnTo>
                      <a:pt x="1333" y="995"/>
                    </a:lnTo>
                    <a:lnTo>
                      <a:pt x="1339" y="983"/>
                    </a:lnTo>
                    <a:lnTo>
                      <a:pt x="1345" y="972"/>
                    </a:lnTo>
                    <a:lnTo>
                      <a:pt x="1348" y="960"/>
                    </a:lnTo>
                    <a:lnTo>
                      <a:pt x="1354" y="948"/>
                    </a:lnTo>
                    <a:lnTo>
                      <a:pt x="1358" y="936"/>
                    </a:lnTo>
                    <a:lnTo>
                      <a:pt x="1364" y="925"/>
                    </a:lnTo>
                    <a:lnTo>
                      <a:pt x="1278" y="979"/>
                    </a:lnTo>
                    <a:lnTo>
                      <a:pt x="1272" y="988"/>
                    </a:lnTo>
                    <a:lnTo>
                      <a:pt x="1267" y="996"/>
                    </a:lnTo>
                    <a:lnTo>
                      <a:pt x="1261" y="1005"/>
                    </a:lnTo>
                    <a:lnTo>
                      <a:pt x="1257" y="1014"/>
                    </a:lnTo>
                    <a:lnTo>
                      <a:pt x="1251" y="1021"/>
                    </a:lnTo>
                    <a:lnTo>
                      <a:pt x="1246" y="1031"/>
                    </a:lnTo>
                    <a:lnTo>
                      <a:pt x="1240" y="1038"/>
                    </a:lnTo>
                    <a:lnTo>
                      <a:pt x="1235" y="1048"/>
                    </a:lnTo>
                    <a:lnTo>
                      <a:pt x="1229" y="1055"/>
                    </a:lnTo>
                    <a:lnTo>
                      <a:pt x="1223" y="1064"/>
                    </a:lnTo>
                    <a:lnTo>
                      <a:pt x="1217" y="1072"/>
                    </a:lnTo>
                    <a:lnTo>
                      <a:pt x="1211" y="1081"/>
                    </a:lnTo>
                    <a:lnTo>
                      <a:pt x="1204" y="1088"/>
                    </a:lnTo>
                    <a:lnTo>
                      <a:pt x="1198" y="1096"/>
                    </a:lnTo>
                    <a:lnTo>
                      <a:pt x="1192" y="1105"/>
                    </a:lnTo>
                    <a:lnTo>
                      <a:pt x="1185" y="1113"/>
                    </a:lnTo>
                    <a:lnTo>
                      <a:pt x="1178" y="1119"/>
                    </a:lnTo>
                    <a:lnTo>
                      <a:pt x="1171" y="1126"/>
                    </a:lnTo>
                    <a:lnTo>
                      <a:pt x="1164" y="1134"/>
                    </a:lnTo>
                    <a:lnTo>
                      <a:pt x="1157" y="1141"/>
                    </a:lnTo>
                    <a:lnTo>
                      <a:pt x="1148" y="1148"/>
                    </a:lnTo>
                    <a:lnTo>
                      <a:pt x="1141" y="1155"/>
                    </a:lnTo>
                    <a:lnTo>
                      <a:pt x="1134" y="1163"/>
                    </a:lnTo>
                    <a:lnTo>
                      <a:pt x="1126" y="1170"/>
                    </a:lnTo>
                    <a:lnTo>
                      <a:pt x="1118" y="1176"/>
                    </a:lnTo>
                    <a:lnTo>
                      <a:pt x="1110" y="1183"/>
                    </a:lnTo>
                    <a:lnTo>
                      <a:pt x="1101" y="1189"/>
                    </a:lnTo>
                    <a:lnTo>
                      <a:pt x="1094" y="1196"/>
                    </a:lnTo>
                    <a:lnTo>
                      <a:pt x="1085" y="1202"/>
                    </a:lnTo>
                    <a:lnTo>
                      <a:pt x="1078" y="1208"/>
                    </a:lnTo>
                    <a:lnTo>
                      <a:pt x="1070" y="1214"/>
                    </a:lnTo>
                    <a:lnTo>
                      <a:pt x="1062" y="1222"/>
                    </a:lnTo>
                    <a:lnTo>
                      <a:pt x="1053" y="1226"/>
                    </a:lnTo>
                    <a:lnTo>
                      <a:pt x="1044" y="1232"/>
                    </a:lnTo>
                    <a:lnTo>
                      <a:pt x="1035" y="1237"/>
                    </a:lnTo>
                    <a:lnTo>
                      <a:pt x="1026" y="1243"/>
                    </a:lnTo>
                    <a:lnTo>
                      <a:pt x="1017" y="1248"/>
                    </a:lnTo>
                    <a:lnTo>
                      <a:pt x="1008" y="1253"/>
                    </a:lnTo>
                    <a:lnTo>
                      <a:pt x="1000" y="1258"/>
                    </a:lnTo>
                    <a:lnTo>
                      <a:pt x="991" y="1264"/>
                    </a:lnTo>
                    <a:lnTo>
                      <a:pt x="980" y="1267"/>
                    </a:lnTo>
                    <a:lnTo>
                      <a:pt x="972" y="1272"/>
                    </a:lnTo>
                    <a:lnTo>
                      <a:pt x="962" y="1276"/>
                    </a:lnTo>
                    <a:lnTo>
                      <a:pt x="954" y="1281"/>
                    </a:lnTo>
                    <a:lnTo>
                      <a:pt x="943" y="1284"/>
                    </a:lnTo>
                    <a:lnTo>
                      <a:pt x="935" y="1289"/>
                    </a:lnTo>
                    <a:lnTo>
                      <a:pt x="925" y="1293"/>
                    </a:lnTo>
                    <a:lnTo>
                      <a:pt x="917" y="1298"/>
                    </a:lnTo>
                    <a:lnTo>
                      <a:pt x="906" y="1300"/>
                    </a:lnTo>
                    <a:lnTo>
                      <a:pt x="896" y="1304"/>
                    </a:lnTo>
                    <a:lnTo>
                      <a:pt x="886" y="1307"/>
                    </a:lnTo>
                    <a:lnTo>
                      <a:pt x="877" y="1311"/>
                    </a:lnTo>
                    <a:lnTo>
                      <a:pt x="866" y="1313"/>
                    </a:lnTo>
                    <a:lnTo>
                      <a:pt x="856" y="1317"/>
                    </a:lnTo>
                    <a:lnTo>
                      <a:pt x="847" y="1319"/>
                    </a:lnTo>
                    <a:lnTo>
                      <a:pt x="837" y="1323"/>
                    </a:lnTo>
                    <a:lnTo>
                      <a:pt x="826" y="1324"/>
                    </a:lnTo>
                    <a:lnTo>
                      <a:pt x="816" y="1327"/>
                    </a:lnTo>
                    <a:lnTo>
                      <a:pt x="807" y="1329"/>
                    </a:lnTo>
                    <a:lnTo>
                      <a:pt x="797" y="1331"/>
                    </a:lnTo>
                    <a:lnTo>
                      <a:pt x="788" y="1333"/>
                    </a:lnTo>
                    <a:lnTo>
                      <a:pt x="778" y="1335"/>
                    </a:lnTo>
                    <a:lnTo>
                      <a:pt x="768" y="1336"/>
                    </a:lnTo>
                    <a:lnTo>
                      <a:pt x="759" y="1339"/>
                    </a:lnTo>
                    <a:lnTo>
                      <a:pt x="749" y="1339"/>
                    </a:lnTo>
                    <a:lnTo>
                      <a:pt x="741" y="1340"/>
                    </a:lnTo>
                    <a:lnTo>
                      <a:pt x="731" y="1340"/>
                    </a:lnTo>
                    <a:lnTo>
                      <a:pt x="722" y="1341"/>
                    </a:lnTo>
                    <a:lnTo>
                      <a:pt x="713" y="1341"/>
                    </a:lnTo>
                    <a:lnTo>
                      <a:pt x="704" y="1341"/>
                    </a:lnTo>
                    <a:lnTo>
                      <a:pt x="695" y="1341"/>
                    </a:lnTo>
                    <a:lnTo>
                      <a:pt x="686" y="1342"/>
                    </a:lnTo>
                    <a:lnTo>
                      <a:pt x="677" y="1341"/>
                    </a:lnTo>
                    <a:lnTo>
                      <a:pt x="668" y="1341"/>
                    </a:lnTo>
                    <a:lnTo>
                      <a:pt x="659" y="1341"/>
                    </a:lnTo>
                    <a:lnTo>
                      <a:pt x="650" y="1341"/>
                    </a:lnTo>
                    <a:lnTo>
                      <a:pt x="640" y="1340"/>
                    </a:lnTo>
                    <a:lnTo>
                      <a:pt x="632" y="1339"/>
                    </a:lnTo>
                    <a:lnTo>
                      <a:pt x="624" y="1337"/>
                    </a:lnTo>
                    <a:lnTo>
                      <a:pt x="615" y="1337"/>
                    </a:lnTo>
                    <a:lnTo>
                      <a:pt x="607" y="1335"/>
                    </a:lnTo>
                    <a:lnTo>
                      <a:pt x="598" y="1334"/>
                    </a:lnTo>
                    <a:lnTo>
                      <a:pt x="590" y="1333"/>
                    </a:lnTo>
                    <a:lnTo>
                      <a:pt x="583" y="1331"/>
                    </a:lnTo>
                    <a:lnTo>
                      <a:pt x="574" y="1329"/>
                    </a:lnTo>
                    <a:lnTo>
                      <a:pt x="566" y="1328"/>
                    </a:lnTo>
                    <a:lnTo>
                      <a:pt x="558" y="1325"/>
                    </a:lnTo>
                    <a:lnTo>
                      <a:pt x="551" y="1324"/>
                    </a:lnTo>
                    <a:lnTo>
                      <a:pt x="543" y="1322"/>
                    </a:lnTo>
                    <a:lnTo>
                      <a:pt x="536" y="1319"/>
                    </a:lnTo>
                    <a:lnTo>
                      <a:pt x="527" y="1317"/>
                    </a:lnTo>
                    <a:lnTo>
                      <a:pt x="520" y="1316"/>
                    </a:lnTo>
                    <a:lnTo>
                      <a:pt x="513" y="1313"/>
                    </a:lnTo>
                    <a:lnTo>
                      <a:pt x="505" y="1311"/>
                    </a:lnTo>
                    <a:lnTo>
                      <a:pt x="498" y="1308"/>
                    </a:lnTo>
                    <a:lnTo>
                      <a:pt x="491" y="1307"/>
                    </a:lnTo>
                    <a:lnTo>
                      <a:pt x="482" y="1304"/>
                    </a:lnTo>
                    <a:lnTo>
                      <a:pt x="475" y="1301"/>
                    </a:lnTo>
                    <a:lnTo>
                      <a:pt x="468" y="1298"/>
                    </a:lnTo>
                    <a:lnTo>
                      <a:pt x="461" y="1295"/>
                    </a:lnTo>
                    <a:lnTo>
                      <a:pt x="454" y="1292"/>
                    </a:lnTo>
                    <a:lnTo>
                      <a:pt x="446" y="1289"/>
                    </a:lnTo>
                    <a:lnTo>
                      <a:pt x="439" y="1286"/>
                    </a:lnTo>
                    <a:lnTo>
                      <a:pt x="432" y="1283"/>
                    </a:lnTo>
                    <a:lnTo>
                      <a:pt x="425" y="1280"/>
                    </a:lnTo>
                    <a:lnTo>
                      <a:pt x="417" y="1276"/>
                    </a:lnTo>
                    <a:lnTo>
                      <a:pt x="410" y="1272"/>
                    </a:lnTo>
                    <a:lnTo>
                      <a:pt x="404" y="1269"/>
                    </a:lnTo>
                    <a:lnTo>
                      <a:pt x="397" y="1265"/>
                    </a:lnTo>
                    <a:lnTo>
                      <a:pt x="391" y="1261"/>
                    </a:lnTo>
                    <a:lnTo>
                      <a:pt x="384" y="1258"/>
                    </a:lnTo>
                    <a:lnTo>
                      <a:pt x="378" y="1255"/>
                    </a:lnTo>
                    <a:lnTo>
                      <a:pt x="370" y="1251"/>
                    </a:lnTo>
                    <a:lnTo>
                      <a:pt x="363" y="1247"/>
                    </a:lnTo>
                    <a:lnTo>
                      <a:pt x="356" y="1242"/>
                    </a:lnTo>
                    <a:lnTo>
                      <a:pt x="350" y="1239"/>
                    </a:lnTo>
                    <a:lnTo>
                      <a:pt x="343" y="1234"/>
                    </a:lnTo>
                    <a:lnTo>
                      <a:pt x="337" y="1229"/>
                    </a:lnTo>
                    <a:lnTo>
                      <a:pt x="331" y="1224"/>
                    </a:lnTo>
                    <a:lnTo>
                      <a:pt x="324" y="1220"/>
                    </a:lnTo>
                    <a:lnTo>
                      <a:pt x="317" y="1214"/>
                    </a:lnTo>
                    <a:lnTo>
                      <a:pt x="311" y="1211"/>
                    </a:lnTo>
                    <a:lnTo>
                      <a:pt x="305" y="1205"/>
                    </a:lnTo>
                    <a:lnTo>
                      <a:pt x="299" y="1201"/>
                    </a:lnTo>
                    <a:lnTo>
                      <a:pt x="293" y="1195"/>
                    </a:lnTo>
                    <a:lnTo>
                      <a:pt x="287" y="1191"/>
                    </a:lnTo>
                    <a:lnTo>
                      <a:pt x="281" y="1185"/>
                    </a:lnTo>
                    <a:lnTo>
                      <a:pt x="276" y="1182"/>
                    </a:lnTo>
                    <a:lnTo>
                      <a:pt x="270" y="1176"/>
                    </a:lnTo>
                    <a:lnTo>
                      <a:pt x="264" y="1170"/>
                    </a:lnTo>
                    <a:lnTo>
                      <a:pt x="258" y="1164"/>
                    </a:lnTo>
                    <a:lnTo>
                      <a:pt x="253" y="1159"/>
                    </a:lnTo>
                    <a:lnTo>
                      <a:pt x="247" y="1153"/>
                    </a:lnTo>
                    <a:lnTo>
                      <a:pt x="241" y="1148"/>
                    </a:lnTo>
                    <a:lnTo>
                      <a:pt x="236" y="1142"/>
                    </a:lnTo>
                    <a:lnTo>
                      <a:pt x="232" y="1137"/>
                    </a:lnTo>
                    <a:lnTo>
                      <a:pt x="226" y="1131"/>
                    </a:lnTo>
                    <a:lnTo>
                      <a:pt x="221" y="1125"/>
                    </a:lnTo>
                    <a:lnTo>
                      <a:pt x="215" y="1119"/>
                    </a:lnTo>
                    <a:lnTo>
                      <a:pt x="210" y="1114"/>
                    </a:lnTo>
                    <a:lnTo>
                      <a:pt x="205" y="1107"/>
                    </a:lnTo>
                    <a:lnTo>
                      <a:pt x="200" y="1102"/>
                    </a:lnTo>
                    <a:lnTo>
                      <a:pt x="195" y="1095"/>
                    </a:lnTo>
                    <a:lnTo>
                      <a:pt x="192" y="1090"/>
                    </a:lnTo>
                    <a:lnTo>
                      <a:pt x="186" y="1083"/>
                    </a:lnTo>
                    <a:lnTo>
                      <a:pt x="181" y="1076"/>
                    </a:lnTo>
                    <a:lnTo>
                      <a:pt x="176" y="1068"/>
                    </a:lnTo>
                    <a:lnTo>
                      <a:pt x="171" y="1062"/>
                    </a:lnTo>
                    <a:lnTo>
                      <a:pt x="167" y="1055"/>
                    </a:lnTo>
                    <a:lnTo>
                      <a:pt x="162" y="1049"/>
                    </a:lnTo>
                    <a:lnTo>
                      <a:pt x="158" y="1042"/>
                    </a:lnTo>
                    <a:lnTo>
                      <a:pt x="154" y="1036"/>
                    </a:lnTo>
                    <a:lnTo>
                      <a:pt x="150" y="1029"/>
                    </a:lnTo>
                    <a:lnTo>
                      <a:pt x="145" y="1021"/>
                    </a:lnTo>
                    <a:lnTo>
                      <a:pt x="141" y="1014"/>
                    </a:lnTo>
                    <a:lnTo>
                      <a:pt x="138" y="1008"/>
                    </a:lnTo>
                    <a:lnTo>
                      <a:pt x="134" y="1001"/>
                    </a:lnTo>
                    <a:lnTo>
                      <a:pt x="130" y="995"/>
                    </a:lnTo>
                    <a:lnTo>
                      <a:pt x="127" y="988"/>
                    </a:lnTo>
                    <a:lnTo>
                      <a:pt x="123" y="982"/>
                    </a:lnTo>
                    <a:lnTo>
                      <a:pt x="119" y="974"/>
                    </a:lnTo>
                    <a:lnTo>
                      <a:pt x="116" y="967"/>
                    </a:lnTo>
                    <a:lnTo>
                      <a:pt x="112" y="960"/>
                    </a:lnTo>
                    <a:lnTo>
                      <a:pt x="109" y="953"/>
                    </a:lnTo>
                    <a:lnTo>
                      <a:pt x="105" y="945"/>
                    </a:lnTo>
                    <a:lnTo>
                      <a:pt x="103" y="938"/>
                    </a:lnTo>
                    <a:lnTo>
                      <a:pt x="100" y="931"/>
                    </a:lnTo>
                    <a:lnTo>
                      <a:pt x="98" y="924"/>
                    </a:lnTo>
                    <a:lnTo>
                      <a:pt x="94" y="915"/>
                    </a:lnTo>
                    <a:lnTo>
                      <a:pt x="92" y="908"/>
                    </a:lnTo>
                    <a:lnTo>
                      <a:pt x="89" y="901"/>
                    </a:lnTo>
                    <a:lnTo>
                      <a:pt x="87" y="894"/>
                    </a:lnTo>
                    <a:lnTo>
                      <a:pt x="84" y="886"/>
                    </a:lnTo>
                    <a:lnTo>
                      <a:pt x="83" y="879"/>
                    </a:lnTo>
                    <a:lnTo>
                      <a:pt x="81" y="872"/>
                    </a:lnTo>
                    <a:lnTo>
                      <a:pt x="80" y="865"/>
                    </a:lnTo>
                    <a:lnTo>
                      <a:pt x="76" y="856"/>
                    </a:lnTo>
                    <a:lnTo>
                      <a:pt x="75" y="849"/>
                    </a:lnTo>
                    <a:lnTo>
                      <a:pt x="72" y="841"/>
                    </a:lnTo>
                    <a:lnTo>
                      <a:pt x="71" y="833"/>
                    </a:lnTo>
                    <a:lnTo>
                      <a:pt x="69" y="825"/>
                    </a:lnTo>
                    <a:lnTo>
                      <a:pt x="69" y="818"/>
                    </a:lnTo>
                    <a:lnTo>
                      <a:pt x="66" y="809"/>
                    </a:lnTo>
                    <a:lnTo>
                      <a:pt x="66" y="801"/>
                    </a:lnTo>
                    <a:lnTo>
                      <a:pt x="64" y="794"/>
                    </a:lnTo>
                    <a:lnTo>
                      <a:pt x="63" y="786"/>
                    </a:lnTo>
                    <a:lnTo>
                      <a:pt x="62" y="778"/>
                    </a:lnTo>
                    <a:lnTo>
                      <a:pt x="62" y="771"/>
                    </a:lnTo>
                    <a:lnTo>
                      <a:pt x="60" y="762"/>
                    </a:lnTo>
                    <a:lnTo>
                      <a:pt x="59" y="755"/>
                    </a:lnTo>
                    <a:lnTo>
                      <a:pt x="59" y="748"/>
                    </a:lnTo>
                    <a:lnTo>
                      <a:pt x="59" y="739"/>
                    </a:lnTo>
                    <a:lnTo>
                      <a:pt x="58" y="732"/>
                    </a:lnTo>
                    <a:lnTo>
                      <a:pt x="58" y="722"/>
                    </a:lnTo>
                    <a:lnTo>
                      <a:pt x="58" y="716"/>
                    </a:lnTo>
                    <a:lnTo>
                      <a:pt x="58" y="709"/>
                    </a:lnTo>
                    <a:lnTo>
                      <a:pt x="58" y="701"/>
                    </a:lnTo>
                    <a:lnTo>
                      <a:pt x="58" y="692"/>
                    </a:lnTo>
                    <a:lnTo>
                      <a:pt x="58" y="684"/>
                    </a:lnTo>
                    <a:lnTo>
                      <a:pt x="58" y="678"/>
                    </a:lnTo>
                    <a:lnTo>
                      <a:pt x="58" y="669"/>
                    </a:lnTo>
                    <a:lnTo>
                      <a:pt x="58" y="661"/>
                    </a:lnTo>
                    <a:lnTo>
                      <a:pt x="59" y="654"/>
                    </a:lnTo>
                    <a:lnTo>
                      <a:pt x="60" y="645"/>
                    </a:lnTo>
                    <a:lnTo>
                      <a:pt x="60" y="638"/>
                    </a:lnTo>
                    <a:lnTo>
                      <a:pt x="62" y="628"/>
                    </a:lnTo>
                    <a:lnTo>
                      <a:pt x="63" y="621"/>
                    </a:lnTo>
                    <a:lnTo>
                      <a:pt x="65" y="615"/>
                    </a:lnTo>
                    <a:lnTo>
                      <a:pt x="65" y="605"/>
                    </a:lnTo>
                    <a:lnTo>
                      <a:pt x="66" y="598"/>
                    </a:lnTo>
                    <a:lnTo>
                      <a:pt x="68" y="589"/>
                    </a:lnTo>
                    <a:lnTo>
                      <a:pt x="69" y="583"/>
                    </a:lnTo>
                    <a:lnTo>
                      <a:pt x="70" y="573"/>
                    </a:lnTo>
                    <a:lnTo>
                      <a:pt x="71" y="566"/>
                    </a:lnTo>
                    <a:lnTo>
                      <a:pt x="72" y="558"/>
                    </a:lnTo>
                    <a:lnTo>
                      <a:pt x="75" y="550"/>
                    </a:lnTo>
                    <a:lnTo>
                      <a:pt x="76" y="543"/>
                    </a:lnTo>
                    <a:lnTo>
                      <a:pt x="78" y="536"/>
                    </a:lnTo>
                    <a:lnTo>
                      <a:pt x="80" y="526"/>
                    </a:lnTo>
                    <a:lnTo>
                      <a:pt x="82" y="520"/>
                    </a:lnTo>
                    <a:lnTo>
                      <a:pt x="84" y="511"/>
                    </a:lnTo>
                    <a:lnTo>
                      <a:pt x="87" y="504"/>
                    </a:lnTo>
                    <a:lnTo>
                      <a:pt x="89" y="498"/>
                    </a:lnTo>
                    <a:lnTo>
                      <a:pt x="93" y="491"/>
                    </a:lnTo>
                    <a:lnTo>
                      <a:pt x="95" y="482"/>
                    </a:lnTo>
                    <a:lnTo>
                      <a:pt x="98" y="475"/>
                    </a:lnTo>
                    <a:lnTo>
                      <a:pt x="100" y="469"/>
                    </a:lnTo>
                    <a:lnTo>
                      <a:pt x="104" y="461"/>
                    </a:lnTo>
                    <a:lnTo>
                      <a:pt x="106" y="454"/>
                    </a:lnTo>
                    <a:lnTo>
                      <a:pt x="109" y="447"/>
                    </a:lnTo>
                    <a:lnTo>
                      <a:pt x="112" y="439"/>
                    </a:lnTo>
                    <a:lnTo>
                      <a:pt x="116" y="432"/>
                    </a:lnTo>
                    <a:lnTo>
                      <a:pt x="119" y="425"/>
                    </a:lnTo>
                    <a:lnTo>
                      <a:pt x="123" y="419"/>
                    </a:lnTo>
                    <a:lnTo>
                      <a:pt x="127" y="410"/>
                    </a:lnTo>
                    <a:lnTo>
                      <a:pt x="130" y="403"/>
                    </a:lnTo>
                    <a:lnTo>
                      <a:pt x="134" y="397"/>
                    </a:lnTo>
                    <a:lnTo>
                      <a:pt x="138" y="391"/>
                    </a:lnTo>
                    <a:lnTo>
                      <a:pt x="141" y="384"/>
                    </a:lnTo>
                    <a:lnTo>
                      <a:pt x="146" y="378"/>
                    </a:lnTo>
                    <a:lnTo>
                      <a:pt x="150" y="370"/>
                    </a:lnTo>
                    <a:lnTo>
                      <a:pt x="153" y="363"/>
                    </a:lnTo>
                    <a:lnTo>
                      <a:pt x="157" y="356"/>
                    </a:lnTo>
                    <a:lnTo>
                      <a:pt x="160" y="350"/>
                    </a:lnTo>
                    <a:lnTo>
                      <a:pt x="164" y="343"/>
                    </a:lnTo>
                    <a:lnTo>
                      <a:pt x="169" y="337"/>
                    </a:lnTo>
                    <a:lnTo>
                      <a:pt x="174" y="331"/>
                    </a:lnTo>
                    <a:lnTo>
                      <a:pt x="179" y="324"/>
                    </a:lnTo>
                    <a:lnTo>
                      <a:pt x="182" y="318"/>
                    </a:lnTo>
                    <a:lnTo>
                      <a:pt x="187" y="310"/>
                    </a:lnTo>
                    <a:lnTo>
                      <a:pt x="192" y="304"/>
                    </a:lnTo>
                    <a:lnTo>
                      <a:pt x="197" y="298"/>
                    </a:lnTo>
                    <a:lnTo>
                      <a:pt x="201" y="292"/>
                    </a:lnTo>
                    <a:lnTo>
                      <a:pt x="208" y="286"/>
                    </a:lnTo>
                    <a:lnTo>
                      <a:pt x="212" y="280"/>
                    </a:lnTo>
                    <a:lnTo>
                      <a:pt x="218" y="275"/>
                    </a:lnTo>
                    <a:lnTo>
                      <a:pt x="222" y="268"/>
                    </a:lnTo>
                    <a:lnTo>
                      <a:pt x="228" y="263"/>
                    </a:lnTo>
                    <a:lnTo>
                      <a:pt x="233" y="256"/>
                    </a:lnTo>
                    <a:lnTo>
                      <a:pt x="239" y="251"/>
                    </a:lnTo>
                    <a:lnTo>
                      <a:pt x="244" y="246"/>
                    </a:lnTo>
                    <a:lnTo>
                      <a:pt x="250" y="240"/>
                    </a:lnTo>
                    <a:lnTo>
                      <a:pt x="253" y="234"/>
                    </a:lnTo>
                    <a:lnTo>
                      <a:pt x="262" y="229"/>
                    </a:lnTo>
                    <a:lnTo>
                      <a:pt x="265" y="223"/>
                    </a:lnTo>
                    <a:lnTo>
                      <a:pt x="271" y="218"/>
                    </a:lnTo>
                    <a:lnTo>
                      <a:pt x="279" y="212"/>
                    </a:lnTo>
                    <a:lnTo>
                      <a:pt x="286" y="208"/>
                    </a:lnTo>
                    <a:lnTo>
                      <a:pt x="292" y="203"/>
                    </a:lnTo>
                    <a:lnTo>
                      <a:pt x="298" y="198"/>
                    </a:lnTo>
                    <a:lnTo>
                      <a:pt x="304" y="193"/>
                    </a:lnTo>
                    <a:lnTo>
                      <a:pt x="311" y="189"/>
                    </a:lnTo>
                    <a:lnTo>
                      <a:pt x="317" y="183"/>
                    </a:lnTo>
                    <a:lnTo>
                      <a:pt x="323" y="179"/>
                    </a:lnTo>
                    <a:lnTo>
                      <a:pt x="329" y="174"/>
                    </a:lnTo>
                    <a:lnTo>
                      <a:pt x="337" y="170"/>
                    </a:lnTo>
                    <a:lnTo>
                      <a:pt x="343" y="165"/>
                    </a:lnTo>
                    <a:lnTo>
                      <a:pt x="349" y="160"/>
                    </a:lnTo>
                    <a:lnTo>
                      <a:pt x="355" y="156"/>
                    </a:lnTo>
                    <a:lnTo>
                      <a:pt x="362" y="152"/>
                    </a:lnTo>
                    <a:lnTo>
                      <a:pt x="368" y="147"/>
                    </a:lnTo>
                    <a:lnTo>
                      <a:pt x="375" y="144"/>
                    </a:lnTo>
                    <a:lnTo>
                      <a:pt x="381" y="140"/>
                    </a:lnTo>
                    <a:lnTo>
                      <a:pt x="388" y="136"/>
                    </a:lnTo>
                    <a:lnTo>
                      <a:pt x="396" y="133"/>
                    </a:lnTo>
                    <a:lnTo>
                      <a:pt x="403" y="129"/>
                    </a:lnTo>
                    <a:lnTo>
                      <a:pt x="410" y="126"/>
                    </a:lnTo>
                    <a:lnTo>
                      <a:pt x="417" y="122"/>
                    </a:lnTo>
                    <a:lnTo>
                      <a:pt x="425" y="118"/>
                    </a:lnTo>
                    <a:lnTo>
                      <a:pt x="432" y="115"/>
                    </a:lnTo>
                    <a:lnTo>
                      <a:pt x="439" y="111"/>
                    </a:lnTo>
                    <a:lnTo>
                      <a:pt x="446" y="107"/>
                    </a:lnTo>
                    <a:lnTo>
                      <a:pt x="454" y="104"/>
                    </a:lnTo>
                    <a:lnTo>
                      <a:pt x="461" y="101"/>
                    </a:lnTo>
                    <a:lnTo>
                      <a:pt x="468" y="99"/>
                    </a:lnTo>
                    <a:lnTo>
                      <a:pt x="475" y="97"/>
                    </a:lnTo>
                    <a:lnTo>
                      <a:pt x="482" y="93"/>
                    </a:lnTo>
                    <a:lnTo>
                      <a:pt x="490" y="91"/>
                    </a:lnTo>
                    <a:lnTo>
                      <a:pt x="497" y="88"/>
                    </a:lnTo>
                    <a:lnTo>
                      <a:pt x="504" y="86"/>
                    </a:lnTo>
                    <a:lnTo>
                      <a:pt x="511" y="83"/>
                    </a:lnTo>
                    <a:lnTo>
                      <a:pt x="520" y="82"/>
                    </a:lnTo>
                    <a:lnTo>
                      <a:pt x="527" y="80"/>
                    </a:lnTo>
                    <a:lnTo>
                      <a:pt x="536" y="78"/>
                    </a:lnTo>
                    <a:lnTo>
                      <a:pt x="543" y="75"/>
                    </a:lnTo>
                    <a:lnTo>
                      <a:pt x="550" y="74"/>
                    </a:lnTo>
                    <a:lnTo>
                      <a:pt x="557" y="71"/>
                    </a:lnTo>
                    <a:lnTo>
                      <a:pt x="564" y="70"/>
                    </a:lnTo>
                    <a:lnTo>
                      <a:pt x="572" y="68"/>
                    </a:lnTo>
                    <a:lnTo>
                      <a:pt x="580" y="68"/>
                    </a:lnTo>
                    <a:lnTo>
                      <a:pt x="587" y="65"/>
                    </a:lnTo>
                    <a:lnTo>
                      <a:pt x="596" y="65"/>
                    </a:lnTo>
                    <a:lnTo>
                      <a:pt x="603" y="63"/>
                    </a:lnTo>
                    <a:lnTo>
                      <a:pt x="610" y="62"/>
                    </a:lnTo>
                    <a:lnTo>
                      <a:pt x="618" y="60"/>
                    </a:lnTo>
                    <a:lnTo>
                      <a:pt x="626" y="60"/>
                    </a:lnTo>
                    <a:lnTo>
                      <a:pt x="633" y="59"/>
                    </a:lnTo>
                    <a:lnTo>
                      <a:pt x="642" y="58"/>
                    </a:lnTo>
                    <a:lnTo>
                      <a:pt x="650" y="58"/>
                    </a:lnTo>
                    <a:lnTo>
                      <a:pt x="659" y="58"/>
                    </a:lnTo>
                    <a:lnTo>
                      <a:pt x="666" y="57"/>
                    </a:lnTo>
                    <a:lnTo>
                      <a:pt x="673" y="57"/>
                    </a:lnTo>
                    <a:lnTo>
                      <a:pt x="681" y="57"/>
                    </a:lnTo>
                    <a:lnTo>
                      <a:pt x="690" y="57"/>
                    </a:lnTo>
                    <a:lnTo>
                      <a:pt x="697" y="57"/>
                    </a:lnTo>
                    <a:lnTo>
                      <a:pt x="704" y="57"/>
                    </a:lnTo>
                    <a:lnTo>
                      <a:pt x="713" y="57"/>
                    </a:lnTo>
                    <a:lnTo>
                      <a:pt x="721" y="57"/>
                    </a:lnTo>
                    <a:lnTo>
                      <a:pt x="728" y="57"/>
                    </a:lnTo>
                    <a:lnTo>
                      <a:pt x="737" y="57"/>
                    </a:lnTo>
                    <a:lnTo>
                      <a:pt x="745" y="58"/>
                    </a:lnTo>
                    <a:lnTo>
                      <a:pt x="754" y="59"/>
                    </a:lnTo>
                    <a:lnTo>
                      <a:pt x="761" y="59"/>
                    </a:lnTo>
                    <a:lnTo>
                      <a:pt x="769" y="60"/>
                    </a:lnTo>
                    <a:lnTo>
                      <a:pt x="778" y="62"/>
                    </a:lnTo>
                    <a:lnTo>
                      <a:pt x="786" y="64"/>
                    </a:lnTo>
                    <a:lnTo>
                      <a:pt x="794" y="64"/>
                    </a:lnTo>
                    <a:lnTo>
                      <a:pt x="801" y="65"/>
                    </a:lnTo>
                    <a:lnTo>
                      <a:pt x="808" y="66"/>
                    </a:lnTo>
                    <a:lnTo>
                      <a:pt x="816" y="68"/>
                    </a:lnTo>
                    <a:lnTo>
                      <a:pt x="824" y="69"/>
                    </a:lnTo>
                    <a:lnTo>
                      <a:pt x="832" y="70"/>
                    </a:lnTo>
                    <a:lnTo>
                      <a:pt x="839" y="71"/>
                    </a:lnTo>
                    <a:lnTo>
                      <a:pt x="848" y="74"/>
                    </a:lnTo>
                    <a:lnTo>
                      <a:pt x="855" y="75"/>
                    </a:lnTo>
                    <a:lnTo>
                      <a:pt x="862" y="77"/>
                    </a:lnTo>
                    <a:lnTo>
                      <a:pt x="870" y="78"/>
                    </a:lnTo>
                    <a:lnTo>
                      <a:pt x="878" y="81"/>
                    </a:lnTo>
                    <a:lnTo>
                      <a:pt x="885" y="83"/>
                    </a:lnTo>
                    <a:lnTo>
                      <a:pt x="894" y="86"/>
                    </a:lnTo>
                    <a:lnTo>
                      <a:pt x="901" y="88"/>
                    </a:lnTo>
                    <a:lnTo>
                      <a:pt x="909" y="92"/>
                    </a:lnTo>
                    <a:lnTo>
                      <a:pt x="917" y="94"/>
                    </a:lnTo>
                    <a:lnTo>
                      <a:pt x="924" y="97"/>
                    </a:lnTo>
                    <a:lnTo>
                      <a:pt x="931" y="99"/>
                    </a:lnTo>
                    <a:lnTo>
                      <a:pt x="938" y="103"/>
                    </a:lnTo>
                    <a:lnTo>
                      <a:pt x="946" y="105"/>
                    </a:lnTo>
                    <a:lnTo>
                      <a:pt x="953" y="107"/>
                    </a:lnTo>
                    <a:lnTo>
                      <a:pt x="960" y="111"/>
                    </a:lnTo>
                    <a:lnTo>
                      <a:pt x="967" y="115"/>
                    </a:lnTo>
                    <a:lnTo>
                      <a:pt x="973" y="118"/>
                    </a:lnTo>
                    <a:lnTo>
                      <a:pt x="980" y="122"/>
                    </a:lnTo>
                    <a:lnTo>
                      <a:pt x="988" y="126"/>
                    </a:lnTo>
                    <a:lnTo>
                      <a:pt x="995" y="129"/>
                    </a:lnTo>
                    <a:lnTo>
                      <a:pt x="1001" y="133"/>
                    </a:lnTo>
                    <a:lnTo>
                      <a:pt x="1008" y="136"/>
                    </a:lnTo>
                    <a:lnTo>
                      <a:pt x="1015" y="140"/>
                    </a:lnTo>
                    <a:lnTo>
                      <a:pt x="1023" y="145"/>
                    </a:lnTo>
                    <a:lnTo>
                      <a:pt x="1029" y="148"/>
                    </a:lnTo>
                    <a:lnTo>
                      <a:pt x="1035" y="152"/>
                    </a:lnTo>
                    <a:lnTo>
                      <a:pt x="1041" y="156"/>
                    </a:lnTo>
                    <a:lnTo>
                      <a:pt x="1048" y="159"/>
                    </a:lnTo>
                    <a:lnTo>
                      <a:pt x="1054" y="163"/>
                    </a:lnTo>
                    <a:lnTo>
                      <a:pt x="1061" y="168"/>
                    </a:lnTo>
                    <a:lnTo>
                      <a:pt x="1067" y="173"/>
                    </a:lnTo>
                    <a:lnTo>
                      <a:pt x="1075" y="177"/>
                    </a:lnTo>
                    <a:lnTo>
                      <a:pt x="1081" y="181"/>
                    </a:lnTo>
                    <a:lnTo>
                      <a:pt x="1087" y="186"/>
                    </a:lnTo>
                    <a:lnTo>
                      <a:pt x="1093" y="191"/>
                    </a:lnTo>
                    <a:lnTo>
                      <a:pt x="1099" y="195"/>
                    </a:lnTo>
                    <a:lnTo>
                      <a:pt x="1105" y="200"/>
                    </a:lnTo>
                    <a:lnTo>
                      <a:pt x="1111" y="206"/>
                    </a:lnTo>
                    <a:lnTo>
                      <a:pt x="1117" y="211"/>
                    </a:lnTo>
                    <a:lnTo>
                      <a:pt x="1124" y="217"/>
                    </a:lnTo>
                    <a:lnTo>
                      <a:pt x="1129" y="221"/>
                    </a:lnTo>
                    <a:lnTo>
                      <a:pt x="1135" y="227"/>
                    </a:lnTo>
                    <a:lnTo>
                      <a:pt x="1140" y="232"/>
                    </a:lnTo>
                    <a:lnTo>
                      <a:pt x="1146" y="238"/>
                    </a:lnTo>
                    <a:lnTo>
                      <a:pt x="1151" y="242"/>
                    </a:lnTo>
                    <a:lnTo>
                      <a:pt x="1157" y="249"/>
                    </a:lnTo>
                    <a:lnTo>
                      <a:pt x="1163" y="253"/>
                    </a:lnTo>
                    <a:lnTo>
                      <a:pt x="1169" y="261"/>
                    </a:lnTo>
                    <a:lnTo>
                      <a:pt x="1173" y="265"/>
                    </a:lnTo>
                    <a:lnTo>
                      <a:pt x="1178" y="271"/>
                    </a:lnTo>
                    <a:lnTo>
                      <a:pt x="1183" y="277"/>
                    </a:lnTo>
                    <a:lnTo>
                      <a:pt x="1189" y="285"/>
                    </a:lnTo>
                    <a:lnTo>
                      <a:pt x="1194" y="291"/>
                    </a:lnTo>
                    <a:lnTo>
                      <a:pt x="1200" y="297"/>
                    </a:lnTo>
                    <a:lnTo>
                      <a:pt x="1205" y="304"/>
                    </a:lnTo>
                    <a:lnTo>
                      <a:pt x="1211" y="311"/>
                    </a:lnTo>
                    <a:lnTo>
                      <a:pt x="1214" y="318"/>
                    </a:lnTo>
                    <a:lnTo>
                      <a:pt x="1219" y="324"/>
                    </a:lnTo>
                    <a:lnTo>
                      <a:pt x="1223" y="329"/>
                    </a:lnTo>
                    <a:lnTo>
                      <a:pt x="1228" y="337"/>
                    </a:lnTo>
                    <a:lnTo>
                      <a:pt x="1231" y="343"/>
                    </a:lnTo>
                    <a:lnTo>
                      <a:pt x="1236" y="349"/>
                    </a:lnTo>
                    <a:lnTo>
                      <a:pt x="1241" y="356"/>
                    </a:lnTo>
                    <a:lnTo>
                      <a:pt x="1246" y="363"/>
                    </a:lnTo>
                    <a:lnTo>
                      <a:pt x="1249" y="369"/>
                    </a:lnTo>
                    <a:lnTo>
                      <a:pt x="1253" y="376"/>
                    </a:lnTo>
                    <a:lnTo>
                      <a:pt x="1257" y="384"/>
                    </a:lnTo>
                    <a:lnTo>
                      <a:pt x="1260" y="392"/>
                    </a:lnTo>
                    <a:lnTo>
                      <a:pt x="1264" y="398"/>
                    </a:lnTo>
                    <a:lnTo>
                      <a:pt x="1267" y="405"/>
                    </a:lnTo>
                    <a:lnTo>
                      <a:pt x="1271" y="414"/>
                    </a:lnTo>
                    <a:lnTo>
                      <a:pt x="1276" y="420"/>
                    </a:lnTo>
                    <a:lnTo>
                      <a:pt x="1278" y="427"/>
                    </a:lnTo>
                    <a:lnTo>
                      <a:pt x="1281" y="435"/>
                    </a:lnTo>
                    <a:lnTo>
                      <a:pt x="1283" y="441"/>
                    </a:lnTo>
                    <a:lnTo>
                      <a:pt x="1287" y="449"/>
                    </a:lnTo>
                    <a:lnTo>
                      <a:pt x="1289" y="456"/>
                    </a:lnTo>
                    <a:lnTo>
                      <a:pt x="1293" y="464"/>
                    </a:lnTo>
                    <a:lnTo>
                      <a:pt x="1295" y="470"/>
                    </a:lnTo>
                    <a:lnTo>
                      <a:pt x="1299" y="480"/>
                    </a:lnTo>
                    <a:lnTo>
                      <a:pt x="1300" y="487"/>
                    </a:lnTo>
                    <a:lnTo>
                      <a:pt x="1304" y="493"/>
                    </a:lnTo>
                    <a:lnTo>
                      <a:pt x="1305" y="501"/>
                    </a:lnTo>
                    <a:lnTo>
                      <a:pt x="1308" y="509"/>
                    </a:lnTo>
                    <a:lnTo>
                      <a:pt x="1310" y="516"/>
                    </a:lnTo>
                    <a:lnTo>
                      <a:pt x="1312" y="526"/>
                    </a:lnTo>
                    <a:lnTo>
                      <a:pt x="1315" y="533"/>
                    </a:lnTo>
                    <a:lnTo>
                      <a:pt x="1317" y="543"/>
                    </a:lnTo>
                    <a:lnTo>
                      <a:pt x="1318" y="549"/>
                    </a:lnTo>
                    <a:lnTo>
                      <a:pt x="1319" y="556"/>
                    </a:lnTo>
                    <a:lnTo>
                      <a:pt x="1321" y="566"/>
                    </a:lnTo>
                    <a:lnTo>
                      <a:pt x="1323" y="573"/>
                    </a:lnTo>
                    <a:lnTo>
                      <a:pt x="1323" y="581"/>
                    </a:lnTo>
                    <a:lnTo>
                      <a:pt x="1325" y="589"/>
                    </a:lnTo>
                    <a:lnTo>
                      <a:pt x="1325" y="598"/>
                    </a:lnTo>
                    <a:lnTo>
                      <a:pt x="1328" y="605"/>
                    </a:lnTo>
                    <a:lnTo>
                      <a:pt x="1328" y="614"/>
                    </a:lnTo>
                    <a:lnTo>
                      <a:pt x="1329" y="621"/>
                    </a:lnTo>
                    <a:lnTo>
                      <a:pt x="1330" y="631"/>
                    </a:lnTo>
                    <a:lnTo>
                      <a:pt x="1331" y="638"/>
                    </a:lnTo>
                    <a:lnTo>
                      <a:pt x="1331" y="645"/>
                    </a:lnTo>
                    <a:lnTo>
                      <a:pt x="1333" y="655"/>
                    </a:lnTo>
                    <a:lnTo>
                      <a:pt x="1334" y="663"/>
                    </a:lnTo>
                    <a:lnTo>
                      <a:pt x="1335" y="672"/>
                    </a:lnTo>
                    <a:lnTo>
                      <a:pt x="1335" y="678"/>
                    </a:lnTo>
                    <a:lnTo>
                      <a:pt x="1335" y="687"/>
                    </a:lnTo>
                    <a:lnTo>
                      <a:pt x="1335" y="695"/>
                    </a:lnTo>
                    <a:lnTo>
                      <a:pt x="1335" y="704"/>
                    </a:lnTo>
                    <a:lnTo>
                      <a:pt x="1335" y="712"/>
                    </a:lnTo>
                    <a:lnTo>
                      <a:pt x="1335" y="721"/>
                    </a:lnTo>
                    <a:lnTo>
                      <a:pt x="1335" y="728"/>
                    </a:lnTo>
                    <a:lnTo>
                      <a:pt x="1336" y="739"/>
                    </a:lnTo>
                    <a:lnTo>
                      <a:pt x="1335" y="745"/>
                    </a:lnTo>
                    <a:lnTo>
                      <a:pt x="1335" y="756"/>
                    </a:lnTo>
                    <a:lnTo>
                      <a:pt x="1335" y="762"/>
                    </a:lnTo>
                    <a:lnTo>
                      <a:pt x="1335" y="773"/>
                    </a:lnTo>
                    <a:lnTo>
                      <a:pt x="1335" y="781"/>
                    </a:lnTo>
                    <a:lnTo>
                      <a:pt x="1335" y="790"/>
                    </a:lnTo>
                    <a:lnTo>
                      <a:pt x="1335" y="798"/>
                    </a:lnTo>
                    <a:lnTo>
                      <a:pt x="1335" y="808"/>
                    </a:lnTo>
                    <a:lnTo>
                      <a:pt x="1337" y="807"/>
                    </a:lnTo>
                    <a:lnTo>
                      <a:pt x="1343" y="807"/>
                    </a:lnTo>
                    <a:lnTo>
                      <a:pt x="1353" y="804"/>
                    </a:lnTo>
                    <a:lnTo>
                      <a:pt x="1364" y="801"/>
                    </a:lnTo>
                    <a:lnTo>
                      <a:pt x="1374" y="798"/>
                    </a:lnTo>
                    <a:lnTo>
                      <a:pt x="1384" y="796"/>
                    </a:lnTo>
                    <a:lnTo>
                      <a:pt x="1391" y="795"/>
                    </a:lnTo>
                    <a:lnTo>
                      <a:pt x="1394" y="7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Freeform 488"/>
              <p:cNvSpPr/>
              <p:nvPr/>
            </p:nvSpPr>
            <p:spPr>
              <a:xfrm>
                <a:off x="6608160" y="6232680"/>
                <a:ext cx="54360" cy="554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88" h="191">
                    <a:moveTo>
                      <a:pt x="169" y="157"/>
                    </a:moveTo>
                    <a:lnTo>
                      <a:pt x="172" y="149"/>
                    </a:lnTo>
                    <a:lnTo>
                      <a:pt x="177" y="140"/>
                    </a:lnTo>
                    <a:lnTo>
                      <a:pt x="182" y="132"/>
                    </a:lnTo>
                    <a:lnTo>
                      <a:pt x="184" y="123"/>
                    </a:lnTo>
                    <a:lnTo>
                      <a:pt x="187" y="112"/>
                    </a:lnTo>
                    <a:lnTo>
                      <a:pt x="188" y="105"/>
                    </a:lnTo>
                    <a:lnTo>
                      <a:pt x="188" y="96"/>
                    </a:lnTo>
                    <a:lnTo>
                      <a:pt x="188" y="87"/>
                    </a:lnTo>
                    <a:lnTo>
                      <a:pt x="187" y="77"/>
                    </a:lnTo>
                    <a:lnTo>
                      <a:pt x="184" y="68"/>
                    </a:lnTo>
                    <a:lnTo>
                      <a:pt x="182" y="59"/>
                    </a:lnTo>
                    <a:lnTo>
                      <a:pt x="178" y="51"/>
                    </a:lnTo>
                    <a:lnTo>
                      <a:pt x="172" y="44"/>
                    </a:lnTo>
                    <a:lnTo>
                      <a:pt x="169" y="36"/>
                    </a:lnTo>
                    <a:lnTo>
                      <a:pt x="163" y="28"/>
                    </a:lnTo>
                    <a:lnTo>
                      <a:pt x="155" y="22"/>
                    </a:lnTo>
                    <a:lnTo>
                      <a:pt x="148" y="16"/>
                    </a:lnTo>
                    <a:lnTo>
                      <a:pt x="140" y="11"/>
                    </a:lnTo>
                    <a:lnTo>
                      <a:pt x="131" y="6"/>
                    </a:lnTo>
                    <a:lnTo>
                      <a:pt x="123" y="5"/>
                    </a:lnTo>
                    <a:lnTo>
                      <a:pt x="113" y="0"/>
                    </a:lnTo>
                    <a:lnTo>
                      <a:pt x="104" y="0"/>
                    </a:lnTo>
                    <a:lnTo>
                      <a:pt x="94" y="0"/>
                    </a:lnTo>
                    <a:lnTo>
                      <a:pt x="85" y="0"/>
                    </a:lnTo>
                    <a:lnTo>
                      <a:pt x="76" y="0"/>
                    </a:lnTo>
                    <a:lnTo>
                      <a:pt x="67" y="4"/>
                    </a:lnTo>
                    <a:lnTo>
                      <a:pt x="58" y="5"/>
                    </a:lnTo>
                    <a:lnTo>
                      <a:pt x="51" y="11"/>
                    </a:lnTo>
                    <a:lnTo>
                      <a:pt x="42" y="15"/>
                    </a:lnTo>
                    <a:lnTo>
                      <a:pt x="35" y="21"/>
                    </a:lnTo>
                    <a:lnTo>
                      <a:pt x="28" y="27"/>
                    </a:lnTo>
                    <a:lnTo>
                      <a:pt x="22" y="34"/>
                    </a:lnTo>
                    <a:lnTo>
                      <a:pt x="14" y="42"/>
                    </a:lnTo>
                    <a:lnTo>
                      <a:pt x="11" y="50"/>
                    </a:lnTo>
                    <a:lnTo>
                      <a:pt x="6" y="57"/>
                    </a:lnTo>
                    <a:lnTo>
                      <a:pt x="3" y="68"/>
                    </a:lnTo>
                    <a:lnTo>
                      <a:pt x="1" y="76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1" y="105"/>
                    </a:lnTo>
                    <a:lnTo>
                      <a:pt x="1" y="112"/>
                    </a:lnTo>
                    <a:lnTo>
                      <a:pt x="3" y="123"/>
                    </a:lnTo>
                    <a:lnTo>
                      <a:pt x="7" y="132"/>
                    </a:lnTo>
                    <a:lnTo>
                      <a:pt x="11" y="140"/>
                    </a:lnTo>
                    <a:lnTo>
                      <a:pt x="14" y="149"/>
                    </a:lnTo>
                    <a:lnTo>
                      <a:pt x="20" y="156"/>
                    </a:lnTo>
                    <a:lnTo>
                      <a:pt x="28" y="163"/>
                    </a:lnTo>
                    <a:lnTo>
                      <a:pt x="35" y="170"/>
                    </a:lnTo>
                    <a:lnTo>
                      <a:pt x="42" y="174"/>
                    </a:lnTo>
                    <a:lnTo>
                      <a:pt x="53" y="181"/>
                    </a:lnTo>
                    <a:lnTo>
                      <a:pt x="64" y="185"/>
                    </a:lnTo>
                    <a:lnTo>
                      <a:pt x="75" y="188"/>
                    </a:lnTo>
                    <a:lnTo>
                      <a:pt x="85" y="190"/>
                    </a:lnTo>
                    <a:lnTo>
                      <a:pt x="98" y="191"/>
                    </a:lnTo>
                    <a:lnTo>
                      <a:pt x="108" y="190"/>
                    </a:lnTo>
                    <a:lnTo>
                      <a:pt x="119" y="188"/>
                    </a:lnTo>
                    <a:lnTo>
                      <a:pt x="105" y="133"/>
                    </a:lnTo>
                    <a:lnTo>
                      <a:pt x="96" y="133"/>
                    </a:lnTo>
                    <a:lnTo>
                      <a:pt x="88" y="133"/>
                    </a:lnTo>
                    <a:lnTo>
                      <a:pt x="77" y="129"/>
                    </a:lnTo>
                    <a:lnTo>
                      <a:pt x="71" y="126"/>
                    </a:lnTo>
                    <a:lnTo>
                      <a:pt x="65" y="120"/>
                    </a:lnTo>
                    <a:lnTo>
                      <a:pt x="61" y="112"/>
                    </a:lnTo>
                    <a:lnTo>
                      <a:pt x="58" y="106"/>
                    </a:lnTo>
                    <a:lnTo>
                      <a:pt x="58" y="100"/>
                    </a:lnTo>
                    <a:lnTo>
                      <a:pt x="57" y="92"/>
                    </a:lnTo>
                    <a:lnTo>
                      <a:pt x="59" y="85"/>
                    </a:lnTo>
                    <a:lnTo>
                      <a:pt x="61" y="77"/>
                    </a:lnTo>
                    <a:lnTo>
                      <a:pt x="66" y="73"/>
                    </a:lnTo>
                    <a:lnTo>
                      <a:pt x="70" y="65"/>
                    </a:lnTo>
                    <a:lnTo>
                      <a:pt x="77" y="62"/>
                    </a:lnTo>
                    <a:lnTo>
                      <a:pt x="84" y="57"/>
                    </a:lnTo>
                    <a:lnTo>
                      <a:pt x="92" y="57"/>
                    </a:lnTo>
                    <a:lnTo>
                      <a:pt x="99" y="57"/>
                    </a:lnTo>
                    <a:lnTo>
                      <a:pt x="106" y="59"/>
                    </a:lnTo>
                    <a:lnTo>
                      <a:pt x="113" y="62"/>
                    </a:lnTo>
                    <a:lnTo>
                      <a:pt x="120" y="68"/>
                    </a:lnTo>
                    <a:lnTo>
                      <a:pt x="124" y="71"/>
                    </a:lnTo>
                    <a:lnTo>
                      <a:pt x="129" y="79"/>
                    </a:lnTo>
                    <a:lnTo>
                      <a:pt x="131" y="85"/>
                    </a:lnTo>
                    <a:lnTo>
                      <a:pt x="134" y="93"/>
                    </a:lnTo>
                    <a:lnTo>
                      <a:pt x="131" y="99"/>
                    </a:lnTo>
                    <a:lnTo>
                      <a:pt x="131" y="106"/>
                    </a:lnTo>
                    <a:lnTo>
                      <a:pt x="128" y="112"/>
                    </a:lnTo>
                    <a:lnTo>
                      <a:pt x="125" y="121"/>
                    </a:lnTo>
                    <a:lnTo>
                      <a:pt x="169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Freeform 489"/>
              <p:cNvSpPr/>
              <p:nvPr/>
            </p:nvSpPr>
            <p:spPr>
              <a:xfrm>
                <a:off x="6671160" y="6170760"/>
                <a:ext cx="110160" cy="10944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76" h="376">
                    <a:moveTo>
                      <a:pt x="265" y="362"/>
                    </a:moveTo>
                    <a:lnTo>
                      <a:pt x="273" y="357"/>
                    </a:lnTo>
                    <a:lnTo>
                      <a:pt x="281" y="352"/>
                    </a:lnTo>
                    <a:lnTo>
                      <a:pt x="288" y="346"/>
                    </a:lnTo>
                    <a:lnTo>
                      <a:pt x="297" y="341"/>
                    </a:lnTo>
                    <a:lnTo>
                      <a:pt x="303" y="335"/>
                    </a:lnTo>
                    <a:lnTo>
                      <a:pt x="310" y="329"/>
                    </a:lnTo>
                    <a:lnTo>
                      <a:pt x="317" y="324"/>
                    </a:lnTo>
                    <a:lnTo>
                      <a:pt x="325" y="318"/>
                    </a:lnTo>
                    <a:lnTo>
                      <a:pt x="329" y="312"/>
                    </a:lnTo>
                    <a:lnTo>
                      <a:pt x="335" y="305"/>
                    </a:lnTo>
                    <a:lnTo>
                      <a:pt x="340" y="297"/>
                    </a:lnTo>
                    <a:lnTo>
                      <a:pt x="346" y="291"/>
                    </a:lnTo>
                    <a:lnTo>
                      <a:pt x="351" y="282"/>
                    </a:lnTo>
                    <a:lnTo>
                      <a:pt x="356" y="274"/>
                    </a:lnTo>
                    <a:lnTo>
                      <a:pt x="359" y="265"/>
                    </a:lnTo>
                    <a:lnTo>
                      <a:pt x="364" y="257"/>
                    </a:lnTo>
                    <a:lnTo>
                      <a:pt x="367" y="248"/>
                    </a:lnTo>
                    <a:lnTo>
                      <a:pt x="369" y="239"/>
                    </a:lnTo>
                    <a:lnTo>
                      <a:pt x="372" y="229"/>
                    </a:lnTo>
                    <a:lnTo>
                      <a:pt x="374" y="221"/>
                    </a:lnTo>
                    <a:lnTo>
                      <a:pt x="374" y="211"/>
                    </a:lnTo>
                    <a:lnTo>
                      <a:pt x="375" y="201"/>
                    </a:lnTo>
                    <a:lnTo>
                      <a:pt x="375" y="193"/>
                    </a:lnTo>
                    <a:lnTo>
                      <a:pt x="376" y="183"/>
                    </a:lnTo>
                    <a:lnTo>
                      <a:pt x="375" y="174"/>
                    </a:lnTo>
                    <a:lnTo>
                      <a:pt x="374" y="166"/>
                    </a:lnTo>
                    <a:lnTo>
                      <a:pt x="373" y="156"/>
                    </a:lnTo>
                    <a:lnTo>
                      <a:pt x="372" y="148"/>
                    </a:lnTo>
                    <a:lnTo>
                      <a:pt x="369" y="139"/>
                    </a:lnTo>
                    <a:lnTo>
                      <a:pt x="367" y="129"/>
                    </a:lnTo>
                    <a:lnTo>
                      <a:pt x="363" y="121"/>
                    </a:lnTo>
                    <a:lnTo>
                      <a:pt x="361" y="112"/>
                    </a:lnTo>
                    <a:lnTo>
                      <a:pt x="356" y="104"/>
                    </a:lnTo>
                    <a:lnTo>
                      <a:pt x="352" y="94"/>
                    </a:lnTo>
                    <a:lnTo>
                      <a:pt x="347" y="88"/>
                    </a:lnTo>
                    <a:lnTo>
                      <a:pt x="343" y="80"/>
                    </a:lnTo>
                    <a:lnTo>
                      <a:pt x="337" y="71"/>
                    </a:lnTo>
                    <a:lnTo>
                      <a:pt x="331" y="65"/>
                    </a:lnTo>
                    <a:lnTo>
                      <a:pt x="325" y="59"/>
                    </a:lnTo>
                    <a:lnTo>
                      <a:pt x="318" y="52"/>
                    </a:lnTo>
                    <a:lnTo>
                      <a:pt x="311" y="45"/>
                    </a:lnTo>
                    <a:lnTo>
                      <a:pt x="304" y="39"/>
                    </a:lnTo>
                    <a:lnTo>
                      <a:pt x="297" y="33"/>
                    </a:lnTo>
                    <a:lnTo>
                      <a:pt x="290" y="29"/>
                    </a:lnTo>
                    <a:lnTo>
                      <a:pt x="281" y="24"/>
                    </a:lnTo>
                    <a:lnTo>
                      <a:pt x="273" y="21"/>
                    </a:lnTo>
                    <a:lnTo>
                      <a:pt x="264" y="16"/>
                    </a:lnTo>
                    <a:lnTo>
                      <a:pt x="257" y="15"/>
                    </a:lnTo>
                    <a:lnTo>
                      <a:pt x="247" y="10"/>
                    </a:lnTo>
                    <a:lnTo>
                      <a:pt x="239" y="6"/>
                    </a:lnTo>
                    <a:lnTo>
                      <a:pt x="229" y="4"/>
                    </a:lnTo>
                    <a:lnTo>
                      <a:pt x="221" y="4"/>
                    </a:lnTo>
                    <a:lnTo>
                      <a:pt x="211" y="0"/>
                    </a:lnTo>
                    <a:lnTo>
                      <a:pt x="203" y="0"/>
                    </a:lnTo>
                    <a:lnTo>
                      <a:pt x="193" y="0"/>
                    </a:lnTo>
                    <a:lnTo>
                      <a:pt x="185" y="0"/>
                    </a:lnTo>
                    <a:lnTo>
                      <a:pt x="175" y="0"/>
                    </a:lnTo>
                    <a:lnTo>
                      <a:pt x="167" y="0"/>
                    </a:lnTo>
                    <a:lnTo>
                      <a:pt x="157" y="1"/>
                    </a:lnTo>
                    <a:lnTo>
                      <a:pt x="148" y="5"/>
                    </a:lnTo>
                    <a:lnTo>
                      <a:pt x="139" y="6"/>
                    </a:lnTo>
                    <a:lnTo>
                      <a:pt x="130" y="10"/>
                    </a:lnTo>
                    <a:lnTo>
                      <a:pt x="121" y="12"/>
                    </a:lnTo>
                    <a:lnTo>
                      <a:pt x="113" y="17"/>
                    </a:lnTo>
                    <a:lnTo>
                      <a:pt x="104" y="21"/>
                    </a:lnTo>
                    <a:lnTo>
                      <a:pt x="95" y="24"/>
                    </a:lnTo>
                    <a:lnTo>
                      <a:pt x="87" y="29"/>
                    </a:lnTo>
                    <a:lnTo>
                      <a:pt x="80" y="34"/>
                    </a:lnTo>
                    <a:lnTo>
                      <a:pt x="71" y="39"/>
                    </a:lnTo>
                    <a:lnTo>
                      <a:pt x="64" y="45"/>
                    </a:lnTo>
                    <a:lnTo>
                      <a:pt x="58" y="52"/>
                    </a:lnTo>
                    <a:lnTo>
                      <a:pt x="52" y="60"/>
                    </a:lnTo>
                    <a:lnTo>
                      <a:pt x="45" y="66"/>
                    </a:lnTo>
                    <a:lnTo>
                      <a:pt x="39" y="72"/>
                    </a:lnTo>
                    <a:lnTo>
                      <a:pt x="33" y="80"/>
                    </a:lnTo>
                    <a:lnTo>
                      <a:pt x="29" y="88"/>
                    </a:lnTo>
                    <a:lnTo>
                      <a:pt x="24" y="95"/>
                    </a:lnTo>
                    <a:lnTo>
                      <a:pt x="19" y="104"/>
                    </a:lnTo>
                    <a:lnTo>
                      <a:pt x="16" y="111"/>
                    </a:lnTo>
                    <a:lnTo>
                      <a:pt x="13" y="122"/>
                    </a:lnTo>
                    <a:lnTo>
                      <a:pt x="10" y="128"/>
                    </a:lnTo>
                    <a:lnTo>
                      <a:pt x="6" y="139"/>
                    </a:lnTo>
                    <a:lnTo>
                      <a:pt x="4" y="146"/>
                    </a:lnTo>
                    <a:lnTo>
                      <a:pt x="4" y="156"/>
                    </a:lnTo>
                    <a:lnTo>
                      <a:pt x="1" y="165"/>
                    </a:lnTo>
                    <a:lnTo>
                      <a:pt x="0" y="174"/>
                    </a:lnTo>
                    <a:lnTo>
                      <a:pt x="0" y="183"/>
                    </a:lnTo>
                    <a:lnTo>
                      <a:pt x="1" y="193"/>
                    </a:lnTo>
                    <a:lnTo>
                      <a:pt x="1" y="200"/>
                    </a:lnTo>
                    <a:lnTo>
                      <a:pt x="1" y="211"/>
                    </a:lnTo>
                    <a:lnTo>
                      <a:pt x="3" y="218"/>
                    </a:lnTo>
                    <a:lnTo>
                      <a:pt x="5" y="229"/>
                    </a:lnTo>
                    <a:lnTo>
                      <a:pt x="7" y="238"/>
                    </a:lnTo>
                    <a:lnTo>
                      <a:pt x="10" y="246"/>
                    </a:lnTo>
                    <a:lnTo>
                      <a:pt x="13" y="257"/>
                    </a:lnTo>
                    <a:lnTo>
                      <a:pt x="18" y="267"/>
                    </a:lnTo>
                    <a:lnTo>
                      <a:pt x="21" y="273"/>
                    </a:lnTo>
                    <a:lnTo>
                      <a:pt x="24" y="279"/>
                    </a:lnTo>
                    <a:lnTo>
                      <a:pt x="28" y="285"/>
                    </a:lnTo>
                    <a:lnTo>
                      <a:pt x="31" y="291"/>
                    </a:lnTo>
                    <a:lnTo>
                      <a:pt x="35" y="297"/>
                    </a:lnTo>
                    <a:lnTo>
                      <a:pt x="41" y="304"/>
                    </a:lnTo>
                    <a:lnTo>
                      <a:pt x="46" y="310"/>
                    </a:lnTo>
                    <a:lnTo>
                      <a:pt x="52" y="316"/>
                    </a:lnTo>
                    <a:lnTo>
                      <a:pt x="57" y="321"/>
                    </a:lnTo>
                    <a:lnTo>
                      <a:pt x="63" y="324"/>
                    </a:lnTo>
                    <a:lnTo>
                      <a:pt x="68" y="329"/>
                    </a:lnTo>
                    <a:lnTo>
                      <a:pt x="75" y="335"/>
                    </a:lnTo>
                    <a:lnTo>
                      <a:pt x="81" y="340"/>
                    </a:lnTo>
                    <a:lnTo>
                      <a:pt x="88" y="345"/>
                    </a:lnTo>
                    <a:lnTo>
                      <a:pt x="95" y="350"/>
                    </a:lnTo>
                    <a:lnTo>
                      <a:pt x="103" y="355"/>
                    </a:lnTo>
                    <a:lnTo>
                      <a:pt x="109" y="357"/>
                    </a:lnTo>
                    <a:lnTo>
                      <a:pt x="116" y="361"/>
                    </a:lnTo>
                    <a:lnTo>
                      <a:pt x="123" y="363"/>
                    </a:lnTo>
                    <a:lnTo>
                      <a:pt x="130" y="365"/>
                    </a:lnTo>
                    <a:lnTo>
                      <a:pt x="138" y="367"/>
                    </a:lnTo>
                    <a:lnTo>
                      <a:pt x="146" y="369"/>
                    </a:lnTo>
                    <a:lnTo>
                      <a:pt x="153" y="371"/>
                    </a:lnTo>
                    <a:lnTo>
                      <a:pt x="162" y="374"/>
                    </a:lnTo>
                    <a:lnTo>
                      <a:pt x="169" y="374"/>
                    </a:lnTo>
                    <a:lnTo>
                      <a:pt x="176" y="375"/>
                    </a:lnTo>
                    <a:lnTo>
                      <a:pt x="185" y="375"/>
                    </a:lnTo>
                    <a:lnTo>
                      <a:pt x="193" y="376"/>
                    </a:lnTo>
                    <a:lnTo>
                      <a:pt x="200" y="376"/>
                    </a:lnTo>
                    <a:lnTo>
                      <a:pt x="208" y="376"/>
                    </a:lnTo>
                    <a:lnTo>
                      <a:pt x="216" y="375"/>
                    </a:lnTo>
                    <a:lnTo>
                      <a:pt x="224" y="375"/>
                    </a:lnTo>
                    <a:lnTo>
                      <a:pt x="214" y="318"/>
                    </a:lnTo>
                    <a:lnTo>
                      <a:pt x="204" y="317"/>
                    </a:lnTo>
                    <a:lnTo>
                      <a:pt x="195" y="316"/>
                    </a:lnTo>
                    <a:lnTo>
                      <a:pt x="187" y="314"/>
                    </a:lnTo>
                    <a:lnTo>
                      <a:pt x="180" y="314"/>
                    </a:lnTo>
                    <a:lnTo>
                      <a:pt x="173" y="312"/>
                    </a:lnTo>
                    <a:lnTo>
                      <a:pt x="165" y="312"/>
                    </a:lnTo>
                    <a:lnTo>
                      <a:pt x="158" y="311"/>
                    </a:lnTo>
                    <a:lnTo>
                      <a:pt x="153" y="310"/>
                    </a:lnTo>
                    <a:lnTo>
                      <a:pt x="141" y="306"/>
                    </a:lnTo>
                    <a:lnTo>
                      <a:pt x="132" y="302"/>
                    </a:lnTo>
                    <a:lnTo>
                      <a:pt x="122" y="299"/>
                    </a:lnTo>
                    <a:lnTo>
                      <a:pt x="115" y="295"/>
                    </a:lnTo>
                    <a:lnTo>
                      <a:pt x="106" y="289"/>
                    </a:lnTo>
                    <a:lnTo>
                      <a:pt x="99" y="283"/>
                    </a:lnTo>
                    <a:lnTo>
                      <a:pt x="93" y="277"/>
                    </a:lnTo>
                    <a:lnTo>
                      <a:pt x="88" y="273"/>
                    </a:lnTo>
                    <a:lnTo>
                      <a:pt x="83" y="265"/>
                    </a:lnTo>
                    <a:lnTo>
                      <a:pt x="79" y="257"/>
                    </a:lnTo>
                    <a:lnTo>
                      <a:pt x="74" y="251"/>
                    </a:lnTo>
                    <a:lnTo>
                      <a:pt x="70" y="244"/>
                    </a:lnTo>
                    <a:lnTo>
                      <a:pt x="66" y="235"/>
                    </a:lnTo>
                    <a:lnTo>
                      <a:pt x="63" y="229"/>
                    </a:lnTo>
                    <a:lnTo>
                      <a:pt x="60" y="223"/>
                    </a:lnTo>
                    <a:lnTo>
                      <a:pt x="59" y="217"/>
                    </a:lnTo>
                    <a:lnTo>
                      <a:pt x="57" y="205"/>
                    </a:lnTo>
                    <a:lnTo>
                      <a:pt x="57" y="193"/>
                    </a:lnTo>
                    <a:lnTo>
                      <a:pt x="56" y="179"/>
                    </a:lnTo>
                    <a:lnTo>
                      <a:pt x="58" y="166"/>
                    </a:lnTo>
                    <a:lnTo>
                      <a:pt x="60" y="154"/>
                    </a:lnTo>
                    <a:lnTo>
                      <a:pt x="65" y="144"/>
                    </a:lnTo>
                    <a:lnTo>
                      <a:pt x="69" y="132"/>
                    </a:lnTo>
                    <a:lnTo>
                      <a:pt x="76" y="121"/>
                    </a:lnTo>
                    <a:lnTo>
                      <a:pt x="83" y="110"/>
                    </a:lnTo>
                    <a:lnTo>
                      <a:pt x="93" y="100"/>
                    </a:lnTo>
                    <a:lnTo>
                      <a:pt x="101" y="89"/>
                    </a:lnTo>
                    <a:lnTo>
                      <a:pt x="112" y="83"/>
                    </a:lnTo>
                    <a:lnTo>
                      <a:pt x="123" y="76"/>
                    </a:lnTo>
                    <a:lnTo>
                      <a:pt x="136" y="71"/>
                    </a:lnTo>
                    <a:lnTo>
                      <a:pt x="147" y="65"/>
                    </a:lnTo>
                    <a:lnTo>
                      <a:pt x="161" y="60"/>
                    </a:lnTo>
                    <a:lnTo>
                      <a:pt x="173" y="59"/>
                    </a:lnTo>
                    <a:lnTo>
                      <a:pt x="186" y="59"/>
                    </a:lnTo>
                    <a:lnTo>
                      <a:pt x="198" y="59"/>
                    </a:lnTo>
                    <a:lnTo>
                      <a:pt x="211" y="60"/>
                    </a:lnTo>
                    <a:lnTo>
                      <a:pt x="223" y="63"/>
                    </a:lnTo>
                    <a:lnTo>
                      <a:pt x="236" y="68"/>
                    </a:lnTo>
                    <a:lnTo>
                      <a:pt x="247" y="71"/>
                    </a:lnTo>
                    <a:lnTo>
                      <a:pt x="258" y="78"/>
                    </a:lnTo>
                    <a:lnTo>
                      <a:pt x="268" y="84"/>
                    </a:lnTo>
                    <a:lnTo>
                      <a:pt x="279" y="94"/>
                    </a:lnTo>
                    <a:lnTo>
                      <a:pt x="287" y="101"/>
                    </a:lnTo>
                    <a:lnTo>
                      <a:pt x="296" y="112"/>
                    </a:lnTo>
                    <a:lnTo>
                      <a:pt x="298" y="117"/>
                    </a:lnTo>
                    <a:lnTo>
                      <a:pt x="302" y="123"/>
                    </a:lnTo>
                    <a:lnTo>
                      <a:pt x="305" y="129"/>
                    </a:lnTo>
                    <a:lnTo>
                      <a:pt x="309" y="138"/>
                    </a:lnTo>
                    <a:lnTo>
                      <a:pt x="312" y="148"/>
                    </a:lnTo>
                    <a:lnTo>
                      <a:pt x="316" y="160"/>
                    </a:lnTo>
                    <a:lnTo>
                      <a:pt x="318" y="173"/>
                    </a:lnTo>
                    <a:lnTo>
                      <a:pt x="320" y="185"/>
                    </a:lnTo>
                    <a:lnTo>
                      <a:pt x="318" y="197"/>
                    </a:lnTo>
                    <a:lnTo>
                      <a:pt x="317" y="211"/>
                    </a:lnTo>
                    <a:lnTo>
                      <a:pt x="314" y="223"/>
                    </a:lnTo>
                    <a:lnTo>
                      <a:pt x="311" y="235"/>
                    </a:lnTo>
                    <a:lnTo>
                      <a:pt x="304" y="246"/>
                    </a:lnTo>
                    <a:lnTo>
                      <a:pt x="298" y="259"/>
                    </a:lnTo>
                    <a:lnTo>
                      <a:pt x="291" y="268"/>
                    </a:lnTo>
                    <a:lnTo>
                      <a:pt x="284" y="280"/>
                    </a:lnTo>
                    <a:lnTo>
                      <a:pt x="274" y="286"/>
                    </a:lnTo>
                    <a:lnTo>
                      <a:pt x="264" y="295"/>
                    </a:lnTo>
                    <a:lnTo>
                      <a:pt x="253" y="302"/>
                    </a:lnTo>
                    <a:lnTo>
                      <a:pt x="243" y="308"/>
                    </a:lnTo>
                    <a:lnTo>
                      <a:pt x="265" y="3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Freeform 490"/>
              <p:cNvSpPr/>
              <p:nvPr/>
            </p:nvSpPr>
            <p:spPr>
              <a:xfrm>
                <a:off x="6782400" y="6374520"/>
                <a:ext cx="63720" cy="626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17" h="216">
                    <a:moveTo>
                      <a:pt x="205" y="160"/>
                    </a:moveTo>
                    <a:lnTo>
                      <a:pt x="209" y="149"/>
                    </a:lnTo>
                    <a:lnTo>
                      <a:pt x="212" y="138"/>
                    </a:lnTo>
                    <a:lnTo>
                      <a:pt x="215" y="127"/>
                    </a:lnTo>
                    <a:lnTo>
                      <a:pt x="217" y="118"/>
                    </a:lnTo>
                    <a:lnTo>
                      <a:pt x="217" y="107"/>
                    </a:lnTo>
                    <a:lnTo>
                      <a:pt x="217" y="96"/>
                    </a:lnTo>
                    <a:lnTo>
                      <a:pt x="215" y="86"/>
                    </a:lnTo>
                    <a:lnTo>
                      <a:pt x="214" y="77"/>
                    </a:lnTo>
                    <a:lnTo>
                      <a:pt x="209" y="66"/>
                    </a:lnTo>
                    <a:lnTo>
                      <a:pt x="205" y="56"/>
                    </a:lnTo>
                    <a:lnTo>
                      <a:pt x="199" y="47"/>
                    </a:lnTo>
                    <a:lnTo>
                      <a:pt x="193" y="39"/>
                    </a:lnTo>
                    <a:lnTo>
                      <a:pt x="186" y="31"/>
                    </a:lnTo>
                    <a:lnTo>
                      <a:pt x="179" y="24"/>
                    </a:lnTo>
                    <a:lnTo>
                      <a:pt x="170" y="18"/>
                    </a:lnTo>
                    <a:lnTo>
                      <a:pt x="162" y="13"/>
                    </a:lnTo>
                    <a:lnTo>
                      <a:pt x="151" y="7"/>
                    </a:lnTo>
                    <a:lnTo>
                      <a:pt x="140" y="4"/>
                    </a:lnTo>
                    <a:lnTo>
                      <a:pt x="129" y="1"/>
                    </a:lnTo>
                    <a:lnTo>
                      <a:pt x="120" y="1"/>
                    </a:lnTo>
                    <a:lnTo>
                      <a:pt x="109" y="0"/>
                    </a:lnTo>
                    <a:lnTo>
                      <a:pt x="99" y="1"/>
                    </a:lnTo>
                    <a:lnTo>
                      <a:pt x="88" y="2"/>
                    </a:lnTo>
                    <a:lnTo>
                      <a:pt x="79" y="6"/>
                    </a:lnTo>
                    <a:lnTo>
                      <a:pt x="68" y="8"/>
                    </a:lnTo>
                    <a:lnTo>
                      <a:pt x="58" y="13"/>
                    </a:lnTo>
                    <a:lnTo>
                      <a:pt x="48" y="17"/>
                    </a:lnTo>
                    <a:lnTo>
                      <a:pt x="41" y="24"/>
                    </a:lnTo>
                    <a:lnTo>
                      <a:pt x="33" y="31"/>
                    </a:lnTo>
                    <a:lnTo>
                      <a:pt x="26" y="38"/>
                    </a:lnTo>
                    <a:lnTo>
                      <a:pt x="18" y="47"/>
                    </a:lnTo>
                    <a:lnTo>
                      <a:pt x="15" y="58"/>
                    </a:lnTo>
                    <a:lnTo>
                      <a:pt x="9" y="66"/>
                    </a:lnTo>
                    <a:lnTo>
                      <a:pt x="6" y="76"/>
                    </a:lnTo>
                    <a:lnTo>
                      <a:pt x="3" y="86"/>
                    </a:lnTo>
                    <a:lnTo>
                      <a:pt x="1" y="97"/>
                    </a:lnTo>
                    <a:lnTo>
                      <a:pt x="0" y="107"/>
                    </a:lnTo>
                    <a:lnTo>
                      <a:pt x="1" y="118"/>
                    </a:lnTo>
                    <a:lnTo>
                      <a:pt x="3" y="129"/>
                    </a:lnTo>
                    <a:lnTo>
                      <a:pt x="6" y="140"/>
                    </a:lnTo>
                    <a:lnTo>
                      <a:pt x="9" y="149"/>
                    </a:lnTo>
                    <a:lnTo>
                      <a:pt x="13" y="159"/>
                    </a:lnTo>
                    <a:lnTo>
                      <a:pt x="18" y="167"/>
                    </a:lnTo>
                    <a:lnTo>
                      <a:pt x="26" y="177"/>
                    </a:lnTo>
                    <a:lnTo>
                      <a:pt x="32" y="184"/>
                    </a:lnTo>
                    <a:lnTo>
                      <a:pt x="40" y="191"/>
                    </a:lnTo>
                    <a:lnTo>
                      <a:pt x="48" y="197"/>
                    </a:lnTo>
                    <a:lnTo>
                      <a:pt x="59" y="203"/>
                    </a:lnTo>
                    <a:lnTo>
                      <a:pt x="68" y="207"/>
                    </a:lnTo>
                    <a:lnTo>
                      <a:pt x="79" y="211"/>
                    </a:lnTo>
                    <a:lnTo>
                      <a:pt x="89" y="213"/>
                    </a:lnTo>
                    <a:lnTo>
                      <a:pt x="101" y="216"/>
                    </a:lnTo>
                    <a:lnTo>
                      <a:pt x="112" y="214"/>
                    </a:lnTo>
                    <a:lnTo>
                      <a:pt x="124" y="214"/>
                    </a:lnTo>
                    <a:lnTo>
                      <a:pt x="135" y="213"/>
                    </a:lnTo>
                    <a:lnTo>
                      <a:pt x="147" y="211"/>
                    </a:lnTo>
                    <a:lnTo>
                      <a:pt x="128" y="156"/>
                    </a:lnTo>
                    <a:lnTo>
                      <a:pt x="117" y="158"/>
                    </a:lnTo>
                    <a:lnTo>
                      <a:pt x="106" y="158"/>
                    </a:lnTo>
                    <a:lnTo>
                      <a:pt x="94" y="156"/>
                    </a:lnTo>
                    <a:lnTo>
                      <a:pt x="86" y="154"/>
                    </a:lnTo>
                    <a:lnTo>
                      <a:pt x="76" y="147"/>
                    </a:lnTo>
                    <a:lnTo>
                      <a:pt x="70" y="140"/>
                    </a:lnTo>
                    <a:lnTo>
                      <a:pt x="64" y="131"/>
                    </a:lnTo>
                    <a:lnTo>
                      <a:pt x="62" y="123"/>
                    </a:lnTo>
                    <a:lnTo>
                      <a:pt x="59" y="113"/>
                    </a:lnTo>
                    <a:lnTo>
                      <a:pt x="59" y="103"/>
                    </a:lnTo>
                    <a:lnTo>
                      <a:pt x="60" y="93"/>
                    </a:lnTo>
                    <a:lnTo>
                      <a:pt x="65" y="85"/>
                    </a:lnTo>
                    <a:lnTo>
                      <a:pt x="70" y="76"/>
                    </a:lnTo>
                    <a:lnTo>
                      <a:pt x="77" y="70"/>
                    </a:lnTo>
                    <a:lnTo>
                      <a:pt x="85" y="64"/>
                    </a:lnTo>
                    <a:lnTo>
                      <a:pt x="95" y="60"/>
                    </a:lnTo>
                    <a:lnTo>
                      <a:pt x="105" y="58"/>
                    </a:lnTo>
                    <a:lnTo>
                      <a:pt x="115" y="58"/>
                    </a:lnTo>
                    <a:lnTo>
                      <a:pt x="124" y="59"/>
                    </a:lnTo>
                    <a:lnTo>
                      <a:pt x="134" y="64"/>
                    </a:lnTo>
                    <a:lnTo>
                      <a:pt x="141" y="68"/>
                    </a:lnTo>
                    <a:lnTo>
                      <a:pt x="149" y="76"/>
                    </a:lnTo>
                    <a:lnTo>
                      <a:pt x="153" y="83"/>
                    </a:lnTo>
                    <a:lnTo>
                      <a:pt x="158" y="94"/>
                    </a:lnTo>
                    <a:lnTo>
                      <a:pt x="159" y="102"/>
                    </a:lnTo>
                    <a:lnTo>
                      <a:pt x="159" y="113"/>
                    </a:lnTo>
                    <a:lnTo>
                      <a:pt x="157" y="123"/>
                    </a:lnTo>
                    <a:lnTo>
                      <a:pt x="155" y="132"/>
                    </a:lnTo>
                    <a:lnTo>
                      <a:pt x="205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Freeform 491"/>
              <p:cNvSpPr/>
              <p:nvPr/>
            </p:nvSpPr>
            <p:spPr>
              <a:xfrm>
                <a:off x="6737760" y="6079320"/>
                <a:ext cx="64800" cy="644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22" h="222">
                    <a:moveTo>
                      <a:pt x="205" y="174"/>
                    </a:moveTo>
                    <a:lnTo>
                      <a:pt x="210" y="163"/>
                    </a:lnTo>
                    <a:lnTo>
                      <a:pt x="215" y="153"/>
                    </a:lnTo>
                    <a:lnTo>
                      <a:pt x="217" y="142"/>
                    </a:lnTo>
                    <a:lnTo>
                      <a:pt x="221" y="133"/>
                    </a:lnTo>
                    <a:lnTo>
                      <a:pt x="221" y="122"/>
                    </a:lnTo>
                    <a:lnTo>
                      <a:pt x="222" y="111"/>
                    </a:lnTo>
                    <a:lnTo>
                      <a:pt x="221" y="100"/>
                    </a:lnTo>
                    <a:lnTo>
                      <a:pt x="221" y="90"/>
                    </a:lnTo>
                    <a:lnTo>
                      <a:pt x="217" y="80"/>
                    </a:lnTo>
                    <a:lnTo>
                      <a:pt x="213" y="69"/>
                    </a:lnTo>
                    <a:lnTo>
                      <a:pt x="209" y="58"/>
                    </a:lnTo>
                    <a:lnTo>
                      <a:pt x="204" y="49"/>
                    </a:lnTo>
                    <a:lnTo>
                      <a:pt x="197" y="40"/>
                    </a:lnTo>
                    <a:lnTo>
                      <a:pt x="189" y="32"/>
                    </a:lnTo>
                    <a:lnTo>
                      <a:pt x="181" y="25"/>
                    </a:lnTo>
                    <a:lnTo>
                      <a:pt x="174" y="19"/>
                    </a:lnTo>
                    <a:lnTo>
                      <a:pt x="163" y="12"/>
                    </a:lnTo>
                    <a:lnTo>
                      <a:pt x="153" y="8"/>
                    </a:lnTo>
                    <a:lnTo>
                      <a:pt x="142" y="4"/>
                    </a:lnTo>
                    <a:lnTo>
                      <a:pt x="133" y="2"/>
                    </a:lnTo>
                    <a:lnTo>
                      <a:pt x="122" y="0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90" y="2"/>
                    </a:lnTo>
                    <a:lnTo>
                      <a:pt x="80" y="4"/>
                    </a:lnTo>
                    <a:lnTo>
                      <a:pt x="69" y="8"/>
                    </a:lnTo>
                    <a:lnTo>
                      <a:pt x="59" y="12"/>
                    </a:lnTo>
                    <a:lnTo>
                      <a:pt x="51" y="19"/>
                    </a:lnTo>
                    <a:lnTo>
                      <a:pt x="41" y="24"/>
                    </a:lnTo>
                    <a:lnTo>
                      <a:pt x="33" y="32"/>
                    </a:lnTo>
                    <a:lnTo>
                      <a:pt x="25" y="40"/>
                    </a:lnTo>
                    <a:lnTo>
                      <a:pt x="19" y="51"/>
                    </a:lnTo>
                    <a:lnTo>
                      <a:pt x="12" y="59"/>
                    </a:lnTo>
                    <a:lnTo>
                      <a:pt x="8" y="69"/>
                    </a:lnTo>
                    <a:lnTo>
                      <a:pt x="4" y="80"/>
                    </a:lnTo>
                    <a:lnTo>
                      <a:pt x="2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0" y="122"/>
                    </a:lnTo>
                    <a:lnTo>
                      <a:pt x="2" y="133"/>
                    </a:lnTo>
                    <a:lnTo>
                      <a:pt x="4" y="142"/>
                    </a:lnTo>
                    <a:lnTo>
                      <a:pt x="8" y="153"/>
                    </a:lnTo>
                    <a:lnTo>
                      <a:pt x="12" y="163"/>
                    </a:lnTo>
                    <a:lnTo>
                      <a:pt x="19" y="172"/>
                    </a:lnTo>
                    <a:lnTo>
                      <a:pt x="24" y="181"/>
                    </a:lnTo>
                    <a:lnTo>
                      <a:pt x="33" y="189"/>
                    </a:lnTo>
                    <a:lnTo>
                      <a:pt x="40" y="196"/>
                    </a:lnTo>
                    <a:lnTo>
                      <a:pt x="51" y="205"/>
                    </a:lnTo>
                    <a:lnTo>
                      <a:pt x="57" y="207"/>
                    </a:lnTo>
                    <a:lnTo>
                      <a:pt x="63" y="211"/>
                    </a:lnTo>
                    <a:lnTo>
                      <a:pt x="70" y="213"/>
                    </a:lnTo>
                    <a:lnTo>
                      <a:pt x="78" y="217"/>
                    </a:lnTo>
                    <a:lnTo>
                      <a:pt x="86" y="218"/>
                    </a:lnTo>
                    <a:lnTo>
                      <a:pt x="93" y="221"/>
                    </a:lnTo>
                    <a:lnTo>
                      <a:pt x="101" y="221"/>
                    </a:lnTo>
                    <a:lnTo>
                      <a:pt x="110" y="222"/>
                    </a:lnTo>
                    <a:lnTo>
                      <a:pt x="117" y="221"/>
                    </a:lnTo>
                    <a:lnTo>
                      <a:pt x="124" y="221"/>
                    </a:lnTo>
                    <a:lnTo>
                      <a:pt x="131" y="218"/>
                    </a:lnTo>
                    <a:lnTo>
                      <a:pt x="140" y="217"/>
                    </a:lnTo>
                    <a:lnTo>
                      <a:pt x="147" y="215"/>
                    </a:lnTo>
                    <a:lnTo>
                      <a:pt x="154" y="212"/>
                    </a:lnTo>
                    <a:lnTo>
                      <a:pt x="162" y="209"/>
                    </a:lnTo>
                    <a:lnTo>
                      <a:pt x="170" y="206"/>
                    </a:lnTo>
                    <a:lnTo>
                      <a:pt x="141" y="159"/>
                    </a:lnTo>
                    <a:lnTo>
                      <a:pt x="134" y="160"/>
                    </a:lnTo>
                    <a:lnTo>
                      <a:pt x="127" y="163"/>
                    </a:lnTo>
                    <a:lnTo>
                      <a:pt x="118" y="163"/>
                    </a:lnTo>
                    <a:lnTo>
                      <a:pt x="111" y="164"/>
                    </a:lnTo>
                    <a:lnTo>
                      <a:pt x="103" y="163"/>
                    </a:lnTo>
                    <a:lnTo>
                      <a:pt x="94" y="162"/>
                    </a:lnTo>
                    <a:lnTo>
                      <a:pt x="87" y="159"/>
                    </a:lnTo>
                    <a:lnTo>
                      <a:pt x="82" y="157"/>
                    </a:lnTo>
                    <a:lnTo>
                      <a:pt x="72" y="148"/>
                    </a:lnTo>
                    <a:lnTo>
                      <a:pt x="66" y="141"/>
                    </a:lnTo>
                    <a:lnTo>
                      <a:pt x="62" y="131"/>
                    </a:lnTo>
                    <a:lnTo>
                      <a:pt x="59" y="122"/>
                    </a:lnTo>
                    <a:lnTo>
                      <a:pt x="58" y="111"/>
                    </a:lnTo>
                    <a:lnTo>
                      <a:pt x="59" y="101"/>
                    </a:lnTo>
                    <a:lnTo>
                      <a:pt x="62" y="90"/>
                    </a:lnTo>
                    <a:lnTo>
                      <a:pt x="68" y="82"/>
                    </a:lnTo>
                    <a:lnTo>
                      <a:pt x="74" y="72"/>
                    </a:lnTo>
                    <a:lnTo>
                      <a:pt x="82" y="66"/>
                    </a:lnTo>
                    <a:lnTo>
                      <a:pt x="90" y="61"/>
                    </a:lnTo>
                    <a:lnTo>
                      <a:pt x="101" y="59"/>
                    </a:lnTo>
                    <a:lnTo>
                      <a:pt x="111" y="58"/>
                    </a:lnTo>
                    <a:lnTo>
                      <a:pt x="122" y="59"/>
                    </a:lnTo>
                    <a:lnTo>
                      <a:pt x="131" y="61"/>
                    </a:lnTo>
                    <a:lnTo>
                      <a:pt x="142" y="67"/>
                    </a:lnTo>
                    <a:lnTo>
                      <a:pt x="150" y="73"/>
                    </a:lnTo>
                    <a:lnTo>
                      <a:pt x="157" y="82"/>
                    </a:lnTo>
                    <a:lnTo>
                      <a:pt x="160" y="90"/>
                    </a:lnTo>
                    <a:lnTo>
                      <a:pt x="165" y="101"/>
                    </a:lnTo>
                    <a:lnTo>
                      <a:pt x="165" y="111"/>
                    </a:lnTo>
                    <a:lnTo>
                      <a:pt x="164" y="122"/>
                    </a:lnTo>
                    <a:lnTo>
                      <a:pt x="160" y="131"/>
                    </a:lnTo>
                    <a:lnTo>
                      <a:pt x="157" y="142"/>
                    </a:lnTo>
                    <a:lnTo>
                      <a:pt x="205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Freeform 498"/>
              <p:cNvSpPr/>
              <p:nvPr/>
            </p:nvSpPr>
            <p:spPr>
              <a:xfrm>
                <a:off x="6634440" y="6265800"/>
                <a:ext cx="23400" cy="216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1" h="73">
                    <a:moveTo>
                      <a:pt x="40" y="0"/>
                    </a:moveTo>
                    <a:lnTo>
                      <a:pt x="38" y="0"/>
                    </a:lnTo>
                    <a:lnTo>
                      <a:pt x="35" y="2"/>
                    </a:lnTo>
                    <a:lnTo>
                      <a:pt x="30" y="7"/>
                    </a:lnTo>
                    <a:lnTo>
                      <a:pt x="26" y="12"/>
                    </a:lnTo>
                    <a:lnTo>
                      <a:pt x="20" y="14"/>
                    </a:lnTo>
                    <a:lnTo>
                      <a:pt x="14" y="19"/>
                    </a:lnTo>
                    <a:lnTo>
                      <a:pt x="8" y="23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5" y="49"/>
                    </a:lnTo>
                    <a:lnTo>
                      <a:pt x="9" y="58"/>
                    </a:lnTo>
                    <a:lnTo>
                      <a:pt x="12" y="65"/>
                    </a:lnTo>
                    <a:lnTo>
                      <a:pt x="14" y="70"/>
                    </a:lnTo>
                    <a:lnTo>
                      <a:pt x="16" y="73"/>
                    </a:lnTo>
                    <a:lnTo>
                      <a:pt x="18" y="72"/>
                    </a:lnTo>
                    <a:lnTo>
                      <a:pt x="24" y="70"/>
                    </a:lnTo>
                    <a:lnTo>
                      <a:pt x="34" y="67"/>
                    </a:lnTo>
                    <a:lnTo>
                      <a:pt x="46" y="65"/>
                    </a:lnTo>
                    <a:lnTo>
                      <a:pt x="57" y="59"/>
                    </a:lnTo>
                    <a:lnTo>
                      <a:pt x="69" y="53"/>
                    </a:lnTo>
                    <a:lnTo>
                      <a:pt x="75" y="46"/>
                    </a:lnTo>
                    <a:lnTo>
                      <a:pt x="81" y="36"/>
                    </a:lnTo>
                    <a:lnTo>
                      <a:pt x="79" y="24"/>
                    </a:lnTo>
                    <a:lnTo>
                      <a:pt x="75" y="17"/>
                    </a:lnTo>
                    <a:lnTo>
                      <a:pt x="68" y="8"/>
                    </a:lnTo>
                    <a:lnTo>
                      <a:pt x="59" y="6"/>
                    </a:lnTo>
                    <a:lnTo>
                      <a:pt x="52" y="2"/>
                    </a:lnTo>
                    <a:lnTo>
                      <a:pt x="46" y="1"/>
                    </a:lnTo>
                    <a:lnTo>
                      <a:pt x="41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499"/>
              <p:cNvSpPr/>
              <p:nvPr/>
            </p:nvSpPr>
            <p:spPr>
              <a:xfrm>
                <a:off x="6729840" y="6259680"/>
                <a:ext cx="22680" cy="208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78" h="71">
                    <a:moveTo>
                      <a:pt x="4" y="15"/>
                    </a:moveTo>
                    <a:lnTo>
                      <a:pt x="50" y="0"/>
                    </a:lnTo>
                    <a:lnTo>
                      <a:pt x="78" y="50"/>
                    </a:lnTo>
                    <a:lnTo>
                      <a:pt x="75" y="50"/>
                    </a:lnTo>
                    <a:lnTo>
                      <a:pt x="68" y="52"/>
                    </a:lnTo>
                    <a:lnTo>
                      <a:pt x="57" y="57"/>
                    </a:lnTo>
                    <a:lnTo>
                      <a:pt x="46" y="62"/>
                    </a:lnTo>
                    <a:lnTo>
                      <a:pt x="39" y="63"/>
                    </a:lnTo>
                    <a:lnTo>
                      <a:pt x="33" y="65"/>
                    </a:lnTo>
                    <a:lnTo>
                      <a:pt x="25" y="67"/>
                    </a:lnTo>
                    <a:lnTo>
                      <a:pt x="21" y="69"/>
                    </a:lnTo>
                    <a:lnTo>
                      <a:pt x="11" y="70"/>
                    </a:lnTo>
                    <a:lnTo>
                      <a:pt x="6" y="71"/>
                    </a:lnTo>
                    <a:lnTo>
                      <a:pt x="1" y="67"/>
                    </a:lnTo>
                    <a:lnTo>
                      <a:pt x="0" y="59"/>
                    </a:lnTo>
                    <a:lnTo>
                      <a:pt x="0" y="50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1" y="22"/>
                    </a:lnTo>
                    <a:lnTo>
                      <a:pt x="3" y="16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Freeform 500"/>
              <p:cNvSpPr/>
              <p:nvPr/>
            </p:nvSpPr>
            <p:spPr>
              <a:xfrm>
                <a:off x="6777360" y="6118560"/>
                <a:ext cx="20880" cy="198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73" h="71">
                    <a:moveTo>
                      <a:pt x="73" y="30"/>
                    </a:moveTo>
                    <a:lnTo>
                      <a:pt x="71" y="30"/>
                    </a:lnTo>
                    <a:lnTo>
                      <a:pt x="69" y="35"/>
                    </a:lnTo>
                    <a:lnTo>
                      <a:pt x="63" y="41"/>
                    </a:lnTo>
                    <a:lnTo>
                      <a:pt x="57" y="48"/>
                    </a:lnTo>
                    <a:lnTo>
                      <a:pt x="48" y="54"/>
                    </a:lnTo>
                    <a:lnTo>
                      <a:pt x="40" y="61"/>
                    </a:lnTo>
                    <a:lnTo>
                      <a:pt x="31" y="66"/>
                    </a:lnTo>
                    <a:lnTo>
                      <a:pt x="24" y="71"/>
                    </a:lnTo>
                    <a:lnTo>
                      <a:pt x="16" y="70"/>
                    </a:lnTo>
                    <a:lnTo>
                      <a:pt x="11" y="66"/>
                    </a:lnTo>
                    <a:lnTo>
                      <a:pt x="6" y="59"/>
                    </a:lnTo>
                    <a:lnTo>
                      <a:pt x="4" y="5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4" y="24"/>
                    </a:lnTo>
                    <a:lnTo>
                      <a:pt x="13" y="16"/>
                    </a:lnTo>
                    <a:lnTo>
                      <a:pt x="18" y="11"/>
                    </a:lnTo>
                    <a:lnTo>
                      <a:pt x="23" y="7"/>
                    </a:lnTo>
                    <a:lnTo>
                      <a:pt x="26" y="4"/>
                    </a:lnTo>
                    <a:lnTo>
                      <a:pt x="30" y="1"/>
                    </a:lnTo>
                    <a:lnTo>
                      <a:pt x="31" y="0"/>
                    </a:lnTo>
                    <a:lnTo>
                      <a:pt x="36" y="4"/>
                    </a:lnTo>
                    <a:lnTo>
                      <a:pt x="43" y="7"/>
                    </a:lnTo>
                    <a:lnTo>
                      <a:pt x="52" y="13"/>
                    </a:lnTo>
                    <a:lnTo>
                      <a:pt x="59" y="18"/>
                    </a:lnTo>
                    <a:lnTo>
                      <a:pt x="66" y="24"/>
                    </a:lnTo>
                    <a:lnTo>
                      <a:pt x="71" y="28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501"/>
              <p:cNvSpPr/>
              <p:nvPr/>
            </p:nvSpPr>
            <p:spPr>
              <a:xfrm>
                <a:off x="6815160" y="6410160"/>
                <a:ext cx="28800" cy="259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00" h="90">
                    <a:moveTo>
                      <a:pt x="49" y="3"/>
                    </a:moveTo>
                    <a:lnTo>
                      <a:pt x="47" y="4"/>
                    </a:lnTo>
                    <a:lnTo>
                      <a:pt x="45" y="8"/>
                    </a:lnTo>
                    <a:lnTo>
                      <a:pt x="40" y="14"/>
                    </a:lnTo>
                    <a:lnTo>
                      <a:pt x="35" y="21"/>
                    </a:lnTo>
                    <a:lnTo>
                      <a:pt x="28" y="27"/>
                    </a:lnTo>
                    <a:lnTo>
                      <a:pt x="22" y="33"/>
                    </a:lnTo>
                    <a:lnTo>
                      <a:pt x="13" y="37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0" y="45"/>
                    </a:lnTo>
                    <a:lnTo>
                      <a:pt x="4" y="53"/>
                    </a:lnTo>
                    <a:lnTo>
                      <a:pt x="11" y="64"/>
                    </a:lnTo>
                    <a:lnTo>
                      <a:pt x="18" y="72"/>
                    </a:lnTo>
                    <a:lnTo>
                      <a:pt x="25" y="82"/>
                    </a:lnTo>
                    <a:lnTo>
                      <a:pt x="30" y="88"/>
                    </a:lnTo>
                    <a:lnTo>
                      <a:pt x="32" y="90"/>
                    </a:lnTo>
                    <a:lnTo>
                      <a:pt x="35" y="88"/>
                    </a:lnTo>
                    <a:lnTo>
                      <a:pt x="42" y="84"/>
                    </a:lnTo>
                    <a:lnTo>
                      <a:pt x="47" y="80"/>
                    </a:lnTo>
                    <a:lnTo>
                      <a:pt x="53" y="77"/>
                    </a:lnTo>
                    <a:lnTo>
                      <a:pt x="59" y="73"/>
                    </a:lnTo>
                    <a:lnTo>
                      <a:pt x="66" y="70"/>
                    </a:lnTo>
                    <a:lnTo>
                      <a:pt x="72" y="64"/>
                    </a:lnTo>
                    <a:lnTo>
                      <a:pt x="78" y="59"/>
                    </a:lnTo>
                    <a:lnTo>
                      <a:pt x="83" y="53"/>
                    </a:lnTo>
                    <a:lnTo>
                      <a:pt x="89" y="48"/>
                    </a:lnTo>
                    <a:lnTo>
                      <a:pt x="93" y="42"/>
                    </a:lnTo>
                    <a:lnTo>
                      <a:pt x="96" y="36"/>
                    </a:lnTo>
                    <a:lnTo>
                      <a:pt x="99" y="30"/>
                    </a:lnTo>
                    <a:lnTo>
                      <a:pt x="100" y="25"/>
                    </a:lnTo>
                    <a:lnTo>
                      <a:pt x="96" y="14"/>
                    </a:lnTo>
                    <a:lnTo>
                      <a:pt x="90" y="7"/>
                    </a:lnTo>
                    <a:lnTo>
                      <a:pt x="82" y="2"/>
                    </a:lnTo>
                    <a:lnTo>
                      <a:pt x="73" y="1"/>
                    </a:lnTo>
                    <a:lnTo>
                      <a:pt x="64" y="0"/>
                    </a:lnTo>
                    <a:lnTo>
                      <a:pt x="57" y="1"/>
                    </a:lnTo>
                    <a:lnTo>
                      <a:pt x="51" y="2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7" name="Rectangle 85"/>
          <p:cNvSpPr/>
          <p:nvPr/>
        </p:nvSpPr>
        <p:spPr>
          <a:xfrm>
            <a:off x="6033960" y="488880"/>
            <a:ext cx="222408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ur understanding today is supported by convincing evidence including photos of the Earth from spac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Нижний колонтитул 8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11:24:55Z</dcterms:created>
  <dc:creator/>
  <dc:description/>
  <dc:language>en-US</dc:language>
  <cp:lastModifiedBy/>
  <dcterms:modified xsi:type="dcterms:W3CDTF">2018-03-22T08:33:46Z</dcterms:modified>
  <cp:revision>232</cp:revision>
  <dc:subject/>
  <dc:title>PowerPoint Presentation</dc:title>
</cp:coreProperties>
</file>