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ZZZZ.wav" ContentType="audio/x-wav"/>
  <Override PartName="/ppt/media/image9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E283-E997-4E17-8B25-5752C794CB4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710-D8D9-4470-B73D-830C364A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9B6-5951-4129-A455-832F3BF7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BFC-3C97-444B-A652-C40D623B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ED2-714D-4876-9162-BEAC9F50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FE47-68B5-42DB-BF4A-16363EB1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CDB5-58F3-4411-8ECF-45423603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B42A-1922-4478-A4C3-6084D60D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9BFF-17F1-4085-BEE0-214B37AE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E382-88E6-4F0C-9E67-CB2174C4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F36B-2971-4656-B5BF-28E9A197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7102-82C5-46D8-A0CB-862A7021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505-9B28-4CBB-B576-1C8EF4F6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DD4-CB70-4266-9785-8F94E89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09EB-D9EE-4074-BAFA-3353F2DB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D8AD-AF6E-4684-9BB3-D44F2B80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ADE0-A5E9-4604-8C85-B0714CF5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4B22-1E74-48BD-A058-60813211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67B19-AADD-462F-8E4E-39EB543E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49AEB-7DFD-4B2D-8DCA-520C979A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D7F6E-B395-4EFD-87BA-0C1884AC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6725C-F3DD-428D-B7BC-682F9376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9F0D3-ABD5-40A4-AC21-82FB3E75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809-A3B4-42CB-8D98-002F47C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8CEC8-51C6-40B2-8EEC-A52ED16E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66F17-12BE-43CE-8BA7-344C0C4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CEFCC-3B5D-4BBC-B67D-5AD280F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3ECDB-4615-4393-8D28-FBAE0AD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42491-568F-4CEB-B956-823FF65B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97484-D559-4AB2-A759-BB5DFB27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1E1C4-D95E-440C-B3DC-E20EDE03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3C4EC-61C7-4E4E-9F0F-D5C4CFDE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21A25-9025-4D63-BAB5-8A8208F8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09500-0F30-4E4D-AFCC-9ABA9327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18E-BF74-4D2F-BC56-E3D826A0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74173-B799-4BE2-AE20-1CA26F28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5CC0C-8ACB-45A1-9BDC-8E8E6DA2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DF0BD-9DE5-481E-AED4-B17AEE64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EFCC0-B9C3-4310-A205-B5D2882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3E8E7-870B-4053-9A46-2D8D5A44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D9327-4FCF-4145-9416-2A37188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5B50D-0FC7-4F21-91D1-96B88831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AF4F3-F1B0-4120-8836-D7E2F3FD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1D109-F197-4DB3-B1E7-1C22B40D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2193F-ACD6-4C66-8F6F-A2C0D3EF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042-D4DF-4068-A53D-B8F75057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F413B-8AC7-41E8-AC38-FF8649CA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8A2CB-583D-463D-A772-5C6F4911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3E670-0CCE-4072-96C2-D3E7CE9E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BA28F-22AE-44F8-9387-952C23D2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97E75-70D2-44E7-8443-D35E9FBA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56366-01FA-48EF-AB6D-967B47F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983CF-4EAD-405D-BA9A-13D3E5E3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FC49E-8F3E-4CA9-81E0-DD6D26F2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F5DBA-CF7D-4873-9ACF-68D878AA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DBB86-AC91-48CA-9A16-F8DEB4D8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A1F-C540-4493-8CFA-0B522366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7CAD2-DB04-4FFD-9FEB-F1BB990E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A3D46-378A-4ED2-B7C4-0910A116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FA622-C6CB-4B3B-BAFB-30718F4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FDF4-1AFC-48EB-AFFC-ED473251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3EE20-8640-4455-9E6E-98322391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02949-1E99-47B0-8144-EE7B18EA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55AA-8713-4B32-A692-02C69282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1639-6926-4632-AB97-AFCD7A1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4E8D-6547-4AE6-B8D2-7AF159B1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9248D-624F-471F-A1E5-4136C68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2D6-BB04-46B0-B397-749D42F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849F7-0828-4252-8FA1-B65B40AD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BC65-72F5-49AD-B3B6-1662D5A9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061D7-417D-4A67-9CB1-F6B540FB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A35ED-57AD-4E32-9868-499ACE9B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CDAAF-7F65-45AE-A336-C32D818E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12EF9-40A5-4D88-9404-18933E4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229E4-0E5B-4337-912D-8318A014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A49AD-093F-4674-BBF3-3AA5FCE7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1DF3B-6C50-4088-BFC5-CCF90D2D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4754E-631F-435A-B18B-DD4E835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86B-A5D1-40EC-A9CB-65C5C47E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7372B-8226-4FE6-AD7E-5ADD51B0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99554-4B58-432E-85E4-AC961CFD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0D2A1-83ED-4A96-B3AF-BEB9B504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0B118-C007-4BEE-829D-3E7529F7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02F3B-2407-4661-9AC0-56DCAC9C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74FCE-FCC8-4B11-B508-F1809AAB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2DAB5-E054-46CF-AED1-C1A99224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8B889-A5A0-4762-A51C-E3D9B595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75E80-CDB2-4CFF-A8B0-4B78710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627BC-7F47-433E-A077-38FBAAF5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CB4-1ECA-4B57-8376-14E19BEA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5A74A-500A-470E-9E25-CDF4726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69CDB-9019-49F6-8C6E-B093862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E728F-5BC9-4013-B52C-1487C5B4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9952C-106F-496B-8F61-290DAEF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A4E8-B2F9-4824-8D20-BFF3A775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DD1FB-EE81-4524-8A92-DA6CBA10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2E7EA-D899-4EE7-9CF7-47151804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7DAA-DBC9-4B73-91CC-EFA5323BAC42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8663-C6FE-47D6-B1B9-467FED8EA99D}" type="slidenum">
              <a:rPr b="1" lang="en-US" sz="1400" spc="-1" strike="noStrike">
                <a:solidFill>
                  <a:srgbClr val="ebddc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1133-BE1F-472C-8E92-3035DAE78393}" type="slidenum">
              <a:rPr b="1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D9CA-16FE-4FD7-96A9-04D338A337CF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2C45-2D35-4AE1-9062-E8C10AF710C5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0943-27B9-42BD-92D9-D7B3B7C9D2CA}" type="slidenum">
              <a:rPr b="1" lang="en-US" sz="1400" spc="-1" strike="noStrike">
                <a:solidFill>
                  <a:srgbClr val="775f55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оугольник 16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6988-5FB7-4702-8E6D-093CD7CBCC33}" type="slidenum">
              <a:rPr b="1" lang="en-US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7F4D-2B45-4E53-898B-97C8FAC323BB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Animals in the Winter</a:t>
            </a:r>
            <a:r>
              <a:rPr b="1" lang="en-US" sz="6000" spc="-1" strike="noStrike">
                <a:solidFill>
                  <a:srgbClr val="775f55"/>
                </a:solidFill>
                <a:latin typeface="Comic Sans MS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4" descr="bear-hibernate"/>
          <p:cNvPicPr/>
          <p:nvPr/>
        </p:nvPicPr>
        <p:blipFill>
          <a:blip r:embed="rId1"/>
          <a:stretch/>
        </p:blipFill>
        <p:spPr>
          <a:xfrm>
            <a:off x="2438280" y="2209680"/>
            <a:ext cx="4133880" cy="3934080"/>
          </a:xfrm>
          <a:prstGeom prst="rect">
            <a:avLst/>
          </a:prstGeom>
          <a:ln w="0">
            <a:noFill/>
          </a:ln>
        </p:spPr>
      </p:pic>
      <p:sp>
        <p:nvSpPr>
          <p:cNvPr id="368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  <p:sndAc>
      <p:stSnd>
        <p:snd r:embed="rId2" name="ZZZZ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03456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4" descr="think-boy1"/>
          <p:cNvPicPr/>
          <p:nvPr/>
        </p:nvPicPr>
        <p:blipFill>
          <a:blip r:embed="rId1"/>
          <a:stretch/>
        </p:blipFill>
        <p:spPr>
          <a:xfrm>
            <a:off x="3733920" y="2895480"/>
            <a:ext cx="2651040" cy="27622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3045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think-boy1"/>
          <p:cNvPicPr/>
          <p:nvPr/>
        </p:nvPicPr>
        <p:blipFill>
          <a:blip r:embed="rId1"/>
          <a:stretch/>
        </p:blipFill>
        <p:spPr>
          <a:xfrm>
            <a:off x="5410080" y="2362320"/>
            <a:ext cx="2651400" cy="276228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0320" y="-6876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4" descr="thinking"/>
          <p:cNvPicPr/>
          <p:nvPr/>
        </p:nvPicPr>
        <p:blipFill>
          <a:blip r:embed="rId1"/>
          <a:stretch/>
        </p:blipFill>
        <p:spPr>
          <a:xfrm>
            <a:off x="2971800" y="2057400"/>
            <a:ext cx="2260440" cy="390204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bird-aviator"/>
          <p:cNvPicPr/>
          <p:nvPr/>
        </p:nvPicPr>
        <p:blipFill>
          <a:blip r:embed="rId1"/>
          <a:stretch/>
        </p:blipFill>
        <p:spPr>
          <a:xfrm>
            <a:off x="3505320" y="2971800"/>
            <a:ext cx="2879640" cy="28926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0320" y="3924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4" descr="bird-aviator"/>
          <p:cNvPicPr/>
          <p:nvPr/>
        </p:nvPicPr>
        <p:blipFill>
          <a:blip r:embed="rId1"/>
          <a:stretch/>
        </p:blipFill>
        <p:spPr>
          <a:xfrm>
            <a:off x="3276720" y="1905120"/>
            <a:ext cx="2125440" cy="1828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136368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5"/>
          <p:cNvGrpSpPr/>
          <p:nvPr/>
        </p:nvGrpSpPr>
        <p:grpSpPr>
          <a:xfrm>
            <a:off x="3811680" y="2400480"/>
            <a:ext cx="9144000" cy="360"/>
            <a:chOff x="3811680" y="2400480"/>
            <a:chExt cx="9144000" cy="360"/>
          </a:xfrm>
        </p:grpSpPr>
        <p:sp>
          <p:nvSpPr>
            <p:cNvPr id="381" name="Rectangle 14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83" name="Picture 12" descr=" Bears - Pictures "/>
          <p:cNvPicPr/>
          <p:nvPr/>
        </p:nvPicPr>
        <p:blipFill>
          <a:blip r:embed="rId2"/>
          <a:stretch/>
        </p:blipFill>
        <p:spPr>
          <a:xfrm>
            <a:off x="3505320" y="3657600"/>
            <a:ext cx="1520640" cy="20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3"/>
          <p:cNvSpPr/>
          <p:nvPr/>
        </p:nvSpPr>
        <p:spPr>
          <a:xfrm>
            <a:off x="3811680" y="2400480"/>
            <a:ext cx="2514600" cy="360"/>
          </a:xfrm>
          <a:prstGeom prst="rect">
            <a:avLst/>
          </a:prstGeom>
          <a:solidFill>
            <a:srgbClr val="ed8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Нижний колонтитул 10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4" descr="bird-aviator"/>
          <p:cNvPicPr/>
          <p:nvPr/>
        </p:nvPicPr>
        <p:blipFill>
          <a:blip r:embed="rId1"/>
          <a:stretch/>
        </p:blipFill>
        <p:spPr>
          <a:xfrm>
            <a:off x="3352680" y="2133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 Bears - Pictures "/>
          <p:cNvPicPr/>
          <p:nvPr/>
        </p:nvPicPr>
        <p:blipFill>
          <a:blip r:embed="rId2"/>
          <a:stretch/>
        </p:blipFill>
        <p:spPr>
          <a:xfrm>
            <a:off x="3429000" y="380988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squirrel-nuts"/>
          <p:cNvPicPr/>
          <p:nvPr/>
        </p:nvPicPr>
        <p:blipFill>
          <a:blip r:embed="rId3"/>
          <a:stretch/>
        </p:blipFill>
        <p:spPr>
          <a:xfrm>
            <a:off x="4876920" y="5105520"/>
            <a:ext cx="1530360" cy="13222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-16848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Mig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bird-anim"/>
          <p:cNvPicPr/>
          <p:nvPr/>
        </p:nvPicPr>
        <p:blipFill>
          <a:blip r:embed="rId1"/>
          <a:stretch/>
        </p:blipFill>
        <p:spPr>
          <a:xfrm>
            <a:off x="3733920" y="3048120"/>
            <a:ext cx="1976400" cy="26096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Hibern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Picture 4" descr="bear-hibernate"/>
          <p:cNvPicPr/>
          <p:nvPr/>
        </p:nvPicPr>
        <p:blipFill>
          <a:blip r:embed="rId1"/>
          <a:stretch/>
        </p:blipFill>
        <p:spPr>
          <a:xfrm>
            <a:off x="3276720" y="2924280"/>
            <a:ext cx="3295440" cy="3136680"/>
          </a:xfrm>
          <a:prstGeom prst="rect">
            <a:avLst/>
          </a:prstGeom>
          <a:ln w="0">
            <a:noFill/>
          </a:ln>
        </p:spPr>
      </p:pic>
      <p:sp>
        <p:nvSpPr>
          <p:cNvPr id="399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Adap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deer1"/>
          <p:cNvPicPr/>
          <p:nvPr/>
        </p:nvPicPr>
        <p:blipFill>
          <a:blip r:embed="rId1"/>
          <a:stretch/>
        </p:blipFill>
        <p:spPr>
          <a:xfrm>
            <a:off x="3505320" y="3962520"/>
            <a:ext cx="239076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71200" y="-76680"/>
            <a:ext cx="8163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</a:rPr>
              <a:t>Surviving Winte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4" descr="snow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50Z</dcterms:created>
  <dc:creator>Jefferson County Tech Center</dc:creator>
  <dc:description/>
  <dc:language>en-US</dc:language>
  <cp:lastModifiedBy>LEGION</cp:lastModifiedBy>
  <dcterms:modified xsi:type="dcterms:W3CDTF">2018-03-22T08:19:22Z</dcterms:modified>
  <cp:revision>13</cp:revision>
  <dc:subject/>
  <dc:title>Animals in the Winter  Second Grade</dc:title>
</cp:coreProperties>
</file>