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ZZZZ.wav" ContentType="audio/x-wav"/>
  <Override PartName="/ppt/media/image9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B923-7B02-40FC-A815-90CB79204D8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A15-FA4A-4BFA-9641-15471EFB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591-0697-4D27-99A5-81873B2C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AB6-0DC3-427E-851C-A7EC5ABE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B93-BCCA-4050-9639-008559500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7A46-0BC8-41F8-AFEF-A052668B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FDEB-4005-433B-9450-33347C4A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E24F-687A-4EF2-BF8B-688B2AD3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3B88-D984-4EE0-BE62-F3D0FEFD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9266-2D0F-4B15-B07B-C9A8433B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375E-3171-4871-B12E-596E6153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1DBC-F2E5-4B42-8176-3D98C276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EAE-9F7A-4091-9554-2DCE0995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5EDB-3967-4D31-80C0-4DDE3908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2422-4022-4A92-9622-4F733E0A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E9B7-C0DD-44B5-B207-A21C95AF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042C-80C1-49D4-A66E-7F2547BD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825D-D576-4CB1-90A6-E17F558C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D3D91-FB31-4BA1-8EB2-4A68F1AD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CE7EC-4D33-46CC-ADFB-D344BEEC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88076-81EE-4438-A343-ED9403D4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BE63E-65E5-4446-B3E1-C533013E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29F83-E3AB-49CB-8DAC-78E4A5D4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A8A-6488-4959-9E03-8B1B43CA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8679E-7913-4F35-BBE1-20591FC7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4543D-FEC5-43BA-AC92-B4581F4C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27810-42C1-4FF7-88DD-3AB060BA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D9524-A209-4A43-8BC5-379D4C90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6B053-DE4A-4BF0-ABE5-1BE1C2B9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C59C32-A07D-4F9A-8CAE-E9E2A827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251E4-B986-41A5-A01B-BE8E4A0B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0BE15-D02D-4DEC-BE49-01C649CF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6212B6-0CE4-4551-805B-A263734F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BB2F0-DCAB-457F-A2C8-947F2996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5A29-760C-4E49-8ADE-850B3B35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80516-1279-4C8B-B8CF-52DF2E4F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F4013A-EC20-4856-9B06-55891860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F6B1A5-E387-40F4-8FB0-5DF3791D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03CFFF-44D6-464F-A16C-EBBCD978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1130A5-9536-4ECD-8C75-6BB6E553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D87241-AD29-49C3-86E3-E2D2A15A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2F7BA-C620-4A45-8154-F0211F56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212EAD-A96F-4C4C-8884-5C6707E5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14AC34-FA1F-48A2-A84B-740302BC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1277E-5C9B-4F9B-88DA-31598CCF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FA6-6C9C-4B16-BCC8-A2C842CA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07FBF-F54C-4D4C-AAA4-397671C1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0EC26-F369-442F-80FE-3DEF94E6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93456-8824-46F1-80E6-90549E9F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438E6-61C3-49B1-8131-EBF7A3EE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17BE6-C34B-4A45-A621-64C7F7AD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1F74CB-3142-4739-A143-99FF7F7D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5A2BB-77D5-41C1-99D0-40C0F225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D46EC1-8E12-42DD-AAF9-5AA3A063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D34F8-BB2D-4AD0-820F-0EA69405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7818C-0B2D-4DD1-A9B1-24A8D002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3148-C9EB-4536-B525-C949F21A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3EABD1-C174-4811-9E3A-36E4C793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8265F-F5D8-4202-9AED-97A3E6F9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50F2B-B95A-4A4D-99C3-BCCA5898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A1FCF-A1BE-41D3-83A4-28E199D7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00A29-8CCF-4F41-A924-E1CA611B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8822F-4E60-47A9-8AF7-CF78011F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409A9-5B9D-4BD8-B068-4350171E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C9A43-EAC4-4ABB-B934-8AA7755B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D8BC2-E9B8-4687-9389-549E9781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DB5E0-6A3C-45E0-849F-7DE2E9E6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40F-7954-4474-A433-2BED1D45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7C857-BFBB-4A42-BAA7-A4C62ADF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EAB33-2274-46A2-9BDE-9389DA8D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CBADF-F602-4EB6-9A6B-995B329D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825A8C-41BD-4FAD-BBF4-139625E4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00069C-87AC-4B9B-9CF8-7D8C9D16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BD8F8-7EFF-440E-BA72-392460FB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625B0-E6F8-4305-9EE1-8BF816F9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F59B42-C61C-4DF5-8D39-3975CFFA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F4477D-D385-4400-A2DD-7B114DB8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37A02-2A1F-43CD-B4A6-8142842D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A13-9993-4063-B3D0-0E1B9754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8E73B-A8AD-4AB9-A7EF-E65E2B60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9EB2A-5E08-40E5-B9B2-91F43913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B70BF3-AF2F-453E-A223-7571AA79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305EA-F42B-47D7-ADA1-EA18E78C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92F76-8618-4F28-9937-0C4DE50C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2ABAD-4046-418A-9195-B65D1BB6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19402-E585-4635-AF8E-D2F8918C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DED3E-0DBA-473F-9F5E-06FA3D63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89955-54CD-4D44-ACD8-1A74FFA4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A0593-8C10-46D0-B8AC-41B12E25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49F-B5C2-4224-A858-5FCCDE78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A04FA-5BF7-4797-A7B0-F09EC350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B91A3-F46C-403A-A3B5-4B0057CC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74716-A766-4959-8FC2-F1755A56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E8ACA-CE51-4E8E-BC09-FABE9C9C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6DA13-2586-4E2D-94C5-CE338070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C6B2A-77A7-44EF-B570-13B35CB0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DACAD-CAEE-4B60-A29E-ADCFE90B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5BAD-6BDE-4833-89B0-47516847C7AA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B908-AF9A-42AD-AADB-F2CEC7A8B96D}" type="slidenum">
              <a:rPr b="1" lang="en-US" sz="1400" spc="-1" strike="noStrike">
                <a:solidFill>
                  <a:srgbClr val="ebddc3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2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рямоугольник 1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D9E8-58C8-48B8-8CE6-ABC083BDA70E}" type="slidenum">
              <a:rPr b="1" lang="en-US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FF4E-145C-40F5-8599-A21BA958E50D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4208-F12F-4D00-B4F0-5EEC7E6FDCEB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806A-7855-4108-9F80-DE76691EFADD}" type="slidenum">
              <a:rPr b="1" lang="en-US" sz="1400" spc="-1" strike="noStrike">
                <a:solidFill>
                  <a:srgbClr val="775f55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оугольник 14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оугольник 16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F6A3-4A96-4690-9839-0869BD18CA26}" type="slidenum">
              <a:rPr b="1" lang="en-US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2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Прямоугольник 1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E4D4-4F32-473F-9A26-F6AD0DAA18BE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Animals in the Winter</a:t>
            </a:r>
            <a:r>
              <a:rPr b="1" lang="en-US" sz="6000" spc="-1" strike="noStrike">
                <a:solidFill>
                  <a:srgbClr val="775f55"/>
                </a:solidFill>
                <a:latin typeface="Comic Sans MS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4" descr="bear-hibernate"/>
          <p:cNvPicPr/>
          <p:nvPr/>
        </p:nvPicPr>
        <p:blipFill>
          <a:blip r:embed="rId1"/>
          <a:stretch/>
        </p:blipFill>
        <p:spPr>
          <a:xfrm>
            <a:off x="2438280" y="2209680"/>
            <a:ext cx="4133880" cy="3934080"/>
          </a:xfrm>
          <a:prstGeom prst="rect">
            <a:avLst/>
          </a:prstGeom>
          <a:ln w="0">
            <a:noFill/>
          </a:ln>
        </p:spPr>
      </p:pic>
      <p:sp>
        <p:nvSpPr>
          <p:cNvPr id="368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  <p:sndAc>
      <p:stSnd>
        <p:snd r:embed="rId2" name="ZZZZ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57040"/>
            <a:ext cx="903456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9" name="Picture 4" descr="think-boy1"/>
          <p:cNvPicPr/>
          <p:nvPr/>
        </p:nvPicPr>
        <p:blipFill>
          <a:blip r:embed="rId1"/>
          <a:stretch/>
        </p:blipFill>
        <p:spPr>
          <a:xfrm>
            <a:off x="3733920" y="2895480"/>
            <a:ext cx="2651040" cy="276228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1200" y="3045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4" descr="think-boy1"/>
          <p:cNvPicPr/>
          <p:nvPr/>
        </p:nvPicPr>
        <p:blipFill>
          <a:blip r:embed="rId1"/>
          <a:stretch/>
        </p:blipFill>
        <p:spPr>
          <a:xfrm>
            <a:off x="5410080" y="2362320"/>
            <a:ext cx="2651400" cy="276228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0320" y="-6876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4" descr="thinking"/>
          <p:cNvPicPr/>
          <p:nvPr/>
        </p:nvPicPr>
        <p:blipFill>
          <a:blip r:embed="rId1"/>
          <a:stretch/>
        </p:blipFill>
        <p:spPr>
          <a:xfrm>
            <a:off x="2971800" y="2057400"/>
            <a:ext cx="2260440" cy="3902040"/>
          </a:xfrm>
          <a:prstGeom prst="rect">
            <a:avLst/>
          </a:prstGeom>
          <a:ln w="0">
            <a:noFill/>
          </a:ln>
        </p:spPr>
      </p:pic>
      <p:sp>
        <p:nvSpPr>
          <p:cNvPr id="371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4" descr="bird-aviator"/>
          <p:cNvPicPr/>
          <p:nvPr/>
        </p:nvPicPr>
        <p:blipFill>
          <a:blip r:embed="rId1"/>
          <a:stretch/>
        </p:blipFill>
        <p:spPr>
          <a:xfrm>
            <a:off x="3505320" y="2971800"/>
            <a:ext cx="2879640" cy="289260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0320" y="3924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4" descr="bird-aviator"/>
          <p:cNvPicPr/>
          <p:nvPr/>
        </p:nvPicPr>
        <p:blipFill>
          <a:blip r:embed="rId1"/>
          <a:stretch/>
        </p:blipFill>
        <p:spPr>
          <a:xfrm>
            <a:off x="3276720" y="1905120"/>
            <a:ext cx="2125440" cy="1828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8"/>
          <p:cNvSpPr/>
          <p:nvPr/>
        </p:nvSpPr>
        <p:spPr>
          <a:xfrm>
            <a:off x="1363680" y="265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Group 15"/>
          <p:cNvGrpSpPr/>
          <p:nvPr/>
        </p:nvGrpSpPr>
        <p:grpSpPr>
          <a:xfrm>
            <a:off x="3811680" y="2400480"/>
            <a:ext cx="9144000" cy="360"/>
            <a:chOff x="3811680" y="2400480"/>
            <a:chExt cx="9144000" cy="360"/>
          </a:xfrm>
        </p:grpSpPr>
        <p:sp>
          <p:nvSpPr>
            <p:cNvPr id="381" name="Rectangle 14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83" name="Picture 12" descr=" Bears - Pictures "/>
          <p:cNvPicPr/>
          <p:nvPr/>
        </p:nvPicPr>
        <p:blipFill>
          <a:blip r:embed="rId2"/>
          <a:stretch/>
        </p:blipFill>
        <p:spPr>
          <a:xfrm>
            <a:off x="3505320" y="3657600"/>
            <a:ext cx="1520640" cy="20574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3"/>
          <p:cNvSpPr/>
          <p:nvPr/>
        </p:nvSpPr>
        <p:spPr>
          <a:xfrm>
            <a:off x="3811680" y="2400480"/>
            <a:ext cx="2514600" cy="360"/>
          </a:xfrm>
          <a:prstGeom prst="rect">
            <a:avLst/>
          </a:prstGeom>
          <a:solidFill>
            <a:srgbClr val="ed8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Нижний колонтитул 10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4" descr="bird-aviator"/>
          <p:cNvPicPr/>
          <p:nvPr/>
        </p:nvPicPr>
        <p:blipFill>
          <a:blip r:embed="rId1"/>
          <a:stretch/>
        </p:blipFill>
        <p:spPr>
          <a:xfrm>
            <a:off x="3352680" y="2133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 Bears - Pictures "/>
          <p:cNvPicPr/>
          <p:nvPr/>
        </p:nvPicPr>
        <p:blipFill>
          <a:blip r:embed="rId2"/>
          <a:stretch/>
        </p:blipFill>
        <p:spPr>
          <a:xfrm>
            <a:off x="3429000" y="3809880"/>
            <a:ext cx="1139760" cy="160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squirrel-nuts"/>
          <p:cNvPicPr/>
          <p:nvPr/>
        </p:nvPicPr>
        <p:blipFill>
          <a:blip r:embed="rId3"/>
          <a:stretch/>
        </p:blipFill>
        <p:spPr>
          <a:xfrm>
            <a:off x="4876920" y="5105520"/>
            <a:ext cx="1530360" cy="1322280"/>
          </a:xfrm>
          <a:prstGeom prst="rect">
            <a:avLst/>
          </a:prstGeom>
          <a:ln w="0">
            <a:noFill/>
          </a:ln>
        </p:spPr>
      </p:pic>
      <p:sp>
        <p:nvSpPr>
          <p:cNvPr id="391" name="Нижний колонтитул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-168480"/>
            <a:ext cx="81630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Mig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bird-anim"/>
          <p:cNvPicPr/>
          <p:nvPr/>
        </p:nvPicPr>
        <p:blipFill>
          <a:blip r:embed="rId1"/>
          <a:stretch/>
        </p:blipFill>
        <p:spPr>
          <a:xfrm>
            <a:off x="3733920" y="3048120"/>
            <a:ext cx="1976400" cy="260964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Hibern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8" name="Picture 4" descr="bear-hibernate"/>
          <p:cNvPicPr/>
          <p:nvPr/>
        </p:nvPicPr>
        <p:blipFill>
          <a:blip r:embed="rId1"/>
          <a:stretch/>
        </p:blipFill>
        <p:spPr>
          <a:xfrm>
            <a:off x="3276720" y="2924280"/>
            <a:ext cx="3295440" cy="3136680"/>
          </a:xfrm>
          <a:prstGeom prst="rect">
            <a:avLst/>
          </a:prstGeom>
          <a:ln w="0">
            <a:noFill/>
          </a:ln>
        </p:spPr>
      </p:pic>
      <p:sp>
        <p:nvSpPr>
          <p:cNvPr id="399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Adapt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4" descr="deer1"/>
          <p:cNvPicPr/>
          <p:nvPr/>
        </p:nvPicPr>
        <p:blipFill>
          <a:blip r:embed="rId1"/>
          <a:stretch/>
        </p:blipFill>
        <p:spPr>
          <a:xfrm>
            <a:off x="3505320" y="3962520"/>
            <a:ext cx="2390760" cy="259056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71200" y="-76680"/>
            <a:ext cx="8163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</a:rPr>
              <a:t>Surviving Winte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4" descr="snow"/>
          <p:cNvPicPr/>
          <p:nvPr/>
        </p:nvPicPr>
        <p:blipFill>
          <a:blip r:embed="rId1"/>
          <a:stretch/>
        </p:blipFill>
        <p:spPr>
          <a:xfrm>
            <a:off x="2895480" y="3124080"/>
            <a:ext cx="3353040" cy="266724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9:00:50Z</dcterms:created>
  <dc:creator>Jefferson County Tech Center</dc:creator>
  <dc:description/>
  <dc:language>en-US</dc:language>
  <cp:lastModifiedBy>LEGION</cp:lastModifiedBy>
  <dcterms:modified xsi:type="dcterms:W3CDTF">2018-03-22T08:19:22Z</dcterms:modified>
  <cp:revision>13</cp:revision>
  <dc:subject/>
  <dc:title>Animals in the Winter  Second Grade</dc:title>
</cp:coreProperties>
</file>