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ZZZZ.wav" ContentType="audio/x-wav"/>
  <Override PartName="/ppt/media/image9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DDBA-1B15-4311-8429-D6D2B9132CD0}" type="slidenum">
              <a:rPr b="0" lang="uk-UA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imals in the Wint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are the three ways an animal will survive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do animals do during the wint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rviving Win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349-FDFF-45D1-9CA3-9EF5B5AE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1776-7C7E-4A4F-9F35-C9057CF3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FBC3-7625-4026-B34A-00C1EA53C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9021-6CC3-4AC2-8601-DFA3D418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9C1F-FDB2-4D88-AED1-D0BA5300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46F4-0FEA-4B57-A2B5-1316A743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4950-13DB-42FE-BE8A-D8CF3BC6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2677-EFF7-406C-86B4-389D08B8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00D3-5AD7-4718-AE6A-40D583D7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A5AF-004C-42E5-A5EF-BB96FE45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AC76-ACB4-4149-8FAA-2D8CBBFE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22DB-DB37-4692-A298-4B8A5F68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CAB5-B4B1-4B9F-AE40-3783D56C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03FB-E12C-4935-971E-C274EB63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B50F-E670-4E3F-AA9B-A27465D3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EFC0-4387-4D98-832E-8C3D51B8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262F-C18F-4240-A4E6-3B6671D3B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D3280E-A30F-4D76-A43C-CE171550D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33EC0A-2C5A-4BB2-95BA-506A1169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A2718-1713-4BA9-8E3D-1DF8F51D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AF698-7C16-4D36-84FD-C47CEA5D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041FD-15C7-4820-B7D7-880E63C9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F99-AE0F-475A-B447-905C459F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9FCC7-0575-4AC4-8AF3-E5996F7A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1D567-5538-489F-A159-83C28CA7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BB9132-546D-4094-A461-1425662A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69349-54D5-48DE-9388-CA202EEF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688D09-8EA0-44AA-BED4-05F398E6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4C7E0-4490-44E0-87F8-6D692BAB2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9CC473-C323-444C-A83F-FB116E34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26F052-6951-48A6-BF0B-A444F6143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79B67-CED3-4C5B-ABE6-3FA7EC50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5AD7C3-B54C-48BA-9643-35C0CF26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6A03-AEE2-411D-B85C-81E4D28C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705BAF-6415-4686-B30C-78901439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76206-B161-4394-8B03-4F2493CE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8DC8E8-E6E9-4C28-8FDC-FF5EDE48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939CDD-14DF-4407-A383-E699F0F3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0E771E-D4E8-4BD1-A39A-77F21044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B6A5D1-C07A-4E8A-8FEE-3F1FC8A1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252D2-B18C-40C1-8293-93476673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6FA769-9746-4B07-9A80-6959BBD2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E5DE0E-13B4-4F90-A028-CE5828BED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5EFED6-7D09-449E-B5FD-9F0C07EC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CF1-490F-4F22-A8CF-9529A50D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40AD2C-2810-4C9C-B3E3-9F59C530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3170D-EC9B-4BBD-A587-46AD5B71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AE5914-9EA0-49C8-9198-90C82EEE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37617-2192-4176-A83B-6F16220B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8D9DA-9FEC-43DA-AB7F-88C85162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302F91-5965-40BE-88AB-F8E5FE09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65317-9C9F-49C3-87A4-14C68890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F0F541-515C-4193-824B-423D9D8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19769F-3BBD-41CA-8936-07241C86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561B40-67AC-4C53-8F40-2D164F35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43A8-905E-4C5B-BADE-E74627F5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1C275-F376-4E3E-AC24-9CCE9B31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97E96-2F99-4243-A8AA-410A223F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47E93-E82E-443D-AF15-82D6D0CE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F8C0F-F43A-4ADF-B642-9EA0EBE1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F765C-3B84-4CA9-959A-0BE41CB1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33E21-A6BE-42C9-8923-2BBFC977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E43E0-8C90-42F1-959E-6602309BE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9EBB0-65B8-46F1-AE60-11557486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0CD8B-AB87-45FD-9910-EC8881BB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25EE8-12E7-4D54-BFFB-8ED7677F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1832-9207-48B3-B550-46076768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6BD3D-C607-45ED-AAB9-EF024B02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D4E47-5EC3-4582-BA7D-78345E77E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9C3DD-7099-4AD8-9DA7-EF0426F65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E4F044-1B24-45DC-987C-4C65F9E33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3C8B8-DDB8-4C0B-AC81-34F8C9E9F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17D648-0C46-4C81-8577-18581C32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8A638-AEA7-412B-9104-298DD640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08CDF1-2C97-46B8-8AC0-819809F1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F16781-18DC-4314-BA5A-B7C70DC9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5F29D4-CB57-4A9E-9030-79AD945F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438-399A-41FE-9656-3E6D5AAB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920CF-E6C3-4347-B1BD-4F17F6FB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D6E527-D78C-4F7D-A4D5-E1835377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E6D3C-8113-469B-AB29-30897563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F56E2-D103-4FE8-890E-D14DD84C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A1406C-CB9D-482D-9572-187740DB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4DD20-8D32-4FAE-AFC1-ECFECBB9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F40F5-3D6C-47E5-B4E8-B3814144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F92BE-FEEE-4EDE-985F-E1EF1D4C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3CB63-557D-4600-8B3A-3A8F2BC38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D34D4-F866-4999-9946-44C9B80E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5BDF-C339-41A3-9CEB-1ABAB1A8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B22C3-33BF-4B8E-B257-6BCF4934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E1177-E25B-473B-8B3D-B3C29D40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E0E5A-47A4-4049-9343-699E6C3C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1DBB3-CE75-400F-A972-A608EC3A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4325E-2BE3-49F6-B88B-BCCBD637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697C5-9A46-4895-A75A-89D487A49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DC1C8-5354-4570-B866-AA6B82DD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F660-EA18-4523-B98C-FBA76F4380B1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Прямоугольник 15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dc3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0095-3362-4580-A338-EF0BFA95AE44}" type="slidenum">
              <a:rPr b="1" lang="en-US" sz="1400" spc="-1" strike="noStrike">
                <a:solidFill>
                  <a:srgbClr val="ebddc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2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Прямоугольник 14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Прямоугольник 15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BD4D-05D0-4F43-97B8-BA40746A9D6E}" type="slidenum">
              <a:rPr b="1" lang="en-US" sz="2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9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4E37-F13A-483C-8F8B-6F411621DBCE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69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87" name="Minus 71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19080">
            <a:solidFill>
              <a:srgbClr val="6b85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FF48-A94B-47AC-88A6-37EDB0BC3088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632C-5CAC-46C5-8427-9CC074226270}" type="slidenum">
              <a:rPr b="1" lang="en-US" sz="1400" spc="-1" strike="noStrike">
                <a:solidFill>
                  <a:srgbClr val="775f55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12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Прямоугольник 14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Прямоугольник 16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D9FE-73C7-4765-81F9-0F5613D4916B}" type="slidenum">
              <a:rPr b="1" lang="en-US" sz="28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Прямоугольник 12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Прямоугольник 14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Прямоугольник 15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B92D-2C51-41B8-ADFB-DD800B58699C}" type="slidenum">
              <a:rPr b="1" lang="en-US" sz="14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ZZZZ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Animals in the Winter</a:t>
            </a:r>
            <a:r>
              <a:rPr b="1" lang="en-US" sz="6000" spc="-1" strike="noStrike">
                <a:solidFill>
                  <a:srgbClr val="775f55"/>
                </a:solidFill>
                <a:latin typeface="Comic Sans MS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Picture 4" descr="bear-hibernate"/>
          <p:cNvPicPr/>
          <p:nvPr/>
        </p:nvPicPr>
        <p:blipFill>
          <a:blip r:embed="rId1"/>
          <a:stretch/>
        </p:blipFill>
        <p:spPr>
          <a:xfrm>
            <a:off x="2438280" y="2209680"/>
            <a:ext cx="4133880" cy="3934080"/>
          </a:xfrm>
          <a:prstGeom prst="rect">
            <a:avLst/>
          </a:prstGeom>
          <a:ln w="0">
            <a:noFill/>
          </a:ln>
        </p:spPr>
      </p:pic>
      <p:sp>
        <p:nvSpPr>
          <p:cNvPr id="368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zoom dir="out"/>
    <p:sndAc>
      <p:stSnd>
        <p:snd r:embed="rId2" name="ZZZZ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57040"/>
            <a:ext cx="903456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9" name="Picture 4" descr="think-boy1"/>
          <p:cNvPicPr/>
          <p:nvPr/>
        </p:nvPicPr>
        <p:blipFill>
          <a:blip r:embed="rId1"/>
          <a:stretch/>
        </p:blipFill>
        <p:spPr>
          <a:xfrm>
            <a:off x="3733920" y="2895480"/>
            <a:ext cx="2651040" cy="2762280"/>
          </a:xfrm>
          <a:prstGeom prst="rect">
            <a:avLst/>
          </a:prstGeom>
          <a:ln w="0">
            <a:noFill/>
          </a:ln>
        </p:spPr>
      </p:pic>
      <p:sp>
        <p:nvSpPr>
          <p:cNvPr id="410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71200" y="304560"/>
            <a:ext cx="816300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Comic Sans MS"/>
              </a:rPr>
              <a:t>What are the three ways an animal will survive during the winter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gr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bern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4" descr="think-boy1"/>
          <p:cNvPicPr/>
          <p:nvPr/>
        </p:nvPicPr>
        <p:blipFill>
          <a:blip r:embed="rId1"/>
          <a:stretch/>
        </p:blipFill>
        <p:spPr>
          <a:xfrm>
            <a:off x="5410080" y="2362320"/>
            <a:ext cx="2651400" cy="2762280"/>
          </a:xfrm>
          <a:prstGeom prst="rect">
            <a:avLst/>
          </a:prstGeom>
          <a:ln w="0">
            <a:noFill/>
          </a:ln>
        </p:spPr>
      </p:pic>
      <p:sp>
        <p:nvSpPr>
          <p:cNvPr id="414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0320" y="-6876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0" name="Picture 4" descr="thinking"/>
          <p:cNvPicPr/>
          <p:nvPr/>
        </p:nvPicPr>
        <p:blipFill>
          <a:blip r:embed="rId1"/>
          <a:stretch/>
        </p:blipFill>
        <p:spPr>
          <a:xfrm>
            <a:off x="2971800" y="2057400"/>
            <a:ext cx="2260440" cy="3902040"/>
          </a:xfrm>
          <a:prstGeom prst="rect">
            <a:avLst/>
          </a:prstGeom>
          <a:ln w="0">
            <a:noFill/>
          </a:ln>
        </p:spPr>
      </p:pic>
      <p:sp>
        <p:nvSpPr>
          <p:cNvPr id="371" name="Нижний колонтитул 3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4" name="Picture 4" descr="bird-aviator"/>
          <p:cNvPicPr/>
          <p:nvPr/>
        </p:nvPicPr>
        <p:blipFill>
          <a:blip r:embed="rId1"/>
          <a:stretch/>
        </p:blipFill>
        <p:spPr>
          <a:xfrm>
            <a:off x="3505320" y="2971800"/>
            <a:ext cx="2879640" cy="2892600"/>
          </a:xfrm>
          <a:prstGeom prst="rect">
            <a:avLst/>
          </a:prstGeom>
          <a:ln w="0">
            <a:noFill/>
          </a:ln>
        </p:spPr>
      </p:pic>
      <p:sp>
        <p:nvSpPr>
          <p:cNvPr id="37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0320" y="39240"/>
            <a:ext cx="903420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8" name="Picture 4" descr="bird-aviator"/>
          <p:cNvPicPr/>
          <p:nvPr/>
        </p:nvPicPr>
        <p:blipFill>
          <a:blip r:embed="rId1"/>
          <a:stretch/>
        </p:blipFill>
        <p:spPr>
          <a:xfrm>
            <a:off x="3276720" y="1905120"/>
            <a:ext cx="2125440" cy="182880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8"/>
          <p:cNvSpPr/>
          <p:nvPr/>
        </p:nvSpPr>
        <p:spPr>
          <a:xfrm>
            <a:off x="1363680" y="265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0" name="Group 15"/>
          <p:cNvGrpSpPr/>
          <p:nvPr/>
        </p:nvGrpSpPr>
        <p:grpSpPr>
          <a:xfrm>
            <a:off x="3811680" y="2400480"/>
            <a:ext cx="9144000" cy="360"/>
            <a:chOff x="3811680" y="2400480"/>
            <a:chExt cx="9144000" cy="360"/>
          </a:xfrm>
        </p:grpSpPr>
        <p:sp>
          <p:nvSpPr>
            <p:cNvPr id="381" name="Rectangle 14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>
              <a:off x="3811680" y="2400480"/>
              <a:ext cx="9144000" cy="360"/>
            </a:xfrm>
            <a:prstGeom prst="rect">
              <a:avLst/>
            </a:prstGeom>
            <a:solidFill>
              <a:srgbClr val="ed8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383" name="Picture 12" descr=" Bears - Pictures "/>
          <p:cNvPicPr/>
          <p:nvPr/>
        </p:nvPicPr>
        <p:blipFill>
          <a:blip r:embed="rId2"/>
          <a:stretch/>
        </p:blipFill>
        <p:spPr>
          <a:xfrm>
            <a:off x="3505320" y="3657600"/>
            <a:ext cx="1520640" cy="205740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13"/>
          <p:cNvSpPr/>
          <p:nvPr/>
        </p:nvSpPr>
        <p:spPr>
          <a:xfrm>
            <a:off x="3811680" y="2400480"/>
            <a:ext cx="2514600" cy="360"/>
          </a:xfrm>
          <a:prstGeom prst="rect">
            <a:avLst/>
          </a:prstGeom>
          <a:solidFill>
            <a:srgbClr val="ed8b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Нижний колонтитул 10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4360" y="39240"/>
            <a:ext cx="9034560" cy="8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75f55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775f55"/>
                </a:solidFill>
                <a:latin typeface="Comic Sans MS"/>
              </a:rPr>
              <a:t> do animals do during the winter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Migr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Hibernat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dap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Picture 4" descr="bird-aviator"/>
          <p:cNvPicPr/>
          <p:nvPr/>
        </p:nvPicPr>
        <p:blipFill>
          <a:blip r:embed="rId1"/>
          <a:stretch/>
        </p:blipFill>
        <p:spPr>
          <a:xfrm>
            <a:off x="3352680" y="21337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 Bears - Pictures "/>
          <p:cNvPicPr/>
          <p:nvPr/>
        </p:nvPicPr>
        <p:blipFill>
          <a:blip r:embed="rId2"/>
          <a:stretch/>
        </p:blipFill>
        <p:spPr>
          <a:xfrm>
            <a:off x="3429000" y="3809880"/>
            <a:ext cx="1139760" cy="16002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squirrel-nuts"/>
          <p:cNvPicPr/>
          <p:nvPr/>
        </p:nvPicPr>
        <p:blipFill>
          <a:blip r:embed="rId3"/>
          <a:stretch/>
        </p:blipFill>
        <p:spPr>
          <a:xfrm>
            <a:off x="4876920" y="5105520"/>
            <a:ext cx="1530360" cy="1322280"/>
          </a:xfrm>
          <a:prstGeom prst="rect">
            <a:avLst/>
          </a:prstGeom>
          <a:ln w="0">
            <a:noFill/>
          </a:ln>
        </p:spPr>
      </p:pic>
      <p:sp>
        <p:nvSpPr>
          <p:cNvPr id="391" name="Нижний колонтитул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71200" y="-168480"/>
            <a:ext cx="8163000" cy="100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Migr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birds will fly to warmer places for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4" name="Picture 4" descr="bird-anim"/>
          <p:cNvPicPr/>
          <p:nvPr/>
        </p:nvPicPr>
        <p:blipFill>
          <a:blip r:embed="rId1"/>
          <a:stretch/>
        </p:blipFill>
        <p:spPr>
          <a:xfrm>
            <a:off x="3733920" y="3048120"/>
            <a:ext cx="1976400" cy="2609640"/>
          </a:xfrm>
          <a:prstGeom prst="rect">
            <a:avLst/>
          </a:prstGeom>
          <a:ln w="0">
            <a:noFill/>
          </a:ln>
        </p:spPr>
      </p:pic>
      <p:sp>
        <p:nvSpPr>
          <p:cNvPr id="395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Hibernate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hide and sleep during the winter month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Picture 4" descr="bear-hibernate"/>
          <p:cNvPicPr/>
          <p:nvPr/>
        </p:nvPicPr>
        <p:blipFill>
          <a:blip r:embed="rId1"/>
          <a:stretch/>
        </p:blipFill>
        <p:spPr>
          <a:xfrm>
            <a:off x="3276720" y="2924280"/>
            <a:ext cx="3295440" cy="3136680"/>
          </a:xfrm>
          <a:prstGeom prst="rect">
            <a:avLst/>
          </a:prstGeom>
          <a:ln w="0">
            <a:noFill/>
          </a:ln>
        </p:spPr>
      </p:pic>
      <p:sp>
        <p:nvSpPr>
          <p:cNvPr id="399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71200" y="-76320"/>
            <a:ext cx="816300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775f55"/>
                </a:solidFill>
                <a:latin typeface="Comic Sans MS"/>
              </a:rPr>
              <a:t>Adapt</a:t>
            </a:r>
            <a:endParaRPr b="0" lang="en-US" sz="6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Some animals will adapt to their surroundings by growing a thicker coat or use camouflage by changing their color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2" name="Picture 4" descr="deer1"/>
          <p:cNvPicPr/>
          <p:nvPr/>
        </p:nvPicPr>
        <p:blipFill>
          <a:blip r:embed="rId1"/>
          <a:stretch/>
        </p:blipFill>
        <p:spPr>
          <a:xfrm>
            <a:off x="3505320" y="3962520"/>
            <a:ext cx="2390760" cy="2590560"/>
          </a:xfrm>
          <a:prstGeom prst="rect">
            <a:avLst/>
          </a:prstGeom>
          <a:ln w="0">
            <a:noFill/>
          </a:ln>
        </p:spPr>
      </p:pic>
      <p:sp>
        <p:nvSpPr>
          <p:cNvPr id="403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71200" y="-76680"/>
            <a:ext cx="816300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75f55"/>
                </a:solidFill>
                <a:latin typeface="Comic Sans MS"/>
              </a:rPr>
              <a:t>Surviving Winter</a:t>
            </a:r>
            <a:endParaRPr b="0" lang="en-US" sz="5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All animals have a way to survive the winter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6" name="Picture 4" descr="snow"/>
          <p:cNvPicPr/>
          <p:nvPr/>
        </p:nvPicPr>
        <p:blipFill>
          <a:blip r:embed="rId1"/>
          <a:stretch/>
        </p:blipFill>
        <p:spPr>
          <a:xfrm>
            <a:off x="2895480" y="3124080"/>
            <a:ext cx="3353040" cy="2667240"/>
          </a:xfrm>
          <a:prstGeom prst="rect">
            <a:avLst/>
          </a:prstGeom>
          <a:ln w="0">
            <a:noFill/>
          </a:ln>
        </p:spPr>
      </p:pic>
      <p:sp>
        <p:nvSpPr>
          <p:cNvPr id="407" name="Нижний колонтитул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9:00:50Z</dcterms:created>
  <dc:creator>Jefferson County Tech Center</dc:creator>
  <dc:description/>
  <dc:language>en-US</dc:language>
  <cp:lastModifiedBy>LEGION</cp:lastModifiedBy>
  <dcterms:modified xsi:type="dcterms:W3CDTF">2018-03-22T08:19:22Z</dcterms:modified>
  <cp:revision>13</cp:revision>
  <dc:subject/>
  <dc:title>Animals in the Winter  Second Grade</dc:title>
</cp:coreProperties>
</file>