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ZZZZ.wav" ContentType="audio/x-wav"/>
  <Override PartName="/ppt/media/image9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A525-8B6A-4DBB-977C-2456A480420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0C0-42D0-4CD7-9426-754A5709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086-BBEF-4351-A329-11022646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573-4AD2-4730-8560-3FE1428A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292-E354-4533-BF70-0274EDFE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E04C-65CF-488A-9B1D-B0612A19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B2E6-BB7D-4E0A-A5B9-47628F57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0862-D9AE-41E5-8025-9E384874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AA30-1852-4B36-9D15-C68FED69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2F7C-6404-4239-B31D-93B6FA44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13DF-9325-42B2-A407-8F8E642C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20F0-84B9-43CD-959B-E3A8F5C0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E8F-E81E-49DC-8B9E-619BE5A1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3A0E-D422-4603-AA57-2E49E46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B4CE-107A-4594-83CF-3C981AE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A17B-3C4F-4BEA-84CC-C1496D82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C2DE-C814-4A1C-9E6C-F4D1E7AF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F780-4635-41A6-9470-699470AE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48CA1-2044-43FB-987F-DC53EED6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91687-F1B7-4AC9-B1F3-E4E38B6C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7E7C3-8134-467C-BD45-945FF953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4942F-D1B3-4514-8008-E5192695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DE5AD-34C1-41E8-9DF2-70756826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2E3-4461-497A-BBDE-9A31CD91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8EB6D-CA4F-4578-A738-326ABBF8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B728F-2E04-4F69-A7AD-8F1F483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03C93-5A0B-4BF7-A7B8-356BE08D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95453-EAA7-44E6-9684-12EB5F05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4B9A8-1714-4FE3-BBCE-9621E122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58F08-CE11-49B1-9504-69EBABA4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808FE-7458-447F-889B-E937BAB8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088BB-B25B-411D-B3EC-6F7FE97B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72E2B8-9FCA-463D-9B5B-2EBC9B4A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93A87-2F52-41E6-A8A6-38BF4767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3F8-0EDF-4FF9-BEDE-EDB07BAF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F51F7-2843-4CAE-BF07-DD08F2EE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FE5E2-C7F4-4BB5-BA54-9C313FC7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20E1B-BFCF-424B-A1D4-FB0F7D42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B43AD-7D3F-4ED3-96E4-9CDD2164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855C0-E5CB-45C0-9695-68F14D3F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C67C0-8DFB-406F-B44C-57D702F7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EEFFA-991A-4397-A9DB-479B13BF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118BC-C127-4890-873A-641A23C8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C9544-24E1-4845-B0C0-F323EF55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0C7A4-651A-4C27-9770-E9A1DC48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B4E-E4E9-4886-954D-E6620AD1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28EE6-486A-4CA3-89E9-64EFDC8D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FBDEA-2A5F-4A66-A977-49908013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0602F-6507-4E98-A3B2-DAA81AF1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1331E-BB17-4B4B-BAA2-DE448FA9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87798-D04C-4A31-96EC-568926E8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604F3-6C70-4387-9B15-19F870AC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50F9C-3408-4DE9-B183-288FDBEB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5FA0B-7925-4683-ADDF-50D04E57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6FCC3-22F9-4D14-AA8E-80B9A61D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CBD52-CBFF-4D63-ABC9-6473E2CF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9B1-62E9-4B24-AB14-E41107F1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C3A07-267D-47B5-B88B-61F3A445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B5634-8DD6-4E59-A81B-436D8F26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9310-3B9D-4D8D-BD2C-41AACD41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597A5-804B-48B2-A67D-C0A85ACB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118C0-4C19-4C35-9430-9B840025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21CC-1FDE-4B1F-9DF3-D94B0592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EF30B-9CB8-4944-BB26-45DA394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B7300-1B44-4E94-BC33-B15AD07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7E131-52D3-4799-AF57-29E4571F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31B4C-094D-4561-B59C-02601AB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BC7-272F-43B9-9147-DBBC2E6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55E5-22EB-4B6D-9E5F-CD29C33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3370E-EFD2-4B1D-A726-72BC690A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A4E27-9514-467A-877F-AB66FB23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FDD4C-05F9-494E-892B-FCEFCAE3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0256E-AB66-445E-8FE0-D6F4D14A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DB579-3781-4BC5-813F-FF44F96F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23CDE-5C85-45FA-B2FB-1C72D348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DD7A4-94A2-4BA9-90FF-CCBAB5BA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A1FE3-90B8-4BB3-A53D-2EC8598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61B8F-8D59-4110-9025-EDAB4ED5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C80-143A-452D-8C67-DC028CDC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44564-4748-465C-9CC1-DD77779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C1A06-3217-46A4-B38F-29A9E5A4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1A9E6-1369-4BFA-80EC-322F2C43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8422E-B119-49D7-8942-BC1B26F7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8173D-BB96-4816-9CBF-BB0446DF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A9573-497C-4A0B-ABF2-E48CE7E4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A0F2B-A6FA-4EE4-B9DB-D36927E4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6B07E-571F-40E7-B631-18B31C4F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BDE24-3CC1-4C5D-9E4E-FF3A4A6C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F5E08-F3E6-4A67-A416-AAB89231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DCB-532A-4C65-9BE8-BB1EAF22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B1C8D-88F5-4001-A4D3-6511F60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4DA7C-E497-4B71-9ECF-025F2D49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3553D-25F9-41E1-89E8-4D8B412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0B8F-F4A6-46D9-A467-7A211D7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F7AC7-47C8-4B55-A89A-25DB735D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6C58D-A51A-4AD4-BFEC-E710731F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DFB01-D237-4E37-86F6-63D8D98A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B400-44F8-4711-A462-C79BA3BE70F7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EA6D-F489-4204-A053-779E44837F84}" type="slidenum">
              <a:rPr b="1" lang="en-US" sz="1400" spc="-1" strike="noStrike">
                <a:solidFill>
                  <a:srgbClr val="ebddc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E780-F67E-42DC-9563-9C29237D7F52}" type="slidenum">
              <a:rPr b="1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1708-00CC-4E72-BDE1-1C653F292737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C1DD-BB7E-4C59-B9F1-576FC64A99F6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0617-E6EC-4848-A9A4-171C2BAAC0C2}" type="slidenum">
              <a:rPr b="1" lang="en-US" sz="1400" spc="-1" strike="noStrike">
                <a:solidFill>
                  <a:srgbClr val="775f55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оугольник 16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7B30-0050-4406-8827-E1FE645F4A62}" type="slidenum">
              <a:rPr b="1" lang="en-US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A9D0-4804-4A3C-B941-D12E548C96F8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Animals in the Winter</a:t>
            </a:r>
            <a:r>
              <a:rPr b="1" lang="en-US" sz="6000" spc="-1" strike="noStrike">
                <a:solidFill>
                  <a:srgbClr val="775f55"/>
                </a:solidFill>
                <a:latin typeface="Comic Sans MS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4" descr="bear-hibernate"/>
          <p:cNvPicPr/>
          <p:nvPr/>
        </p:nvPicPr>
        <p:blipFill>
          <a:blip r:embed="rId1"/>
          <a:stretch/>
        </p:blipFill>
        <p:spPr>
          <a:xfrm>
            <a:off x="2438280" y="2209680"/>
            <a:ext cx="4133880" cy="3934080"/>
          </a:xfrm>
          <a:prstGeom prst="rect">
            <a:avLst/>
          </a:prstGeom>
          <a:ln w="0">
            <a:noFill/>
          </a:ln>
        </p:spPr>
      </p:pic>
      <p:sp>
        <p:nvSpPr>
          <p:cNvPr id="368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  <p:sndAc>
      <p:stSnd>
        <p:snd r:embed="rId2" name="ZZZZ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03456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4" descr="think-boy1"/>
          <p:cNvPicPr/>
          <p:nvPr/>
        </p:nvPicPr>
        <p:blipFill>
          <a:blip r:embed="rId1"/>
          <a:stretch/>
        </p:blipFill>
        <p:spPr>
          <a:xfrm>
            <a:off x="3733920" y="2895480"/>
            <a:ext cx="2651040" cy="27622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3045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think-boy1"/>
          <p:cNvPicPr/>
          <p:nvPr/>
        </p:nvPicPr>
        <p:blipFill>
          <a:blip r:embed="rId1"/>
          <a:stretch/>
        </p:blipFill>
        <p:spPr>
          <a:xfrm>
            <a:off x="5410080" y="2362320"/>
            <a:ext cx="2651400" cy="276228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0320" y="-6876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4" descr="thinking"/>
          <p:cNvPicPr/>
          <p:nvPr/>
        </p:nvPicPr>
        <p:blipFill>
          <a:blip r:embed="rId1"/>
          <a:stretch/>
        </p:blipFill>
        <p:spPr>
          <a:xfrm>
            <a:off x="2971800" y="2057400"/>
            <a:ext cx="2260440" cy="390204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bird-aviator"/>
          <p:cNvPicPr/>
          <p:nvPr/>
        </p:nvPicPr>
        <p:blipFill>
          <a:blip r:embed="rId1"/>
          <a:stretch/>
        </p:blipFill>
        <p:spPr>
          <a:xfrm>
            <a:off x="3505320" y="2971800"/>
            <a:ext cx="2879640" cy="28926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0320" y="3924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4" descr="bird-aviator"/>
          <p:cNvPicPr/>
          <p:nvPr/>
        </p:nvPicPr>
        <p:blipFill>
          <a:blip r:embed="rId1"/>
          <a:stretch/>
        </p:blipFill>
        <p:spPr>
          <a:xfrm>
            <a:off x="3276720" y="1905120"/>
            <a:ext cx="2125440" cy="1828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136368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5"/>
          <p:cNvGrpSpPr/>
          <p:nvPr/>
        </p:nvGrpSpPr>
        <p:grpSpPr>
          <a:xfrm>
            <a:off x="3811680" y="2400480"/>
            <a:ext cx="9144000" cy="360"/>
            <a:chOff x="3811680" y="2400480"/>
            <a:chExt cx="9144000" cy="360"/>
          </a:xfrm>
        </p:grpSpPr>
        <p:sp>
          <p:nvSpPr>
            <p:cNvPr id="381" name="Rectangle 14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83" name="Picture 12" descr=" Bears - Pictures "/>
          <p:cNvPicPr/>
          <p:nvPr/>
        </p:nvPicPr>
        <p:blipFill>
          <a:blip r:embed="rId2"/>
          <a:stretch/>
        </p:blipFill>
        <p:spPr>
          <a:xfrm>
            <a:off x="3505320" y="3657600"/>
            <a:ext cx="1520640" cy="20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3"/>
          <p:cNvSpPr/>
          <p:nvPr/>
        </p:nvSpPr>
        <p:spPr>
          <a:xfrm>
            <a:off x="3811680" y="2400480"/>
            <a:ext cx="2514600" cy="360"/>
          </a:xfrm>
          <a:prstGeom prst="rect">
            <a:avLst/>
          </a:prstGeom>
          <a:solidFill>
            <a:srgbClr val="ed8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Нижний колонтитул 10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4" descr="bird-aviator"/>
          <p:cNvPicPr/>
          <p:nvPr/>
        </p:nvPicPr>
        <p:blipFill>
          <a:blip r:embed="rId1"/>
          <a:stretch/>
        </p:blipFill>
        <p:spPr>
          <a:xfrm>
            <a:off x="3352680" y="2133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 Bears - Pictures "/>
          <p:cNvPicPr/>
          <p:nvPr/>
        </p:nvPicPr>
        <p:blipFill>
          <a:blip r:embed="rId2"/>
          <a:stretch/>
        </p:blipFill>
        <p:spPr>
          <a:xfrm>
            <a:off x="3429000" y="380988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squirrel-nuts"/>
          <p:cNvPicPr/>
          <p:nvPr/>
        </p:nvPicPr>
        <p:blipFill>
          <a:blip r:embed="rId3"/>
          <a:stretch/>
        </p:blipFill>
        <p:spPr>
          <a:xfrm>
            <a:off x="4876920" y="5105520"/>
            <a:ext cx="1530360" cy="13222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-16848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Mig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bird-anim"/>
          <p:cNvPicPr/>
          <p:nvPr/>
        </p:nvPicPr>
        <p:blipFill>
          <a:blip r:embed="rId1"/>
          <a:stretch/>
        </p:blipFill>
        <p:spPr>
          <a:xfrm>
            <a:off x="3733920" y="3048120"/>
            <a:ext cx="1976400" cy="26096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Hibern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Picture 4" descr="bear-hibernate"/>
          <p:cNvPicPr/>
          <p:nvPr/>
        </p:nvPicPr>
        <p:blipFill>
          <a:blip r:embed="rId1"/>
          <a:stretch/>
        </p:blipFill>
        <p:spPr>
          <a:xfrm>
            <a:off x="3276720" y="2924280"/>
            <a:ext cx="3295440" cy="3136680"/>
          </a:xfrm>
          <a:prstGeom prst="rect">
            <a:avLst/>
          </a:prstGeom>
          <a:ln w="0">
            <a:noFill/>
          </a:ln>
        </p:spPr>
      </p:pic>
      <p:sp>
        <p:nvSpPr>
          <p:cNvPr id="399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Adap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deer1"/>
          <p:cNvPicPr/>
          <p:nvPr/>
        </p:nvPicPr>
        <p:blipFill>
          <a:blip r:embed="rId1"/>
          <a:stretch/>
        </p:blipFill>
        <p:spPr>
          <a:xfrm>
            <a:off x="3505320" y="3962520"/>
            <a:ext cx="239076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71200" y="-76680"/>
            <a:ext cx="8163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</a:rPr>
              <a:t>Surviving Winte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4" descr="snow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50Z</dcterms:created>
  <dc:creator>Jefferson County Tech Center</dc:creator>
  <dc:description/>
  <dc:language>en-US</dc:language>
  <cp:lastModifiedBy>LEGION</cp:lastModifiedBy>
  <dcterms:modified xsi:type="dcterms:W3CDTF">2018-03-22T08:19:22Z</dcterms:modified>
  <cp:revision>13</cp:revision>
  <dc:subject/>
  <dc:title>Animals in the Winter  Second Grade</dc:title>
</cp:coreProperties>
</file>