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04E1-E67E-4270-8296-5C33001E6F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gure 15.3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inous 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b) Superior view of the right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xis at cen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f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inous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Superior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is a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3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) Summary of muscle actions and innervating cranial ner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VI (abduce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V (trochlea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ranial ner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) Summary of muscle actions and innervating cranial n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 (abduc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V (trochl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anial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1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over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ite w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rges w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crim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arun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a) Surface anatomy of the right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v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te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rge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un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Surface anatomy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igure 15.8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Bulba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inu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-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junc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ndo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ormed by filtratio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rom the capillaries i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the ciliary processe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flows from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 chamber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upil into the anterior chamber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ome also flows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 humor (not shown)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reabsorbed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nto the venous blood by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 sinu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ndo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ed by fil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the capillar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ilia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chamber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 into the anterior cha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lso flows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 humor (not sh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reabsorb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o the venous blood b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 si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1240"/>
          </a:xfrm>
          <a:prstGeom prst="rect">
            <a:avLst/>
          </a:prstGeom>
          <a:solidFill>
            <a:srgbClr val="458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ce Mee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Royal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Eye and Vision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of all sensory receptors are in the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Nearly half of the cerebral cortex is involved in processing visual inform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the eye is protected by a cushion of fat and the bony orb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5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8" descr="figure_15_02-jLE"/>
          <p:cNvPicPr/>
          <p:nvPr/>
        </p:nvPicPr>
        <p:blipFill>
          <a:blip r:embed="rId1"/>
          <a:stretch/>
        </p:blipFill>
        <p:spPr>
          <a:xfrm>
            <a:off x="463680" y="6714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39"/>
          <p:cNvSpPr/>
          <p:nvPr/>
        </p:nvSpPr>
        <p:spPr>
          <a:xfrm>
            <a:off x="3029040" y="1447920"/>
            <a:ext cx="3740040" cy="920520"/>
          </a:xfrm>
          <a:custGeom>
            <a:avLst/>
            <a:gdLst>
              <a:gd name="textAreaLeft" fmla="*/ 0 w 3740040"/>
              <a:gd name="textAreaRight" fmla="*/ 3740400 w 37400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356" h="580">
                <a:moveTo>
                  <a:pt x="0" y="0"/>
                </a:moveTo>
                <a:lnTo>
                  <a:pt x="2254" y="0"/>
                </a:lnTo>
                <a:lnTo>
                  <a:pt x="2356" y="5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>
            <a:off x="3292560" y="1860480"/>
            <a:ext cx="6825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1"/>
          <p:cNvSpPr/>
          <p:nvPr/>
        </p:nvSpPr>
        <p:spPr>
          <a:xfrm>
            <a:off x="3394080" y="2108160"/>
            <a:ext cx="1162080" cy="117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2" h="74">
                <a:moveTo>
                  <a:pt x="732" y="0"/>
                </a:moveTo>
                <a:lnTo>
                  <a:pt x="498" y="74"/>
                </a:lnTo>
                <a:lnTo>
                  <a:pt x="0" y="7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 flipH="1" flipV="1">
            <a:off x="4184280" y="2225520"/>
            <a:ext cx="152280" cy="10800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3"/>
          <p:cNvSpPr/>
          <p:nvPr/>
        </p:nvSpPr>
        <p:spPr>
          <a:xfrm>
            <a:off x="3673440" y="2749680"/>
            <a:ext cx="2460600" cy="2854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550" h="180">
                <a:moveTo>
                  <a:pt x="0" y="180"/>
                </a:moveTo>
                <a:lnTo>
                  <a:pt x="1416" y="180"/>
                </a:lnTo>
                <a:lnTo>
                  <a:pt x="155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4"/>
          <p:cNvSpPr/>
          <p:nvPr/>
        </p:nvSpPr>
        <p:spPr>
          <a:xfrm>
            <a:off x="3981600" y="2828880"/>
            <a:ext cx="2431800" cy="552600"/>
          </a:xfrm>
          <a:custGeom>
            <a:avLst/>
            <a:gdLst>
              <a:gd name="textAreaLeft" fmla="*/ 0 w 2431800"/>
              <a:gd name="textAreaRight" fmla="*/ 2432160 w 24318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532" h="348">
                <a:moveTo>
                  <a:pt x="0" y="348"/>
                </a:moveTo>
                <a:lnTo>
                  <a:pt x="1312" y="348"/>
                </a:lnTo>
                <a:lnTo>
                  <a:pt x="15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3673440" y="4114800"/>
            <a:ext cx="294660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3298680" y="4651200"/>
            <a:ext cx="354672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2276640" y="5245200"/>
            <a:ext cx="473076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1420560" y="169560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419480" y="2082960"/>
            <a:ext cx="2161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Excretory du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lacrimal g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1420200" y="286056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pun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1419480" y="321300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canal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1419120" y="39495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asolacrimal 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419120" y="4492800"/>
            <a:ext cx="1838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ferior me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nasal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420560" y="5102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ost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20200" y="127944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xtrinsic Eye Muscle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 straplike extrinsic eye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from the bon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eye to follow mov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shape of the ey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 rectus muscles originate from the common tendinous ring; names indicate the movements they pro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blique muscles move the eye in the vertical plane and rotate the ey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8" descr="figure_15_03_a-jLE"/>
          <p:cNvPicPr/>
          <p:nvPr/>
        </p:nvPicPr>
        <p:blipFill>
          <a:blip r:embed="rId1"/>
          <a:stretch/>
        </p:blipFill>
        <p:spPr>
          <a:xfrm>
            <a:off x="270000" y="438120"/>
            <a:ext cx="8362800" cy="594360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29"/>
          <p:cNvSpPr/>
          <p:nvPr/>
        </p:nvSpPr>
        <p:spPr>
          <a:xfrm>
            <a:off x="3398760" y="880920"/>
            <a:ext cx="2978280" cy="132084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76" h="832">
                <a:moveTo>
                  <a:pt x="0" y="832"/>
                </a:moveTo>
                <a:lnTo>
                  <a:pt x="986" y="0"/>
                </a:lnTo>
                <a:lnTo>
                  <a:pt x="187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2878200" y="3830760"/>
            <a:ext cx="231840" cy="168588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4405320" y="1623960"/>
            <a:ext cx="1971720" cy="4539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42" h="286">
                <a:moveTo>
                  <a:pt x="0" y="286"/>
                </a:moveTo>
                <a:lnTo>
                  <a:pt x="558" y="0"/>
                </a:lnTo>
                <a:lnTo>
                  <a:pt x="1242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 flipH="1">
            <a:off x="3553920" y="2367000"/>
            <a:ext cx="2822760" cy="14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3"/>
          <p:cNvSpPr/>
          <p:nvPr/>
        </p:nvSpPr>
        <p:spPr>
          <a:xfrm>
            <a:off x="3129120" y="3281400"/>
            <a:ext cx="3247920" cy="144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46" h="1587">
                <a:moveTo>
                  <a:pt x="0" y="0"/>
                </a:moveTo>
                <a:lnTo>
                  <a:pt x="1880" y="0"/>
                </a:lnTo>
                <a:lnTo>
                  <a:pt x="204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4233960" y="41418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3386160" y="887400"/>
            <a:ext cx="2955960" cy="13208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62" h="832">
                <a:moveTo>
                  <a:pt x="0" y="832"/>
                </a:moveTo>
                <a:lnTo>
                  <a:pt x="986" y="0"/>
                </a:lnTo>
                <a:lnTo>
                  <a:pt x="186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2878200" y="3817800"/>
            <a:ext cx="231840" cy="168624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4392720" y="1630440"/>
            <a:ext cx="1949400" cy="4539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28" h="286">
                <a:moveTo>
                  <a:pt x="0" y="286"/>
                </a:moveTo>
                <a:lnTo>
                  <a:pt x="558" y="0"/>
                </a:lnTo>
                <a:lnTo>
                  <a:pt x="122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541320" y="2367000"/>
            <a:ext cx="280044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3116160" y="3281400"/>
            <a:ext cx="3225960" cy="144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2" h="1587">
                <a:moveTo>
                  <a:pt x="0" y="0"/>
                </a:moveTo>
                <a:lnTo>
                  <a:pt x="1880" y="0"/>
                </a:lnTo>
                <a:lnTo>
                  <a:pt x="20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233960" y="41292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917280" y="5351400"/>
            <a:ext cx="1878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4528080" y="5351400"/>
            <a:ext cx="2033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6382440" y="7095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82440" y="147492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5"/>
          <p:cNvSpPr/>
          <p:nvPr/>
        </p:nvSpPr>
        <p:spPr>
          <a:xfrm>
            <a:off x="6381360" y="222084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6"/>
          <p:cNvSpPr/>
          <p:nvPr/>
        </p:nvSpPr>
        <p:spPr>
          <a:xfrm>
            <a:off x="6381360" y="312264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815400" y="6002280"/>
            <a:ext cx="404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a) Lateral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5" descr="figure_15_03_b-jLE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26"/>
          <p:cNvSpPr/>
          <p:nvPr/>
        </p:nvSpPr>
        <p:spPr>
          <a:xfrm>
            <a:off x="2749680" y="1468440"/>
            <a:ext cx="1110960" cy="4698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2584440" y="2948040"/>
            <a:ext cx="2031840" cy="12708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2736720" y="1455840"/>
            <a:ext cx="1111320" cy="4698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2317680" y="966960"/>
            <a:ext cx="1584360" cy="25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2305080" y="954000"/>
            <a:ext cx="1584360" cy="2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2733840" y="19098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2720880" y="18972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2571840" y="2935440"/>
            <a:ext cx="2031840" cy="12672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207040" y="20304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5194440" y="20178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4133880" y="3440160"/>
            <a:ext cx="2590920" cy="4190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121280" y="3427560"/>
            <a:ext cx="2590560" cy="4190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4933800" y="3090960"/>
            <a:ext cx="1791000" cy="24120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4921200" y="3078000"/>
            <a:ext cx="1790640" cy="24156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981680" y="4078440"/>
            <a:ext cx="1743120" cy="54900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4968720" y="4065480"/>
            <a:ext cx="1743120" cy="54936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051440" y="5002200"/>
            <a:ext cx="2673360" cy="3747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4038480" y="4989600"/>
            <a:ext cx="2673360" cy="3744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59360" y="129708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746400" y="5189400"/>
            <a:ext cx="19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inous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1092960" y="79524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rochl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59360" y="20397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58280" y="277020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3304800" y="5961240"/>
            <a:ext cx="4278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b) Superior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6754680" y="213516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Axis at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of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6741000" y="36622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741000" y="289404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6741000" y="44308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9" descr="figure_15_03_c-jLE"/>
          <p:cNvPicPr/>
          <p:nvPr/>
        </p:nvPicPr>
        <p:blipFill>
          <a:blip r:embed="rId1"/>
          <a:stretch/>
        </p:blipFill>
        <p:spPr>
          <a:xfrm>
            <a:off x="450720" y="1860480"/>
            <a:ext cx="8242560" cy="3137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1040400" y="4695840"/>
            <a:ext cx="65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c) Summary of muscle actions and innervating cranial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566280" y="2523960"/>
            <a:ext cx="1820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edi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2759400" y="2523960"/>
            <a:ext cx="3885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6833880" y="2523960"/>
            <a:ext cx="16678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 (abduc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V (trochl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022760" y="20318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4019760" y="2031840"/>
            <a:ext cx="67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938280" y="1943280"/>
            <a:ext cx="1392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ranial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tructure of the Eyeball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 of eyeball contains three lay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cavity is filled with fluids called h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separates the internal cavity into anterior and posterior segments (ca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ermost layer; dense avascular connective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gions: sclera and cor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posteri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nd shapes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ne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anterior 1/6 of fibrou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s light as i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pumps of the corneal endothelium on the inner face help maintain the clarity of the cor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ain receptors contribute to blinking and tearing refl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 (Uvea)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pigmented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regions: choroid, ciliary body, and i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ortion of the u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blood to all layers of the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pigment absorbs light to prevent visual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Accessory Structures of the Ey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d aid ey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s (palpebr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liary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f tissue surrounding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bundles (ciliary muscles) control len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ies of ciliary processes secrete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zonule (suspensory ligament) holds len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77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ed part of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il—central opening that regulates the amount of light entering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vision and bright light—sphincter papillae (circular muscles) contract; pupils con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t vision and dim light—dilator papillae (radial muscles) contract; pupils d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otional state—pupils dilate when the subject matter is appealing or requires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9" descr="figure_15_05-jLE"/>
          <p:cNvPicPr/>
          <p:nvPr/>
        </p:nvPicPr>
        <p:blipFill>
          <a:blip r:embed="rId1"/>
          <a:stretch/>
        </p:blipFill>
        <p:spPr>
          <a:xfrm>
            <a:off x="457200" y="1149480"/>
            <a:ext cx="8229600" cy="455904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0"/>
          <p:cNvSpPr/>
          <p:nvPr/>
        </p:nvSpPr>
        <p:spPr>
          <a:xfrm>
            <a:off x="4297320" y="363204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3782880" y="395604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1703520" y="3793680"/>
            <a:ext cx="1440" cy="105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7466040" y="4270320"/>
            <a:ext cx="14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4281480" y="361620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5"/>
          <p:cNvSpPr/>
          <p:nvPr/>
        </p:nvSpPr>
        <p:spPr>
          <a:xfrm>
            <a:off x="3767040" y="394020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 flipV="1">
            <a:off x="1687680" y="3777840"/>
            <a:ext cx="1440" cy="105084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 flipV="1">
            <a:off x="7450200" y="4254480"/>
            <a:ext cx="1440" cy="57456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8"/>
          <p:cNvSpPr/>
          <p:nvPr/>
        </p:nvSpPr>
        <p:spPr>
          <a:xfrm>
            <a:off x="3396600" y="4807080"/>
            <a:ext cx="250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 Black"/>
              </a:rPr>
              <a:t>Iris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(two mus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452160" y="4851360"/>
            <a:ext cx="25459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e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6208200" y="4844880"/>
            <a:ext cx="2474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540120" y="1295280"/>
            <a:ext cx="16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722880" y="129528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a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cate two-layered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e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light and prevents its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: transduce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hat transmit and process signals: bipolar cells, ganglion cells, amacrine cells, and horizont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42" descr="_x0011_figure_15_06a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23720" y="506520"/>
            <a:ext cx="8231400" cy="589284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4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7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8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49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50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5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5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5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5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5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56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57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0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3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5"/>
          <p:cNvSpPr/>
          <p:nvPr/>
        </p:nvSpPr>
        <p:spPr>
          <a:xfrm>
            <a:off x="3391200" y="6103800"/>
            <a:ext cx="35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Posterior aspect of the ey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6"/>
          <p:cNvSpPr/>
          <p:nvPr/>
        </p:nvSpPr>
        <p:spPr>
          <a:xfrm>
            <a:off x="4417920" y="175752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ural 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7"/>
          <p:cNvSpPr/>
          <p:nvPr/>
        </p:nvSpPr>
        <p:spPr>
          <a:xfrm>
            <a:off x="7487640" y="1932120"/>
            <a:ext cx="116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8"/>
          <p:cNvSpPr/>
          <p:nvPr/>
        </p:nvSpPr>
        <p:spPr>
          <a:xfrm>
            <a:off x="1019520" y="4319640"/>
            <a:ext cx="18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7596720" y="4624560"/>
            <a:ext cx="60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7485480" y="313200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484040" y="28335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6760" y="343692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3"/>
          <p:cNvSpPr/>
          <p:nvPr/>
        </p:nvSpPr>
        <p:spPr>
          <a:xfrm>
            <a:off x="421920" y="94140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glion cell ax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long the inner surface of 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he eye as the 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 disc (blind s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here the optic nerve leave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phot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6" descr="_x0011_figure_15_06b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55760" y="534960"/>
            <a:ext cx="8231040" cy="5865840"/>
          </a:xfrm>
          <a:prstGeom prst="rect">
            <a:avLst/>
          </a:prstGeom>
          <a:ln w="0">
            <a:noFill/>
          </a:ln>
        </p:spPr>
      </p:pic>
      <p:sp>
        <p:nvSpPr>
          <p:cNvPr id="471" name="Freeform 47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49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4883040" y="907920"/>
            <a:ext cx="828720" cy="1184400"/>
          </a:xfrm>
          <a:custGeom>
            <a:avLst/>
            <a:gdLst>
              <a:gd name="textAreaLeft" fmla="*/ 0 w 828720"/>
              <a:gd name="textAreaRight" fmla="*/ 829080 w 8287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22" h="746">
                <a:moveTo>
                  <a:pt x="0" y="0"/>
                </a:moveTo>
                <a:lnTo>
                  <a:pt x="160" y="0"/>
                </a:lnTo>
                <a:lnTo>
                  <a:pt x="522" y="74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3871800" y="803160"/>
            <a:ext cx="631800" cy="209880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398" h="1322">
                <a:moveTo>
                  <a:pt x="0" y="0"/>
                </a:moveTo>
                <a:lnTo>
                  <a:pt x="122" y="2"/>
                </a:lnTo>
                <a:lnTo>
                  <a:pt x="206" y="506"/>
                </a:lnTo>
                <a:lnTo>
                  <a:pt x="398" y="1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5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56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7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1"/>
          <p:cNvSpPr/>
          <p:nvPr/>
        </p:nvSpPr>
        <p:spPr>
          <a:xfrm>
            <a:off x="6289560" y="5459400"/>
            <a:ext cx="1800" cy="8892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4857840" y="907920"/>
            <a:ext cx="853920" cy="1184400"/>
          </a:xfrm>
          <a:custGeom>
            <a:avLst/>
            <a:gdLst>
              <a:gd name="textAreaLeft" fmla="*/ 0 w 853920"/>
              <a:gd name="textAreaRight" fmla="*/ 854280 w 8539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38" h="746">
                <a:moveTo>
                  <a:pt x="0" y="0"/>
                </a:moveTo>
                <a:lnTo>
                  <a:pt x="176" y="0"/>
                </a:lnTo>
                <a:lnTo>
                  <a:pt x="538" y="7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3871800" y="806400"/>
            <a:ext cx="631800" cy="2095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398" h="1320">
                <a:moveTo>
                  <a:pt x="0" y="0"/>
                </a:moveTo>
                <a:lnTo>
                  <a:pt x="122" y="0"/>
                </a:lnTo>
                <a:lnTo>
                  <a:pt x="206" y="504"/>
                </a:lnTo>
                <a:lnTo>
                  <a:pt x="398" y="132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66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67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8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0"/>
          <p:cNvSpPr/>
          <p:nvPr/>
        </p:nvSpPr>
        <p:spPr>
          <a:xfrm>
            <a:off x="5823000" y="5506920"/>
            <a:ext cx="149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1"/>
          <p:cNvSpPr/>
          <p:nvPr/>
        </p:nvSpPr>
        <p:spPr>
          <a:xfrm>
            <a:off x="2255760" y="578628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2"/>
          <p:cNvSpPr/>
          <p:nvPr/>
        </p:nvSpPr>
        <p:spPr>
          <a:xfrm>
            <a:off x="2264400" y="5465880"/>
            <a:ext cx="271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signa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2394720" y="610380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b) Cells of the neural layer of 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2343600" y="5040360"/>
            <a:ext cx="14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macrin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288320" y="524664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orizontal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6"/>
          <p:cNvSpPr/>
          <p:nvPr/>
        </p:nvSpPr>
        <p:spPr>
          <a:xfrm>
            <a:off x="4237200" y="78588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7"/>
          <p:cNvSpPr/>
          <p:nvPr/>
        </p:nvSpPr>
        <p:spPr>
          <a:xfrm>
            <a:off x="4302360" y="48420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hoto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8"/>
          <p:cNvSpPr/>
          <p:nvPr/>
        </p:nvSpPr>
        <p:spPr>
          <a:xfrm>
            <a:off x="4227840" y="1008000"/>
            <a:ext cx="71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3060000" y="658800"/>
            <a:ext cx="78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ip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1807920" y="843120"/>
            <a:ext cx="99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numerous at peripheral region of retina, away from the macula lu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dim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distinct, fuzzy, non color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acula lutea; concentrated in the fovea cent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-acuity color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figure_15_01_a-jL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Line 11"/>
          <p:cNvSpPr/>
          <p:nvPr/>
        </p:nvSpPr>
        <p:spPr>
          <a:xfrm flipH="1">
            <a:off x="1761840" y="681120"/>
            <a:ext cx="89532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479600" y="1157400"/>
            <a:ext cx="3127320" cy="101268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970" h="638">
                <a:moveTo>
                  <a:pt x="1970" y="638"/>
                </a:moveTo>
                <a:lnTo>
                  <a:pt x="7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981080" y="2151000"/>
            <a:ext cx="2664000" cy="7272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678" h="458">
                <a:moveTo>
                  <a:pt x="1678" y="458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955880" y="1674720"/>
            <a:ext cx="2784240" cy="825480"/>
          </a:xfrm>
          <a:custGeom>
            <a:avLst/>
            <a:gdLst>
              <a:gd name="textAreaLeft" fmla="*/ 0 w 2784240"/>
              <a:gd name="textAreaRight" fmla="*/ 2784240 w 27842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754" h="520">
                <a:moveTo>
                  <a:pt x="1754" y="520"/>
                </a:move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841400" y="3268800"/>
            <a:ext cx="2019240" cy="19368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72" h="122">
                <a:moveTo>
                  <a:pt x="1272" y="122"/>
                </a:moveTo>
                <a:lnTo>
                  <a:pt x="5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123920" y="3605040"/>
            <a:ext cx="3714840" cy="116532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2340" h="734">
                <a:moveTo>
                  <a:pt x="0" y="734"/>
                </a:moveTo>
                <a:lnTo>
                  <a:pt x="1266" y="734"/>
                </a:lnTo>
                <a:lnTo>
                  <a:pt x="234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555920" y="3583080"/>
            <a:ext cx="2044440" cy="3715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288" h="234">
                <a:moveTo>
                  <a:pt x="0" y="234"/>
                </a:moveTo>
                <a:lnTo>
                  <a:pt x="994" y="234"/>
                </a:lnTo>
                <a:lnTo>
                  <a:pt x="128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1482840" y="4154400"/>
            <a:ext cx="2975040" cy="110484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874" h="696">
                <a:moveTo>
                  <a:pt x="0" y="696"/>
                </a:moveTo>
                <a:lnTo>
                  <a:pt x="848" y="696"/>
                </a:lnTo>
                <a:lnTo>
                  <a:pt x="1874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654360" y="3382920"/>
            <a:ext cx="1600200" cy="18637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008" h="1174">
                <a:moveTo>
                  <a:pt x="0" y="1174"/>
                </a:moveTo>
                <a:lnTo>
                  <a:pt x="0" y="1086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4721400" y="3795840"/>
            <a:ext cx="1539720" cy="14508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970" h="914">
                <a:moveTo>
                  <a:pt x="0" y="914"/>
                </a:moveTo>
                <a:lnTo>
                  <a:pt x="0" y="702"/>
                </a:lnTo>
                <a:lnTo>
                  <a:pt x="97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6175440" y="3659040"/>
            <a:ext cx="939600" cy="1587600"/>
          </a:xfrm>
          <a:custGeom>
            <a:avLst/>
            <a:gdLst>
              <a:gd name="textAreaLeft" fmla="*/ 0 w 939600"/>
              <a:gd name="textAreaRight" fmla="*/ 939960 w 9396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92" h="1000">
                <a:moveTo>
                  <a:pt x="0" y="1000"/>
                </a:moveTo>
                <a:lnTo>
                  <a:pt x="0" y="788"/>
                </a:lnTo>
                <a:lnTo>
                  <a:pt x="59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7270920" y="3643200"/>
            <a:ext cx="339480" cy="1565280"/>
          </a:xfrm>
          <a:custGeom>
            <a:avLst/>
            <a:gdLst>
              <a:gd name="textAreaLeft" fmla="*/ 0 w 339480"/>
              <a:gd name="textAreaRight" fmla="*/ 339480 w 3394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4" h="986">
                <a:moveTo>
                  <a:pt x="214" y="986"/>
                </a:moveTo>
                <a:lnTo>
                  <a:pt x="214" y="84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3860640" y="2925720"/>
            <a:ext cx="146160" cy="1000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92" h="630">
                <a:moveTo>
                  <a:pt x="90" y="0"/>
                </a:moveTo>
                <a:lnTo>
                  <a:pt x="0" y="0"/>
                </a:lnTo>
                <a:lnTo>
                  <a:pt x="0" y="630"/>
                </a:lnTo>
                <a:lnTo>
                  <a:pt x="92" y="63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09920" y="152244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4128120" y="5218200"/>
            <a:ext cx="1424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(cover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709200" y="2004840"/>
            <a:ext cx="1407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ite 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rges wi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710280" y="382428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08120" y="462456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03080" y="522144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763600" y="5218200"/>
            <a:ext cx="99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crim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arun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708120" y="51260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708120" y="10238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708840" y="5256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3276000" y="52214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708840" y="31352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1061640" y="6049800"/>
            <a:ext cx="4048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a) Surface anatomy of the right ey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Blood Supply to 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sources of blood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supplies the outer third (photorecep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rtery and vein of the retina supply the inner two-thi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figure_15_07-jLE"/>
          <p:cNvPicPr/>
          <p:nvPr/>
        </p:nvPicPr>
        <p:blipFill>
          <a:blip r:embed="rId1"/>
          <a:stretch/>
        </p:blipFill>
        <p:spPr>
          <a:xfrm>
            <a:off x="457200" y="496800"/>
            <a:ext cx="8229600" cy="5867640"/>
          </a:xfrm>
          <a:prstGeom prst="rect">
            <a:avLst/>
          </a:prstGeom>
          <a:ln w="0">
            <a:noFill/>
          </a:ln>
        </p:spPr>
      </p:pic>
      <p:sp>
        <p:nvSpPr>
          <p:cNvPr id="514" name="Line 10"/>
          <p:cNvSpPr/>
          <p:nvPr/>
        </p:nvSpPr>
        <p:spPr>
          <a:xfrm flipH="1">
            <a:off x="4925520" y="3778200"/>
            <a:ext cx="226404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5376960" y="4638600"/>
            <a:ext cx="181296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4909680" y="3762360"/>
            <a:ext cx="2264040" cy="144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 flipH="1">
            <a:off x="5361120" y="4622760"/>
            <a:ext cx="1812960" cy="180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3589200" y="303516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3573360" y="301932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223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5211720" y="939960"/>
            <a:ext cx="1978200" cy="213984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39840"/>
              <a:gd name="textAreaBottom" fmla="*/ 2140200 h 213984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7"/>
          <p:cNvSpPr/>
          <p:nvPr/>
        </p:nvSpPr>
        <p:spPr>
          <a:xfrm flipH="1">
            <a:off x="4833720" y="952560"/>
            <a:ext cx="2019240" cy="2193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4817880" y="923760"/>
            <a:ext cx="2028600" cy="2206800"/>
          </a:xfrm>
          <a:prstGeom prst="line">
            <a:avLst/>
          </a:prstGeom>
          <a:ln w="284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5195880" y="923760"/>
            <a:ext cx="1978200" cy="214020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284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7211880" y="2828880"/>
            <a:ext cx="103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u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7213680" y="758880"/>
            <a:ext cx="14241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nd v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e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7212960" y="356868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7205760" y="44258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and ciliary zonule separate the anterior and posterior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5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segment contains vitreous humor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posterior surface of the l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he neural retina firmly against the pigment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is composed of two cha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hamber—between the cornea and the i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hamber—between the iris and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 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contains aqueous hu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like fluid continuously filtered from capillaries of the cilia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s via the scleral venous sinus (canal of Schlemm) at the sclera-cornea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nutrients and oxygen mainly to the lens and cornea but also to the retina, and removes was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ucoma: compression of the retina and optic nerve if drainage of aqueous humor is block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rcRect l="36052" t="0" r="96" b="0"/>
          <a:stretch/>
        </p:blipFill>
        <p:spPr>
          <a:xfrm>
            <a:off x="3427560" y="507960"/>
            <a:ext cx="5263920" cy="5945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"/>
          <p:cNvSpPr/>
          <p:nvPr/>
        </p:nvSpPr>
        <p:spPr>
          <a:xfrm>
            <a:off x="7846920" y="3745080"/>
            <a:ext cx="101520" cy="113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654280" y="1628640"/>
            <a:ext cx="203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524480" y="4925880"/>
            <a:ext cx="490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276720" y="3181320"/>
            <a:ext cx="2128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4"/>
          <p:cNvSpPr/>
          <p:nvPr/>
        </p:nvSpPr>
        <p:spPr>
          <a:xfrm>
            <a:off x="3276720" y="3181320"/>
            <a:ext cx="2128680" cy="144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41" h="1588">
                <a:moveTo>
                  <a:pt x="0" y="0"/>
                </a:moveTo>
                <a:lnTo>
                  <a:pt x="226" y="0"/>
                </a:lnTo>
                <a:lnTo>
                  <a:pt x="1341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6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7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8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1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6"/>
          <p:cNvSpPr/>
          <p:nvPr/>
        </p:nvSpPr>
        <p:spPr>
          <a:xfrm>
            <a:off x="4197240" y="3808440"/>
            <a:ext cx="665280" cy="1440"/>
          </a:xfrm>
          <a:custGeom>
            <a:avLst/>
            <a:gdLst>
              <a:gd name="textAreaLeft" fmla="*/ 0 w 665280"/>
              <a:gd name="textAreaRight" fmla="*/ 665640 w 665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19" h="1587">
                <a:moveTo>
                  <a:pt x="0" y="0"/>
                </a:moveTo>
                <a:lnTo>
                  <a:pt x="92" y="0"/>
                </a:lnTo>
                <a:lnTo>
                  <a:pt x="4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7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8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9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0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1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32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33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4070520" y="4262400"/>
            <a:ext cx="519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4343400" y="3808440"/>
            <a:ext cx="519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6"/>
          <p:cNvSpPr/>
          <p:nvPr/>
        </p:nvSpPr>
        <p:spPr>
          <a:xfrm>
            <a:off x="4187880" y="3808440"/>
            <a:ext cx="674640" cy="1440"/>
          </a:xfrm>
          <a:custGeom>
            <a:avLst/>
            <a:gdLst>
              <a:gd name="textAreaLeft" fmla="*/ 0 w 674640"/>
              <a:gd name="textAreaRight" fmla="*/ 675000 w 674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25" h="1587">
                <a:moveTo>
                  <a:pt x="0" y="0"/>
                </a:moveTo>
                <a:lnTo>
                  <a:pt x="98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7"/>
          <p:cNvSpPr/>
          <p:nvPr/>
        </p:nvSpPr>
        <p:spPr>
          <a:xfrm>
            <a:off x="7948440" y="4303800"/>
            <a:ext cx="70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8"/>
          <p:cNvSpPr/>
          <p:nvPr/>
        </p:nvSpPr>
        <p:spPr>
          <a:xfrm>
            <a:off x="7653240" y="5894280"/>
            <a:ext cx="2574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9"/>
          <p:cNvSpPr/>
          <p:nvPr/>
        </p:nvSpPr>
        <p:spPr>
          <a:xfrm flipH="1">
            <a:off x="7269120" y="5894280"/>
            <a:ext cx="146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40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1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42"/>
          <p:cNvSpPr/>
          <p:nvPr/>
        </p:nvSpPr>
        <p:spPr>
          <a:xfrm>
            <a:off x="4435560" y="3944880"/>
            <a:ext cx="331560" cy="419040"/>
          </a:xfrm>
          <a:custGeom>
            <a:avLst/>
            <a:gdLst>
              <a:gd name="textAreaLeft" fmla="*/ 0 w 331560"/>
              <a:gd name="textAreaRight" fmla="*/ 331920 w 331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9" h="264">
                <a:moveTo>
                  <a:pt x="209" y="228"/>
                </a:moveTo>
                <a:lnTo>
                  <a:pt x="141" y="264"/>
                </a:lnTo>
                <a:lnTo>
                  <a:pt x="0" y="38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2133720" y="2543040"/>
            <a:ext cx="82440" cy="992160"/>
          </a:xfrm>
          <a:custGeom>
            <a:avLst/>
            <a:gdLst>
              <a:gd name="textAreaLeft" fmla="*/ 0 w 82440"/>
              <a:gd name="textAreaRight" fmla="*/ 82800 w 824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52" h="625">
                <a:moveTo>
                  <a:pt x="52" y="0"/>
                </a:moveTo>
                <a:lnTo>
                  <a:pt x="0" y="0"/>
                </a:lnTo>
                <a:lnTo>
                  <a:pt x="0" y="236"/>
                </a:lnTo>
                <a:lnTo>
                  <a:pt x="0" y="625"/>
                </a:lnTo>
                <a:lnTo>
                  <a:pt x="52" y="625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>
            <a:off x="8218440" y="3611520"/>
            <a:ext cx="206280" cy="692280"/>
          </a:xfrm>
          <a:custGeom>
            <a:avLst/>
            <a:gdLst>
              <a:gd name="textAreaLeft" fmla="*/ 0 w 206280"/>
              <a:gd name="textAreaRight" fmla="*/ 206640 w 2062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2" h="436">
                <a:moveTo>
                  <a:pt x="0" y="436"/>
                </a:moveTo>
                <a:lnTo>
                  <a:pt x="162" y="436"/>
                </a:lnTo>
                <a:lnTo>
                  <a:pt x="16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5"/>
          <p:cNvSpPr/>
          <p:nvPr/>
        </p:nvSpPr>
        <p:spPr>
          <a:xfrm>
            <a:off x="2035080" y="3032280"/>
            <a:ext cx="98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6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7"/>
          <p:cNvSpPr/>
          <p:nvPr/>
        </p:nvSpPr>
        <p:spPr>
          <a:xfrm>
            <a:off x="5850000" y="2241720"/>
            <a:ext cx="1317600" cy="64440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0" h="406">
                <a:moveTo>
                  <a:pt x="830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48"/>
          <p:cNvSpPr/>
          <p:nvPr/>
        </p:nvSpPr>
        <p:spPr>
          <a:xfrm>
            <a:off x="5850000" y="2241720"/>
            <a:ext cx="1324080" cy="6444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4" h="406">
                <a:moveTo>
                  <a:pt x="834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9"/>
          <p:cNvSpPr/>
          <p:nvPr/>
        </p:nvSpPr>
        <p:spPr>
          <a:xfrm>
            <a:off x="6611760" y="870120"/>
            <a:ext cx="555840" cy="1440"/>
          </a:xfrm>
          <a:custGeom>
            <a:avLst/>
            <a:gdLst>
              <a:gd name="textAreaLeft" fmla="*/ 0 w 555840"/>
              <a:gd name="textAreaRight" fmla="*/ 556200 w 55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" h="1588">
                <a:moveTo>
                  <a:pt x="350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50"/>
          <p:cNvSpPr/>
          <p:nvPr/>
        </p:nvSpPr>
        <p:spPr>
          <a:xfrm>
            <a:off x="6611760" y="870120"/>
            <a:ext cx="562320" cy="1440"/>
          </a:xfrm>
          <a:custGeom>
            <a:avLst/>
            <a:gdLst>
              <a:gd name="textAreaLeft" fmla="*/ 0 w 562320"/>
              <a:gd name="textAreaRight" fmla="*/ 562680 w 56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4" h="1588">
                <a:moveTo>
                  <a:pt x="354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51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2"/>
          <p:cNvSpPr/>
          <p:nvPr/>
        </p:nvSpPr>
        <p:spPr>
          <a:xfrm flipH="1">
            <a:off x="5763960" y="4573440"/>
            <a:ext cx="126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3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54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5"/>
          <p:cNvSpPr/>
          <p:nvPr/>
        </p:nvSpPr>
        <p:spPr>
          <a:xfrm flipH="1">
            <a:off x="5763960" y="4573440"/>
            <a:ext cx="12510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6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7"/>
          <p:cNvSpPr/>
          <p:nvPr/>
        </p:nvSpPr>
        <p:spPr>
          <a:xfrm>
            <a:off x="3754800" y="536724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8"/>
          <p:cNvSpPr/>
          <p:nvPr/>
        </p:nvSpPr>
        <p:spPr>
          <a:xfrm>
            <a:off x="3756960" y="4799160"/>
            <a:ext cx="12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u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9"/>
          <p:cNvSpPr/>
          <p:nvPr/>
        </p:nvSpPr>
        <p:spPr>
          <a:xfrm>
            <a:off x="2557440" y="3678120"/>
            <a:ext cx="1613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0"/>
          <p:cNvSpPr/>
          <p:nvPr/>
        </p:nvSpPr>
        <p:spPr>
          <a:xfrm>
            <a:off x="2259000" y="304020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2259000" y="253224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2"/>
          <p:cNvSpPr/>
          <p:nvPr/>
        </p:nvSpPr>
        <p:spPr>
          <a:xfrm>
            <a:off x="950040" y="2608200"/>
            <a:ext cx="101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3"/>
          <p:cNvSpPr/>
          <p:nvPr/>
        </p:nvSpPr>
        <p:spPr>
          <a:xfrm>
            <a:off x="3070800" y="4116240"/>
            <a:ext cx="1678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2300400" y="13762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5"/>
          <p:cNvSpPr/>
          <p:nvPr/>
        </p:nvSpPr>
        <p:spPr>
          <a:xfrm>
            <a:off x="6626880" y="57927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6"/>
          <p:cNvSpPr/>
          <p:nvPr/>
        </p:nvSpPr>
        <p:spPr>
          <a:xfrm>
            <a:off x="1038600" y="1658880"/>
            <a:ext cx="205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841680" y="19479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ndo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8"/>
          <p:cNvSpPr/>
          <p:nvPr/>
        </p:nvSpPr>
        <p:spPr>
          <a:xfrm>
            <a:off x="1375200" y="222732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2744280" y="5191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0"/>
          <p:cNvSpPr/>
          <p:nvPr/>
        </p:nvSpPr>
        <p:spPr>
          <a:xfrm>
            <a:off x="2550600" y="109044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1355760" y="80496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2"/>
          <p:cNvSpPr/>
          <p:nvPr/>
        </p:nvSpPr>
        <p:spPr>
          <a:xfrm>
            <a:off x="7928640" y="579276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7227000" y="696960"/>
            <a:ext cx="1081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t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207920" y="21160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7057080" y="3728880"/>
            <a:ext cx="112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6"/>
          <p:cNvSpPr/>
          <p:nvPr/>
        </p:nvSpPr>
        <p:spPr>
          <a:xfrm>
            <a:off x="7053480" y="446256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7"/>
          <p:cNvSpPr/>
          <p:nvPr/>
        </p:nvSpPr>
        <p:spPr>
          <a:xfrm>
            <a:off x="7293240" y="332280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78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79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80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81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82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83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84"/>
          <p:cNvSpPr/>
          <p:nvPr/>
        </p:nvSpPr>
        <p:spPr>
          <a:xfrm>
            <a:off x="5252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5"/>
          <p:cNvSpPr/>
          <p:nvPr/>
        </p:nvSpPr>
        <p:spPr>
          <a:xfrm>
            <a:off x="475200" y="3963960"/>
            <a:ext cx="2030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ormed by filtr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rom the capillaries i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the ciliary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86"/>
          <p:cNvSpPr/>
          <p:nvPr/>
        </p:nvSpPr>
        <p:spPr>
          <a:xfrm>
            <a:off x="531720" y="482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7"/>
          <p:cNvSpPr/>
          <p:nvPr/>
        </p:nvSpPr>
        <p:spPr>
          <a:xfrm>
            <a:off x="482040" y="4802040"/>
            <a:ext cx="3137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flows from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osterior chamber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upil into the anterior chamb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ome also flows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vitreous humor (not shown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8"/>
          <p:cNvSpPr/>
          <p:nvPr/>
        </p:nvSpPr>
        <p:spPr>
          <a:xfrm>
            <a:off x="515880" y="5872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9"/>
          <p:cNvSpPr/>
          <p:nvPr/>
        </p:nvSpPr>
        <p:spPr>
          <a:xfrm>
            <a:off x="469800" y="5850000"/>
            <a:ext cx="3085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reabsorb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into the venous blood by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cleral venous sinu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90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91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92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  <a:lnTo>
                  <a:pt x="11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93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94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  <a:lnTo>
                  <a:pt x="11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95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6"/>
          <p:cNvSpPr/>
          <p:nvPr/>
        </p:nvSpPr>
        <p:spPr>
          <a:xfrm>
            <a:off x="5719680" y="3605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7"/>
          <p:cNvSpPr/>
          <p:nvPr/>
        </p:nvSpPr>
        <p:spPr>
          <a:xfrm>
            <a:off x="5011560" y="1627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98"/>
          <p:cNvSpPr/>
          <p:nvPr/>
        </p:nvSpPr>
        <p:spPr>
          <a:xfrm>
            <a:off x="4662360" y="3573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99"/>
          <p:cNvSpPr/>
          <p:nvPr/>
        </p:nvSpPr>
        <p:spPr>
          <a:xfrm>
            <a:off x="8121600" y="3741840"/>
            <a:ext cx="101520" cy="1231920"/>
          </a:xfrm>
          <a:custGeom>
            <a:avLst/>
            <a:gdLst>
              <a:gd name="textAreaLeft" fmla="*/ 0 w 101520"/>
              <a:gd name="textAreaRight" fmla="*/ 71280 w 1015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en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onvex, transparent, flexible, elastic, and avas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recise focusing of light on the re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s of lens epithelium differentiate into lens fibers that form the bulk of th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fibers—cells filled with the transparent protein crystal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becomes denser, more convex, and less elastic with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aracts (clouding of lens) occur as a consequence of aging, diabetes mellitus, heavy smoking, and frequent exposure to intens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3120" y="762120"/>
            <a:ext cx="85359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brow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ie the supraorbital mar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perspiration from reach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terio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pebral fissure—separates eyel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rimal caruncle—elevation at medial commissure; contains oil and sweat g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sal plates—internal supporting connective tissu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ator palpebrae superioris—gives the upper eyelid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las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endings of follicles initiate reflex b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bricating glands associated with the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al (Meibomian)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glands associated with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glands between the hair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figure_15_01_b-jLE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0"/>
          <p:cNvSpPr/>
          <p:nvPr/>
        </p:nvSpPr>
        <p:spPr>
          <a:xfrm>
            <a:off x="2479680" y="641520"/>
            <a:ext cx="2317680" cy="8222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460" h="518">
                <a:moveTo>
                  <a:pt x="1460" y="0"/>
                </a:moveTo>
                <a:lnTo>
                  <a:pt x="1350" y="0"/>
                </a:lnTo>
                <a:lnTo>
                  <a:pt x="0" y="5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044960" y="1139760"/>
            <a:ext cx="727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156200" y="1387440"/>
            <a:ext cx="615960" cy="10800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8" h="68">
                <a:moveTo>
                  <a:pt x="388" y="68"/>
                </a:moveTo>
                <a:lnTo>
                  <a:pt x="250" y="6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3321000" y="1835280"/>
            <a:ext cx="1451160" cy="34596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14" h="218">
                <a:moveTo>
                  <a:pt x="914" y="0"/>
                </a:moveTo>
                <a:lnTo>
                  <a:pt x="776" y="0"/>
                </a:lnTo>
                <a:lnTo>
                  <a:pt x="0" y="2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308400" y="2212920"/>
            <a:ext cx="1463760" cy="1238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22" h="78">
                <a:moveTo>
                  <a:pt x="922" y="0"/>
                </a:moveTo>
                <a:lnTo>
                  <a:pt x="784" y="0"/>
                </a:lnTo>
                <a:lnTo>
                  <a:pt x="0" y="7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3552840" y="2517840"/>
            <a:ext cx="1184400" cy="507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46" h="32">
                <a:moveTo>
                  <a:pt x="746" y="32"/>
                </a:moveTo>
                <a:lnTo>
                  <a:pt x="630" y="3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3340080" y="2860560"/>
            <a:ext cx="1432080" cy="15552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2" h="98">
                <a:moveTo>
                  <a:pt x="902" y="0"/>
                </a:moveTo>
                <a:lnTo>
                  <a:pt x="764" y="0"/>
                </a:lnTo>
                <a:lnTo>
                  <a:pt x="0" y="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708360" y="3749760"/>
            <a:ext cx="1187640" cy="6890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748" h="434">
                <a:moveTo>
                  <a:pt x="748" y="434"/>
                </a:moveTo>
                <a:lnTo>
                  <a:pt x="610" y="43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3006720" y="3994200"/>
            <a:ext cx="1889280" cy="7779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190" h="490">
                <a:moveTo>
                  <a:pt x="1190" y="490"/>
                </a:moveTo>
                <a:lnTo>
                  <a:pt x="1052" y="4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3019320" y="4222800"/>
            <a:ext cx="1876680" cy="103500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182" h="652">
                <a:moveTo>
                  <a:pt x="1182" y="652"/>
                </a:moveTo>
                <a:lnTo>
                  <a:pt x="1044" y="65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301920" y="4775040"/>
            <a:ext cx="1594080" cy="9874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1004" h="622">
                <a:moveTo>
                  <a:pt x="1004" y="622"/>
                </a:moveTo>
                <a:lnTo>
                  <a:pt x="866" y="62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4222440" y="1275840"/>
            <a:ext cx="330120" cy="219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3965400" y="3009960"/>
            <a:ext cx="111240" cy="69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70" h="440">
                <a:moveTo>
                  <a:pt x="2" y="0"/>
                </a:moveTo>
                <a:lnTo>
                  <a:pt x="70" y="0"/>
                </a:lnTo>
                <a:lnTo>
                  <a:pt x="70" y="440"/>
                </a:lnTo>
                <a:lnTo>
                  <a:pt x="0" y="4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070520" y="3355920"/>
            <a:ext cx="7016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1319040" y="6060960"/>
            <a:ext cx="664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b) Lateral view; </a:t>
            </a: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ome structures shown in sagittal s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812480" y="469800"/>
            <a:ext cx="2079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evator palpebra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uperioris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4792680" y="97776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791600" y="13302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792680" y="167004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p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792680" y="2048040"/>
            <a:ext cx="249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754160" y="240336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g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4792320" y="271152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93040" y="3191040"/>
            <a:ext cx="194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916880" y="427032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4916160" y="4606920"/>
            <a:ext cx="21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Bulbar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916520" y="5092560"/>
            <a:ext cx="191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l s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4916520" y="559440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onjunctiv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t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pebral conjunctiva lines the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ar conjunctiva covers the white of the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lubricating mucous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acrimal Apparatu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gland and ducts that connect to nasal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secretion (tea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aline solution containing mucus, antibodies,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ing spreads the tears toward the medial comm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enter paired lacrimal canaliculi via the lacrimal pun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into the nasolacrimal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39:43Z</dcterms:created>
  <dc:creator>R U</dc:creator>
  <dc:description/>
  <dc:language>en-US</dc:language>
  <cp:lastModifiedBy>LEGION</cp:lastModifiedBy>
  <dcterms:modified xsi:type="dcterms:W3CDTF">2018-03-12T09:38:51Z</dcterms:modified>
  <cp:revision>10</cp:revision>
  <dc:subject/>
  <dc:title>15</dc:title>
</cp:coreProperties>
</file>