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AB1E-BB7E-43DD-AE8B-83E39C1203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3F0D-A995-4883-8D2B-13E9CF2F6C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C7F1-7741-4345-8C52-AE993371ED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D3DE-D727-40F5-9A3D-2321583769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9A14-AC49-4592-95D6-63CA38431A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4872-F4E4-4FEF-BF65-503659332D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6237-173F-4628-AE9B-366BF6EC30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6354-0FDA-4FE6-89F2-B54958B774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67E2-0168-43FA-8E27-838CFFA232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EB12-DB0F-4958-8A79-A76DB4C0FA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F1E8-C4CD-45CA-97A1-9E1A6DAA10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4F8D-3983-4A69-9D3C-B416DC7523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3A8-8889-418C-8892-53E9F9E1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692-4F4C-4B6F-9C13-980041F1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45E-88E4-41F3-BE76-B9F4917D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D43-85ED-4796-A745-A41F8F5E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3A4-5867-4D98-A1C5-6F406855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D7D-EC42-4503-8766-023A329F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C83-19DF-41B0-95E2-3D9DBEAC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911-230D-434C-B7A7-30123C14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8518-3E0F-42E1-81B5-3C1137A4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DD20-38F5-4231-859D-0819359B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15B-4FCF-47EE-A98A-97E837A1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E90-4542-40C0-909C-54AD2E46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686C-7E08-4917-B1B9-BFC5A594E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4360" y="6093000"/>
            <a:ext cx="6400800" cy="62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neptune"/>
          <p:cNvPicPr/>
          <p:nvPr/>
        </p:nvPicPr>
        <p:blipFill>
          <a:blip r:embed="rId1"/>
          <a:stretch/>
        </p:blipFill>
        <p:spPr>
          <a:xfrm>
            <a:off x="2540160" y="1868400"/>
            <a:ext cx="40636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Pluto"/>
          <p:cNvPicPr/>
          <p:nvPr/>
        </p:nvPicPr>
        <p:blipFill>
          <a:blip r:embed="rId1"/>
          <a:stretch/>
        </p:blipFill>
        <p:spPr>
          <a:xfrm>
            <a:off x="2556000" y="1413000"/>
            <a:ext cx="402732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sun_skylab"/>
          <p:cNvPicPr/>
          <p:nvPr/>
        </p:nvPicPr>
        <p:blipFill>
          <a:blip r:embed="rId1"/>
          <a:stretch/>
        </p:blipFill>
        <p:spPr>
          <a:xfrm>
            <a:off x="1763640" y="1268280"/>
            <a:ext cx="55152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mercury2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enus"/>
          <p:cNvPicPr/>
          <p:nvPr/>
        </p:nvPicPr>
        <p:blipFill>
          <a:blip r:embed="rId1"/>
          <a:stretch/>
        </p:blipFill>
        <p:spPr>
          <a:xfrm>
            <a:off x="2340000" y="1197000"/>
            <a:ext cx="43815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earth"/>
          <p:cNvPicPr/>
          <p:nvPr/>
        </p:nvPicPr>
        <p:blipFill>
          <a:blip r:embed="rId1"/>
          <a:stretch/>
        </p:blipFill>
        <p:spPr>
          <a:xfrm>
            <a:off x="2330280" y="1600200"/>
            <a:ext cx="4483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ars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jupiteR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saturn"/>
          <p:cNvPicPr/>
          <p:nvPr/>
        </p:nvPicPr>
        <p:blipFill>
          <a:blip r:embed="rId1"/>
          <a:stretch/>
        </p:blipFill>
        <p:spPr>
          <a:xfrm>
            <a:off x="1654200" y="1600200"/>
            <a:ext cx="5834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uranus"/>
          <p:cNvPicPr/>
          <p:nvPr/>
        </p:nvPicPr>
        <p:blipFill>
          <a:blip r:embed="rId1"/>
          <a:stretch/>
        </p:blipFill>
        <p:spPr>
          <a:xfrm>
            <a:off x="2556000" y="1413000"/>
            <a:ext cx="41986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8:06:35Z</dcterms:created>
  <dc:creator>GB</dc:creator>
  <dc:description/>
  <dc:language>en-US</dc:language>
  <cp:lastModifiedBy>RomaK</cp:lastModifiedBy>
  <dcterms:modified xsi:type="dcterms:W3CDTF">2015-07-31T22:51:08Z</dcterms:modified>
  <cp:revision>5</cp:revision>
  <dc:subject/>
  <dc:title>OUR SOLAR SYSTEM</dc:title>
</cp:coreProperties>
</file>