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29.gif" ContentType="image/gif"/>
  <Override PartName="/ppt/media/image5.png" ContentType="image/png"/>
  <Override PartName="/ppt/media/image8.jpeg" ContentType="image/jpeg"/>
  <Override PartName="/ppt/media/image10.jpeg" ContentType="image/jpeg"/>
  <Override PartName="/ppt/media/image11.gif" ContentType="image/gif"/>
  <Override PartName="/ppt/media/image16.jpeg" ContentType="image/jpeg"/>
  <Override PartName="/ppt/media/image13.gif" ContentType="image/gif"/>
  <Override PartName="/ppt/media/image31.jpeg" ContentType="image/jpeg"/>
  <Override PartName="/ppt/media/image2.png" ContentType="image/png"/>
  <Override PartName="/ppt/media/image33.gif" ContentType="image/gif"/>
  <Override PartName="/ppt/media/image6.png" ContentType="image/png"/>
  <Override PartName="/ppt/media/image34.png" ContentType="image/png"/>
  <Override PartName="/ppt/media/image4.png" ContentType="image/png"/>
  <Override PartName="/ppt/media/image30.png" ContentType="image/png"/>
  <Override PartName="/ppt/media/image3.jpeg" ContentType="image/jpeg"/>
  <Override PartName="/ppt/media/image18.jpeg" ContentType="image/jpeg"/>
  <Override PartName="/ppt/media/image15.png" ContentType="image/png"/>
  <Override PartName="/ppt/media/image25.png" ContentType="image/png"/>
  <Override PartName="/ppt/media/image32.gif" ContentType="image/gif"/>
  <Override PartName="/ppt/media/image14.jpeg" ContentType="image/jpeg"/>
  <Override PartName="/ppt/media/image17.png" ContentType="image/png"/>
  <Override PartName="/ppt/media/image19.png" ContentType="image/png"/>
  <Override PartName="/ppt/media/image20.gif" ContentType="image/gif"/>
  <Override PartName="/ppt/media/image21.jpeg" ContentType="image/jpeg"/>
  <Override PartName="/ppt/media/image23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E0AE-7385-4922-AF20-6613474E1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of Ligh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Basics to Instru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 less than 100 sl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. Man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of Ligh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Basics to Instru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 less than 100 sl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. Man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hase difference is = 90º and E0x = E0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: Ex / E0x = cos    ,   Ey / E0y = sin 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we get the equation of a cir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hase difference is = 90º and E0x = E0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: Ex / E0x = cos    ,   Ey / E0y = sin 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we get the equation of a cir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... see i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... see i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+ circular polarization =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+ circular polarization =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atural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atural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ol Ap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 http://www.uno.edu/~jsulliva/java/EMWav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ol Ap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 http://www.uno.edu/~jsulliva/java/EMWav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: Stokes parameters and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okes parameters, 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okes parameters for linear and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okes parameters and polarizati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matrices, Mueller calc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 and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, 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for linear and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and polarizati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, Mueller calc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ny itsy-bitsy little bit of histor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9: Bartholinus discovers double refraction in calc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th – 19th centuries: Huygens, Malus, Brewster, Biot, Fresnel and Arago, Nicol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th century: unsuccessful attempts to describe unpolarized light in terms of ampl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2: Sir George Gabriel Stokes took a very different approach and discovered that polarization can be described in terms of observables using an experimental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ny itsy-bitsy little bit of histor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9: Bartholinus discovers double refraction in calc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th – 19th centuries: Huygens, Malus, Brewster, Biot, Fresnel and Arago, Nicol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th century: unsuccessful attempts to describe unpolarized light in terms of ampl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2: Sir George Gabriel Stokes took a very different approach and discovered that polarization can be described in terms of observables using an experimental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zation ellipse is only valid at a given instant of time (function of tim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the Stokes parameters, do a time average (integral over time) and a little bit of algebra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zation ellipse is only valid at a given instant of time (function of tim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the Stokes parameters, do a time average (integral over time) and a little bit of algebra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terms of the electr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4 Stokes parameter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terms of the electr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4 Stokes parameter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geometrical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geometrical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kes parameters can be arranged in a Stokes vec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Stokes v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kes parameters can be arranged in a Stokes vec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Stokes v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orial representation of the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orial representation of the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line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H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V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line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H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V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circul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circul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Q,U) to (P,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linear polarization (V=0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Q,U) to (P,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linear polarization (V=0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light is represented by Stokes vectors, optical components are then described with Mueller matr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output light] = [Muller matrix]  [input light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light is represented by Stokes vectors, optical components are then described with Mueller matr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output light] = [Muller matrix]  [input light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calculu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lement 1       Element 2     Eleme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’ = M3 M2 M1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1       Element 2     Eleme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 = M3 M2 M1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and graphical descriptions of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, circular, elliptical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and graphical descriptions of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, circular, elliptical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calculu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matrix M’ of an optical component with Mueller matrix M rotated by an angle 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’ = R(- ) M R()         wit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M’ of an optical component with Mueller matrix M rotated by an angle 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’ = R(- ) M R()         wit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and Mueller matrices cannot describe interference effects. If the phase information is important (radio-astronomy, masers...), one has to use the Jones formalism, with complex vectors and Jones matric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vectors to describe the polarization of ligh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matrices to represent optical compon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: Jones formalism can only deal with 100% polariza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Jones formalism, not that important her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and Mueller matrices cannot describe interference effects. If the phase information is important (radio-astronomy, masers...), one has to use the Jones formalism, with complex vectors and Jones matric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vectors to describe the polarization of ligh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matrices to represent optical compon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: Jones formalism can only deal with 100% polariza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Jones formalism, not that important her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dex of refraction is actually a complex quant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path length, refraction: speed of light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efringence: speed of light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inary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, attenuation, extinction: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sm/diattenuation: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dex of refraction is actually a complex quant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path length, refraction: speed of light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efringence: speed of light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inary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, attenuation, extinction: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sm/diattenuation: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 absorb one component of the polarization but not the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put is natural light, the output is polarized light (linear, circular, elliptical). They work by dichroism, birefringence, reflection, or scat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 absorb one component of the polarization but not the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put is natural light, the output is polarized light (linear, circular, elliptical). They work by dichroism, birefringence, reflection, or scat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-grid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ly used in the IR and long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d of parallel conducting wires with a spacing comparable to the wavelength of ob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field vector parallel to the wires is attenuated because of currents induced in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-grid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ly used in the IR and long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d of parallel conducting wires with a spacing comparable to the wavelength of ob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field vector parallel to the wires is attenuated because of currents induced in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de-grid polarizers (II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-grid polariz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 absorb one polarization state over the other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tourma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 absorb one polarization state over the other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tourma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heating and stretching a sheet of PVA laminated to a supporting sheet of cellulose acetate treated with iodine solution (H-type polaroid). Invented in 192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– Polaroids, like in sunglass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heating and stretching a sheet of PVA laminated to a supporting sheet of cellulose acetate treated with iodine solution (H-type polaroid). Invented in 192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– Polaroids, like in sunglass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ly anisotrop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mode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ystal is anisotropic, which means that the electrons are bound with different ‘springs’ depending on the ori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‘spring constants’ gives different propagation speeds, therefore different indices of refraction, therefore 2 output bea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ly anisotrop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mode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ystal is anisotropic, which means that the electrons are bound with different ‘springs’ depending on the ori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‘spring constants’ gives different propagation speeds, therefore different indices of refraction, therefore 2 output bea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 transverse wav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 transverse wav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output beams are polarized (orthogonall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output beams are polarized (orthogonall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rystal polarizers (IV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rystal polarizers used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am displac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am splitt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iz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amples: Nicol prism, Glan-Thomson polarizer, Glan or Glan-Foucault prism, Wollaston prism, Thin-film polarizer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V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used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 displac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 splitt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Nicol prism, Glan-Thomson polarizer, Glan or Glan-Foucault prism, Wollaston prism, Thin-film polarizer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 of polariz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deal) linear polarizer at angle 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 of polariz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deal) linear polarizer at angle 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matrices of polariz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near (±Q) polarizer at 0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near (±U) polarizer at 0º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(±V) polarizer at 0º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 of polariz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(±Q) polarizer at 0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(±U) polarizer at 0º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(±V) polarizer at 0º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pola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--- output light: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output intensity: 0.5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pola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--- output light: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output intensity: 0.5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tarders, one polarization gets ‘retarded’, or delayed, with respect to the other one. There is a final phase difference between the 2 components of the polarization. Therefore, the polarization is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tarders are based on birefringent materials (quartz, mica, polymers) that have different indices of refraction depending on the polarization of the incoming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tarders, one polarization gets ‘retarded’, or delayed, with respect to the other one. There is a final phase difference between the 2 components of the polarization. Therefore, the polarization is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tarders are based on birefringent materials (quartz, mica, polymers) that have different indices of refraction depending on the polarization of the incoming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½ wave or 180º for one of the polar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flip the linear polarization or change the handedness of circular polar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½ wave or 180º for one of the polar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flip the linear polarization or change the handedness of circular polar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lf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¼ wave or 90º for one of the pola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convert linear polarization to elliptic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¼ wave or 90º for one of the pola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convert linear polarization to elliptic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case: incoming light polarized at 45º with respect to the retarder’s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ion from linear to circular polarization (vice ver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case: incoming light polarized at 45º with respect to the retarder’s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ion from linear to circular polarization (vice ver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description of the EM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wave that propagates in the z dire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description of the EM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wave that propagates in the z dire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 of retardance  and position angle 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 of retardance  and position angle 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0º or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0º or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reta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 linear polarized (Q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t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light circularly polarized (V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reta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 linear polarized (Q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t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light circularly polarized (V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ack to polarizers, briefl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  --- Output light: circularly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a linear polarizer glued to a quarter-wave plate oriented at 45º with respect to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ack to polarizers, briefl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  --- Output light: circularly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a linear polarizer glued to a quarter-wave plate oriented at 45º with respect to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depends on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: made of 2 different materials with opposite variations of index of refraction as a function of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haratnam achromatic retarders: made of 3 identical plates rotated w/r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achromatic retarders: 3 pairs of quartz and MgF2    p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depends on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: made of 2 different materials with opposite variations of index of refraction as a function of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haratnam achromatic retarders: made of 3 identical plates rotated w/r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achromatic retarders: 3 pairs of quartz and MgF2    p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40-22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very achroma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77-183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bet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40-22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very achroma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77-183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bet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n total internal 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internal reflection produces retardation (phase shi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retardation is very achromatic since it only depends on the refractive 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: Fresnel rhom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n total internal 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internal reflection produces retardation (phase shi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retardation is very achromatic since it only depends on the refractive 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: Fresnel rhom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snel rhom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nd half-wave rhombs are achieved with 2 or 4 ref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snel rhom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nd half-wave rhombs are achieved with 2 or 4 ref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ther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eil-Babinet: variable retardation to better than 0.01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ematic liquid crystals... Liquid crystal variable retarders... Ferroelectric liquid crystals... Piezo-elastic modulators... Pockels and Kerr cell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eil-Babinet: variable retardation to better than 0.01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ic liquid crystals... Liquid crystal variable retarders... Ferroelectric liquid crystals... Piezo-elastic modulators... Pockels and Kerr cell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an go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equation of an ellipse (using trigonometric identities, squaring, adding)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an go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equation of an ellipse (using trigonometric identities, squaring, adding)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linear polarizer (polaroid) to measure linear polarization ... [another cool applet] Location: http://www.colorado.edu/physics/2000/applets/len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percentage and position ang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linear polarizer (polaroid) to measure linear polarization ... [another cool applet] Location: http://www.colorado.edu/physics/2000/applets/len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percentage and position ang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: very simple to m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: half of the light is cut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isadvantages: non-simultaneous measurements, cross-talk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the polaroid to 2 positions, 0º and 45º (to measure Q, then 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: very simple to m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: half of the light is cut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isadvantages: non-simultaneous measurements, cross-talk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the polaroid to 2 positions, 0º and 45º (to measure Q, then 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r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oids are not sensitive to circular polarization, so convert circular polarization to linear first, by using  a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imeter now uses a quarter-wave plate and a pola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ame disadvantages as b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s are not sensitive to circular polarization, so convert circular polarization to linear first, by using  a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meter now uses a quarter-wave plate and a pola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disadvantages as b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 of cutting out one polarization and keeping the other one (polaroid), split the 2 polarization states and keep them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Wollaston prism as an 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s: need 2 detectors (PMTs, APDs) or an array; end up with 2 ‘pixels’ with different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: rotate the Wollaston or keep it fixed and use a half-wave plate to switch the 2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 of cutting out one polarization and keeping the other one (polaroid), split the 2 polarization states and keep them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Wollaston prism as an 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s: need 2 detectors (PMTs, APDs) or an array; end up with 2 ‘pixels’ with different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: rotate the Wollaston or keep it fixed and use a half-wave plate to switch the 2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: two beams have identical intensities whatever the prism’s position if the 2 pixels have the same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ensate different gains, switch the 2 beams and average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: two beams have identical intensities whatever the prism’s position if the 2 pixels have the same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ensate different gains, switch the 2 beams and average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by rotating the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by rotating the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using a ½ 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ed by 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using a ½ 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ed by 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 for circular polarization - Wollaston and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surements V/I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the beams to compensate the gai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 for circular polarization - Wollaston and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surements V/I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the beams to compensate the gai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el, Donati, Rees (199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, rotated at -45º and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er: double calcite crys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el, Donati, Rees (199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, rotated at -45º and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er: double calcite crys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lipse can be represented by 4 quant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in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aj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entation (ang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(CW, CC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an be represented by 4 quantiti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lipse can be represented by 4 quant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in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aj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entation (ang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(CW, CC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an be represented by 4 quantiti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(g) and atmospheric transmission ()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measurement with quarter-wave plate at -45º, signal in the (r)ight and (l)eft beam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asurement with quarter-wave plate at +45º, signal in the (r)ight and (l)eft bea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ments of the signa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(g) and atmospheric transmission ()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measurement with quarter-wave plate at -45º, signal in the (r)ight and (l)eft beam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asurement with quarter-wave plate at +45º, signal in the (r)ight and (l)eft bea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ments of the signa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and atmospheric transmission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a ratio of measured signals which is free of gain and variable atmospheric transmission eff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of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and atmospheric transmission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a ratio of measured signals which is free of gain and variable atmospheric transmission eff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of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imeter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oid-type: easy to make but ½ light is lost, and affected by variable atmospheric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ual-beam type: no light lost but affected by gain differences and variable transmission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near polarimetr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, rota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 + half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polarimet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 +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positions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position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V: Polarimeter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meter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: easy to make but ½ light is lost, and affected by variable atmospheric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type: no light lost but affected by gain differences and variable transmission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olarimetr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, rota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 + half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met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 +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ositions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position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components of the polarimeter part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llaston prism: analyses the polarization and separates the 2 (linear!) orthogonal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, 3 Fresnel rhomb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half-wave plates to switch the beams 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to do circular polarimetr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components of the polarimeter part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llaston prism: analyses the polarization and separates the 2 (linear!) orthogonal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, 3 Fresnel rhomb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half-wave plates to switch the beams 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to do circular polarimetr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: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xed quarter-wave rh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otating bottom half-wave,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p half-wave rotates continuously at about 1Hz to average out linear polarization when measuring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 quarter-wave rh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ng bottom half-wave,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 half-wave rotates continuously at about 1Hz to average out linear polarization when measuring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: circular polarimetry of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lips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to lin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 of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ips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to lin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 of (unwanted)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to ellip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art goes through not analyzed and adds same intensities to both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art is analyz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rotating half-wave to “spread out” the unwant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 of (unwanted)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to ellip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art goes through not analyzed and adds same intensities to both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art is analyz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rotating half-wave to “spread out” the unwant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rhombs positioned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rhombs positioned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lf-Wave rhombs positioned as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rst position gives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cond position gives 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witch beams for gain and atmospher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rhombs positioned as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osition gives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position gives 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beams for gain and atmospher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can do linear and circular polarimetry (quarter-wave pl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s are switched around to do the measurements, compensate for gain and atmospheric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nel rhombs are very achrom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can do linear and circular polarimetry (quarter-wave pl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s are switched around to do the measurements, compensate for gain and atmospheric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nel rhombs are very achrom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amplitude in x (E0x = 0), there is only one component, in y (vertica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amplitude in x (E0x = 0), there is only one component, in y (vertica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redits for pictures and mov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ristoph Keller’s home page – his 5 lectures http://www.noao.edu/noao/staff/kell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ic Polarisation techniques and devices”, Meadowlark Optics Inc. http://www.meadowlark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s, E. Hecht  and Astronomical Polarimetry, J. Tinber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polarization movie http://www.optics.arizona.edu/jcwyant/JoseDiaz/Polarization-Circula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npolarized light movie http://www.colorado.edu/physics/2000/polarization/polarizationI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lection of wave http://www.physicsclassroom.com/mmedia/waves/fi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 web page and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s for pictures and mov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oph Keller’s home page – his 5 lectures http://www.noao.edu/noao/staff/kell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Polarisation techniques and devices”, Meadowlark Optics Inc. http://www.meadowlark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s, E. Hecht  and Astronomical Polarimetry, J. Tinber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movie http://www.optics.arizona.edu/jcwyant/JoseDiaz/Polarization-Circula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 movie http://www.colorado.edu/physics/2000/polarization/polarizationI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on of wave http://www.physicsclassroom.com/mmedia/waves/fi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web page and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hort and quick introduction, no equation http://www.cfht.hawaii.edu/~manset/PolarIntro_eng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fun page with Applets, on polarizing filters http://www.colorado.edu/physics/2000/polarization/polarization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short course http://www.glenbrook.k12.il.us/gbssci/phys/Class/light/u12l1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mentation for Astrophysical Spectropolarimetry”, a series of 5 lectures given at the IAC Winter School on Astrophysical Spectropolarimetry, November 2000 –http://www.noao.edu/noao/staff/keller/lectures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hort and quick introduction, no equation http://www.cfht.hawaii.edu/~manset/PolarIntro_eng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fun page with Applets, on polarizing filters http://www.colorado.edu/physics/2000/polarization/polarization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short course http://www.glenbrook.k12.il.us/gbssci/phys/Class/light/u12l1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mentation for Astrophysical Spectropolarimetry”, a series of 5 lectures given at the IAC Winter School on Astrophysical Spectropolarimetry, November 2000 –http://www.noao.edu/noao/staff/keller/lectures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 Light, D. Goldstein – excellent book, easy read, gives a lot of insight, highly recomm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graduate textbooks, either will d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s, E. Hec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s, F. S. Crawford, Berkeley Physics Course vol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 Light, D. Goldstein – excellent book, easy read, gives a lot of insight, highly recomm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graduate textbooks, either will d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s, E. Hec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s, F. S. Crawford, Berkeley Physics Course vol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nomy, easy/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nomical Polarimetry, J. Tinbergen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 polarisation de la lumière et l'observation astronomique, J.-L. Leroy – astronomy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 – old but clas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 papers by K. Serkowski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, easy/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ical Polarimetry, J. Tinbergen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polarisation de la lumière et l'observation astronomique, J.-L. Leroy – astronomy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 – old but clas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apers by K. Serkowski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nomy, adv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troduction to Spectropolarimetry, J.C. del Toro Iniesta – radiative transfer – ouch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physical Spectropolarimetry, Trujillo-Bueno et al. (eds) – applications to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, adv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to Spectropolarimetry, J.C. del Toro Iniesta – radiative transfer – ouch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physical Spectropolarimetry, Trujillo-Bueno et al. (eds) – applications to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phase difference (=0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0x = E0y, then Ex = 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phase difference (=0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0x = E0y, then Ex = 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D2BB-1E33-42B8-864E-1E37B207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583B-9D76-4E8D-ABEC-327A405C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C744-64C4-4A20-82D4-0F0373E5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912F-D6F0-4C6D-AB46-FEB76744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8D16-8887-4D42-A5D6-6FCBDAD2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B8C8-9589-41A5-B88F-BA2B8E85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F17B-AFA9-46C0-9794-DD2D1CBA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8AD4-C6DB-4A55-8C9A-F914E40C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F5BF-6CEA-4BB6-A34A-ED93AE1B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44F7-7E26-4EE2-89FC-80933ECA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5ED2-CA21-4DF4-8111-0352229A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07AE-3AD2-4967-B240-D63D86448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55DF-2A48-4577-B18F-79D60E6A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F4B2-8ACE-469A-846E-780800CA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0209-C2AD-4B65-B0C5-2C116231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9790-CB15-4241-A8E8-5332146CF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3031-17E5-44BF-A67D-1DFE868A0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8765-0654-4EC9-A5FE-DFC67BC4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FCD9-362B-49DA-BD90-02EF428C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4469-AF4B-4AB5-A13C-E2168F51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925D-5E8E-486A-B926-0C7342C1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7AF3-5BD3-4776-B3D4-F6631ECF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71F1-050D-4964-88B4-B4941FD8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A6EF-F213-42D9-8F7B-E0C53F30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8A6E-FCBF-4629-87FA-CF2A5F2C93E4}" type="slidenum"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65F9-D067-44ED-AB7C-37EAC0C77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no.edu/~jsulliva/java/EMWave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colorado.edu/physics/2000/applets/lens.html" TargetMode="External"/><Relationship Id="rId2" Type="http://schemas.openxmlformats.org/officeDocument/2006/relationships/hyperlink" Target="http://www.colorado.edu/physics/2000/applets/lens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hyperlink" Target="http://www.noao.edu/noao/staff/keller/" TargetMode="External"/><Relationship Id="rId2" Type="http://schemas.openxmlformats.org/officeDocument/2006/relationships/hyperlink" Target="http://www.meadowlark.com/" TargetMode="External"/><Relationship Id="rId3" Type="http://schemas.openxmlformats.org/officeDocument/2006/relationships/hyperlink" Target="http://www.optics.arizona.edu/jcwyant/JoseDiaz/Polarization-Circular.htm" TargetMode="External"/><Relationship Id="rId4" Type="http://schemas.openxmlformats.org/officeDocument/2006/relationships/hyperlink" Target="http://www.colorado.edu/physics/2000/polarization/polarizationII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hyperlink" Target="http://www.cfht.hawaii.edu/~manset/PolarIntro_eng.html" TargetMode="External"/><Relationship Id="rId2" Type="http://schemas.openxmlformats.org/officeDocument/2006/relationships/hyperlink" Target="http://www.colorado.edu/physics/2000/polarization/polarizationI.html" TargetMode="External"/><Relationship Id="rId3" Type="http://schemas.openxmlformats.org/officeDocument/2006/relationships/hyperlink" Target="http://www.glenbrook.k12.il.us/gbssci/phys/Class/light/u12l1e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ation of Light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from Basics to Instruments</a:t>
            </a:r>
            <a:br>
              <a:rPr sz="4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in less than 100 slides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895120" y="4876920"/>
            <a:ext cx="2514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. Man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C:\Documents and Settings\manset\My Documents\CFHT_AND_SCIENCE\PolarizationOfLight\DoubleRefraction.gif"/>
          <p:cNvPicPr/>
          <p:nvPr/>
        </p:nvPicPr>
        <p:blipFill>
          <a:blip r:embed="rId1"/>
          <a:stretch/>
        </p:blipFill>
        <p:spPr>
          <a:xfrm>
            <a:off x="380880" y="228600"/>
            <a:ext cx="3508560" cy="1828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C:\Documents and Settings\manset\My Documents\CFHT_AND_SCIENCE\Espadons\SPIE\Materiel\PolarModule3D_crop.jpg"/>
          <p:cNvPicPr/>
          <p:nvPr/>
        </p:nvPicPr>
        <p:blipFill>
          <a:blip r:embed="rId2"/>
          <a:stretch/>
        </p:blipFill>
        <p:spPr>
          <a:xfrm>
            <a:off x="5715000" y="3733920"/>
            <a:ext cx="2998800" cy="2744640"/>
          </a:xfrm>
          <a:prstGeom prst="rect">
            <a:avLst/>
          </a:prstGeom>
          <a:ln w="0">
            <a:noFill/>
          </a:ln>
        </p:spPr>
      </p:pic>
      <p:sp>
        <p:nvSpPr>
          <p:cNvPr id="93" name="Дата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ation at 45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8" name="Picture 3" descr="C:\Documents and Settings\manset\My Documents\CFHT_AND_SCIENCE\PolarizationOfLight\LinearLight.jpg"/>
          <p:cNvPicPr/>
          <p:nvPr/>
        </p:nvPicPr>
        <p:blipFill>
          <a:blip r:embed="rId1"/>
          <a:stretch/>
        </p:blipFill>
        <p:spPr>
          <a:xfrm>
            <a:off x="2743200" y="1828800"/>
            <a:ext cx="3807000" cy="39290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line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phase difference is </a:t>
            </a:r>
            <a:r>
              <a:rPr b="0" lang="en-US" sz="32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9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o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,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we get the equation of a circ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7"/>
              <p:cNvSpPr txBox="1"/>
              <p:nvPr/>
            </p:nvSpPr>
            <p:spPr>
              <a:xfrm>
                <a:off x="2043000" y="4572000"/>
                <a:ext cx="527364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y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Θ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0"/>
              <p:cNvSpPr txBox="1"/>
              <p:nvPr/>
            </p:nvSpPr>
            <p:spPr>
              <a:xfrm>
                <a:off x="2590920" y="1828800"/>
                <a:ext cx="3809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62" name="Picture 10" descr="C:\Documents and Settings\manset\My Documents\CFHT_AND_SCIENCE\PolarizationOfLight\Circularlypolarized.gif"/>
          <p:cNvPicPr/>
          <p:nvPr/>
        </p:nvPicPr>
        <p:blipFill>
          <a:blip r:embed="rId1"/>
          <a:stretch/>
        </p:blipFill>
        <p:spPr>
          <a:xfrm>
            <a:off x="2114640" y="2257560"/>
            <a:ext cx="4914720" cy="23428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68" name="Picture 5" descr="C:\Documents and Settings\manset\My Documents\CFHT_AND_SCIENCE\PolarizationOfLight\CircularHecht.jpg"/>
          <p:cNvPicPr/>
          <p:nvPr/>
        </p:nvPicPr>
        <p:blipFill>
          <a:blip r:embed="rId1"/>
          <a:stretch/>
        </p:blipFill>
        <p:spPr>
          <a:xfrm>
            <a:off x="2743200" y="2057400"/>
            <a:ext cx="3633840" cy="37130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V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3" name="Picture 4" descr="C:\Documents and Settings\manset\My Documents\CFHT_AND_SCIENCE\PolarizationOfLight\CircularPolMovie.gif"/>
          <p:cNvPicPr/>
          <p:nvPr/>
        </p:nvPicPr>
        <p:blipFill>
          <a:blip r:embed="rId1"/>
          <a:stretch/>
        </p:blipFill>
        <p:spPr>
          <a:xfrm>
            <a:off x="2895480" y="1752480"/>
            <a:ext cx="3292560" cy="41497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... see it now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lliptical polariza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79" name="Picture 5" descr="C:\Documents and Settings\manset\My Documents\CFHT_AND_SCIENCE\PolarizationOfLight\Elliptically polarized.gif"/>
          <p:cNvPicPr/>
          <p:nvPr/>
        </p:nvPicPr>
        <p:blipFill>
          <a:blip r:embed="rId1"/>
          <a:stretch/>
        </p:blipFill>
        <p:spPr>
          <a:xfrm>
            <a:off x="304920" y="2286000"/>
            <a:ext cx="4914720" cy="2308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C:\Documents and Settings\manset\My Documents\CFHT_AND_SCIENCE\PolarizationOfLight\Ellipse.gif"/>
          <p:cNvPicPr/>
          <p:nvPr/>
        </p:nvPicPr>
        <p:blipFill>
          <a:blip r:embed="rId2"/>
          <a:stretch/>
        </p:blipFill>
        <p:spPr>
          <a:xfrm>
            <a:off x="5334120" y="2209680"/>
            <a:ext cx="3438360" cy="2502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elliptical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143000" y="5105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+ circular polarization = elliptical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Unpolarized light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(natural light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6" name="Picture 3" descr="C:\Documents and Settings\manset\My Documents\CFHT_AND_SCIENCE\PolarizationOfLight\UnpolarizedLightMovie.gif"/>
          <p:cNvPicPr/>
          <p:nvPr/>
        </p:nvPicPr>
        <p:blipFill>
          <a:blip r:embed="rId1"/>
          <a:stretch/>
        </p:blipFill>
        <p:spPr>
          <a:xfrm>
            <a:off x="2817720" y="2131920"/>
            <a:ext cx="3508560" cy="25941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unpolarized l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cool Apple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97180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Electromagnetic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762120" y="53341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: http://www.uno.edu/~jsulliva/java/EMWav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I: Stokes parameters and Mueller matrice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kes parameters, Stokes v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kes parameters for linear and circular po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kes parameters and polarization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eller matrices, Mueller calcu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</a:t>
            </a:r>
            <a:br>
              <a:rPr sz="4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 tiny itsy-bitsy little bit of history...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762120" y="1676520"/>
            <a:ext cx="78483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69: Bartholinus discovers double refraction in calc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enturies: Huygens, Malus, Brewster, Biot, Fresnel and Arago, Nicol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entury: unsuccessful attempts to describe unpolarized light in terms of amplitu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52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r George Gabriel Stok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ok a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very differen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pproac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iscovered that polarization can be described in term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observabl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perimental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Introduc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533520" y="19810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larization ellipse is only valid at a given instant of time (function of tim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965160" y="2895480"/>
                <a:ext cx="725328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x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y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Text Box 5"/>
          <p:cNvSpPr/>
          <p:nvPr/>
        </p:nvSpPr>
        <p:spPr>
          <a:xfrm>
            <a:off x="533520" y="44197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get the Stokes parameters, do a time average (integral over time) and a little bit of algebr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 (II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described in terms of the electric field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3"/>
              <p:cNvSpPr txBox="1"/>
              <p:nvPr/>
            </p:nvSpPr>
            <p:spPr>
              <a:xfrm>
                <a:off x="228600" y="1905120"/>
                <a:ext cx="8756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ε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t xml:space="preserve">ε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4" name="Text Box 4"/>
          <p:cNvSpPr/>
          <p:nvPr/>
        </p:nvSpPr>
        <p:spPr>
          <a:xfrm>
            <a:off x="380880" y="32004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4 Stokes parame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4191120" y="3200400"/>
                <a:ext cx="3714480" cy="24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 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ε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Rectangle 6"/>
          <p:cNvSpPr/>
          <p:nvPr/>
        </p:nvSpPr>
        <p:spPr>
          <a:xfrm>
            <a:off x="4191120" y="3200400"/>
            <a:ext cx="373356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 (III)</a:t>
            </a:r>
            <a:br>
              <a:rPr sz="44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described in geometrical terms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1" name="Picture 3" descr="C:\Documents and Settings\manset\My Documents\CFHT_AND_SCIENCE\PolarizationOfLight\Ellipse.gif"/>
          <p:cNvPicPr/>
          <p:nvPr/>
        </p:nvPicPr>
        <p:blipFill>
          <a:blip r:embed="rId1"/>
          <a:stretch/>
        </p:blipFill>
        <p:spPr>
          <a:xfrm>
            <a:off x="762120" y="2743200"/>
            <a:ext cx="3438360" cy="2502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4495680" y="2895480"/>
                <a:ext cx="3911760" cy="233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β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φ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β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φ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β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3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vector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685800" y="1219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okes parameters can be arranged in a Stokes vec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1295280" y="1676520"/>
                <a:ext cx="6070680" cy="21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+</m:t>
                              </m:r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 </m:t>
                              </m:r>
                              <m:r>
                                <m:t xml:space="preserve">ε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 </m:t>
                              </m:r>
                              <m:r>
                                <m:t xml:space="preserve">ε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tensity</m:t>
                              </m:r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0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5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5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CP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CP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9" name="Text Box 11"/>
          <p:cNvSpPr/>
          <p:nvPr/>
        </p:nvSpPr>
        <p:spPr>
          <a:xfrm>
            <a:off x="1295280" y="4038480"/>
            <a:ext cx="327672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y polariz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polariz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2"/>
              <p:cNvSpPr txBox="1"/>
              <p:nvPr/>
            </p:nvSpPr>
            <p:spPr>
              <a:xfrm>
                <a:off x="4724280" y="4038480"/>
                <a:ext cx="2286000" cy="21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0, U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0, 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 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 V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&gt;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" name="Text Box 13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Stokes ve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ictorial representation of the Stokes paramet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5" name="Picture 3" descr="C:\Documents and Settings\manset\My Documents\CFHT_AND_SCIENCE\PolarizationOfLight\PictorialPolarization.jpg"/>
          <p:cNvPicPr/>
          <p:nvPr/>
        </p:nvPicPr>
        <p:blipFill>
          <a:blip r:embed="rId1"/>
          <a:stretch/>
        </p:blipFill>
        <p:spPr>
          <a:xfrm>
            <a:off x="1371600" y="1905120"/>
            <a:ext cx="6580080" cy="39272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09480" y="32767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6"/>
              <p:cNvSpPr txBox="1"/>
              <p:nvPr/>
            </p:nvSpPr>
            <p:spPr>
              <a:xfrm>
                <a:off x="609480" y="297180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vectors for linearly polarized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9907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H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066680" y="2819520"/>
                <a:ext cx="990720" cy="30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4" name="Text Box 5"/>
          <p:cNvSpPr/>
          <p:nvPr/>
        </p:nvSpPr>
        <p:spPr>
          <a:xfrm>
            <a:off x="28195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V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8769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685800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8"/>
              <p:cNvSpPr txBox="1"/>
              <p:nvPr/>
            </p:nvSpPr>
            <p:spPr>
              <a:xfrm>
                <a:off x="2944800" y="2819520"/>
                <a:ext cx="1085760" cy="32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5029200" y="2819520"/>
                <a:ext cx="990720" cy="30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10"/>
              <p:cNvSpPr txBox="1"/>
              <p:nvPr/>
            </p:nvSpPr>
            <p:spPr>
              <a:xfrm>
                <a:off x="6972480" y="2895480"/>
                <a:ext cx="1220760" cy="30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0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vectors for circularly polarized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21337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C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2286000" y="2819520"/>
                <a:ext cx="990720" cy="30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6" name="Text Box 5"/>
          <p:cNvSpPr/>
          <p:nvPr/>
        </p:nvSpPr>
        <p:spPr>
          <a:xfrm>
            <a:off x="53341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8"/>
              <p:cNvSpPr txBox="1"/>
              <p:nvPr/>
            </p:nvSpPr>
            <p:spPr>
              <a:xfrm>
                <a:off x="5410080" y="2819520"/>
                <a:ext cx="1030320" cy="32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8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(Q,U) to (P,</a:t>
            </a:r>
            <a:r>
              <a:rPr b="1" lang="en-US" sz="4400" spc="-1" strike="noStrike">
                <a:solidFill>
                  <a:srgbClr val="000066"/>
                </a:solidFill>
                <a:latin typeface="UniversalMath1 BT"/>
                <a:ea typeface="UniversalMath1 BT"/>
              </a:rPr>
              <a:t>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990720" y="16002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case of linear polarization (V=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5"/>
              <p:cNvSpPr txBox="1"/>
              <p:nvPr/>
            </p:nvSpPr>
            <p:spPr>
              <a:xfrm>
                <a:off x="2209680" y="2209680"/>
                <a:ext cx="176544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6"/>
              <p:cNvSpPr txBox="1"/>
              <p:nvPr/>
            </p:nvSpPr>
            <p:spPr>
              <a:xfrm>
                <a:off x="4876920" y="2286000"/>
                <a:ext cx="179064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rcta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7"/>
              <p:cNvSpPr txBox="1"/>
              <p:nvPr/>
            </p:nvSpPr>
            <p:spPr>
              <a:xfrm>
                <a:off x="2209680" y="3352680"/>
                <a:ext cx="17971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 cos 2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8"/>
              <p:cNvSpPr txBox="1"/>
              <p:nvPr/>
            </p:nvSpPr>
            <p:spPr>
              <a:xfrm>
                <a:off x="4724280" y="3352680"/>
                <a:ext cx="1828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P sin 2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7" name="Picture 9" descr="C:\Documents and Settings\manset\My Documents\CFHT_AND_SCIENCE\PolarizationOfLight\PT-QU.gif"/>
          <p:cNvPicPr/>
          <p:nvPr/>
        </p:nvPicPr>
        <p:blipFill>
          <a:blip r:embed="rId1"/>
          <a:stretch/>
        </p:blipFill>
        <p:spPr>
          <a:xfrm>
            <a:off x="1828800" y="3886200"/>
            <a:ext cx="5189400" cy="23781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0"/>
          <p:cNvSpPr/>
          <p:nvPr/>
        </p:nvSpPr>
        <p:spPr>
          <a:xfrm>
            <a:off x="1981080" y="2133720"/>
            <a:ext cx="48006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1981080" y="3352680"/>
            <a:ext cx="4800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ce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685800" y="20574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light is represented by Stokes vectors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tical components are then described with Mueller matr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output light] = [Muller matrix]  [input ligh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4"/>
              <p:cNvSpPr txBox="1"/>
              <p:nvPr/>
            </p:nvSpPr>
            <p:spPr>
              <a:xfrm>
                <a:off x="1722600" y="3657600"/>
                <a:ext cx="5229000" cy="227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6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Mueller 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AutoShape 3"/>
          <p:cNvSpPr/>
          <p:nvPr/>
        </p:nvSpPr>
        <p:spPr>
          <a:xfrm>
            <a:off x="1219320" y="25909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4"/>
          <p:cNvSpPr/>
          <p:nvPr/>
        </p:nvSpPr>
        <p:spPr>
          <a:xfrm>
            <a:off x="7315200" y="25909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5"/>
          <p:cNvSpPr/>
          <p:nvPr/>
        </p:nvSpPr>
        <p:spPr>
          <a:xfrm>
            <a:off x="2743200" y="2590920"/>
            <a:ext cx="914400" cy="380880"/>
          </a:xfrm>
          <a:prstGeom prst="parallelogram">
            <a:avLst>
              <a:gd name="adj" fmla="val 60019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4495680" y="2438280"/>
            <a:ext cx="304920" cy="8384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7"/>
          <p:cNvSpPr/>
          <p:nvPr/>
        </p:nvSpPr>
        <p:spPr>
          <a:xfrm>
            <a:off x="5791320" y="2438280"/>
            <a:ext cx="914400" cy="60984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2286000" y="34290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1       Element 2     Eleme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9"/>
              <p:cNvSpPr txBox="1"/>
              <p:nvPr/>
            </p:nvSpPr>
            <p:spPr>
              <a:xfrm>
                <a:off x="2666880" y="3962520"/>
                <a:ext cx="5716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10"/>
              <p:cNvSpPr txBox="1"/>
              <p:nvPr/>
            </p:nvSpPr>
            <p:spPr>
              <a:xfrm>
                <a:off x="4479840" y="3962520"/>
                <a:ext cx="6033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11"/>
              <p:cNvSpPr txBox="1"/>
              <p:nvPr/>
            </p:nvSpPr>
            <p:spPr>
              <a:xfrm>
                <a:off x="6080040" y="3946680"/>
                <a:ext cx="6033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9" name="Text Box 13"/>
          <p:cNvSpPr/>
          <p:nvPr/>
        </p:nvSpPr>
        <p:spPr>
          <a:xfrm>
            <a:off x="3276720" y="4876920"/>
            <a:ext cx="27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Times New Roman"/>
              </a:rPr>
              <a:t>I’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00cc99"/>
                </a:solidFill>
                <a:latin typeface="Times New Roman"/>
              </a:rPr>
              <a:t>M</a:t>
            </a:r>
            <a:r>
              <a:rPr b="1" lang="en-US" sz="30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66cc"/>
                </a:solidFill>
                <a:latin typeface="Times New Roman"/>
              </a:rPr>
              <a:t>M</a:t>
            </a:r>
            <a:r>
              <a:rPr b="1" lang="en-US" sz="3000" spc="-1" strike="noStrike" baseline="-25000">
                <a:solidFill>
                  <a:srgbClr val="ff66cc"/>
                </a:solidFill>
                <a:latin typeface="Times New Roman"/>
              </a:rPr>
              <a:t>2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777777"/>
                </a:solidFill>
                <a:latin typeface="Times New Roman"/>
              </a:rPr>
              <a:t>M</a:t>
            </a:r>
            <a:r>
              <a:rPr b="1" lang="en-US" sz="3000" spc="-1" strike="noStrike" baseline="-25000">
                <a:solidFill>
                  <a:srgbClr val="777777"/>
                </a:solidFill>
                <a:latin typeface="Times New Roman"/>
              </a:rPr>
              <a:t>1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5"/>
          <p:cNvSpPr/>
          <p:nvPr/>
        </p:nvSpPr>
        <p:spPr>
          <a:xfrm>
            <a:off x="990720" y="2133720"/>
            <a:ext cx="73911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6"/>
          <p:cNvSpPr/>
          <p:nvPr/>
        </p:nvSpPr>
        <p:spPr>
          <a:xfrm>
            <a:off x="3276720" y="4876920"/>
            <a:ext cx="2666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Mueller 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: Different polarization states of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ematical and graphical descriptions of po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, circular, elliptical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zed, unpolarized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838080" y="19810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eller matri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n optical component with Mueller matri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tated by an angle </a:t>
            </a:r>
            <a:r>
              <a:rPr b="0" lang="en-US" sz="24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2209680" y="3124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’ = R(- </a:t>
            </a:r>
            <a:r>
              <a:rPr b="0" lang="en-US" sz="24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   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5"/>
              <p:cNvSpPr txBox="1"/>
              <p:nvPr/>
            </p:nvSpPr>
            <p:spPr>
              <a:xfrm>
                <a:off x="2338560" y="3809880"/>
                <a:ext cx="3958920" cy="171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Mueller 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Jones formalism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685800" y="20574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kes vectors and Mueller matrices cannot describe interference effects.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f the phase information is importa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adio-astronomy, masers...)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one has to use the Jones formali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ith complex vectors and Jones matric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685800" y="358128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nes vectors to describe the polarization of lig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4800600" y="35812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nes matrices to represent optical compon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8"/>
              <p:cNvSpPr txBox="1"/>
              <p:nvPr/>
            </p:nvSpPr>
            <p:spPr>
              <a:xfrm>
                <a:off x="1676520" y="4495680"/>
                <a:ext cx="152388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9"/>
              <p:cNvSpPr txBox="1"/>
              <p:nvPr/>
            </p:nvSpPr>
            <p:spPr>
              <a:xfrm>
                <a:off x="5791320" y="4419720"/>
                <a:ext cx="17017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8" name="Text Box 10"/>
          <p:cNvSpPr/>
          <p:nvPr/>
        </p:nvSpPr>
        <p:spPr>
          <a:xfrm>
            <a:off x="685800" y="55627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: Jones formalism can only deal with 100% polarizatio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Jones formalism, not that important here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II: Optical components fo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80720" y="2743200"/>
            <a:ext cx="5715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omplex index of refrac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685800" y="1676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dex of refraction is actually a complex quant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4"/>
              <p:cNvSpPr txBox="1"/>
              <p:nvPr/>
            </p:nvSpPr>
            <p:spPr>
              <a:xfrm>
                <a:off x="2921040" y="2209680"/>
                <a:ext cx="25653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i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Text Box 5"/>
          <p:cNvSpPr/>
          <p:nvPr/>
        </p:nvSpPr>
        <p:spPr>
          <a:xfrm>
            <a:off x="1143000" y="3352680"/>
            <a:ext cx="3200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path length, refraction: speed of light depends on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irefring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peed of light also depends on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4952880" y="3352680"/>
            <a:ext cx="3581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ary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rption, attenuation, extinction: depends on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chroism/diattenu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lso depends on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1066680" y="3352680"/>
            <a:ext cx="335304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4876920" y="3352680"/>
            <a:ext cx="35812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10"/>
          <p:cNvSpPr/>
          <p:nvPr/>
        </p:nvSpPr>
        <p:spPr>
          <a:xfrm flipH="1">
            <a:off x="2743200" y="2971800"/>
            <a:ext cx="12952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1"/>
          <p:cNvSpPr/>
          <p:nvPr/>
        </p:nvSpPr>
        <p:spPr>
          <a:xfrm>
            <a:off x="5257800" y="2971800"/>
            <a:ext cx="12193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13"/>
          <p:cNvSpPr/>
          <p:nvPr/>
        </p:nvSpPr>
        <p:spPr>
          <a:xfrm rot="16243800">
            <a:off x="4038480" y="2666520"/>
            <a:ext cx="304920" cy="457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14"/>
          <p:cNvSpPr/>
          <p:nvPr/>
        </p:nvSpPr>
        <p:spPr>
          <a:xfrm rot="16243800">
            <a:off x="4952880" y="2666520"/>
            <a:ext cx="304920" cy="457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762120" y="1981080"/>
            <a:ext cx="7924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olarizers absorb one component of the polarization but not the oth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put is natural light, the output is polarized light (linear, circular, elliptical). They work by dichroism, birefringence, reflection, or scatt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Wire-grid polarizers (I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ly used in the IR and longer waveleng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id of parallel conducting wires with a spacing comparable to the wavelength of ob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ic field vector parallel to the wires is attenuated because of currents induced in the w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Wide-grid polarizers (II)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41" name="Picture 3" descr="C:\Documents and Settings\manset\My Documents\CFHT_AND_SCIENCE\PolarizationOfLight\WireGrid.jpg"/>
          <p:cNvPicPr/>
          <p:nvPr/>
        </p:nvPicPr>
        <p:blipFill>
          <a:blip r:embed="rId1"/>
          <a:stretch/>
        </p:blipFill>
        <p:spPr>
          <a:xfrm>
            <a:off x="685800" y="2895480"/>
            <a:ext cx="4343400" cy="26114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C:\Documents and Settings\manset\My Documents\CFHT_AND_SCIENCE\PolarizationOfLight\WireGridImage.gif"/>
          <p:cNvPicPr/>
          <p:nvPr/>
        </p:nvPicPr>
        <p:blipFill>
          <a:blip r:embed="rId2"/>
          <a:stretch/>
        </p:blipFill>
        <p:spPr>
          <a:xfrm>
            <a:off x="5486400" y="2438280"/>
            <a:ext cx="2308320" cy="16574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ichroic crystals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914400" y="3200400"/>
            <a:ext cx="4191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hroic crystals absorb one polarization state over the other o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tourma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4" descr="C:\Documents and Settings\manset\My Documents\CFHT_AND_SCIENCE\PolarizationOfLight\DichroicCrystal.jpg"/>
          <p:cNvPicPr/>
          <p:nvPr/>
        </p:nvPicPr>
        <p:blipFill>
          <a:blip r:embed="rId1"/>
          <a:stretch/>
        </p:blipFill>
        <p:spPr>
          <a:xfrm>
            <a:off x="5181480" y="2514600"/>
            <a:ext cx="3097440" cy="305424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s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838080" y="19051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by heating and stretching a sheet of PVA laminated to a supporting sheet of cellulose acetate treated with iodine solution (H-type polaroid). Invented in 192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4" descr="C:\Documents and Settings\manset\My Documents\CFHT_AND_SCIENCE\PolarizationOfLight\Polaroid.gif"/>
          <p:cNvPicPr/>
          <p:nvPr/>
        </p:nvPicPr>
        <p:blipFill>
          <a:blip r:embed="rId1"/>
          <a:stretch/>
        </p:blipFill>
        <p:spPr>
          <a:xfrm>
            <a:off x="2362320" y="3809880"/>
            <a:ext cx="4435200" cy="186372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 – Polaroids, like in sunglasse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Picture 6" descr="C:\Documents and Settings\manset\My Documents\My Pictures\animated-sunglasses.gif"/>
          <p:cNvPicPr/>
          <p:nvPr/>
        </p:nvPicPr>
        <p:blipFill>
          <a:blip r:embed="rId2"/>
          <a:stretch/>
        </p:blipFill>
        <p:spPr>
          <a:xfrm>
            <a:off x="6248520" y="152280"/>
            <a:ext cx="914400" cy="4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ystal polarizers (I)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birefringence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228600" y="1981080"/>
            <a:ext cx="6324480" cy="38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cally anisotropic cryst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cal 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rystal is anisotropic, which means that the electrons are bound with different ‘springs’ depending on the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‘spring constants’ gives different propagation speeds, therefore different indices of refraction, therefore 2 output bea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7" descr="C:\Documents and Settings\manset\My Documents\CFHT_AND_SCIENCE\PolarizationOfLight\ElectronSpring.jpg"/>
          <p:cNvPicPr/>
          <p:nvPr/>
        </p:nvPicPr>
        <p:blipFill>
          <a:blip r:embed="rId1"/>
          <a:stretch/>
        </p:blipFill>
        <p:spPr>
          <a:xfrm>
            <a:off x="6540480" y="2971800"/>
            <a:ext cx="2603520" cy="236520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Light as an electromagnetic wave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is a transverse wav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electro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magne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C:\Documents and Settings\manset\My Documents\CFHT_AND_SCIENCE\PolarizationOfLight\ElectroMagneticWave.gif"/>
          <p:cNvPicPr/>
          <p:nvPr/>
        </p:nvPicPr>
        <p:blipFill>
          <a:blip r:embed="rId1"/>
          <a:stretch/>
        </p:blipFill>
        <p:spPr>
          <a:xfrm>
            <a:off x="2819520" y="3733920"/>
            <a:ext cx="3336840" cy="19317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685800" y="2362320"/>
            <a:ext cx="777240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ystal polarizers (II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birefringence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676520" y="52578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2 output beams are polarized (orthogonall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11"/>
          <p:cNvGrpSpPr/>
          <p:nvPr/>
        </p:nvGrpSpPr>
        <p:grpSpPr>
          <a:xfrm>
            <a:off x="1295280" y="3048120"/>
            <a:ext cx="7010640" cy="1828800"/>
            <a:chOff x="1295280" y="3048120"/>
            <a:chExt cx="7010640" cy="1828800"/>
          </a:xfrm>
        </p:grpSpPr>
        <p:pic>
          <p:nvPicPr>
            <p:cNvPr id="368" name="Picture 5" descr="C:\Documents and Settings\manset\My Documents\CFHT_AND_SCIENCE\PolarizationOfLight\DoubleRefraction.gif"/>
            <p:cNvPicPr/>
            <p:nvPr/>
          </p:nvPicPr>
          <p:blipFill>
            <a:blip r:embed="rId1"/>
            <a:stretch/>
          </p:blipFill>
          <p:spPr>
            <a:xfrm>
              <a:off x="2819520" y="3048120"/>
              <a:ext cx="35082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 Box 8"/>
            <p:cNvSpPr/>
            <p:nvPr/>
          </p:nvSpPr>
          <p:spPr>
            <a:xfrm>
              <a:off x="1295280" y="3200760"/>
              <a:ext cx="1447920" cy="13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isotrop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crysta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sodi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lorid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Text Box 9"/>
            <p:cNvSpPr/>
            <p:nvPr/>
          </p:nvSpPr>
          <p:spPr>
            <a:xfrm>
              <a:off x="6553080" y="3353040"/>
              <a:ext cx="1752840" cy="10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nisotrop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rys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calci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Text Box 1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ystal polarizers (IV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birefringence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152280" y="1752480"/>
            <a:ext cx="5639040" cy="40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stal polarizers us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m displac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m splitt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iz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s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col prism, Glan-Thomson polarizer, Glan or Glan-Foucault prism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ollaston pr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in-film polarizer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icture 5" descr="C:\Documents and Settings\manset\My Documents\CFHT_AND_SCIENCE\PolarizationOfLight\Prisms.jpg"/>
          <p:cNvPicPr/>
          <p:nvPr/>
        </p:nvPicPr>
        <p:blipFill>
          <a:blip r:embed="rId1"/>
          <a:stretch/>
        </p:blipFill>
        <p:spPr>
          <a:xfrm>
            <a:off x="5638680" y="1752480"/>
            <a:ext cx="3321000" cy="4373640"/>
          </a:xfrm>
          <a:prstGeom prst="rect">
            <a:avLst/>
          </a:prstGeom>
          <a:ln w="0">
            <a:noFill/>
          </a:ln>
        </p:spPr>
      </p:pic>
      <p:sp>
        <p:nvSpPr>
          <p:cNvPr id="378" name="Oval 6"/>
          <p:cNvSpPr/>
          <p:nvPr/>
        </p:nvSpPr>
        <p:spPr>
          <a:xfrm>
            <a:off x="5867280" y="4648320"/>
            <a:ext cx="99072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ces of polariz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838080" y="22860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deal) linear polarizer at ang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4"/>
              <p:cNvSpPr txBox="1"/>
              <p:nvPr/>
            </p:nvSpPr>
            <p:spPr>
              <a:xfrm>
                <a:off x="1752480" y="3124080"/>
                <a:ext cx="5461200" cy="18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4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6"/>
          <p:cNvSpPr/>
          <p:nvPr/>
        </p:nvSpPr>
        <p:spPr>
          <a:xfrm>
            <a:off x="1752480" y="3429000"/>
            <a:ext cx="304920" cy="12952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AutoShape 7"/>
          <p:cNvSpPr/>
          <p:nvPr/>
        </p:nvSpPr>
        <p:spPr>
          <a:xfrm rot="16200000">
            <a:off x="1409400" y="239976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Freeform 8"/>
          <p:cNvSpPr/>
          <p:nvPr/>
        </p:nvSpPr>
        <p:spPr>
          <a:xfrm>
            <a:off x="1054080" y="3048120"/>
            <a:ext cx="647640" cy="1181160"/>
          </a:xfrm>
          <a:custGeom>
            <a:avLst/>
            <a:gdLst>
              <a:gd name="textAreaLeft" fmla="*/ 0 w 647640"/>
              <a:gd name="textAreaRight" fmla="*/ 648000 w 64764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408" h="744">
                <a:moveTo>
                  <a:pt x="296" y="0"/>
                </a:moveTo>
                <a:cubicBezTo>
                  <a:pt x="148" y="88"/>
                  <a:pt x="0" y="176"/>
                  <a:pt x="8" y="288"/>
                </a:cubicBezTo>
                <a:cubicBezTo>
                  <a:pt x="16" y="400"/>
                  <a:pt x="280" y="600"/>
                  <a:pt x="344" y="672"/>
                </a:cubicBezTo>
                <a:cubicBezTo>
                  <a:pt x="408" y="744"/>
                  <a:pt x="400" y="732"/>
                  <a:pt x="392" y="72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ces of polarizer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838080" y="25146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) polarizer at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4"/>
              <p:cNvSpPr txBox="1"/>
              <p:nvPr/>
            </p:nvSpPr>
            <p:spPr>
              <a:xfrm>
                <a:off x="457200" y="3429000"/>
                <a:ext cx="2514600" cy="17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3" name="Text Box 5"/>
          <p:cNvSpPr/>
          <p:nvPr/>
        </p:nvSpPr>
        <p:spPr>
          <a:xfrm>
            <a:off x="3657600" y="25146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) polarizer at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6"/>
              <p:cNvSpPr txBox="1"/>
              <p:nvPr/>
            </p:nvSpPr>
            <p:spPr>
              <a:xfrm>
                <a:off x="3276720" y="3505320"/>
                <a:ext cx="236196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5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6324480" y="25146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V) polariz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9"/>
              <p:cNvSpPr txBox="1"/>
              <p:nvPr/>
            </p:nvSpPr>
            <p:spPr>
              <a:xfrm>
                <a:off x="6019920" y="3505320"/>
                <a:ext cx="243828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8" name="AutoShape 10"/>
          <p:cNvSpPr/>
          <p:nvPr/>
        </p:nvSpPr>
        <p:spPr>
          <a:xfrm>
            <a:off x="380880" y="2514600"/>
            <a:ext cx="2743200" cy="29718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971800"/>
              <a:gd name="textAreaBottom" fmla="*/ 2837880 h 2971800"/>
            </a:gdLst>
            <a:ahLst/>
            <a:rect l="textAreaLeft" t="textAreaTop" r="textAreaRight" b="textAreaBottom"/>
            <a:pathLst>
              <a:path w="21600" h="23400">
                <a:moveTo>
                  <a:pt x="3600" y="0"/>
                </a:moveTo>
                <a:arcTo wR="3600" hR="3600" stAng="16200000" swAng="-5400000"/>
                <a:lnTo>
                  <a:pt x="0" y="19800"/>
                </a:lnTo>
                <a:arcTo wR="3600" hR="3600" stAng="10800000" swAng="-5400000"/>
                <a:lnTo>
                  <a:pt x="18000" y="23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11"/>
          <p:cNvSpPr/>
          <p:nvPr/>
        </p:nvSpPr>
        <p:spPr>
          <a:xfrm>
            <a:off x="3124080" y="2514600"/>
            <a:ext cx="2743200" cy="29718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971800"/>
              <a:gd name="textAreaBottom" fmla="*/ 2837880 h 2971800"/>
            </a:gdLst>
            <a:ahLst/>
            <a:rect l="textAreaLeft" t="textAreaTop" r="textAreaRight" b="textAreaBottom"/>
            <a:pathLst>
              <a:path w="21600" h="23400">
                <a:moveTo>
                  <a:pt x="3600" y="0"/>
                </a:moveTo>
                <a:arcTo wR="3600" hR="3600" stAng="16200000" swAng="-5400000"/>
                <a:lnTo>
                  <a:pt x="0" y="19800"/>
                </a:lnTo>
                <a:arcTo wR="3600" hR="3600" stAng="10800000" swAng="-5400000"/>
                <a:lnTo>
                  <a:pt x="18000" y="23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12"/>
          <p:cNvSpPr/>
          <p:nvPr/>
        </p:nvSpPr>
        <p:spPr>
          <a:xfrm>
            <a:off x="5867280" y="2514600"/>
            <a:ext cx="2743200" cy="29718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971800"/>
              <a:gd name="textAreaBottom" fmla="*/ 2837880 h 2971800"/>
            </a:gdLst>
            <a:ahLst/>
            <a:rect l="textAreaLeft" t="textAreaTop" r="textAreaRight" b="textAreaBottom"/>
            <a:pathLst>
              <a:path w="21600" h="23400">
                <a:moveTo>
                  <a:pt x="3600" y="0"/>
                </a:moveTo>
                <a:arcTo wR="3600" hR="3600" stAng="16200000" swAng="-5400000"/>
                <a:lnTo>
                  <a:pt x="0" y="19800"/>
                </a:lnTo>
                <a:arcTo wR="3600" hR="3600" stAng="10800000" swAng="-5400000"/>
                <a:lnTo>
                  <a:pt x="18000" y="23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with a polarizer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914400" y="19810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light: unpolarized --- output light: po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4"/>
              <p:cNvSpPr txBox="1"/>
              <p:nvPr/>
            </p:nvSpPr>
            <p:spPr>
              <a:xfrm>
                <a:off x="1352520" y="2895480"/>
                <a:ext cx="5780160" cy="20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I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6" name="Text Box 5"/>
          <p:cNvSpPr/>
          <p:nvPr/>
        </p:nvSpPr>
        <p:spPr>
          <a:xfrm>
            <a:off x="4876920" y="5257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output intensity: 0.5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tard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685800" y="1905120"/>
            <a:ext cx="76201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 retarders, one polarization gets ‘retarded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delayed, with respect to the other one. There is a final phase difference between the 2 components of the polarization. Therefore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polarization is chang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retarders are based on birefringent materials (quartz, mica, polymers) that have different indices of refraction depending on the polarization of the incoming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Дата 4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Нижний колонтитул 5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Half-Wave plate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rdation of ½ wave or 18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for one of the polariz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sed to flip the linear polarization or change the handedness of circular polar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Picture 7" descr="C:\Documents and Settings\manset\My Documents\CFHT_AND_SCIENCE\PolarizationOfLight\Half-Wave-process.jpg"/>
          <p:cNvPicPr/>
          <p:nvPr/>
        </p:nvPicPr>
        <p:blipFill>
          <a:blip r:embed="rId1"/>
          <a:stretch/>
        </p:blipFill>
        <p:spPr>
          <a:xfrm>
            <a:off x="4800600" y="2133720"/>
            <a:ext cx="3681360" cy="365112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Half-Wave plate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22" name="Picture 3" descr="C:\Documents and Settings\manset\My Documents\CFHT_AND_SCIENCE\PolarizationOfLight\HalfWavePlate.gif"/>
          <p:cNvPicPr/>
          <p:nvPr/>
        </p:nvPicPr>
        <p:blipFill>
          <a:blip r:embed="rId1"/>
          <a:stretch/>
        </p:blipFill>
        <p:spPr>
          <a:xfrm>
            <a:off x="2438280" y="2590920"/>
            <a:ext cx="3886200" cy="220644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Дата 4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Нижний колонтитул 5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Quarter-Wave plate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rdation of ¼ wave or 9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for one of the polar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sed to convert linear polarization to elliptic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8" descr="C:\Documents and Settings\manset\My Documents\CFHT_AND_SCIENCE\PolarizationOfLight\Circularlypolarized.gif"/>
          <p:cNvPicPr/>
          <p:nvPr/>
        </p:nvPicPr>
        <p:blipFill>
          <a:blip r:embed="rId1"/>
          <a:stretch/>
        </p:blipFill>
        <p:spPr>
          <a:xfrm>
            <a:off x="2133720" y="2895480"/>
            <a:ext cx="4914720" cy="234324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609480" y="1981080"/>
            <a:ext cx="80773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incoming light polarized at 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with respect to the retarder’s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version from linear to circular polarization (vice ver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Quarter-Wave plate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34" name="Picture 4" descr="C:\Documents and Settings\manset\My Documents\CFHT_AND_SCIENCE\PolarizationOfLight\QuarterWavePlate.gif"/>
          <p:cNvPicPr/>
          <p:nvPr/>
        </p:nvPicPr>
        <p:blipFill>
          <a:blip r:embed="rId1"/>
          <a:stretch/>
        </p:blipFill>
        <p:spPr>
          <a:xfrm>
            <a:off x="2971800" y="3048120"/>
            <a:ext cx="3886200" cy="217152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athematical description of the EM wave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wave that propagates in the z dir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2286000" y="3886200"/>
                <a:ext cx="467352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5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x of retard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990720" y="20574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rder of retard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position ang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4"/>
              <p:cNvSpPr txBox="1"/>
              <p:nvPr/>
            </p:nvSpPr>
            <p:spPr>
              <a:xfrm>
                <a:off x="1219320" y="2590920"/>
                <a:ext cx="6832440" cy="30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G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4ψ</m:t>
                                  </m:r>
                                </m:e>
                                <m:e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4ψ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2ψ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4ψ</m:t>
                                  </m:r>
                                </m:e>
                                <m:e>
                                  <m:r>
                                    <m:t xml:space="preserve">G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4ψ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2ψ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2ψ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2ψ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τ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: 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τ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τ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1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x of retarder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762120" y="2286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 oriented at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or 9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4952880" y="22096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 oriented a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Object 5"/>
              <p:cNvSpPr txBox="1"/>
              <p:nvPr/>
            </p:nvSpPr>
            <p:spPr>
              <a:xfrm>
                <a:off x="762120" y="3276720"/>
                <a:ext cx="2971800" cy="23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6"/>
              <p:cNvSpPr txBox="1"/>
              <p:nvPr/>
            </p:nvSpPr>
            <p:spPr>
              <a:xfrm>
                <a:off x="4876920" y="3200400"/>
                <a:ext cx="2971800" cy="23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x of retarders (I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762120" y="2286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oriented at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4952880" y="22096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oriented a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Object 5"/>
              <p:cNvSpPr txBox="1"/>
              <p:nvPr/>
            </p:nvSpPr>
            <p:spPr>
              <a:xfrm>
                <a:off x="888840" y="3276720"/>
                <a:ext cx="2716200" cy="23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6"/>
              <p:cNvSpPr txBox="1"/>
              <p:nvPr/>
            </p:nvSpPr>
            <p:spPr>
              <a:xfrm>
                <a:off x="4876920" y="3200400"/>
                <a:ext cx="2971800" cy="23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∓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7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with a retarder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3"/>
              <p:cNvSpPr txBox="1"/>
              <p:nvPr/>
            </p:nvSpPr>
            <p:spPr>
              <a:xfrm>
                <a:off x="1600200" y="3657600"/>
                <a:ext cx="5783400" cy="23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2" name="Text Box 4"/>
          <p:cNvSpPr/>
          <p:nvPr/>
        </p:nvSpPr>
        <p:spPr>
          <a:xfrm>
            <a:off x="990720" y="2133720"/>
            <a:ext cx="58672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light linear polarized (Q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at +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light circularly polarized (V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(Back to polarizers, briefly)</a:t>
            </a:r>
            <a:br>
              <a:rPr sz="32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609480" y="2057400"/>
            <a:ext cx="42674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light: unpolarized   --- Output light: circularly po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of a linear polarizer glued to a quarter-wave plate oriented at 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with respect to one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5" descr="C:\Documents and Settings\manset\My Documents\CFHT_AND_SCIENCE\PolarizationOfLight\Quarter-Wave-Plate.jpg"/>
          <p:cNvPicPr/>
          <p:nvPr/>
        </p:nvPicPr>
        <p:blipFill>
          <a:blip r:embed="rId1"/>
          <a:stretch/>
        </p:blipFill>
        <p:spPr>
          <a:xfrm>
            <a:off x="5029200" y="2057400"/>
            <a:ext cx="3184560" cy="349560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chromatic retard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rdation depends on wave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hromatic retarder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de of 2 different materials with opposite variations of index of refraction as a function of wave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ncharatnam achromatic retarder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de of 3 identical plates rotated w/r one an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achromatic retarder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pairs of quartz and Mg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chromatic retarder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Picture 7" descr="C:\Documents and Settings\manset\My Documents\CFHT_AND_SCIENCE\PolarizationOfLight\Retardance-panch.jpg"/>
          <p:cNvPicPr/>
          <p:nvPr/>
        </p:nvPicPr>
        <p:blipFill>
          <a:blip r:embed="rId1"/>
          <a:stretch/>
        </p:blipFill>
        <p:spPr>
          <a:xfrm>
            <a:off x="2286000" y="2666880"/>
            <a:ext cx="4495680" cy="3570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6" descr="C:\Documents and Settings\manset\My Documents\CFHT_AND_SCIENCE\PolarizationOfLight\Retardance-halfwave.jpg"/>
          <p:cNvPicPr/>
          <p:nvPr/>
        </p:nvPicPr>
        <p:blipFill>
          <a:blip r:embed="rId2"/>
          <a:stretch/>
        </p:blipFill>
        <p:spPr>
          <a:xfrm>
            <a:off x="2286000" y="1905120"/>
            <a:ext cx="4486320" cy="237780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8"/>
          <p:cNvSpPr/>
          <p:nvPr/>
        </p:nvSpPr>
        <p:spPr>
          <a:xfrm>
            <a:off x="1828800" y="22096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utoShape 9"/>
          <p:cNvSpPr/>
          <p:nvPr/>
        </p:nvSpPr>
        <p:spPr>
          <a:xfrm>
            <a:off x="1752480" y="4419720"/>
            <a:ext cx="381240" cy="990360"/>
          </a:xfrm>
          <a:custGeom>
            <a:avLst/>
            <a:gdLst>
              <a:gd name="textAreaLeft" fmla="*/ 243720 w 381240"/>
              <a:gd name="textAreaRight" fmla="*/ 381600 w 3812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304920" y="2286000"/>
            <a:ext cx="198108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UniversalMath1 BT"/>
                <a:ea typeface="UniversalMath1 BT"/>
              </a:rPr>
              <a:t>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=140-220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not very achromatic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1"/>
          <p:cNvSpPr/>
          <p:nvPr/>
        </p:nvSpPr>
        <p:spPr>
          <a:xfrm>
            <a:off x="228600" y="4495680"/>
            <a:ext cx="1752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UniversalMath1 BT"/>
                <a:ea typeface="UniversalMath1 BT"/>
              </a:rPr>
              <a:t>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 177-18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uch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tt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tardation on total internal reflec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31244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internal reflection produces retardation (phase shif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838080" y="426708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case, retardation is very achromatic since it only depends on the refractive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: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resnel rhom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Picture 7" descr="C:\Documents and Settings\manset\My Documents\CFHT_AND_SCIENCE\PolarizationOfLight\ReflectionPhaseShift2.gif"/>
          <p:cNvPicPr/>
          <p:nvPr/>
        </p:nvPicPr>
        <p:blipFill>
          <a:blip r:embed="rId1"/>
          <a:stretch/>
        </p:blipFill>
        <p:spPr>
          <a:xfrm>
            <a:off x="4038480" y="1981080"/>
            <a:ext cx="4059360" cy="235440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Fresnel rhombs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rter-wave and half-wave rhombs are achieved with 2 or 4 refl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Picture 4" descr="C:\Documents and Settings\manset\My Documents\CFHT_AND_SCIENCE\PolarizationOfLight\FresnelRhombs.gif"/>
          <p:cNvPicPr/>
          <p:nvPr/>
        </p:nvPicPr>
        <p:blipFill>
          <a:blip r:embed="rId1"/>
          <a:stretch/>
        </p:blipFill>
        <p:spPr>
          <a:xfrm>
            <a:off x="762120" y="3581280"/>
            <a:ext cx="7589880" cy="210348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Other retard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eil-Babinet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 retardation to better than 0.01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atic liquid crystals... Liquid crystal variable retarders... Ferroelectric liquid crystals... Piezo-elastic modulators... Pockels and Kerr cell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Graphical representation of the EM wave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can go fr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quation of an ellip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ing trigonometric identities, squaring, adding)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6"/>
              <p:cNvSpPr txBox="1"/>
              <p:nvPr/>
            </p:nvSpPr>
            <p:spPr>
              <a:xfrm>
                <a:off x="1676520" y="4572000"/>
                <a:ext cx="598176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y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8"/>
              <p:cNvSpPr txBox="1"/>
              <p:nvPr/>
            </p:nvSpPr>
            <p:spPr>
              <a:xfrm>
                <a:off x="3886200" y="2362320"/>
                <a:ext cx="3809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Text Box 1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V: Polarimet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828440" y="2895120"/>
            <a:ext cx="5715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olaroid-type polarimet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-type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linear polarimetry (I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685800" y="205740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linear polarizer (polaroid) to measure linear polarization ..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[another cool applet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http://www.colorado.edu/physics/2000/applets/len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zation percentage and position ang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7"/>
              <p:cNvSpPr txBox="1"/>
              <p:nvPr/>
            </p:nvSpPr>
            <p:spPr>
              <a:xfrm>
                <a:off x="2666880" y="3962520"/>
                <a:ext cx="3187800" cy="21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2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polaroid-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Object 9"/>
              <p:cNvSpPr txBox="1"/>
              <p:nvPr/>
            </p:nvSpPr>
            <p:spPr>
              <a:xfrm>
                <a:off x="6858000" y="411480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-type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linear polarimetry (II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62120" y="32763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: very simple to m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: half of the light is cut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disadvantages: non-simultaneous measurements, cross-talk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76212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he polaroid t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 posi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and 45º (to measure Q, then 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Picture 5" descr="C:\Documents and Settings\manset\My Documents\CFHT_AND_SCIENCE\PolarizationOfLight\PT-QU.gif"/>
          <p:cNvPicPr/>
          <p:nvPr/>
        </p:nvPicPr>
        <p:blipFill>
          <a:blip r:embed="rId1"/>
          <a:stretch/>
        </p:blipFill>
        <p:spPr>
          <a:xfrm>
            <a:off x="1981080" y="3809880"/>
            <a:ext cx="5189760" cy="237816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polaroid-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-type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circular polarimetry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oids are not sensitive to circular polarization, so convert circular polarization to linear first, by using  a quarter-wave 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meter now uses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quarter-wave plate and a polar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disadvantages as bef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polaroid-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rinciple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cutting out one polarization and keeping the other one (polaroid), split the 2 polarization states and keep them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ollaston pr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an analy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dvantages: need 2 detectors (PMTs, APDs) or an array; end up with 2 ‘pixels’ with different 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: rotate the Wollaston or keep it fixed and use a half-wave plate to switch the 2 b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witching beam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AutoShape 13"/>
          <p:cNvSpPr/>
          <p:nvPr/>
        </p:nvSpPr>
        <p:spPr>
          <a:xfrm>
            <a:off x="1219320" y="3276720"/>
            <a:ext cx="761760" cy="12952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14"/>
          <p:cNvSpPr/>
          <p:nvPr/>
        </p:nvSpPr>
        <p:spPr>
          <a:xfrm>
            <a:off x="1066680" y="2209680"/>
            <a:ext cx="990720" cy="914400"/>
          </a:xfrm>
          <a:custGeom>
            <a:avLst/>
            <a:gdLst>
              <a:gd name="textAreaLeft" fmla="*/ 99000 w 990720"/>
              <a:gd name="textAreaRight" fmla="*/ 891720 w 990720"/>
              <a:gd name="textAreaTop" fmla="*/ 365760 h 914400"/>
              <a:gd name="textAreaBottom" fmla="*/ 548640 h 914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15"/>
          <p:cNvSpPr/>
          <p:nvPr/>
        </p:nvSpPr>
        <p:spPr>
          <a:xfrm>
            <a:off x="990720" y="472428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16"/>
          <p:cNvSpPr/>
          <p:nvPr/>
        </p:nvSpPr>
        <p:spPr>
          <a:xfrm rot="5400000">
            <a:off x="1904400" y="4800600"/>
            <a:ext cx="152640" cy="990360"/>
          </a:xfrm>
          <a:prstGeom prst="upDownArrow">
            <a:avLst>
              <a:gd name="adj1" fmla="val 50000"/>
              <a:gd name="adj2" fmla="val 129163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17"/>
          <p:cNvSpPr/>
          <p:nvPr/>
        </p:nvSpPr>
        <p:spPr>
          <a:xfrm>
            <a:off x="609480" y="1828800"/>
            <a:ext cx="2057400" cy="41911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20"/>
          <p:cNvSpPr/>
          <p:nvPr/>
        </p:nvSpPr>
        <p:spPr>
          <a:xfrm>
            <a:off x="3276720" y="1828800"/>
            <a:ext cx="54864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polarized light: two beams have identical intensities whatever the prism’s positio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f the 2 pixels have the same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mpensate different gains, switch the 2 beams and average the 2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21"/>
              <p:cNvSpPr txBox="1"/>
              <p:nvPr/>
            </p:nvSpPr>
            <p:spPr>
              <a:xfrm>
                <a:off x="5410080" y="327672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witching beams by rotating the prism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5" name="Group 20"/>
          <p:cNvGrpSpPr/>
          <p:nvPr/>
        </p:nvGrpSpPr>
        <p:grpSpPr>
          <a:xfrm>
            <a:off x="2362320" y="1828800"/>
            <a:ext cx="5029200" cy="4267080"/>
            <a:chOff x="2362320" y="1828800"/>
            <a:chExt cx="5029200" cy="4267080"/>
          </a:xfrm>
        </p:grpSpPr>
        <p:sp>
          <p:nvSpPr>
            <p:cNvPr id="546" name="AutoShape 3"/>
            <p:cNvSpPr/>
            <p:nvPr/>
          </p:nvSpPr>
          <p:spPr>
            <a:xfrm>
              <a:off x="2895480" y="3276720"/>
              <a:ext cx="76212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AutoShape 4"/>
            <p:cNvSpPr/>
            <p:nvPr/>
          </p:nvSpPr>
          <p:spPr>
            <a:xfrm rot="1141800">
              <a:off x="3276360" y="2133360"/>
              <a:ext cx="152280" cy="990360"/>
            </a:xfrm>
            <a:prstGeom prst="upDownArrow">
              <a:avLst>
                <a:gd name="adj1" fmla="val 50000"/>
                <a:gd name="adj2" fmla="val 129469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AutoShape 5"/>
            <p:cNvSpPr/>
            <p:nvPr/>
          </p:nvSpPr>
          <p:spPr>
            <a:xfrm>
              <a:off x="2895480" y="4724280"/>
              <a:ext cx="152640" cy="990720"/>
            </a:xfrm>
            <a:prstGeom prst="upDownArrow">
              <a:avLst>
                <a:gd name="adj1" fmla="val 50000"/>
                <a:gd name="adj2" fmla="val 12921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AutoShape 6"/>
            <p:cNvSpPr/>
            <p:nvPr/>
          </p:nvSpPr>
          <p:spPr>
            <a:xfrm rot="5400000">
              <a:off x="3466440" y="5143320"/>
              <a:ext cx="190800" cy="266760"/>
            </a:xfrm>
            <a:prstGeom prst="upDownArrow">
              <a:avLst>
                <a:gd name="adj1" fmla="val 50000"/>
                <a:gd name="adj2" fmla="val 2783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AutoShape 7"/>
            <p:cNvSpPr/>
            <p:nvPr/>
          </p:nvSpPr>
          <p:spPr>
            <a:xfrm rot="1141800">
              <a:off x="5409720" y="2133360"/>
              <a:ext cx="152640" cy="990360"/>
            </a:xfrm>
            <a:prstGeom prst="upDownArrow">
              <a:avLst>
                <a:gd name="adj1" fmla="val 50000"/>
                <a:gd name="adj2" fmla="val 12916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AutoShape 8"/>
            <p:cNvSpPr/>
            <p:nvPr/>
          </p:nvSpPr>
          <p:spPr>
            <a:xfrm>
              <a:off x="4952880" y="3276720"/>
              <a:ext cx="76212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AutoShape 9"/>
            <p:cNvSpPr/>
            <p:nvPr/>
          </p:nvSpPr>
          <p:spPr>
            <a:xfrm>
              <a:off x="5638680" y="4876920"/>
              <a:ext cx="152640" cy="990360"/>
            </a:xfrm>
            <a:prstGeom prst="upDownArrow">
              <a:avLst>
                <a:gd name="adj1" fmla="val 50000"/>
                <a:gd name="adj2" fmla="val 12916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AutoShape 10"/>
            <p:cNvSpPr/>
            <p:nvPr/>
          </p:nvSpPr>
          <p:spPr>
            <a:xfrm rot="5400000">
              <a:off x="5067000" y="5067360"/>
              <a:ext cx="190440" cy="266760"/>
            </a:xfrm>
            <a:prstGeom prst="upDownArrow">
              <a:avLst>
                <a:gd name="adj1" fmla="val 50000"/>
                <a:gd name="adj2" fmla="val 2788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AutoShape 11"/>
            <p:cNvSpPr/>
            <p:nvPr/>
          </p:nvSpPr>
          <p:spPr>
            <a:xfrm>
              <a:off x="4267080" y="3733920"/>
              <a:ext cx="533520" cy="609480"/>
            </a:xfrm>
            <a:custGeom>
              <a:avLst/>
              <a:gdLst>
                <a:gd name="textAreaLeft" fmla="*/ 71280 w 533520"/>
                <a:gd name="textAreaRight" fmla="*/ 462240 w 533520"/>
                <a:gd name="textAreaTop" fmla="*/ 106560 h 609480"/>
                <a:gd name="textAreaBottom" fmla="*/ 4420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Text Box 12"/>
            <p:cNvSpPr/>
            <p:nvPr/>
          </p:nvSpPr>
          <p:spPr>
            <a:xfrm>
              <a:off x="5867280" y="358128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tate by 18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18"/>
            <p:cNvSpPr/>
            <p:nvPr/>
          </p:nvSpPr>
          <p:spPr>
            <a:xfrm>
              <a:off x="2362320" y="1828800"/>
              <a:ext cx="4876560" cy="42670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Text Box 1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witching beams using a ½ wave plate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61" name="Group 20"/>
          <p:cNvGrpSpPr/>
          <p:nvPr/>
        </p:nvGrpSpPr>
        <p:grpSpPr>
          <a:xfrm>
            <a:off x="1905120" y="1602360"/>
            <a:ext cx="838080" cy="4569840"/>
            <a:chOff x="1905120" y="1602360"/>
            <a:chExt cx="838080" cy="4569840"/>
          </a:xfrm>
        </p:grpSpPr>
        <p:sp>
          <p:nvSpPr>
            <p:cNvPr id="562" name="AutoShape 3"/>
            <p:cNvSpPr/>
            <p:nvPr/>
          </p:nvSpPr>
          <p:spPr>
            <a:xfrm>
              <a:off x="1981080" y="3886200"/>
              <a:ext cx="76176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AutoShape 4"/>
            <p:cNvSpPr/>
            <p:nvPr/>
          </p:nvSpPr>
          <p:spPr>
            <a:xfrm rot="1141800">
              <a:off x="2361600" y="159984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AutoShape 5"/>
            <p:cNvSpPr/>
            <p:nvPr/>
          </p:nvSpPr>
          <p:spPr>
            <a:xfrm>
              <a:off x="1905120" y="2590920"/>
              <a:ext cx="838080" cy="304560"/>
            </a:xfrm>
            <a:prstGeom prst="can">
              <a:avLst>
                <a:gd name="adj" fmla="val 25000"/>
              </a:avLst>
            </a:prstGeom>
            <a:solidFill>
              <a:srgbClr val="00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AutoShape 10"/>
            <p:cNvSpPr/>
            <p:nvPr/>
          </p:nvSpPr>
          <p:spPr>
            <a:xfrm rot="1141800">
              <a:off x="2285640" y="2895120"/>
              <a:ext cx="151920" cy="990720"/>
            </a:xfrm>
            <a:prstGeom prst="upDownArrow">
              <a:avLst>
                <a:gd name="adj1" fmla="val 50000"/>
                <a:gd name="adj2" fmla="val 12982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AutoShape 11"/>
            <p:cNvSpPr/>
            <p:nvPr/>
          </p:nvSpPr>
          <p:spPr>
            <a:xfrm>
              <a:off x="2133360" y="518148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AutoShape 12"/>
            <p:cNvSpPr/>
            <p:nvPr/>
          </p:nvSpPr>
          <p:spPr>
            <a:xfrm rot="5400000">
              <a:off x="2476080" y="5600880"/>
              <a:ext cx="190800" cy="266400"/>
            </a:xfrm>
            <a:prstGeom prst="upDownArrow">
              <a:avLst>
                <a:gd name="adj1" fmla="val 50000"/>
                <a:gd name="adj2" fmla="val 2779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Text Box 14"/>
          <p:cNvSpPr/>
          <p:nvPr/>
        </p:nvSpPr>
        <p:spPr>
          <a:xfrm>
            <a:off x="6095880" y="28195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ed by 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Group 21"/>
          <p:cNvGrpSpPr/>
          <p:nvPr/>
        </p:nvGrpSpPr>
        <p:grpSpPr>
          <a:xfrm>
            <a:off x="4343400" y="1830960"/>
            <a:ext cx="1828440" cy="4150800"/>
            <a:chOff x="4343400" y="1830960"/>
            <a:chExt cx="1828440" cy="4150800"/>
          </a:xfrm>
        </p:grpSpPr>
        <p:sp>
          <p:nvSpPr>
            <p:cNvPr id="570" name="AutoShape 7"/>
            <p:cNvSpPr/>
            <p:nvPr/>
          </p:nvSpPr>
          <p:spPr>
            <a:xfrm rot="1141800">
              <a:off x="5410080" y="182844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AutoShape 8"/>
            <p:cNvSpPr/>
            <p:nvPr/>
          </p:nvSpPr>
          <p:spPr>
            <a:xfrm>
              <a:off x="4953240" y="2971800"/>
              <a:ext cx="838080" cy="304920"/>
            </a:xfrm>
            <a:prstGeom prst="can">
              <a:avLst>
                <a:gd name="adj" fmla="val 25000"/>
              </a:avLst>
            </a:prstGeom>
            <a:solidFill>
              <a:srgbClr val="00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AutoShape 9"/>
            <p:cNvSpPr/>
            <p:nvPr/>
          </p:nvSpPr>
          <p:spPr>
            <a:xfrm>
              <a:off x="4953240" y="4038840"/>
              <a:ext cx="76176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AutoShape 13"/>
            <p:cNvSpPr/>
            <p:nvPr/>
          </p:nvSpPr>
          <p:spPr>
            <a:xfrm>
              <a:off x="4343400" y="2895840"/>
              <a:ext cx="533520" cy="609480"/>
            </a:xfrm>
            <a:custGeom>
              <a:avLst/>
              <a:gdLst>
                <a:gd name="textAreaLeft" fmla="*/ 71280 w 533520"/>
                <a:gd name="textAreaRight" fmla="*/ 462240 w 533520"/>
                <a:gd name="textAreaTop" fmla="*/ 106560 h 609480"/>
                <a:gd name="textAreaBottom" fmla="*/ 4420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AutoShape 15"/>
            <p:cNvSpPr/>
            <p:nvPr/>
          </p:nvSpPr>
          <p:spPr>
            <a:xfrm rot="6540000">
              <a:off x="5295600" y="3238560"/>
              <a:ext cx="152640" cy="990720"/>
            </a:xfrm>
            <a:prstGeom prst="upDownArrow">
              <a:avLst>
                <a:gd name="adj1" fmla="val 50000"/>
                <a:gd name="adj2" fmla="val 12921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AutoShape 16"/>
            <p:cNvSpPr/>
            <p:nvPr/>
          </p:nvSpPr>
          <p:spPr>
            <a:xfrm>
              <a:off x="4800600" y="5715000"/>
              <a:ext cx="190800" cy="266760"/>
            </a:xfrm>
            <a:prstGeom prst="upDownArrow">
              <a:avLst>
                <a:gd name="adj1" fmla="val 50000"/>
                <a:gd name="adj2" fmla="val 2783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AutoShape 17"/>
            <p:cNvSpPr/>
            <p:nvPr/>
          </p:nvSpPr>
          <p:spPr>
            <a:xfrm rot="5400000">
              <a:off x="5600160" y="5295960"/>
              <a:ext cx="152640" cy="990360"/>
            </a:xfrm>
            <a:prstGeom prst="upDownArrow">
              <a:avLst>
                <a:gd name="adj1" fmla="val 50000"/>
                <a:gd name="adj2" fmla="val 12916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Text Box 1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19"/>
          <p:cNvSpPr/>
          <p:nvPr/>
        </p:nvSpPr>
        <p:spPr>
          <a:xfrm>
            <a:off x="1143000" y="1523880"/>
            <a:ext cx="6781680" cy="472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or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ircular polarization - Wollaston and quarter-wave plate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82" name="Group 14"/>
          <p:cNvGrpSpPr/>
          <p:nvPr/>
        </p:nvGrpSpPr>
        <p:grpSpPr>
          <a:xfrm>
            <a:off x="1599840" y="1752480"/>
            <a:ext cx="838440" cy="4343400"/>
            <a:chOff x="1599840" y="1752480"/>
            <a:chExt cx="838440" cy="4343400"/>
          </a:xfrm>
        </p:grpSpPr>
        <p:sp>
          <p:nvSpPr>
            <p:cNvPr id="583" name="AutoShape 3"/>
            <p:cNvSpPr/>
            <p:nvPr/>
          </p:nvSpPr>
          <p:spPr>
            <a:xfrm>
              <a:off x="1600200" y="3733920"/>
              <a:ext cx="76176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4"/>
            <p:cNvSpPr/>
            <p:nvPr/>
          </p:nvSpPr>
          <p:spPr>
            <a:xfrm>
              <a:off x="1600200" y="2438280"/>
              <a:ext cx="838080" cy="304920"/>
            </a:xfrm>
            <a:prstGeom prst="can">
              <a:avLst>
                <a:gd name="adj" fmla="val 25000"/>
              </a:avLst>
            </a:prstGeom>
            <a:solidFill>
              <a:srgbClr val="00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AutoShape 6"/>
            <p:cNvSpPr/>
            <p:nvPr/>
          </p:nvSpPr>
          <p:spPr>
            <a:xfrm rot="1141800">
              <a:off x="1980720" y="2742840"/>
              <a:ext cx="151920" cy="990720"/>
            </a:xfrm>
            <a:prstGeom prst="upDownArrow">
              <a:avLst>
                <a:gd name="adj1" fmla="val 50000"/>
                <a:gd name="adj2" fmla="val 12982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AutoShape 7"/>
            <p:cNvSpPr/>
            <p:nvPr/>
          </p:nvSpPr>
          <p:spPr>
            <a:xfrm>
              <a:off x="1676160" y="5105520"/>
              <a:ext cx="151920" cy="990360"/>
            </a:xfrm>
            <a:prstGeom prst="upDownArrow">
              <a:avLst>
                <a:gd name="adj1" fmla="val 50000"/>
                <a:gd name="adj2" fmla="val 12977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AutoShape 8"/>
            <p:cNvSpPr/>
            <p:nvPr/>
          </p:nvSpPr>
          <p:spPr>
            <a:xfrm rot="5400000">
              <a:off x="2094840" y="5448240"/>
              <a:ext cx="190440" cy="266400"/>
            </a:xfrm>
            <a:prstGeom prst="upDownArrow">
              <a:avLst>
                <a:gd name="adj1" fmla="val 50000"/>
                <a:gd name="adj2" fmla="val 27848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Group 12"/>
            <p:cNvGrpSpPr/>
            <p:nvPr/>
          </p:nvGrpSpPr>
          <p:grpSpPr>
            <a:xfrm>
              <a:off x="1599840" y="1752480"/>
              <a:ext cx="685440" cy="533520"/>
              <a:chOff x="1599840" y="1752480"/>
              <a:chExt cx="685440" cy="533520"/>
            </a:xfrm>
          </p:grpSpPr>
          <p:sp>
            <p:nvSpPr>
              <p:cNvPr id="589" name="Oval 5"/>
              <p:cNvSpPr/>
              <p:nvPr/>
            </p:nvSpPr>
            <p:spPr>
              <a:xfrm>
                <a:off x="1752480" y="1752480"/>
                <a:ext cx="532800" cy="533520"/>
              </a:xfrm>
              <a:prstGeom prst="ellipse">
                <a:avLst/>
              </a:prstGeom>
              <a:noFill/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Line 10"/>
              <p:cNvSpPr/>
              <p:nvPr/>
            </p:nvSpPr>
            <p:spPr>
              <a:xfrm flipH="1" flipV="1">
                <a:off x="1599840" y="1828440"/>
                <a:ext cx="152280" cy="228600"/>
              </a:xfrm>
              <a:prstGeom prst="line">
                <a:avLst/>
              </a:prstGeom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Line 11"/>
              <p:cNvSpPr/>
              <p:nvPr/>
            </p:nvSpPr>
            <p:spPr>
              <a:xfrm flipV="1">
                <a:off x="1752480" y="1904760"/>
                <a:ext cx="228240" cy="152640"/>
              </a:xfrm>
              <a:prstGeom prst="line">
                <a:avLst/>
              </a:prstGeom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2" name="Text Box 13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5"/>
          <p:cNvSpPr/>
          <p:nvPr/>
        </p:nvSpPr>
        <p:spPr>
          <a:xfrm>
            <a:off x="1295280" y="1676520"/>
            <a:ext cx="1447920" cy="457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6"/>
          <p:cNvSpPr/>
          <p:nvPr/>
        </p:nvSpPr>
        <p:spPr>
          <a:xfrm>
            <a:off x="3200400" y="1981080"/>
            <a:ext cx="52578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asurements V/I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the beams to compensate the gain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17"/>
              <p:cNvSpPr txBox="1"/>
              <p:nvPr/>
            </p:nvSpPr>
            <p:spPr>
              <a:xfrm>
                <a:off x="5181480" y="259092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real circular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emel, Donati, Rees (1993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AutoShape 3"/>
          <p:cNvSpPr/>
          <p:nvPr/>
        </p:nvSpPr>
        <p:spPr>
          <a:xfrm>
            <a:off x="1371600" y="2971800"/>
            <a:ext cx="838080" cy="304920"/>
          </a:xfrm>
          <a:prstGeom prst="can">
            <a:avLst>
              <a:gd name="adj" fmla="val 25000"/>
            </a:avLst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Group 6"/>
          <p:cNvGrpSpPr/>
          <p:nvPr/>
        </p:nvGrpSpPr>
        <p:grpSpPr>
          <a:xfrm>
            <a:off x="1219320" y="4191120"/>
            <a:ext cx="1143000" cy="457200"/>
            <a:chOff x="1219320" y="4191120"/>
            <a:chExt cx="1143000" cy="457200"/>
          </a:xfrm>
        </p:grpSpPr>
        <p:sp>
          <p:nvSpPr>
            <p:cNvPr id="601" name="Rectangle 4"/>
            <p:cNvSpPr/>
            <p:nvPr/>
          </p:nvSpPr>
          <p:spPr>
            <a:xfrm>
              <a:off x="1219320" y="4191120"/>
              <a:ext cx="114300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5"/>
            <p:cNvSpPr/>
            <p:nvPr/>
          </p:nvSpPr>
          <p:spPr>
            <a:xfrm>
              <a:off x="1219320" y="4419720"/>
              <a:ext cx="1143000" cy="228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Text Box 7"/>
          <p:cNvSpPr/>
          <p:nvPr/>
        </p:nvSpPr>
        <p:spPr>
          <a:xfrm>
            <a:off x="2743200" y="2819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plate, rotated at -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and +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2895480" y="41911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er: double calcite cry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Group 10"/>
          <p:cNvGrpSpPr/>
          <p:nvPr/>
        </p:nvGrpSpPr>
        <p:grpSpPr>
          <a:xfrm>
            <a:off x="1371600" y="2209680"/>
            <a:ext cx="685800" cy="533520"/>
            <a:chOff x="1371600" y="2209680"/>
            <a:chExt cx="685800" cy="533520"/>
          </a:xfrm>
        </p:grpSpPr>
        <p:sp>
          <p:nvSpPr>
            <p:cNvPr id="606" name="Oval 11"/>
            <p:cNvSpPr/>
            <p:nvPr/>
          </p:nvSpPr>
          <p:spPr>
            <a:xfrm>
              <a:off x="1524240" y="2209680"/>
              <a:ext cx="533160" cy="5335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2"/>
            <p:cNvSpPr/>
            <p:nvPr/>
          </p:nvSpPr>
          <p:spPr>
            <a:xfrm flipH="1" flipV="1">
              <a:off x="1371600" y="2285640"/>
              <a:ext cx="152640" cy="22860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3"/>
            <p:cNvSpPr/>
            <p:nvPr/>
          </p:nvSpPr>
          <p:spPr>
            <a:xfrm flipV="1">
              <a:off x="1524240" y="2361960"/>
              <a:ext cx="228600" cy="15264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AutoShape 14"/>
          <p:cNvSpPr/>
          <p:nvPr/>
        </p:nvSpPr>
        <p:spPr>
          <a:xfrm rot="19581600">
            <a:off x="1295280" y="3657240"/>
            <a:ext cx="838440" cy="152280"/>
          </a:xfrm>
          <a:prstGeom prst="leftRightArrow">
            <a:avLst>
              <a:gd name="adj1" fmla="val 50000"/>
              <a:gd name="adj2" fmla="val 10960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15"/>
          <p:cNvSpPr/>
          <p:nvPr/>
        </p:nvSpPr>
        <p:spPr>
          <a:xfrm>
            <a:off x="1371600" y="480060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16"/>
          <p:cNvSpPr/>
          <p:nvPr/>
        </p:nvSpPr>
        <p:spPr>
          <a:xfrm rot="5400000">
            <a:off x="1942560" y="5143320"/>
            <a:ext cx="190800" cy="266760"/>
          </a:xfrm>
          <a:prstGeom prst="upDownArrow">
            <a:avLst>
              <a:gd name="adj1" fmla="val 50000"/>
              <a:gd name="adj2" fmla="val 27833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7"/>
          <p:cNvSpPr/>
          <p:nvPr/>
        </p:nvSpPr>
        <p:spPr>
          <a:xfrm>
            <a:off x="914400" y="1905120"/>
            <a:ext cx="1676520" cy="4114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example of circular polari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Graphical representation of the EM wave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6" name="Picture 4" descr="C:\Documents and Settings\manset\My Documents\CFHT_AND_SCIENCE\PolarizationOfLight\Ellipse.gif"/>
          <p:cNvPicPr/>
          <p:nvPr/>
        </p:nvPicPr>
        <p:blipFill>
          <a:blip r:embed="rId1"/>
          <a:stretch/>
        </p:blipFill>
        <p:spPr>
          <a:xfrm>
            <a:off x="380880" y="2743200"/>
            <a:ext cx="3438720" cy="2502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4038480" y="2743200"/>
            <a:ext cx="403884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 ellipse can be represented by 4 quanti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minor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major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entation (ang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e (CW, CC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514600" y="55627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ght can be represented by 4 quantiti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685800" y="556272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real circular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ree from gain (g) and atmospheric transmission (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) variation effect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609480" y="2362320"/>
            <a:ext cx="74678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measurement with quarter-wave plate at -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ignal in the (r)ight and (l)eft beam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measurement with quarter-wave plate at +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, signal in the (r)ight and (l)eft be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s of the sig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Object 4"/>
              <p:cNvSpPr txBox="1"/>
              <p:nvPr/>
            </p:nvSpPr>
            <p:spPr>
              <a:xfrm>
                <a:off x="4495680" y="2666880"/>
                <a:ext cx="1143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Object 5"/>
              <p:cNvSpPr txBox="1"/>
              <p:nvPr/>
            </p:nvSpPr>
            <p:spPr>
              <a:xfrm>
                <a:off x="5334120" y="3581280"/>
                <a:ext cx="1143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6"/>
              <p:cNvSpPr txBox="1"/>
              <p:nvPr/>
            </p:nvSpPr>
            <p:spPr>
              <a:xfrm>
                <a:off x="1752480" y="4599000"/>
                <a:ext cx="59058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1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example of circular polari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real circular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ree from gain and atmospheric transmission variation effect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533520" y="2438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 ratio of measured signals which is free of gain and variable atmospheric transmission effe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4"/>
              <p:cNvSpPr txBox="1"/>
              <p:nvPr/>
            </p:nvSpPr>
            <p:spPr>
              <a:xfrm>
                <a:off x="1143000" y="3352680"/>
                <a:ext cx="6375240" cy="22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l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l</m:t>
                                    </m:r>
                                  </m:sup>
                                </m:sSubSup>
                              </m:den>
                            </m:f>
                            <m:f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r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r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F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&lt;&lt;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7" name="AutoShape 5"/>
          <p:cNvSpPr/>
          <p:nvPr/>
        </p:nvSpPr>
        <p:spPr>
          <a:xfrm rot="16200000">
            <a:off x="2514600" y="4800240"/>
            <a:ext cx="228600" cy="1752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6"/>
          <p:cNvSpPr/>
          <p:nvPr/>
        </p:nvSpPr>
        <p:spPr>
          <a:xfrm>
            <a:off x="838080" y="57150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of the 2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example of circular polari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meters - Summa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oid-typ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to make but ½ light is lost, and affected by variable atmospheric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al-beam typ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light lost but affected by gain differences and variable transmission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polarimetr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, rota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 + half-wave 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ular polarimet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 + quarter-wave 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5486400" y="4038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positions min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5867280" y="5105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position min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V: ESPaDOn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cal components of the polarimeter par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llaston prism: analyses the polarization and separates the 2 (linear!) orthogonal polarization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rders, 3 Fresnel rhom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half-wave plates to switch the beams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-wave plate to do circular polarimetr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5" descr="C:\Documents and Settings\manset\My Documents\My Pictures\Polarimeter-white.jpg"/>
          <p:cNvPicPr/>
          <p:nvPr/>
        </p:nvPicPr>
        <p:blipFill>
          <a:blip r:embed="rId1"/>
          <a:stretch/>
        </p:blipFill>
        <p:spPr>
          <a:xfrm>
            <a:off x="5715000" y="1676520"/>
            <a:ext cx="2355840" cy="4506840"/>
          </a:xfrm>
          <a:prstGeom prst="rect">
            <a:avLst/>
          </a:prstGeom>
          <a:ln w="0">
            <a:noFill/>
          </a:ln>
        </p:spPr>
      </p:pic>
      <p:sp>
        <p:nvSpPr>
          <p:cNvPr id="642" name="Oval 6"/>
          <p:cNvSpPr/>
          <p:nvPr/>
        </p:nvSpPr>
        <p:spPr>
          <a:xfrm>
            <a:off x="6248520" y="4572000"/>
            <a:ext cx="16761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AutoShape 7"/>
          <p:cNvSpPr/>
          <p:nvPr/>
        </p:nvSpPr>
        <p:spPr>
          <a:xfrm>
            <a:off x="7543800" y="266688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circula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xed quarter-wave rho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tating bottom half-wave, at 22.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inc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 half-wave rotates continuously at about 1Hz to average out linear polarization when measuring circular po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circular polarimetry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circular polarimetry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of circular polarization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AutoShape 3"/>
          <p:cNvSpPr/>
          <p:nvPr/>
        </p:nvSpPr>
        <p:spPr>
          <a:xfrm rot="5400000">
            <a:off x="6667560" y="2628720"/>
            <a:ext cx="380880" cy="609840"/>
          </a:xfrm>
          <a:prstGeom prst="parallelogram">
            <a:avLst>
              <a:gd name="adj" fmla="val 25000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Group 7"/>
          <p:cNvGrpSpPr/>
          <p:nvPr/>
        </p:nvGrpSpPr>
        <p:grpSpPr>
          <a:xfrm>
            <a:off x="4109040" y="2658600"/>
            <a:ext cx="1224720" cy="397800"/>
            <a:chOff x="4109040" y="2658600"/>
            <a:chExt cx="1224720" cy="397800"/>
          </a:xfrm>
        </p:grpSpPr>
        <p:sp>
          <p:nvSpPr>
            <p:cNvPr id="654" name="AutoShape 4"/>
            <p:cNvSpPr/>
            <p:nvPr/>
          </p:nvSpPr>
          <p:spPr>
            <a:xfrm rot="5400000">
              <a:off x="4838400" y="2552400"/>
              <a:ext cx="380880" cy="60984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AutoShape 5"/>
            <p:cNvSpPr/>
            <p:nvPr/>
          </p:nvSpPr>
          <p:spPr>
            <a:xfrm flipV="1" rot="5303400">
              <a:off x="4228200" y="2552400"/>
              <a:ext cx="380880" cy="60948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AutoShape 6"/>
          <p:cNvSpPr/>
          <p:nvPr/>
        </p:nvSpPr>
        <p:spPr>
          <a:xfrm rot="5400000">
            <a:off x="2400120" y="2400120"/>
            <a:ext cx="533160" cy="9144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8"/>
          <p:cNvGrpSpPr/>
          <p:nvPr/>
        </p:nvGrpSpPr>
        <p:grpSpPr>
          <a:xfrm>
            <a:off x="7467480" y="2666880"/>
            <a:ext cx="685800" cy="533520"/>
            <a:chOff x="7467480" y="2666880"/>
            <a:chExt cx="685800" cy="533520"/>
          </a:xfrm>
        </p:grpSpPr>
        <p:sp>
          <p:nvSpPr>
            <p:cNvPr id="658" name="Oval 9"/>
            <p:cNvSpPr/>
            <p:nvPr/>
          </p:nvSpPr>
          <p:spPr>
            <a:xfrm>
              <a:off x="7620120" y="2666880"/>
              <a:ext cx="533160" cy="5335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0"/>
            <p:cNvSpPr/>
            <p:nvPr/>
          </p:nvSpPr>
          <p:spPr>
            <a:xfrm flipH="1" flipV="1">
              <a:off x="7467480" y="2742840"/>
              <a:ext cx="152640" cy="22860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1"/>
            <p:cNvSpPr/>
            <p:nvPr/>
          </p:nvSpPr>
          <p:spPr>
            <a:xfrm flipV="1">
              <a:off x="7620120" y="2819160"/>
              <a:ext cx="228600" cy="15264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AutoShape 12"/>
          <p:cNvSpPr/>
          <p:nvPr/>
        </p:nvSpPr>
        <p:spPr>
          <a:xfrm rot="19581600">
            <a:off x="5562720" y="281916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AutoShape 13"/>
          <p:cNvSpPr/>
          <p:nvPr/>
        </p:nvSpPr>
        <p:spPr>
          <a:xfrm rot="3060000">
            <a:off x="3161520" y="2781360"/>
            <a:ext cx="838440" cy="152280"/>
          </a:xfrm>
          <a:prstGeom prst="leftRightArrow">
            <a:avLst>
              <a:gd name="adj1" fmla="val 50000"/>
              <a:gd name="adj2" fmla="val 10960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14"/>
          <p:cNvSpPr/>
          <p:nvPr/>
        </p:nvSpPr>
        <p:spPr>
          <a:xfrm rot="5400000">
            <a:off x="1333440" y="209520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15"/>
          <p:cNvSpPr/>
          <p:nvPr/>
        </p:nvSpPr>
        <p:spPr>
          <a:xfrm rot="10800000">
            <a:off x="1295280" y="3047760"/>
            <a:ext cx="190800" cy="266760"/>
          </a:xfrm>
          <a:prstGeom prst="upDownArrow">
            <a:avLst>
              <a:gd name="adj1" fmla="val 50000"/>
              <a:gd name="adj2" fmla="val 27833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6"/>
          <p:cNvSpPr/>
          <p:nvPr/>
        </p:nvSpPr>
        <p:spPr>
          <a:xfrm>
            <a:off x="3962520" y="3505320"/>
            <a:ext cx="22860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ips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,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17"/>
          <p:cNvSpPr/>
          <p:nvPr/>
        </p:nvSpPr>
        <p:spPr>
          <a:xfrm>
            <a:off x="6324480" y="3505320"/>
            <a:ext cx="1447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to 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18"/>
          <p:cNvSpPr/>
          <p:nvPr/>
        </p:nvSpPr>
        <p:spPr>
          <a:xfrm>
            <a:off x="1981080" y="3581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19"/>
          <p:cNvSpPr/>
          <p:nvPr/>
        </p:nvSpPr>
        <p:spPr>
          <a:xfrm>
            <a:off x="533520" y="2286000"/>
            <a:ext cx="8001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2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circular polarimetry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Object 21"/>
              <p:cNvSpPr txBox="1"/>
              <p:nvPr/>
            </p:nvSpPr>
            <p:spPr>
              <a:xfrm>
                <a:off x="762120" y="373392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ircular polarimetry of (unwanted) linear polarization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Text Box 16"/>
          <p:cNvSpPr/>
          <p:nvPr/>
        </p:nvSpPr>
        <p:spPr>
          <a:xfrm>
            <a:off x="3581280" y="3505320"/>
            <a:ext cx="1828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,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17"/>
          <p:cNvSpPr/>
          <p:nvPr/>
        </p:nvSpPr>
        <p:spPr>
          <a:xfrm>
            <a:off x="5638680" y="3505320"/>
            <a:ext cx="1447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to ellip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18"/>
          <p:cNvSpPr/>
          <p:nvPr/>
        </p:nvSpPr>
        <p:spPr>
          <a:xfrm>
            <a:off x="1523880" y="3352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Group 26"/>
          <p:cNvGrpSpPr/>
          <p:nvPr/>
        </p:nvGrpSpPr>
        <p:grpSpPr>
          <a:xfrm>
            <a:off x="533520" y="2286000"/>
            <a:ext cx="8001000" cy="1143000"/>
            <a:chOff x="533520" y="2286000"/>
            <a:chExt cx="8001000" cy="1143000"/>
          </a:xfrm>
        </p:grpSpPr>
        <p:sp>
          <p:nvSpPr>
            <p:cNvPr id="678" name="AutoShape 3"/>
            <p:cNvSpPr/>
            <p:nvPr/>
          </p:nvSpPr>
          <p:spPr>
            <a:xfrm rot="5400000">
              <a:off x="5981760" y="2628720"/>
              <a:ext cx="380880" cy="60984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AutoShape 7"/>
            <p:cNvSpPr/>
            <p:nvPr/>
          </p:nvSpPr>
          <p:spPr>
            <a:xfrm rot="5400000">
              <a:off x="1866960" y="2400120"/>
              <a:ext cx="533160" cy="91440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AutoShape 12"/>
            <p:cNvSpPr/>
            <p:nvPr/>
          </p:nvSpPr>
          <p:spPr>
            <a:xfrm rot="19581600">
              <a:off x="6552720" y="2895120"/>
              <a:ext cx="838440" cy="152640"/>
            </a:xfrm>
            <a:prstGeom prst="leftRightArrow">
              <a:avLst>
                <a:gd name="adj1" fmla="val 50000"/>
                <a:gd name="adj2" fmla="val 109350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AutoShape 14"/>
            <p:cNvSpPr/>
            <p:nvPr/>
          </p:nvSpPr>
          <p:spPr>
            <a:xfrm rot="5400000">
              <a:off x="1028520" y="209520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AutoShape 15"/>
            <p:cNvSpPr/>
            <p:nvPr/>
          </p:nvSpPr>
          <p:spPr>
            <a:xfrm rot="10800000">
              <a:off x="990360" y="3047760"/>
              <a:ext cx="190440" cy="266760"/>
            </a:xfrm>
            <a:prstGeom prst="upDownArrow">
              <a:avLst>
                <a:gd name="adj1" fmla="val 50000"/>
                <a:gd name="adj2" fmla="val 2788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Rectangle 19"/>
            <p:cNvSpPr/>
            <p:nvPr/>
          </p:nvSpPr>
          <p:spPr>
            <a:xfrm>
              <a:off x="533520" y="2286000"/>
              <a:ext cx="800100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Oval 20"/>
            <p:cNvSpPr/>
            <p:nvPr/>
          </p:nvSpPr>
          <p:spPr>
            <a:xfrm rot="2106600">
              <a:off x="5333760" y="2514600"/>
              <a:ext cx="228600" cy="7621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Oval 21"/>
            <p:cNvSpPr/>
            <p:nvPr/>
          </p:nvSpPr>
          <p:spPr>
            <a:xfrm rot="6720000">
              <a:off x="3009600" y="2476080"/>
              <a:ext cx="228600" cy="7621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Text Box 22"/>
          <p:cNvSpPr/>
          <p:nvPr/>
        </p:nvSpPr>
        <p:spPr>
          <a:xfrm>
            <a:off x="380880" y="3581280"/>
            <a:ext cx="1828800" cy="27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lar part goes through not analyzed and adds same intensities to both b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 part is analyz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23"/>
          <p:cNvSpPr/>
          <p:nvPr/>
        </p:nvSpPr>
        <p:spPr>
          <a:xfrm>
            <a:off x="7315200" y="3581280"/>
            <a:ext cx="14479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Add a rotating half-wave to “spread out” the unwanted sig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25"/>
          <p:cNvGrpSpPr/>
          <p:nvPr/>
        </p:nvGrpSpPr>
        <p:grpSpPr>
          <a:xfrm>
            <a:off x="7540920" y="2590920"/>
            <a:ext cx="764640" cy="609480"/>
            <a:chOff x="7540920" y="2590920"/>
            <a:chExt cx="764640" cy="609480"/>
          </a:xfrm>
        </p:grpSpPr>
        <p:grpSp>
          <p:nvGrpSpPr>
            <p:cNvPr id="689" name="Group 4"/>
            <p:cNvGrpSpPr/>
            <p:nvPr/>
          </p:nvGrpSpPr>
          <p:grpSpPr>
            <a:xfrm>
              <a:off x="7540920" y="2814480"/>
              <a:ext cx="764640" cy="239040"/>
              <a:chOff x="7540920" y="2814480"/>
              <a:chExt cx="764640" cy="239040"/>
            </a:xfrm>
          </p:grpSpPr>
          <p:sp>
            <p:nvSpPr>
              <p:cNvPr id="690" name="AutoShape 5"/>
              <p:cNvSpPr/>
              <p:nvPr/>
            </p:nvSpPr>
            <p:spPr>
              <a:xfrm rot="5400000">
                <a:off x="8000640" y="2743200"/>
                <a:ext cx="228600" cy="381240"/>
              </a:xfrm>
              <a:prstGeom prst="parallelogram">
                <a:avLst>
                  <a:gd name="adj" fmla="val 25000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AutoShape 6"/>
              <p:cNvSpPr/>
              <p:nvPr/>
            </p:nvSpPr>
            <p:spPr>
              <a:xfrm flipV="1" rot="5303400">
                <a:off x="7619760" y="2743560"/>
                <a:ext cx="228600" cy="380520"/>
              </a:xfrm>
              <a:prstGeom prst="parallelogram">
                <a:avLst>
                  <a:gd name="adj" fmla="val 25000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2" name="AutoShape 24"/>
            <p:cNvSpPr/>
            <p:nvPr/>
          </p:nvSpPr>
          <p:spPr>
            <a:xfrm>
              <a:off x="7772400" y="2590920"/>
              <a:ext cx="380880" cy="609480"/>
            </a:xfrm>
            <a:custGeom>
              <a:avLst/>
              <a:gdLst>
                <a:gd name="textAreaLeft" fmla="*/ 66600 w 380880"/>
                <a:gd name="textAreaRight" fmla="*/ 276120 w 38088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Group 27"/>
          <p:cNvGrpSpPr/>
          <p:nvPr/>
        </p:nvGrpSpPr>
        <p:grpSpPr>
          <a:xfrm>
            <a:off x="3729240" y="2658600"/>
            <a:ext cx="1223640" cy="397800"/>
            <a:chOff x="3729240" y="2658600"/>
            <a:chExt cx="1223640" cy="397800"/>
          </a:xfrm>
        </p:grpSpPr>
        <p:sp>
          <p:nvSpPr>
            <p:cNvPr id="694" name="AutoShape 28"/>
            <p:cNvSpPr/>
            <p:nvPr/>
          </p:nvSpPr>
          <p:spPr>
            <a:xfrm rot="5400000">
              <a:off x="4457520" y="2552400"/>
              <a:ext cx="380880" cy="60948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AutoShape 29"/>
            <p:cNvSpPr/>
            <p:nvPr/>
          </p:nvSpPr>
          <p:spPr>
            <a:xfrm flipV="1" rot="5303400">
              <a:off x="3848400" y="2552400"/>
              <a:ext cx="380880" cy="60912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" name="Text Box 3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circular polarimetry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linea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09480" y="3580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lf-Wave rhombs positioned at 22.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inc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-Wave f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linear polari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AutoShape 5"/>
          <p:cNvSpPr/>
          <p:nvPr/>
        </p:nvSpPr>
        <p:spPr>
          <a:xfrm rot="5400000">
            <a:off x="5371920" y="2705040"/>
            <a:ext cx="304920" cy="380880"/>
          </a:xfrm>
          <a:prstGeom prst="parallelogram">
            <a:avLst>
              <a:gd name="adj" fmla="val 25000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6"/>
          <p:cNvSpPr/>
          <p:nvPr/>
        </p:nvSpPr>
        <p:spPr>
          <a:xfrm rot="5400000">
            <a:off x="1828440" y="2514600"/>
            <a:ext cx="381240" cy="6858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AutoShape 7"/>
          <p:cNvSpPr/>
          <p:nvPr/>
        </p:nvSpPr>
        <p:spPr>
          <a:xfrm rot="19581600">
            <a:off x="5866920" y="2895120"/>
            <a:ext cx="838440" cy="152640"/>
          </a:xfrm>
          <a:prstGeom prst="leftRightArrow">
            <a:avLst>
              <a:gd name="adj1" fmla="val 50000"/>
              <a:gd name="adj2" fmla="val 10935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AutoShape 8"/>
          <p:cNvSpPr/>
          <p:nvPr/>
        </p:nvSpPr>
        <p:spPr>
          <a:xfrm rot="5400000">
            <a:off x="1028520" y="209520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9"/>
          <p:cNvSpPr/>
          <p:nvPr/>
        </p:nvSpPr>
        <p:spPr>
          <a:xfrm rot="10800000">
            <a:off x="990360" y="3047760"/>
            <a:ext cx="190440" cy="266760"/>
          </a:xfrm>
          <a:prstGeom prst="upDownArrow">
            <a:avLst>
              <a:gd name="adj1" fmla="val 50000"/>
              <a:gd name="adj2" fmla="val 27885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10"/>
          <p:cNvSpPr/>
          <p:nvPr/>
        </p:nvSpPr>
        <p:spPr>
          <a:xfrm>
            <a:off x="533520" y="2286000"/>
            <a:ext cx="8001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11"/>
          <p:cNvSpPr/>
          <p:nvPr/>
        </p:nvSpPr>
        <p:spPr>
          <a:xfrm rot="2106600">
            <a:off x="4723920" y="2514600"/>
            <a:ext cx="228600" cy="762120"/>
          </a:xfrm>
          <a:prstGeom prst="ellipse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12"/>
          <p:cNvSpPr/>
          <p:nvPr/>
        </p:nvSpPr>
        <p:spPr>
          <a:xfrm rot="6720000">
            <a:off x="2704680" y="2476080"/>
            <a:ext cx="228600" cy="762120"/>
          </a:xfrm>
          <a:prstGeom prst="ellipse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Group 13"/>
          <p:cNvGrpSpPr/>
          <p:nvPr/>
        </p:nvGrpSpPr>
        <p:grpSpPr>
          <a:xfrm>
            <a:off x="3425400" y="2661120"/>
            <a:ext cx="841680" cy="316440"/>
            <a:chOff x="3425400" y="2661120"/>
            <a:chExt cx="841680" cy="316440"/>
          </a:xfrm>
        </p:grpSpPr>
        <p:sp>
          <p:nvSpPr>
            <p:cNvPr id="711" name="AutoShape 14"/>
            <p:cNvSpPr/>
            <p:nvPr/>
          </p:nvSpPr>
          <p:spPr>
            <a:xfrm rot="5400000">
              <a:off x="3904920" y="2609640"/>
              <a:ext cx="304920" cy="41904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AutoShape 15"/>
            <p:cNvSpPr/>
            <p:nvPr/>
          </p:nvSpPr>
          <p:spPr>
            <a:xfrm flipV="1" rot="5303400">
              <a:off x="3486240" y="2609640"/>
              <a:ext cx="304920" cy="41832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16"/>
          <p:cNvGrpSpPr/>
          <p:nvPr/>
        </p:nvGrpSpPr>
        <p:grpSpPr>
          <a:xfrm>
            <a:off x="6703200" y="2814480"/>
            <a:ext cx="764280" cy="239040"/>
            <a:chOff x="6703200" y="2814480"/>
            <a:chExt cx="764280" cy="239040"/>
          </a:xfrm>
        </p:grpSpPr>
        <p:sp>
          <p:nvSpPr>
            <p:cNvPr id="714" name="AutoShape 17"/>
            <p:cNvSpPr/>
            <p:nvPr/>
          </p:nvSpPr>
          <p:spPr>
            <a:xfrm rot="5400000">
              <a:off x="7162560" y="2743200"/>
              <a:ext cx="228600" cy="38088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AutoShape 18"/>
            <p:cNvSpPr/>
            <p:nvPr/>
          </p:nvSpPr>
          <p:spPr>
            <a:xfrm flipV="1" rot="5303400">
              <a:off x="6782040" y="2743920"/>
              <a:ext cx="228600" cy="38016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AutoShape 19"/>
          <p:cNvSpPr/>
          <p:nvPr/>
        </p:nvSpPr>
        <p:spPr>
          <a:xfrm rot="19581600">
            <a:off x="7543440" y="2895120"/>
            <a:ext cx="838080" cy="152640"/>
          </a:xfrm>
          <a:prstGeom prst="leftRightArrow">
            <a:avLst>
              <a:gd name="adj1" fmla="val 50000"/>
              <a:gd name="adj2" fmla="val 10930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linea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lf-Wave rhombs positioned as 22.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inc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position gives 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position gives 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 beams for gain and atmosphere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-Wave f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linear polari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Object 5"/>
              <p:cNvSpPr txBox="1"/>
              <p:nvPr/>
            </p:nvSpPr>
            <p:spPr>
              <a:xfrm>
                <a:off x="5486400" y="2666880"/>
                <a:ext cx="68904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 - Summa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PaDOnS can do linear and circular polarimetry (quarter-wave pl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ams are switched around to do the measurements, compensate for gain and atmospheric ef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snel rhombs are very achroma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Vertically polarized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no amplitude in x (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), there is only one component, in y (vertic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C:\Documents and Settings\manset\My Documents\CFHT_AND_SCIENCE\PolarizationOfLight\VerticallyPolarized2.gif"/>
          <p:cNvPicPr/>
          <p:nvPr/>
        </p:nvPicPr>
        <p:blipFill>
          <a:blip r:embed="rId1"/>
          <a:stretch/>
        </p:blipFill>
        <p:spPr>
          <a:xfrm>
            <a:off x="2209680" y="3809880"/>
            <a:ext cx="4915080" cy="237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6" name="Object 6"/>
              <p:cNvSpPr txBox="1"/>
              <p:nvPr/>
            </p:nvSpPr>
            <p:spPr>
              <a:xfrm>
                <a:off x="2666880" y="1752480"/>
                <a:ext cx="38102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line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Дата 1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Нижний колонтитул 2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Picture 5" descr="C:\Documents and Settings\manset\My Documents\My Pictures\dancecal2.gif"/>
          <p:cNvPicPr/>
          <p:nvPr/>
        </p:nvPicPr>
        <p:blipFill>
          <a:blip r:embed="rId1"/>
          <a:stretch/>
        </p:blipFill>
        <p:spPr>
          <a:xfrm>
            <a:off x="4876920" y="2362320"/>
            <a:ext cx="1933560" cy="11602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" descr="C:\Documents and Settings\manset\My Documents\My Pictures\calvinhobbesdance.gif"/>
          <p:cNvPicPr/>
          <p:nvPr/>
        </p:nvPicPr>
        <p:blipFill>
          <a:blip r:embed="rId2"/>
          <a:stretch/>
        </p:blipFill>
        <p:spPr>
          <a:xfrm>
            <a:off x="2514600" y="2514600"/>
            <a:ext cx="12574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edits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pictures and movie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istoph Keller’s home page – his 5 lectu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http://www.noao.edu/noao/staff/keller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Polarisation techniques and devices”, Meadowlark Optics Inc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http://www.meadowlark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pt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. Hecht 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tronomical Polarime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J. Tinber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lanets, Stars and Nebulae Studied With Photopolarime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. Gehr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lar polarization mov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hlinkClick r:id="rId3"/>
              </a:rPr>
              <a:t>http://www.optics.arizona.edu/jcwyant/JoseDiaz/Polarization-Circular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polarized light mov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hlinkClick r:id="rId4"/>
              </a:rPr>
              <a:t>http://www.colorado.edu/physics/2000/polarization/polarizationII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lection of wa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physicsclassroom.com/mmedia/waves/fix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aDOnS web page and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 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On the Web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short and quick introduction, no equati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http://www.cfht.hawaii.edu/~manset/PolarIntro_eng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fun page with Applets, on polarizing filter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http://www.colorado.edu/physics/2000/polarization/polarizationI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ization short cours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3"/>
              </a:rPr>
              <a:t>http://www.glenbrook.k12.il.us/gbssci/phys/Class/light/u12l1e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mentation for Astrophysical Spectropolarimetry”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ries of 5 lectures given at the IAC Winter School on Astrophysical Spectropolarimetry, November 2000 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noao.edu/noao/staff/keller/lectures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AutoShape 4"/>
          <p:cNvSpPr/>
          <p:nvPr/>
        </p:nvSpPr>
        <p:spPr>
          <a:xfrm>
            <a:off x="152280" y="4038480"/>
            <a:ext cx="609840" cy="381240"/>
          </a:xfrm>
          <a:custGeom>
            <a:avLst/>
            <a:gdLst>
              <a:gd name="textAreaLeft" fmla="*/ 95040 w 609840"/>
              <a:gd name="textAreaRight" fmla="*/ 533880 w 6098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 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olarization basic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larized L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. Goldstein – excellent book, easy read, gives a lot of insight, highly recomme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graduate textbooks, either will 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. He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. S. Crawford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rkeley Physics Course vol.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4"/>
          <p:cNvSpPr/>
          <p:nvPr/>
        </p:nvSpPr>
        <p:spPr>
          <a:xfrm>
            <a:off x="152280" y="396252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AutoShape 5"/>
          <p:cNvSpPr/>
          <p:nvPr/>
        </p:nvSpPr>
        <p:spPr>
          <a:xfrm>
            <a:off x="152280" y="259092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stronomy, easy/intermediate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tronomical Polarime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J. Tinberg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tion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 polarisation de la lumière et l'observation astronomiq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J.-L. Leroy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tronomy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lanets, Stars and Nebulae Studied With Photopolarime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. Gehrels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but clas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papers by K. Serkowski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tion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stronomy, advanced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roduction to Spectropolarimet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J.C. del Toro Iniesta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ve transfer – ouc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strophysical Spectropolarimet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rujillo-Bueno et al. (eds)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 to astr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Picture 4" descr="C:\Documents and Settings\manset\My Documents\My Pictures\SourFace.gif"/>
          <p:cNvPicPr/>
          <p:nvPr/>
        </p:nvPicPr>
        <p:blipFill>
          <a:blip r:embed="rId1"/>
          <a:stretch/>
        </p:blipFill>
        <p:spPr>
          <a:xfrm>
            <a:off x="7848720" y="3048120"/>
            <a:ext cx="285480" cy="28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ation at 45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no phase difference (</a:t>
            </a:r>
            <a:r>
              <a:rPr b="0" lang="en-US" sz="32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0)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5" descr="C:\Documents and Settings\manset\My Documents\CFHT_AND_SCIENCE\PolarizationOfLight\45degPolarization2.gif"/>
          <p:cNvPicPr/>
          <p:nvPr/>
        </p:nvPicPr>
        <p:blipFill>
          <a:blip r:embed="rId1"/>
          <a:stretch/>
        </p:blipFill>
        <p:spPr>
          <a:xfrm>
            <a:off x="2209680" y="3962520"/>
            <a:ext cx="4915080" cy="230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2590920" y="1752480"/>
                <a:ext cx="3809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line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23:34:26Z</dcterms:created>
  <dc:creator>N. Manset</dc:creator>
  <dc:description/>
  <dc:language>en-US</dc:language>
  <cp:lastModifiedBy>LEGION</cp:lastModifiedBy>
  <dcterms:modified xsi:type="dcterms:W3CDTF">2018-03-12T09:37:05Z</dcterms:modified>
  <cp:revision>101</cp:revision>
  <dc:subject/>
  <dc:title>Polarization of Light</dc:title>
</cp:coreProperties>
</file>