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29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gif" ContentType="image/gif"/>
  <Override PartName="/ppt/media/image16.jpeg" ContentType="image/jpeg"/>
  <Override PartName="/ppt/media/image13.gif" ContentType="image/gif"/>
  <Override PartName="/ppt/media/image31.jpeg" ContentType="image/jpeg"/>
  <Override PartName="/ppt/media/image2.png" ContentType="image/png"/>
  <Override PartName="/ppt/media/image33.gif" ContentType="image/gif"/>
  <Override PartName="/ppt/media/image6.png" ContentType="image/pn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18.jpeg" ContentType="image/jpeg"/>
  <Override PartName="/ppt/media/image15.png" ContentType="image/png"/>
  <Override PartName="/ppt/media/image25.png" ContentType="image/png"/>
  <Override PartName="/ppt/media/image32.gif" ContentType="image/gif"/>
  <Override PartName="/ppt/media/image14.jpeg" ContentType="image/jpeg"/>
  <Override PartName="/ppt/media/image17.png" ContentType="image/png"/>
  <Override PartName="/ppt/media/image19.png" ContentType="image/png"/>
  <Override PartName="/ppt/media/image20.gif" ContentType="image/gif"/>
  <Override PartName="/ppt/media/image21.jpeg" ContentType="image/jpeg"/>
  <Override PartName="/ppt/media/image23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67D2-42F6-4978-988F-251532722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of Light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Basics to Instrumen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 less than 100 sli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phase difference is = 90º and E0x = E0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n: Ex / E0x = cos    ,   Ey / E0y = sin 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we get the equation of a circ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(IV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circular polarization... see it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atural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ol App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 and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iny itsy-bitsy little bit of histor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th – 19th centuries: Huygens, Malus, Brewster, Biot, Fresnel and Arago, Nicol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unsuccessful attempts to describe unpolarized light in terms of ampl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52: Sir George Gabriel Stokes took a very different approach and discovered that polarization can be described in terms of observables using an experimental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terms of the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4 Stokes parameter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parameters (I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cribed in geometrical te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Stokes v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ctorial representation of the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line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5º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for circular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Q,U) to (P,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light is represented by Stokes vectors, optical components are then described with Mueller matri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 = M3 M2 M1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M’ of an optical component with Mueller matrix M rotated by an angle 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’ = R(- ) M R()         wit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If the phase information is important (radio-astronomy, masers...), one has to use the Jones formalism, with complex vectors and Jones matric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: Stokes parameters, Jones formalism, not that important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efringence: speed of light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sm/diattenuation: also depends on 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 absorb one component of the polarization but not the oth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-grid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de-grid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dichroism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ly anisotropic crystal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mode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ectromagnetic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I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(IV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birefringence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 Nicol prism, Glan-Thomson polarizer, Glan or Glan-Foucault prism, Wollaston prism, Thin-film polarizer,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deal) linear polarizer at angle 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ces of polariz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Q) polarizer at 0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(±U) polarizer at 0º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(±V) polarizer at 0º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pola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tarders, one polarization gets ‘retarded’, or delayed, with respect to the other one. There is a final phase difference between the 2 components of the polarization. Therefore, the polarization is chang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½ wave or 180º for one of the polariz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f ¼ wave or 90º for one of the pola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to convert linear polarization to elliptica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case: incoming light polarized at 45º with respect to the retarder’s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sion from linear to circular polarization (vice vers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ematical description of the EM 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 of retardance  and position angle 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0º or 9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matrix of retarders (I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oriented at  ±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eller calculus with a reta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t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put light circularly polarized (V=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ack to polarizers, briefly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º with respect to one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polar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: made of 2 different materials with opposite variations of index of refraction as a function of wave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charatnam achromatic retarders: made of 3 identical plates rotated w/r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achromatic retarders: 3 pairs of quartz and MgF2    pl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hromatic retarders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140-220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very achroma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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77-183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bett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ation on total internal refl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cation: Fresnel rhom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nel rhom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eil-Babinet: variable retardation to better than 0.01 wa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II: Optical components, reta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equation of an ellipse (using trigonometric identities, squaring, adding)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[another cool applet] Location: http://www.colorado.edu/physics/2000/applets/lens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linear polarimetry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the polaroid to 2 positions, 0º and 45º (to measure Q, then 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 now uses a quarter-wave plate and a polaro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polaroid-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a Wollaston prism as an 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if the 2 pixels have the same 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by rotating the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ing beams using a ½ 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ed by 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polarimeter for circular polarization - Wollaston and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dual-beam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el, Donati, Rees (199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, rotated at -45º and +45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cal representation of the EM wave (I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llipse can be represented by 4 quant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can be represented by 4 quantities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(g) and atmospheric transmission ()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º, signal in the (r)ight and (l)eft beam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º, signal in the (r)ight and (l)eft beam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ments of the signa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al circular polarime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from gain and atmospheric transmission variation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example of circular polari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meter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oid-type: easy to make but ½ light is lost, and affected by variable atmospheric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al-beam type: no light lost but affected by gain differences and variable transmission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V: Polarimeter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plate to do circular polarimetr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tating bottom half-wave,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circul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ips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circular polarimetry of (unwanted)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5º pos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in, trans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a rotating half-wave to “spread out” the unwant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circular polarimetry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t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: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lf-Wave rhombs positioned as 22.5º inc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position gives 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position gives 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beams for gain and atmosphere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rter-Wave fix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linear polari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-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V: ESPaDOnS,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ly polarize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amplitude in x (E0x = 0), there is only one component, in y (vertica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dits for pictures and mov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 http://www.noao.edu/noao/staff/kell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 http://www.meadowlark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  and Astronomical Polarimetry, J. Tinber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polarization movie http://www.optics.arizona.edu/jcwyant/JoseDiaz/Polarization-Circular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polarized light movie http://www.colorado.edu/physics/2000/polarization/polarizationI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lection of wave http://www.physicsclassroom.com/mmedia/waves/fi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W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http://www.cfht.hawaii.edu/~manset/PolarIntro_eng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http://www.colorado.edu/physics/2000/polarization/polarizationI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short course http://www.glenbrook.k12.il.us/gbssci/phys/Class/light/u12l1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a series of 5 lectures given at the IAC Winter School on Astrophysical Spectropolarimetry, November 2000 –http://www.noao.edu/noao/staff/keller/lectures/index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ed Light, D. Goldstein – excellent book, easy read, gives a lot of insight, highly recommend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cs, E. Hec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s, F. S. Crawford, Berkeley Physics Course vol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easy/inter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ical Polarimetry, J. Tinbergen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 polarisation de la lumière et l'observation astronomique, J.-L. Leroy – astronomy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, Stars and Nebulae Studied With Photopolarimetry, T. Gehrels – old but clas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papers by K. Serkowski – instrumentation-orien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ferences/Further reading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y, advanc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ion to Spectropolarimetry, J.C. del Toro Iniesta – radiative transfer – ouc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physical Spectropolarimetry, Trujillo-Bueno et al. (eds) – applications to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arization at 45º (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 is no phase difference (=0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0x = E0y, then Ex = 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I: Polarization states, linear pola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478-9D41-4482-8FA3-BC6D8ED8A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70C-C06B-478E-9449-6F135426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FAC7-1D1C-4B63-9A86-9E96D318E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5515-DA3E-47CA-81DD-7F3AD0028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A76B-22FF-4D9A-87B6-AC7E4E68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7DC47-1CF4-499F-9A67-2A914DB3F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BF07-9EC6-4B2D-9FFE-26A48E234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FD2BB-D073-46AA-B342-CCCA60341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562B4-97E0-41D4-9B7F-8BE8E0337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03E4-D627-4C2B-B20C-723EFEE5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AB76D-C518-4514-AFA0-BA43F9C8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ADD-59A3-42D5-8B74-F91F887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A083C-4CCB-4F4C-9B77-CBC76D73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B5C99-3997-4B3E-A9DF-9277FDA9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FD314-43C3-4F61-8477-23D869422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E26C-BF92-4430-BB49-17BA03041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6E240-3B84-438F-94CA-55FAD990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D6D-DF23-468D-918F-48F328C8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2FD1-D8F1-4F19-A514-E481DD46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4F7B-F9DD-4AAA-9D51-49888873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863-10BA-451C-AEB8-616B455A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A95-4450-4537-B4D5-3B23F705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14AE-BC2A-4CA1-ABE7-96FF3D05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39E2-8E24-4D54-B31E-CF73D90D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D83E-26FA-434E-B346-28679CFDACED}" type="slidenum"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0237-9C38-4257-937B-0F477204B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uno.edu/~jsulliva/java/EMWave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www.colorado.edu/physics/2000/applets/lens.html" TargetMode="External"/><Relationship Id="rId2" Type="http://schemas.openxmlformats.org/officeDocument/2006/relationships/hyperlink" Target="http://www.colorado.edu/physics/2000/applets/lens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hyperlink" Target="http://www.noao.edu/noao/staff/keller/" TargetMode="External"/><Relationship Id="rId2" Type="http://schemas.openxmlformats.org/officeDocument/2006/relationships/hyperlink" Target="http://www.meadowlark.com/" TargetMode="External"/><Relationship Id="rId3" Type="http://schemas.openxmlformats.org/officeDocument/2006/relationships/hyperlink" Target="http://www.optics.arizona.edu/jcwyant/JoseDiaz/Polarization-Circular.htm" TargetMode="External"/><Relationship Id="rId4" Type="http://schemas.openxmlformats.org/officeDocument/2006/relationships/hyperlink" Target="http://www.colorado.edu/physics/2000/polarization/polarizationII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hyperlink" Target="http://www.cfht.hawaii.edu/~manset/PolarIntro_eng.html" TargetMode="External"/><Relationship Id="rId2" Type="http://schemas.openxmlformats.org/officeDocument/2006/relationships/hyperlink" Target="http://www.colorado.edu/physics/2000/polarization/polarizationI.html" TargetMode="External"/><Relationship Id="rId3" Type="http://schemas.openxmlformats.org/officeDocument/2006/relationships/hyperlink" Target="http://www.glenbrook.k12.il.us/gbssci/phys/Class/light/u12l1e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of Light: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om Basics to Instrument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(in less than 100 slides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895120" y="4876920"/>
            <a:ext cx="25146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. Man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F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C:\Documents and Settings\manset\My Documents\CFHT_AND_SCIENCE\PolarizationOfLight\DoubleRefraction.gif"/>
          <p:cNvPicPr/>
          <p:nvPr/>
        </p:nvPicPr>
        <p:blipFill>
          <a:blip r:embed="rId1"/>
          <a:stretch/>
        </p:blipFill>
        <p:spPr>
          <a:xfrm>
            <a:off x="380880" y="228600"/>
            <a:ext cx="3508560" cy="18288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C:\Documents and Settings\manset\My Documents\CFHT_AND_SCIENCE\Espadons\SPIE\Materiel\PolarModule3D_crop.jpg"/>
          <p:cNvPicPr/>
          <p:nvPr/>
        </p:nvPicPr>
        <p:blipFill>
          <a:blip r:embed="rId2"/>
          <a:stretch/>
        </p:blipFill>
        <p:spPr>
          <a:xfrm>
            <a:off x="5715000" y="3733920"/>
            <a:ext cx="2998800" cy="2744640"/>
          </a:xfrm>
          <a:prstGeom prst="rect">
            <a:avLst/>
          </a:prstGeom>
          <a:ln w="0">
            <a:noFill/>
          </a:ln>
        </p:spPr>
      </p:pic>
      <p:sp>
        <p:nvSpPr>
          <p:cNvPr id="93" name="Дата 5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8" name="Picture 3" descr="C:\Documents and Settings\manset\My Documents\CFHT_AND_SCIENCE\PolarizationOfLight\LinearLight.jpg"/>
          <p:cNvPicPr/>
          <p:nvPr/>
        </p:nvPicPr>
        <p:blipFill>
          <a:blip r:embed="rId1"/>
          <a:stretch/>
        </p:blipFill>
        <p:spPr>
          <a:xfrm>
            <a:off x="2743200" y="1828800"/>
            <a:ext cx="3807000" cy="39290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2895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phase difference is 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o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,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s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we get the equation of a circ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ct 7"/>
              <p:cNvSpPr txBox="1"/>
              <p:nvPr/>
            </p:nvSpPr>
            <p:spPr>
              <a:xfrm>
                <a:off x="2043000" y="4572000"/>
                <a:ext cx="5273640" cy="125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10"/>
              <p:cNvSpPr txBox="1"/>
              <p:nvPr/>
            </p:nvSpPr>
            <p:spPr>
              <a:xfrm>
                <a:off x="2590920" y="182880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7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2" name="Picture 10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14640" y="2257560"/>
            <a:ext cx="4914720" cy="234288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8" name="Picture 5" descr="C:\Documents and Settings\manset\My Documents\CFHT_AND_SCIENCE\PolarizationOfLight\CircularHecht.jpg"/>
          <p:cNvPicPr/>
          <p:nvPr/>
        </p:nvPicPr>
        <p:blipFill>
          <a:blip r:embed="rId1"/>
          <a:stretch/>
        </p:blipFill>
        <p:spPr>
          <a:xfrm>
            <a:off x="2743200" y="2057400"/>
            <a:ext cx="3633840" cy="37130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ation (IV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3" name="Picture 4" descr="C:\Documents and Settings\manset\My Documents\CFHT_AND_SCIENCE\PolarizationOfLight\CircularPolMovie.gif"/>
          <p:cNvPicPr/>
          <p:nvPr/>
        </p:nvPicPr>
        <p:blipFill>
          <a:blip r:embed="rId1"/>
          <a:stretch/>
        </p:blipFill>
        <p:spPr>
          <a:xfrm>
            <a:off x="2895480" y="1752480"/>
            <a:ext cx="3292560" cy="414972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circular polarization... see it now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lliptical polariza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79" name="Picture 5" descr="C:\Documents and Settings\manset\My Documents\CFHT_AND_SCIENCE\PolarizationOfLight\Elliptically polarized.gif"/>
          <p:cNvPicPr/>
          <p:nvPr/>
        </p:nvPicPr>
        <p:blipFill>
          <a:blip r:embed="rId1"/>
          <a:stretch/>
        </p:blipFill>
        <p:spPr>
          <a:xfrm>
            <a:off x="304920" y="2286000"/>
            <a:ext cx="4914720" cy="23083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Documents and Settings\manset\My Documents\CFHT_AND_SCIENCE\PolarizationOfLight\Ellipse.gif"/>
          <p:cNvPicPr/>
          <p:nvPr/>
        </p:nvPicPr>
        <p:blipFill>
          <a:blip r:embed="rId2"/>
          <a:stretch/>
        </p:blipFill>
        <p:spPr>
          <a:xfrm>
            <a:off x="5334120" y="2209680"/>
            <a:ext cx="3438360" cy="2502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elliptical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1143000" y="51055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+ circular polarization = elliptical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Unpolarized light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natural light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6" name="Picture 3" descr="C:\Documents and Settings\manset\My Documents\CFHT_AND_SCIENCE\PolarizationOfLight\UnpolarizedLightMovie.gif"/>
          <p:cNvPicPr/>
          <p:nvPr/>
        </p:nvPicPr>
        <p:blipFill>
          <a:blip r:embed="rId1"/>
          <a:stretch/>
        </p:blipFill>
        <p:spPr>
          <a:xfrm>
            <a:off x="2817720" y="2131920"/>
            <a:ext cx="3508560" cy="25941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unpolarized 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cool Apple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971800" y="32004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Electromagnetic 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762120" y="53341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ion: http://www.uno.edu/~jsulliva/java/EMWav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: Stokes parameters and 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, Stokes v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for linear and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kes parameters and polarization 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eller matrices, Mueller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ones formalis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</a:t>
            </a:r>
            <a:br>
              <a:rPr sz="4400"/>
            </a:b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 tiny itsy-bitsy little bit of history...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762120" y="1676520"/>
            <a:ext cx="784836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69: Bartholinus discovers double refraction in calc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ies: Huygens, Malus, Brewster, Biot, Fresnel and Arago, Nicol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entury: unsuccessful attempts to describe unpolarized light in terms of amplitu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852: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ir George Gabriel Stok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ok a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very different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approach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covered that polarization can be described in terms of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observables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n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</a:rPr>
              <a:t>experimental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Introdu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: Different polarization states of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: Stokes parameters, Mueller matr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II: Optical components for polari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IV: Polari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V: ESPaD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98108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olarization ellipse is only valid at a given instant of time (function of tim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"/>
              <p:cNvSpPr txBox="1"/>
              <p:nvPr/>
            </p:nvSpPr>
            <p:spPr>
              <a:xfrm>
                <a:off x="965160" y="2895480"/>
                <a:ext cx="725328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8" name="Text Box 5"/>
          <p:cNvSpPr/>
          <p:nvPr/>
        </p:nvSpPr>
        <p:spPr>
          <a:xfrm>
            <a:off x="533520" y="441972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get the Stokes parameters, do a time average (integral over time) and a little bit of algebra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escribed in terms of the electric fiel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3"/>
              <p:cNvSpPr txBox="1"/>
              <p:nvPr/>
            </p:nvSpPr>
            <p:spPr>
              <a:xfrm>
                <a:off x="228600" y="1905120"/>
                <a:ext cx="875664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x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y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 </m:t>
                            </m:r>
                            <m:r>
                              <m:t xml:space="preserve">ε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4" name="Text Box 4"/>
          <p:cNvSpPr/>
          <p:nvPr/>
        </p:nvSpPr>
        <p:spPr>
          <a:xfrm>
            <a:off x="380880" y="32004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4 Stokes paramete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Object 5"/>
              <p:cNvSpPr txBox="1"/>
              <p:nvPr/>
            </p:nvSpPr>
            <p:spPr>
              <a:xfrm>
                <a:off x="4191120" y="3200400"/>
                <a:ext cx="371448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 </m:t>
                        </m:r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 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Rectangle 6"/>
          <p:cNvSpPr/>
          <p:nvPr/>
        </p:nvSpPr>
        <p:spPr>
          <a:xfrm>
            <a:off x="4191120" y="3200400"/>
            <a:ext cx="373356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parameters (III)</a:t>
            </a:r>
            <a:br>
              <a:rPr sz="4400"/>
            </a:b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described in geometrical terms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1" name="Picture 3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762120" y="2743200"/>
            <a:ext cx="3438360" cy="2502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4495680" y="2895480"/>
                <a:ext cx="3911760" cy="233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φ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a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β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685800" y="12193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kes parameters can be arranged in a Stokes vect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Object 4"/>
              <p:cNvSpPr txBox="1"/>
              <p:nvPr/>
            </p:nvSpPr>
            <p:spPr>
              <a:xfrm>
                <a:off x="1295280" y="1676520"/>
                <a:ext cx="6070680" cy="21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+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  <m:r>
                                <m:t xml:space="preserve">−</m:t>
                              </m:r>
                              <m:sSubSup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  <m:sup>
                                  <m:r>
                                    <m:t xml:space="preserve">2</m:t>
                                  </m:r>
                                </m:sup>
                              </m:sSubSup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  <m:mr>
                            <m:e>
                              <m:r>
                                <m:t xml:space="preserve">2</m:t>
                              </m:r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x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0y</m:t>
                                  </m:r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 </m:t>
                              </m:r>
                              <m:r>
                                <m:t xml:space="preserve">ε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ntensity</m:t>
                              </m:r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90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5</m:t>
                                  </m:r>
                                  <m:r>
                                    <m:t xml:space="preserve">°</m:t>
                                  </m:r>
                                </m:e>
                              </m:d>
                            </m:e>
                          </m:mr>
                          <m:mr>
                            <m:e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RCP</m:t>
                                  </m:r>
                                </m:e>
                              </m:d>
                              <m:r>
                                <m:t xml:space="preserve">−</m:t>
                              </m:r>
                              <m:r>
                                <m:t xml:space="preserve">I</m:t>
                              </m:r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LCP</m:t>
                                  </m:r>
                                </m:e>
                              </m:d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9" name="Text Box 11"/>
          <p:cNvSpPr/>
          <p:nvPr/>
        </p:nvSpPr>
        <p:spPr>
          <a:xfrm>
            <a:off x="1295280" y="4038480"/>
            <a:ext cx="327672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ally 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Object 12"/>
              <p:cNvSpPr txBox="1"/>
              <p:nvPr/>
            </p:nvSpPr>
            <p:spPr>
              <a:xfrm>
                <a:off x="4724280" y="4038480"/>
                <a:ext cx="2286000" cy="21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, V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&gt;</m:t>
                        </m:r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U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Stokes vec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ictorial representation of the Stokes para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5" name="Picture 3" descr="C:\Documents and Settings\manset\My Documents\CFHT_AND_SCIENCE\PolarizationOfLight\PictorialPolarization.jpg"/>
          <p:cNvPicPr/>
          <p:nvPr/>
        </p:nvPicPr>
        <p:blipFill>
          <a:blip r:embed="rId1"/>
          <a:stretch/>
        </p:blipFill>
        <p:spPr>
          <a:xfrm>
            <a:off x="1371600" y="1905120"/>
            <a:ext cx="6580080" cy="392724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09480" y="32767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Object 6"/>
              <p:cNvSpPr txBox="1"/>
              <p:nvPr/>
            </p:nvSpPr>
            <p:spPr>
              <a:xfrm>
                <a:off x="609480" y="2971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line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990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H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3" name="Object 4"/>
              <p:cNvSpPr txBox="1"/>
              <p:nvPr/>
            </p:nvSpPr>
            <p:spPr>
              <a:xfrm>
                <a:off x="106668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44" name="Text Box 5"/>
          <p:cNvSpPr/>
          <p:nvPr/>
        </p:nvSpPr>
        <p:spPr>
          <a:xfrm>
            <a:off x="28195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V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48769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7"/>
          <p:cNvSpPr/>
          <p:nvPr/>
        </p:nvSpPr>
        <p:spPr>
          <a:xfrm>
            <a:off x="685800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8"/>
              <p:cNvSpPr txBox="1"/>
              <p:nvPr/>
            </p:nvSpPr>
            <p:spPr>
              <a:xfrm>
                <a:off x="2944800" y="2819520"/>
                <a:ext cx="108576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9"/>
              <p:cNvSpPr txBox="1"/>
              <p:nvPr/>
            </p:nvSpPr>
            <p:spPr>
              <a:xfrm>
                <a:off x="50292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Object 10"/>
              <p:cNvSpPr txBox="1"/>
              <p:nvPr/>
            </p:nvSpPr>
            <p:spPr>
              <a:xfrm>
                <a:off x="6972480" y="2895480"/>
                <a:ext cx="1220760" cy="304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Stokes vectors for circular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21337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4"/>
              <p:cNvSpPr txBox="1"/>
              <p:nvPr/>
            </p:nvSpPr>
            <p:spPr>
              <a:xfrm>
                <a:off x="2286000" y="2819520"/>
                <a:ext cx="990720" cy="30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6" name="Text Box 5"/>
          <p:cNvSpPr/>
          <p:nvPr/>
        </p:nvSpPr>
        <p:spPr>
          <a:xfrm>
            <a:off x="5334120" y="22860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CP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8"/>
              <p:cNvSpPr txBox="1"/>
              <p:nvPr/>
            </p:nvSpPr>
            <p:spPr>
              <a:xfrm>
                <a:off x="5410080" y="2819520"/>
                <a:ext cx="1030320" cy="32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8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examp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(Q,U) to (P,</a:t>
            </a:r>
            <a:r>
              <a:rPr b="1" lang="en-US" sz="4400" spc="-1" strike="noStrike">
                <a:solidFill>
                  <a:srgbClr val="000066"/>
                </a:solidFill>
                <a:latin typeface="UniversalMath1 BT"/>
                <a:ea typeface="UniversalMath1 BT"/>
              </a:rPr>
              <a:t>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990720" y="16002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ase of linear polarization (V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Object 5"/>
              <p:cNvSpPr txBox="1"/>
              <p:nvPr/>
            </p:nvSpPr>
            <p:spPr>
              <a:xfrm>
                <a:off x="2209680" y="2209680"/>
                <a:ext cx="176544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Q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I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6"/>
              <p:cNvSpPr txBox="1"/>
              <p:nvPr/>
            </p:nvSpPr>
            <p:spPr>
              <a:xfrm>
                <a:off x="4876920" y="2286000"/>
                <a:ext cx="179064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arcta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Object 7"/>
              <p:cNvSpPr txBox="1"/>
              <p:nvPr/>
            </p:nvSpPr>
            <p:spPr>
              <a:xfrm>
                <a:off x="2209680" y="3352680"/>
                <a:ext cx="1797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 cos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Object 8"/>
              <p:cNvSpPr txBox="1"/>
              <p:nvPr/>
            </p:nvSpPr>
            <p:spPr>
              <a:xfrm>
                <a:off x="4724280" y="3352680"/>
                <a:ext cx="182880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P sin 2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67" name="Picture 9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828800" y="3886200"/>
            <a:ext cx="5189400" cy="237816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0"/>
          <p:cNvSpPr/>
          <p:nvPr/>
        </p:nvSpPr>
        <p:spPr>
          <a:xfrm>
            <a:off x="1981080" y="2133720"/>
            <a:ext cx="480060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Rectangle 11"/>
          <p:cNvSpPr/>
          <p:nvPr/>
        </p:nvSpPr>
        <p:spPr>
          <a:xfrm>
            <a:off x="1981080" y="3352680"/>
            <a:ext cx="48006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685800" y="20574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light is represented by Stokes vectors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tical components are then described with Mueller matri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[output light] = [Muller matrix]  [input light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Object 4"/>
              <p:cNvSpPr txBox="1"/>
              <p:nvPr/>
            </p:nvSpPr>
            <p:spPr>
              <a:xfrm>
                <a:off x="1722600" y="3657600"/>
                <a:ext cx="5229000" cy="227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34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m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4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Q</m:t>
                              </m:r>
                            </m:e>
                          </m:mr>
                          <m:mr>
                            <m:e>
                              <m:r>
                                <m:t xml:space="preserve">U</m:t>
                              </m:r>
                            </m:e>
                          </m:mr>
                          <m:mr>
                            <m:e>
                              <m:r>
                                <m:t xml:space="preserve">V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6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" name="AutoShape 3"/>
          <p:cNvSpPr/>
          <p:nvPr/>
        </p:nvSpPr>
        <p:spPr>
          <a:xfrm>
            <a:off x="121932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7315200" y="25909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5"/>
          <p:cNvSpPr/>
          <p:nvPr/>
        </p:nvSpPr>
        <p:spPr>
          <a:xfrm>
            <a:off x="2743200" y="2590920"/>
            <a:ext cx="914400" cy="380880"/>
          </a:xfrm>
          <a:prstGeom prst="parallelogram">
            <a:avLst>
              <a:gd name="adj" fmla="val 60019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4495680" y="2438280"/>
            <a:ext cx="304920" cy="838440"/>
          </a:xfrm>
          <a:prstGeom prst="ellips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7"/>
          <p:cNvSpPr/>
          <p:nvPr/>
        </p:nvSpPr>
        <p:spPr>
          <a:xfrm>
            <a:off x="5791320" y="2438280"/>
            <a:ext cx="914400" cy="609840"/>
          </a:xfrm>
          <a:prstGeom prst="rtTriangl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2286000" y="34290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ment 1       Element 2     Eleme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Object 9"/>
              <p:cNvSpPr txBox="1"/>
              <p:nvPr/>
            </p:nvSpPr>
            <p:spPr>
              <a:xfrm>
                <a:off x="2666880" y="3962520"/>
                <a:ext cx="571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7" name="Object 10"/>
              <p:cNvSpPr txBox="1"/>
              <p:nvPr/>
            </p:nvSpPr>
            <p:spPr>
              <a:xfrm>
                <a:off x="4479840" y="3962520"/>
                <a:ext cx="60336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11"/>
              <p:cNvSpPr txBox="1"/>
              <p:nvPr/>
            </p:nvSpPr>
            <p:spPr>
              <a:xfrm>
                <a:off x="6080040" y="3946680"/>
                <a:ext cx="6033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9" name="Text Box 13"/>
          <p:cNvSpPr/>
          <p:nvPr/>
        </p:nvSpPr>
        <p:spPr>
          <a:xfrm>
            <a:off x="3276720" y="4876920"/>
            <a:ext cx="2743200" cy="6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8000"/>
                </a:solidFill>
                <a:latin typeface="Times New Roman"/>
              </a:rPr>
              <a:t>I’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3000" spc="-1" strike="noStrike">
                <a:solidFill>
                  <a:srgbClr val="00cc99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00cc99"/>
                </a:solidFill>
                <a:latin typeface="Times New Roman"/>
              </a:rPr>
              <a:t>3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ff66cc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ff66cc"/>
                </a:solidFill>
                <a:latin typeface="Times New Roman"/>
              </a:rPr>
              <a:t>2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777777"/>
                </a:solidFill>
                <a:latin typeface="Times New Roman"/>
              </a:rPr>
              <a:t>M</a:t>
            </a:r>
            <a:r>
              <a:rPr b="1" lang="en-US" sz="3000" spc="-1" strike="noStrike" baseline="-25000">
                <a:solidFill>
                  <a:srgbClr val="777777"/>
                </a:solidFill>
                <a:latin typeface="Times New Roman"/>
              </a:rPr>
              <a:t>1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5"/>
          <p:cNvSpPr/>
          <p:nvPr/>
        </p:nvSpPr>
        <p:spPr>
          <a:xfrm>
            <a:off x="990720" y="2133720"/>
            <a:ext cx="739116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6"/>
          <p:cNvSpPr/>
          <p:nvPr/>
        </p:nvSpPr>
        <p:spPr>
          <a:xfrm>
            <a:off x="3276720" y="4876920"/>
            <a:ext cx="26668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: Different polarization states of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as an electromagnetic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thematical and graphical descriptions of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, circular, elliptical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d, unpolarized l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838080" y="19810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n optical component with Mueller matri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otated by an angle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2209680" y="3124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’ = R(- 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     wit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Object 5"/>
              <p:cNvSpPr txBox="1"/>
              <p:nvPr/>
            </p:nvSpPr>
            <p:spPr>
              <a:xfrm>
                <a:off x="2338560" y="3809880"/>
                <a:ext cx="3958920" cy="171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α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Mueller matr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Jones formalism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685800" y="2057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kes vectors and Mueller matrices cannot describe interference effects.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phase information is importa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adio-astronomy, masers...),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one has to use the Jones formali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with complex vectors and Jones matric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685800" y="35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vectors to describe the polarization of ligh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800600" y="35812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nes matrices to represent optical compone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6" name="Object 8"/>
              <p:cNvSpPr txBox="1"/>
              <p:nvPr/>
            </p:nvSpPr>
            <p:spPr>
              <a:xfrm>
                <a:off x="1676520" y="4495680"/>
                <a:ext cx="1523880" cy="8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J</m:t>
                        </m:r>
                      </m:e>
                    </m:acc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acc>
                                    <m:accPr>
                                      <m:chr m:val="⃗"/>
                                    </m:accPr>
                                    <m:e>
                                      <m:r>
                                        <m:t xml:space="preserve">E</m:t>
                                      </m:r>
                                    </m:e>
                                  </m:acc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r>
                                <m:t xml:space="preserve">t</m:t>
                              </m:r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" name="Object 9"/>
              <p:cNvSpPr txBox="1"/>
              <p:nvPr/>
            </p:nvSpPr>
            <p:spPr>
              <a:xfrm>
                <a:off x="5791320" y="4419720"/>
                <a:ext cx="1701720" cy="95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J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1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j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2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08" name="Text Box 10"/>
          <p:cNvSpPr/>
          <p:nvPr/>
        </p:nvSpPr>
        <p:spPr>
          <a:xfrm>
            <a:off x="685800" y="556272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: Jones formalism can only deal with 100% polarizati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1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: Stokes parameters, Jones formalism, not that important here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II: Optical components fo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80720" y="2743200"/>
            <a:ext cx="57150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x index of refr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omplex index of refra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7" name="Text Box 3"/>
          <p:cNvSpPr/>
          <p:nvPr/>
        </p:nvSpPr>
        <p:spPr>
          <a:xfrm>
            <a:off x="685800" y="1676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dex of refraction is actually a complex quant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Object 4"/>
              <p:cNvSpPr txBox="1"/>
              <p:nvPr/>
            </p:nvSpPr>
            <p:spPr>
              <a:xfrm>
                <a:off x="2921040" y="2209680"/>
                <a:ext cx="256536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i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Text Box 5"/>
          <p:cNvSpPr/>
          <p:nvPr/>
        </p:nvSpPr>
        <p:spPr>
          <a:xfrm>
            <a:off x="1143000" y="3352680"/>
            <a:ext cx="32004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path length, refraction: speed of light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refringe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peed of light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4952880" y="3352680"/>
            <a:ext cx="35816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aginary p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sorption, attenuation, extinction: depends o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chroism/diattenu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also depends on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"/>
          <p:cNvSpPr/>
          <p:nvPr/>
        </p:nvSpPr>
        <p:spPr>
          <a:xfrm>
            <a:off x="1066680" y="3352680"/>
            <a:ext cx="335304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8"/>
          <p:cNvSpPr/>
          <p:nvPr/>
        </p:nvSpPr>
        <p:spPr>
          <a:xfrm>
            <a:off x="4876920" y="3352680"/>
            <a:ext cx="35812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Line 10"/>
          <p:cNvSpPr/>
          <p:nvPr/>
        </p:nvSpPr>
        <p:spPr>
          <a:xfrm flipH="1">
            <a:off x="2743200" y="2971800"/>
            <a:ext cx="12952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Line 11"/>
          <p:cNvSpPr/>
          <p:nvPr/>
        </p:nvSpPr>
        <p:spPr>
          <a:xfrm>
            <a:off x="5257800" y="2971800"/>
            <a:ext cx="12193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AutoShape 13"/>
          <p:cNvSpPr/>
          <p:nvPr/>
        </p:nvSpPr>
        <p:spPr>
          <a:xfrm rot="16243800">
            <a:off x="40384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AutoShape 14"/>
          <p:cNvSpPr/>
          <p:nvPr/>
        </p:nvSpPr>
        <p:spPr>
          <a:xfrm rot="16243800">
            <a:off x="4952880" y="2666520"/>
            <a:ext cx="304920" cy="457200"/>
          </a:xfrm>
          <a:custGeom>
            <a:avLst/>
            <a:gdLst>
              <a:gd name="textAreaLeft" fmla="*/ 194760 w 304920"/>
              <a:gd name="textAreaRight" fmla="*/ 305280 w 3049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762120" y="1981080"/>
            <a:ext cx="79246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olarizers absorb one component of the polarization but not the othe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nput is natural light, the output is polarized light (linear, circular, elliptical). They work by dichroism, birefringence, reflection, or scatt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re-grid polarizers (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y used in the IR and longer waveleng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id of parallel conducting wires with a spacing comparable to the wavelength of observ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ectric field vector parallel to the wires is attenuated because of currents induced in the wi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Wide-grid polarizers (I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1" name="Picture 3" descr="C:\Documents and Settings\manset\My Documents\CFHT_AND_SCIENCE\PolarizationOfLight\WireGrid.jpg"/>
          <p:cNvPicPr/>
          <p:nvPr/>
        </p:nvPicPr>
        <p:blipFill>
          <a:blip r:embed="rId1"/>
          <a:stretch/>
        </p:blipFill>
        <p:spPr>
          <a:xfrm>
            <a:off x="685800" y="2895480"/>
            <a:ext cx="4343400" cy="26114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" descr="C:\Documents and Settings\manset\My Documents\CFHT_AND_SCIENCE\PolarizationOfLight\WireGridImage.gif"/>
          <p:cNvPicPr/>
          <p:nvPr/>
        </p:nvPicPr>
        <p:blipFill>
          <a:blip r:embed="rId2"/>
          <a:stretch/>
        </p:blipFill>
        <p:spPr>
          <a:xfrm>
            <a:off x="5486400" y="2438280"/>
            <a:ext cx="2308320" cy="16574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ichroic crystal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7" name="Text Box 3"/>
          <p:cNvSpPr/>
          <p:nvPr/>
        </p:nvSpPr>
        <p:spPr>
          <a:xfrm>
            <a:off x="914400" y="3200400"/>
            <a:ext cx="41911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chroic crystals absorb one polarization state over the other o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ourma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4" descr="C:\Documents and Settings\manset\My Documents\CFHT_AND_SCIENCE\PolarizationOfLight\DichroicCrystal.jpg"/>
          <p:cNvPicPr/>
          <p:nvPr/>
        </p:nvPicPr>
        <p:blipFill>
          <a:blip r:embed="rId1"/>
          <a:stretch/>
        </p:blipFill>
        <p:spPr>
          <a:xfrm>
            <a:off x="5181480" y="2514600"/>
            <a:ext cx="3097440" cy="305424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s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dichroism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838080" y="19051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by heating and stretching a sheet of PVA laminated to a supporting sheet of cellulose acetate treated with iodine solution (H-type polaroid). Invented in 192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4" descr="C:\Documents and Settings\manset\My Documents\CFHT_AND_SCIENCE\PolarizationOfLight\Polaroid.gif"/>
          <p:cNvPicPr/>
          <p:nvPr/>
        </p:nvPicPr>
        <p:blipFill>
          <a:blip r:embed="rId1"/>
          <a:stretch/>
        </p:blipFill>
        <p:spPr>
          <a:xfrm>
            <a:off x="2362320" y="3809880"/>
            <a:ext cx="4435200" cy="18637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– Polaroids, like in sunglass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Picture 6" descr="C:\Documents and Settings\manset\My Documents\My Pictures\animated-sunglasses.gif"/>
          <p:cNvPicPr/>
          <p:nvPr/>
        </p:nvPicPr>
        <p:blipFill>
          <a:blip r:embed="rId2"/>
          <a:stretch/>
        </p:blipFill>
        <p:spPr>
          <a:xfrm>
            <a:off x="6248520" y="152280"/>
            <a:ext cx="914400" cy="4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)</a:t>
            </a:r>
            <a:br>
              <a:rPr sz="44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228600" y="1981080"/>
            <a:ext cx="6324480" cy="38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ly anisotropic cryst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chanical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rystal is anisotropic, which means that the electrons are bound with different ‘springs’ depending on the ori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‘spring constants’ gives different propagation speeds, therefore different indices of refraction, therefore 2 output bea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Picture 7" descr="C:\Documents and Settings\manset\My Documents\CFHT_AND_SCIENCE\PolarizationOfLight\ElectronSpring.jpg"/>
          <p:cNvPicPr/>
          <p:nvPr/>
        </p:nvPicPr>
        <p:blipFill>
          <a:blip r:embed="rId1"/>
          <a:stretch/>
        </p:blipFill>
        <p:spPr>
          <a:xfrm>
            <a:off x="6540480" y="2971800"/>
            <a:ext cx="2603520" cy="236520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Light as an electromagnetic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is a transverse wav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lectro</a:t>
            </a:r>
            <a:r>
              <a:rPr b="0" lang="en-US" sz="3200" spc="-1" strike="noStrike">
                <a:solidFill>
                  <a:srgbClr val="66ff33"/>
                </a:solidFill>
                <a:latin typeface="Times New Roman"/>
              </a:rPr>
              <a:t>magne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C:\Documents and Settings\manset\My Documents\CFHT_AND_SCIENCE\PolarizationOfLight\ElectroMagneticWave.gif"/>
          <p:cNvPicPr/>
          <p:nvPr/>
        </p:nvPicPr>
        <p:blipFill>
          <a:blip r:embed="rId1"/>
          <a:stretch/>
        </p:blipFill>
        <p:spPr>
          <a:xfrm>
            <a:off x="2819520" y="3733920"/>
            <a:ext cx="3336840" cy="1931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685800" y="2362320"/>
            <a:ext cx="777240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I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1676520" y="525780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2 output beams are polarized (orthogonall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7" name="Group 11"/>
          <p:cNvGrpSpPr/>
          <p:nvPr/>
        </p:nvGrpSpPr>
        <p:grpSpPr>
          <a:xfrm>
            <a:off x="1295280" y="3048120"/>
            <a:ext cx="7010640" cy="1828800"/>
            <a:chOff x="1295280" y="3048120"/>
            <a:chExt cx="7010640" cy="1828800"/>
          </a:xfrm>
        </p:grpSpPr>
        <p:pic>
          <p:nvPicPr>
            <p:cNvPr id="368" name="Picture 5" descr="C:\Documents and Settings\manset\My Documents\CFHT_AND_SCIENCE\PolarizationOfLight\DoubleRefraction.gif"/>
            <p:cNvPicPr/>
            <p:nvPr/>
          </p:nvPicPr>
          <p:blipFill>
            <a:blip r:embed="rId1"/>
            <a:stretch/>
          </p:blipFill>
          <p:spPr>
            <a:xfrm>
              <a:off x="2819520" y="3048120"/>
              <a:ext cx="35082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8"/>
            <p:cNvSpPr/>
            <p:nvPr/>
          </p:nvSpPr>
          <p:spPr>
            <a:xfrm>
              <a:off x="1295280" y="3200760"/>
              <a:ext cx="1447920" cy="13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Times New Roman"/>
                </a:rPr>
                <a:t>crysta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sodiu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lorid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Text Box 9"/>
            <p:cNvSpPr/>
            <p:nvPr/>
          </p:nvSpPr>
          <p:spPr>
            <a:xfrm>
              <a:off x="6553080" y="3353040"/>
              <a:ext cx="1752840" cy="102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anisotropi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cryst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calcite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ystal polarizers (IV)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[birefringence]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152280" y="1752480"/>
            <a:ext cx="5639040" cy="40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ystal polarizers used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displac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m splitt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er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s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icol prism, Glan-Thomson polarizer, Glan or Glan-Foucault prism,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hin-film polarizer,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Picture 5" descr="C:\Documents and Settings\manset\My Documents\CFHT_AND_SCIENCE\PolarizationOfLight\Prisms.jpg"/>
          <p:cNvPicPr/>
          <p:nvPr/>
        </p:nvPicPr>
        <p:blipFill>
          <a:blip r:embed="rId1"/>
          <a:stretch/>
        </p:blipFill>
        <p:spPr>
          <a:xfrm>
            <a:off x="5638680" y="1752480"/>
            <a:ext cx="3321000" cy="4373640"/>
          </a:xfrm>
          <a:prstGeom prst="rect">
            <a:avLst/>
          </a:prstGeom>
          <a:ln w="0">
            <a:noFill/>
          </a:ln>
        </p:spPr>
      </p:pic>
      <p:sp>
        <p:nvSpPr>
          <p:cNvPr id="378" name="Oval 6"/>
          <p:cNvSpPr/>
          <p:nvPr/>
        </p:nvSpPr>
        <p:spPr>
          <a:xfrm>
            <a:off x="5867280" y="4648320"/>
            <a:ext cx="990720" cy="7617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2" name="Text Box 3"/>
          <p:cNvSpPr/>
          <p:nvPr/>
        </p:nvSpPr>
        <p:spPr>
          <a:xfrm>
            <a:off x="838080" y="2286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Ideal) linear polarizer at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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Object 4"/>
              <p:cNvSpPr txBox="1"/>
              <p:nvPr/>
            </p:nvSpPr>
            <p:spPr>
              <a:xfrm>
                <a:off x="1752480" y="3124080"/>
                <a:ext cx="54612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in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sSup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2</m:t>
                              </m:r>
                              <m:r>
                                <m:t xml:space="preserve">χ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84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Oval 6"/>
          <p:cNvSpPr/>
          <p:nvPr/>
        </p:nvSpPr>
        <p:spPr>
          <a:xfrm>
            <a:off x="1752480" y="3429000"/>
            <a:ext cx="304920" cy="1295280"/>
          </a:xfrm>
          <a:prstGeom prst="ellipse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7"/>
          <p:cNvSpPr/>
          <p:nvPr/>
        </p:nvSpPr>
        <p:spPr>
          <a:xfrm rot="16200000">
            <a:off x="1409400" y="239976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Freeform 8"/>
          <p:cNvSpPr/>
          <p:nvPr/>
        </p:nvSpPr>
        <p:spPr>
          <a:xfrm>
            <a:off x="1054080" y="3048120"/>
            <a:ext cx="647640" cy="1181160"/>
          </a:xfrm>
          <a:custGeom>
            <a:avLst/>
            <a:gdLst>
              <a:gd name="textAreaLeft" fmla="*/ 0 w 647640"/>
              <a:gd name="textAreaRight" fmla="*/ 648000 w 647640"/>
              <a:gd name="textAreaTop" fmla="*/ 0 h 1181160"/>
              <a:gd name="textAreaBottom" fmla="*/ 1181520 h 1181160"/>
            </a:gdLst>
            <a:ahLst/>
            <a:rect l="textAreaLeft" t="textAreaTop" r="textAreaRight" b="textAreaBottom"/>
            <a:pathLst>
              <a:path w="408" h="744">
                <a:moveTo>
                  <a:pt x="296" y="0"/>
                </a:moveTo>
                <a:cubicBezTo>
                  <a:pt x="148" y="88"/>
                  <a:pt x="0" y="176"/>
                  <a:pt x="8" y="288"/>
                </a:cubicBezTo>
                <a:cubicBezTo>
                  <a:pt x="16" y="400"/>
                  <a:pt x="280" y="600"/>
                  <a:pt x="344" y="672"/>
                </a:cubicBezTo>
                <a:cubicBezTo>
                  <a:pt x="408" y="744"/>
                  <a:pt x="400" y="732"/>
                  <a:pt x="392" y="72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ces of polariz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83808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2" name="Object 4"/>
              <p:cNvSpPr txBox="1"/>
              <p:nvPr/>
            </p:nvSpPr>
            <p:spPr>
              <a:xfrm>
                <a:off x="457200" y="3429000"/>
                <a:ext cx="2514600" cy="17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3" name="Text Box 5"/>
          <p:cNvSpPr/>
          <p:nvPr/>
        </p:nvSpPr>
        <p:spPr>
          <a:xfrm>
            <a:off x="3657600" y="25146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) polarizer 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Object 6"/>
              <p:cNvSpPr txBox="1"/>
              <p:nvPr/>
            </p:nvSpPr>
            <p:spPr>
              <a:xfrm>
                <a:off x="3276720" y="3505320"/>
                <a:ext cx="2361960" cy="16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8"/>
          <p:cNvSpPr/>
          <p:nvPr/>
        </p:nvSpPr>
        <p:spPr>
          <a:xfrm>
            <a:off x="6324480" y="25146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V) polariz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Object 9"/>
              <p:cNvSpPr txBox="1"/>
              <p:nvPr/>
            </p:nvSpPr>
            <p:spPr>
              <a:xfrm>
                <a:off x="6019920" y="3505320"/>
                <a:ext cx="2438280" cy="16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98" name="AutoShape 10"/>
          <p:cNvSpPr/>
          <p:nvPr/>
        </p:nvSpPr>
        <p:spPr>
          <a:xfrm>
            <a:off x="3808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AutoShape 11"/>
          <p:cNvSpPr/>
          <p:nvPr/>
        </p:nvSpPr>
        <p:spPr>
          <a:xfrm>
            <a:off x="31240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AutoShape 12"/>
          <p:cNvSpPr/>
          <p:nvPr/>
        </p:nvSpPr>
        <p:spPr>
          <a:xfrm>
            <a:off x="5867280" y="2514600"/>
            <a:ext cx="2743200" cy="297180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2971800"/>
              <a:gd name="textAreaBottom" fmla="*/ 2837880 h 2971800"/>
            </a:gdLst>
            <a:ahLst/>
            <a:rect l="textAreaLeft" t="textAreaTop" r="textAreaRight" b="textAreaBottom"/>
            <a:pathLst>
              <a:path w="21600" h="23400">
                <a:moveTo>
                  <a:pt x="3600" y="0"/>
                </a:moveTo>
                <a:arcTo wR="3600" hR="3600" stAng="16200000" swAng="-5400000"/>
                <a:lnTo>
                  <a:pt x="0" y="19800"/>
                </a:lnTo>
                <a:arcTo wR="3600" hR="3600" stAng="10800000" swAng="-5400000"/>
                <a:lnTo>
                  <a:pt x="18000" y="234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polariz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4" name="Text Box 3"/>
          <p:cNvSpPr/>
          <p:nvPr/>
        </p:nvSpPr>
        <p:spPr>
          <a:xfrm>
            <a:off x="914400" y="19810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--- output light: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5" name="Object 4"/>
              <p:cNvSpPr txBox="1"/>
              <p:nvPr/>
            </p:nvSpPr>
            <p:spPr>
              <a:xfrm>
                <a:off x="1352520" y="2895480"/>
                <a:ext cx="5780160" cy="20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-I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6" name="Text Box 5"/>
          <p:cNvSpPr/>
          <p:nvPr/>
        </p:nvSpPr>
        <p:spPr>
          <a:xfrm>
            <a:off x="4876920" y="52578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output intensity: 0.5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685800" y="1905120"/>
            <a:ext cx="76201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 retarders, one polarization gets ‘retarded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delayed, with respect to the other one. There is a final phase difference between the 2 components of the polarization. Therefore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e polarization is chang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retarders are based on birefringent materials (quartz, mica, polymers) that have different indices of refraction depending on the polarization of the incoming li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½ wave or 18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flip the linear polarization or change the handedness of circular polariz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7" name="Picture 7" descr="C:\Documents and Settings\manset\My Documents\CFHT_AND_SCIENCE\PolarizationOfLight\Half-Wave-process.jpg"/>
          <p:cNvPicPr/>
          <p:nvPr/>
        </p:nvPicPr>
        <p:blipFill>
          <a:blip r:embed="rId1"/>
          <a:stretch/>
        </p:blipFill>
        <p:spPr>
          <a:xfrm>
            <a:off x="4800600" y="2133720"/>
            <a:ext cx="3681360" cy="36511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Half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22" name="Picture 3" descr="C:\Documents and Settings\manset\My Documents\CFHT_AND_SCIENCE\PolarizationOfLight\HalfWavePlate.gif"/>
          <p:cNvPicPr/>
          <p:nvPr/>
        </p:nvPicPr>
        <p:blipFill>
          <a:blip r:embed="rId1"/>
          <a:stretch/>
        </p:blipFill>
        <p:spPr>
          <a:xfrm>
            <a:off x="2438280" y="2590920"/>
            <a:ext cx="3886200" cy="220644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Дата 4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Нижний колонтитул 5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ation of ¼ wave or 9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for one of the polar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ed to convert linear polarization to elliptic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8" descr="C:\Documents and Settings\manset\My Documents\CFHT_AND_SCIENCE\PolarizationOfLight\Circularlypolarized.gif"/>
          <p:cNvPicPr/>
          <p:nvPr/>
        </p:nvPicPr>
        <p:blipFill>
          <a:blip r:embed="rId1"/>
          <a:stretch/>
        </p:blipFill>
        <p:spPr>
          <a:xfrm>
            <a:off x="2133720" y="2895480"/>
            <a:ext cx="4914720" cy="234324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609480" y="1981080"/>
            <a:ext cx="807732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case: incoming light polariz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the retarder’s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version from linear to circular polarization (vice ver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Quarter-Wave plat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434" name="Picture 4" descr="C:\Documents and Settings\manset\My Documents\CFHT_AND_SCIENCE\PolarizationOfLight\QuarterWavePlate.gif"/>
          <p:cNvPicPr/>
          <p:nvPr/>
        </p:nvPicPr>
        <p:blipFill>
          <a:blip r:embed="rId1"/>
          <a:stretch/>
        </p:blipFill>
        <p:spPr>
          <a:xfrm>
            <a:off x="2971800" y="3048120"/>
            <a:ext cx="3886200" cy="21715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athematical description of the EM wave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ght wave that propagates in the z dir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ct 5"/>
              <p:cNvSpPr txBox="1"/>
              <p:nvPr/>
            </p:nvSpPr>
            <p:spPr>
              <a:xfrm>
                <a:off x="2286000" y="3886200"/>
                <a:ext cx="4673520" cy="12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5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9" name="Text Box 3"/>
          <p:cNvSpPr/>
          <p:nvPr/>
        </p:nvSpPr>
        <p:spPr>
          <a:xfrm>
            <a:off x="990720" y="205740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arder of retardan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position ang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0" name="Object 4"/>
              <p:cNvSpPr txBox="1"/>
              <p:nvPr/>
            </p:nvSpPr>
            <p:spPr>
              <a:xfrm>
                <a:off x="1219320" y="2590920"/>
                <a:ext cx="6832440" cy="30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m>
                              <m:mr>
                                <m:e>
                                  <m:r>
                                    <m:t xml:space="preserve">1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+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4ψ</m:t>
                                  </m:r>
                                </m:e>
                                <m:e>
                                  <m:r>
                                    <m:t xml:space="preserve">G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H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4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2ψ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inτ</m:t>
                                  </m:r>
                                  <m:r>
                                    <m:t xml:space="preserve"> 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2ψ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cosτ</m:t>
                                  </m:r>
                                </m:e>
                              </m:mr>
                            </m:m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ith: G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τ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1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5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or 90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Object 5"/>
              <p:cNvSpPr txBox="1"/>
              <p:nvPr/>
            </p:nvSpPr>
            <p:spPr>
              <a:xfrm>
                <a:off x="762120" y="3276720"/>
                <a:ext cx="29718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8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4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matrix of retarders (I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762120" y="2286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4952880" y="22096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oriented at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Object 5"/>
              <p:cNvSpPr txBox="1"/>
              <p:nvPr/>
            </p:nvSpPr>
            <p:spPr>
              <a:xfrm>
                <a:off x="888840" y="3276720"/>
                <a:ext cx="2716200" cy="23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Object 6"/>
              <p:cNvSpPr txBox="1"/>
              <p:nvPr/>
            </p:nvSpPr>
            <p:spPr>
              <a:xfrm>
                <a:off x="4876920" y="3200400"/>
                <a:ext cx="29718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∓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±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Mueller calculus with a retarder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Object 3"/>
              <p:cNvSpPr txBox="1"/>
              <p:nvPr/>
            </p:nvSpPr>
            <p:spPr>
              <a:xfrm>
                <a:off x="1600200" y="3657600"/>
                <a:ext cx="5783400" cy="23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I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Q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2" name="Text Box 4"/>
          <p:cNvSpPr/>
          <p:nvPr/>
        </p:nvSpPr>
        <p:spPr>
          <a:xfrm>
            <a:off x="990720" y="2133720"/>
            <a:ext cx="586728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 linear polarized (Q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light circularly polarized (V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(Back to polarizers, briefly)</a:t>
            </a:r>
            <a:br>
              <a:rPr sz="3200"/>
            </a:b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ircular polariz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7" name="Text Box 3"/>
          <p:cNvSpPr/>
          <p:nvPr/>
        </p:nvSpPr>
        <p:spPr>
          <a:xfrm>
            <a:off x="609480" y="2057400"/>
            <a:ext cx="42674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 light: unpolarized   --- Output light: circularly po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de of a linear polarizer glued to a quarter-wave plate oriented at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with respect to one an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manset\My Documents\CFHT_AND_SCIENCE\PolarizationOfLight\Quarter-Wave-Plate.jpg"/>
          <p:cNvPicPr/>
          <p:nvPr/>
        </p:nvPicPr>
        <p:blipFill>
          <a:blip r:embed="rId1"/>
          <a:stretch/>
        </p:blipFill>
        <p:spPr>
          <a:xfrm>
            <a:off x="5029200" y="2057400"/>
            <a:ext cx="3184560" cy="349560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polariz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ardation depends on wave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2 different materials with opposite variations of index of refraction as a function of wave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ncharatnam 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of 3 identical plates rotated w/r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achromatic retarder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pairs of quartz and Mg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chromatic retarders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78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Picture 7" descr="C:\Documents and Settings\manset\My Documents\CFHT_AND_SCIENCE\PolarizationOfLight\Retardance-panch.jpg"/>
          <p:cNvPicPr/>
          <p:nvPr/>
        </p:nvPicPr>
        <p:blipFill>
          <a:blip r:embed="rId1"/>
          <a:stretch/>
        </p:blipFill>
        <p:spPr>
          <a:xfrm>
            <a:off x="2286000" y="2666880"/>
            <a:ext cx="4495680" cy="357048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6" descr="C:\Documents and Settings\manset\My Documents\CFHT_AND_SCIENCE\PolarizationOfLight\Retardance-halfwave.jpg"/>
          <p:cNvPicPr/>
          <p:nvPr/>
        </p:nvPicPr>
        <p:blipFill>
          <a:blip r:embed="rId2"/>
          <a:stretch/>
        </p:blipFill>
        <p:spPr>
          <a:xfrm>
            <a:off x="2286000" y="1905120"/>
            <a:ext cx="4486320" cy="2377800"/>
          </a:xfrm>
          <a:prstGeom prst="rect">
            <a:avLst/>
          </a:prstGeom>
          <a:ln w="0">
            <a:noFill/>
          </a:ln>
        </p:spPr>
      </p:pic>
      <p:sp>
        <p:nvSpPr>
          <p:cNvPr id="481" name="AutoShape 8"/>
          <p:cNvSpPr/>
          <p:nvPr/>
        </p:nvSpPr>
        <p:spPr>
          <a:xfrm>
            <a:off x="1828800" y="22096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AutoShape 9"/>
          <p:cNvSpPr/>
          <p:nvPr/>
        </p:nvSpPr>
        <p:spPr>
          <a:xfrm>
            <a:off x="1752480" y="4419720"/>
            <a:ext cx="381240" cy="990360"/>
          </a:xfrm>
          <a:custGeom>
            <a:avLst/>
            <a:gdLst>
              <a:gd name="textAreaLeft" fmla="*/ 243720 w 381240"/>
              <a:gd name="textAreaRight" fmla="*/ 381600 w 38124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Text Box 10"/>
          <p:cNvSpPr/>
          <p:nvPr/>
        </p:nvSpPr>
        <p:spPr>
          <a:xfrm>
            <a:off x="304920" y="2286000"/>
            <a:ext cx="198108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=140-220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not very achromatic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 Box 11"/>
          <p:cNvSpPr/>
          <p:nvPr/>
        </p:nvSpPr>
        <p:spPr>
          <a:xfrm>
            <a:off x="228600" y="4495680"/>
            <a:ext cx="175248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UniversalMath1 BT"/>
                <a:ea typeface="UniversalMath1 BT"/>
              </a:rPr>
              <a:t>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= 177-18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much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etter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tardation on total internal reflection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837720" y="2133720"/>
            <a:ext cx="31244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tal internal reflection produces retardation (phase shif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8"/>
          <p:cNvSpPr/>
          <p:nvPr/>
        </p:nvSpPr>
        <p:spPr>
          <a:xfrm>
            <a:off x="838080" y="426708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is case, retardation is very achromatic since it only depends on the refractive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: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Fresnel rhom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C:\Documents and Settings\manset\My Documents\CFHT_AND_SCIENCE\PolarizationOfLight\ReflectionPhaseShift2.gif"/>
          <p:cNvPicPr/>
          <p:nvPr/>
        </p:nvPicPr>
        <p:blipFill>
          <a:blip r:embed="rId1"/>
          <a:stretch/>
        </p:blipFill>
        <p:spPr>
          <a:xfrm>
            <a:off x="4038480" y="1981080"/>
            <a:ext cx="4059360" cy="235440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Fresnel rhombs 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rter-wave and half-wave rhombs are achieved with 2 or 4 refl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6" name="Picture 4" descr="C:\Documents and Settings\manset\My Documents\CFHT_AND_SCIENCE\PolarizationOfLight\FresnelRhombs.gif"/>
          <p:cNvPicPr/>
          <p:nvPr/>
        </p:nvPicPr>
        <p:blipFill>
          <a:blip r:embed="rId1"/>
          <a:stretch/>
        </p:blipFill>
        <p:spPr>
          <a:xfrm>
            <a:off x="762120" y="3581280"/>
            <a:ext cx="7589880" cy="210348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5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Other retard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eil-Babinet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able retardation to better than 0.01 wa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matic liquid crystals... Liquid crystal variable retarders... Ferroelectric liquid crystals... Piezo-elastic modulators... Pockels and Kerr cell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II: Optical components, retar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can go fro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the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quation of an ellip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ing trigonometric identities, squaring, adding)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6"/>
              <p:cNvSpPr txBox="1"/>
              <p:nvPr/>
            </p:nvSpPr>
            <p:spPr>
              <a:xfrm>
                <a:off x="1676520" y="4572000"/>
                <a:ext cx="5981760" cy="124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x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x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t xml:space="preserve">y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y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 </m:t>
                    </m:r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 =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3886200" y="236232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2" name="Text Box 1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IV: Polarimeter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28440" y="2895120"/>
            <a:ext cx="5715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laroid-type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ual-beam polarimeter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685800" y="205740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linear polarizer (polaroid) to measure linear polarization ...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[another cool applet]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applets/lens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zation percentage and position angl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Object 7"/>
              <p:cNvSpPr txBox="1"/>
              <p:nvPr/>
            </p:nvSpPr>
            <p:spPr>
              <a:xfrm>
                <a:off x="2666880" y="3962520"/>
                <a:ext cx="3187800" cy="21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in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Θ</m:t>
                        </m:r>
                        <m:r>
                          <m:t xml:space="preserve">=</m:t>
                        </m:r>
                        <m:r>
                          <m:t xml:space="preserve">Θ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2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3" name="Object 9"/>
              <p:cNvSpPr txBox="1"/>
              <p:nvPr/>
            </p:nvSpPr>
            <p:spPr>
              <a:xfrm>
                <a:off x="6858000" y="411480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linear polarimetry (II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762120" y="32763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antage: very simple to m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dvantage: half of the light is cut o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disadvantages: non-simultaneous measurements, cross-talk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"/>
          <p:cNvSpPr/>
          <p:nvPr/>
        </p:nvSpPr>
        <p:spPr>
          <a:xfrm>
            <a:off x="76212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ve the polaroid to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 posi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45º (to measure Q, then U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5" descr="C:\Documents and Settings\manset\My Documents\CFHT_AND_SCIENCE\PolarizationOfLight\PT-QU.gif"/>
          <p:cNvPicPr/>
          <p:nvPr/>
        </p:nvPicPr>
        <p:blipFill>
          <a:blip r:embed="rId1"/>
          <a:stretch/>
        </p:blipFill>
        <p:spPr>
          <a:xfrm>
            <a:off x="1981080" y="3809880"/>
            <a:ext cx="5189760" cy="237816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6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oid-type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circular polarimetry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oids are not sensitive to circular polarization, so convert circular polarization to linear first, by using  a quarter-wave 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larimeter now uses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quarter-wave plate and a polar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disadvantages as bef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polaroid-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rincipl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cutting out one polarization and keeping the other one (polaroid), split the 2 polarization states and keep them b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ollaston pris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an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advantages: need 2 detectors (PMTs, APDs) or an array; end up with 2 ‘pixels’ with different 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tion: rotate the Wollaston or keep it fixed and use a half-wave plate to switch the 2 be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4" name="AutoShape 13"/>
          <p:cNvSpPr/>
          <p:nvPr/>
        </p:nvSpPr>
        <p:spPr>
          <a:xfrm>
            <a:off x="1219320" y="3276720"/>
            <a:ext cx="761760" cy="129528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AutoShape 14"/>
          <p:cNvSpPr/>
          <p:nvPr/>
        </p:nvSpPr>
        <p:spPr>
          <a:xfrm>
            <a:off x="1066680" y="2209680"/>
            <a:ext cx="990720" cy="914400"/>
          </a:xfrm>
          <a:custGeom>
            <a:avLst/>
            <a:gdLst>
              <a:gd name="textAreaLeft" fmla="*/ 99000 w 990720"/>
              <a:gd name="textAreaRight" fmla="*/ 891720 w 990720"/>
              <a:gd name="textAreaTop" fmla="*/ 365760 h 914400"/>
              <a:gd name="textAreaBottom" fmla="*/ 548640 h 9144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AutoShape 15"/>
          <p:cNvSpPr/>
          <p:nvPr/>
        </p:nvSpPr>
        <p:spPr>
          <a:xfrm>
            <a:off x="990720" y="472428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AutoShape 16"/>
          <p:cNvSpPr/>
          <p:nvPr/>
        </p:nvSpPr>
        <p:spPr>
          <a:xfrm rot="5400000">
            <a:off x="1904400" y="4800600"/>
            <a:ext cx="152640" cy="990360"/>
          </a:xfrm>
          <a:prstGeom prst="upDownArrow">
            <a:avLst>
              <a:gd name="adj1" fmla="val 50000"/>
              <a:gd name="adj2" fmla="val 12916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17"/>
          <p:cNvSpPr/>
          <p:nvPr/>
        </p:nvSpPr>
        <p:spPr>
          <a:xfrm>
            <a:off x="609480" y="1828800"/>
            <a:ext cx="2057400" cy="41911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20"/>
          <p:cNvSpPr/>
          <p:nvPr/>
        </p:nvSpPr>
        <p:spPr>
          <a:xfrm>
            <a:off x="3276720" y="1828800"/>
            <a:ext cx="548640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polarized light: two beams have identical intensities whatever the prism’s position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f the 2 pixels have the same 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mpensate different gains, switch the 2 beams and average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1" name="Object 21"/>
              <p:cNvSpPr txBox="1"/>
              <p:nvPr/>
            </p:nvSpPr>
            <p:spPr>
              <a:xfrm>
                <a:off x="5410080" y="32767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by rotating the prism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5" name="Group 20"/>
          <p:cNvGrpSpPr/>
          <p:nvPr/>
        </p:nvGrpSpPr>
        <p:grpSpPr>
          <a:xfrm>
            <a:off x="2362320" y="1828800"/>
            <a:ext cx="5029200" cy="4267080"/>
            <a:chOff x="2362320" y="1828800"/>
            <a:chExt cx="5029200" cy="4267080"/>
          </a:xfrm>
        </p:grpSpPr>
        <p:sp>
          <p:nvSpPr>
            <p:cNvPr id="546" name="AutoShape 3"/>
            <p:cNvSpPr/>
            <p:nvPr/>
          </p:nvSpPr>
          <p:spPr>
            <a:xfrm>
              <a:off x="28954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AutoShape 4"/>
            <p:cNvSpPr/>
            <p:nvPr/>
          </p:nvSpPr>
          <p:spPr>
            <a:xfrm rot="1141800">
              <a:off x="3276360" y="2133360"/>
              <a:ext cx="152280" cy="990360"/>
            </a:xfrm>
            <a:prstGeom prst="upDownArrow">
              <a:avLst>
                <a:gd name="adj1" fmla="val 50000"/>
                <a:gd name="adj2" fmla="val 129469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AutoShape 5"/>
            <p:cNvSpPr/>
            <p:nvPr/>
          </p:nvSpPr>
          <p:spPr>
            <a:xfrm>
              <a:off x="2895480" y="472428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AutoShape 6"/>
            <p:cNvSpPr/>
            <p:nvPr/>
          </p:nvSpPr>
          <p:spPr>
            <a:xfrm rot="5400000">
              <a:off x="3466440" y="514332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AutoShape 7"/>
            <p:cNvSpPr/>
            <p:nvPr/>
          </p:nvSpPr>
          <p:spPr>
            <a:xfrm rot="1141800">
              <a:off x="5409720" y="21333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AutoShape 8"/>
            <p:cNvSpPr/>
            <p:nvPr/>
          </p:nvSpPr>
          <p:spPr>
            <a:xfrm>
              <a:off x="4952880" y="3276720"/>
              <a:ext cx="76212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AutoShape 9"/>
            <p:cNvSpPr/>
            <p:nvPr/>
          </p:nvSpPr>
          <p:spPr>
            <a:xfrm>
              <a:off x="5638680" y="487692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AutoShape 10"/>
            <p:cNvSpPr/>
            <p:nvPr/>
          </p:nvSpPr>
          <p:spPr>
            <a:xfrm rot="5400000">
              <a:off x="5067000" y="50673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AutoShape 11"/>
            <p:cNvSpPr/>
            <p:nvPr/>
          </p:nvSpPr>
          <p:spPr>
            <a:xfrm>
              <a:off x="4267080" y="373392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Text Box 12"/>
            <p:cNvSpPr/>
            <p:nvPr/>
          </p:nvSpPr>
          <p:spPr>
            <a:xfrm>
              <a:off x="5867280" y="3581280"/>
              <a:ext cx="152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otate by 18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Rectangle 18"/>
            <p:cNvSpPr/>
            <p:nvPr/>
          </p:nvSpPr>
          <p:spPr>
            <a:xfrm>
              <a:off x="2362320" y="1828800"/>
              <a:ext cx="4876560" cy="426708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Text Box 19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s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witching beams using a ½ wave pl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61" name="Group 20"/>
          <p:cNvGrpSpPr/>
          <p:nvPr/>
        </p:nvGrpSpPr>
        <p:grpSpPr>
          <a:xfrm>
            <a:off x="1905120" y="1602360"/>
            <a:ext cx="838080" cy="4569840"/>
            <a:chOff x="1905120" y="1602360"/>
            <a:chExt cx="838080" cy="4569840"/>
          </a:xfrm>
        </p:grpSpPr>
        <p:sp>
          <p:nvSpPr>
            <p:cNvPr id="562" name="AutoShape 3"/>
            <p:cNvSpPr/>
            <p:nvPr/>
          </p:nvSpPr>
          <p:spPr>
            <a:xfrm>
              <a:off x="1981080" y="388620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AutoShape 4"/>
            <p:cNvSpPr/>
            <p:nvPr/>
          </p:nvSpPr>
          <p:spPr>
            <a:xfrm rot="1141800">
              <a:off x="2361600" y="15998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AutoShape 5"/>
            <p:cNvSpPr/>
            <p:nvPr/>
          </p:nvSpPr>
          <p:spPr>
            <a:xfrm>
              <a:off x="1905120" y="2590920"/>
              <a:ext cx="838080" cy="30456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AutoShape 10"/>
            <p:cNvSpPr/>
            <p:nvPr/>
          </p:nvSpPr>
          <p:spPr>
            <a:xfrm rot="1141800">
              <a:off x="2285640" y="289512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AutoShape 11"/>
            <p:cNvSpPr/>
            <p:nvPr/>
          </p:nvSpPr>
          <p:spPr>
            <a:xfrm>
              <a:off x="2133360" y="518148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AutoShape 12"/>
            <p:cNvSpPr/>
            <p:nvPr/>
          </p:nvSpPr>
          <p:spPr>
            <a:xfrm rot="5400000">
              <a:off x="2476080" y="5600880"/>
              <a:ext cx="190800" cy="266400"/>
            </a:xfrm>
            <a:prstGeom prst="upDownArrow">
              <a:avLst>
                <a:gd name="adj1" fmla="val 50000"/>
                <a:gd name="adj2" fmla="val 2779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Text Box 14"/>
          <p:cNvSpPr/>
          <p:nvPr/>
        </p:nvSpPr>
        <p:spPr>
          <a:xfrm>
            <a:off x="6095880" y="281952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ed by 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Group 21"/>
          <p:cNvGrpSpPr/>
          <p:nvPr/>
        </p:nvGrpSpPr>
        <p:grpSpPr>
          <a:xfrm>
            <a:off x="4343400" y="1830960"/>
            <a:ext cx="1828440" cy="4150800"/>
            <a:chOff x="4343400" y="1830960"/>
            <a:chExt cx="1828440" cy="4150800"/>
          </a:xfrm>
        </p:grpSpPr>
        <p:sp>
          <p:nvSpPr>
            <p:cNvPr id="570" name="AutoShape 7"/>
            <p:cNvSpPr/>
            <p:nvPr/>
          </p:nvSpPr>
          <p:spPr>
            <a:xfrm rot="1141800">
              <a:off x="5410080" y="182844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AutoShape 8"/>
            <p:cNvSpPr/>
            <p:nvPr/>
          </p:nvSpPr>
          <p:spPr>
            <a:xfrm>
              <a:off x="4953240" y="297180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AutoShape 9"/>
            <p:cNvSpPr/>
            <p:nvPr/>
          </p:nvSpPr>
          <p:spPr>
            <a:xfrm>
              <a:off x="4953240" y="403884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AutoShape 13"/>
            <p:cNvSpPr/>
            <p:nvPr/>
          </p:nvSpPr>
          <p:spPr>
            <a:xfrm>
              <a:off x="4343400" y="2895840"/>
              <a:ext cx="533520" cy="609480"/>
            </a:xfrm>
            <a:custGeom>
              <a:avLst/>
              <a:gdLst>
                <a:gd name="textAreaLeft" fmla="*/ 71280 w 533520"/>
                <a:gd name="textAreaRight" fmla="*/ 462240 w 533520"/>
                <a:gd name="textAreaTop" fmla="*/ 106560 h 609480"/>
                <a:gd name="textAreaBottom" fmla="*/ 4420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AutoShape 15"/>
            <p:cNvSpPr/>
            <p:nvPr/>
          </p:nvSpPr>
          <p:spPr>
            <a:xfrm rot="6540000">
              <a:off x="5295600" y="3238560"/>
              <a:ext cx="152640" cy="990720"/>
            </a:xfrm>
            <a:prstGeom prst="upDownArrow">
              <a:avLst>
                <a:gd name="adj1" fmla="val 50000"/>
                <a:gd name="adj2" fmla="val 129210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AutoShape 16"/>
            <p:cNvSpPr/>
            <p:nvPr/>
          </p:nvSpPr>
          <p:spPr>
            <a:xfrm>
              <a:off x="4800600" y="5715000"/>
              <a:ext cx="190800" cy="266760"/>
            </a:xfrm>
            <a:prstGeom prst="upDownArrow">
              <a:avLst>
                <a:gd name="adj1" fmla="val 50000"/>
                <a:gd name="adj2" fmla="val 2783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AutoShape 17"/>
            <p:cNvSpPr/>
            <p:nvPr/>
          </p:nvSpPr>
          <p:spPr>
            <a:xfrm rot="5400000">
              <a:off x="5600160" y="5295960"/>
              <a:ext cx="152640" cy="990360"/>
            </a:xfrm>
            <a:prstGeom prst="upDownArrow">
              <a:avLst>
                <a:gd name="adj1" fmla="val 50000"/>
                <a:gd name="adj2" fmla="val 12916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7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19"/>
          <p:cNvSpPr/>
          <p:nvPr/>
        </p:nvSpPr>
        <p:spPr>
          <a:xfrm>
            <a:off x="1143000" y="1523880"/>
            <a:ext cx="6781680" cy="4724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Dual-beam polarimeter </a:t>
            </a: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or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circular polarization - Wollaston and quarter-wave plate</a:t>
            </a:r>
            <a:endParaRPr b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82" name="Group 14"/>
          <p:cNvGrpSpPr/>
          <p:nvPr/>
        </p:nvGrpSpPr>
        <p:grpSpPr>
          <a:xfrm>
            <a:off x="1599840" y="1752480"/>
            <a:ext cx="838440" cy="4343400"/>
            <a:chOff x="1599840" y="1752480"/>
            <a:chExt cx="838440" cy="4343400"/>
          </a:xfrm>
        </p:grpSpPr>
        <p:sp>
          <p:nvSpPr>
            <p:cNvPr id="583" name="AutoShape 3"/>
            <p:cNvSpPr/>
            <p:nvPr/>
          </p:nvSpPr>
          <p:spPr>
            <a:xfrm>
              <a:off x="1600200" y="3733920"/>
              <a:ext cx="761760" cy="129528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AutoShape 4"/>
            <p:cNvSpPr/>
            <p:nvPr/>
          </p:nvSpPr>
          <p:spPr>
            <a:xfrm>
              <a:off x="1600200" y="2438280"/>
              <a:ext cx="838080" cy="304920"/>
            </a:xfrm>
            <a:prstGeom prst="can">
              <a:avLst>
                <a:gd name="adj" fmla="val 25000"/>
              </a:avLst>
            </a:prstGeom>
            <a:solidFill>
              <a:srgbClr val="00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6"/>
            <p:cNvSpPr/>
            <p:nvPr/>
          </p:nvSpPr>
          <p:spPr>
            <a:xfrm rot="1141800">
              <a:off x="1980720" y="2742840"/>
              <a:ext cx="151920" cy="990720"/>
            </a:xfrm>
            <a:prstGeom prst="upDownArrow">
              <a:avLst>
                <a:gd name="adj1" fmla="val 50000"/>
                <a:gd name="adj2" fmla="val 129823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AutoShape 7"/>
            <p:cNvSpPr/>
            <p:nvPr/>
          </p:nvSpPr>
          <p:spPr>
            <a:xfrm>
              <a:off x="1676160" y="5105520"/>
              <a:ext cx="151920" cy="990360"/>
            </a:xfrm>
            <a:prstGeom prst="upDownArrow">
              <a:avLst>
                <a:gd name="adj1" fmla="val 50000"/>
                <a:gd name="adj2" fmla="val 12977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AutoShape 8"/>
            <p:cNvSpPr/>
            <p:nvPr/>
          </p:nvSpPr>
          <p:spPr>
            <a:xfrm rot="5400000">
              <a:off x="2094840" y="5448240"/>
              <a:ext cx="190440" cy="266400"/>
            </a:xfrm>
            <a:prstGeom prst="upDownArrow">
              <a:avLst>
                <a:gd name="adj1" fmla="val 50000"/>
                <a:gd name="adj2" fmla="val 27848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Group 12"/>
            <p:cNvGrpSpPr/>
            <p:nvPr/>
          </p:nvGrpSpPr>
          <p:grpSpPr>
            <a:xfrm>
              <a:off x="1599840" y="1752480"/>
              <a:ext cx="685440" cy="533520"/>
              <a:chOff x="1599840" y="1752480"/>
              <a:chExt cx="685440" cy="533520"/>
            </a:xfrm>
          </p:grpSpPr>
          <p:sp>
            <p:nvSpPr>
              <p:cNvPr id="589" name="Oval 5"/>
              <p:cNvSpPr/>
              <p:nvPr/>
            </p:nvSpPr>
            <p:spPr>
              <a:xfrm>
                <a:off x="1752480" y="1752480"/>
                <a:ext cx="532800" cy="533520"/>
              </a:xfrm>
              <a:prstGeom prst="ellipse">
                <a:avLst/>
              </a:prstGeom>
              <a:noFill/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Line 10"/>
              <p:cNvSpPr/>
              <p:nvPr/>
            </p:nvSpPr>
            <p:spPr>
              <a:xfrm flipH="1" flipV="1">
                <a:off x="1599840" y="1828440"/>
                <a:ext cx="152280" cy="22860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Line 11"/>
              <p:cNvSpPr/>
              <p:nvPr/>
            </p:nvSpPr>
            <p:spPr>
              <a:xfrm flipV="1">
                <a:off x="1752480" y="1904760"/>
                <a:ext cx="228240" cy="152640"/>
              </a:xfrm>
              <a:prstGeom prst="line">
                <a:avLst/>
              </a:prstGeom>
              <a:ln w="63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2" name="Text Box 13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dual-beam typ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1295280" y="1676520"/>
            <a:ext cx="1447920" cy="457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6"/>
          <p:cNvSpPr/>
          <p:nvPr/>
        </p:nvSpPr>
        <p:spPr>
          <a:xfrm>
            <a:off x="3200400" y="1981080"/>
            <a:ext cx="52578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easurements V/I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itch the beams to compensate the gain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17"/>
              <p:cNvSpPr txBox="1"/>
              <p:nvPr/>
            </p:nvSpPr>
            <p:spPr>
              <a:xfrm>
                <a:off x="5181480" y="2590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Semel, Donati, Rees (1993)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AutoShape 3"/>
          <p:cNvSpPr/>
          <p:nvPr/>
        </p:nvSpPr>
        <p:spPr>
          <a:xfrm>
            <a:off x="1371600" y="2971800"/>
            <a:ext cx="838080" cy="304920"/>
          </a:xfrm>
          <a:prstGeom prst="can">
            <a:avLst>
              <a:gd name="adj" fmla="val 25000"/>
            </a:avLst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0" name="Group 6"/>
          <p:cNvGrpSpPr/>
          <p:nvPr/>
        </p:nvGrpSpPr>
        <p:grpSpPr>
          <a:xfrm>
            <a:off x="1219320" y="4191120"/>
            <a:ext cx="1143000" cy="457200"/>
            <a:chOff x="1219320" y="4191120"/>
            <a:chExt cx="1143000" cy="457200"/>
          </a:xfrm>
        </p:grpSpPr>
        <p:sp>
          <p:nvSpPr>
            <p:cNvPr id="601" name="Rectangle 4"/>
            <p:cNvSpPr/>
            <p:nvPr/>
          </p:nvSpPr>
          <p:spPr>
            <a:xfrm>
              <a:off x="1219320" y="4191120"/>
              <a:ext cx="1143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1219320" y="4419720"/>
              <a:ext cx="114300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Text Box 7"/>
          <p:cNvSpPr/>
          <p:nvPr/>
        </p:nvSpPr>
        <p:spPr>
          <a:xfrm>
            <a:off x="2743200" y="2819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 plate, rotated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and +45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2895480" y="41911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ser: double calcite crys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Group 10"/>
          <p:cNvGrpSpPr/>
          <p:nvPr/>
        </p:nvGrpSpPr>
        <p:grpSpPr>
          <a:xfrm>
            <a:off x="1371600" y="2209680"/>
            <a:ext cx="685800" cy="533520"/>
            <a:chOff x="1371600" y="2209680"/>
            <a:chExt cx="685800" cy="533520"/>
          </a:xfrm>
        </p:grpSpPr>
        <p:sp>
          <p:nvSpPr>
            <p:cNvPr id="606" name="Oval 11"/>
            <p:cNvSpPr/>
            <p:nvPr/>
          </p:nvSpPr>
          <p:spPr>
            <a:xfrm>
              <a:off x="1524240" y="22096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Line 12"/>
            <p:cNvSpPr/>
            <p:nvPr/>
          </p:nvSpPr>
          <p:spPr>
            <a:xfrm flipH="1" flipV="1">
              <a:off x="1371600" y="22856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Line 13"/>
            <p:cNvSpPr/>
            <p:nvPr/>
          </p:nvSpPr>
          <p:spPr>
            <a:xfrm flipV="1">
              <a:off x="1524240" y="23619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9" name="AutoShape 14"/>
          <p:cNvSpPr/>
          <p:nvPr/>
        </p:nvSpPr>
        <p:spPr>
          <a:xfrm rot="19581600">
            <a:off x="1295280" y="365724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AutoShape 15"/>
          <p:cNvSpPr/>
          <p:nvPr/>
        </p:nvSpPr>
        <p:spPr>
          <a:xfrm>
            <a:off x="1371600" y="48006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16"/>
          <p:cNvSpPr/>
          <p:nvPr/>
        </p:nvSpPr>
        <p:spPr>
          <a:xfrm rot="5400000">
            <a:off x="1942560" y="514332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914400" y="1905120"/>
            <a:ext cx="1676520" cy="4114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Graphical representation of the EM wave (I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26" name="Picture 4" descr="C:\Documents and Settings\manset\My Documents\CFHT_AND_SCIENCE\PolarizationOfLight\Ellipse.gif"/>
          <p:cNvPicPr/>
          <p:nvPr/>
        </p:nvPicPr>
        <p:blipFill>
          <a:blip r:embed="rId1"/>
          <a:stretch/>
        </p:blipFill>
        <p:spPr>
          <a:xfrm>
            <a:off x="380880" y="2743200"/>
            <a:ext cx="3438720" cy="25020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5"/>
          <p:cNvSpPr/>
          <p:nvPr/>
        </p:nvSpPr>
        <p:spPr>
          <a:xfrm>
            <a:off x="4038480" y="2743200"/>
            <a:ext cx="4038840" cy="25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n ellipse can be represented by 4 quantit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in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major ax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entation (ang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5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e (CW, CC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2514600" y="55627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ght can be represented by 4 quantiti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685800" y="5562720"/>
            <a:ext cx="1523880" cy="457200"/>
          </a:xfrm>
          <a:prstGeom prst="rightArrow">
            <a:avLst>
              <a:gd name="adj1" fmla="val 50000"/>
              <a:gd name="adj2" fmla="val 8332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(g) and atmospheric transmission (</a:t>
            </a:r>
            <a:r>
              <a:rPr b="1" lang="en-US" sz="3200" spc="-1" strike="noStrike">
                <a:solidFill>
                  <a:srgbClr val="000066"/>
                </a:solidFill>
                <a:latin typeface="Symbol"/>
                <a:ea typeface="Symbol"/>
              </a:rPr>
              <a:t>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)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Text Box 3"/>
          <p:cNvSpPr/>
          <p:nvPr/>
        </p:nvSpPr>
        <p:spPr>
          <a:xfrm>
            <a:off x="609480" y="2362320"/>
            <a:ext cx="7467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measurement with quarter-wave plate at -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ignal in the (r)ight and (l)eft beam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measurement with quarter-wave plate at +4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, signal in the (r)ight and (l)eft bea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ments of the sig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8" name="Object 4"/>
              <p:cNvSpPr txBox="1"/>
              <p:nvPr/>
            </p:nvSpPr>
            <p:spPr>
              <a:xfrm>
                <a:off x="4495680" y="26668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9" name="Object 5"/>
              <p:cNvSpPr txBox="1"/>
              <p:nvPr/>
            </p:nvSpPr>
            <p:spPr>
              <a:xfrm>
                <a:off x="5334120" y="3581280"/>
                <a:ext cx="1143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l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r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0" name="Object 6"/>
              <p:cNvSpPr txBox="1"/>
              <p:nvPr/>
            </p:nvSpPr>
            <p:spPr>
              <a:xfrm>
                <a:off x="1752480" y="4599000"/>
                <a:ext cx="590580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l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l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g</m:t>
                            </m:r>
                          </m:e>
                          <m:sup>
                            <m:r>
                              <m:t xml:space="preserve">r</m:t>
                            </m:r>
                          </m:sup>
                        </m:sSup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1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A real circular polarimeter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ree from gain and atmospheric transmission variation effect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5" name="Text Box 3"/>
          <p:cNvSpPr/>
          <p:nvPr/>
        </p:nvSpPr>
        <p:spPr>
          <a:xfrm>
            <a:off x="533520" y="24382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a ratio of measured signals which is free of gain and variable atmospheric transmission effec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6" name="Object 4"/>
              <p:cNvSpPr txBox="1"/>
              <p:nvPr/>
            </p:nvSpPr>
            <p:spPr>
              <a:xfrm>
                <a:off x="1143000" y="3352680"/>
                <a:ext cx="6375240" cy="220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l</m:t>
                                    </m:r>
                                  </m:sup>
                                </m:sSubSup>
                              </m:den>
                            </m:f>
                            <m:f>
                              <m:num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r</m:t>
                                    </m:r>
                                  </m:sup>
                                </m:sSubSup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t xml:space="preserve">F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&lt;&lt;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7" name="AutoShape 5"/>
          <p:cNvSpPr/>
          <p:nvPr/>
        </p:nvSpPr>
        <p:spPr>
          <a:xfrm rot="16200000">
            <a:off x="2514600" y="4800240"/>
            <a:ext cx="228600" cy="1752840"/>
          </a:xfrm>
          <a:custGeom>
            <a:avLst/>
            <a:gdLst>
              <a:gd name="textAreaLeft" fmla="*/ 146160 w 228600"/>
              <a:gd name="textAreaRight" fmla="*/ 228960 w 2286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6"/>
          <p:cNvSpPr/>
          <p:nvPr/>
        </p:nvSpPr>
        <p:spPr>
          <a:xfrm>
            <a:off x="838080" y="57150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of the 2 measur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example of circular polarime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meter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typ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oid-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y to make but ½ light is lost, and affected by variable atmospheric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-beam typ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ght lost but affected by gain differences and variable transmission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 polarimetry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, rota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half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ular polarimetr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r + quarter-wave pl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5486400" y="40384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positions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6"/>
          <p:cNvSpPr/>
          <p:nvPr/>
        </p:nvSpPr>
        <p:spPr>
          <a:xfrm>
            <a:off x="5867280" y="51055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position minim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8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V: Polarimeter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art V: ESPaDOnS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cal components of the polarimeter part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llaston prism: analyses the polarization and separates the 2 (linear!) orthogonal polarization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arders, 3 Fresnel rhomb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-wave plates to switch the beams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plate to do circular polarimetr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Picture 5" descr="C:\Documents and Settings\manset\My Documents\My Pictures\Polarimeter-white.jpg"/>
          <p:cNvPicPr/>
          <p:nvPr/>
        </p:nvPicPr>
        <p:blipFill>
          <a:blip r:embed="rId1"/>
          <a:stretch/>
        </p:blipFill>
        <p:spPr>
          <a:xfrm>
            <a:off x="5715000" y="1676520"/>
            <a:ext cx="2355840" cy="4506840"/>
          </a:xfrm>
          <a:prstGeom prst="rect">
            <a:avLst/>
          </a:prstGeom>
          <a:ln w="0">
            <a:noFill/>
          </a:ln>
        </p:spPr>
      </p:pic>
      <p:sp>
        <p:nvSpPr>
          <p:cNvPr id="642" name="Oval 6"/>
          <p:cNvSpPr/>
          <p:nvPr/>
        </p:nvSpPr>
        <p:spPr>
          <a:xfrm>
            <a:off x="6248520" y="4572000"/>
            <a:ext cx="167616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AutoShape 7"/>
          <p:cNvSpPr/>
          <p:nvPr/>
        </p:nvSpPr>
        <p:spPr>
          <a:xfrm>
            <a:off x="7543800" y="2666880"/>
            <a:ext cx="304920" cy="1600200"/>
          </a:xfrm>
          <a:custGeom>
            <a:avLst/>
            <a:gdLst>
              <a:gd name="textAreaLeft" fmla="*/ 0 w 304920"/>
              <a:gd name="textAreaRight" fmla="*/ 110160 w 30492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xed quarter-wave rho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tating bottom half-wave,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p half-wave rotates continuously at about 1Hz to average out linear polarization when measuring circular po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circular polarimetry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of circul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2" name="AutoShape 3"/>
          <p:cNvSpPr/>
          <p:nvPr/>
        </p:nvSpPr>
        <p:spPr>
          <a:xfrm rot="5400000">
            <a:off x="6667560" y="2628720"/>
            <a:ext cx="380880" cy="60984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Group 7"/>
          <p:cNvGrpSpPr/>
          <p:nvPr/>
        </p:nvGrpSpPr>
        <p:grpSpPr>
          <a:xfrm>
            <a:off x="4109040" y="2658600"/>
            <a:ext cx="1224720" cy="397800"/>
            <a:chOff x="4109040" y="2658600"/>
            <a:chExt cx="1224720" cy="397800"/>
          </a:xfrm>
        </p:grpSpPr>
        <p:sp>
          <p:nvSpPr>
            <p:cNvPr id="654" name="AutoShape 4"/>
            <p:cNvSpPr/>
            <p:nvPr/>
          </p:nvSpPr>
          <p:spPr>
            <a:xfrm rot="5400000">
              <a:off x="4838400" y="255240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5"/>
            <p:cNvSpPr/>
            <p:nvPr/>
          </p:nvSpPr>
          <p:spPr>
            <a:xfrm flipV="1" rot="5303400">
              <a:off x="422820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AutoShape 6"/>
          <p:cNvSpPr/>
          <p:nvPr/>
        </p:nvSpPr>
        <p:spPr>
          <a:xfrm rot="5400000">
            <a:off x="2400120" y="2400120"/>
            <a:ext cx="533160" cy="9144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Group 8"/>
          <p:cNvGrpSpPr/>
          <p:nvPr/>
        </p:nvGrpSpPr>
        <p:grpSpPr>
          <a:xfrm>
            <a:off x="7467480" y="2666880"/>
            <a:ext cx="685800" cy="533520"/>
            <a:chOff x="7467480" y="2666880"/>
            <a:chExt cx="685800" cy="533520"/>
          </a:xfrm>
        </p:grpSpPr>
        <p:sp>
          <p:nvSpPr>
            <p:cNvPr id="658" name="Oval 9"/>
            <p:cNvSpPr/>
            <p:nvPr/>
          </p:nvSpPr>
          <p:spPr>
            <a:xfrm>
              <a:off x="7620120" y="2666880"/>
              <a:ext cx="533160" cy="5335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0"/>
            <p:cNvSpPr/>
            <p:nvPr/>
          </p:nvSpPr>
          <p:spPr>
            <a:xfrm flipH="1" flipV="1">
              <a:off x="7467480" y="2742840"/>
              <a:ext cx="152640" cy="22860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1"/>
            <p:cNvSpPr/>
            <p:nvPr/>
          </p:nvSpPr>
          <p:spPr>
            <a:xfrm flipV="1">
              <a:off x="7620120" y="2819160"/>
              <a:ext cx="228600" cy="152640"/>
            </a:xfrm>
            <a:prstGeom prst="line">
              <a:avLst/>
            </a:prstGeom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1" name="AutoShape 12"/>
          <p:cNvSpPr/>
          <p:nvPr/>
        </p:nvSpPr>
        <p:spPr>
          <a:xfrm rot="19581600">
            <a:off x="5562720" y="281916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AutoShape 13"/>
          <p:cNvSpPr/>
          <p:nvPr/>
        </p:nvSpPr>
        <p:spPr>
          <a:xfrm rot="3060000">
            <a:off x="3161520" y="2781360"/>
            <a:ext cx="838440" cy="152280"/>
          </a:xfrm>
          <a:prstGeom prst="leftRightArrow">
            <a:avLst>
              <a:gd name="adj1" fmla="val 50000"/>
              <a:gd name="adj2" fmla="val 109608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AutoShape 14"/>
          <p:cNvSpPr/>
          <p:nvPr/>
        </p:nvSpPr>
        <p:spPr>
          <a:xfrm rot="5400000">
            <a:off x="133344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AutoShape 15"/>
          <p:cNvSpPr/>
          <p:nvPr/>
        </p:nvSpPr>
        <p:spPr>
          <a:xfrm rot="10800000">
            <a:off x="1295280" y="3047760"/>
            <a:ext cx="190800" cy="266760"/>
          </a:xfrm>
          <a:prstGeom prst="upDownArrow">
            <a:avLst>
              <a:gd name="adj1" fmla="val 50000"/>
              <a:gd name="adj2" fmla="val 27833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6"/>
          <p:cNvSpPr/>
          <p:nvPr/>
        </p:nvSpPr>
        <p:spPr>
          <a:xfrm>
            <a:off x="3962520" y="3505320"/>
            <a:ext cx="2286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ips polar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7"/>
          <p:cNvSpPr/>
          <p:nvPr/>
        </p:nvSpPr>
        <p:spPr>
          <a:xfrm>
            <a:off x="63244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r to 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8"/>
          <p:cNvSpPr/>
          <p:nvPr/>
        </p:nvSpPr>
        <p:spPr>
          <a:xfrm>
            <a:off x="1981080" y="3581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Rectangle 19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 Box 2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21"/>
              <p:cNvSpPr txBox="1"/>
              <p:nvPr/>
            </p:nvSpPr>
            <p:spPr>
              <a:xfrm>
                <a:off x="762120" y="3733920"/>
                <a:ext cx="89532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Дата 2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Нижний колонтитул 3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ircular polarimetry of (unwanted) linear polarization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Text Box 16"/>
          <p:cNvSpPr/>
          <p:nvPr/>
        </p:nvSpPr>
        <p:spPr>
          <a:xfrm>
            <a:off x="3581280" y="3505320"/>
            <a:ext cx="1828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in,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5638680" y="3505320"/>
            <a:ext cx="14479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rter-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ar to ellip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18"/>
          <p:cNvSpPr/>
          <p:nvPr/>
        </p:nvSpPr>
        <p:spPr>
          <a:xfrm>
            <a:off x="1523880" y="3352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Group 26"/>
          <p:cNvGrpSpPr/>
          <p:nvPr/>
        </p:nvGrpSpPr>
        <p:grpSpPr>
          <a:xfrm>
            <a:off x="533520" y="2286000"/>
            <a:ext cx="8001000" cy="1143000"/>
            <a:chOff x="533520" y="2286000"/>
            <a:chExt cx="8001000" cy="1143000"/>
          </a:xfrm>
        </p:grpSpPr>
        <p:sp>
          <p:nvSpPr>
            <p:cNvPr id="678" name="AutoShape 3"/>
            <p:cNvSpPr/>
            <p:nvPr/>
          </p:nvSpPr>
          <p:spPr>
            <a:xfrm rot="5400000">
              <a:off x="5981760" y="2628720"/>
              <a:ext cx="380880" cy="6098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AutoShape 7"/>
            <p:cNvSpPr/>
            <p:nvPr/>
          </p:nvSpPr>
          <p:spPr>
            <a:xfrm rot="5400000">
              <a:off x="1866960" y="2400120"/>
              <a:ext cx="533160" cy="914400"/>
            </a:xfrm>
            <a:prstGeom prst="can">
              <a:avLst>
                <a:gd name="adj" fmla="val 25000"/>
              </a:avLst>
            </a:prstGeom>
            <a:solidFill>
              <a:srgbClr val="99cc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AutoShape 12"/>
            <p:cNvSpPr/>
            <p:nvPr/>
          </p:nvSpPr>
          <p:spPr>
            <a:xfrm rot="19581600">
              <a:off x="6552720" y="2895120"/>
              <a:ext cx="838440" cy="152640"/>
            </a:xfrm>
            <a:prstGeom prst="leftRightArrow">
              <a:avLst>
                <a:gd name="adj1" fmla="val 50000"/>
                <a:gd name="adj2" fmla="val 109350"/>
              </a:avLst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AutoShape 14"/>
            <p:cNvSpPr/>
            <p:nvPr/>
          </p:nvSpPr>
          <p:spPr>
            <a:xfrm rot="5400000">
              <a:off x="1028520" y="2095200"/>
              <a:ext cx="152280" cy="990720"/>
            </a:xfrm>
            <a:prstGeom prst="upDownArrow">
              <a:avLst>
                <a:gd name="adj1" fmla="val 50000"/>
                <a:gd name="adj2" fmla="val 129516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AutoShape 15"/>
            <p:cNvSpPr/>
            <p:nvPr/>
          </p:nvSpPr>
          <p:spPr>
            <a:xfrm rot="10800000">
              <a:off x="990360" y="3047760"/>
              <a:ext cx="190440" cy="266760"/>
            </a:xfrm>
            <a:prstGeom prst="upDownArrow">
              <a:avLst>
                <a:gd name="adj1" fmla="val 50000"/>
                <a:gd name="adj2" fmla="val 27885"/>
              </a:avLst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Rectangle 19"/>
            <p:cNvSpPr/>
            <p:nvPr/>
          </p:nvSpPr>
          <p:spPr>
            <a:xfrm>
              <a:off x="533520" y="2286000"/>
              <a:ext cx="8001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Oval 20"/>
            <p:cNvSpPr/>
            <p:nvPr/>
          </p:nvSpPr>
          <p:spPr>
            <a:xfrm rot="2106600">
              <a:off x="5333760" y="251460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Oval 21"/>
            <p:cNvSpPr/>
            <p:nvPr/>
          </p:nvSpPr>
          <p:spPr>
            <a:xfrm rot="6720000">
              <a:off x="3009600" y="2476080"/>
              <a:ext cx="228600" cy="762120"/>
            </a:xfrm>
            <a:prstGeom prst="ellipse">
              <a:avLst/>
            </a:prstGeom>
            <a:noFill/>
            <a:ln w="63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Text Box 22"/>
          <p:cNvSpPr/>
          <p:nvPr/>
        </p:nvSpPr>
        <p:spPr>
          <a:xfrm>
            <a:off x="380880" y="3581280"/>
            <a:ext cx="1828800" cy="27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art goes through not analyzed and adds same intensities to both bea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art is analyz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Text Box 23"/>
          <p:cNvSpPr/>
          <p:nvPr/>
        </p:nvSpPr>
        <p:spPr>
          <a:xfrm>
            <a:off x="7315200" y="3581280"/>
            <a:ext cx="144792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Add a rotating half-wave to “spread out” the unwanted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25"/>
          <p:cNvGrpSpPr/>
          <p:nvPr/>
        </p:nvGrpSpPr>
        <p:grpSpPr>
          <a:xfrm>
            <a:off x="7540920" y="2590920"/>
            <a:ext cx="764640" cy="609480"/>
            <a:chOff x="7540920" y="2590920"/>
            <a:chExt cx="764640" cy="609480"/>
          </a:xfrm>
        </p:grpSpPr>
        <p:grpSp>
          <p:nvGrpSpPr>
            <p:cNvPr id="689" name="Group 4"/>
            <p:cNvGrpSpPr/>
            <p:nvPr/>
          </p:nvGrpSpPr>
          <p:grpSpPr>
            <a:xfrm>
              <a:off x="7540920" y="2814480"/>
              <a:ext cx="764640" cy="239040"/>
              <a:chOff x="7540920" y="2814480"/>
              <a:chExt cx="764640" cy="239040"/>
            </a:xfrm>
          </p:grpSpPr>
          <p:sp>
            <p:nvSpPr>
              <p:cNvPr id="690" name="AutoShape 5"/>
              <p:cNvSpPr/>
              <p:nvPr/>
            </p:nvSpPr>
            <p:spPr>
              <a:xfrm rot="5400000">
                <a:off x="8000640" y="2743200"/>
                <a:ext cx="228600" cy="38124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AutoShape 6"/>
              <p:cNvSpPr/>
              <p:nvPr/>
            </p:nvSpPr>
            <p:spPr>
              <a:xfrm flipV="1" rot="5303400">
                <a:off x="7619760" y="2743560"/>
                <a:ext cx="228600" cy="380520"/>
              </a:xfrm>
              <a:prstGeom prst="parallelogram">
                <a:avLst>
                  <a:gd name="adj" fmla="val 25000"/>
                </a:avLst>
              </a:prstGeom>
              <a:solidFill>
                <a:srgbClr val="ff99cc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2" name="AutoShape 24"/>
            <p:cNvSpPr/>
            <p:nvPr/>
          </p:nvSpPr>
          <p:spPr>
            <a:xfrm>
              <a:off x="7772400" y="2590920"/>
              <a:ext cx="380880" cy="609480"/>
            </a:xfrm>
            <a:custGeom>
              <a:avLst/>
              <a:gdLst>
                <a:gd name="textAreaLeft" fmla="*/ 66600 w 380880"/>
                <a:gd name="textAreaRight" fmla="*/ 276120 w 380880"/>
                <a:gd name="textAreaTop" fmla="*/ 81360 h 609480"/>
                <a:gd name="textAreaBottom" fmla="*/ 52812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Group 27"/>
          <p:cNvGrpSpPr/>
          <p:nvPr/>
        </p:nvGrpSpPr>
        <p:grpSpPr>
          <a:xfrm>
            <a:off x="3729240" y="2658600"/>
            <a:ext cx="1223640" cy="397800"/>
            <a:chOff x="3729240" y="2658600"/>
            <a:chExt cx="1223640" cy="397800"/>
          </a:xfrm>
        </p:grpSpPr>
        <p:sp>
          <p:nvSpPr>
            <p:cNvPr id="694" name="AutoShape 28"/>
            <p:cNvSpPr/>
            <p:nvPr/>
          </p:nvSpPr>
          <p:spPr>
            <a:xfrm rot="5400000">
              <a:off x="4457520" y="2552400"/>
              <a:ext cx="380880" cy="6094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AutoShape 29"/>
            <p:cNvSpPr/>
            <p:nvPr/>
          </p:nvSpPr>
          <p:spPr>
            <a:xfrm flipV="1" rot="5303400">
              <a:off x="3848400" y="2552400"/>
              <a:ext cx="380880" cy="6091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6" name="Text Box 30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circular polarimetry m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09480" y="3580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t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AutoShape 5"/>
          <p:cNvSpPr/>
          <p:nvPr/>
        </p:nvSpPr>
        <p:spPr>
          <a:xfrm rot="5400000">
            <a:off x="5371920" y="2705040"/>
            <a:ext cx="304920" cy="380880"/>
          </a:xfrm>
          <a:prstGeom prst="parallelogram">
            <a:avLst>
              <a:gd name="adj" fmla="val 25000"/>
            </a:avLst>
          </a:prstGeom>
          <a:solidFill>
            <a:srgbClr val="ff99c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AutoShape 6"/>
          <p:cNvSpPr/>
          <p:nvPr/>
        </p:nvSpPr>
        <p:spPr>
          <a:xfrm rot="5400000">
            <a:off x="1828440" y="2514600"/>
            <a:ext cx="381240" cy="685800"/>
          </a:xfrm>
          <a:prstGeom prst="can">
            <a:avLst>
              <a:gd name="adj" fmla="val 25000"/>
            </a:avLst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AutoShape 7"/>
          <p:cNvSpPr/>
          <p:nvPr/>
        </p:nvSpPr>
        <p:spPr>
          <a:xfrm rot="19581600">
            <a:off x="5866920" y="2895120"/>
            <a:ext cx="838440" cy="152640"/>
          </a:xfrm>
          <a:prstGeom prst="leftRightArrow">
            <a:avLst>
              <a:gd name="adj1" fmla="val 50000"/>
              <a:gd name="adj2" fmla="val 109350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AutoShape 8"/>
          <p:cNvSpPr/>
          <p:nvPr/>
        </p:nvSpPr>
        <p:spPr>
          <a:xfrm rot="5400000">
            <a:off x="1028520" y="2095200"/>
            <a:ext cx="152280" cy="990720"/>
          </a:xfrm>
          <a:prstGeom prst="upDownArrow">
            <a:avLst>
              <a:gd name="adj1" fmla="val 50000"/>
              <a:gd name="adj2" fmla="val 129516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AutoShape 9"/>
          <p:cNvSpPr/>
          <p:nvPr/>
        </p:nvSpPr>
        <p:spPr>
          <a:xfrm rot="10800000">
            <a:off x="990360" y="3047760"/>
            <a:ext cx="190440" cy="26676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Rectangle 10"/>
          <p:cNvSpPr/>
          <p:nvPr/>
        </p:nvSpPr>
        <p:spPr>
          <a:xfrm>
            <a:off x="533520" y="2286000"/>
            <a:ext cx="8001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Oval 11"/>
          <p:cNvSpPr/>
          <p:nvPr/>
        </p:nvSpPr>
        <p:spPr>
          <a:xfrm rot="2106600">
            <a:off x="4723920" y="251460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Oval 12"/>
          <p:cNvSpPr/>
          <p:nvPr/>
        </p:nvSpPr>
        <p:spPr>
          <a:xfrm rot="6720000">
            <a:off x="2704680" y="2476080"/>
            <a:ext cx="228600" cy="762120"/>
          </a:xfrm>
          <a:prstGeom prst="ellipse">
            <a:avLst/>
          </a:prstGeom>
          <a:noFill/>
          <a:ln w="63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Group 13"/>
          <p:cNvGrpSpPr/>
          <p:nvPr/>
        </p:nvGrpSpPr>
        <p:grpSpPr>
          <a:xfrm>
            <a:off x="3425400" y="2661120"/>
            <a:ext cx="841680" cy="316440"/>
            <a:chOff x="3425400" y="2661120"/>
            <a:chExt cx="841680" cy="316440"/>
          </a:xfrm>
        </p:grpSpPr>
        <p:sp>
          <p:nvSpPr>
            <p:cNvPr id="711" name="AutoShape 14"/>
            <p:cNvSpPr/>
            <p:nvPr/>
          </p:nvSpPr>
          <p:spPr>
            <a:xfrm rot="5400000">
              <a:off x="3904920" y="2609640"/>
              <a:ext cx="304920" cy="41904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AutoShape 15"/>
            <p:cNvSpPr/>
            <p:nvPr/>
          </p:nvSpPr>
          <p:spPr>
            <a:xfrm flipV="1" rot="5303400">
              <a:off x="3486240" y="2609640"/>
              <a:ext cx="304920" cy="41832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3" name="Group 16"/>
          <p:cNvGrpSpPr/>
          <p:nvPr/>
        </p:nvGrpSpPr>
        <p:grpSpPr>
          <a:xfrm>
            <a:off x="6703200" y="2814480"/>
            <a:ext cx="764280" cy="239040"/>
            <a:chOff x="6703200" y="2814480"/>
            <a:chExt cx="764280" cy="239040"/>
          </a:xfrm>
        </p:grpSpPr>
        <p:sp>
          <p:nvSpPr>
            <p:cNvPr id="714" name="AutoShape 17"/>
            <p:cNvSpPr/>
            <p:nvPr/>
          </p:nvSpPr>
          <p:spPr>
            <a:xfrm rot="5400000">
              <a:off x="7162560" y="2743200"/>
              <a:ext cx="228600" cy="38088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AutoShape 18"/>
            <p:cNvSpPr/>
            <p:nvPr/>
          </p:nvSpPr>
          <p:spPr>
            <a:xfrm flipV="1" rot="5303400">
              <a:off x="6782040" y="2743920"/>
              <a:ext cx="228600" cy="380160"/>
            </a:xfrm>
            <a:prstGeom prst="parallelogram">
              <a:avLst>
                <a:gd name="adj" fmla="val 25000"/>
              </a:avLst>
            </a:prstGeom>
            <a:solidFill>
              <a:srgbClr val="ff99c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6" name="AutoShape 19"/>
          <p:cNvSpPr/>
          <p:nvPr/>
        </p:nvSpPr>
        <p:spPr>
          <a:xfrm rot="19581600">
            <a:off x="7543440" y="2895120"/>
            <a:ext cx="838080" cy="152640"/>
          </a:xfrm>
          <a:prstGeom prst="leftRightArrow">
            <a:avLst>
              <a:gd name="adj1" fmla="val 50000"/>
              <a:gd name="adj2" fmla="val 109303"/>
            </a:avLst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: linear polarimet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-Wave rhombs positioned as 22.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 inc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position gives 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ond position gives 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beams for gain and atmosphere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arter-Wave f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linear polari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2" name="Object 5"/>
              <p:cNvSpPr txBox="1"/>
              <p:nvPr/>
            </p:nvSpPr>
            <p:spPr>
              <a:xfrm>
                <a:off x="5486400" y="2666880"/>
                <a:ext cx="689040" cy="152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ESPaDOnS - Summary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DOnS can do linear and circular polarimetry (quarter-wave pla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ams are switched around to do the measurements, compensate for gain and atmospheric eff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snel rhombs are very achromat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V: ESPaDOnS, summ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Vertically polarized light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27428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amplitude in x (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), there is only one component, in y (vertical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5" descr="C:\Documents and Settings\manset\My Documents\CFHT_AND_SCIENCE\PolarizationOfLight\VerticallyPolarized2.gif"/>
          <p:cNvPicPr/>
          <p:nvPr/>
        </p:nvPicPr>
        <p:blipFill>
          <a:blip r:embed="rId1"/>
          <a:stretch/>
        </p:blipFill>
        <p:spPr>
          <a:xfrm>
            <a:off x="2209680" y="3809880"/>
            <a:ext cx="4915080" cy="2378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2666880" y="1752480"/>
                <a:ext cx="38102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7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Дата 1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Нижний колонтитул 2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5" descr="C:\Documents and Settings\manset\My Documents\My Pictures\dancecal2.gif"/>
          <p:cNvPicPr/>
          <p:nvPr/>
        </p:nvPicPr>
        <p:blipFill>
          <a:blip r:embed="rId1"/>
          <a:stretch/>
        </p:blipFill>
        <p:spPr>
          <a:xfrm>
            <a:off x="4876920" y="2362320"/>
            <a:ext cx="1933560" cy="116028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6" descr="C:\Documents and Settings\manset\My Documents\My Pictures\calvinhobbesdance.gif"/>
          <p:cNvPicPr/>
          <p:nvPr/>
        </p:nvPicPr>
        <p:blipFill>
          <a:blip r:embed="rId2"/>
          <a:stretch/>
        </p:blipFill>
        <p:spPr>
          <a:xfrm>
            <a:off x="2514600" y="2514600"/>
            <a:ext cx="12574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Credits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for pictures and movie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Keller’s home page – his 5 lectur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noao.edu/noao/staff/kelle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olarisation techniques and devices”, Meadowlark Optics Inc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meadowlark.com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. Hecht  and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J. Tinberg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. Gehr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ular polarization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optics.arizona.edu/jcwyant/JoseDiaz/Polarization-Circular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polarized light movi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Times New Roman"/>
                <a:hlinkClick r:id="rId4"/>
              </a:rPr>
              <a:t>http://www.colorado.edu/physics/2000/polarization/polarizationII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lection of wa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physicsclassroom.com/mmedia/waves/fix.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aDOnS web page and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On the Web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y short and quick introduction, no equatio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1"/>
              </a:rPr>
              <a:t>http://www.cfht.hawaii.edu/~manset/PolarIntro_eng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fun page with Applets, on polarizing filter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2"/>
              </a:rPr>
              <a:t>http://www.colorado.edu/physics/2000/polarization/polarizationI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arization short cours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hlinkClick r:id="rId3"/>
              </a:rPr>
              <a:t>http://www.glenbrook.k12.il.us/gbssci/phys/Class/light/u12l1e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mentation for Astrophysical Spectropolarimetry”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ries of 5 lectures given at the IAC Winter School on Astrophysical Spectropolarimetry, November 2000 –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noao.edu/noao/staff/keller/lectures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AutoShape 4"/>
          <p:cNvSpPr/>
          <p:nvPr/>
        </p:nvSpPr>
        <p:spPr>
          <a:xfrm>
            <a:off x="152280" y="4038480"/>
            <a:ext cx="609840" cy="381240"/>
          </a:xfrm>
          <a:custGeom>
            <a:avLst/>
            <a:gdLst>
              <a:gd name="textAreaLeft" fmla="*/ 95040 w 609840"/>
              <a:gd name="textAreaRight" fmla="*/ 533880 w 60984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 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olarization basics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olarized Ligh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D. Goldstein – excellent book, easy read, gives a lot of insight, highly recomme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graduate textbooks, either will d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p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E. He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F. S. Crawford,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rkeley Physics Course vol.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AutoShape 4"/>
          <p:cNvSpPr/>
          <p:nvPr/>
        </p:nvSpPr>
        <p:spPr>
          <a:xfrm>
            <a:off x="152280" y="39625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AutoShape 5"/>
          <p:cNvSpPr/>
          <p:nvPr/>
        </p:nvSpPr>
        <p:spPr>
          <a:xfrm>
            <a:off x="152280" y="2590920"/>
            <a:ext cx="609840" cy="380880"/>
          </a:xfrm>
          <a:custGeom>
            <a:avLst/>
            <a:gdLst>
              <a:gd name="textAreaLeft" fmla="*/ 95040 w 609840"/>
              <a:gd name="textAreaRight" fmla="*/ 533880 w 60984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easy/intermediate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stronomical 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 Tinberg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La polarisation de la lumière et l'observation astronom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J.-L. Leroy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tronomy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Planets, Stars and Nebulae Studied With Photopolarimet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T. Gehrels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but class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 papers by K. Serkowski –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mentation-ori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References/Further reading</a:t>
            </a:r>
            <a:br>
              <a:rPr sz="4400"/>
            </a:b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stronomy, advanced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troduction to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J.C. del Toro Iniesta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e transfer – ouc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strophysical Spectropolarimetr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ujillo-Bueno et al. (eds)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s to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4" descr="C:\Documents and Settings\manset\My Documents\My Pictures\SourFace.gif"/>
          <p:cNvPicPr/>
          <p:nvPr/>
        </p:nvPicPr>
        <p:blipFill>
          <a:blip r:embed="rId1"/>
          <a:stretch/>
        </p:blipFill>
        <p:spPr>
          <a:xfrm>
            <a:off x="7848720" y="3048120"/>
            <a:ext cx="285480" cy="28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Дата 3"/>
          <p:cNvSpPr/>
          <p:nvPr/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Нижний колонтитул 4"/>
          <p:cNvSpPr/>
          <p:nvPr/>
        </p:nvSpPr>
        <p:spPr>
          <a:xfrm>
            <a:off x="2438280" y="6248520"/>
            <a:ext cx="5105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Polarization at 45</a:t>
            </a:r>
            <a:r>
              <a:rPr b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º (I)</a:t>
            </a:r>
            <a:endParaRPr b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7428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no phase difference (</a:t>
            </a:r>
            <a:r>
              <a:rPr b="0" lang="en-US" sz="3200" spc="-1" strike="noStrike">
                <a:solidFill>
                  <a:srgbClr val="000000"/>
                </a:solidFill>
                <a:latin typeface="UniversalMath1 BT"/>
                <a:ea typeface="UniversalMath1 BT"/>
              </a:rPr>
              <a:t>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C:\Documents and Settings\manset\My Documents\CFHT_AND_SCIENCE\PolarizationOfLight\45degPolarization2.gif"/>
          <p:cNvPicPr/>
          <p:nvPr/>
        </p:nvPicPr>
        <p:blipFill>
          <a:blip r:embed="rId1"/>
          <a:stretch/>
        </p:blipFill>
        <p:spPr>
          <a:xfrm>
            <a:off x="2209680" y="3962520"/>
            <a:ext cx="4915080" cy="23079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3" name="Object 6"/>
              <p:cNvSpPr txBox="1"/>
              <p:nvPr/>
            </p:nvSpPr>
            <p:spPr>
              <a:xfrm>
                <a:off x="2590920" y="1752480"/>
                <a:ext cx="3809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x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sSub>
                          <m:e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E</m:t>
                                </m:r>
                              </m:e>
                            </m:acc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z,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y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z-</m:t>
                        </m:r>
                        <m:r>
                          <m:t xml:space="preserve">ωt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4" name="Text Box 7"/>
          <p:cNvSpPr/>
          <p:nvPr/>
        </p:nvSpPr>
        <p:spPr>
          <a:xfrm>
            <a:off x="533520" y="228600"/>
            <a:ext cx="80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Part I: Polarization states, linear polar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1T23:34:26Z</dcterms:created>
  <dc:creator>N. Manset</dc:creator>
  <dc:description/>
  <dc:language>en-US</dc:language>
  <cp:lastModifiedBy>LEGION</cp:lastModifiedBy>
  <dcterms:modified xsi:type="dcterms:W3CDTF">2018-03-12T09:37:05Z</dcterms:modified>
  <cp:revision>101</cp:revision>
  <dc:subject/>
  <dc:title>Polarization of Light</dc:title>
</cp:coreProperties>
</file>