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1.jpeg" ContentType="image/jpeg"/>
  <Override PartName="/ppt/media/image2.png" ContentType="image/png"/>
  <Override PartName="/ppt/media/image33.gif" ContentType="image/gif"/>
  <Override PartName="/ppt/media/image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4.jpeg" ContentType="image/jpeg"/>
  <Override PartName="/ppt/media/image17.png" ContentType="image/png"/>
  <Override PartName="/ppt/media/image19.png" ContentType="image/png"/>
  <Override PartName="/ppt/media/image20.gif" ContentType="image/gif"/>
  <Override PartName="/ppt/media/image21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77F8-6876-43EF-A748-CA9256E0E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540-9C0A-479E-B4CF-E1B0880C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E34-F8D3-43AD-B69B-5C743ADD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C7E-CA6A-4413-A61B-BCD740DD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175-47BD-4071-B304-56D04C61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0180-72BE-4F44-9BBD-7EA85675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62B6-FCEC-4876-A647-0C8EF0BD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21BD-7C64-43A7-9CDE-1A9DB479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88B2-0DB8-4C65-9252-68873019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F955-ACC6-4C23-AB99-92206B8A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BA18-3D86-454A-B0BF-08748AF3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6F9F-49E4-418C-9D29-E798021A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50D-8882-4C83-810A-770C4CAD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A7CA-D3A9-420A-871A-7562B2FA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9256-8A72-4BA2-ADBB-8A6E59B1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172E-F4BA-4402-90D1-2C126DDD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8750-7188-414C-8DAE-225FEF8C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76BC-0D56-4FBB-8F0E-1669EF75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B3C-809B-4ABD-9D3E-F74C775E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F8A-69C3-45FD-9C16-7FED1334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9D9-0A32-4720-81F4-74EB4A7D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7D9-C8E2-4C3E-9812-DFB0C0A0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EC68-DBC0-489C-B5FD-106448F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667-02EE-409D-BADF-F7C1CD7B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F3E-E877-4FF0-85AF-1A7E95CD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81B7-4E02-4CD3-A66B-CDEE670B9B15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19D9-4B3D-4437-8EEE-584275D95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o.edu/~jsulliva/java/EMWav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lens.html" TargetMode="External"/><Relationship Id="rId2" Type="http://schemas.openxmlformats.org/officeDocument/2006/relationships/hyperlink" Target="http://www.colorado.edu/physics/2000/applets/len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noao.edu/noao/staff/keller/" TargetMode="External"/><Relationship Id="rId2" Type="http://schemas.openxmlformats.org/officeDocument/2006/relationships/hyperlink" Target="http://www.meadowlark.com/" TargetMode="External"/><Relationship Id="rId3" Type="http://schemas.openxmlformats.org/officeDocument/2006/relationships/hyperlink" Target="http://www.optics.arizona.edu/jcwyant/JoseDiaz/Polarization-Circular.htm" TargetMode="External"/><Relationship Id="rId4" Type="http://schemas.openxmlformats.org/officeDocument/2006/relationships/hyperlink" Target="http://www.colorado.edu/physics/2000/polarization/polarizationII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fht.hawaii.edu/~manset/PolarIntro_eng.html" TargetMode="External"/><Relationship Id="rId2" Type="http://schemas.openxmlformats.org/officeDocument/2006/relationships/hyperlink" Target="http://www.colorado.edu/physics/2000/polarization/polarizationI.html" TargetMode="External"/><Relationship Id="rId3" Type="http://schemas.openxmlformats.org/officeDocument/2006/relationships/hyperlink" Target="http://www.glenbrook.k12.il.us/gbssci/phys/Class/light/u12l1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of Ligh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om Basics to Instrument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in less than 100 slides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876920"/>
            <a:ext cx="2514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Documents and Settings\manset\My Documents\CFHT_AND_SCIENCE\PolarizationOfLight\DoubleRefraction.gif"/>
          <p:cNvPicPr/>
          <p:nvPr/>
        </p:nvPicPr>
        <p:blipFill>
          <a:blip r:embed="rId1"/>
          <a:stretch/>
        </p:blipFill>
        <p:spPr>
          <a:xfrm>
            <a:off x="380880" y="228600"/>
            <a:ext cx="35085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manset\My Documents\CFHT_AND_SCIENCE\Espadons\SPIE\Materiel\PolarModule3D_crop.jpg"/>
          <p:cNvPicPr/>
          <p:nvPr/>
        </p:nvPicPr>
        <p:blipFill>
          <a:blip r:embed="rId2"/>
          <a:stretch/>
        </p:blipFill>
        <p:spPr>
          <a:xfrm>
            <a:off x="5715000" y="3733920"/>
            <a:ext cx="2998800" cy="2744640"/>
          </a:xfrm>
          <a:prstGeom prst="rect">
            <a:avLst/>
          </a:prstGeom>
          <a:ln w="0">
            <a:noFill/>
          </a:ln>
        </p:spPr>
      </p:pic>
      <p:sp>
        <p:nvSpPr>
          <p:cNvPr id="93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3" descr="C:\Documents and Settings\manset\My Documents\CFHT_AND_SCIENCE\PolarizationOfLight\LinearLight.jpg"/>
          <p:cNvPicPr/>
          <p:nvPr/>
        </p:nvPicPr>
        <p:blipFill>
          <a:blip r:embed="rId1"/>
          <a:stretch/>
        </p:blipFill>
        <p:spPr>
          <a:xfrm>
            <a:off x="2743200" y="1828800"/>
            <a:ext cx="3807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hase difference is 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get the equation of a cir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043000" y="4572000"/>
                <a:ext cx="52736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590920" y="182880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0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14640" y="2257560"/>
            <a:ext cx="4914720" cy="234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8" name="Picture 5" descr="C:\Documents and Settings\manset\My Documents\CFHT_AND_SCIENCE\PolarizationOfLight\CircularHecht.jpg"/>
          <p:cNvPicPr/>
          <p:nvPr/>
        </p:nvPicPr>
        <p:blipFill>
          <a:blip r:embed="rId1"/>
          <a:stretch/>
        </p:blipFill>
        <p:spPr>
          <a:xfrm>
            <a:off x="2743200" y="2057400"/>
            <a:ext cx="3633840" cy="371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V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C:\Documents and Settings\manset\My Documents\CFHT_AND_SCIENCE\PolarizationOfLight\CircularPolMovie.gif"/>
          <p:cNvPicPr/>
          <p:nvPr/>
        </p:nvPicPr>
        <p:blipFill>
          <a:blip r:embed="rId1"/>
          <a:stretch/>
        </p:blipFill>
        <p:spPr>
          <a:xfrm>
            <a:off x="2895480" y="1752480"/>
            <a:ext cx="3292560" cy="414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... see it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lliptical polariza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9" name="Picture 5" descr="C:\Documents and Settings\manset\My Documents\CFHT_AND_SCIENCE\PolarizationOfLight\Elliptically polarized.gif"/>
          <p:cNvPicPr/>
          <p:nvPr/>
        </p:nvPicPr>
        <p:blipFill>
          <a:blip r:embed="rId1"/>
          <a:stretch/>
        </p:blipFill>
        <p:spPr>
          <a:xfrm>
            <a:off x="304920" y="2286000"/>
            <a:ext cx="49147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manset\My Documents\CFHT_AND_SCIENCE\PolarizationOfLight\Ellipse.gif"/>
          <p:cNvPicPr/>
          <p:nvPr/>
        </p:nvPicPr>
        <p:blipFill>
          <a:blip r:embed="rId2"/>
          <a:stretch/>
        </p:blipFill>
        <p:spPr>
          <a:xfrm>
            <a:off x="5334120" y="2209680"/>
            <a:ext cx="3438360" cy="2502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elliptical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Unpolarized light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natural light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3" descr="C:\Documents and Settings\manset\My Documents\CFHT_AND_SCIENCE\PolarizationOfLight\UnpolarizedLightMovie.gif"/>
          <p:cNvPicPr/>
          <p:nvPr/>
        </p:nvPicPr>
        <p:blipFill>
          <a:blip r:embed="rId1"/>
          <a:stretch/>
        </p:blipFill>
        <p:spPr>
          <a:xfrm>
            <a:off x="2817720" y="2131920"/>
            <a:ext cx="3508560" cy="2594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unpolarized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cool Apple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180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: Stokes parameters and 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iny itsy-bitsy little bit of history..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6765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ies: Huygens, Malus, Brewster, Biot, Fresnel and Arago, Nic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: unsuccessful attempts to describe unpolarized light in terms of ampl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2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r George Gabriel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ok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ry diffe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pro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ed that polarization can be described in term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observ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periment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981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965160" y="2895480"/>
                <a:ext cx="7253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5"/>
          <p:cNvSpPr/>
          <p:nvPr/>
        </p:nvSpPr>
        <p:spPr>
          <a:xfrm>
            <a:off x="533520" y="4419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bed in terms of the electric fiel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28600" y="1905120"/>
                <a:ext cx="875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380880" y="32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4 Stokes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4191120" y="3200400"/>
                <a:ext cx="37144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4191120" y="3200400"/>
            <a:ext cx="3733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I)</a:t>
            </a:r>
            <a:br>
              <a:rPr sz="44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scribed in geometrical term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3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762120" y="2743200"/>
            <a:ext cx="3438360" cy="25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895480"/>
                <a:ext cx="391176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95280" y="1676520"/>
                <a:ext cx="60706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CP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P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1295280" y="4038480"/>
            <a:ext cx="327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724280" y="4038480"/>
                <a:ext cx="22860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Stokes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ictorial representation of the Stokes para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5" name="Picture 3" descr="C:\Documents and Settings\manset\My Documents\CFHT_AND_SCIENCE\PolarizationOfLight\PictorialPolarization.jpg"/>
          <p:cNvPicPr/>
          <p:nvPr/>
        </p:nvPicPr>
        <p:blipFill>
          <a:blip r:embed="rId1"/>
          <a:stretch/>
        </p:blipFill>
        <p:spPr>
          <a:xfrm>
            <a:off x="1371600" y="1905120"/>
            <a:ext cx="658008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3276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09480" y="2971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line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90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6668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5"/>
          <p:cNvSpPr/>
          <p:nvPr/>
        </p:nvSpPr>
        <p:spPr>
          <a:xfrm>
            <a:off x="28195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769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8580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944800" y="2819520"/>
                <a:ext cx="1085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0292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972480" y="2895480"/>
                <a:ext cx="122076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circul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133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2860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Text Box 5"/>
          <p:cNvSpPr/>
          <p:nvPr/>
        </p:nvSpPr>
        <p:spPr>
          <a:xfrm>
            <a:off x="5334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410080" y="2819520"/>
                <a:ext cx="10303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(Q,U) to (P,</a:t>
            </a:r>
            <a:r>
              <a:rPr b="1" lang="en-US" sz="4400" spc="-1" strike="noStrike">
                <a:solidFill>
                  <a:srgbClr val="000066"/>
                </a:solidFill>
                <a:latin typeface="UniversalMath1 BT"/>
                <a:ea typeface="UniversalMath1 BT"/>
              </a:rPr>
              <a:t>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2209680" y="2209680"/>
                <a:ext cx="1765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4876920" y="2286000"/>
                <a:ext cx="1790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2209680" y="3352680"/>
                <a:ext cx="179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 cos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4724280" y="33526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 sin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9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828800" y="3886200"/>
            <a:ext cx="5189400" cy="237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1981080" y="213372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981080" y="335268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ight is represented by Stokes vector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components are then described with Mueller mat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722600" y="3657600"/>
                <a:ext cx="52290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1932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1520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2743200" y="259092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495680" y="2438280"/>
            <a:ext cx="30492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5791320" y="2438280"/>
            <a:ext cx="914400" cy="6098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286000" y="342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666880" y="3962520"/>
                <a:ext cx="5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4479840" y="3962520"/>
                <a:ext cx="60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080040" y="3946680"/>
                <a:ext cx="603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Text Box 13"/>
          <p:cNvSpPr/>
          <p:nvPr/>
        </p:nvSpPr>
        <p:spPr>
          <a:xfrm>
            <a:off x="3276720" y="487692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I’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cc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777777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777777"/>
                </a:solidFill>
                <a:latin typeface="Times New Roman"/>
              </a:rPr>
              <a:t>1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990720" y="2133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276720" y="487692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: Different polarization states of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1981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ptical component with 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tated by an angle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096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 = R(-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338560" y="3809880"/>
                <a:ext cx="395892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Jones formalis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58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hase information is import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io-astronomy, masers...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ne has to use the Jones form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complex vectors and Jones matr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5800" y="35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8006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676520" y="4495680"/>
                <a:ext cx="1523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791320" y="4419720"/>
                <a:ext cx="1701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10"/>
          <p:cNvSpPr/>
          <p:nvPr/>
        </p:nvSpPr>
        <p:spPr>
          <a:xfrm>
            <a:off x="685800" y="5562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Jones formalism, not that important he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I: Optical components fo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mplex index of refra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8580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921040" y="2209680"/>
                <a:ext cx="2565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5"/>
          <p:cNvSpPr/>
          <p:nvPr/>
        </p:nvSpPr>
        <p:spPr>
          <a:xfrm>
            <a:off x="1143000" y="335268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refrin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ed of light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952880" y="335268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roism/di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66680" y="3352680"/>
            <a:ext cx="33530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876920" y="3352680"/>
            <a:ext cx="35812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2743200" y="297180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257800" y="297180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6243800">
            <a:off x="40384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 rot="16243800">
            <a:off x="49528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762120" y="198108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larizers absorb one component of the polarization but not the o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re-grid polarizers (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de-grid polarizers (I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1" name="Picture 3" descr="C:\Documents and Settings\manset\My Documents\CFHT_AND_SCIENCE\PolarizationOfLight\WireGrid.jpg"/>
          <p:cNvPicPr/>
          <p:nvPr/>
        </p:nvPicPr>
        <p:blipFill>
          <a:blip r:embed="rId1"/>
          <a:stretch/>
        </p:blipFill>
        <p:spPr>
          <a:xfrm>
            <a:off x="685800" y="289548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Documents and Settings\manset\My Documents\CFHT_AND_SCIENCE\PolarizationOfLight\WireGridImage.gif"/>
          <p:cNvPicPr/>
          <p:nvPr/>
        </p:nvPicPr>
        <p:blipFill>
          <a:blip r:embed="rId2"/>
          <a:stretch/>
        </p:blipFill>
        <p:spPr>
          <a:xfrm>
            <a:off x="5486400" y="2438280"/>
            <a:ext cx="2308320" cy="1657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chroic crystal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14400" y="320040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" descr="C:\Documents and Settings\manset\My Documents\CFHT_AND_SCIENCE\PolarizationOfLight\DichroicCrystal.jpg"/>
          <p:cNvPicPr/>
          <p:nvPr/>
        </p:nvPicPr>
        <p:blipFill>
          <a:blip r:embed="rId1"/>
          <a:stretch/>
        </p:blipFill>
        <p:spPr>
          <a:xfrm>
            <a:off x="5181480" y="2514600"/>
            <a:ext cx="3097440" cy="3054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C:\Documents and Settings\manset\My Documents\CFHT_AND_SCIENCE\PolarizationOfLight\Polaroid.gif"/>
          <p:cNvPicPr/>
          <p:nvPr/>
        </p:nvPicPr>
        <p:blipFill>
          <a:blip r:embed="rId1"/>
          <a:stretch/>
        </p:blipFill>
        <p:spPr>
          <a:xfrm>
            <a:off x="2362320" y="3809880"/>
            <a:ext cx="4435200" cy="18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6" descr="C:\Documents and Settings\manset\My Documents\My Pictures\animated-sunglasses.gif"/>
          <p:cNvPicPr/>
          <p:nvPr/>
        </p:nvPicPr>
        <p:blipFill>
          <a:blip r:embed="rId2"/>
          <a:stretch/>
        </p:blipFill>
        <p:spPr>
          <a:xfrm>
            <a:off x="6248520" y="152280"/>
            <a:ext cx="9144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981080"/>
            <a:ext cx="63244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anisotropic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7" descr="C:\Documents and Settings\manset\My Documents\CFHT_AND_SCIENCE\PolarizationOfLight\ElectronSpring.jpg"/>
          <p:cNvPicPr/>
          <p:nvPr/>
        </p:nvPicPr>
        <p:blipFill>
          <a:blip r:embed="rId1"/>
          <a:stretch/>
        </p:blipFill>
        <p:spPr>
          <a:xfrm>
            <a:off x="6540480" y="2971800"/>
            <a:ext cx="2603520" cy="23652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ight as an electromagnetic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lectr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manset\My Documents\CFHT_AND_SCIENCE\PolarizationOfLight\ElectroMagneticWave.gif"/>
          <p:cNvPicPr/>
          <p:nvPr/>
        </p:nvPicPr>
        <p:blipFill>
          <a:blip r:embed="rId1"/>
          <a:stretch/>
        </p:blipFill>
        <p:spPr>
          <a:xfrm>
            <a:off x="2819520" y="3733920"/>
            <a:ext cx="3336840" cy="193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2362320"/>
            <a:ext cx="7772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1"/>
          <p:cNvGrpSpPr/>
          <p:nvPr/>
        </p:nvGrpSpPr>
        <p:grpSpPr>
          <a:xfrm>
            <a:off x="1295280" y="3048120"/>
            <a:ext cx="7010640" cy="1828800"/>
            <a:chOff x="1295280" y="3048120"/>
            <a:chExt cx="7010640" cy="1828800"/>
          </a:xfrm>
        </p:grpSpPr>
        <p:pic>
          <p:nvPicPr>
            <p:cNvPr id="368" name="Picture 5" descr="C:\Documents and Settings\manset\My Documents\CFHT_AND_SCIENCE\PolarizationOfLight\DoubleRefraction.gif"/>
            <p:cNvPicPr/>
            <p:nvPr/>
          </p:nvPicPr>
          <p:blipFill>
            <a:blip r:embed="rId1"/>
            <a:stretch/>
          </p:blipFill>
          <p:spPr>
            <a:xfrm>
              <a:off x="2819520" y="3048120"/>
              <a:ext cx="3508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8"/>
            <p:cNvSpPr/>
            <p:nvPr/>
          </p:nvSpPr>
          <p:spPr>
            <a:xfrm>
              <a:off x="1295280" y="3200760"/>
              <a:ext cx="144792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ryst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lori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6553080" y="3353040"/>
              <a:ext cx="17528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rys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alc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V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752480"/>
            <a:ext cx="56390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 prism, Glan-Thomson polarizer, Glan or Glan-Foucault prism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n-film polarizer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C:\Documents and Settings\manset\My Documents\CFHT_AND_SCIENCE\PolarizationOfLight\Prisms.jpg"/>
          <p:cNvPicPr/>
          <p:nvPr/>
        </p:nvPicPr>
        <p:blipFill>
          <a:blip r:embed="rId1"/>
          <a:stretch/>
        </p:blipFill>
        <p:spPr>
          <a:xfrm>
            <a:off x="5638680" y="1752480"/>
            <a:ext cx="3321000" cy="4373640"/>
          </a:xfrm>
          <a:prstGeom prst="rect">
            <a:avLst/>
          </a:prstGeom>
          <a:ln w="0">
            <a:noFill/>
          </a:ln>
        </p:spPr>
      </p:pic>
      <p:sp>
        <p:nvSpPr>
          <p:cNvPr id="378" name="Oval 6"/>
          <p:cNvSpPr/>
          <p:nvPr/>
        </p:nvSpPr>
        <p:spPr>
          <a:xfrm>
            <a:off x="5867280" y="46483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38080" y="2286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eal) linear polarizer at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752480" y="3124080"/>
                <a:ext cx="54612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752480" y="3429000"/>
            <a:ext cx="30492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 rot="16200000">
            <a:off x="1409400" y="239976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1054080" y="3048120"/>
            <a:ext cx="647640" cy="118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08" h="744">
                <a:moveTo>
                  <a:pt x="296" y="0"/>
                </a:moveTo>
                <a:cubicBezTo>
                  <a:pt x="148" y="88"/>
                  <a:pt x="0" y="176"/>
                  <a:pt x="8" y="288"/>
                </a:cubicBezTo>
                <a:cubicBezTo>
                  <a:pt x="16" y="400"/>
                  <a:pt x="280" y="600"/>
                  <a:pt x="344" y="672"/>
                </a:cubicBezTo>
                <a:cubicBezTo>
                  <a:pt x="408" y="744"/>
                  <a:pt x="400" y="732"/>
                  <a:pt x="392" y="7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80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57200" y="3429000"/>
                <a:ext cx="251460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Text Box 5"/>
          <p:cNvSpPr/>
          <p:nvPr/>
        </p:nvSpPr>
        <p:spPr>
          <a:xfrm>
            <a:off x="365760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3276720" y="3505320"/>
                <a:ext cx="23619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3244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V) polar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019920" y="3505320"/>
                <a:ext cx="24382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AutoShape 10"/>
          <p:cNvSpPr/>
          <p:nvPr/>
        </p:nvSpPr>
        <p:spPr>
          <a:xfrm>
            <a:off x="3808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31240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58672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polariz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9144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352520" y="2895480"/>
                <a:ext cx="578016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5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5800" y="1905120"/>
            <a:ext cx="7620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retarders, one polarization gets ‘retard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elayed, with respect to the other one. There is a final phase difference between the 2 components of the polarization. Therefo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polarization is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½ wave or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7" descr="C:\Documents and Settings\manset\My Documents\CFHT_AND_SCIENCE\PolarizationOfLight\Half-Wave-process.jpg"/>
          <p:cNvPicPr/>
          <p:nvPr/>
        </p:nvPicPr>
        <p:blipFill>
          <a:blip r:embed="rId1"/>
          <a:stretch/>
        </p:blipFill>
        <p:spPr>
          <a:xfrm>
            <a:off x="4800600" y="2133720"/>
            <a:ext cx="3681360" cy="3651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3" descr="C:\Documents and Settings\manset\My Documents\CFHT_AND_SCIENCE\PolarizationOfLight\HalfWavePlate.gif"/>
          <p:cNvPicPr/>
          <p:nvPr/>
        </p:nvPicPr>
        <p:blipFill>
          <a:blip r:embed="rId1"/>
          <a:stretch/>
        </p:blipFill>
        <p:spPr>
          <a:xfrm>
            <a:off x="2438280" y="2590920"/>
            <a:ext cx="3886200" cy="22064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¼ wave or 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convert linear polarization to ellip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8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33720" y="2895480"/>
            <a:ext cx="4914720" cy="23432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09480" y="198108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incoming light polariz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the retarder’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ion from linear to circular polarization (vice 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4" name="Picture 4" descr="C:\Documents and Settings\manset\My Documents\CFHT_AND_SCIENCE\PolarizationOfLight\QuarterWavePlate.gif"/>
          <p:cNvPicPr/>
          <p:nvPr/>
        </p:nvPicPr>
        <p:blipFill>
          <a:blip r:embed="rId1"/>
          <a:stretch/>
        </p:blipFill>
        <p:spPr>
          <a:xfrm>
            <a:off x="2971800" y="3048120"/>
            <a:ext cx="3886200" cy="21715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thematical description of the EM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86000" y="3886200"/>
                <a:ext cx="4673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9907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rder of retard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sitio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219320" y="2590920"/>
                <a:ext cx="683244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τ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: 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or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762120" y="3276720"/>
                <a:ext cx="29718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888840" y="3276720"/>
                <a:ext cx="27162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∓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retard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600200" y="3657600"/>
                <a:ext cx="57834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Text Box 4"/>
          <p:cNvSpPr/>
          <p:nvPr/>
        </p:nvSpPr>
        <p:spPr>
          <a:xfrm>
            <a:off x="990720" y="2133720"/>
            <a:ext cx="5867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light circularly polarized (V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Back to polarizers, briefly)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09480" y="2057400"/>
            <a:ext cx="426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manset\My Documents\CFHT_AND_SCIENCE\PolarizationOfLight\Quarter-Wave-Plate.jpg"/>
          <p:cNvPicPr/>
          <p:nvPr/>
        </p:nvPicPr>
        <p:blipFill>
          <a:blip r:embed="rId1"/>
          <a:stretch/>
        </p:blipFill>
        <p:spPr>
          <a:xfrm>
            <a:off x="5029200" y="2057400"/>
            <a:ext cx="3184560" cy="34956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2 different materials with opposite variations of index of refraction as a function of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charatnam 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3 identical plates rotated w/r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irs of quartz and Mg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7" descr="C:\Documents and Settings\manset\My Documents\CFHT_AND_SCIENCE\PolarizationOfLight\Retardance-panch.jpg"/>
          <p:cNvPicPr/>
          <p:nvPr/>
        </p:nvPicPr>
        <p:blipFill>
          <a:blip r:embed="rId1"/>
          <a:stretch/>
        </p:blipFill>
        <p:spPr>
          <a:xfrm>
            <a:off x="2286000" y="2666880"/>
            <a:ext cx="4495680" cy="3570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Documents and Settings\manset\My Documents\CFHT_AND_SCIENCE\PolarizationOfLight\Retardance-halfwave.jpg"/>
          <p:cNvPicPr/>
          <p:nvPr/>
        </p:nvPicPr>
        <p:blipFill>
          <a:blip r:embed="rId2"/>
          <a:stretch/>
        </p:blipFill>
        <p:spPr>
          <a:xfrm>
            <a:off x="2286000" y="1905120"/>
            <a:ext cx="4486320" cy="23778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1828800" y="22096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752480" y="4419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04920" y="2286000"/>
            <a:ext cx="198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140-220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 very achromatic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28600" y="449568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77-18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ation on total internal refle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snel rhom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C:\Documents and Settings\manset\My Documents\CFHT_AND_SCIENCE\PolarizationOfLight\ReflectionPhaseShift2.gif"/>
          <p:cNvPicPr/>
          <p:nvPr/>
        </p:nvPicPr>
        <p:blipFill>
          <a:blip r:embed="rId1"/>
          <a:stretch/>
        </p:blipFill>
        <p:spPr>
          <a:xfrm>
            <a:off x="4038480" y="1981080"/>
            <a:ext cx="4059360" cy="23544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esnel rhomb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C:\Documents and Settings\manset\My Documents\CFHT_AND_SCIENCE\PolarizationOfLight\FresnelRhombs.gif"/>
          <p:cNvPicPr/>
          <p:nvPr/>
        </p:nvPicPr>
        <p:blipFill>
          <a:blip r:embed="rId1"/>
          <a:stretch/>
        </p:blipFill>
        <p:spPr>
          <a:xfrm>
            <a:off x="762120" y="3581280"/>
            <a:ext cx="7589880" cy="2103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ther 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eil-Babine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retardation to better than 0.01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an 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trigonometric identities, squaring, add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76520" y="4572000"/>
                <a:ext cx="59817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886200" y="236232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V: Polari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8440" y="2895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2057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[another cool apple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applets/le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2666880" y="3962520"/>
                <a:ext cx="318780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6858000" y="4114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76212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polaroi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45º (to measure Q, then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981080" y="3809880"/>
            <a:ext cx="5189760" cy="23781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circular polarimetr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meter now 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arter-wave plate and a pola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incipl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n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1219320" y="3276720"/>
            <a:ext cx="761760" cy="12952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1066680" y="2209680"/>
            <a:ext cx="990720" cy="914400"/>
          </a:xfrm>
          <a:custGeom>
            <a:avLst/>
            <a:gdLst>
              <a:gd name="textAreaLeft" fmla="*/ 99000 w 990720"/>
              <a:gd name="textAreaRight" fmla="*/ 891720 w 99072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0720" y="47242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6"/>
          <p:cNvSpPr/>
          <p:nvPr/>
        </p:nvSpPr>
        <p:spPr>
          <a:xfrm rot="5400000">
            <a:off x="1904400" y="4800600"/>
            <a:ext cx="152640" cy="990360"/>
          </a:xfrm>
          <a:prstGeom prst="upDownArrow">
            <a:avLst>
              <a:gd name="adj1" fmla="val 50000"/>
              <a:gd name="adj2" fmla="val 12916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609480" y="1828800"/>
            <a:ext cx="2057400" cy="4191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3276720" y="1828800"/>
            <a:ext cx="5486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2 pixels have the sam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5410080" y="32767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by rotating the prism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5" name="Group 20"/>
          <p:cNvGrpSpPr/>
          <p:nvPr/>
        </p:nvGrpSpPr>
        <p:grpSpPr>
          <a:xfrm>
            <a:off x="2362320" y="1828800"/>
            <a:ext cx="5029200" cy="4267080"/>
            <a:chOff x="2362320" y="1828800"/>
            <a:chExt cx="5029200" cy="4267080"/>
          </a:xfrm>
        </p:grpSpPr>
        <p:sp>
          <p:nvSpPr>
            <p:cNvPr id="546" name="AutoShape 3"/>
            <p:cNvSpPr/>
            <p:nvPr/>
          </p:nvSpPr>
          <p:spPr>
            <a:xfrm>
              <a:off x="28954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 rot="1141800">
              <a:off x="3276360" y="2133360"/>
              <a:ext cx="152280" cy="990360"/>
            </a:xfrm>
            <a:prstGeom prst="upDownArrow">
              <a:avLst>
                <a:gd name="adj1" fmla="val 50000"/>
                <a:gd name="adj2" fmla="val 12946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5"/>
            <p:cNvSpPr/>
            <p:nvPr/>
          </p:nvSpPr>
          <p:spPr>
            <a:xfrm>
              <a:off x="2895480" y="472428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6"/>
            <p:cNvSpPr/>
            <p:nvPr/>
          </p:nvSpPr>
          <p:spPr>
            <a:xfrm rot="5400000">
              <a:off x="3466440" y="514332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7"/>
            <p:cNvSpPr/>
            <p:nvPr/>
          </p:nvSpPr>
          <p:spPr>
            <a:xfrm rot="1141800">
              <a:off x="5409720" y="21333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8"/>
            <p:cNvSpPr/>
            <p:nvPr/>
          </p:nvSpPr>
          <p:spPr>
            <a:xfrm>
              <a:off x="49528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9"/>
            <p:cNvSpPr/>
            <p:nvPr/>
          </p:nvSpPr>
          <p:spPr>
            <a:xfrm>
              <a:off x="5638680" y="487692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0"/>
            <p:cNvSpPr/>
            <p:nvPr/>
          </p:nvSpPr>
          <p:spPr>
            <a:xfrm rot="5400000">
              <a:off x="5067000" y="50673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1"/>
            <p:cNvSpPr/>
            <p:nvPr/>
          </p:nvSpPr>
          <p:spPr>
            <a:xfrm>
              <a:off x="4267080" y="373392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5867280" y="3581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e by 1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>
              <a:off x="2362320" y="1828800"/>
              <a:ext cx="4876560" cy="4267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using a ½ wave pl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1905120" y="1602360"/>
            <a:ext cx="838080" cy="4569840"/>
            <a:chOff x="1905120" y="1602360"/>
            <a:chExt cx="838080" cy="4569840"/>
          </a:xfrm>
        </p:grpSpPr>
        <p:sp>
          <p:nvSpPr>
            <p:cNvPr id="562" name="AutoShape 3"/>
            <p:cNvSpPr/>
            <p:nvPr/>
          </p:nvSpPr>
          <p:spPr>
            <a:xfrm>
              <a:off x="1981080" y="388620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 rot="1141800">
              <a:off x="2361600" y="15998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1905120" y="2590920"/>
              <a:ext cx="838080" cy="30456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 rot="1141800">
              <a:off x="2285640" y="289512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2133360" y="518148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 rot="5400000">
              <a:off x="2476080" y="5600880"/>
              <a:ext cx="190800" cy="266400"/>
            </a:xfrm>
            <a:prstGeom prst="upDownArrow">
              <a:avLst>
                <a:gd name="adj1" fmla="val 50000"/>
                <a:gd name="adj2" fmla="val 2779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60958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d by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1"/>
          <p:cNvGrpSpPr/>
          <p:nvPr/>
        </p:nvGrpSpPr>
        <p:grpSpPr>
          <a:xfrm>
            <a:off x="4343400" y="1830960"/>
            <a:ext cx="1828440" cy="4150800"/>
            <a:chOff x="4343400" y="1830960"/>
            <a:chExt cx="1828440" cy="4150800"/>
          </a:xfrm>
        </p:grpSpPr>
        <p:sp>
          <p:nvSpPr>
            <p:cNvPr id="570" name="AutoShape 7"/>
            <p:cNvSpPr/>
            <p:nvPr/>
          </p:nvSpPr>
          <p:spPr>
            <a:xfrm rot="1141800">
              <a:off x="5410080" y="18284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4953240" y="297180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4953240" y="403884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13"/>
            <p:cNvSpPr/>
            <p:nvPr/>
          </p:nvSpPr>
          <p:spPr>
            <a:xfrm>
              <a:off x="4343400" y="289584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15"/>
            <p:cNvSpPr/>
            <p:nvPr/>
          </p:nvSpPr>
          <p:spPr>
            <a:xfrm rot="6540000">
              <a:off x="5295600" y="323856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4800600" y="571500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17"/>
            <p:cNvSpPr/>
            <p:nvPr/>
          </p:nvSpPr>
          <p:spPr>
            <a:xfrm rot="5400000">
              <a:off x="5600160" y="52959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143000" y="1523880"/>
            <a:ext cx="678168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rcular polarization - Wollaston and quarter-wave plat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1599840" y="1752480"/>
            <a:ext cx="838440" cy="4343400"/>
            <a:chOff x="1599840" y="1752480"/>
            <a:chExt cx="838440" cy="4343400"/>
          </a:xfrm>
        </p:grpSpPr>
        <p:sp>
          <p:nvSpPr>
            <p:cNvPr id="583" name="AutoShape 3"/>
            <p:cNvSpPr/>
            <p:nvPr/>
          </p:nvSpPr>
          <p:spPr>
            <a:xfrm>
              <a:off x="1600200" y="373392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4"/>
            <p:cNvSpPr/>
            <p:nvPr/>
          </p:nvSpPr>
          <p:spPr>
            <a:xfrm>
              <a:off x="1600200" y="243828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 rot="1141800">
              <a:off x="1980720" y="274284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676160" y="5105520"/>
              <a:ext cx="151920" cy="990360"/>
            </a:xfrm>
            <a:prstGeom prst="upDownArrow">
              <a:avLst>
                <a:gd name="adj1" fmla="val 50000"/>
                <a:gd name="adj2" fmla="val 12977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 rot="5400000">
              <a:off x="2094840" y="5448240"/>
              <a:ext cx="190440" cy="266400"/>
            </a:xfrm>
            <a:prstGeom prst="upDownArrow">
              <a:avLst>
                <a:gd name="adj1" fmla="val 50000"/>
                <a:gd name="adj2" fmla="val 2784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"/>
            <p:cNvGrpSpPr/>
            <p:nvPr/>
          </p:nvGrpSpPr>
          <p:grpSpPr>
            <a:xfrm>
              <a:off x="1599840" y="1752480"/>
              <a:ext cx="685440" cy="533520"/>
              <a:chOff x="1599840" y="1752480"/>
              <a:chExt cx="685440" cy="533520"/>
            </a:xfrm>
          </p:grpSpPr>
          <p:sp>
            <p:nvSpPr>
              <p:cNvPr id="589" name="Oval 5"/>
              <p:cNvSpPr/>
              <p:nvPr/>
            </p:nvSpPr>
            <p:spPr>
              <a:xfrm>
                <a:off x="1752480" y="1752480"/>
                <a:ext cx="532800" cy="533520"/>
              </a:xfrm>
              <a:prstGeom prst="ellipse">
                <a:avLst/>
              </a:prstGeom>
              <a:noFill/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"/>
              <p:cNvSpPr/>
              <p:nvPr/>
            </p:nvSpPr>
            <p:spPr>
              <a:xfrm flipH="1" flipV="1">
                <a:off x="1599840" y="1828440"/>
                <a:ext cx="152280" cy="228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1"/>
              <p:cNvSpPr/>
              <p:nvPr/>
            </p:nvSpPr>
            <p:spPr>
              <a:xfrm flipV="1">
                <a:off x="1752480" y="1904760"/>
                <a:ext cx="228240" cy="15264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95280" y="1676520"/>
            <a:ext cx="144792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3200400" y="198108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7"/>
              <p:cNvSpPr txBox="1"/>
              <p:nvPr/>
            </p:nvSpPr>
            <p:spPr>
              <a:xfrm>
                <a:off x="5181480" y="2590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mel, Donati, Rees (199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371600" y="2971800"/>
            <a:ext cx="838080" cy="304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219320" y="4191120"/>
            <a:ext cx="1143000" cy="457200"/>
            <a:chOff x="1219320" y="4191120"/>
            <a:chExt cx="1143000" cy="457200"/>
          </a:xfrm>
        </p:grpSpPr>
        <p:sp>
          <p:nvSpPr>
            <p:cNvPr id="601" name="Rectangle 4"/>
            <p:cNvSpPr/>
            <p:nvPr/>
          </p:nvSpPr>
          <p:spPr>
            <a:xfrm>
              <a:off x="1219320" y="4191120"/>
              <a:ext cx="1143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1219320" y="4419720"/>
              <a:ext cx="114300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Text Box 7"/>
          <p:cNvSpPr/>
          <p:nvPr/>
        </p:nvSpPr>
        <p:spPr>
          <a:xfrm>
            <a:off x="274320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plate, rotated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+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89548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1371600" y="2209680"/>
            <a:ext cx="685800" cy="533520"/>
            <a:chOff x="1371600" y="2209680"/>
            <a:chExt cx="685800" cy="533520"/>
          </a:xfrm>
        </p:grpSpPr>
        <p:sp>
          <p:nvSpPr>
            <p:cNvPr id="606" name="Oval 11"/>
            <p:cNvSpPr/>
            <p:nvPr/>
          </p:nvSpPr>
          <p:spPr>
            <a:xfrm>
              <a:off x="1524240" y="22096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 flipH="1" flipV="1">
              <a:off x="1371600" y="22856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"/>
            <p:cNvSpPr/>
            <p:nvPr/>
          </p:nvSpPr>
          <p:spPr>
            <a:xfrm flipV="1">
              <a:off x="1524240" y="23619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14"/>
          <p:cNvSpPr/>
          <p:nvPr/>
        </p:nvSpPr>
        <p:spPr>
          <a:xfrm rot="19581600">
            <a:off x="1295280" y="365724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1371600" y="4800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 rot="5400000">
            <a:off x="1942560" y="514332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914400" y="1905120"/>
            <a:ext cx="167652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Picture 4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380880" y="2743200"/>
            <a:ext cx="34387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038480" y="2743200"/>
            <a:ext cx="4038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ellipse can be represented by 4 qua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ght can be represented by 4 quantit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85800" y="55627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(g) and atmospheric transmission (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236232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gnal in the (r)ight and (l)eft be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signal in the (r)ight and (l)eft be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of the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4495680" y="26668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5334120" y="35812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1752480" y="4599000"/>
                <a:ext cx="59058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and atmospheric transmission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35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1143000" y="3352680"/>
                <a:ext cx="63752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den>
                            </m:f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AutoShape 5"/>
          <p:cNvSpPr/>
          <p:nvPr/>
        </p:nvSpPr>
        <p:spPr>
          <a:xfrm rot="16200000">
            <a:off x="2514600" y="480024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8380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meter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oid-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but ½ light is lost, and affected by variable atmospheric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-beam 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ght lost but affected by gain differences and variable transmis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8672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V: ESPaDOn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plate to do circular polarimet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C:\Documents and Settings\manset\My Documents\My Pictures\Polarimeter-white.jpg"/>
          <p:cNvPicPr/>
          <p:nvPr/>
        </p:nvPicPr>
        <p:blipFill>
          <a:blip r:embed="rId1"/>
          <a:stretch/>
        </p:blipFill>
        <p:spPr>
          <a:xfrm>
            <a:off x="5715000" y="1676520"/>
            <a:ext cx="2355840" cy="4506840"/>
          </a:xfrm>
          <a:prstGeom prst="rect">
            <a:avLst/>
          </a:prstGeom>
          <a:ln w="0">
            <a:noFill/>
          </a:ln>
        </p:spPr>
      </p:pic>
      <p:sp>
        <p:nvSpPr>
          <p:cNvPr id="642" name="Oval 6"/>
          <p:cNvSpPr/>
          <p:nvPr/>
        </p:nvSpPr>
        <p:spPr>
          <a:xfrm>
            <a:off x="6248520" y="4572000"/>
            <a:ext cx="16761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754380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bottom half-wave,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circul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AutoShape 3"/>
          <p:cNvSpPr/>
          <p:nvPr/>
        </p:nvSpPr>
        <p:spPr>
          <a:xfrm rot="5400000">
            <a:off x="6667560" y="262872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4109040" y="2658600"/>
            <a:ext cx="1224720" cy="397800"/>
            <a:chOff x="4109040" y="2658600"/>
            <a:chExt cx="1224720" cy="397800"/>
          </a:xfrm>
        </p:grpSpPr>
        <p:sp>
          <p:nvSpPr>
            <p:cNvPr id="654" name="AutoShape 4"/>
            <p:cNvSpPr/>
            <p:nvPr/>
          </p:nvSpPr>
          <p:spPr>
            <a:xfrm rot="5400000">
              <a:off x="4838400" y="255240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 flipV="1" rot="5303400">
              <a:off x="422820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AutoShape 6"/>
          <p:cNvSpPr/>
          <p:nvPr/>
        </p:nvSpPr>
        <p:spPr>
          <a:xfrm rot="5400000">
            <a:off x="2400120" y="2400120"/>
            <a:ext cx="533160" cy="914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7467480" y="2666880"/>
            <a:ext cx="685800" cy="533520"/>
            <a:chOff x="7467480" y="2666880"/>
            <a:chExt cx="685800" cy="533520"/>
          </a:xfrm>
        </p:grpSpPr>
        <p:sp>
          <p:nvSpPr>
            <p:cNvPr id="658" name="Oval 9"/>
            <p:cNvSpPr/>
            <p:nvPr/>
          </p:nvSpPr>
          <p:spPr>
            <a:xfrm>
              <a:off x="7620120" y="26668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"/>
            <p:cNvSpPr/>
            <p:nvPr/>
          </p:nvSpPr>
          <p:spPr>
            <a:xfrm flipH="1" flipV="1">
              <a:off x="7467480" y="27428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 flipV="1">
              <a:off x="7620120" y="28191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12"/>
          <p:cNvSpPr/>
          <p:nvPr/>
        </p:nvSpPr>
        <p:spPr>
          <a:xfrm rot="19581600">
            <a:off x="5562720" y="281916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3"/>
          <p:cNvSpPr/>
          <p:nvPr/>
        </p:nvSpPr>
        <p:spPr>
          <a:xfrm rot="3060000">
            <a:off x="3161520" y="278136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14"/>
          <p:cNvSpPr/>
          <p:nvPr/>
        </p:nvSpPr>
        <p:spPr>
          <a:xfrm rot="5400000">
            <a:off x="133344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5"/>
          <p:cNvSpPr/>
          <p:nvPr/>
        </p:nvSpPr>
        <p:spPr>
          <a:xfrm rot="10800000">
            <a:off x="1295280" y="304776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3962520" y="3505320"/>
            <a:ext cx="228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ps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63244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9810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762120" y="3733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ircular polarimetry of (unwanted) line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3581280" y="350532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6386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1523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533520" y="2286000"/>
            <a:ext cx="8001000" cy="1143000"/>
            <a:chOff x="533520" y="2286000"/>
            <a:chExt cx="8001000" cy="1143000"/>
          </a:xfrm>
        </p:grpSpPr>
        <p:sp>
          <p:nvSpPr>
            <p:cNvPr id="678" name="AutoShape 3"/>
            <p:cNvSpPr/>
            <p:nvPr/>
          </p:nvSpPr>
          <p:spPr>
            <a:xfrm rot="5400000">
              <a:off x="5981760" y="262872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 rot="5400000">
              <a:off x="1866960" y="24001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 rot="19581600">
              <a:off x="6552720" y="2895120"/>
              <a:ext cx="838440" cy="152640"/>
            </a:xfrm>
            <a:prstGeom prst="leftRightArrow">
              <a:avLst>
                <a:gd name="adj1" fmla="val 50000"/>
                <a:gd name="adj2" fmla="val 10935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5400000">
              <a:off x="1028520" y="209520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15"/>
            <p:cNvSpPr/>
            <p:nvPr/>
          </p:nvSpPr>
          <p:spPr>
            <a:xfrm rot="10800000">
              <a:off x="990360" y="30477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533520" y="2286000"/>
              <a:ext cx="8001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0"/>
            <p:cNvSpPr/>
            <p:nvPr/>
          </p:nvSpPr>
          <p:spPr>
            <a:xfrm rot="2106600">
              <a:off x="5333760" y="251460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1"/>
            <p:cNvSpPr/>
            <p:nvPr/>
          </p:nvSpPr>
          <p:spPr>
            <a:xfrm rot="6720000">
              <a:off x="3009600" y="247608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22"/>
          <p:cNvSpPr/>
          <p:nvPr/>
        </p:nvSpPr>
        <p:spPr>
          <a:xfrm>
            <a:off x="380880" y="3581280"/>
            <a:ext cx="18288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7315200" y="3581280"/>
            <a:ext cx="14479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 a rotating half-wave to “spread out” the unwanted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7540920" y="2590920"/>
            <a:ext cx="764640" cy="609480"/>
            <a:chOff x="7540920" y="2590920"/>
            <a:chExt cx="764640" cy="609480"/>
          </a:xfrm>
        </p:grpSpPr>
        <p:grpSp>
          <p:nvGrpSpPr>
            <p:cNvPr id="689" name="Group 4"/>
            <p:cNvGrpSpPr/>
            <p:nvPr/>
          </p:nvGrpSpPr>
          <p:grpSpPr>
            <a:xfrm>
              <a:off x="7540920" y="2814480"/>
              <a:ext cx="764640" cy="239040"/>
              <a:chOff x="7540920" y="2814480"/>
              <a:chExt cx="764640" cy="239040"/>
            </a:xfrm>
          </p:grpSpPr>
          <p:sp>
            <p:nvSpPr>
              <p:cNvPr id="690" name="AutoShape 5"/>
              <p:cNvSpPr/>
              <p:nvPr/>
            </p:nvSpPr>
            <p:spPr>
              <a:xfrm rot="5400000">
                <a:off x="8000640" y="2743200"/>
                <a:ext cx="228600" cy="38124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6"/>
              <p:cNvSpPr/>
              <p:nvPr/>
            </p:nvSpPr>
            <p:spPr>
              <a:xfrm flipV="1" rot="5303400">
                <a:off x="7619760" y="2743560"/>
                <a:ext cx="228600" cy="38052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AutoShape 24"/>
            <p:cNvSpPr/>
            <p:nvPr/>
          </p:nvSpPr>
          <p:spPr>
            <a:xfrm>
              <a:off x="7772400" y="2590920"/>
              <a:ext cx="380880" cy="6094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27"/>
          <p:cNvGrpSpPr/>
          <p:nvPr/>
        </p:nvGrpSpPr>
        <p:grpSpPr>
          <a:xfrm>
            <a:off x="3729240" y="2658600"/>
            <a:ext cx="1223640" cy="397800"/>
            <a:chOff x="3729240" y="2658600"/>
            <a:chExt cx="1223640" cy="397800"/>
          </a:xfrm>
        </p:grpSpPr>
        <p:sp>
          <p:nvSpPr>
            <p:cNvPr id="694" name="AutoShape 28"/>
            <p:cNvSpPr/>
            <p:nvPr/>
          </p:nvSpPr>
          <p:spPr>
            <a:xfrm rot="5400000">
              <a:off x="445752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AutoShape 29"/>
            <p:cNvSpPr/>
            <p:nvPr/>
          </p:nvSpPr>
          <p:spPr>
            <a:xfrm flipV="1" rot="5303400">
              <a:off x="3848400" y="2552400"/>
              <a:ext cx="380880" cy="6091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5"/>
          <p:cNvSpPr/>
          <p:nvPr/>
        </p:nvSpPr>
        <p:spPr>
          <a:xfrm rot="5400000">
            <a:off x="5371920" y="2705040"/>
            <a:ext cx="304920" cy="38088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"/>
          <p:cNvSpPr/>
          <p:nvPr/>
        </p:nvSpPr>
        <p:spPr>
          <a:xfrm rot="5400000">
            <a:off x="1828440" y="2514600"/>
            <a:ext cx="38124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19581600">
            <a:off x="5866920" y="2895120"/>
            <a:ext cx="838440" cy="152640"/>
          </a:xfrm>
          <a:prstGeom prst="leftRightArrow">
            <a:avLst>
              <a:gd name="adj1" fmla="val 50000"/>
              <a:gd name="adj2" fmla="val 10935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8"/>
          <p:cNvSpPr/>
          <p:nvPr/>
        </p:nvSpPr>
        <p:spPr>
          <a:xfrm rot="5400000">
            <a:off x="102852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9"/>
          <p:cNvSpPr/>
          <p:nvPr/>
        </p:nvSpPr>
        <p:spPr>
          <a:xfrm rot="10800000">
            <a:off x="990360" y="3047760"/>
            <a:ext cx="190440" cy="26676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1"/>
          <p:cNvSpPr/>
          <p:nvPr/>
        </p:nvSpPr>
        <p:spPr>
          <a:xfrm rot="2106600">
            <a:off x="4723920" y="251460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 rot="6720000">
            <a:off x="2704680" y="247608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3425400" y="2661120"/>
            <a:ext cx="841680" cy="316440"/>
            <a:chOff x="3425400" y="2661120"/>
            <a:chExt cx="841680" cy="316440"/>
          </a:xfrm>
        </p:grpSpPr>
        <p:sp>
          <p:nvSpPr>
            <p:cNvPr id="711" name="AutoShape 14"/>
            <p:cNvSpPr/>
            <p:nvPr/>
          </p:nvSpPr>
          <p:spPr>
            <a:xfrm rot="5400000">
              <a:off x="3904920" y="2609640"/>
              <a:ext cx="304920" cy="4190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15"/>
            <p:cNvSpPr/>
            <p:nvPr/>
          </p:nvSpPr>
          <p:spPr>
            <a:xfrm flipV="1" rot="5303400">
              <a:off x="3486240" y="2609640"/>
              <a:ext cx="304920" cy="4183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6703200" y="2814480"/>
            <a:ext cx="764280" cy="239040"/>
            <a:chOff x="6703200" y="2814480"/>
            <a:chExt cx="764280" cy="239040"/>
          </a:xfrm>
        </p:grpSpPr>
        <p:sp>
          <p:nvSpPr>
            <p:cNvPr id="714" name="AutoShape 17"/>
            <p:cNvSpPr/>
            <p:nvPr/>
          </p:nvSpPr>
          <p:spPr>
            <a:xfrm rot="5400000">
              <a:off x="7162560" y="2743200"/>
              <a:ext cx="228600" cy="3808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18"/>
            <p:cNvSpPr/>
            <p:nvPr/>
          </p:nvSpPr>
          <p:spPr>
            <a:xfrm flipV="1" rot="5303400">
              <a:off x="6782040" y="2743920"/>
              <a:ext cx="228600" cy="38016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AutoShape 19"/>
          <p:cNvSpPr/>
          <p:nvPr/>
        </p:nvSpPr>
        <p:spPr>
          <a:xfrm rot="19581600">
            <a:off x="7543440" y="289512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s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osition giv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 gives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beams for gain and atmospher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486400" y="2666880"/>
                <a:ext cx="6890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Vertical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amplitude in x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), there is only one component, in y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C:\Documents and Settings\manset\My Documents\CFHT_AND_SCIENCE\PolarizationOfLight\VerticallyPolarized2.gif"/>
          <p:cNvPicPr/>
          <p:nvPr/>
        </p:nvPicPr>
        <p:blipFill>
          <a:blip r:embed="rId1"/>
          <a:stretch/>
        </p:blipFill>
        <p:spPr>
          <a:xfrm>
            <a:off x="2209680" y="3809880"/>
            <a:ext cx="4915080" cy="23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666880" y="1752480"/>
                <a:ext cx="381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Дата 1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ижний колонтитул 2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5" descr="C:\Documents and Settings\manset\My Documents\My Pictures\dancecal2.gif"/>
          <p:cNvPicPr/>
          <p:nvPr/>
        </p:nvPicPr>
        <p:blipFill>
          <a:blip r:embed="rId1"/>
          <a:stretch/>
        </p:blipFill>
        <p:spPr>
          <a:xfrm>
            <a:off x="4876920" y="2362320"/>
            <a:ext cx="1933560" cy="1160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C:\Documents and Settings\manset\My Documents\My Pictures\calvinhobbesdance.gif"/>
          <p:cNvPicPr/>
          <p:nvPr/>
        </p:nvPicPr>
        <p:blipFill>
          <a:blip r:embed="rId2"/>
          <a:stretch/>
        </p:blipFill>
        <p:spPr>
          <a:xfrm>
            <a:off x="2514600" y="251460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edit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pictures and mov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noao.edu/noao/staff/kel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meadowlark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. Hecht 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 Tinber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. Geh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olarization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optics.arizona.edu/jcwyant/JoseDiaz/Polarization-Circula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olarized light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colorado.edu/physics/2000/polarization/polarizationII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 of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physicsclassroom.com/mmedia/waves/fi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n the Web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cfht.hawaii.edu/~manset/PolarIntro_e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polarization/polarization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 short cour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glenbrook.k12.il.us/gbssci/phys/Class/light/u12l1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5 lectures given at the IAC Winter School on Astrophysical Spectropolarimetry, November 2000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oao.edu/noao/staff/keller/lecture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52280" y="40384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larization bas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ized 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 Goldstein – excellent book, easy read, gives a lot of insight, highly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. H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. S. Crawfor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eley Physics Course vol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152280" y="39625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152280" y="2590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easy/intermedi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 Tinber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polarisation de la lumière et l'observation astronom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-L. Lero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. Gehr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ut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pers by K. Serkowski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advanc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J.C. del Toro Iniest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e transfer – 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physical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ujillo-Bueno et al. (eds)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o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C:\Documents and Settings\manset\My Documents\My Pictures\SourFace.gif"/>
          <p:cNvPicPr/>
          <p:nvPr/>
        </p:nvPicPr>
        <p:blipFill>
          <a:blip r:embed="rId1"/>
          <a:stretch/>
        </p:blipFill>
        <p:spPr>
          <a:xfrm>
            <a:off x="7848720" y="3048120"/>
            <a:ext cx="28548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phase difference (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manset\My Documents\CFHT_AND_SCIENCE\PolarizationOfLight\45degPolarization2.gif"/>
          <p:cNvPicPr/>
          <p:nvPr/>
        </p:nvPicPr>
        <p:blipFill>
          <a:blip r:embed="rId1"/>
          <a:stretch/>
        </p:blipFill>
        <p:spPr>
          <a:xfrm>
            <a:off x="2209680" y="3962520"/>
            <a:ext cx="4915080" cy="230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175248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3:34:26Z</dcterms:created>
  <dc:creator>N. Manset</dc:creator>
  <dc:description/>
  <dc:language>en-US</dc:language>
  <cp:lastModifiedBy>LEGION</cp:lastModifiedBy>
  <dcterms:modified xsi:type="dcterms:W3CDTF">2018-03-12T09:37:05Z</dcterms:modified>
  <cp:revision>101</cp:revision>
  <dc:subject/>
  <dc:title>Polarization of Light</dc:title>
</cp:coreProperties>
</file>