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5.jpeg" ContentType="image/jpeg"/>
  <Override PartName="/ppt/media/image36.png" ContentType="image/png"/>
  <Override PartName="/ppt/media/image37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46.jpeg" ContentType="image/jpeg"/>
  <Override PartName="/ppt/media/image51.jpeg" ContentType="image/jpeg"/>
  <Override PartName="/ppt/media/image34.jpeg" ContentType="image/jpeg"/>
  <Override PartName="/ppt/media/image20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12.png" ContentType="image/png"/>
  <Override PartName="/ppt/media/image13.png" ContentType="image/png"/>
  <Override PartName="/ppt/media/image54.jpeg" ContentType="image/jpeg"/>
  <Override PartName="/ppt/media/image53.wmf" ContentType="image/x-wmf"/>
  <Override PartName="/ppt/media/image39.jpeg" ContentType="image/jpeg"/>
  <Override PartName="/ppt/media/image8.png" ContentType="image/png"/>
  <Override PartName="/ppt/media/image18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04D4-0E4E-4B6D-8659-CAD9980A8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20520" y="39600"/>
          <a:ext cx="9123480" cy="679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39600"/>
                    <a:ext cx="912348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483400" y="279360"/>
            <a:ext cx="56988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3366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20520" y="14400"/>
          <a:ext cx="9104400" cy="683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14400"/>
                    <a:ext cx="9104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8"/>
          <p:cNvSpPr/>
          <p:nvPr/>
        </p:nvSpPr>
        <p:spPr>
          <a:xfrm>
            <a:off x="3006720" y="6470640"/>
            <a:ext cx="31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66666"/>
                </a:solidFill>
                <a:latin typeface="Verdana"/>
              </a:rPr>
              <a:t>Copyright © 2005 SRI International</a:t>
            </a:r>
            <a:endParaRPr b="0" lang="en-US" sz="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pa.gov/sunwise/uvindex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falstad.com/rippl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3040" y="1562040"/>
            <a:ext cx="396252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Sunscree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43040" y="28951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Wave of the Future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77760" y="48261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4182b"/>
                </a:solidFill>
                <a:latin typeface="Arial"/>
              </a:rPr>
              <a:t>Modified slightly from the NanoSense web materia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4" name="Picture 18" descr="sun-in-box"/>
          <p:cNvPicPr/>
          <p:nvPr/>
        </p:nvPicPr>
        <p:blipFill>
          <a:blip r:embed="rId1"/>
          <a:stretch/>
        </p:blipFill>
        <p:spPr>
          <a:xfrm>
            <a:off x="5708520" y="1488960"/>
            <a:ext cx="2917800" cy="28130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is Radiatio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9200" y="1600200"/>
            <a:ext cx="5716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ight radiation is often thought of as a wave with a wavelength (</a:t>
            </a:r>
            <a:r>
              <a:rPr b="1" lang="en-US" sz="2400" spc="-1" strike="noStrike">
                <a:solidFill>
                  <a:srgbClr val="666666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) and frequency (f) related by this equation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96920" y="3959280"/>
            <a:ext cx="848520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nce c (the speed of light) is constant,  the wavelength and frequency are inversely rela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s means that light with a short wavelength will have a high frequency and visa vers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9" name="Picture 20" descr="WaveEquationInverseForms"/>
          <p:cNvPicPr/>
          <p:nvPr/>
        </p:nvPicPr>
        <p:blipFill>
          <a:blip r:embed="rId2"/>
          <a:stretch/>
        </p:blipFill>
        <p:spPr>
          <a:xfrm>
            <a:off x="965160" y="4863960"/>
            <a:ext cx="48006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" descr="WaveEquationStandard"/>
          <p:cNvPicPr/>
          <p:nvPr/>
        </p:nvPicPr>
        <p:blipFill>
          <a:blip r:embed="rId3"/>
          <a:stretch/>
        </p:blipFill>
        <p:spPr>
          <a:xfrm>
            <a:off x="2436840" y="3098880"/>
            <a:ext cx="269712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0992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nergy Comes in Packets (Photon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size of an energy packet (E) is determined by the frequency of the radiation (f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grpSp>
        <p:nvGrpSpPr>
          <p:cNvPr id="144" name="Group 23"/>
          <p:cNvGrpSpPr/>
          <p:nvPr/>
        </p:nvGrpSpPr>
        <p:grpSpPr>
          <a:xfrm>
            <a:off x="4546440" y="3873600"/>
            <a:ext cx="3657600" cy="2529360"/>
            <a:chOff x="4546440" y="3873600"/>
            <a:chExt cx="3657600" cy="2529360"/>
          </a:xfrm>
        </p:grpSpPr>
        <p:sp>
          <p:nvSpPr>
            <p:cNvPr id="145" name="Line 12"/>
            <p:cNvSpPr/>
            <p:nvPr/>
          </p:nvSpPr>
          <p:spPr>
            <a:xfrm>
              <a:off x="5419800" y="3890880"/>
              <a:ext cx="0" cy="2298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5159520" y="5978520"/>
              <a:ext cx="2516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 flipV="1">
              <a:off x="5425920" y="4202280"/>
              <a:ext cx="2014560" cy="176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5805360" y="3957480"/>
              <a:ext cx="191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 </a:t>
              </a:r>
              <a:r>
                <a:rPr b="1" lang="en-US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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4546440" y="3873600"/>
              <a:ext cx="12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7062840" y="6004080"/>
              <a:ext cx="114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51" name="Rectangle 21"/>
          <p:cNvSpPr/>
          <p:nvPr/>
        </p:nvSpPr>
        <p:spPr>
          <a:xfrm>
            <a:off x="324000" y="3809880"/>
            <a:ext cx="453528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Radiation with a higher frequency has more energy in each packe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amount of energy in a packet determines how it interacts with our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2" name="Picture 24" descr="EnergyEquationStandard"/>
          <p:cNvPicPr/>
          <p:nvPr/>
        </p:nvPicPr>
        <p:blipFill>
          <a:blip r:embed="rId1"/>
          <a:stretch/>
        </p:blipFill>
        <p:spPr>
          <a:xfrm>
            <a:off x="2784600" y="3044880"/>
            <a:ext cx="25398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60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tal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is relates not only to how much energy is in each packet but also to the total number of packets arriving at a given location (such as our skin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Picture 15" descr="UVIndex"/>
          <p:cNvPicPr/>
          <p:nvPr/>
        </p:nvPicPr>
        <p:blipFill>
          <a:blip r:embed="rId1"/>
          <a:stretch/>
        </p:blipFill>
        <p:spPr>
          <a:xfrm>
            <a:off x="552600" y="3389400"/>
            <a:ext cx="2216160" cy="2577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6"/>
          <p:cNvSpPr/>
          <p:nvPr/>
        </p:nvSpPr>
        <p:spPr>
          <a:xfrm>
            <a:off x="2521080" y="3238560"/>
            <a:ext cx="62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otal Energy depends on many factors including the intensity of sun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UV Index rates the total intensity of UV light for many locations in the US daily: </a:t>
            </a:r>
            <a:r>
              <a:rPr b="0" lang="en-US" sz="2000" spc="-1" strike="noStrike" u="sng">
                <a:solidFill>
                  <a:srgbClr val="46b817"/>
                </a:solidFill>
                <a:uFillTx/>
                <a:latin typeface="Tahoma"/>
                <a:hlinkClick r:id="rId2"/>
              </a:rPr>
              <a:t>http://www.epa.gov/sunwise/uvindex.htm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kind of skin damage is determined by the size of the energy packet ( E = h x f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UV spectrum is broken into three parts: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ery High Energy (UVC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 Energy (UVB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w Energy (UVA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62" name="Picture 13" descr="SunEMSpectrumNoNums"/>
          <p:cNvPicPr/>
          <p:nvPr/>
        </p:nvPicPr>
        <p:blipFill>
          <a:blip r:embed="rId1"/>
          <a:stretch/>
        </p:blipFill>
        <p:spPr>
          <a:xfrm>
            <a:off x="4567320" y="2949480"/>
            <a:ext cx="3887640" cy="197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439160" y="496404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361800" y="3848040"/>
            <a:ext cx="406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s far as we know, visible and IR radiation don’t harm the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260960" y="1419120"/>
            <a:ext cx="45068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ery high energy radiation (UVC) is currently blocked by the ozone layer (ozone hole issue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 energy radiation (UVB) does the most immediate damage (sunburns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But lower energy radiation (UVA) can penetrate deeper into the skin, leading to long term damag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-25560" y="6453360"/>
            <a:ext cx="815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 II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70" name="Picture 9" descr="SkinDepth"/>
          <p:cNvPicPr/>
          <p:nvPr/>
        </p:nvPicPr>
        <p:blipFill>
          <a:blip r:embed="rId1"/>
          <a:stretch/>
        </p:blipFill>
        <p:spPr>
          <a:xfrm>
            <a:off x="352440" y="1555920"/>
            <a:ext cx="385452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0760" y="1584360"/>
          <a:ext cx="8183520" cy="5014800"/>
        </p:xfrm>
        <a:graphic>
          <a:graphicData uri="http://schemas.openxmlformats.org/drawingml/2006/table">
            <a:tbl>
              <a:tblPr/>
              <a:tblGrid>
                <a:gridCol w="1081080"/>
                <a:gridCol w="1670040"/>
                <a:gridCol w="1585800"/>
                <a:gridCol w="1590840"/>
                <a:gridCol w="1371600"/>
                <a:gridCol w="884160"/>
              </a:tblGrid>
              <a:tr h="96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Characteristic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Wavelength (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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nergy per Phot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% of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otal 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eaching Earth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ffects on Human Ski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Visible to Human Eye?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C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00-29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Short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High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0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&lt;1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B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90-32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Mid-rang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Medium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.3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5% of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all UV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unbur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A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320-400 nm   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Long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Low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6.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95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ann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Ag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Vi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00-7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r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3 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n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Currently Know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Ye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I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700-120,0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st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49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Heat Sensati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(high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IR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un Radiation Summary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4" name="AutoShape 54"/>
          <p:cNvSpPr/>
          <p:nvPr/>
        </p:nvSpPr>
        <p:spPr>
          <a:xfrm>
            <a:off x="3075120" y="2189160"/>
            <a:ext cx="1555560" cy="4518000"/>
          </a:xfrm>
          <a:prstGeom prst="upArrow">
            <a:avLst>
              <a:gd name="adj1" fmla="val 49796"/>
              <a:gd name="adj2" fmla="val 45153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AutoShape 55"/>
          <p:cNvSpPr/>
          <p:nvPr/>
        </p:nvSpPr>
        <p:spPr>
          <a:xfrm flipV="1">
            <a:off x="1450800" y="2550960"/>
            <a:ext cx="1641600" cy="4307040"/>
          </a:xfrm>
          <a:prstGeom prst="upArrow">
            <a:avLst>
              <a:gd name="adj1" fmla="val 48167"/>
              <a:gd name="adj2" fmla="val 44384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17520" y="1638360"/>
            <a:ext cx="808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With all of this possible damage, it pays to wear sunscreen, but which one should you use?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9" name="Picture 6" descr="muscles"/>
          <p:cNvPicPr/>
          <p:nvPr/>
        </p:nvPicPr>
        <p:blipFill>
          <a:blip r:embed="rId1"/>
          <a:stretch/>
        </p:blipFill>
        <p:spPr>
          <a:xfrm>
            <a:off x="3005280" y="3548160"/>
            <a:ext cx="2473200" cy="2735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-25560" y="6593040"/>
            <a:ext cx="81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2" name="Picture 16" descr="SunscreenProductRange"/>
          <p:cNvPicPr/>
          <p:nvPr/>
        </p:nvPicPr>
        <p:blipFill>
          <a:blip r:embed="rId1"/>
          <a:stretch/>
        </p:blipFill>
        <p:spPr>
          <a:xfrm>
            <a:off x="1835280" y="1828800"/>
            <a:ext cx="5244840" cy="3809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ich Sunscreen Should You Use??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84" name="Picture 17" descr="SunscreenForYourSunDay"/>
          <p:cNvPicPr/>
          <p:nvPr/>
        </p:nvPicPr>
        <p:blipFill>
          <a:blip r:embed="rId2"/>
          <a:stretch/>
        </p:blipFill>
        <p:spPr>
          <a:xfrm>
            <a:off x="6381720" y="2427120"/>
            <a:ext cx="1866960" cy="4233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ManyCoppertone"/>
          <p:cNvPicPr/>
          <p:nvPr/>
        </p:nvPicPr>
        <p:blipFill>
          <a:blip r:embed="rId3"/>
          <a:stretch/>
        </p:blipFill>
        <p:spPr>
          <a:xfrm>
            <a:off x="318960" y="1535040"/>
            <a:ext cx="2156040" cy="195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SunSunscreen"/>
          <p:cNvPicPr/>
          <p:nvPr/>
        </p:nvPicPr>
        <p:blipFill>
          <a:blip r:embed="rId4"/>
          <a:stretch/>
        </p:blipFill>
        <p:spPr>
          <a:xfrm>
            <a:off x="0" y="3882960"/>
            <a:ext cx="2955960" cy="319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SunSport2"/>
          <p:cNvPicPr/>
          <p:nvPr/>
        </p:nvPicPr>
        <p:blipFill>
          <a:blip r:embed="rId5"/>
          <a:stretch/>
        </p:blipFill>
        <p:spPr>
          <a:xfrm>
            <a:off x="7677000" y="1535040"/>
            <a:ext cx="1190880" cy="2959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SunscreenGlow"/>
          <p:cNvPicPr/>
          <p:nvPr/>
        </p:nvPicPr>
        <p:blipFill>
          <a:blip r:embed="rId6"/>
          <a:stretch/>
        </p:blipFill>
        <p:spPr>
          <a:xfrm>
            <a:off x="4280040" y="3619440"/>
            <a:ext cx="2908080" cy="2908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-279360" y="17413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3701880" y="247320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53006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049480" y="58784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622680" y="45115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-544680" y="370692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Challenge: 3 Essential Questio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-19080" y="6423120"/>
            <a:ext cx="8766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Beginn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619280"/>
            <a:ext cx="4908240" cy="12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rst developed for soldiers in WWII (1940s) to block “sunburn causing ray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-122400" y="5533920"/>
            <a:ext cx="4496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horter wavelengths (more energy) called UVC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3" name="Picture 6" descr="UVSpectrum"/>
          <p:cNvPicPr/>
          <p:nvPr/>
        </p:nvPicPr>
        <p:blipFill>
          <a:blip r:embed="rId1"/>
          <a:stretch/>
        </p:blipFill>
        <p:spPr>
          <a:xfrm>
            <a:off x="3073320" y="3592440"/>
            <a:ext cx="2475000" cy="1900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4011480" y="5533920"/>
            <a:ext cx="4273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nger wavelengths (less energy) called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4307040" y="3328920"/>
            <a:ext cx="15840" cy="441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 flipV="1">
            <a:off x="5241600" y="456084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465200" y="459900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263600" y="2919240"/>
            <a:ext cx="40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se were called UVB ray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9" name="Picture 12" descr="WWIINEw"/>
          <p:cNvPicPr/>
          <p:nvPr/>
        </p:nvPicPr>
        <p:blipFill>
          <a:blip r:embed="rId2"/>
          <a:stretch/>
        </p:blipFill>
        <p:spPr>
          <a:xfrm>
            <a:off x="5796000" y="1598760"/>
            <a:ext cx="2577960" cy="1930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3"/>
          <p:cNvSpPr/>
          <p:nvPr/>
        </p:nvSpPr>
        <p:spPr>
          <a:xfrm>
            <a:off x="5838840" y="3639960"/>
            <a:ext cx="24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WII soldier in the sun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Produc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umber of products using nanomaterials is growing very rapidl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ubling every year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othing, food and beverages, sporting goods, coatings, cosmetics, personal ca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: many use nanomateria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labeled as containing nanopartic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not label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4920" y="6435720"/>
            <a:ext cx="6126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PF Rat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2637000"/>
            <a:ext cx="45878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PF (Sunscreen Protection Factor) Numbe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easures the strength of UVB protection only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er SPF # = more protection from UVB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esn’t tell you anything about protection from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438120" y="1589040"/>
            <a:ext cx="84409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 first developed to prevent sunbur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gredients were good UVB block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9" name="Picture 9" descr="solBar30"/>
          <p:cNvPicPr/>
          <p:nvPr/>
        </p:nvPicPr>
        <p:blipFill>
          <a:blip r:embed="rId4"/>
          <a:stretch/>
        </p:blipFill>
        <p:spPr>
          <a:xfrm>
            <a:off x="6680160" y="1973160"/>
            <a:ext cx="1928880" cy="3857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olBar50"/>
          <p:cNvPicPr/>
          <p:nvPr/>
        </p:nvPicPr>
        <p:blipFill>
          <a:blip r:embed="rId5"/>
          <a:stretch/>
        </p:blipFill>
        <p:spPr>
          <a:xfrm>
            <a:off x="5265720" y="2809800"/>
            <a:ext cx="19461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UVA Proble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6749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A rays have no immediate visible effects but cause serious long term damag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nc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kin aging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working to fin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No official rating of UVA protection ye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-792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5" name="Picture 5" descr="SkinCancer"/>
          <p:cNvPicPr/>
          <p:nvPr/>
        </p:nvPicPr>
        <p:blipFill>
          <a:blip r:embed="rId1"/>
          <a:stretch/>
        </p:blipFill>
        <p:spPr>
          <a:xfrm>
            <a:off x="4826160" y="2230560"/>
            <a:ext cx="3566880" cy="2854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4921200" y="5276880"/>
            <a:ext cx="33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enty different skin cancer lesion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8" name="Picture 2" descr="va_beach2"/>
          <p:cNvPicPr/>
          <p:nvPr/>
        </p:nvPicPr>
        <p:blipFill>
          <a:blip r:embed="rId1"/>
          <a:stretch/>
        </p:blipFill>
        <p:spPr>
          <a:xfrm>
            <a:off x="1800360" y="2982960"/>
            <a:ext cx="5600520" cy="3459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1531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Tahoma"/>
              </a:rPr>
              <a:t>How do you know if your sunscreen is a good UVA blocker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Know Your Sunscreen: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ook at the Ingredien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2666880"/>
            <a:ext cx="432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otion has “in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n’t block UV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are “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ually have more than one kind presen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2060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324000" y="1658880"/>
            <a:ext cx="827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suspended in a lo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lloidal suspension”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wo kinds of active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rganic ingredients and inorganic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7" name="Picture 8" descr="SunscreenCloseUpWithKey"/>
          <p:cNvPicPr/>
          <p:nvPr/>
        </p:nvPicPr>
        <p:blipFill>
          <a:blip r:embed="rId3"/>
          <a:stretch/>
        </p:blipFill>
        <p:spPr>
          <a:xfrm>
            <a:off x="4576680" y="2298600"/>
            <a:ext cx="393552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9" name="Picture 2" descr="methoxycinnamatesolo"/>
          <p:cNvPicPr/>
          <p:nvPr/>
        </p:nvPicPr>
        <p:blipFill>
          <a:blip r:embed="rId1"/>
          <a:stretch/>
        </p:blipFill>
        <p:spPr>
          <a:xfrm>
            <a:off x="5494320" y="2308320"/>
            <a:ext cx="2800440" cy="21556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09160" y="1731960"/>
            <a:ext cx="51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= Carbon Atom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ydrogen, oxygen &amp; nitrogen atoms are also often involv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Exist as individual molecu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olecular formula determines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ypical a few to several dozen Å (&lt;10 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6597720"/>
            <a:ext cx="888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43" name="Picture 6" descr="SunscreenCloseUp"/>
          <p:cNvPicPr/>
          <p:nvPr/>
        </p:nvPicPr>
        <p:blipFill>
          <a:blip r:embed="rId2"/>
          <a:stretch/>
        </p:blipFill>
        <p:spPr>
          <a:xfrm>
            <a:off x="5605560" y="4910040"/>
            <a:ext cx="2431800" cy="1711440"/>
          </a:xfrm>
          <a:prstGeom prst="rect">
            <a:avLst/>
          </a:prstGeom>
          <a:ln w="0">
            <a:noFill/>
          </a:ln>
        </p:spPr>
      </p:pic>
      <p:sp>
        <p:nvSpPr>
          <p:cNvPr id="244" name="Oval 7"/>
          <p:cNvSpPr/>
          <p:nvPr/>
        </p:nvSpPr>
        <p:spPr>
          <a:xfrm>
            <a:off x="5156280" y="2357280"/>
            <a:ext cx="3301920" cy="25020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 flipH="1" flipV="1">
            <a:off x="5829480" y="4624560"/>
            <a:ext cx="1536480" cy="5968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7402680" y="4206960"/>
            <a:ext cx="860400" cy="1014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flipH="1">
            <a:off x="7300800" y="5108400"/>
            <a:ext cx="139680" cy="10656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8800" bIns="28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84800" y="1700280"/>
            <a:ext cx="32716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tyl methoxycinnamate  (C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6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n organic sunscreen ingredient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00" y="609120"/>
            <a:ext cx="888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9920" y="1689120"/>
            <a:ext cx="369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lectrons capture the energy from UV ray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y jump to higher energy leve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energy is released as infrared rays which are harmless (each ray is low in energy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6597720"/>
            <a:ext cx="84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53" name="Picture 5" descr="OrganicAbsorptionEmission"/>
          <p:cNvPicPr/>
          <p:nvPr/>
        </p:nvPicPr>
        <p:blipFill>
          <a:blip r:embed="rId1"/>
          <a:stretch/>
        </p:blipFill>
        <p:spPr>
          <a:xfrm>
            <a:off x="3790800" y="1557360"/>
            <a:ext cx="5203800" cy="3073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EnergyLevelOnly"/>
          <p:cNvPicPr/>
          <p:nvPr/>
        </p:nvPicPr>
        <p:blipFill>
          <a:blip r:embed="rId2"/>
          <a:stretch/>
        </p:blipFill>
        <p:spPr>
          <a:xfrm>
            <a:off x="5322960" y="4749840"/>
            <a:ext cx="2192400" cy="147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7"/>
          <p:cNvSpPr/>
          <p:nvPr/>
        </p:nvSpPr>
        <p:spPr>
          <a:xfrm>
            <a:off x="3631680" y="3819600"/>
            <a:ext cx="11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7627320" y="381960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9520" y="609120"/>
            <a:ext cx="8336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Absorption Ran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molecules only absorb UV rays whose energy matches difference between electron energy levels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kinds of molecules have different peaks and ranges of absorp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ing more than one kind of ingredient (molecule) gives broader prote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60" name="Picture 4" descr="OrganicsGraph3"/>
          <p:cNvPicPr/>
          <p:nvPr/>
        </p:nvPicPr>
        <p:blipFill>
          <a:blip r:embed="rId1"/>
          <a:stretch/>
        </p:blipFill>
        <p:spPr>
          <a:xfrm>
            <a:off x="597852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OrganicsGraph1"/>
          <p:cNvPicPr/>
          <p:nvPr/>
        </p:nvPicPr>
        <p:blipFill>
          <a:blip r:embed="rId2"/>
          <a:stretch/>
        </p:blipFill>
        <p:spPr>
          <a:xfrm>
            <a:off x="40320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OrganicsGraph2"/>
          <p:cNvPicPr/>
          <p:nvPr/>
        </p:nvPicPr>
        <p:blipFill>
          <a:blip r:embed="rId3"/>
          <a:stretch/>
        </p:blipFill>
        <p:spPr>
          <a:xfrm>
            <a:off x="3191040" y="43848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7"/>
          <p:cNvSpPr/>
          <p:nvPr/>
        </p:nvSpPr>
        <p:spPr>
          <a:xfrm>
            <a:off x="868680" y="6234120"/>
            <a:ext cx="70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e Ingredient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o Ingredients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ree Ingredient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66" name="Picture 2" descr="Avobezone"/>
          <p:cNvPicPr/>
          <p:nvPr/>
        </p:nvPicPr>
        <p:blipFill>
          <a:blip r:embed="rId1"/>
          <a:stretch/>
        </p:blipFill>
        <p:spPr>
          <a:xfrm>
            <a:off x="3602160" y="4492800"/>
            <a:ext cx="4533840" cy="2155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bsorption Range cont.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rganic ingredients that are currently used were selected because they are good UVB absorb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FDA has approved 15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are trying to develop organic ingredients that are goo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vobenzone (also known as Parasol 1789) is a new FDA approved UVA block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380880" y="1987560"/>
            <a:ext cx="8331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525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toms Involved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Zinc or Titaniu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xyge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onic attra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luster of ion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Formula unit doesn’t dictate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aries with # of ions in clust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10 nm – 300 n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11040" y="1778040"/>
            <a:ext cx="444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0" y="6426360"/>
            <a:ext cx="85852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77" name="Picture 6" descr="TiO2-Balls"/>
          <p:cNvPicPr/>
          <p:nvPr/>
        </p:nvPicPr>
        <p:blipFill>
          <a:blip r:embed="rId1"/>
          <a:stretch/>
        </p:blipFill>
        <p:spPr>
          <a:xfrm>
            <a:off x="5423040" y="3924360"/>
            <a:ext cx="2373120" cy="1663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TiO2-ball-www-cse-clrc-ac-uk"/>
          <p:cNvPicPr/>
          <p:nvPr/>
        </p:nvPicPr>
        <p:blipFill>
          <a:blip r:embed="rId2"/>
          <a:stretch/>
        </p:blipFill>
        <p:spPr>
          <a:xfrm>
            <a:off x="5203800" y="1805040"/>
            <a:ext cx="1390680" cy="1322280"/>
          </a:xfrm>
          <a:prstGeom prst="rect">
            <a:avLst/>
          </a:prstGeom>
          <a:ln w="0">
            <a:noFill/>
          </a:ln>
        </p:spPr>
      </p:pic>
      <p:sp>
        <p:nvSpPr>
          <p:cNvPr id="279" name="Oval 8"/>
          <p:cNvSpPr/>
          <p:nvPr/>
        </p:nvSpPr>
        <p:spPr>
          <a:xfrm>
            <a:off x="6045120" y="4057560"/>
            <a:ext cx="393840" cy="3938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067360" y="1619280"/>
            <a:ext cx="1676520" cy="16765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1" name="Line 10"/>
          <p:cNvSpPr/>
          <p:nvPr/>
        </p:nvSpPr>
        <p:spPr>
          <a:xfrm flipH="1" flipV="1">
            <a:off x="5283360" y="3016080"/>
            <a:ext cx="761760" cy="11685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6438960" y="2760840"/>
            <a:ext cx="257040" cy="1458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5584320" y="5945040"/>
            <a:ext cx="201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p of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751800" y="1897200"/>
            <a:ext cx="174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tail of the ions in one cluster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5889600" y="297504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Cluster Siz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 ingredients come in different cluster sizes (sometimes called “particles”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number of ions can cluster togeth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ust be a multiple of the formula uni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ZnO always has equal numbers of Zn and O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TiO</a:t>
            </a:r>
            <a:r>
              <a:rPr b="0" lang="en-US" sz="20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always has twice as many O as Ti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88" name="Picture 4" descr="TiO2-ball-www-cse-clrc-ac-uk"/>
          <p:cNvPicPr/>
          <p:nvPr/>
        </p:nvPicPr>
        <p:blipFill>
          <a:blip r:embed="rId1"/>
          <a:stretch/>
        </p:blipFill>
        <p:spPr>
          <a:xfrm>
            <a:off x="4721400" y="3956040"/>
            <a:ext cx="2573280" cy="2446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TiO2-ball-small"/>
          <p:cNvPicPr/>
          <p:nvPr/>
        </p:nvPicPr>
        <p:blipFill>
          <a:blip r:embed="rId2"/>
          <a:stretch/>
        </p:blipFill>
        <p:spPr>
          <a:xfrm>
            <a:off x="1576440" y="4267080"/>
            <a:ext cx="1608120" cy="1589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555560" y="6202440"/>
            <a:ext cx="553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100 nm TiO2 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0" y="660096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3640" y="1790280"/>
            <a:ext cx="36954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s have a different absorption mechanism than organic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bsorb consistently through whole UV range up to ~380nm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is the absorption pattern different than for organic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11040" y="5305320"/>
            <a:ext cx="752328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96" name="Picture 5" descr="InorganicsGraph"/>
          <p:cNvPicPr/>
          <p:nvPr/>
        </p:nvPicPr>
        <p:blipFill>
          <a:blip r:embed="rId1"/>
          <a:stretch/>
        </p:blipFill>
        <p:spPr>
          <a:xfrm>
            <a:off x="4079880" y="2046240"/>
            <a:ext cx="4476600" cy="3581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0" name="Picture 3" descr="sunscreen2"/>
          <p:cNvPicPr/>
          <p:nvPr/>
        </p:nvPicPr>
        <p:blipFill>
          <a:blip r:embed="rId1"/>
          <a:stretch/>
        </p:blipFill>
        <p:spPr>
          <a:xfrm>
            <a:off x="2914560" y="36910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66"/>
                </a:solidFill>
                <a:latin typeface="Tahoma"/>
              </a:rPr>
              <a:t>Appearance Matters</a:t>
            </a:r>
            <a:endParaRPr b="1" lang="en-US" sz="3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0840" y="1600200"/>
            <a:ext cx="4627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inorganic sunscreens have appear white on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ny people don’t like how this looks, so they don’t use sunscreen with inorganic ingredient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f the people who do use them, most apply too little to get full protec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0" y="6575400"/>
            <a:ext cx="854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53880" y="1677960"/>
            <a:ext cx="3149640" cy="47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Do They Appear White? 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81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ZnO and TiO</a:t>
            </a:r>
            <a:r>
              <a:rPr b="1" lang="en-US" sz="24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usters are lar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&gt; 200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arge clusters scatter visible light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400-700 nm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cattered light is reflected to our eyes, appearing whit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0" name="Picture 4" descr="Scatter"/>
          <p:cNvPicPr/>
          <p:nvPr/>
        </p:nvPicPr>
        <p:blipFill>
          <a:blip r:embed="rId1"/>
          <a:stretch/>
        </p:blipFill>
        <p:spPr>
          <a:xfrm>
            <a:off x="5089680" y="2257560"/>
            <a:ext cx="3714480" cy="3438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380880" y="1544760"/>
            <a:ext cx="833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15" name="Picture 4" descr="ManNoSunscreen"/>
          <p:cNvPicPr/>
          <p:nvPr/>
        </p:nvPicPr>
        <p:blipFill>
          <a:blip r:embed="rId1"/>
          <a:stretch/>
        </p:blipFill>
        <p:spPr>
          <a:xfrm>
            <a:off x="3060720" y="3352680"/>
            <a:ext cx="32637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Sunscreen Molecules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re Too Small to Scatter Ligh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8" name="Picture 3" descr="methoxycinnamatesolo"/>
          <p:cNvPicPr/>
          <p:nvPr/>
        </p:nvPicPr>
        <p:blipFill>
          <a:blip r:embed="rId1"/>
          <a:stretch/>
        </p:blipFill>
        <p:spPr>
          <a:xfrm>
            <a:off x="6705720" y="3544920"/>
            <a:ext cx="133200" cy="103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TiO2-ball-www-cse-clrc-ac-uk"/>
          <p:cNvPicPr/>
          <p:nvPr/>
        </p:nvPicPr>
        <p:blipFill>
          <a:blip r:embed="rId2"/>
          <a:stretch/>
        </p:blipFill>
        <p:spPr>
          <a:xfrm>
            <a:off x="598320" y="1479600"/>
            <a:ext cx="4240440" cy="40305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1454400" y="5319720"/>
            <a:ext cx="63162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thoxycinnamate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Inorganic)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Organic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Note that these images are not drawn to scale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2" name="Line 7"/>
          <p:cNvSpPr/>
          <p:nvPr/>
        </p:nvSpPr>
        <p:spPr>
          <a:xfrm flipV="1">
            <a:off x="6786720" y="3687480"/>
            <a:ext cx="0" cy="1592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aves and obstacle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go around small obstacl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scatter all around from obstacles of sizes comparable to a wavelength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ter wave (ripple tank) simulation: </a:t>
            </a:r>
            <a:r>
              <a:rPr b="1" lang="en-US" sz="2400" spc="-1" strike="noStrike" u="sng">
                <a:solidFill>
                  <a:srgbClr val="46b817"/>
                </a:solidFill>
                <a:uFillTx/>
                <a:latin typeface="Tahoma"/>
                <a:hlinkClick r:id="rId1"/>
              </a:rPr>
              <a:t>http://www.falstad.com/ripple/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29" name="Picture 4" descr="sunscreen2"/>
          <p:cNvPicPr/>
          <p:nvPr/>
        </p:nvPicPr>
        <p:blipFill>
          <a:blip r:embed="rId1"/>
          <a:stretch/>
        </p:blipFill>
        <p:spPr>
          <a:xfrm>
            <a:off x="620640" y="3649680"/>
            <a:ext cx="3264120" cy="2430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ManNoSunscreen"/>
          <p:cNvPicPr/>
          <p:nvPr/>
        </p:nvPicPr>
        <p:blipFill>
          <a:blip r:embed="rId2"/>
          <a:stretch/>
        </p:blipFill>
        <p:spPr>
          <a:xfrm>
            <a:off x="4886280" y="36496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6"/>
          <p:cNvSpPr/>
          <p:nvPr/>
        </p:nvSpPr>
        <p:spPr>
          <a:xfrm>
            <a:off x="3951360" y="4695840"/>
            <a:ext cx="900000" cy="4478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81040"/>
            <a:ext cx="8480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sized Inorganic Clust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0" y="6597720"/>
            <a:ext cx="836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222120" y="1652760"/>
            <a:ext cx="812484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ke the clusters smaller (100 nm or less) and they won’t scatter visible 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74600" y="3262320"/>
            <a:ext cx="46623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37" name="Picture 6" descr="ScatteringComparison"/>
          <p:cNvPicPr/>
          <p:nvPr/>
        </p:nvPicPr>
        <p:blipFill>
          <a:blip r:embed="rId1"/>
          <a:stretch/>
        </p:blipFill>
        <p:spPr>
          <a:xfrm>
            <a:off x="1914480" y="3354480"/>
            <a:ext cx="50547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Use Sunscree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06240" y="1612800"/>
            <a:ext cx="627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o much unprotected sun exposure leads to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emature skin aging (e.g. wrinkle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burn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12600" y="6591240"/>
            <a:ext cx="881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2" name="Picture 9" descr="skin pic sunburn"/>
          <p:cNvPicPr/>
          <p:nvPr/>
        </p:nvPicPr>
        <p:blipFill>
          <a:blip r:embed="rId1"/>
          <a:stretch/>
        </p:blipFill>
        <p:spPr>
          <a:xfrm>
            <a:off x="279360" y="1471680"/>
            <a:ext cx="1806480" cy="495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georgehamilton"/>
          <p:cNvPicPr/>
          <p:nvPr/>
        </p:nvPicPr>
        <p:blipFill>
          <a:blip r:embed="rId2"/>
          <a:stretch/>
        </p:blipFill>
        <p:spPr>
          <a:xfrm>
            <a:off x="5162400" y="3608280"/>
            <a:ext cx="2222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Nano-Sunscreen Appears Clear</a:t>
            </a:r>
            <a:endParaRPr b="1" lang="en-US" sz="36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4600" y="1778040"/>
            <a:ext cx="457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4332240" y="1900080"/>
            <a:ext cx="4443120" cy="3844800"/>
            <a:chOff x="4332240" y="1900080"/>
            <a:chExt cx="4443120" cy="3844800"/>
          </a:xfrm>
        </p:grpSpPr>
        <p:pic>
          <p:nvPicPr>
            <p:cNvPr id="343" name="Picture 6" descr="HalfFaceFromBarberSlide"/>
            <p:cNvPicPr/>
            <p:nvPr/>
          </p:nvPicPr>
          <p:blipFill>
            <a:blip r:embed="rId1"/>
            <a:stretch/>
          </p:blipFill>
          <p:spPr>
            <a:xfrm>
              <a:off x="4870080" y="2496240"/>
              <a:ext cx="3435480" cy="324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7"/>
            <p:cNvSpPr/>
            <p:nvPr/>
          </p:nvSpPr>
          <p:spPr>
            <a:xfrm>
              <a:off x="4332240" y="1900080"/>
              <a:ext cx="160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anosized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5" name="Text Box 8"/>
            <p:cNvSpPr/>
            <p:nvPr/>
          </p:nvSpPr>
          <p:spPr>
            <a:xfrm>
              <a:off x="7290720" y="1900080"/>
              <a:ext cx="148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rge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5179680" y="2526120"/>
              <a:ext cx="835200" cy="995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 flipH="1">
              <a:off x="7126560" y="2500200"/>
              <a:ext cx="869040" cy="103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pic>
        <p:nvPicPr>
          <p:cNvPr id="348" name="Picture 11" descr="SunscreenNano"/>
          <p:cNvPicPr/>
          <p:nvPr/>
        </p:nvPicPr>
        <p:blipFill>
          <a:blip r:embed="rId2"/>
          <a:stretch/>
        </p:blipFill>
        <p:spPr>
          <a:xfrm>
            <a:off x="633240" y="2546280"/>
            <a:ext cx="363888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et’s Look at Some Real Data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2160" y="1665360"/>
            <a:ext cx="81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ree sunscreens were tested for scattering with different wavelengths of ligh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nanosized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traditional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n you answer these three questions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ich one is which and how do you know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ill each one appear white or clear on your ski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at size (approximately) are the clusters in each sunscree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ight Scattering by Three Sunscree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501480" y="1479600"/>
          <a:ext cx="7583760" cy="53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479600"/>
                    <a:ext cx="758376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 Summary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anoparticle sunscreen ingredients are small inorganic clusters that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Provide good UV protection by absorbing both UVB and UVA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ppear clear on our skin because they are too small to scatter visible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59" name="Picture 4" descr="PoolGirl"/>
          <p:cNvPicPr/>
          <p:nvPr/>
        </p:nvPicPr>
        <p:blipFill>
          <a:blip r:embed="rId1"/>
          <a:stretch/>
        </p:blipFill>
        <p:spPr>
          <a:xfrm>
            <a:off x="3309840" y="4146480"/>
            <a:ext cx="2357640" cy="23576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Essential Questions: Time for Answ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5" name="Picture 11" descr="TanningBooth"/>
          <p:cNvPicPr/>
          <p:nvPr/>
        </p:nvPicPr>
        <p:blipFill>
          <a:blip r:embed="rId1"/>
          <a:stretch/>
        </p:blipFill>
        <p:spPr>
          <a:xfrm>
            <a:off x="5362560" y="4714920"/>
            <a:ext cx="283860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ancerRatesGraphOnly"/>
          <p:cNvPicPr/>
          <p:nvPr/>
        </p:nvPicPr>
        <p:blipFill>
          <a:blip r:embed="rId2"/>
          <a:stretch/>
        </p:blipFill>
        <p:spPr>
          <a:xfrm>
            <a:off x="503280" y="1589040"/>
            <a:ext cx="352728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226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Cancer Rates are Rising Fas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31960" y="1620360"/>
            <a:ext cx="3755880" cy="29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s ~50% of all cancer cas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as &gt; 1 million cases diagnosed each yea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uses 1 person to die every hou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43080" y="1549440"/>
            <a:ext cx="381924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obability of getting skin cancer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1930 : 1 in 5,000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04 : 1 in 65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50 : 1 in 10…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96880" y="657864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96880" y="4673520"/>
            <a:ext cx="779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uses of the increase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ecrease ozone prot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time in the su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use of tanning bed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-63360" y="640080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are sun rays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574280"/>
            <a:ext cx="795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un emits several kinds of electromagnetic radiation: Visible (Vis), Infrared (IR) and Ultra Violet (UV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ach kind is distinguished by a characteristic wavelength, frequency and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er energy radiation can damage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16" name="Picture 6" descr="SunEMSpectrumNoNums"/>
          <p:cNvPicPr/>
          <p:nvPr/>
        </p:nvPicPr>
        <p:blipFill>
          <a:blip r:embed="rId1"/>
          <a:stretch/>
        </p:blipFill>
        <p:spPr>
          <a:xfrm>
            <a:off x="2533680" y="2797200"/>
            <a:ext cx="4257720" cy="2157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127960" y="491328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20" name="Picture 5" descr="0304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Full Electromagnetic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isible, Infrared and UV radiation are only part of the full spectrum of electromagnetic radia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24" name="Picture 3" descr="EMspectrum"/>
          <p:cNvPicPr/>
          <p:nvPr/>
        </p:nvPicPr>
        <p:blipFill>
          <a:blip r:embed="rId1"/>
          <a:stretch/>
        </p:blipFill>
        <p:spPr>
          <a:xfrm>
            <a:off x="635040" y="2511360"/>
            <a:ext cx="7391520" cy="4876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4360" y="6570720"/>
            <a:ext cx="62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Дата 5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un’s Radiation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87800" y="2435040"/>
            <a:ext cx="379728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3% is in the visible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9% is in the near infrared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7% is in the ultraviolet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&lt; 1% is x-rays, gamma waves, and radio wav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639880" y="4900680"/>
            <a:ext cx="490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9360" y="1658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f the sun’s radiation is UV, Vis &amp; IR : 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2" name="Picture 7" descr="SunEMSpectrumModifiedAll"/>
          <p:cNvPicPr/>
          <p:nvPr/>
        </p:nvPicPr>
        <p:blipFill>
          <a:blip r:embed="rId1"/>
          <a:stretch/>
        </p:blipFill>
        <p:spPr>
          <a:xfrm>
            <a:off x="349200" y="2425680"/>
            <a:ext cx="4584600" cy="34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21:29:49Z</dcterms:created>
  <dc:creator>lptheis</dc:creator>
  <dc:description/>
  <dc:language>en-US</dc:language>
  <cp:lastModifiedBy>LEGION</cp:lastModifiedBy>
  <cp:lastPrinted>2006-06-27T22:36:16Z</cp:lastPrinted>
  <dcterms:modified xsi:type="dcterms:W3CDTF">2018-03-12T09:31:25Z</dcterms:modified>
  <cp:revision>56</cp:revision>
  <dc:subject/>
  <dc:title>Slide 1</dc:title>
</cp:coreProperties>
</file>