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DA2D-88C4-46DE-BEDD-AD7B6373575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eyeball is like a simple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 outer walls, hard, like a light-tight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 and crystalline lens (eyelens): the two le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at the back of eyeball, like th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 like diaphragms or stop in a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 camera aper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lid: lens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eyeball is like a simple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 outer walls, hard, like a light-tight bo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nea and crystalline lens (eyelens): the two lens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at the back of eyeball, like th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like diaphragms or stop in 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camera aper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lid: lens co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an area of 5 cm2. A baseball a mile away gives an image covering on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for more precise vision, need strong light. help to see colors. Mostly distributed in the center of the retina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or peripheral and night vision. Sensitive to light. Mostly distributed away from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an area of 5 cm2. A baseball a mile away gives an image covering one c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for more precise vision, need strong light. help to see colors. Mostly distributed in the center of the retina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or peripheral and night vision. Sensitive to light. Mostly distributed away from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low, fine grain, like color fi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igh level of light (photopic conditio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nsity, high re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ast, coarse grain, black &amp; whit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level of light (scotopic condition,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or is obv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Changing of retina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slow, fine grain, like color fil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igh level of light (photopic condition,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high res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ast, coarse grain, black &amp; whit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evel of light (scotopic condition, at n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 is obvi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Changing of retina sensi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e the signal through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is a seven-layered structure involved in signal trans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enters from the GCL side first, and must penetrate all cell types before reaching the 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er segments of the rods and cones transduce the light and send the signal through the cell bodies of the ONL and out to their axo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 the signal through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ina is a seven-layered structure involved in signal transdu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nters from the GCL side first, and must penetrate all cell types before reaching the 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segments of the rods and cones transduce the light and send the signal through the cell bodies of the ONL and out to their ax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PL photoreceptor axons contact the dendrites of bipolar cells and horizontal cells. Horizontal cells are interneurons which aid in sign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polar cells in the INL process input from photoreceptors and horizontal cells, and transmit the signal to their ax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polar cells in the INL process input from photoreceptors and horizontal cells, and transmit the signal to their ax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IPL, bipolar axons contact ganglion cell dendrites and amacrine cells, another class of interneu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PL, bipolar axons contact ganglion cell dendrites and amacrine cells, another class of interneu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v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ncy: it takes a bit time for the cells in retina to respond to a flash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ce of response: the response does not stop at the instant the flash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second at low intensity, 1/50 second at high int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istence allows as to see moving things clea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it takes a bit time for the cells in retina to respond to a flash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stence of response: the response does not stop at the instant the flash sto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second at low intensity, 1/50 second at high int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stence allows as to see moving things clear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non-transparent tissue surrounding the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non-transparent tissue surrounding the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eous humor and Vitreous hum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inhabits is called the anterior cha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treous Humor is the clear liquid between the lens and the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fills is called the vitreous bo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humor and Vitreous hum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inhabits is called the anterior chamb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treous Humor is the clear liquid between the lens and the retin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fills is called the vitreous bo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nourishment to the eyelens and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not use the blood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block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for surgical trans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the shape of the eye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nourishment to the eyelens and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not use the blood vess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lock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surgical transpl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he shape of the eye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nea and eyelens form a compound lens system, producing a real inverted image on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ir to cornea (n=1.376): large bending, the main foc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nea to eyelens (n=1.406), less focusing power. (Eyelens can develop white cloudiness when getting old: Catar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has a limited depth of field. We cannot see things close and far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nea and eyelens form a compound lens system, producing a real inverted image on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ir to cornea (n=1.376): large bending, the main focu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cornea to eyelens (n=1.406), less focusing power. (Eyelens can develop white cloudiness when getting old: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has a limited depth of field. We cannot see things close and far at the sa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mmo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s relax, long focal length, see objects far way;  Muscles tense, short focal length see objects cl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eyes can see 25cm to infinity, however, if the cornea bulges too much or too little. The accommodation does not help. (myopia or 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relax, long focal length, see objects far way;  Muscles tense, short focal length see objects c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eyes can see 25cm to infinity, however, if the cornea bulges too much or too little. The accommodation does not help. (myopia or hypero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full open, it is about f/2 and f/3. This happens at low light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iris has a small opening, it can cut down the light intensity by a factor of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main function of stopping down the iris is to increase the depth of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full open, it is about f/2 and f/3. This happens at low light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ris has a small opening, it can cut down the light intensity by a factor of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main function of stopping down the iris is to increase the depth of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sensitive layer is made of photo-receptors: rods (120 millions) and cones (7 millions) which absorb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xiform Layer: nerve cells that process the signals generated by rods and cones and relay them to the optic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oid: carries mayor blood vessels to nourish the retina and absorb the light so that it will not be reflected back (dark pup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ensitive layer is made of photo-receptors: rods (120 millions) and cones (7 millions) which absorb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xiform Layer: nerve cells that process the signals generated by rods and cones and relay them to the optical ne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oid: carries mayor blood vessels to nourish the retina and absorb the light so that it will not be reflected back (dark pup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C7EF6-DA27-470A-8EEB-FD5D34BEE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B1344-10F0-4855-919D-E63F83B7E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D1181-1ECF-4E45-9A07-416143574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D4112-9E3F-41B9-B12F-6E42A4016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63F0F-5D34-4529-8619-DA7E23236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603C8-3DE0-4BB0-BE3C-E972CAB8C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415D3-F338-4BDE-AA70-5E4D35136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2E62A-8F7C-4545-8966-1395E6A0C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74AAF-C7D9-4A81-8006-F54270638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5584F-085D-4ACC-98A1-3AFD1BC65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BA9EF-71ED-4552-85DA-61E9FA706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055E0-D098-4630-A0E2-3A736D245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19504-6803-4E7B-9E6D-463299C46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F5FAC-1424-4F16-8CA3-8BCD55D45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B41AD-D999-4AC0-A33A-13A717A83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5445C-2F14-45AC-A703-83E1344A0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A0CDE-FFA1-489A-BCE3-80CDE6F1E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5F271-3FDC-40F7-92A8-278D8F37D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809A9-BC13-4B06-B23A-9528A53F7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FAD7E-8D29-49A9-85DA-992A2A206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4B42-32FE-4A79-8246-03EC2A65E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79AE9-8B24-4099-9070-59A5E7A52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5A2A-BDB8-4F64-84B1-AA902831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F023-AB21-4E49-B29E-F1AD513A3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CE95-D763-4627-BA6E-4B8ED18E5BE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D246-32CD-4FEF-A0BC-9BAECC83F21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
        <p:nvSpPr>
          <p:cNvPr id="1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Mittman"/>
          <p:cNvPicPr/>
          <p:nvPr/>
        </p:nvPicPr>
        <p:blipFill>
          <a:blip r:embed="rId1"/>
          <a:stretch/>
        </p:blipFill>
        <p:spPr>
          <a:xfrm>
            <a:off x="2057400" y="1219320"/>
            <a:ext cx="4616280" cy="4356000"/>
          </a:xfrm>
          <a:prstGeom prst="rect">
            <a:avLst/>
          </a:prstGeom>
          <a:ln w="0">
            <a:noFill/>
          </a:ln>
        </p:spPr>
      </p:pic>
      <p:sp>
        <p:nvSpPr>
          <p:cNvPr id="13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35"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rcdist"/>
          <p:cNvPicPr/>
          <p:nvPr/>
        </p:nvPicPr>
        <p:blipFill>
          <a:blip r:embed="rId1"/>
          <a:stretch/>
        </p:blipFill>
        <p:spPr>
          <a:xfrm>
            <a:off x="457200" y="1413000"/>
            <a:ext cx="8229600" cy="4484520"/>
          </a:xfrm>
          <a:prstGeom prst="rect">
            <a:avLst/>
          </a:prstGeom>
          <a:ln w="0">
            <a:noFill/>
          </a:ln>
        </p:spPr>
      </p:pic>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4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50"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
        <p:nvSpPr>
          <p:cNvPr id="1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3" descr="eye1"/>
          <p:cNvPicPr/>
          <p:nvPr/>
        </p:nvPicPr>
        <p:blipFill>
          <a:blip r:embed="rId1"/>
          <a:stretch/>
        </p:blipFill>
        <p:spPr>
          <a:xfrm>
            <a:off x="757080" y="990720"/>
            <a:ext cx="7701120" cy="4770360"/>
          </a:xfrm>
          <a:prstGeom prst="rect">
            <a:avLst/>
          </a:prstGeom>
          <a:ln w="0">
            <a:noFill/>
          </a:ln>
        </p:spPr>
      </p:pic>
      <p:sp>
        <p:nvSpPr>
          <p:cNvPr id="108"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9"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13"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3" descr="eye1"/>
          <p:cNvPicPr/>
          <p:nvPr/>
        </p:nvPicPr>
        <p:blipFill>
          <a:blip r:embed="rId1"/>
          <a:stretch/>
        </p:blipFill>
        <p:spPr>
          <a:xfrm>
            <a:off x="2438280" y="4572000"/>
            <a:ext cx="2291040" cy="1419120"/>
          </a:xfrm>
          <a:prstGeom prst="rect">
            <a:avLst/>
          </a:prstGeom>
          <a:ln w="0">
            <a:noFill/>
          </a:ln>
        </p:spPr>
      </p:pic>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19"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2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28"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ye3"/>
          <p:cNvPicPr/>
          <p:nvPr/>
        </p:nvPicPr>
        <p:blipFill>
          <a:blip r:embed="rId1"/>
          <a:stretch/>
        </p:blipFill>
        <p:spPr>
          <a:xfrm>
            <a:off x="228600" y="631800"/>
            <a:ext cx="8610480" cy="6149880"/>
          </a:xfrm>
          <a:prstGeom prst="rect">
            <a:avLst/>
          </a:prstGeom>
          <a:ln w="0">
            <a:noFill/>
          </a:ln>
        </p:spPr>
      </p:pic>
      <p:sp>
        <p:nvSpPr>
          <p:cNvPr id="13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LEGION</cp:lastModifiedBy>
  <dcterms:modified xsi:type="dcterms:W3CDTF">2018-03-12T09:24:00Z</dcterms:modified>
  <cp:revision>17</cp:revision>
  <dc:subject/>
  <dc:title>PowerPoint Presentation</dc:title>
</cp:coreProperties>
</file>