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124-5B5C-4471-B6A0-6B68483D94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in triangular 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media, refractive index varies with wavelength. This gives the familiar rainbow spectrum with white light in glass or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chromatic aber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ternal reflection (TI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 inc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lass/acrylic, this is 42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diamond, it is 24 - light will make many internal reflections before leaving, creating the “fire” in the diamon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 rotation of the image, without inve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Corner refl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on: TIR sphe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and refracted ray angles are , 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ay to hit the centerline,  = 2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 = sin  /sin 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mall angles,  =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fronts and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ive she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-reflector 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personal displ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: Artificial backgr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ance to this point is the focal length of the le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are two focal points f1 , f2 (sometimes called conjugates), then they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lens consists of spherical surfaces with radii r1 and r2, then the focal length satisfi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1/f = ( - 1) (1/r1 - 1/r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abe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N = R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(N  R)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-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bertian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relative to the light source but not the vie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al to I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wave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dielectric me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 &gt;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Snell’s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ion – ray re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D55-E748-417C-BAB4-69EF9F0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547-AEA7-43D7-884C-AA6AD40D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2EB-F4AC-4187-BE9A-8E4DEBC3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E75-7438-42DD-B56E-01AC00DD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73C-799B-411B-94DC-CBC0799D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101-A92B-4B4E-9B23-64EA966A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AA2-81AE-465E-BCBD-1BCE2C07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E45-A4CA-4F22-B7E2-FABE4B9F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6367-2574-4AFD-9F7F-EC76ABB4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E7AB-A4CB-45FA-B721-C126B701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03C-9C55-43C2-97C2-A822090F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F71-E7BF-45B3-A64C-38F8B2B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48bc0"/>
            </a:gs>
            <a:gs pos="50000">
              <a:srgbClr val="c3b7fd"/>
            </a:gs>
            <a:gs pos="100000">
              <a:srgbClr val="948bc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15FB-CA63-4DC4-A9A8-F0B43470C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c3b7f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ti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,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o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-ref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in triangular 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media, refractive index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es with wave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is gives the familiar rainbow spectrum with white light in glass or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rism"/>
          <p:cNvPicPr/>
          <p:nvPr/>
        </p:nvPicPr>
        <p:blipFill>
          <a:blip r:embed="rId1"/>
          <a:srcRect l="0" t="0" r="3983" b="6374"/>
          <a:stretch/>
        </p:blipFill>
        <p:spPr>
          <a:xfrm>
            <a:off x="2097000" y="3203640"/>
            <a:ext cx="5399280" cy="3036960"/>
          </a:xfrm>
          <a:prstGeom prst="rect">
            <a:avLst/>
          </a:prstGeom>
          <a:ln w="0">
            <a:noFill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as a function of wavelength for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glass                    and               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RI-Comparisons"/>
          <p:cNvPicPr/>
          <p:nvPr/>
        </p:nvPicPr>
        <p:blipFill>
          <a:blip r:embed="rId1"/>
          <a:stretch/>
        </p:blipFill>
        <p:spPr>
          <a:xfrm>
            <a:off x="4946760" y="3503520"/>
            <a:ext cx="4011480" cy="2909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5-2"/>
          <p:cNvPicPr/>
          <p:nvPr/>
        </p:nvPicPr>
        <p:blipFill>
          <a:blip r:embed="rId2"/>
          <a:stretch/>
        </p:blipFill>
        <p:spPr>
          <a:xfrm>
            <a:off x="560520" y="3503520"/>
            <a:ext cx="3973320" cy="2928960"/>
          </a:xfrm>
          <a:prstGeom prst="rect">
            <a:avLst/>
          </a:prstGeom>
          <a:ln w="0">
            <a:noFill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7360" y="1554120"/>
            <a:ext cx="817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optical glass is engineered to have a constant refractive index across the visible spectr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re still possible. Such devi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romatic aber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i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approximately 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glass and acrylic plastic is about 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carbonate is about 1.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optical plastic index is 1.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muth glass is ov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 is 2.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ternal 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 refractive index drop, there is an angle beyond which ray exit is im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u14l3b2"/>
          <p:cNvPicPr/>
          <p:nvPr/>
        </p:nvPicPr>
        <p:blipFill>
          <a:blip r:embed="rId1"/>
          <a:stretch/>
        </p:blipFill>
        <p:spPr>
          <a:xfrm>
            <a:off x="1835280" y="2641680"/>
            <a:ext cx="5248080" cy="38988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tal internal reflection (TI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angle is where the refracted ray would have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l reflection angle is therefo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glass/acrylic, this is 4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amond, it is 2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light will make many internal reflections before leaving, creating the “fire” in the diamo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2735280" y="3166920"/>
                <a:ext cx="29098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nta-pris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ta-prisms are used in SLR cameras to rotate an image without inverting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equivalent to two conventional mirrors, and cause a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image, without in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ven number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 produce a non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ted rotated imag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obj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PentaPrism"/>
          <p:cNvPicPr/>
          <p:nvPr/>
        </p:nvPicPr>
        <p:blipFill>
          <a:blip r:embed="rId1"/>
          <a:stretch/>
        </p:blipFill>
        <p:spPr>
          <a:xfrm>
            <a:off x="5172120" y="3578400"/>
            <a:ext cx="2914560" cy="283824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D, two mirrors at right angles will retro-reflect light rays, i.e. send them back in the direction they came fr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orneref"/>
          <p:cNvPicPr/>
          <p:nvPr/>
        </p:nvPicPr>
        <p:blipFill>
          <a:blip r:embed="rId1"/>
          <a:srcRect l="0" t="8651" r="0" b="16788"/>
          <a:stretch/>
        </p:blipFill>
        <p:spPr>
          <a:xfrm>
            <a:off x="1085760" y="3054240"/>
            <a:ext cx="7012080" cy="3506760"/>
          </a:xfrm>
          <a:prstGeom prst="rect">
            <a:avLst/>
          </a:prstGeom>
          <a:ln w="0">
            <a:noFill/>
          </a:ln>
        </p:spPr>
      </p:pic>
      <p:sp>
        <p:nvSpPr>
          <p:cNvPr id="11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Corner reflecto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3D, you need 3 mirrors to do th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: each mirror inverts one of X,Y,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coriverc"/>
          <p:cNvPicPr/>
          <p:nvPr/>
        </p:nvPicPr>
        <p:blipFill>
          <a:blip r:embed="rId1"/>
          <a:srcRect l="1523" t="1185" r="2730" b="53580"/>
          <a:stretch/>
        </p:blipFill>
        <p:spPr>
          <a:xfrm>
            <a:off x="1722600" y="2228760"/>
            <a:ext cx="5062320" cy="292752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on: TIR sphe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 sphere and an incoming r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and refracted ray angles a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ray to hit the centerline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tro-reflection, w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s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angle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good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4309920" y="3392640"/>
            <a:ext cx="3673440" cy="2998800"/>
            <a:chOff x="4309920" y="3392640"/>
            <a:chExt cx="3673440" cy="2998800"/>
          </a:xfrm>
        </p:grpSpPr>
        <p:sp>
          <p:nvSpPr>
            <p:cNvPr id="124" name="Oval 6"/>
            <p:cNvSpPr/>
            <p:nvPr/>
          </p:nvSpPr>
          <p:spPr>
            <a:xfrm>
              <a:off x="4309920" y="4479840"/>
              <a:ext cx="1911600" cy="1911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 flipV="1">
              <a:off x="4497480" y="3615840"/>
              <a:ext cx="3485880" cy="2325960"/>
            </a:xfrm>
            <a:prstGeom prst="line">
              <a:avLst/>
            </a:prstGeom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H="1">
              <a:off x="4460760" y="4479840"/>
              <a:ext cx="749520" cy="14623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0"/>
            <p:cNvSpPr/>
            <p:nvPr/>
          </p:nvSpPr>
          <p:spPr>
            <a:xfrm flipH="1">
              <a:off x="5246640" y="3392640"/>
              <a:ext cx="1611360" cy="10508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5246640" y="3578400"/>
              <a:ext cx="0" cy="187452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3"/>
            <p:cNvSpPr/>
            <p:nvPr/>
          </p:nvSpPr>
          <p:spPr>
            <a:xfrm>
              <a:off x="5212080" y="3914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4"/>
            <p:cNvSpPr/>
            <p:nvPr/>
          </p:nvSpPr>
          <p:spPr>
            <a:xfrm>
              <a:off x="4986360" y="4591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5"/>
            <p:cNvSpPr/>
            <p:nvPr/>
          </p:nvSpPr>
          <p:spPr>
            <a:xfrm>
              <a:off x="4647960" y="5376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6"/>
            <p:cNvSpPr/>
            <p:nvPr/>
          </p:nvSpPr>
          <p:spPr>
            <a:xfrm>
              <a:off x="5221440" y="49658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5059440" y="4290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5059440" y="4290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V="1">
              <a:off x="4459320" y="5753160"/>
              <a:ext cx="1687320" cy="22392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V="1">
              <a:off x="6184800" y="4740120"/>
              <a:ext cx="1575000" cy="10130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avefronts and R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1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 waves propagate normal to the wavefront surface, and vice-ver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y description is most useful for describing the geometry of im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dviewwavefronts"/>
          <p:cNvPicPr/>
          <p:nvPr/>
        </p:nvPicPr>
        <p:blipFill>
          <a:blip r:embed="rId1"/>
          <a:stretch/>
        </p:blipFill>
        <p:spPr>
          <a:xfrm>
            <a:off x="635040" y="3916440"/>
            <a:ext cx="4086360" cy="2403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dplanewaves"/>
          <p:cNvPicPr/>
          <p:nvPr/>
        </p:nvPicPr>
        <p:blipFill>
          <a:blip r:embed="rId2"/>
          <a:stretch/>
        </p:blipFill>
        <p:spPr>
          <a:xfrm>
            <a:off x="4946760" y="3916440"/>
            <a:ext cx="3711600" cy="238608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ive shee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retro-reflective tapes are available that use tiny corner reflectors or spheres embedded in clear plastic (3M Scotchl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me in many colors, including bla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1-inch_sew-on"/>
          <p:cNvPicPr/>
          <p:nvPr/>
        </p:nvPicPr>
        <p:blipFill>
          <a:blip r:embed="rId1"/>
          <a:stretch/>
        </p:blipFill>
        <p:spPr>
          <a:xfrm>
            <a:off x="2135160" y="3616200"/>
            <a:ext cx="4799160" cy="23497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tro-reflector ga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tro-reflection response of a screen is normally rated in terms of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= ratio of peak reflected light energy to the energy reflected by a Lambertian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s may be 1000 or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source only needs 1/1000 of the light energy to illuminate the screen, as long as the viewer is close enough to the sour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personal display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has a personal projector (e.g. a PDA with a single lens in front of it), and projects on the same retro-reflectiv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5"/>
          <p:cNvGrpSpPr/>
          <p:nvPr/>
        </p:nvGrpSpPr>
        <p:grpSpPr>
          <a:xfrm>
            <a:off x="3034800" y="3090960"/>
            <a:ext cx="2675160" cy="3187440"/>
            <a:chOff x="3034800" y="3090960"/>
            <a:chExt cx="2675160" cy="3187440"/>
          </a:xfrm>
        </p:grpSpPr>
        <p:sp>
          <p:nvSpPr>
            <p:cNvPr id="148" name="AutoShape 6"/>
            <p:cNvSpPr/>
            <p:nvPr/>
          </p:nvSpPr>
          <p:spPr>
            <a:xfrm>
              <a:off x="3035160" y="3090960"/>
              <a:ext cx="2648160" cy="31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"/>
            <p:cNvSpPr/>
            <p:nvPr/>
          </p:nvSpPr>
          <p:spPr>
            <a:xfrm rot="5400000">
              <a:off x="3985920" y="4581360"/>
              <a:ext cx="3187440" cy="206280"/>
            </a:xfrm>
            <a:custGeom>
              <a:avLst/>
              <a:gdLst>
                <a:gd name="textAreaLeft" fmla="*/ 663840 w 3187440"/>
                <a:gd name="textAreaRight" fmla="*/ 2523600 w 3187440"/>
                <a:gd name="textAreaTop" fmla="*/ 43200 h 206280"/>
                <a:gd name="textAreaBottom" fmla="*/ 16380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8"/>
            <p:cNvSpPr/>
            <p:nvPr/>
          </p:nvSpPr>
          <p:spPr>
            <a:xfrm rot="5400000">
              <a:off x="4083840" y="3636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4377600" y="4684680"/>
              <a:ext cx="922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>
              <a:off x="3957840" y="451692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034800" y="4349160"/>
              <a:ext cx="671040" cy="670680"/>
              <a:chOff x="3034800" y="4349160"/>
              <a:chExt cx="671040" cy="670680"/>
            </a:xfrm>
          </p:grpSpPr>
          <p:sp>
            <p:nvSpPr>
              <p:cNvPr id="154" name="Oval 12"/>
              <p:cNvSpPr/>
              <p:nvPr/>
            </p:nvSpPr>
            <p:spPr>
              <a:xfrm flipH="1">
                <a:off x="3034440" y="4349160"/>
                <a:ext cx="670680" cy="6706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 flipH="1">
                <a:off x="3482280" y="4404960"/>
                <a:ext cx="223200" cy="279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4"/>
              <p:cNvSpPr/>
              <p:nvPr/>
            </p:nvSpPr>
            <p:spPr>
              <a:xfrm flipH="1">
                <a:off x="3482280" y="4684320"/>
                <a:ext cx="223200" cy="279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5"/>
              <p:cNvSpPr/>
              <p:nvPr/>
            </p:nvSpPr>
            <p:spPr>
              <a:xfrm flipH="1">
                <a:off x="3571200" y="4460760"/>
                <a:ext cx="134640" cy="16740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"/>
              <p:cNvSpPr/>
              <p:nvPr/>
            </p:nvSpPr>
            <p:spPr>
              <a:xfrm flipH="1">
                <a:off x="3571200" y="4740120"/>
                <a:ext cx="134640" cy="16776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AutoShape 17"/>
            <p:cNvSpPr/>
            <p:nvPr/>
          </p:nvSpPr>
          <p:spPr>
            <a:xfrm rot="3712200">
              <a:off x="4167720" y="413892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 flipV="1">
              <a:off x="4475880" y="481212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 rot="19912200">
              <a:off x="4080600" y="5177160"/>
              <a:ext cx="419040" cy="3351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0"/>
            <p:cNvSpPr/>
            <p:nvPr/>
          </p:nvSpPr>
          <p:spPr>
            <a:xfrm flipV="1" rot="17887800">
              <a:off x="4167720" y="3132000"/>
              <a:ext cx="838800" cy="2097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lin ang="1686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4475880" y="4121280"/>
              <a:ext cx="813960" cy="43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V="1" rot="1687800">
              <a:off x="4080240" y="3853800"/>
              <a:ext cx="419400" cy="3355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Нижний колонтитул 2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plication: Artificial background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or and camera along same optical axis, project scene onto actors and retro-reflective backgr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eras sees background only on screen, not on the actors (3M received technical academy award for this in 1985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vex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fractive disk with one or two convex spherical surfaces converges parallel light rays almost to a poi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to this point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cal leng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lens-convex"/>
          <p:cNvPicPr/>
          <p:nvPr/>
        </p:nvPicPr>
        <p:blipFill>
          <a:blip r:embed="rId1"/>
          <a:stretch/>
        </p:blipFill>
        <p:spPr>
          <a:xfrm>
            <a:off x="3110040" y="3503520"/>
            <a:ext cx="5511600" cy="3048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ght comes from a point source that is further away than the focal length, it will focus to another point on the other s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focus"/>
          <p:cNvPicPr/>
          <p:nvPr/>
        </p:nvPicPr>
        <p:blipFill>
          <a:blip r:embed="rId1"/>
          <a:srcRect l="0" t="0" r="0" b="29783"/>
          <a:stretch/>
        </p:blipFill>
        <p:spPr>
          <a:xfrm>
            <a:off x="2509920" y="2979720"/>
            <a:ext cx="4386240" cy="3611520"/>
          </a:xfrm>
          <a:prstGeom prst="rect">
            <a:avLst/>
          </a:prstGeom>
          <a:ln w="0">
            <a:noFill/>
          </a:ln>
        </p:spPr>
      </p:pic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are two focal points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,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ometimes called conjugates), then they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6"/>
              <p:cNvSpPr txBox="1"/>
              <p:nvPr/>
            </p:nvSpPr>
            <p:spPr>
              <a:xfrm>
                <a:off x="3222720" y="2941560"/>
                <a:ext cx="236196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Lens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lens consists of spherical surfaces with radi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the focal length satisfie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1/f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) (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1/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 lenses cannot achieve perfect focus, and always have some aber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image001"/>
          <p:cNvPicPr/>
          <p:nvPr/>
        </p:nvPicPr>
        <p:blipFill>
          <a:blip r:embed="rId1"/>
          <a:stretch/>
        </p:blipFill>
        <p:spPr>
          <a:xfrm>
            <a:off x="1947960" y="29415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pherical aberr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93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und lenses, comprising convex, concave or hybrid elements, are used to minimize aber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001"/>
          <p:cNvPicPr/>
          <p:nvPr/>
        </p:nvPicPr>
        <p:blipFill>
          <a:blip r:embed="rId1"/>
          <a:stretch/>
        </p:blipFill>
        <p:spPr>
          <a:xfrm>
            <a:off x="1947960" y="3090960"/>
            <a:ext cx="5510160" cy="333540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etals are excellent conduct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duce the E field to zero at the surface, causing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, R, N unit ve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R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teces_012"/>
          <p:cNvPicPr/>
          <p:nvPr/>
        </p:nvPicPr>
        <p:blipFill>
          <a:blip r:embed="rId1"/>
          <a:srcRect l="46142" t="0" r="0" b="0"/>
          <a:stretch/>
        </p:blipFill>
        <p:spPr>
          <a:xfrm>
            <a:off x="5321160" y="3654360"/>
            <a:ext cx="2847960" cy="2849760"/>
          </a:xfrm>
          <a:prstGeom prst="rect">
            <a:avLst/>
          </a:prstGeom>
          <a:ln w="0">
            <a:noFill/>
          </a:ln>
        </p:spPr>
      </p:pic>
      <p:sp>
        <p:nvSpPr>
          <p:cNvPr id="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ay-trac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racing rays back from the viewer, we can estimate what a reflected object would look like. Follow at least two rays at extremes of the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Image1308"/>
          <p:cNvPicPr/>
          <p:nvPr/>
        </p:nvPicPr>
        <p:blipFill>
          <a:blip r:embed="rId1"/>
          <a:stretch/>
        </p:blipFill>
        <p:spPr>
          <a:xfrm>
            <a:off x="2622600" y="3203640"/>
            <a:ext cx="4160880" cy="315432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ambertian scat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non-metallic objects, the apparent brightness depends on surface orientatio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lative to the light sou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t not the vie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brightness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rtional to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fig4_1a"/>
          <p:cNvPicPr/>
          <p:nvPr/>
        </p:nvPicPr>
        <p:blipFill>
          <a:blip r:embed="rId1"/>
          <a:stretch/>
        </p:blipFill>
        <p:spPr>
          <a:xfrm>
            <a:off x="4610160" y="3728880"/>
            <a:ext cx="3419280" cy="2238480"/>
          </a:xfrm>
          <a:prstGeom prst="rect">
            <a:avLst/>
          </a:prstGeom>
          <a:ln w="0">
            <a:noFill/>
          </a:ln>
        </p:spPr>
      </p:pic>
      <p:sp>
        <p:nvSpPr>
          <p:cNvPr id="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wave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ransparent materials (plastic, glass), light propagates slower than in 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boundary, wavefronts be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909800" y="3129120"/>
            <a:ext cx="5060880" cy="333360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ve index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ctive index measures how fast light propagates through a medi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media must be poor conductors and are usually calle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electric me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fractive index of a dielectric medium i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c is the speed of light in vacuum, and v is the speed in the medium. Note tha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3822840" y="3803760"/>
                <a:ext cx="11062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Snell’s la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and refracted rays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refractionanswer"/>
          <p:cNvPicPr/>
          <p:nvPr/>
        </p:nvPicPr>
        <p:blipFill>
          <a:blip r:embed="rId1">
            <a:lum contrast="6000"/>
          </a:blip>
          <a:srcRect l="0" t="10115" r="0" b="0"/>
          <a:stretch/>
        </p:blipFill>
        <p:spPr>
          <a:xfrm>
            <a:off x="1873080" y="2903400"/>
            <a:ext cx="4986360" cy="365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809800" y="2041560"/>
                <a:ext cx="286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raction – ray represent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470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rays, light bends toward the normal in the slower mate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hapter_03"/>
          <p:cNvPicPr/>
          <p:nvPr/>
        </p:nvPicPr>
        <p:blipFill>
          <a:blip r:embed="rId1"/>
          <a:stretch/>
        </p:blipFill>
        <p:spPr>
          <a:xfrm>
            <a:off x="1573200" y="2867040"/>
            <a:ext cx="5924520" cy="332748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LEGION</cp:lastModifiedBy>
  <dcterms:modified xsi:type="dcterms:W3CDTF">2018-03-12T09:22:47Z</dcterms:modified>
  <cp:revision>404</cp:revision>
  <dc:subject/>
  <dc:title>PowerPoint Presentation</dc:title>
</cp:coreProperties>
</file>