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B5E8-FCB1-4577-B2A0-55A9200DEE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378-56B7-436F-AE9B-97AAC45A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A97-BDC7-4A6E-AEAB-6E61ED97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A6C-5E66-410D-8195-A2A589DB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707-39FF-4900-8014-F2786D71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BD5-01DC-4A05-88CA-E9C7AEFC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497-7E53-488C-8287-E8B52310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F36-5C12-42AF-9D87-117C73F0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6F5-838B-4C12-AAA1-7EE30E62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9BB-A65C-43A9-88E3-C5BDE307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069-9B5C-44D5-ADD5-A07781AE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CEB-DA8F-4323-A84B-25E0718C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EA76-5D1A-44B3-BA48-BC7467B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bc0"/>
            </a:gs>
            <a:gs pos="50000">
              <a:srgbClr val="c3b7fd"/>
            </a:gs>
            <a:gs pos="100000">
              <a:srgbClr val="948b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C0F0-7EA4-4FFB-9A84-7166982DD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3b7f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ti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in triangular 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media, refractive index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es with wave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gives the familiar rainbow spectrum with white light in glass or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rism"/>
          <p:cNvPicPr/>
          <p:nvPr/>
        </p:nvPicPr>
        <p:blipFill>
          <a:blip r:embed="rId1"/>
          <a:srcRect l="0" t="0" r="3983" b="6374"/>
          <a:stretch/>
        </p:blipFill>
        <p:spPr>
          <a:xfrm>
            <a:off x="2097000" y="3203640"/>
            <a:ext cx="5399280" cy="303696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I-Comparisons"/>
          <p:cNvPicPr/>
          <p:nvPr/>
        </p:nvPicPr>
        <p:blipFill>
          <a:blip r:embed="rId1"/>
          <a:stretch/>
        </p:blipFill>
        <p:spPr>
          <a:xfrm>
            <a:off x="4946760" y="3503520"/>
            <a:ext cx="4011480" cy="29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5-2"/>
          <p:cNvPicPr/>
          <p:nvPr/>
        </p:nvPicPr>
        <p:blipFill>
          <a:blip r:embed="rId2"/>
          <a:stretch/>
        </p:blipFill>
        <p:spPr>
          <a:xfrm>
            <a:off x="560520" y="3503520"/>
            <a:ext cx="397332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matic aber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nal 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u14l3b2"/>
          <p:cNvPicPr/>
          <p:nvPr/>
        </p:nvPicPr>
        <p:blipFill>
          <a:blip r:embed="rId1"/>
          <a:stretch/>
        </p:blipFill>
        <p:spPr>
          <a:xfrm>
            <a:off x="1835280" y="2641680"/>
            <a:ext cx="5248080" cy="38988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otal internal reflection (TI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ass/acrylic, this is 4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amond, it is 2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light will make many internal reflections before leaving, creating the “fire” in the diamo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735280" y="3166920"/>
                <a:ext cx="2909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nta-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mage, without i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entaPrism"/>
          <p:cNvPicPr/>
          <p:nvPr/>
        </p:nvPicPr>
        <p:blipFill>
          <a:blip r:embed="rId1"/>
          <a:stretch/>
        </p:blipFill>
        <p:spPr>
          <a:xfrm>
            <a:off x="5172120" y="3578400"/>
            <a:ext cx="2914560" cy="28382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orneref"/>
          <p:cNvPicPr/>
          <p:nvPr/>
        </p:nvPicPr>
        <p:blipFill>
          <a:blip r:embed="rId1"/>
          <a:srcRect l="0" t="8651" r="0" b="16788"/>
          <a:stretch/>
        </p:blipFill>
        <p:spPr>
          <a:xfrm>
            <a:off x="1085760" y="3054240"/>
            <a:ext cx="7012080" cy="350676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oriverc"/>
          <p:cNvPicPr/>
          <p:nvPr/>
        </p:nvPicPr>
        <p:blipFill>
          <a:blip r:embed="rId1"/>
          <a:srcRect l="1523" t="1185" r="2730" b="53580"/>
          <a:stretch/>
        </p:blipFill>
        <p:spPr>
          <a:xfrm>
            <a:off x="1722600" y="2228760"/>
            <a:ext cx="5062320" cy="2927520"/>
          </a:xfrm>
          <a:prstGeom prst="rect">
            <a:avLst/>
          </a:prstGeom>
          <a:ln w="0">
            <a:noFill/>
          </a:ln>
        </p:spPr>
      </p:pic>
      <p:sp>
        <p:nvSpPr>
          <p:cNvPr id="12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TIR sphe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and refracted ray angles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y to hit the centerlin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angle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4309920" y="3392640"/>
            <a:ext cx="3673440" cy="2998800"/>
            <a:chOff x="4309920" y="3392640"/>
            <a:chExt cx="3673440" cy="2998800"/>
          </a:xfrm>
        </p:grpSpPr>
        <p:sp>
          <p:nvSpPr>
            <p:cNvPr id="124" name="Oval 6"/>
            <p:cNvSpPr/>
            <p:nvPr/>
          </p:nvSpPr>
          <p:spPr>
            <a:xfrm>
              <a:off x="4309920" y="4479840"/>
              <a:ext cx="1911600" cy="1911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V="1">
              <a:off x="4497480" y="3615840"/>
              <a:ext cx="3485880" cy="232596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4460760" y="4479840"/>
              <a:ext cx="749520" cy="1462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5246640" y="3392640"/>
              <a:ext cx="1611360" cy="1050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5246640" y="3578400"/>
              <a:ext cx="0" cy="187452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5212080" y="3914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4986360" y="4591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5"/>
            <p:cNvSpPr/>
            <p:nvPr/>
          </p:nvSpPr>
          <p:spPr>
            <a:xfrm>
              <a:off x="4647960" y="5376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5221440" y="4965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5059440" y="4290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5059440" y="42908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459320" y="5753160"/>
              <a:ext cx="1687320" cy="223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6184800" y="4740120"/>
              <a:ext cx="1575000" cy="10130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vefronts and 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1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dviewwavefronts"/>
          <p:cNvPicPr/>
          <p:nvPr/>
        </p:nvPicPr>
        <p:blipFill>
          <a:blip r:embed="rId1"/>
          <a:stretch/>
        </p:blipFill>
        <p:spPr>
          <a:xfrm>
            <a:off x="635040" y="3916440"/>
            <a:ext cx="4086360" cy="24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3dplanewaves"/>
          <p:cNvPicPr/>
          <p:nvPr/>
        </p:nvPicPr>
        <p:blipFill>
          <a:blip r:embed="rId2"/>
          <a:stretch/>
        </p:blipFill>
        <p:spPr>
          <a:xfrm>
            <a:off x="4946760" y="3916440"/>
            <a:ext cx="3711600" cy="238608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ve she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1-inch_sew-on"/>
          <p:cNvPicPr/>
          <p:nvPr/>
        </p:nvPicPr>
        <p:blipFill>
          <a:blip r:embed="rId1"/>
          <a:stretch/>
        </p:blipFill>
        <p:spPr>
          <a:xfrm>
            <a:off x="2135160" y="3616200"/>
            <a:ext cx="4799160" cy="23497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or g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personal disp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034800" y="3090960"/>
            <a:ext cx="2675160" cy="3187440"/>
            <a:chOff x="3034800" y="3090960"/>
            <a:chExt cx="2675160" cy="3187440"/>
          </a:xfrm>
        </p:grpSpPr>
        <p:sp>
          <p:nvSpPr>
            <p:cNvPr id="148" name="AutoShape 6"/>
            <p:cNvSpPr/>
            <p:nvPr/>
          </p:nvSpPr>
          <p:spPr>
            <a:xfrm>
              <a:off x="3035160" y="3090960"/>
              <a:ext cx="2648160" cy="31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 rot="5400000">
              <a:off x="3985920" y="4581360"/>
              <a:ext cx="3187440" cy="206280"/>
            </a:xfrm>
            <a:custGeom>
              <a:avLst/>
              <a:gdLst>
                <a:gd name="textAreaLeft" fmla="*/ 663840 w 3187440"/>
                <a:gd name="textAreaRight" fmla="*/ 2523600 w 3187440"/>
                <a:gd name="textAreaTop" fmla="*/ 43200 h 206280"/>
                <a:gd name="textAreaBottom" fmla="*/ 163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 rot="5400000">
              <a:off x="4083840" y="3636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4377600" y="4684680"/>
              <a:ext cx="92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"/>
            <p:cNvSpPr/>
            <p:nvPr/>
          </p:nvSpPr>
          <p:spPr>
            <a:xfrm>
              <a:off x="3957840" y="451692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1"/>
            <p:cNvGrpSpPr/>
            <p:nvPr/>
          </p:nvGrpSpPr>
          <p:grpSpPr>
            <a:xfrm>
              <a:off x="3034800" y="4349160"/>
              <a:ext cx="671040" cy="670680"/>
              <a:chOff x="3034800" y="4349160"/>
              <a:chExt cx="671040" cy="670680"/>
            </a:xfrm>
          </p:grpSpPr>
          <p:sp>
            <p:nvSpPr>
              <p:cNvPr id="154" name="Oval 12"/>
              <p:cNvSpPr/>
              <p:nvPr/>
            </p:nvSpPr>
            <p:spPr>
              <a:xfrm flipH="1">
                <a:off x="3034440" y="4349160"/>
                <a:ext cx="670680" cy="670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 flipH="1">
                <a:off x="3482280" y="4404960"/>
                <a:ext cx="223200" cy="279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4"/>
              <p:cNvSpPr/>
              <p:nvPr/>
            </p:nvSpPr>
            <p:spPr>
              <a:xfrm flipH="1">
                <a:off x="3482280" y="4684320"/>
                <a:ext cx="223200" cy="27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5"/>
              <p:cNvSpPr/>
              <p:nvPr/>
            </p:nvSpPr>
            <p:spPr>
              <a:xfrm flipH="1">
                <a:off x="3571200" y="4460760"/>
                <a:ext cx="134640" cy="167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"/>
              <p:cNvSpPr/>
              <p:nvPr/>
            </p:nvSpPr>
            <p:spPr>
              <a:xfrm flipH="1">
                <a:off x="3571200" y="4740120"/>
                <a:ext cx="134640" cy="1677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AutoShape 17"/>
            <p:cNvSpPr/>
            <p:nvPr/>
          </p:nvSpPr>
          <p:spPr>
            <a:xfrm rot="3712200">
              <a:off x="4167720" y="413892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4475880" y="481212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 rot="19912200">
              <a:off x="4080600" y="5177160"/>
              <a:ext cx="419040" cy="335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0"/>
            <p:cNvSpPr/>
            <p:nvPr/>
          </p:nvSpPr>
          <p:spPr>
            <a:xfrm flipV="1" rot="17887800">
              <a:off x="4167720" y="3132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4475880" y="412128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V="1" rot="1687800">
              <a:off x="4080240" y="385380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Artificial backgrou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vex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to this point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cal 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lens-convex"/>
          <p:cNvPicPr/>
          <p:nvPr/>
        </p:nvPicPr>
        <p:blipFill>
          <a:blip r:embed="rId1"/>
          <a:stretch/>
        </p:blipFill>
        <p:spPr>
          <a:xfrm>
            <a:off x="3110040" y="3503520"/>
            <a:ext cx="5511600" cy="3048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focus"/>
          <p:cNvPicPr/>
          <p:nvPr/>
        </p:nvPicPr>
        <p:blipFill>
          <a:blip r:embed="rId1"/>
          <a:srcRect l="0" t="0" r="0" b="29783"/>
          <a:stretch/>
        </p:blipFill>
        <p:spPr>
          <a:xfrm>
            <a:off x="2509920" y="2979720"/>
            <a:ext cx="4386240" cy="36115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are two focal point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ometimes called conjugates), then they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22720" y="2941560"/>
                <a:ext cx="2361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ens consists of spherical surfaces with radi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he focal length satisf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1/f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 (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image001"/>
          <p:cNvPicPr/>
          <p:nvPr/>
        </p:nvPicPr>
        <p:blipFill>
          <a:blip r:embed="rId1"/>
          <a:stretch/>
        </p:blipFill>
        <p:spPr>
          <a:xfrm>
            <a:off x="1947960" y="29415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001"/>
          <p:cNvPicPr/>
          <p:nvPr/>
        </p:nvPicPr>
        <p:blipFill>
          <a:blip r:embed="rId1"/>
          <a:stretch/>
        </p:blipFill>
        <p:spPr>
          <a:xfrm>
            <a:off x="1947960" y="30909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eces_012"/>
          <p:cNvPicPr/>
          <p:nvPr/>
        </p:nvPicPr>
        <p:blipFill>
          <a:blip r:embed="rId1"/>
          <a:srcRect l="46142" t="0" r="0" b="0"/>
          <a:stretch/>
        </p:blipFill>
        <p:spPr>
          <a:xfrm>
            <a:off x="5321160" y="3654360"/>
            <a:ext cx="2847960" cy="284976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y-trac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age1308"/>
          <p:cNvPicPr/>
          <p:nvPr/>
        </p:nvPicPr>
        <p:blipFill>
          <a:blip r:embed="rId1"/>
          <a:stretch/>
        </p:blipFill>
        <p:spPr>
          <a:xfrm>
            <a:off x="2622600" y="3203640"/>
            <a:ext cx="4160880" cy="31543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mbertian scat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ative to the light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 not the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al to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g4_1a"/>
          <p:cNvPicPr/>
          <p:nvPr/>
        </p:nvPicPr>
        <p:blipFill>
          <a:blip r:embed="rId1"/>
          <a:stretch/>
        </p:blipFill>
        <p:spPr>
          <a:xfrm>
            <a:off x="4610160" y="3728880"/>
            <a:ext cx="3419280" cy="223848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wave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909800" y="3129120"/>
            <a:ext cx="5060880" cy="333360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electric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3822840" y="3803760"/>
                <a:ext cx="110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Snell’s la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873080" y="2903400"/>
            <a:ext cx="4986360" cy="365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809800" y="2041560"/>
                <a:ext cx="286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ray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hapter_03"/>
          <p:cNvPicPr/>
          <p:nvPr/>
        </p:nvPicPr>
        <p:blipFill>
          <a:blip r:embed="rId1"/>
          <a:stretch/>
        </p:blipFill>
        <p:spPr>
          <a:xfrm>
            <a:off x="1573200" y="2867040"/>
            <a:ext cx="5924520" cy="332748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LEGION</cp:lastModifiedBy>
  <dcterms:modified xsi:type="dcterms:W3CDTF">2018-03-12T09:22:47Z</dcterms:modified>
  <cp:revision>404</cp:revision>
  <dc:subject/>
  <dc:title>PowerPoint Presentation</dc:title>
</cp:coreProperties>
</file>