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C19F-9B6D-42C1-A2BB-1DDE84C0AB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d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ome examples of curved mirro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ved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some examples of curved mirro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536 #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cave shaving mirror has a focal length of 33 cm. Calculate the magnification of the image. Is the image real or virtual? Is the image inverted or up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536 #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cave shaving mirror has a focal length of 33 cm. Calculate the magnification of the image. Is the image real or virtual? Is the image inverted or uprigh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gn Conventions for Magn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Sign Conventions for Magn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gn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ification is negative, therefore the image is real and inve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agn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gnification is negative, therefore the image is real and inver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y diagram is a drawing that uses geometry to locate an image formed by a 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different rules for drawing ray diagrams depending on the type of mirror you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Diagra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ay diagram is a drawing that uses geometry to locate an image formed by a mirr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different rules for drawing ray diagrams depending on the type of mirror you ha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raw a ray diagram (p. 533-5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pherical mirrors, there are three different reference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section of any two rays locates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draw a ray diagram (p. 533-5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spherical mirrors, there are three different reference ray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ntersection of any two rays locates the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for drawing reference rays (p. 5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s for drawing reference rays (p. 5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raw a ray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ny 2 rays gives the image lo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draw a ray diag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nters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ny 2 rays gives the image lo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side the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s inside the focal 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536 #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cave shaving mirror has a focal length of 33 cm. Calculate the image position of a cologne bottle placed in front of the mirror at a distance of 93 cm. Draw a ray diagram to confirm your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536 #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cave shaving mirror has a focal length of 33 cm. Calculate the image position of a cologne bottle placed in front of the mirror at a distance of 93 cm. Draw a ray diagram to confirm your resul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is inverted and about half the height of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the diag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is inverted and about half the height of the objec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Spherical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pherical mirror has the shape of part of a sphere’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Spherical Mirror (Converging Mirror): A spherical mirror with light reflecting from its silvered, concave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mirrors are used whenever a magnified image of an object is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Spherical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pherical mirror has the shape of part of a sphere’s surfa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Spherical Mirror (Converging Mirror): A spherical mirror with light reflecting from its silvered, concave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mirrors are used whenever a magnified image of an object is nee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mirrors take objects in a large field of view and produce a small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-view mirrors on cars are convex mirrors. That’s why they say “objects are closer than they appear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mirrors take objects in a large field of view and produce a small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de-view mirrors on cars are convex mirrors. That’s why they say “objects are closer than they appear”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Spherical Mirrors (p. 5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vex spherical mirror (diverging mirror) is silvered so that light is reflected from the sphere’s outer, convex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distance is always negat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is always a virtual imag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cal length is negative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Spherical Mirrors (p. 53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vex spherical mirror (diverging mirror) is silvered so that light is reflected from the sphere’s outer, convex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distance is always negativ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is always a virtual imag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cal length is negative 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diagrams for convex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cal point and center of curvature are behind the mirror’s surfa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tual, upright image is formed behind the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ification is always less tha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diagrams for convex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cal point and center of curvature are behind the mirror’s surfac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irtual, upright image is formed behind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gnification is always less than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the reference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 is drawn parallel to the principal axis beginning at the top of the object. It reflects from the mirror along a line that intersects the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ing the reference r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 is drawn parallel to the principal axis beginning at the top of the object. It reflects from the mirror along a line that intersects the focal 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 starts from the top of the object and goes as though its going to intersect the focal point but it reflects parallel to the principal 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 starts from the top of the object and goes as though its going to intersect the focal point but it reflects parallel to the principal 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 starts at the top of the object and goes as though its going to intersect the center of curv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 starts at the top of the object and goes as though its going to intersect the center of curv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Spherical Image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forms at the intersection of any two of the three rays behind the 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ys do not intersect in front of the mirror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Spherical Image For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forms at the intersection of any two of the three rays behind the mirr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ays do not intersect in front of the mirror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 conventions for mirrors (p. 5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n conventions for mirrors (p. 538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 540 #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ndle is 49 cm in front of a convex spherical mirror that has a focal length of 35 cm. What are the image distance and magnification? Is the image virtual or real? Is the image inverted or upright? Draw a ray diagram to confirm your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 540 #6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andle is 49 cm in front of a convex spherical mirror that has a focal length of 35 cm. What are the image distance and magnification? Is the image virtual or real? Is the image inverted or upright? Draw a ray diagram to confirm your resul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at for convex mirrors, the focal length and image distance are always neg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ing the prob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that for convex mirrors, the focal length and image distance are always negati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 you need to k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s you need to k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ification of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magnification is positive, the image is upright and virtu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gnification of the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the magnification is positive, the image is upright and virt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diagram for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at you only need to draw two of the three rays to find the im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diagram for the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that you only need to draw two of the three rays to find the im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Spherical Mirrors (p.53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pherical mirror is represented as a shell of a 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Spherical Mirrors (p.53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pherical mirror is represented as a shell of a 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cave Mirror (p.53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Concave Mirror (p.53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rror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use the mirror equation,  you must use the correct sig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 and image distances are positive if they form on the front side of the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 and image distances are negative if they form on the back side of the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rror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use the mirror equation,  you must use the correct sig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 and image distances are positive if they form on the front side of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 and image distances are negative if they form on the back side of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536 #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cave shaving mirror has a focal length of 33 cm. Calculate the image position of a cologne bottle placed in front of the mirror at a distance of 93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536 #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cave shaving mirror has a focal length of 33 cm. Calculate the image position of a cologne bottle placed in front of the mirror at a distance of 93 c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.9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.3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the prob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 = .93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 = .33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=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gnification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Magnification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806-DA95-409F-92CB-5C7C1F31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FD2F-0BB0-4BB8-88E5-DD8A36BB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957-C3F8-4F08-9886-DBA7DA92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D06D-D446-45FC-96EA-C705B956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84FF-83A4-4B3C-908B-D0EC3027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7427-93A3-4D3C-A00D-9A48E1A3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5AE5-2186-4E57-B07C-56D4CD5B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B45-FEBE-447D-8DCB-484A49CA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F82-3F63-4D8E-86B7-8BE01034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342-E5A9-4237-8E10-4D81E372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37DC-B952-4E15-994F-B0118556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671C-26D0-4ECF-84F0-45AD9618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B03D-D6BB-4B44-87FD-8D5BA09E1BB5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BE27-A498-4AD5-9AD5-02E8A56E410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rved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some examples of curved mirror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C:\Users\PIA\AppData\Local\Microsoft\Windows\Temporary Internet Files\Content.IE5\L2CCEJ1W\MPj03998530000[1].jpg"/>
          <p:cNvPicPr/>
          <p:nvPr/>
        </p:nvPicPr>
        <p:blipFill>
          <a:blip r:embed="rId1"/>
          <a:stretch/>
        </p:blipFill>
        <p:spPr>
          <a:xfrm>
            <a:off x="0" y="4149720"/>
            <a:ext cx="4064040" cy="270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6477120" y="2057400"/>
            <a:ext cx="212076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tretch/>
        </p:blipFill>
        <p:spPr>
          <a:xfrm>
            <a:off x="4724280" y="4267080"/>
            <a:ext cx="2781360" cy="2362320"/>
          </a:xfrm>
          <a:prstGeom prst="rect">
            <a:avLst/>
          </a:prstGeom>
          <a:ln w="0">
            <a:noFill/>
          </a:ln>
        </p:spPr>
      </p:pic>
      <p:sp>
        <p:nvSpPr>
          <p:cNvPr id="53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536 #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cave shaving mirror has a focal length of 33 cm. Calculate the magnification of the image. Is the image real or virtual? Is the image inverted or uprigh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gn Conventions for Magnif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600200"/>
          <a:ext cx="8305920" cy="438948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ientation of image with respect to o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gn of 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Upr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+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Virtu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Inver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-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nd the magnif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209680" y="1905120"/>
                <a:ext cx="44197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Text Box 6"/>
          <p:cNvSpPr/>
          <p:nvPr/>
        </p:nvSpPr>
        <p:spPr>
          <a:xfrm>
            <a:off x="685800" y="3352680"/>
            <a:ext cx="797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gnification is negative, therefore the image is real and inver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Diagra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ray diagram is a drawing that uses geometry to locate an image formed by a mirro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are different rules for drawing ray diagrams depending on the type of mirror you hav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ow to draw a ray diagram (p. 533-534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spherical mirrors, there are three different reference ray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ntersection of any two rays locates the im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Rules for drawing reference rays (p. 534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703760"/>
        </p:xfrm>
        <a:graphic>
          <a:graphicData uri="http://schemas.openxmlformats.org/drawingml/2006/table">
            <a:tbl>
              <a:tblPr/>
              <a:tblGrid>
                <a:gridCol w="838080"/>
                <a:gridCol w="4648320"/>
                <a:gridCol w="27432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ne drawn from object to mirr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ne drawn from mirror to image after refle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2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Calibri"/>
                        </a:rPr>
                        <a:t>Parallel to principal ax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Calibri"/>
                        </a:rPr>
                        <a:t>Through focal point 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Through focal point 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Parallel to principal ax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Through center of curvature (C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Back along itself through 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draw a ray dia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743200" y="2819520"/>
            <a:ext cx="426708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 flipH="1">
            <a:off x="2819160" y="2819520"/>
            <a:ext cx="4190760" cy="3429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3964680" y="2438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2743200" y="2819520"/>
            <a:ext cx="4495680" cy="190476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23"/>
          <p:cNvSpPr/>
          <p:nvPr/>
        </p:nvSpPr>
        <p:spPr>
          <a:xfrm flipH="1">
            <a:off x="2971440" y="4724280"/>
            <a:ext cx="426708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4421880" y="32767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26"/>
          <p:cNvSpPr/>
          <p:nvPr/>
        </p:nvSpPr>
        <p:spPr>
          <a:xfrm>
            <a:off x="2590920" y="2819520"/>
            <a:ext cx="304560" cy="121896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37"/>
          <p:cNvGrpSpPr/>
          <p:nvPr/>
        </p:nvGrpSpPr>
        <p:grpSpPr>
          <a:xfrm>
            <a:off x="380880" y="1676520"/>
            <a:ext cx="6934320" cy="4876560"/>
            <a:chOff x="380880" y="1676520"/>
            <a:chExt cx="6934320" cy="4876560"/>
          </a:xfrm>
        </p:grpSpPr>
        <p:sp>
          <p:nvSpPr>
            <p:cNvPr id="128" name="Moon 3"/>
            <p:cNvSpPr/>
            <p:nvPr/>
          </p:nvSpPr>
          <p:spPr>
            <a:xfrm rot="10800000">
              <a:off x="5943600" y="1676520"/>
              <a:ext cx="1371600" cy="487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388" y="211"/>
                    <a:pt x="1175" y="5080"/>
                    <a:pt x="1175" y="10800"/>
                  </a:cubicBezTo>
                  <a:cubicBezTo>
                    <a:pt x="1175" y="16520"/>
                    <a:pt x="11388" y="2138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10"/>
            <p:cNvSpPr/>
            <p:nvPr/>
          </p:nvSpPr>
          <p:spPr>
            <a:xfrm>
              <a:off x="380880" y="4038480"/>
              <a:ext cx="6856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27"/>
            <p:cNvSpPr/>
            <p:nvPr/>
          </p:nvSpPr>
          <p:spPr>
            <a:xfrm>
              <a:off x="5486400" y="396252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Text Box 28"/>
            <p:cNvSpPr/>
            <p:nvPr/>
          </p:nvSpPr>
          <p:spPr>
            <a:xfrm>
              <a:off x="5472000" y="415116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29"/>
            <p:cNvSpPr/>
            <p:nvPr/>
          </p:nvSpPr>
          <p:spPr>
            <a:xfrm>
              <a:off x="3962520" y="396252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Text Box 30"/>
            <p:cNvSpPr/>
            <p:nvPr/>
          </p:nvSpPr>
          <p:spPr>
            <a:xfrm>
              <a:off x="3872160" y="4075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33"/>
          <p:cNvGrpSpPr/>
          <p:nvPr/>
        </p:nvGrpSpPr>
        <p:grpSpPr>
          <a:xfrm>
            <a:off x="2743200" y="2819520"/>
            <a:ext cx="3733920" cy="3581280"/>
            <a:chOff x="2743200" y="2819520"/>
            <a:chExt cx="3733920" cy="3581280"/>
          </a:xfrm>
        </p:grpSpPr>
        <p:sp>
          <p:nvSpPr>
            <p:cNvPr id="135" name="Line 24"/>
            <p:cNvSpPr/>
            <p:nvPr/>
          </p:nvSpPr>
          <p:spPr>
            <a:xfrm>
              <a:off x="2743200" y="2819520"/>
              <a:ext cx="3733920" cy="3581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31"/>
            <p:cNvSpPr/>
            <p:nvPr/>
          </p:nvSpPr>
          <p:spPr>
            <a:xfrm>
              <a:off x="5625000" y="537048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Ray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AutoShape 34"/>
          <p:cNvSpPr/>
          <p:nvPr/>
        </p:nvSpPr>
        <p:spPr>
          <a:xfrm>
            <a:off x="4648320" y="40384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0" y="51055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inters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f any 2 rays gives the image lo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Нижний колонтитул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jects inside the focal poi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Moon 3"/>
          <p:cNvSpPr/>
          <p:nvPr/>
        </p:nvSpPr>
        <p:spPr>
          <a:xfrm rot="10800000">
            <a:off x="4572000" y="1599840"/>
            <a:ext cx="1371600" cy="487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388" y="211"/>
                  <a:pt x="1175" y="5080"/>
                  <a:pt x="1175" y="10800"/>
                </a:cubicBezTo>
                <a:cubicBezTo>
                  <a:pt x="1175" y="16520"/>
                  <a:pt x="11388" y="2138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Straight Connector 10"/>
          <p:cNvSpPr/>
          <p:nvPr/>
        </p:nvSpPr>
        <p:spPr>
          <a:xfrm>
            <a:off x="838080" y="3962520"/>
            <a:ext cx="502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4114800" y="388620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100400" y="40752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1981080" y="38862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830600" y="411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4572000" y="2971800"/>
            <a:ext cx="304920" cy="990720"/>
          </a:xfrm>
          <a:prstGeom prst="upArrow">
            <a:avLst>
              <a:gd name="adj1" fmla="val 50000"/>
              <a:gd name="adj2" fmla="val 81228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5867280" y="39625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4724280" y="2971800"/>
            <a:ext cx="106704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1676520" y="2971800"/>
            <a:ext cx="4114800" cy="25146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 flipV="1">
            <a:off x="4724280" y="1904760"/>
            <a:ext cx="533520" cy="106668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 flipH="1">
            <a:off x="1143000" y="1905120"/>
            <a:ext cx="4038480" cy="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 flipV="1">
            <a:off x="4191120" y="2971800"/>
            <a:ext cx="533160" cy="990720"/>
          </a:xfrm>
          <a:prstGeom prst="line">
            <a:avLst/>
          </a:prstGeom>
          <a:ln w="381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5257800" y="1905120"/>
            <a:ext cx="3276720" cy="0"/>
          </a:xfrm>
          <a:prstGeom prst="line">
            <a:avLst/>
          </a:prstGeom>
          <a:ln w="381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V="1">
            <a:off x="5791320" y="1294920"/>
            <a:ext cx="3124080" cy="1676520"/>
          </a:xfrm>
          <a:prstGeom prst="line">
            <a:avLst/>
          </a:prstGeom>
          <a:ln w="3816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 flipV="1">
            <a:off x="4648320" y="2514600"/>
            <a:ext cx="990360" cy="457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 flipV="1">
            <a:off x="1905120" y="2971440"/>
            <a:ext cx="2743200" cy="1066680"/>
          </a:xfrm>
          <a:prstGeom prst="line">
            <a:avLst/>
          </a:prstGeom>
          <a:ln w="3816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 flipV="1">
            <a:off x="5638680" y="1447560"/>
            <a:ext cx="3505320" cy="1066680"/>
          </a:xfrm>
          <a:prstGeom prst="line">
            <a:avLst/>
          </a:prstGeom>
          <a:ln w="3816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5"/>
          <p:cNvSpPr/>
          <p:nvPr/>
        </p:nvSpPr>
        <p:spPr>
          <a:xfrm>
            <a:off x="7467480" y="1905120"/>
            <a:ext cx="609840" cy="2057400"/>
          </a:xfrm>
          <a:prstGeom prst="upArrow">
            <a:avLst>
              <a:gd name="adj1" fmla="val 50000"/>
              <a:gd name="adj2" fmla="val 84342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Нижний колонтитул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536 #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cave shaving mirror has a focal length of 33 cm. Calculate the image position of a cologne bottle placed in front of the mirror at a distance of 93 cm. Draw a ray diagram to confirm your resul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raw the dia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65" name="Group 12"/>
          <p:cNvGrpSpPr/>
          <p:nvPr/>
        </p:nvGrpSpPr>
        <p:grpSpPr>
          <a:xfrm>
            <a:off x="1143000" y="1523880"/>
            <a:ext cx="6934320" cy="4876560"/>
            <a:chOff x="1143000" y="1523880"/>
            <a:chExt cx="6934320" cy="4876560"/>
          </a:xfrm>
        </p:grpSpPr>
        <p:sp>
          <p:nvSpPr>
            <p:cNvPr id="166" name="Moon 3"/>
            <p:cNvSpPr/>
            <p:nvPr/>
          </p:nvSpPr>
          <p:spPr>
            <a:xfrm rot="10800000">
              <a:off x="6705720" y="1523880"/>
              <a:ext cx="1371600" cy="487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388" y="211"/>
                    <a:pt x="1175" y="5080"/>
                    <a:pt x="1175" y="10800"/>
                  </a:cubicBezTo>
                  <a:cubicBezTo>
                    <a:pt x="1175" y="16520"/>
                    <a:pt x="11388" y="2138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Straight Connector 10"/>
            <p:cNvSpPr/>
            <p:nvPr/>
          </p:nvSpPr>
          <p:spPr>
            <a:xfrm>
              <a:off x="1143000" y="3885840"/>
              <a:ext cx="6856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5"/>
            <p:cNvSpPr/>
            <p:nvPr/>
          </p:nvSpPr>
          <p:spPr>
            <a:xfrm>
              <a:off x="6248520" y="380988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16"/>
            <p:cNvSpPr/>
            <p:nvPr/>
          </p:nvSpPr>
          <p:spPr>
            <a:xfrm>
              <a:off x="6234120" y="39985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"/>
            <p:cNvSpPr/>
            <p:nvPr/>
          </p:nvSpPr>
          <p:spPr>
            <a:xfrm>
              <a:off x="4724640" y="380988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18"/>
            <p:cNvSpPr/>
            <p:nvPr/>
          </p:nvSpPr>
          <p:spPr>
            <a:xfrm>
              <a:off x="4634280" y="3922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AutoShape 19"/>
          <p:cNvSpPr/>
          <p:nvPr/>
        </p:nvSpPr>
        <p:spPr>
          <a:xfrm>
            <a:off x="1828800" y="2362320"/>
            <a:ext cx="304920" cy="1523880"/>
          </a:xfrm>
          <a:prstGeom prst="upArrow">
            <a:avLst>
              <a:gd name="adj1" fmla="val 50000"/>
              <a:gd name="adj2" fmla="val 124941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1981080" y="2362320"/>
            <a:ext cx="57150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23"/>
          <p:cNvSpPr/>
          <p:nvPr/>
        </p:nvSpPr>
        <p:spPr>
          <a:xfrm flipH="1">
            <a:off x="4038480" y="2362320"/>
            <a:ext cx="3657600" cy="4038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>
            <a:off x="1981080" y="2362320"/>
            <a:ext cx="6019920" cy="213336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 flipH="1">
            <a:off x="3962520" y="4495680"/>
            <a:ext cx="396216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26"/>
          <p:cNvSpPr/>
          <p:nvPr/>
        </p:nvSpPr>
        <p:spPr>
          <a:xfrm>
            <a:off x="1981080" y="2362320"/>
            <a:ext cx="5791320" cy="32004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27"/>
          <p:cNvSpPr/>
          <p:nvPr/>
        </p:nvSpPr>
        <p:spPr>
          <a:xfrm>
            <a:off x="5715000" y="388620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304920" y="54100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image is inverted and about half the height of the 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3152"/>
                </a:solidFill>
                <a:latin typeface="Calibri"/>
              </a:rPr>
              <a:t>Concave Spherical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pherical mirror has the shape of part of a sphere’s surfa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cave Spherical Mirror (Converging Mirror): A spherical mirror with light reflecting from its silvered, concave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cave mirrors are used whenever a magnified image of an object is need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vex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vex mirrors take objects in a large field of view and produce a small im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de-view mirrors on cars are convex mirrors. That’s why they say “objects are closer than they appear”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3" name="Picture 5" descr="MPj04445570000[1]"/>
          <p:cNvPicPr/>
          <p:nvPr/>
        </p:nvPicPr>
        <p:blipFill>
          <a:blip r:embed="rId1"/>
          <a:stretch/>
        </p:blipFill>
        <p:spPr>
          <a:xfrm>
            <a:off x="3048120" y="3886200"/>
            <a:ext cx="3127320" cy="238608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vex Spherical Mirrors (p. 537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vex spherical mirror (diverging mirror) is silvered so that light is reflected from the sphere’s outer, convex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image distance is always negative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image is always a virtual image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ocal length is negative 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diagrams for convex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ocal point and center of curvature are behind the mirror’s surfac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virtual, upright image is formed behind the mirr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magnification is always less than 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5"/>
          <p:cNvSpPr/>
          <p:nvPr/>
        </p:nvSpPr>
        <p:spPr>
          <a:xfrm>
            <a:off x="5638680" y="4419720"/>
            <a:ext cx="152640" cy="533160"/>
          </a:xfrm>
          <a:prstGeom prst="upArrow">
            <a:avLst>
              <a:gd name="adj1" fmla="val 50000"/>
              <a:gd name="adj2" fmla="val 87323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25"/>
          <p:cNvGrpSpPr/>
          <p:nvPr/>
        </p:nvGrpSpPr>
        <p:grpSpPr>
          <a:xfrm>
            <a:off x="1828800" y="3429000"/>
            <a:ext cx="5410080" cy="3048120"/>
            <a:chOff x="1828800" y="3429000"/>
            <a:chExt cx="5410080" cy="3048120"/>
          </a:xfrm>
        </p:grpSpPr>
        <p:grpSp>
          <p:nvGrpSpPr>
            <p:cNvPr id="192" name="Group 16"/>
            <p:cNvGrpSpPr/>
            <p:nvPr/>
          </p:nvGrpSpPr>
          <p:grpSpPr>
            <a:xfrm>
              <a:off x="1828800" y="3429000"/>
              <a:ext cx="5410080" cy="3048120"/>
              <a:chOff x="1828800" y="3429000"/>
              <a:chExt cx="5410080" cy="3048120"/>
            </a:xfrm>
          </p:grpSpPr>
          <p:grpSp>
            <p:nvGrpSpPr>
              <p:cNvPr id="193" name="Group 17"/>
              <p:cNvGrpSpPr/>
              <p:nvPr/>
            </p:nvGrpSpPr>
            <p:grpSpPr>
              <a:xfrm>
                <a:off x="1828800" y="3429000"/>
                <a:ext cx="5410080" cy="3048120"/>
                <a:chOff x="1828800" y="3429000"/>
                <a:chExt cx="5410080" cy="3048120"/>
              </a:xfrm>
            </p:grpSpPr>
            <p:sp>
              <p:nvSpPr>
                <p:cNvPr id="194" name="Line 18"/>
                <p:cNvSpPr/>
                <p:nvPr/>
              </p:nvSpPr>
              <p:spPr>
                <a:xfrm>
                  <a:off x="1828800" y="4953240"/>
                  <a:ext cx="5410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19"/>
                <p:cNvSpPr/>
                <p:nvPr/>
              </p:nvSpPr>
              <p:spPr>
                <a:xfrm>
                  <a:off x="5181480" y="3429000"/>
                  <a:ext cx="532800" cy="3048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2665" y="669"/>
                        <a:pt x="3729" y="5080"/>
                        <a:pt x="3729" y="10800"/>
                      </a:cubicBezTo>
                      <a:cubicBezTo>
                        <a:pt x="3729" y="16520"/>
                        <a:pt x="12665" y="2093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0"/>
                <p:cNvSpPr/>
                <p:nvPr/>
              </p:nvSpPr>
              <p:spPr>
                <a:xfrm>
                  <a:off x="5943240" y="4876920"/>
                  <a:ext cx="15228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1"/>
                <p:cNvSpPr/>
                <p:nvPr/>
              </p:nvSpPr>
              <p:spPr>
                <a:xfrm>
                  <a:off x="6705360" y="4876920"/>
                  <a:ext cx="15192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AutoShape 22"/>
              <p:cNvSpPr/>
              <p:nvPr/>
            </p:nvSpPr>
            <p:spPr>
              <a:xfrm>
                <a:off x="2819520" y="3733920"/>
                <a:ext cx="152280" cy="1218960"/>
              </a:xfrm>
              <a:prstGeom prst="upArrow">
                <a:avLst>
                  <a:gd name="adj1" fmla="val 50000"/>
                  <a:gd name="adj2" fmla="val 200118"/>
                </a:avLst>
              </a:pr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Text Box 23"/>
            <p:cNvSpPr/>
            <p:nvPr/>
          </p:nvSpPr>
          <p:spPr>
            <a:xfrm>
              <a:off x="5852520" y="50655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6629400" y="5105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Нижний колонтитул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rawing the reference ray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1 is drawn parallel to the principal axis beginning at the top of the object. It reflects from the mirror along a line that intersects the focal 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4" name="Group 19"/>
          <p:cNvGrpSpPr/>
          <p:nvPr/>
        </p:nvGrpSpPr>
        <p:grpSpPr>
          <a:xfrm>
            <a:off x="1828800" y="3809880"/>
            <a:ext cx="5410080" cy="3048120"/>
            <a:chOff x="1828800" y="3809880"/>
            <a:chExt cx="5410080" cy="3048120"/>
          </a:xfrm>
        </p:grpSpPr>
        <p:sp>
          <p:nvSpPr>
            <p:cNvPr id="205" name="Text Box 8"/>
            <p:cNvSpPr/>
            <p:nvPr/>
          </p:nvSpPr>
          <p:spPr>
            <a:xfrm>
              <a:off x="5868360" y="54864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9"/>
            <p:cNvSpPr/>
            <p:nvPr/>
          </p:nvSpPr>
          <p:spPr>
            <a:xfrm>
              <a:off x="6631200" y="5486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Group 13"/>
            <p:cNvGrpSpPr/>
            <p:nvPr/>
          </p:nvGrpSpPr>
          <p:grpSpPr>
            <a:xfrm>
              <a:off x="1828800" y="3809880"/>
              <a:ext cx="5410080" cy="3048120"/>
              <a:chOff x="1828800" y="3809880"/>
              <a:chExt cx="5410080" cy="3048120"/>
            </a:xfrm>
          </p:grpSpPr>
          <p:grpSp>
            <p:nvGrpSpPr>
              <p:cNvPr id="208" name="Group 10"/>
              <p:cNvGrpSpPr/>
              <p:nvPr/>
            </p:nvGrpSpPr>
            <p:grpSpPr>
              <a:xfrm>
                <a:off x="1828800" y="3809880"/>
                <a:ext cx="5410080" cy="3048120"/>
                <a:chOff x="1828800" y="3809880"/>
                <a:chExt cx="5410080" cy="3048120"/>
              </a:xfrm>
            </p:grpSpPr>
            <p:sp>
              <p:nvSpPr>
                <p:cNvPr id="209" name="Line 4"/>
                <p:cNvSpPr/>
                <p:nvPr/>
              </p:nvSpPr>
              <p:spPr>
                <a:xfrm>
                  <a:off x="1828800" y="5334120"/>
                  <a:ext cx="5410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5"/>
                <p:cNvSpPr/>
                <p:nvPr/>
              </p:nvSpPr>
              <p:spPr>
                <a:xfrm>
                  <a:off x="5181480" y="3809880"/>
                  <a:ext cx="532800" cy="3048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2665" y="669"/>
                        <a:pt x="3729" y="5080"/>
                        <a:pt x="3729" y="10800"/>
                      </a:cubicBezTo>
                      <a:cubicBezTo>
                        <a:pt x="3729" y="16520"/>
                        <a:pt x="12665" y="2093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Oval 6"/>
                <p:cNvSpPr/>
                <p:nvPr/>
              </p:nvSpPr>
              <p:spPr>
                <a:xfrm>
                  <a:off x="5943240" y="5257800"/>
                  <a:ext cx="15228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Oval 7"/>
                <p:cNvSpPr/>
                <p:nvPr/>
              </p:nvSpPr>
              <p:spPr>
                <a:xfrm>
                  <a:off x="6705360" y="5257800"/>
                  <a:ext cx="15192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AutoShape 12"/>
              <p:cNvSpPr/>
              <p:nvPr/>
            </p:nvSpPr>
            <p:spPr>
              <a:xfrm>
                <a:off x="2819520" y="4114800"/>
                <a:ext cx="152280" cy="1218960"/>
              </a:xfrm>
              <a:prstGeom prst="upArrow">
                <a:avLst>
                  <a:gd name="adj1" fmla="val 50000"/>
                  <a:gd name="adj2" fmla="val 200118"/>
                </a:avLst>
              </a:pr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Line 14"/>
          <p:cNvSpPr/>
          <p:nvPr/>
        </p:nvSpPr>
        <p:spPr>
          <a:xfrm>
            <a:off x="2895480" y="4114800"/>
            <a:ext cx="2514600" cy="0"/>
          </a:xfrm>
          <a:prstGeom prst="line">
            <a:avLst/>
          </a:prstGeom>
          <a:ln cap="rnd" w="507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 18"/>
          <p:cNvGrpSpPr/>
          <p:nvPr/>
        </p:nvGrpSpPr>
        <p:grpSpPr>
          <a:xfrm>
            <a:off x="4876560" y="3200400"/>
            <a:ext cx="1143360" cy="2133360"/>
            <a:chOff x="4876560" y="3200400"/>
            <a:chExt cx="1143360" cy="2133360"/>
          </a:xfrm>
        </p:grpSpPr>
        <p:sp>
          <p:nvSpPr>
            <p:cNvPr id="216" name="Line 16"/>
            <p:cNvSpPr/>
            <p:nvPr/>
          </p:nvSpPr>
          <p:spPr>
            <a:xfrm flipH="1" flipV="1">
              <a:off x="5410080" y="4114440"/>
              <a:ext cx="609840" cy="1219320"/>
            </a:xfrm>
            <a:prstGeom prst="line">
              <a:avLst/>
            </a:prstGeom>
            <a:ln w="63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 flipH="1" flipV="1">
              <a:off x="4876560" y="3200400"/>
              <a:ext cx="533160" cy="9144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534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2 starts from the top of the object and goes as though its going to intersect the focal point but it reflects parallel to the principal ax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5105520" y="4952880"/>
            <a:ext cx="1218960" cy="381240"/>
          </a:xfrm>
          <a:prstGeom prst="line">
            <a:avLst/>
          </a:prstGeom>
          <a:ln w="63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4269240" y="37339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2286000" y="4114800"/>
            <a:ext cx="2819520" cy="838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1752480" y="5334120"/>
            <a:ext cx="6248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5105520" y="3809880"/>
            <a:ext cx="533160" cy="304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6172200" y="525780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7238880" y="52578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2209680" y="4114800"/>
            <a:ext cx="152640" cy="1219320"/>
          </a:xfrm>
          <a:prstGeom prst="upArrow">
            <a:avLst>
              <a:gd name="adj1" fmla="val 50000"/>
              <a:gd name="adj2" fmla="val 199705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2286000" y="4114800"/>
            <a:ext cx="3048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12"/>
          <p:cNvGrpSpPr/>
          <p:nvPr/>
        </p:nvGrpSpPr>
        <p:grpSpPr>
          <a:xfrm>
            <a:off x="4582800" y="3345840"/>
            <a:ext cx="1676160" cy="1982160"/>
            <a:chOff x="4582800" y="3345840"/>
            <a:chExt cx="1676160" cy="1982160"/>
          </a:xfrm>
        </p:grpSpPr>
        <p:sp>
          <p:nvSpPr>
            <p:cNvPr id="231" name="Line 13"/>
            <p:cNvSpPr/>
            <p:nvPr/>
          </p:nvSpPr>
          <p:spPr>
            <a:xfrm flipH="1" flipV="1">
              <a:off x="5346000" y="4185360"/>
              <a:ext cx="912960" cy="1142640"/>
            </a:xfrm>
            <a:prstGeom prst="line">
              <a:avLst/>
            </a:prstGeom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 flipH="1" flipV="1">
              <a:off x="4582800" y="3345840"/>
              <a:ext cx="763200" cy="83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Text Box 18"/>
          <p:cNvSpPr/>
          <p:nvPr/>
        </p:nvSpPr>
        <p:spPr>
          <a:xfrm>
            <a:off x="6096960" y="54864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7088400" y="5486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22"/>
          <p:cNvSpPr/>
          <p:nvPr/>
        </p:nvSpPr>
        <p:spPr>
          <a:xfrm flipH="1">
            <a:off x="2666880" y="4952880"/>
            <a:ext cx="243864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3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63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3491640" y="46083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3 starts at the top of the object and goes as though its going to intersect the center of curva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Line 26"/>
          <p:cNvSpPr/>
          <p:nvPr/>
        </p:nvSpPr>
        <p:spPr>
          <a:xfrm>
            <a:off x="5029200" y="4343400"/>
            <a:ext cx="2286000" cy="53352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4876920" y="4506840"/>
            <a:ext cx="1218960" cy="381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040640" y="32878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2057400" y="3668760"/>
            <a:ext cx="28195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1523880" y="4888080"/>
            <a:ext cx="6248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4876920" y="3363840"/>
            <a:ext cx="533160" cy="304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10"/>
          <p:cNvSpPr/>
          <p:nvPr/>
        </p:nvSpPr>
        <p:spPr>
          <a:xfrm>
            <a:off x="5943600" y="481176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11"/>
          <p:cNvSpPr/>
          <p:nvPr/>
        </p:nvSpPr>
        <p:spPr>
          <a:xfrm>
            <a:off x="7238880" y="48006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2"/>
          <p:cNvSpPr/>
          <p:nvPr/>
        </p:nvSpPr>
        <p:spPr>
          <a:xfrm>
            <a:off x="1981080" y="3668760"/>
            <a:ext cx="152640" cy="1219320"/>
          </a:xfrm>
          <a:prstGeom prst="upArrow">
            <a:avLst>
              <a:gd name="adj1" fmla="val 50000"/>
              <a:gd name="adj2" fmla="val 199705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2057400" y="3668760"/>
            <a:ext cx="3048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4"/>
          <p:cNvGrpSpPr/>
          <p:nvPr/>
        </p:nvGrpSpPr>
        <p:grpSpPr>
          <a:xfrm>
            <a:off x="4354200" y="2899800"/>
            <a:ext cx="1675800" cy="1981440"/>
            <a:chOff x="4354200" y="2899800"/>
            <a:chExt cx="1675800" cy="1981440"/>
          </a:xfrm>
        </p:grpSpPr>
        <p:sp>
          <p:nvSpPr>
            <p:cNvPr id="252" name="Line 15"/>
            <p:cNvSpPr/>
            <p:nvPr/>
          </p:nvSpPr>
          <p:spPr>
            <a:xfrm flipH="1" flipV="1">
              <a:off x="5117400" y="3738960"/>
              <a:ext cx="912600" cy="1142280"/>
            </a:xfrm>
            <a:prstGeom prst="line">
              <a:avLst/>
            </a:prstGeom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6"/>
            <p:cNvSpPr/>
            <p:nvPr/>
          </p:nvSpPr>
          <p:spPr>
            <a:xfrm flipH="1" flipV="1">
              <a:off x="4354200" y="2899800"/>
              <a:ext cx="763200" cy="83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Text Box 17"/>
          <p:cNvSpPr/>
          <p:nvPr/>
        </p:nvSpPr>
        <p:spPr>
          <a:xfrm>
            <a:off x="5868360" y="5040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708840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19"/>
          <p:cNvSpPr/>
          <p:nvPr/>
        </p:nvSpPr>
        <p:spPr>
          <a:xfrm flipH="1">
            <a:off x="2438280" y="4506840"/>
            <a:ext cx="2438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20"/>
          <p:cNvSpPr/>
          <p:nvPr/>
        </p:nvSpPr>
        <p:spPr>
          <a:xfrm>
            <a:off x="4876920" y="450684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3263040" y="41623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2057400" y="3657600"/>
            <a:ext cx="2895480" cy="6858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7"/>
          <p:cNvSpPr/>
          <p:nvPr/>
        </p:nvSpPr>
        <p:spPr>
          <a:xfrm rot="712800">
            <a:off x="3414960" y="36939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Ray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Нижний колонтитул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vex Spherical Image Form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mage forms at the intersection of any two of the three rays behind the mirro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Line 23"/>
          <p:cNvSpPr/>
          <p:nvPr/>
        </p:nvSpPr>
        <p:spPr>
          <a:xfrm>
            <a:off x="4724280" y="4267080"/>
            <a:ext cx="2286000" cy="53352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24"/>
          <p:cNvSpPr/>
          <p:nvPr/>
        </p:nvSpPr>
        <p:spPr>
          <a:xfrm>
            <a:off x="4572000" y="4430880"/>
            <a:ext cx="1219320" cy="38088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5"/>
          <p:cNvSpPr/>
          <p:nvPr/>
        </p:nvSpPr>
        <p:spPr>
          <a:xfrm>
            <a:off x="3736080" y="32115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26"/>
          <p:cNvSpPr/>
          <p:nvPr/>
        </p:nvSpPr>
        <p:spPr>
          <a:xfrm>
            <a:off x="1752480" y="3592440"/>
            <a:ext cx="281952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27"/>
          <p:cNvSpPr/>
          <p:nvPr/>
        </p:nvSpPr>
        <p:spPr>
          <a:xfrm>
            <a:off x="1219320" y="4811760"/>
            <a:ext cx="6248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28"/>
          <p:cNvSpPr/>
          <p:nvPr/>
        </p:nvSpPr>
        <p:spPr>
          <a:xfrm>
            <a:off x="4572000" y="3287880"/>
            <a:ext cx="533520" cy="304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29"/>
          <p:cNvSpPr/>
          <p:nvPr/>
        </p:nvSpPr>
        <p:spPr>
          <a:xfrm>
            <a:off x="5638680" y="4735440"/>
            <a:ext cx="152640" cy="152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30"/>
          <p:cNvSpPr/>
          <p:nvPr/>
        </p:nvSpPr>
        <p:spPr>
          <a:xfrm>
            <a:off x="6934320" y="4724280"/>
            <a:ext cx="152280" cy="152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31"/>
          <p:cNvSpPr/>
          <p:nvPr/>
        </p:nvSpPr>
        <p:spPr>
          <a:xfrm>
            <a:off x="1676520" y="3592440"/>
            <a:ext cx="152280" cy="1219320"/>
          </a:xfrm>
          <a:prstGeom prst="upArrow">
            <a:avLst>
              <a:gd name="adj1" fmla="val 50000"/>
              <a:gd name="adj2" fmla="val 200177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32"/>
          <p:cNvSpPr/>
          <p:nvPr/>
        </p:nvSpPr>
        <p:spPr>
          <a:xfrm>
            <a:off x="1752480" y="3592440"/>
            <a:ext cx="3048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33"/>
          <p:cNvGrpSpPr/>
          <p:nvPr/>
        </p:nvGrpSpPr>
        <p:grpSpPr>
          <a:xfrm>
            <a:off x="4049280" y="2823480"/>
            <a:ext cx="1676160" cy="1982160"/>
            <a:chOff x="4049280" y="2823480"/>
            <a:chExt cx="1676160" cy="1982160"/>
          </a:xfrm>
        </p:grpSpPr>
        <p:sp>
          <p:nvSpPr>
            <p:cNvPr id="275" name="Line 34"/>
            <p:cNvSpPr/>
            <p:nvPr/>
          </p:nvSpPr>
          <p:spPr>
            <a:xfrm flipH="1" flipV="1">
              <a:off x="4812480" y="3663000"/>
              <a:ext cx="912960" cy="1142640"/>
            </a:xfrm>
            <a:prstGeom prst="line">
              <a:avLst/>
            </a:prstGeom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35"/>
            <p:cNvSpPr/>
            <p:nvPr/>
          </p:nvSpPr>
          <p:spPr>
            <a:xfrm flipH="1" flipV="1">
              <a:off x="4049280" y="2823480"/>
              <a:ext cx="763200" cy="83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Text Box 36"/>
          <p:cNvSpPr/>
          <p:nvPr/>
        </p:nvSpPr>
        <p:spPr>
          <a:xfrm>
            <a:off x="5563800" y="49640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37"/>
          <p:cNvSpPr/>
          <p:nvPr/>
        </p:nvSpPr>
        <p:spPr>
          <a:xfrm>
            <a:off x="678348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38"/>
          <p:cNvSpPr/>
          <p:nvPr/>
        </p:nvSpPr>
        <p:spPr>
          <a:xfrm flipH="1">
            <a:off x="2133360" y="443088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39"/>
          <p:cNvSpPr/>
          <p:nvPr/>
        </p:nvSpPr>
        <p:spPr>
          <a:xfrm>
            <a:off x="4572000" y="44308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2958120" y="40863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41"/>
          <p:cNvSpPr/>
          <p:nvPr/>
        </p:nvSpPr>
        <p:spPr>
          <a:xfrm>
            <a:off x="1752480" y="3581280"/>
            <a:ext cx="2895840" cy="6858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 rot="712800">
            <a:off x="3110040" y="3618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Ray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44"/>
          <p:cNvSpPr/>
          <p:nvPr/>
        </p:nvSpPr>
        <p:spPr>
          <a:xfrm>
            <a:off x="5334120" y="4419720"/>
            <a:ext cx="152280" cy="380880"/>
          </a:xfrm>
          <a:prstGeom prst="upArrow">
            <a:avLst>
              <a:gd name="adj1" fmla="val 50000"/>
              <a:gd name="adj2" fmla="val 6253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457200" y="51055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rays do not intersect in front of the mirror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Нижний колонтитул 2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ign conventions for mirrors (p. 538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8" name="Picture 6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4487760" cy="5791320"/>
          </a:xfrm>
          <a:prstGeom prst="rect">
            <a:avLst/>
          </a:prstGeom>
          <a:ln w="0">
            <a:noFill/>
          </a:ln>
        </p:spPr>
      </p:pic>
      <p:sp>
        <p:nvSpPr>
          <p:cNvPr id="28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 540 #6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andle is 49 cm in front of a convex spherical mirror that has a focal length of 35 cm. What are the image distance and magnification? Is the image virtual or real? Is the image inverted or upright? Draw a ray diagram to confirm your resul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lving the probl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member that for convex mirrors, the focal length and image distance are always negativ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Content Placeholder 3"/>
              <p:cNvSpPr txBox="1"/>
              <p:nvPr/>
            </p:nvSpPr>
            <p:spPr>
              <a:xfrm>
                <a:off x="5638680" y="1676520"/>
                <a:ext cx="16002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6"/>
              <p:cNvSpPr txBox="1"/>
              <p:nvPr/>
            </p:nvSpPr>
            <p:spPr>
              <a:xfrm>
                <a:off x="4495680" y="3200400"/>
                <a:ext cx="42735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9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8"/>
              <p:cNvSpPr txBox="1"/>
              <p:nvPr/>
            </p:nvSpPr>
            <p:spPr>
              <a:xfrm>
                <a:off x="457200" y="4952880"/>
                <a:ext cx="80773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The image is 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 cm behind the mirro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erms you need to kn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1600200"/>
          <a:ext cx="8381880" cy="5011560"/>
        </p:xfrm>
        <a:graphic>
          <a:graphicData uri="http://schemas.openxmlformats.org/drawingml/2006/table">
            <a:tbl>
              <a:tblPr/>
              <a:tblGrid>
                <a:gridCol w="2793960"/>
                <a:gridCol w="419076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ymbol(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er 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enter of the spherical shell of which the mirror is a small pa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distance from the mirror’s surface to the center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ght of obje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height of the obje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;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ght of im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height of the im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’,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 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distance between the object and the mirr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; 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ge 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distance between the image and the mirr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; 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al Leng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al length is equal to half the radius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agnification of the Im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ce the magnification is positive, the image is upright and virtu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2971800" y="1905120"/>
                <a:ext cx="32767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diagram for the Im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Line 14"/>
          <p:cNvSpPr/>
          <p:nvPr/>
        </p:nvSpPr>
        <p:spPr>
          <a:xfrm>
            <a:off x="1031760" y="396252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15"/>
          <p:cNvSpPr/>
          <p:nvPr/>
        </p:nvSpPr>
        <p:spPr>
          <a:xfrm>
            <a:off x="5334120" y="2209680"/>
            <a:ext cx="780840" cy="350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val 16"/>
          <p:cNvSpPr/>
          <p:nvPr/>
        </p:nvSpPr>
        <p:spPr>
          <a:xfrm>
            <a:off x="7059600" y="3875040"/>
            <a:ext cx="222120" cy="174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val 17"/>
          <p:cNvSpPr/>
          <p:nvPr/>
        </p:nvSpPr>
        <p:spPr>
          <a:xfrm>
            <a:off x="8921880" y="3886200"/>
            <a:ext cx="222120" cy="174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9"/>
          <p:cNvSpPr/>
          <p:nvPr/>
        </p:nvSpPr>
        <p:spPr>
          <a:xfrm>
            <a:off x="7011360" y="41911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8704440" y="4114800"/>
            <a:ext cx="4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2590920" y="2438280"/>
            <a:ext cx="228600" cy="1524240"/>
          </a:xfrm>
          <a:prstGeom prst="upArrow">
            <a:avLst>
              <a:gd name="adj1" fmla="val 50000"/>
              <a:gd name="adj2" fmla="val 166693"/>
            </a:avLst>
          </a:prstGeom>
          <a:solidFill>
            <a:srgbClr val="c050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743200" y="2438280"/>
            <a:ext cx="297180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23"/>
          <p:cNvSpPr/>
          <p:nvPr/>
        </p:nvSpPr>
        <p:spPr>
          <a:xfrm flipH="1" flipV="1">
            <a:off x="4724280" y="1294920"/>
            <a:ext cx="914400" cy="11430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25"/>
          <p:cNvSpPr/>
          <p:nvPr/>
        </p:nvSpPr>
        <p:spPr>
          <a:xfrm flipH="1" flipV="1">
            <a:off x="5638680" y="2438280"/>
            <a:ext cx="1524240" cy="152424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7"/>
          <p:cNvSpPr/>
          <p:nvPr/>
        </p:nvSpPr>
        <p:spPr>
          <a:xfrm>
            <a:off x="2743200" y="2438280"/>
            <a:ext cx="2743200" cy="60984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28"/>
          <p:cNvSpPr/>
          <p:nvPr/>
        </p:nvSpPr>
        <p:spPr>
          <a:xfrm flipH="1" flipV="1">
            <a:off x="5562720" y="3048120"/>
            <a:ext cx="3581280" cy="914400"/>
          </a:xfrm>
          <a:prstGeom prst="line">
            <a:avLst/>
          </a:prstGeom>
          <a:ln w="936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29"/>
          <p:cNvSpPr/>
          <p:nvPr/>
        </p:nvSpPr>
        <p:spPr>
          <a:xfrm>
            <a:off x="903600" y="6132600"/>
            <a:ext cx="79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member that you only need to draw two of the three rays to find the im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30"/>
          <p:cNvSpPr/>
          <p:nvPr/>
        </p:nvSpPr>
        <p:spPr>
          <a:xfrm>
            <a:off x="2743200" y="2514600"/>
            <a:ext cx="2666880" cy="7621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32"/>
          <p:cNvSpPr/>
          <p:nvPr/>
        </p:nvSpPr>
        <p:spPr>
          <a:xfrm flipH="1" flipV="1">
            <a:off x="5333760" y="3276360"/>
            <a:ext cx="1904760" cy="685800"/>
          </a:xfrm>
          <a:prstGeom prst="line">
            <a:avLst/>
          </a:prstGeom>
          <a:ln w="9360">
            <a:solidFill>
              <a:srgbClr val="ff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33"/>
          <p:cNvSpPr/>
          <p:nvPr/>
        </p:nvSpPr>
        <p:spPr>
          <a:xfrm flipH="1">
            <a:off x="2971440" y="3276720"/>
            <a:ext cx="24382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5334120" y="3276720"/>
            <a:ext cx="1981080" cy="0"/>
          </a:xfrm>
          <a:prstGeom prst="line">
            <a:avLst/>
          </a:prstGeom>
          <a:ln w="93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6"/>
          <p:cNvSpPr/>
          <p:nvPr/>
        </p:nvSpPr>
        <p:spPr>
          <a:xfrm>
            <a:off x="6400800" y="3276720"/>
            <a:ext cx="228600" cy="6858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c050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3152"/>
                </a:solidFill>
                <a:latin typeface="Calibri"/>
              </a:rPr>
              <a:t>Concave Spherical Mirrors (p.53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1" name="Group 37"/>
          <p:cNvGrpSpPr/>
          <p:nvPr/>
        </p:nvGrpSpPr>
        <p:grpSpPr>
          <a:xfrm>
            <a:off x="1069920" y="1299960"/>
            <a:ext cx="5542200" cy="4110120"/>
            <a:chOff x="1069920" y="1299960"/>
            <a:chExt cx="5542200" cy="4110120"/>
          </a:xfrm>
        </p:grpSpPr>
        <p:sp>
          <p:nvSpPr>
            <p:cNvPr id="62" name="Text Box 18"/>
            <p:cNvSpPr/>
            <p:nvPr/>
          </p:nvSpPr>
          <p:spPr>
            <a:xfrm>
              <a:off x="2364120" y="213372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bje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6"/>
            <p:cNvSpPr/>
            <p:nvPr/>
          </p:nvSpPr>
          <p:spPr>
            <a:xfrm>
              <a:off x="2646360" y="2417760"/>
              <a:ext cx="374760" cy="969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10"/>
            <p:cNvSpPr/>
            <p:nvPr/>
          </p:nvSpPr>
          <p:spPr>
            <a:xfrm>
              <a:off x="2419200" y="3387600"/>
              <a:ext cx="376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Text Box 19"/>
            <p:cNvSpPr/>
            <p:nvPr/>
          </p:nvSpPr>
          <p:spPr>
            <a:xfrm>
              <a:off x="1069920" y="3611520"/>
              <a:ext cx="15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ncipal Ax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 flipV="1">
              <a:off x="2495520" y="3387600"/>
              <a:ext cx="1203480" cy="44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AutoShape 24"/>
            <p:cNvSpPr/>
            <p:nvPr/>
          </p:nvSpPr>
          <p:spPr>
            <a:xfrm rot="10560600">
              <a:off x="4146480" y="1375920"/>
              <a:ext cx="2330640" cy="395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125" y="475"/>
                    <a:pt x="2650" y="5080"/>
                    <a:pt x="2650" y="10800"/>
                  </a:cubicBezTo>
                  <a:cubicBezTo>
                    <a:pt x="2650" y="16520"/>
                    <a:pt x="12125" y="2112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4449600" y="3313080"/>
              <a:ext cx="150840" cy="14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28"/>
            <p:cNvSpPr/>
            <p:nvPr/>
          </p:nvSpPr>
          <p:spPr>
            <a:xfrm>
              <a:off x="4399200" y="3657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Text Box 35"/>
            <p:cNvSpPr/>
            <p:nvPr/>
          </p:nvSpPr>
          <p:spPr>
            <a:xfrm>
              <a:off x="5106240" y="365760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36"/>
            <p:cNvSpPr/>
            <p:nvPr/>
          </p:nvSpPr>
          <p:spPr>
            <a:xfrm>
              <a:off x="5334120" y="3314880"/>
              <a:ext cx="152280" cy="1141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Oval 23"/>
          <p:cNvSpPr/>
          <p:nvPr/>
        </p:nvSpPr>
        <p:spPr>
          <a:xfrm>
            <a:off x="2362320" y="1371600"/>
            <a:ext cx="4114800" cy="4114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8"/>
          <p:cNvSpPr/>
          <p:nvPr/>
        </p:nvSpPr>
        <p:spPr>
          <a:xfrm>
            <a:off x="304920" y="59040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spherical mirror is represented as a shell of a sp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cave Mirror (p.53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467480" cy="4540320"/>
          </a:xfrm>
          <a:prstGeom prst="rect">
            <a:avLst/>
          </a:prstGeom>
          <a:ln w="0">
            <a:noFill/>
          </a:ln>
        </p:spPr>
      </p:pic>
      <p:sp>
        <p:nvSpPr>
          <p:cNvPr id="7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irror Equ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Content Placeholder 3"/>
              <p:cNvSpPr txBox="1"/>
              <p:nvPr/>
            </p:nvSpPr>
            <p:spPr>
              <a:xfrm>
                <a:off x="4724280" y="1143000"/>
                <a:ext cx="38102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3"/>
              <p:cNvSpPr txBox="1"/>
              <p:nvPr/>
            </p:nvSpPr>
            <p:spPr>
              <a:xfrm>
                <a:off x="3048120" y="4343400"/>
                <a:ext cx="5841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ject distance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mage distanc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ocal lengt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TextBox 5"/>
          <p:cNvSpPr/>
          <p:nvPr/>
        </p:nvSpPr>
        <p:spPr>
          <a:xfrm>
            <a:off x="228600" y="1103400"/>
            <a:ext cx="243828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  <a:ea typeface="Arial"/>
              </a:rPr>
              <a:t>To use the mirror equation,  you must use the correct sign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  <a:ea typeface="Arial"/>
              </a:rPr>
              <a:t>Object and image distances are positive if they form on the front side of the mirro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  <a:ea typeface="Arial"/>
              </a:rPr>
              <a:t>Object and image distances are negative if they form on the back side of the mirro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7" descr="MCj04114440000[1]"/>
          <p:cNvPicPr/>
          <p:nvPr/>
        </p:nvPicPr>
        <p:blipFill>
          <a:blip r:embed="rId1"/>
          <a:stretch/>
        </p:blipFill>
        <p:spPr>
          <a:xfrm>
            <a:off x="8413920" y="0"/>
            <a:ext cx="730080" cy="839880"/>
          </a:xfrm>
          <a:prstGeom prst="rect">
            <a:avLst/>
          </a:prstGeom>
          <a:ln w="0">
            <a:noFill/>
          </a:ln>
        </p:spPr>
      </p:pic>
      <p:sp>
        <p:nvSpPr>
          <p:cNvPr id="8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536 #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cave shaving mirror has a focal length of 33 cm. Calculate the image position of a cologne bottle placed in front of the mirror at a distance of 93 c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lve the probl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Content Placeholder 3"/>
              <p:cNvSpPr txBox="1"/>
              <p:nvPr/>
            </p:nvSpPr>
            <p:spPr>
              <a:xfrm>
                <a:off x="1219320" y="1600200"/>
                <a:ext cx="22860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 = .93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 = .33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=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1371600" y="3657600"/>
                <a:ext cx="59594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95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9"/>
              <p:cNvSpPr txBox="1"/>
              <p:nvPr/>
            </p:nvSpPr>
            <p:spPr>
              <a:xfrm>
                <a:off x="2362320" y="5410080"/>
                <a:ext cx="46479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 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gnification Equ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371600" y="4114800"/>
                <a:ext cx="7010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agnificatio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mage heigh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ject heigh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mage distanc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ject distanc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6"/>
              <p:cNvSpPr txBox="1"/>
              <p:nvPr/>
            </p:nvSpPr>
            <p:spPr>
              <a:xfrm>
                <a:off x="2743200" y="1600200"/>
                <a:ext cx="403848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8" name="Picture 8" descr="MPj03989470000[1]"/>
          <p:cNvPicPr/>
          <p:nvPr/>
        </p:nvPicPr>
        <p:blipFill>
          <a:blip r:embed="rId1"/>
          <a:stretch/>
        </p:blipFill>
        <p:spPr>
          <a:xfrm>
            <a:off x="0" y="0"/>
            <a:ext cx="1820880" cy="1041480"/>
          </a:xfrm>
          <a:prstGeom prst="rect">
            <a:avLst/>
          </a:prstGeom>
          <a:ln w="0">
            <a:noFill/>
          </a:ln>
        </p:spPr>
      </p:pic>
      <p:sp>
        <p:nvSpPr>
          <p:cNvPr id="9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8:23:41Z</dcterms:created>
  <dc:creator>PIA</dc:creator>
  <dc:description/>
  <dc:language>en-US</dc:language>
  <cp:lastModifiedBy>LEGION</cp:lastModifiedBy>
  <dcterms:modified xsi:type="dcterms:W3CDTF">2018-03-12T09:20:51Z</dcterms:modified>
  <cp:revision>27</cp:revision>
  <dc:subject/>
  <dc:title>14-3: Curved Mirrors</dc:title>
</cp:coreProperties>
</file>