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EC91-D3D9-49AE-90BF-E9DEA9D98BF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 The Evolutionary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 The Evolutionary S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c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4 cp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High’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High’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Medium’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Medium’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Low’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Low’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pe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ability to perceive stimulus a function of temperature and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fea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 tapetum (part of pigmented layer of the eye, which has an iridescent luster and helps to make the eye visible in the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temperature dependent distribution of  visual pi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specific distribution of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eo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l's ability to perceive stimulus a function of temperature and seas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zed fea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flective tapetum (part of pigmented layer of the eye, which has an iridescent luster and helps to make the eye visible in the d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 and temperature dependent distribution of  visual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specific distribution of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prinid (soft-finned mainly freshwater fish typically having toothless j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7 distinct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s are not only the first neural retinal element, but also act as interneurons and display the first indication of antagonistic spectral and spatial response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the high spectral and spatial resolution at the ganglion cel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olar cells form direct contacts with receptors and ganglion cells. The bipolar cells therefore provide a direct straight-through information transfer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prinid (soft-finned mainly freshwater fish typically having toothless j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least 7 distinct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e the high spectral and spatial resolution at the ganglion cell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szik, Bilotta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other fish, the dark-adapted visual system of the zebrafish can be influenced by water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28–30°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consistent with the rhodopsin absorption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22–25°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function that was the result of a rhodopsin/porphyropsin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ultraviolet cones (362nm) contributed to the dark-adapted spectral sensitivity function under both temperatur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aszik, Bilotta (199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ke other fish, the dark-adapted visual system of the zebrafish can be influenced by water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rm (28–30°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consistent with the rhodopsin absorption cur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d (22–25°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function that was the result of a rhodopsin/porphyropsin mix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addition, ultraviolet cones (362nm) contributed to the dark-adapted spectral sensitivity function under both temperature condi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Bassi, Rone, Raymond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ds are continually generated and inserted across the entire differentiated retina in juvenile and adult gold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 retinal cells share this character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wers, Bassi, Rone, Raymond (1987)</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rods are continually generated and inserted across the entire differentiated retina in juvenile and adult gold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other retinal cells share this characterist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Bl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who are only one species, and who can see all of the colors of the spectrum have a trichromatic visual system. They have blue, green and yellow/orange sensitive cones in their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Bli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s, who are only one species, and who can see all of the colors of the spectrum have a trichromatic visual system. They have blue, green and yellow/orange sensitive cones in their ey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olosi, Andrew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 lateralization is revealed in the zebrafish by preferential ey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s according to the visual stimulus that is being fix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eye is used when the stimulus (or scene) is such as to require a careful period of examination in order to decide on a respon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eye is used when the fish has to check whether an identical stimulus has been seen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kolosi, Andrew (199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ebral lateralization is revealed in the zebrafish by preferential eye u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s according to the visual stimulus that is being fix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ght eye is used when the stimulus (or scene) is such as to require a careful period of examination in order to decide on a respon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ft eye is used when the fish has to check whether an identical stimulus has been seen bef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 is a cone with a secondary cone wrapped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reptiles, fish, and amphibians all have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ypothesize that double cones allow certain color processing functions to happen at the cone instead of at the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 is a cone with a secondary cone wrapped about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rds, reptiles, fish, and amphibians all have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ientists hypothesize that double cones allow certain color processing functions to happen at the cone instead of at the gangl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in fish are arranged in a pattern in the retina known as 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mosaics exist: Square and 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 are dependent on the species of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urpose for the mosaic has been found y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es in fish are arranged in a pattern in the retina known as 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types of mosaics exist: Square and R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tterns are dependent on the species of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purpose for the mosaic has been found y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brafish (Row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daka (Squar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Zebrafish (Row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edaka (Squar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 major types of visual pig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hod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phyr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ree other types that appear in som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ynurenine (3-hydroxykynurenine) (37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rotenoids (425-48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ycosporine-like amino acid (300-36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me fish, including the Japanese dace fish, carp and the common goldfish can see UV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wo major types of visual pigment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Rhod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Porphyr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ree other types that appear in some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Kynurenine (3-hydroxykynurenine) (37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Carotenoids (425-48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ycosporine-like amino acid (300-36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ome fish, including the Japanese dace fish, carp and the common goldfish can see UV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concentrated in forward and backward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le to resolve 10cm object at 50m (typical for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fish has larger than average eyes which don't improve visual acuity, but are better able to see while moving at high sp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pred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on concentrated in forward and backward dir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le to resolve 10cm object at 50m (typical for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llfish has larger than average eyes which don't improve visual acuity, but are better able to see while moving at high spee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pred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photoreceptors concentrated in part of eye that fac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eye that faces down contains photoreceptors sensitive to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clear-wate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photoreceptors concentrated in part of eye that faces 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of eye that faces down contains photoreceptors sensitive to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clear-wate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Visibl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yond the Visible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imi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need at least two color sensors before the brain can discriminate color hue or diffe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imilar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need at least two color sensors before the brain can discriminate color hue or differ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y Scale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ds are for gray scale vision and merely count photons regardless of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Scale 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ods are for gray scale vision and merely count photons regardless of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v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flectiv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receptor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receptor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e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W. Nor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Photo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5-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 W. Nort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Photorecep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smic et al.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l rods contain a visual pigment with max at 512 n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trout the retinal cone system consists of single and double cones with pigments having peaks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 nm (single cones and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0 nm (single cones and one member of doubl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8 nm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smic et al. (199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inal rods contain a visual pigment with max at 512 n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ult trout the retinal cone system consists of single and double cones with pigments having peaks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3 nm (single cones and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0 nm (single cones and one member of doubl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8 nm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6671E-F1D3-4453-9B2C-6825501BB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01456-A052-48D3-AB97-6F603FE4A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98289-073D-4B43-B888-444FBB644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5309E-28F1-4D4E-B971-D676DCDE1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3FFAA-5A52-4D41-A8F3-FF5C9A08D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BDE84-FDFD-4391-88C3-47ACE8AF0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24FC4-EAD7-4CA0-ABB5-079939847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A4FFB-9B19-4000-A72C-558AABC46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C1C75-4097-4A47-9FE4-1AD2773D2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DD992-BE94-489B-84B9-D839C828B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199D6-BCBA-4027-8730-9A0648487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BE8E8-D36D-4A54-AE44-452F3EB03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0103B-B949-4748-A834-1B945F096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9B488-677D-4B77-9DA3-DA1153111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1C4EE-87D3-4C5A-BB68-79E3B3D07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99539-F197-43F5-A160-5A93A8B52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38184-1402-4F1E-B2CA-4989DD85B3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99C90-483F-4B82-A0B0-F6DD8C8CB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71EF5-260E-416D-8406-13E0C82EF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0B3FD-1DF1-4867-B0D9-3DBD368AF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7A12D-F209-42B7-BA89-F601871C2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FFD58-DFFB-423A-9AAF-13933A0FB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69A98-B6D6-44BE-8AB9-303A876C0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8C684-A4AD-4BA3-81A3-922B57901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2ACF-017D-4F31-93E9-52D8C4398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4"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5"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6"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7"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E43C-EE74-496F-AD97-61CE4090F5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sh: The Evolutionary Solution</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9;Sine Wave                                                      00001A3F_x000c_Macintosh HD                   ABA78158:"/>
          <p:cNvPicPr/>
          <p:nvPr/>
        </p:nvPicPr>
        <p:blipFill>
          <a:blip r:embed="rId1"/>
          <a:stretch/>
        </p:blipFill>
        <p:spPr>
          <a:xfrm>
            <a:off x="2743200" y="1981080"/>
            <a:ext cx="3570120" cy="3570480"/>
          </a:xfrm>
          <a:prstGeom prst="rect">
            <a:avLst/>
          </a:prstGeom>
          <a:ln w="0">
            <a:noFill/>
          </a:ln>
        </p:spPr>
      </p:pic>
      <p:sp>
        <p:nvSpPr>
          <p:cNvPr id="142" name="Text Box 3"/>
          <p:cNvSpPr/>
          <p:nvPr/>
        </p:nvSpPr>
        <p:spPr>
          <a:xfrm>
            <a:off x="3888000" y="1143000"/>
            <a:ext cx="118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cpd</a:t>
            </a:r>
            <a:endParaRPr b="0" lang="en-US" sz="3600" spc="-1" strike="noStrike">
              <a:solidFill>
                <a:srgbClr val="ffffff"/>
              </a:solidFill>
              <a:latin typeface="Times New Roman"/>
            </a:endParaRPr>
          </a:p>
        </p:txBody>
      </p:sp>
      <p:pic>
        <p:nvPicPr>
          <p:cNvPr id="143" name="Picture 4" descr="&#13;kal7f0607.jpg                                                  0002BE5E_x0005_Gumby                          B34360BF:"/>
          <p:cNvPicPr/>
          <p:nvPr/>
        </p:nvPicPr>
        <p:blipFill>
          <a:blip r:embed="rId2"/>
          <a:stretch/>
        </p:blipFill>
        <p:spPr>
          <a:xfrm>
            <a:off x="0" y="0"/>
            <a:ext cx="1219320" cy="933480"/>
          </a:xfrm>
          <a:prstGeom prst="rect">
            <a:avLst/>
          </a:prstGeom>
          <a:ln w="0">
            <a:noFill/>
          </a:ln>
        </p:spPr>
      </p:pic>
      <p:sp>
        <p:nvSpPr>
          <p:cNvPr id="1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09760" y="379440"/>
            <a:ext cx="8127720" cy="6095880"/>
          </a:xfrm>
          <a:prstGeom prst="rect">
            <a:avLst/>
          </a:prstGeom>
          <a:ln w="38160">
            <a:solidFill>
              <a:srgbClr val="000044"/>
            </a:solidFill>
            <a:miter/>
          </a:ln>
        </p:spPr>
      </p:pic>
      <p:pic>
        <p:nvPicPr>
          <p:cNvPr id="146" name="Picture 3" descr="&#13;kal7f0607.jpg                                                  0002BE5E_x0005_Gumby                          B34360BF:"/>
          <p:cNvPicPr/>
          <p:nvPr/>
        </p:nvPicPr>
        <p:blipFill>
          <a:blip r:embed="rId2"/>
          <a:stretch/>
        </p:blipFill>
        <p:spPr>
          <a:xfrm>
            <a:off x="0" y="0"/>
            <a:ext cx="1219320" cy="9334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371600" y="2133720"/>
            <a:ext cx="2540160" cy="2539800"/>
          </a:xfrm>
          <a:prstGeom prst="rect">
            <a:avLst/>
          </a:prstGeom>
          <a:ln w="0">
            <a:noFill/>
          </a:ln>
        </p:spPr>
      </p:pic>
      <p:pic>
        <p:nvPicPr>
          <p:cNvPr id="149" name="Picture 3" descr=""/>
          <p:cNvPicPr/>
          <p:nvPr/>
        </p:nvPicPr>
        <p:blipFill>
          <a:blip r:embed="rId2"/>
          <a:stretch/>
        </p:blipFill>
        <p:spPr>
          <a:xfrm>
            <a:off x="4876920" y="2133720"/>
            <a:ext cx="2539800" cy="2539800"/>
          </a:xfrm>
          <a:prstGeom prst="rect">
            <a:avLst/>
          </a:prstGeom>
          <a:ln w="0">
            <a:noFill/>
          </a:ln>
        </p:spPr>
      </p:pic>
      <p:sp>
        <p:nvSpPr>
          <p:cNvPr id="150" name="Text Box 4"/>
          <p:cNvSpPr/>
          <p:nvPr/>
        </p:nvSpPr>
        <p:spPr>
          <a:xfrm>
            <a:off x="4422240" y="5029200"/>
            <a:ext cx="372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High’ Frequencies</a:t>
            </a:r>
            <a:endParaRPr b="0" lang="en-US" sz="3600" spc="-1" strike="noStrike">
              <a:solidFill>
                <a:srgbClr val="ffffff"/>
              </a:solidFill>
              <a:latin typeface="Times New Roman"/>
            </a:endParaRPr>
          </a:p>
        </p:txBody>
      </p:sp>
      <p:pic>
        <p:nvPicPr>
          <p:cNvPr id="151" name="Picture 5" descr="&#13;kal7f0607.jpg                                                  0002BE5E_x0005_Gumby                          B34360BF:"/>
          <p:cNvPicPr/>
          <p:nvPr/>
        </p:nvPicPr>
        <p:blipFill>
          <a:blip r:embed="rId3"/>
          <a:stretch/>
        </p:blipFill>
        <p:spPr>
          <a:xfrm>
            <a:off x="0" y="0"/>
            <a:ext cx="1219320" cy="933480"/>
          </a:xfrm>
          <a:prstGeom prst="rect">
            <a:avLst/>
          </a:prstGeom>
          <a:ln w="0">
            <a:noFill/>
          </a:ln>
        </p:spPr>
      </p:pic>
      <p:sp>
        <p:nvSpPr>
          <p:cNvPr id="15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371600" y="2133720"/>
            <a:ext cx="2540160" cy="2539800"/>
          </a:xfrm>
          <a:prstGeom prst="rect">
            <a:avLst/>
          </a:prstGeom>
          <a:ln w="0">
            <a:noFill/>
          </a:ln>
        </p:spPr>
      </p:pic>
      <p:pic>
        <p:nvPicPr>
          <p:cNvPr id="154" name="Picture 3" descr=""/>
          <p:cNvPicPr/>
          <p:nvPr/>
        </p:nvPicPr>
        <p:blipFill>
          <a:blip r:embed="rId2"/>
          <a:stretch/>
        </p:blipFill>
        <p:spPr>
          <a:xfrm>
            <a:off x="4876920" y="2133720"/>
            <a:ext cx="2539800" cy="2539800"/>
          </a:xfrm>
          <a:prstGeom prst="rect">
            <a:avLst/>
          </a:prstGeom>
          <a:ln w="0">
            <a:noFill/>
          </a:ln>
        </p:spPr>
      </p:pic>
      <p:sp>
        <p:nvSpPr>
          <p:cNvPr id="155" name="Text Box 4"/>
          <p:cNvSpPr/>
          <p:nvPr/>
        </p:nvSpPr>
        <p:spPr>
          <a:xfrm>
            <a:off x="4346280" y="4921200"/>
            <a:ext cx="435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Medium’ Frequencies</a:t>
            </a:r>
            <a:endParaRPr b="0" lang="en-US" sz="3600" spc="-1" strike="noStrike">
              <a:solidFill>
                <a:srgbClr val="ffffff"/>
              </a:solidFill>
              <a:latin typeface="Times New Roman"/>
            </a:endParaRPr>
          </a:p>
        </p:txBody>
      </p:sp>
      <p:pic>
        <p:nvPicPr>
          <p:cNvPr id="156" name="Picture 5" descr="&#13;kal7f0607.jpg                                                  0002BE5E_x0005_Gumby                          B34360BF:"/>
          <p:cNvPicPr/>
          <p:nvPr/>
        </p:nvPicPr>
        <p:blipFill>
          <a:blip r:embed="rId3"/>
          <a:stretch/>
        </p:blipFill>
        <p:spPr>
          <a:xfrm>
            <a:off x="0" y="0"/>
            <a:ext cx="1219320" cy="933480"/>
          </a:xfrm>
          <a:prstGeom prst="rect">
            <a:avLst/>
          </a:prstGeom>
          <a:ln w="0">
            <a:noFill/>
          </a:ln>
        </p:spPr>
      </p:pic>
      <p:sp>
        <p:nvSpPr>
          <p:cNvPr id="15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371600" y="2133720"/>
            <a:ext cx="2540160" cy="2539800"/>
          </a:xfrm>
          <a:prstGeom prst="rect">
            <a:avLst/>
          </a:prstGeom>
          <a:ln w="0">
            <a:noFill/>
          </a:ln>
        </p:spPr>
      </p:pic>
      <p:pic>
        <p:nvPicPr>
          <p:cNvPr id="159" name="Picture 3" descr=""/>
          <p:cNvPicPr/>
          <p:nvPr/>
        </p:nvPicPr>
        <p:blipFill>
          <a:blip r:embed="rId2"/>
          <a:stretch/>
        </p:blipFill>
        <p:spPr>
          <a:xfrm>
            <a:off x="5181480" y="2133720"/>
            <a:ext cx="2540160" cy="2539800"/>
          </a:xfrm>
          <a:prstGeom prst="rect">
            <a:avLst/>
          </a:prstGeom>
          <a:ln w="0">
            <a:noFill/>
          </a:ln>
        </p:spPr>
      </p:pic>
      <p:sp>
        <p:nvSpPr>
          <p:cNvPr id="160" name="Text Box 4"/>
          <p:cNvSpPr/>
          <p:nvPr/>
        </p:nvSpPr>
        <p:spPr>
          <a:xfrm>
            <a:off x="4939560" y="5027760"/>
            <a:ext cx="364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w’ Frequencies</a:t>
            </a:r>
            <a:endParaRPr b="0" lang="en-US" sz="3600" spc="-1" strike="noStrike">
              <a:solidFill>
                <a:srgbClr val="ffffff"/>
              </a:solidFill>
              <a:latin typeface="Times New Roman"/>
            </a:endParaRPr>
          </a:p>
        </p:txBody>
      </p:sp>
      <p:pic>
        <p:nvPicPr>
          <p:cNvPr id="161" name="Picture 5" descr="&#13;kal7f0607.jpg                                                  0002BE5E_x0005_Gumby                          B34360BF:"/>
          <p:cNvPicPr/>
          <p:nvPr/>
        </p:nvPicPr>
        <p:blipFill>
          <a:blip r:embed="rId3"/>
          <a:stretch/>
        </p:blipFill>
        <p:spPr>
          <a:xfrm>
            <a:off x="0" y="0"/>
            <a:ext cx="1219320" cy="933480"/>
          </a:xfrm>
          <a:prstGeom prst="rect">
            <a:avLst/>
          </a:prstGeom>
          <a:ln w="0">
            <a:noFill/>
          </a:ln>
        </p:spPr>
      </p:pic>
      <p:sp>
        <p:nvSpPr>
          <p:cNvPr id="16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90720" y="1066680"/>
            <a:ext cx="7226280" cy="5029200"/>
          </a:xfrm>
          <a:prstGeom prst="rect">
            <a:avLst/>
          </a:prstGeom>
          <a:ln w="38160">
            <a:solidFill>
              <a:srgbClr val="000044"/>
            </a:solidFill>
            <a:miter/>
          </a:ln>
        </p:spPr>
      </p:pic>
      <p:sp>
        <p:nvSpPr>
          <p:cNvPr id="164"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Species</a:t>
            </a:r>
            <a:endParaRPr b="0" lang="en-US" sz="4400" spc="-1" strike="noStrike">
              <a:solidFill>
                <a:srgbClr val="ffffff"/>
              </a:solidFill>
              <a:latin typeface="Times New Roman"/>
            </a:endParaRPr>
          </a:p>
        </p:txBody>
      </p:sp>
      <p:pic>
        <p:nvPicPr>
          <p:cNvPr id="165" name="Picture 4" descr="&#13;kal7f0607.jpg                                                  0002BE5E_x0005_Gumby                          B34360BF:"/>
          <p:cNvPicPr/>
          <p:nvPr/>
        </p:nvPicPr>
        <p:blipFill>
          <a:blip r:embed="rId2"/>
          <a:stretch/>
        </p:blipFill>
        <p:spPr>
          <a:xfrm>
            <a:off x="0" y="0"/>
            <a:ext cx="1219320" cy="933480"/>
          </a:xfrm>
          <a:prstGeom prst="rect">
            <a:avLst/>
          </a:prstGeom>
          <a:ln w="0">
            <a:noFill/>
          </a:ln>
        </p:spPr>
      </p:pic>
      <p:sp>
        <p:nvSpPr>
          <p:cNvPr id="1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os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s ability to perceive stimulus a function of temperature and seas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ized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flective tapetum (part of pigmented layer of the eye, which has an iridescent luster and helps to make the eye visible in the dark)</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and temperature dependent distribution of  visual pigm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specific distribution of photoreceptor types</a:t>
            </a:r>
            <a:endParaRPr b="0" lang="en-US" sz="2000" spc="-1" strike="noStrike">
              <a:solidFill>
                <a:srgbClr val="ffffff"/>
              </a:solidFill>
              <a:latin typeface="Times New Roman"/>
            </a:endParaRPr>
          </a:p>
        </p:txBody>
      </p:sp>
      <p:sp>
        <p:nvSpPr>
          <p:cNvPr id="169"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72" name="PlaceHolder 2"/>
          <p:cNvSpPr>
            <a:spLocks noGrp="1"/>
          </p:cNvSpPr>
          <p:nvPr>
            <p:ph/>
          </p:nvPr>
        </p:nvSpPr>
        <p:spPr>
          <a:xfrm>
            <a:off x="304920" y="1981080"/>
            <a:ext cx="8153280" cy="41148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prinid (soft-finned mainly freshwater fish typically having toothless jaw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7 distinct photoreceptor typ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 the high spectral and spatial resolution at the ganglion cell level.</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2400" spc="-1" strike="noStrike">
              <a:solidFill>
                <a:srgbClr val="ffffff"/>
              </a:solidFill>
              <a:latin typeface="Times New Roman"/>
            </a:endParaRPr>
          </a:p>
        </p:txBody>
      </p:sp>
      <p:sp>
        <p:nvSpPr>
          <p:cNvPr id="173"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aszik, Bilotta (1998)</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other fish, the dark-adapted visual system of the zebrafish can be influenced by water temperature.</a:t>
            </a:r>
            <a:endParaRPr b="0" lang="en-US" sz="28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28–30°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consistent with the rhodopsin absorption curv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 (22–25°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function that was the result of a rhodopsin/porphyropsin mixtur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ddition, ultraviolet cones (362nm) contributed to the dark-adapted spectral sensitivity function under both temperature conditions.</a:t>
            </a:r>
            <a:endParaRPr b="0" lang="en-US" sz="2400" spc="-1" strike="noStrike">
              <a:solidFill>
                <a:srgbClr val="ffffff"/>
              </a:solidFill>
              <a:latin typeface="Times New Roman"/>
            </a:endParaRPr>
          </a:p>
        </p:txBody>
      </p:sp>
      <p:sp>
        <p:nvSpPr>
          <p:cNvPr id="177"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091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wers, Bassi, Rone, Raymond (1987)</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ods are continually generated and inserted across the entire differentiated retina in juvenile and adult goldfis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ther retinal cells share this characteristic</a:t>
            </a:r>
            <a:endParaRPr b="0" lang="en-US" sz="2800" spc="-1" strike="noStrike">
              <a:solidFill>
                <a:srgbClr val="ffffff"/>
              </a:solidFill>
              <a:latin typeface="Times New Roman"/>
            </a:endParaRPr>
          </a:p>
        </p:txBody>
      </p:sp>
      <p:sp>
        <p:nvSpPr>
          <p:cNvPr id="181"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Blind</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0720"/>
            <a:ext cx="7848720" cy="449604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who are only one species, and who can see all of the colors of the spectrum have a </a:t>
            </a:r>
            <a:r>
              <a:rPr b="0" lang="en-US" sz="2400" spc="-1" strike="noStrike" u="sng">
                <a:solidFill>
                  <a:srgbClr val="ffffff"/>
                </a:solidFill>
                <a:uFillTx/>
                <a:latin typeface="Times New Roman"/>
              </a:rPr>
              <a:t>trichromatic visual system</a:t>
            </a:r>
            <a:r>
              <a:rPr b="0" lang="en-US" sz="2400" spc="-1" strike="noStrike">
                <a:solidFill>
                  <a:srgbClr val="ffffff"/>
                </a:solidFill>
                <a:latin typeface="Times New Roman"/>
              </a:rPr>
              <a:t>. They have blue, green and yellow/orange sensitive cones in their ey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u="sng">
                <a:solidFill>
                  <a:srgbClr val="ffffff"/>
                </a:solidFill>
                <a:uFillTx/>
                <a:latin typeface="Times New Roman"/>
              </a:rPr>
              <a:t>fish may be trichromatic</a:t>
            </a:r>
            <a:r>
              <a:rPr b="0" lang="en-US" sz="2400" spc="-1" strike="noStrike">
                <a:solidFill>
                  <a:srgbClr val="ffffff"/>
                </a:solidFill>
                <a:latin typeface="Times New Roman"/>
              </a:rPr>
              <a:t>, and have three color pigments The retina of these fishes will have the cones arranged in a matrix. This might be a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sensitive cone surrounded by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orange/yellow</a:t>
            </a:r>
            <a:r>
              <a:rPr b="0" lang="en-US" sz="2400" spc="-1" strike="noStrike">
                <a:solidFill>
                  <a:srgbClr val="ffffff"/>
                </a:solidFill>
                <a:latin typeface="Times New Roman"/>
              </a:rPr>
              <a:t> sensitive cone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he fish may be dichromatic </a:t>
            </a:r>
            <a:r>
              <a:rPr b="0" lang="en-US" sz="2400" spc="-1" strike="noStrike">
                <a:solidFill>
                  <a:srgbClr val="ffffff"/>
                </a:solidFill>
                <a:latin typeface="Times New Roman"/>
              </a:rPr>
              <a:t>(deep water species) and have two color pigments. The retina of such fish might be made up of only two color sensitive cones,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in which case it will be a blue sensitive cone surrounded by green sensitive cones. </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kolosi, Andrew (1999)</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lateralization is revealed in the zebrafish by preferential eye u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s according to the visual stimulus that is being fixated</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ght eye</a:t>
            </a:r>
            <a:r>
              <a:rPr b="0" lang="en-US" sz="2800" spc="-1" strike="noStrike">
                <a:solidFill>
                  <a:srgbClr val="ffffff"/>
                </a:solidFill>
                <a:latin typeface="Times New Roman"/>
              </a:rPr>
              <a:t> is used when the stimulus (or scene) is such as to require a careful period of examination in order to decide on a respon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ft eye</a:t>
            </a:r>
            <a:r>
              <a:rPr b="0" lang="en-US" sz="2800" spc="-1" strike="noStrike">
                <a:solidFill>
                  <a:srgbClr val="ffffff"/>
                </a:solidFill>
                <a:latin typeface="Times New Roman"/>
              </a:rPr>
              <a:t> is used when the fish has to check whether an identical stimulus has been seen before.</a:t>
            </a:r>
            <a:endParaRPr b="0" lang="en-US" sz="2800" spc="-1" strike="noStrike">
              <a:solidFill>
                <a:srgbClr val="ffffff"/>
              </a:solidFill>
              <a:latin typeface="Times New Roman"/>
            </a:endParaRPr>
          </a:p>
        </p:txBody>
      </p:sp>
      <p:sp>
        <p:nvSpPr>
          <p:cNvPr id="185"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uble cone is a cone with a secondary cone wrapped about i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ds, reptiles, fish, and amphibians all have double con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sts hypothesize that double cones allow certain color processing functions to happen at the cone instead of at the ganglion.</a:t>
            </a:r>
            <a:endParaRPr b="0" lang="en-US" sz="3200" spc="-1" strike="noStrike">
              <a:solidFill>
                <a:srgbClr val="ffffff"/>
              </a:solidFill>
              <a:latin typeface="Times New Roman"/>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pic>
        <p:nvPicPr>
          <p:cNvPr id="191" name="Picture 3" descr="Recept"/>
          <p:cNvPicPr/>
          <p:nvPr/>
        </p:nvPicPr>
        <p:blipFill>
          <a:blip r:embed="rId1"/>
          <a:stretch/>
        </p:blipFill>
        <p:spPr>
          <a:xfrm>
            <a:off x="3733920" y="2438280"/>
            <a:ext cx="1666800" cy="2457720"/>
          </a:xfrm>
          <a:prstGeom prst="rect">
            <a:avLst/>
          </a:prstGeom>
          <a:ln w="0">
            <a:noFill/>
          </a:ln>
        </p:spPr>
      </p:pic>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es in fish are arranged in a pattern in the retina known as the cone mosa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mosaics exist: Square and R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terns are dependent on the species of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urpose for the mosaic has been found yet.</a:t>
            </a:r>
            <a:endParaRPr b="0" lang="en-US" sz="3200" spc="-1" strike="noStrike">
              <a:solidFill>
                <a:srgbClr val="ffffff"/>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197" name="Picture 4" descr="mosaics1%20copy"/>
          <p:cNvPicPr/>
          <p:nvPr/>
        </p:nvPicPr>
        <p:blipFill>
          <a:blip r:embed="rId1"/>
          <a:stretch/>
        </p:blipFill>
        <p:spPr>
          <a:xfrm>
            <a:off x="1676520" y="1600200"/>
            <a:ext cx="6086520" cy="2495520"/>
          </a:xfrm>
          <a:prstGeom prst="rect">
            <a:avLst/>
          </a:prstGeom>
          <a:ln w="0">
            <a:noFill/>
          </a:ln>
        </p:spPr>
      </p:pic>
      <p:sp>
        <p:nvSpPr>
          <p:cNvPr id="198" name="Text Box 5"/>
          <p:cNvSpPr/>
          <p:nvPr/>
        </p:nvSpPr>
        <p:spPr>
          <a:xfrm>
            <a:off x="2060640" y="4572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ebrafish (Row Mosaic)</a:t>
            </a:r>
            <a:endParaRPr b="0" lang="en-US" sz="1800" spc="-1" strike="noStrike">
              <a:solidFill>
                <a:srgbClr val="ffffff"/>
              </a:solidFill>
              <a:latin typeface="Times New Roman"/>
            </a:endParaRPr>
          </a:p>
        </p:txBody>
      </p:sp>
      <p:sp>
        <p:nvSpPr>
          <p:cNvPr id="199" name="Text Box 6"/>
          <p:cNvSpPr/>
          <p:nvPr/>
        </p:nvSpPr>
        <p:spPr>
          <a:xfrm>
            <a:off x="4804560" y="4572000"/>
            <a:ext cx="27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aka (Square Mosaic)</a:t>
            </a:r>
            <a:endParaRPr b="0" lang="en-US" sz="1800" spc="-1" strike="noStrike">
              <a:solidFill>
                <a:srgbClr val="ffffff"/>
              </a:solidFill>
              <a:latin typeface="Times New Roman"/>
            </a:endParaRPr>
          </a:p>
        </p:txBody>
      </p:sp>
      <p:sp>
        <p:nvSpPr>
          <p:cNvPr id="2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202" name="Picture 4" descr="freshwatermosaic"/>
          <p:cNvPicPr/>
          <p:nvPr/>
        </p:nvPicPr>
        <p:blipFill>
          <a:blip r:embed="rId1"/>
          <a:stretch/>
        </p:blipFill>
        <p:spPr>
          <a:xfrm>
            <a:off x="838080" y="1676520"/>
            <a:ext cx="3210120" cy="1981080"/>
          </a:xfrm>
          <a:prstGeom prst="rect">
            <a:avLst/>
          </a:prstGeom>
          <a:ln w="0">
            <a:noFill/>
          </a:ln>
        </p:spPr>
      </p:pic>
      <p:pic>
        <p:nvPicPr>
          <p:cNvPr id="203" name="Picture 5" descr="coastallittoalmosaic"/>
          <p:cNvPicPr/>
          <p:nvPr/>
        </p:nvPicPr>
        <p:blipFill>
          <a:blip r:embed="rId2"/>
          <a:stretch/>
        </p:blipFill>
        <p:spPr>
          <a:xfrm>
            <a:off x="4952880" y="1676520"/>
            <a:ext cx="3524400" cy="1981080"/>
          </a:xfrm>
          <a:prstGeom prst="rect">
            <a:avLst/>
          </a:prstGeom>
          <a:ln w="0">
            <a:noFill/>
          </a:ln>
        </p:spPr>
      </p:pic>
      <p:pic>
        <p:nvPicPr>
          <p:cNvPr id="204" name="Picture 6" descr="Coastalmosaic"/>
          <p:cNvPicPr/>
          <p:nvPr/>
        </p:nvPicPr>
        <p:blipFill>
          <a:blip r:embed="rId3"/>
          <a:stretch/>
        </p:blipFill>
        <p:spPr>
          <a:xfrm>
            <a:off x="2895480" y="4038480"/>
            <a:ext cx="3143520" cy="19814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major types of visual pigments:</a:t>
            </a:r>
            <a:br>
              <a:rPr sz="4400"/>
            </a:br>
            <a:endParaRPr b="0" lang="en-US" sz="4400" spc="-1" strike="noStrike">
              <a:solidFill>
                <a:srgbClr val="ffcc66"/>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odopsi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phyropsi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ther types that appear in some f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ynurenine (3-hydroxykynurenine) (37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enoids (425-48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sporine-like amino acid (300-360n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 including the Japanese dace fish, carp and the common goldfish can see UV ligh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 concentrated in forward and backward direc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le to resolve 10cm object at 50m (typical for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fish has larger than average eyes which don't improve visual acuity, but are better able to see while moving at high spee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predator</a:t>
            </a:r>
            <a:endParaRPr b="0" lang="en-US" sz="3200" spc="-1" strike="noStrike">
              <a:solidFill>
                <a:srgbClr val="ffffff"/>
              </a:solidFill>
              <a:latin typeface="Times New Roman"/>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photoreceptors concentrated in part of eye that faces 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eye that faces down contains photoreceptors sensitive to lig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clear-water environ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yond the Visible Spectrum</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a:t>
            </a:r>
            <a:r>
              <a:rPr b="0" lang="en-US" sz="3200" spc="-1" strike="noStrike" u="sng">
                <a:solidFill>
                  <a:srgbClr val="ffffff"/>
                </a:solidFill>
                <a:uFillTx/>
                <a:latin typeface="Times New Roman"/>
              </a:rPr>
              <a:t>fishes may see infrared</a:t>
            </a:r>
            <a:r>
              <a:rPr b="0" lang="en-US" sz="3200" spc="-1" strike="noStrike">
                <a:solidFill>
                  <a:srgbClr val="ffffff"/>
                </a:solidFill>
                <a:latin typeface="Times New Roman"/>
              </a:rPr>
              <a:t> and one species at least, the blue, or slimy, mackerel, does see </a:t>
            </a:r>
            <a:r>
              <a:rPr b="0" lang="en-US" sz="3200" spc="-1" strike="noStrike" u="sng">
                <a:solidFill>
                  <a:srgbClr val="ffffff"/>
                </a:solidFill>
                <a:uFillTx/>
                <a:latin typeface="Times New Roman"/>
              </a:rPr>
              <a:t>ultra viole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Similarities</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need at least two color sensors before the brain can discriminate color hue or difference. </a:t>
            </a:r>
            <a:endParaRPr b="0" lang="en-US" sz="2800" spc="-1" strike="noStrike">
              <a:solidFill>
                <a:srgbClr val="ffffff"/>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y Scale Visi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ods are for gray scale vision and merely count photons regardless of color.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2000" spc="-1" strike="noStrike">
              <a:solidFill>
                <a:srgbClr val="ffffff"/>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flective Eye</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24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ye</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receptor proper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retina</a:t>
            </a:r>
            <a:endParaRPr b="0" lang="en-US" sz="3200" spc="-1" strike="noStrike">
              <a:solidFill>
                <a:srgbClr val="ffffff"/>
              </a:solidFill>
              <a:latin typeface="Times New Roman"/>
            </a:endParaRPr>
          </a:p>
        </p:txBody>
      </p:sp>
      <p:pic>
        <p:nvPicPr>
          <p:cNvPr id="129" name="Picture 4" descr="&#13;kal7f0607.jpg                                                  0002BE5E_x0005_Gumby                          B34360BF:"/>
          <p:cNvPicPr/>
          <p:nvPr/>
        </p:nvPicPr>
        <p:blipFill>
          <a:blip r:embed="rId1"/>
          <a:stretch/>
        </p:blipFill>
        <p:spPr>
          <a:xfrm>
            <a:off x="5257800" y="1981080"/>
            <a:ext cx="2514600" cy="192744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304920"/>
            <a:ext cx="236232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Times New Roman"/>
              </a:rPr>
              <a:t>05-03</a:t>
            </a:r>
            <a:endParaRPr b="0" lang="en-US" sz="900" spc="-1" strike="noStrike">
              <a:solidFill>
                <a:srgbClr val="ffcc66"/>
              </a:solidFill>
              <a:latin typeface="Times New Roman"/>
            </a:endParaRPr>
          </a:p>
        </p:txBody>
      </p:sp>
      <p:pic>
        <p:nvPicPr>
          <p:cNvPr id="132" name="Picture 3" descr="C:\WINDOWS\Desktop\CogNeur-NML\ch05-good\Fig. 05.03!.tif"/>
          <p:cNvPicPr/>
          <p:nvPr/>
        </p:nvPicPr>
        <p:blipFill>
          <a:blip r:embed="rId1"/>
          <a:stretch/>
        </p:blipFill>
        <p:spPr>
          <a:xfrm>
            <a:off x="0" y="274680"/>
            <a:ext cx="9144000" cy="6307200"/>
          </a:xfrm>
          <a:prstGeom prst="rect">
            <a:avLst/>
          </a:prstGeom>
          <a:ln w="0">
            <a:noFill/>
          </a:ln>
        </p:spPr>
      </p:pic>
      <p:sp>
        <p:nvSpPr>
          <p:cNvPr id="133" name="Text Box 4"/>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Times New Roman"/>
              </a:rPr>
              <a:t>W. W. Norton</a:t>
            </a:r>
            <a:endParaRPr b="0" lang="en-US" sz="1200" spc="-1" strike="noStrike">
              <a:solidFill>
                <a:srgbClr val="ffffff"/>
              </a:solidFill>
              <a:latin typeface="Times New Roman"/>
            </a:endParaRPr>
          </a:p>
        </p:txBody>
      </p:sp>
      <p:sp>
        <p:nvSpPr>
          <p:cNvPr id="134" name="Text Box 5"/>
          <p:cNvSpPr/>
          <p:nvPr/>
        </p:nvSpPr>
        <p:spPr>
          <a:xfrm>
            <a:off x="3107520" y="36504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hotoreceptors</a:t>
            </a:r>
            <a:endParaRPr b="0" lang="en-US" sz="2400" spc="-1" strike="noStrike">
              <a:solidFill>
                <a:srgbClr val="ffffff"/>
              </a:solidFill>
              <a:latin typeface="Times New Roman"/>
            </a:endParaRPr>
          </a:p>
        </p:txBody>
      </p:sp>
      <p:pic>
        <p:nvPicPr>
          <p:cNvPr id="135" name="Picture 6" descr="&#13;kal7f0607.jpg                                                  0002BE5E_x0005_Gumby                          B34360BF:"/>
          <p:cNvPicPr/>
          <p:nvPr/>
        </p:nvPicPr>
        <p:blipFill>
          <a:blip r:embed="rId2"/>
          <a:stretch/>
        </p:blipFill>
        <p:spPr>
          <a:xfrm>
            <a:off x="0" y="0"/>
            <a:ext cx="1219320" cy="933480"/>
          </a:xfrm>
          <a:prstGeom prst="rect">
            <a:avLst/>
          </a:prstGeom>
          <a:ln w="0">
            <a:noFill/>
          </a:ln>
        </p:spPr>
      </p:pic>
      <p:sp>
        <p:nvSpPr>
          <p:cNvPr id="13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usmic et al. (1992)</a:t>
            </a:r>
            <a:endParaRPr b="0" lang="en-US" sz="4400" spc="-1" strike="noStrike">
              <a:solidFill>
                <a:srgbClr val="ffcc66"/>
              </a:solidFill>
              <a:latin typeface="Times New Roman"/>
            </a:endParaRPr>
          </a:p>
        </p:txBody>
      </p:sp>
      <p:sp>
        <p:nvSpPr>
          <p:cNvPr id="138"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inal rods contain a visual pigment with max at 512 n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 trout the retinal cone system consists of single and double cones with pigments having peaks a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3 nm (single cones and one member of double con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30 nm (single cones and one member of double con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98 nm (one member of double cones)</a:t>
            </a:r>
            <a:endParaRPr b="0" lang="en-US" sz="2400" spc="-1" strike="noStrike">
              <a:solidFill>
                <a:srgbClr val="ffffff"/>
              </a:solidFill>
              <a:latin typeface="Times New Roman"/>
            </a:endParaRPr>
          </a:p>
        </p:txBody>
      </p:sp>
      <p:pic>
        <p:nvPicPr>
          <p:cNvPr id="139" name="Picture 4" descr="&#13;kal7f0607.jpg                                                  0002BE5E_x0005_Gumby                          B34360BF:"/>
          <p:cNvPicPr/>
          <p:nvPr/>
        </p:nvPicPr>
        <p:blipFill>
          <a:blip r:embed="rId1"/>
          <a:stretch/>
        </p:blipFill>
        <p:spPr>
          <a:xfrm>
            <a:off x="0" y="0"/>
            <a:ext cx="1219320" cy="933480"/>
          </a:xfrm>
          <a:prstGeom prst="rect">
            <a:avLst/>
          </a:prstGeom>
          <a:ln w="0">
            <a:noFill/>
          </a:ln>
        </p:spPr>
      </p:pic>
      <p:sp>
        <p:nvSpPr>
          <p:cNvPr id="14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2:16:27Z</dcterms:created>
  <dc:creator>Juveria Kanodia</dc:creator>
  <dc:description/>
  <dc:language>en-US</dc:language>
  <cp:lastModifiedBy>LEGION</cp:lastModifiedBy>
  <dcterms:modified xsi:type="dcterms:W3CDTF">2018-03-12T09:19:56Z</dcterms:modified>
  <cp:revision>35</cp:revision>
  <dc:subject/>
  <dc:title>How Fish see things differently than Humans</dc:title>
</cp:coreProperties>
</file>