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6157-1587-45FC-BDAF-5A6B46CC9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628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6496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Population ecolo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populations in relation to environment, including environmental influences on density and distribution, age structure, and population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individuals of a single species living in the same general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be classified into three general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 death rates during early and middle life, then an increase among older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eath rate is constant over the organism’s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death rates for the young, then a slower death rate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3_06SurvivorshipCurves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52280" y="0"/>
            <a:ext cx="533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orship 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98560" y="1054080"/>
            <a:ext cx="738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0680" y="2419200"/>
            <a:ext cx="490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73320" y="3772080"/>
            <a:ext cx="33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57280" y="5118120"/>
            <a:ext cx="160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92360" y="5435640"/>
            <a:ext cx="16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91240" y="5435640"/>
            <a:ext cx="35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947000" y="5435640"/>
            <a:ext cx="490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006880" y="28638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146400" y="46800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867040" y="5810400"/>
            <a:ext cx="4268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maximum life s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 rot="16200000">
            <a:off x="-1481400" y="3103920"/>
            <a:ext cx="4268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34160" y="1339920"/>
            <a:ext cx="21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Ra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pecies with sexual reproduction, demographers often concentrate on females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reproductive 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fertility sche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age-specific summary of the reproductive rates in a population.  It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scribes reproductive patterns of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ife history traits are products of natur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life his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the traits that affect its schedule of reproduction and survi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he age at which reproductio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often the organism re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many offspring are produced during each reproductiv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are evolutionary outcomes reflected in the development, physiology, and behavior of an org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 and Life History Diver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5400" y="99072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ies are very dive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el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g-bang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reproduce once and d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o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ed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 offspring repeated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variable or unpredictable environments likely favor big-bang reproduction, while dependable environments may favor repeate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de-offs”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4320" y="11746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90910"/>
                </a:solidFill>
                <a:latin typeface="Arial"/>
              </a:rPr>
              <a:t>Organisms have finite resources, which may lead to trade-offs between survival and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imals, parental care of smaller broods may facilitate survival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nts, like the dandelion, produce a large number of small seeds, ensuring that at least some of them will grow and eventually reprodu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3_09-SeedCropSize-U"/>
          <p:cNvPicPr/>
          <p:nvPr/>
        </p:nvPicPr>
        <p:blipFill>
          <a:blip r:embed="rId1"/>
          <a:stretch/>
        </p:blipFill>
        <p:spPr>
          <a:xfrm>
            <a:off x="2081160" y="174600"/>
            <a:ext cx="4981680" cy="658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Variation in the size of seed crop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24000" y="3124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and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17880" y="634356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oconut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xponential model describes population growth in an idealized, unlimited environ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5400" y="159660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study population growth in an idealized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ed situations help us understand the capacity of species to increase and the conditions that may facilitate thi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4760" y="114264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Zero population grow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birth rate equals the death 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cologists use differential calculus to express population growth as growth rate at a particular instant in ti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3699720" y="4002120"/>
            <a:ext cx="1476720" cy="989280"/>
            <a:chOff x="3699720" y="4002120"/>
            <a:chExt cx="1476720" cy="989280"/>
          </a:xfrm>
        </p:grpSpPr>
        <p:sp>
          <p:nvSpPr>
            <p:cNvPr id="209" name="Text Box 10"/>
            <p:cNvSpPr/>
            <p:nvPr/>
          </p:nvSpPr>
          <p:spPr>
            <a:xfrm>
              <a:off x="3699720" y="4002120"/>
              <a:ext cx="694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865680" y="44863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778200" y="4305240"/>
              <a:ext cx="523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233240" y="4170600"/>
              <a:ext cx="471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588920" y="4210200"/>
              <a:ext cx="587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593640" y="5038560"/>
            <a:ext cx="847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opulation siz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time,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er capita rate of increase = birth –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ponential Growt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910"/>
                </a:solidFill>
                <a:latin typeface="Arial"/>
              </a:rPr>
              <a:t>Exponential population grow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opulation increase under idealiz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se conditions, the rate of reproduction is at its maximum, called the intrinsic rate of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population growth results in a </a:t>
            </a: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J-shaped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Exponential Growth is not susta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ynamic biological processes influence population density, dispersion, and 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4320" y="159984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number of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individuals per unit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isper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pattern of spac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ong individuals within the boundaries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is the result of an interplay between processes that add individuals to a population and those that remove individu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53_10ExponGrowthPredict-U"/>
          <p:cNvPicPr/>
          <p:nvPr/>
        </p:nvPicPr>
        <p:blipFill>
          <a:blip r:embed="rId1"/>
          <a:stretch/>
        </p:blipFill>
        <p:spPr>
          <a:xfrm>
            <a:off x="511200" y="304920"/>
            <a:ext cx="8121600" cy="6454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228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0910"/>
                </a:solidFill>
                <a:latin typeface="Arial"/>
              </a:rPr>
              <a:t>Exponential Growt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521160" y="6140520"/>
            <a:ext cx="300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6372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77496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60376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52148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609560" y="543564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317600" y="4222800"/>
            <a:ext cx="458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095480" y="300348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95480" y="177156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095480" y="56520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67280" y="112392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95560" y="1149480"/>
            <a:ext cx="274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610080" y="990720"/>
            <a:ext cx="414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54360" y="132732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594240" y="1257480"/>
            <a:ext cx="32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6235560" y="22795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708600" y="21528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537240" y="2178000"/>
            <a:ext cx="274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251400" y="2019240"/>
            <a:ext cx="41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296040" y="235584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 rot="16200000">
            <a:off x="-370440" y="2748240"/>
            <a:ext cx="2459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53_11ExponGrowthElephant-U"/>
          <p:cNvPicPr/>
          <p:nvPr/>
        </p:nvPicPr>
        <p:blipFill>
          <a:blip r:embed="rId1"/>
          <a:stretch/>
        </p:blipFill>
        <p:spPr>
          <a:xfrm>
            <a:off x="290520" y="568440"/>
            <a:ext cx="8561520" cy="579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The J-shaped curve of exponential growth characterizes some </a:t>
            </a:r>
            <a:br>
              <a:rPr sz="2000"/>
            </a:b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                    rebounding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38240" y="85716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038240" y="19051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38240" y="29527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38240" y="400068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552680" y="5060880"/>
            <a:ext cx="1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146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702320" y="5359320"/>
            <a:ext cx="591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251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87068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64120" y="575928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 rot="16200000">
            <a:off x="-624600" y="2811960"/>
            <a:ext cx="272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ephant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60956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760" y="759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4320" y="1598760"/>
            <a:ext cx="853416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 growth cannot be sustained for long in any population.  A more realistic population model limits growth by incorporating carrying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Carrying capacity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the maximum population size the environment can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istic population grow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, 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te of increase declines as carrying capacity is reac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logistic 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pulation growth produces a sigmoid (S-shaped)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53_12LogisticGrowth-U"/>
          <p:cNvPicPr/>
          <p:nvPr/>
        </p:nvPicPr>
        <p:blipFill>
          <a:blip r:embed="rId1"/>
          <a:stretch/>
        </p:blipFill>
        <p:spPr>
          <a:xfrm>
            <a:off x="749160" y="304920"/>
            <a:ext cx="7645680" cy="6454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52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Logistic Grow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24080" y="914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324080" y="2057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324080" y="32130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527120" y="4362480"/>
            <a:ext cx="43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806480" y="5499000"/>
            <a:ext cx="198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041560" y="5791320"/>
            <a:ext cx="1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844800" y="5791320"/>
            <a:ext cx="198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55948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35660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584520" y="616572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 rot="16200000">
            <a:off x="-46800" y="2805840"/>
            <a:ext cx="2338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432240" y="393840"/>
            <a:ext cx="14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206960" y="1174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035600" y="1206360"/>
            <a:ext cx="185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11600" y="1054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736800" y="1378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3676680" y="13082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565600" y="3568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5394240" y="3600360"/>
            <a:ext cx="185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070600" y="3448080"/>
            <a:ext cx="38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5095800" y="3772080"/>
            <a:ext cx="382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48280" y="37018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2346480" y="2292480"/>
            <a:ext cx="1144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5318280" y="3067200"/>
            <a:ext cx="2020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6353280" y="3429000"/>
            <a:ext cx="1190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537240" y="3753000"/>
            <a:ext cx="617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6375240" y="369576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4"/>
          <p:cNvSpPr/>
          <p:nvPr/>
        </p:nvSpPr>
        <p:spPr>
          <a:xfrm>
            <a:off x="623088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/>
          <p:cNvSpPr/>
          <p:nvPr/>
        </p:nvSpPr>
        <p:spPr>
          <a:xfrm flipH="1">
            <a:off x="741204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Real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4760" y="11743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wth of laboratory populations of paramecia fits an S-shaped cur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organisms are grown in a constant environment lacking predators and competi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oversho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settling down to a relatively stable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53_13-PopGrowthCurves-U"/>
          <p:cNvPicPr/>
          <p:nvPr/>
        </p:nvPicPr>
        <p:blipFill>
          <a:blip r:embed="rId1"/>
          <a:stretch/>
        </p:blipFill>
        <p:spPr>
          <a:xfrm>
            <a:off x="297000" y="1536840"/>
            <a:ext cx="8548560" cy="3859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152280" y="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wth of laboratory populations fits an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S-shaped cu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hovers around the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Carrying Capac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area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.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08120" y="1930320"/>
            <a:ext cx="446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3920" y="23684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53920" y="28130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53920" y="325116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53920" y="3664080"/>
            <a:ext cx="3193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031760" y="4102200"/>
            <a:ext cx="12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18440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7632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5369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2353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96524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rot="16200000">
            <a:off x="-605160" y="2767680"/>
            <a:ext cx="2268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 rot="16200000">
            <a:off x="3026520" y="2767680"/>
            <a:ext cx="214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50 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29080" y="4108320"/>
            <a:ext cx="128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340160" y="374652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340160" y="335916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340160" y="3016080"/>
            <a:ext cx="2113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251240" y="191772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251240" y="228600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251240" y="265428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58784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9816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54450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9022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63658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67788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72360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76993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81565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16896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02040" y="5029200"/>
            <a:ext cx="2820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5960" y="5029200"/>
            <a:ext cx="3113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4320" y="1164960"/>
            <a:ext cx="853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favored by natural selection may vary with population density and environmental con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are sensitive to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in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maximize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ny factors that regulate population growth are density depend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general questions about regulation of population grow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al factors stop a population from growing indefini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opulations show radical fluctuations in size over time, while others remain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910"/>
                </a:solidFill>
                <a:latin typeface="Times New Roman"/>
              </a:rPr>
              <a:t>Popul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Change and Population Den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in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 and death rate do not chang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s fall and death rates ris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nsity-Dependent Population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rth and death rates are an example of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negative feedback that regulates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affected by many factors, such as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etition for resources, territoriality, disease, predation, toxic wastes, and intrinsic 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rowded populations, increasing population density intensifies competition for resources and results in a lower birth 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3320" y="990360"/>
            <a:ext cx="853452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influx of new individuals from other ar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ovement of individuals out of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it is impractical or impossible to count all individuals in a population.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Sampling techniq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sities and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total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ize can be estimated by either extrapolation from small samples, an index of population size, or 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Mark-Recapture Metho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53_16DecreasedReprod-U"/>
          <p:cNvPicPr/>
          <p:nvPr/>
        </p:nvPicPr>
        <p:blipFill>
          <a:blip r:embed="rId1"/>
          <a:stretch/>
        </p:blipFill>
        <p:spPr>
          <a:xfrm>
            <a:off x="290520" y="533520"/>
            <a:ext cx="8561520" cy="6024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Decreased reproduction at high population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927600" y="5978520"/>
            <a:ext cx="209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41320" y="568440"/>
            <a:ext cx="51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93600" y="152100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993600" y="24796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9360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993600" y="437184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146240" y="5330880"/>
            <a:ext cx="172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2542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54356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2006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78390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29052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 rot="16200000">
            <a:off x="-2104200" y="2999160"/>
            <a:ext cx="5488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juveniles producing la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rritoria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ny vertebrates and some invertebrates, competition for territory may limit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etahs are highly territorial, using chemical communication to warn other cheetahs of their bound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_17-Territoriality-U"/>
          <p:cNvPicPr/>
          <p:nvPr/>
        </p:nvPicPr>
        <p:blipFill>
          <a:blip r:embed="rId1"/>
          <a:stretch/>
        </p:blipFill>
        <p:spPr>
          <a:xfrm>
            <a:off x="2455920" y="174600"/>
            <a:ext cx="4230720" cy="6585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5228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erritoriality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505240" y="2981160"/>
            <a:ext cx="35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Cheetah marking it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492280" y="634680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Gan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ease,     Predation,   &amp;  Toxic Was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ensity can influence the health and survival of organisms.  In dense populations, pathogens can spread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rey population builds up, predators may feed preferentially on tha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of toxic wastes can contribute to density-dependent regulation of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populations,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intrins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hysiological)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fact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 to regulat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pulation 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dynamic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the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lex interactions between biotic and abiotic factors that cause variation in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population studies have challenged the hypothesis that populations of large mammals are relatively stabl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ther can affect population siz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3_19MooseWolfPop-U"/>
          <p:cNvPicPr/>
          <p:nvPr/>
        </p:nvPicPr>
        <p:blipFill>
          <a:blip r:embed="rId1"/>
          <a:stretch/>
        </p:blipFill>
        <p:spPr>
          <a:xfrm>
            <a:off x="297000" y="573120"/>
            <a:ext cx="8548560" cy="5786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predation pressure can drive population fluctuations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479680" y="1419120"/>
            <a:ext cx="998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479760" y="1581120"/>
            <a:ext cx="26676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91240" y="1419120"/>
            <a:ext cx="858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5702400" y="1587600"/>
            <a:ext cx="26676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15360" y="99360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15360" y="1800360"/>
            <a:ext cx="680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08880" y="2612880"/>
            <a:ext cx="68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08880" y="3419640"/>
            <a:ext cx="681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15360" y="423216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6200000">
            <a:off x="7344360" y="2739240"/>
            <a:ext cx="2401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515360" y="504504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16200000">
            <a:off x="-548280" y="2738520"/>
            <a:ext cx="2452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930240" y="10000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930240" y="18064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930240" y="26128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93024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930240" y="423216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1089000" y="5045040"/>
            <a:ext cx="198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12068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227664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43836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4613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756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9120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067280" y="573732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pulation Cycles: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undergo regular boom-and-bust cy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x populations follow the 10 year boom-and-bust cycle of hare popul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hypotheses have been proposed to explain the hare’s 10-year inter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53_20-HareLynxCycles-U"/>
          <p:cNvPicPr/>
          <p:nvPr/>
        </p:nvPicPr>
        <p:blipFill>
          <a:blip r:embed="rId1"/>
          <a:stretch/>
        </p:blipFill>
        <p:spPr>
          <a:xfrm>
            <a:off x="1627200" y="174600"/>
            <a:ext cx="5889600" cy="6585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178080" y="3394080"/>
            <a:ext cx="1430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owshoe 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229360" y="4390920"/>
            <a:ext cx="515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625560" y="3581280"/>
            <a:ext cx="25380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5289480" y="4578480"/>
            <a:ext cx="15264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 rot="16200000">
            <a:off x="6401520" y="4406040"/>
            <a:ext cx="1442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 rot="16200000">
            <a:off x="1353240" y="4463280"/>
            <a:ext cx="1532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ha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97240" y="35211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2397240" y="40989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505240" y="4670280"/>
            <a:ext cx="249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2505240" y="5248440"/>
            <a:ext cx="249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12880" y="5826240"/>
            <a:ext cx="141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7716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7814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842000" y="6029280"/>
            <a:ext cx="452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588312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4429080" y="631512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6651720" y="4245120"/>
            <a:ext cx="135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6651720" y="4778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6651720" y="529272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651720" y="5813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follows a cycle of winter food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hypothesis is correct, then the cycles should stop if the food supply is increa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food was provided experimentally to a hare population, and the whole population increased in size but continued to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res appeared to have died of starv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is driven by pressure from other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study conducted by field ecologists, 90% of the hares were killed by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data support this second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53_03PopulationDynamics-U"/>
          <p:cNvPicPr/>
          <p:nvPr/>
        </p:nvPicPr>
        <p:blipFill>
          <a:blip r:embed="rId1"/>
          <a:stretch/>
        </p:blipFill>
        <p:spPr>
          <a:xfrm>
            <a:off x="293760" y="777960"/>
            <a:ext cx="8555040" cy="537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5228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Population dynamic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45960" y="123840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45960" y="335916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 and 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dividua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9840" y="5734080"/>
            <a:ext cx="1474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40320" y="339084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 and 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746760" y="1238400"/>
            <a:ext cx="878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746760" y="5734080"/>
            <a:ext cx="1341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85400" y="1176120"/>
            <a:ext cx="853452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Hypothesis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hare’s population cycle is linked to sunspot cy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spot activity affects light quality, which in turn affects the quality of the hares’ f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good correlation between sunspot activity and har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mmigration, Emigration, and Meta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popul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roups of populations linked by immigration and emig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s of immigration combined with higher survival can result in greater stability 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uman population is no longer growing exponentially but is still increasing rapidl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opulation can grow indefinitely, and humans are no exce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uman population increased relatively slowly until about 1650 and then began to grow exponenti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ugh the global population is still growing, the rate of growth began to slow during the 1960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current global population growth is concentrated in developing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53_22HumanPopGrowth-U"/>
          <p:cNvPicPr/>
          <p:nvPr/>
        </p:nvPicPr>
        <p:blipFill>
          <a:blip r:embed="rId1"/>
          <a:stretch/>
        </p:blipFill>
        <p:spPr>
          <a:xfrm>
            <a:off x="290520" y="496800"/>
            <a:ext cx="8561520" cy="5938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52280" y="0"/>
            <a:ext cx="5791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uman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787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3216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5764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108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93380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905440" y="5616720"/>
            <a:ext cx="40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6527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7346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007480" y="525456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7480" y="46069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8007480" y="396540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8007480" y="32986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8007480" y="263844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8007480" y="199080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8007480" y="134316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5892840" y="4282920"/>
            <a:ext cx="1576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la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6743880" y="4565520"/>
            <a:ext cx="41904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 rot="16200000">
            <a:off x="6661800" y="2783520"/>
            <a:ext cx="3722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an population (bill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8007480" y="7081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gional Patterns of Population Chang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aintain population stability, a regional human population can exist in one of two configur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 – High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irth rate – Low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mographic transi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ove from the first state toward the second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g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mportant demographic factor in present and future growth trends is a country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structure is the relative number of individuals at each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Age structure diagrams can predict a population’s growth 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illuminate social conditions and help us plan for the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53_25AgeStructPyramids-U"/>
          <p:cNvPicPr/>
          <p:nvPr/>
        </p:nvPicPr>
        <p:blipFill>
          <a:blip r:embed="rId1"/>
          <a:stretch/>
        </p:blipFill>
        <p:spPr>
          <a:xfrm>
            <a:off x="290520" y="1106640"/>
            <a:ext cx="8561520" cy="47196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152280" y="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Age-structure pyramids for the human population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29528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3460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225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070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334008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03900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21632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06088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33080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926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940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7785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7143840" y="1222200"/>
            <a:ext cx="103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7404120" y="1425600"/>
            <a:ext cx="46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51160" y="18572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63760" y="20350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3263760" y="22194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3263760" y="240336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3263760" y="27716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3263760" y="2587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263760" y="296244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3263760" y="3146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263760" y="333072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3263760" y="3514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3263760" y="36990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3263760" y="3889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3263760" y="4073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4"/>
          <p:cNvSpPr/>
          <p:nvPr/>
        </p:nvSpPr>
        <p:spPr>
          <a:xfrm>
            <a:off x="3263760" y="425772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5"/>
          <p:cNvSpPr/>
          <p:nvPr/>
        </p:nvSpPr>
        <p:spPr>
          <a:xfrm>
            <a:off x="3263760" y="4441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6"/>
          <p:cNvSpPr/>
          <p:nvPr/>
        </p:nvSpPr>
        <p:spPr>
          <a:xfrm>
            <a:off x="3263760" y="500076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63760" y="4816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8"/>
          <p:cNvSpPr/>
          <p:nvPr/>
        </p:nvSpPr>
        <p:spPr>
          <a:xfrm>
            <a:off x="3263760" y="46260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5950080" y="18572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0"/>
          <p:cNvSpPr/>
          <p:nvPr/>
        </p:nvSpPr>
        <p:spPr>
          <a:xfrm>
            <a:off x="5962680" y="20350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1"/>
          <p:cNvSpPr/>
          <p:nvPr/>
        </p:nvSpPr>
        <p:spPr>
          <a:xfrm>
            <a:off x="5962680" y="22194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2"/>
          <p:cNvSpPr/>
          <p:nvPr/>
        </p:nvSpPr>
        <p:spPr>
          <a:xfrm>
            <a:off x="5962680" y="240336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5962680" y="27716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5962680" y="2587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5962680" y="296244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5962680" y="3146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5962680" y="333072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5962680" y="3514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962680" y="36990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5962680" y="3889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5962680" y="4073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5962680" y="425772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962680" y="4441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4"/>
          <p:cNvSpPr/>
          <p:nvPr/>
        </p:nvSpPr>
        <p:spPr>
          <a:xfrm>
            <a:off x="5962680" y="500076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5"/>
          <p:cNvSpPr/>
          <p:nvPr/>
        </p:nvSpPr>
        <p:spPr>
          <a:xfrm>
            <a:off x="5962680" y="4816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5962680" y="46260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36180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8"/>
          <p:cNvSpPr/>
          <p:nvPr/>
        </p:nvSpPr>
        <p:spPr>
          <a:xfrm>
            <a:off x="31748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9"/>
          <p:cNvSpPr/>
          <p:nvPr/>
        </p:nvSpPr>
        <p:spPr>
          <a:xfrm>
            <a:off x="61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2870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2590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895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1174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4"/>
          <p:cNvSpPr/>
          <p:nvPr/>
        </p:nvSpPr>
        <p:spPr>
          <a:xfrm>
            <a:off x="2305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025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6"/>
          <p:cNvSpPr/>
          <p:nvPr/>
        </p:nvSpPr>
        <p:spPr>
          <a:xfrm>
            <a:off x="1454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1739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8"/>
          <p:cNvSpPr/>
          <p:nvPr/>
        </p:nvSpPr>
        <p:spPr>
          <a:xfrm>
            <a:off x="94608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3943440" y="5407200"/>
            <a:ext cx="1842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666756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55818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2"/>
          <p:cNvSpPr/>
          <p:nvPr/>
        </p:nvSpPr>
        <p:spPr>
          <a:xfrm>
            <a:off x="38862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41655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29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5"/>
          <p:cNvSpPr/>
          <p:nvPr/>
        </p:nvSpPr>
        <p:spPr>
          <a:xfrm>
            <a:off x="50166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6"/>
          <p:cNvSpPr/>
          <p:nvPr/>
        </p:nvSpPr>
        <p:spPr>
          <a:xfrm>
            <a:off x="444492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7"/>
          <p:cNvSpPr/>
          <p:nvPr/>
        </p:nvSpPr>
        <p:spPr>
          <a:xfrm>
            <a:off x="47307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8"/>
          <p:cNvSpPr/>
          <p:nvPr/>
        </p:nvSpPr>
        <p:spPr>
          <a:xfrm>
            <a:off x="360684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9"/>
          <p:cNvSpPr/>
          <p:nvPr/>
        </p:nvSpPr>
        <p:spPr>
          <a:xfrm>
            <a:off x="58611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0"/>
          <p:cNvSpPr/>
          <p:nvPr/>
        </p:nvSpPr>
        <p:spPr>
          <a:xfrm>
            <a:off x="8305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1"/>
          <p:cNvSpPr/>
          <p:nvPr/>
        </p:nvSpPr>
        <p:spPr>
          <a:xfrm>
            <a:off x="6610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6889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8020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4"/>
          <p:cNvSpPr/>
          <p:nvPr/>
        </p:nvSpPr>
        <p:spPr>
          <a:xfrm>
            <a:off x="7740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5"/>
          <p:cNvSpPr/>
          <p:nvPr/>
        </p:nvSpPr>
        <p:spPr>
          <a:xfrm>
            <a:off x="7169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6"/>
          <p:cNvSpPr/>
          <p:nvPr/>
        </p:nvSpPr>
        <p:spPr>
          <a:xfrm>
            <a:off x="7454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6330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8"/>
          <p:cNvSpPr/>
          <p:nvPr/>
        </p:nvSpPr>
        <p:spPr>
          <a:xfrm>
            <a:off x="8585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stimates of Earth’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humans can the biosphere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rrying capacity of Earth for humans is uncert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verage estimate is 10–15 bill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mits on Human Population Siz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ecological footpr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ummarizes the aggregate land and water area needed to sustain the people of a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one measure of how close we are to the carrying capacity of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ies vary greatly in footprint size and available ecological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Our carrying capacity could potentially be limited by food, space, nonrenewable resources, or buildup of was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53_UN03Summary-U"/>
          <p:cNvPicPr/>
          <p:nvPr/>
        </p:nvPicPr>
        <p:blipFill>
          <a:blip r:embed="rId1"/>
          <a:stretch/>
        </p:blipFill>
        <p:spPr>
          <a:xfrm>
            <a:off x="1736640" y="1092240"/>
            <a:ext cx="5670720" cy="4749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152280" y="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Review:  Population Growth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238560" y="5172120"/>
            <a:ext cx="34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9080" y="2066760"/>
            <a:ext cx="34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 rot="16200000">
            <a:off x="413280" y="2580120"/>
            <a:ext cx="341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213520" y="3641760"/>
            <a:ext cx="90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559400" y="3483000"/>
            <a:ext cx="47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16280" y="3851280"/>
            <a:ext cx="471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91040" y="3673440"/>
            <a:ext cx="223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556160" y="37908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210360" y="3457440"/>
            <a:ext cx="909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–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496200" y="3851280"/>
            <a:ext cx="357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6216480" y="3778200"/>
            <a:ext cx="7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129360" y="3460680"/>
            <a:ext cx="871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 flipH="1">
            <a:off x="7036560" y="3460680"/>
            <a:ext cx="87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s of Disper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nd social factors influence spacing of individual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clum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individuals aggregate in patches. A clumped dispersion may be influenced by resource availability and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uni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 is one in which individuals are evenly distributed. It may be influenced by social interactions such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ritori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nd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the position of each individual is independent of other individuals.  It occurs in the absence of strong attractions or repul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6920" y="1176480"/>
            <a:ext cx="8534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ecologists may estimate the density of a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117648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limited resources and trade-offs may affect life hi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density-dependent and density-independent factors may affect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biotic and abiotic factors may work together to control a population’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53_04-DispersionPatterns-U"/>
          <p:cNvPicPr/>
          <p:nvPr/>
        </p:nvPicPr>
        <p:blipFill>
          <a:blip r:embed="rId1"/>
          <a:stretch/>
        </p:blipFill>
        <p:spPr>
          <a:xfrm>
            <a:off x="2882880" y="168120"/>
            <a:ext cx="337824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0910"/>
                </a:solidFill>
                <a:latin typeface="Arial"/>
              </a:rPr>
              <a:t>Patterns of dispersion within a population’s geograph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24280" y="20955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930400" y="42609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917800" y="641988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mograph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the vital statistics of a population and how they chang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rates and birth rates are of particular interest to demograp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fe Tables  &amp;  Survivorship Cur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t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ge-specific summary of the survival pattern of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best made by following the fate of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oup of individuals of the same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survivorship curv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aphic way of representing the data in a life 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53_05SquirrelSurvCurve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squirrels shows relatively constant death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486320" y="5829480"/>
            <a:ext cx="183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 (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032280" y="545472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7940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74344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72436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3909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12152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7373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54240" y="3670200"/>
            <a:ext cx="35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840420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44680" y="5149800"/>
            <a:ext cx="185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873000" y="679320"/>
            <a:ext cx="738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101600" y="2178000"/>
            <a:ext cx="522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 rot="16200000">
            <a:off x="-1596240" y="2831040"/>
            <a:ext cx="452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25760" y="3905280"/>
            <a:ext cx="808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4254480" y="40514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6816600" y="3263760"/>
            <a:ext cx="121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254280" y="3359160"/>
            <a:ext cx="51444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17T12:52:30Z</cp:lastPrinted>
  <dcterms:modified xsi:type="dcterms:W3CDTF">2018-03-12T09:15:35Z</dcterms:modified>
  <cp:revision>4806</cp:revision>
  <dc:subject/>
  <dc:title>video slide</dc:title>
</cp:coreProperties>
</file>