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2170-9379-41DD-9674-AEF837419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ecology is the study of populations in relation to environment, including environmental influences on density and distribution, age structure, and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group of individuals of a single species living in the same general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ecology is the study of populations in relation to environment, including environmental influences on density and distribution, age structure, and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group of individuals of a single species living in the same general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can be classified into three general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: low death rates during early and middle life, then an increase among older ag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: the death rate is constant over the organism’s life 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I: high death rates for the young, then a slower death rate for surviv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can be classified into three general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: low death rates during early and middle life, then an increase among older ag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: the death rate is constant over the organism’s life s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I: high death rates for the young, then a slower death rate for surviv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 Cu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maximum life 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maximum life s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pecies with sexual reproduction, demographers often concentrate on females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productive table, or fertility schedule, is an age-specific summary of the reproductive rates in a population.  It describes reproductive patterns of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pecies with sexual reproduction, demographers often concentrate on females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productive table, or fertility schedule, is an age-specific summary of the reproductive rates in a population.  It describes reproductive patterns of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products of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rganism’s life history comprises the traits that affect its schedule of reproduction and surviv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 at which reproduction be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often the organism re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fspring are produced during each reproductiv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evolutionary outcomes reflected in the development, physiology, and behavior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product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rganism’s life history comprises the traits that affect its schedule of reproduction and surviv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 at which reproduction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often the organism re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fspring are produced during each reproductiv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evolutionary outcomes reflected in the development, physiology, and behavior of an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and Life History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ies are very d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semelparity, or big-bang reproduction, reproduce once and d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iteroparity, or repeated reproduction, produce offspring repeate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variable or unpredictable environments likely favor big-bang reproduction, while dependable environments may favor repeated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and Life History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ies are very d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semelparity, or big-bang reproduction, reproduce once and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iteroparity, or repeated reproduction, produce offspring repeated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variable or unpredictable environments likely favor big-bang reproduction, while dependable environments may favor repeated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-offs” and Life Hi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ms have finite resources, which may lead to trade-offs between survival and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, parental care of smaller broods may facilitate survival of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, like the dandelion, produce a large number of small seeds, ensuring that at least some of them will grow and eventually reprodu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types of plants, like the coconut tree, produce a moderate number of large seeds that provide a large store of energy that will help seedlings become establ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-offs” and Life Hi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ms have finite resources, which may lead to trade-offs between survival and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, parental care of smaller broods may facilitate survival of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, like the dandelion, produce a large number of small seeds, ensuring that at least some of them will grow and eventually reprodu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types of plants, like the coconut tree, produce a moderate number of large seeds that provide a large store of energy that will help seedlings become esta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the size of seed crops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ande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conut pa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the size of seed crops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ande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conut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onential model describes population growth in an idealized, unlimit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ful to study population growth in an idealized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ized situations help us understand the capacity of species to increase and the conditions that may facilitate this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onential model describes population growth in an idealized, unlimited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ful to study population growth in an idealized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ized situations help us understand the capacity of species to increase and the conditions that may facilitate this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occurs when the birth rate equals the death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cologists use differential calculus to express population growth as growth rate at a particular instant in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N = population size, t = time, and r = per capita rate of increase = birth –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occurs when the birth rate equals the death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cologists use differential calculus to express population growth as growth rate at a particular instant i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N = population size, t = time, and r = per capita rate of increase = birth – de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is population increase under idealized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se conditions, the rate of reproduction is at its maximum, called the intrinsic rate of inc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results in a J-shaped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is not sustai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is population increase under idealized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se conditions, the rate of reproduction is at its maximum, called the intrinsic rate of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results in a J-shaped 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is not sustain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biological processes influence population density, dispersion, and demo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number of individuals per unit area or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is the pattern of spacing among individuals within the boundaries of the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result of an interplay between processes that add individuals to a population and those that remove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biological processes influence population density, dispersion, and demo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number of individuals per unit area or volu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is the pattern of spacing among individuals within the boundaries of th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result of an interplay between processes that add individuals to a population and those that remove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-shaped curve of exponential growth characterizes s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rebounding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-shaped curve of exponential growth characterizes s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rebounding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describes how a population grows more slowly as it nears its carrying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cannot be sustained for long in any population.  A more realistic population model limits growth by incorporating carrying cap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ing capacity (K) is the maximum population size the environment can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ogistic population growth model, the rate of increase declines as carrying capacity is re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of population growth produces a sigmoid (S-shaped)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describes how a population grows more slowly as it nears its carrying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cannot be sustained for long in any population.  A more realistic population model limits growth by incorporating carrying capa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ing capacity (K) is the maximum population size the environment can sup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ogistic population growth model, the rate of increase declines as carrying capacity is rea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of population growth produces a sigmoid (S-shaped) cur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 –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 –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Real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of paramecia fits an S-shaped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rganisms are grown in a constant environment lacking predators and competi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overshoot K before settling down to a relatively stable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Real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of paramecia fits an S-shaped cur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rganisms are grown in a constant environment lacking predators and competi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overshoot K before settling down to a relatively stable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fits an S-shaped curve which hovers around the Carrying Capacity of the are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aramecium/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Daphnia/5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A Daphnia population in the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 Paramecium population in the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fits an S-shaped curve which hovers around the Carrying Capacity of the are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aramecium/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Daphnia/50 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A Daphnia population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 Paramecium population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Life Hi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favored by natural selection may vary with population density and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selection  = density-dependent selection, selects for life history traits that are sensitive to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selection  = or density-independent selection, selects for life history traits that maximize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Life Hi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favored by natural selection may vary with population density and environmental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selection  = density-dependent selection, selects for life history traits that are sensitive to population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selection  = or density-independent selection, selects for life history traits that maximize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factors that regulate population growth are density depen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general questions about regulation of population grow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nvironmental factors stop a population from growing indefini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ome populations show radical fluctuations in size over time, while others remain s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factors that regulate population growth are density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general questions about regulation of population grow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nvironmental factors stop a population from growing indefinite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ome populations show radical fluctuations in size over time, while others remain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 and Population 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independent populations, birth rate and death rate do not change with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dependent populations, birth rates fall and death rates rise with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 and Population 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independent populations, birth rate and death rate do not change with population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dependent populations, birth rates fall and death rates rise with population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Population 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birth and death rates are an example of negative feedback that regulates population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affected by many factors, such as competition for resources, territoriality, disease, predation, toxic wastes, and intrinsic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rowded populations, increasing population density intensifies competition for resources and results in a lower birth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Population Reg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birth and death rates are an example of negative feedback that regulates population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affected by many factors, such as competition for resources, territoriality, disease, predation, toxic wastes, and intrinsic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rowded populations, increasing population density intensifies competition for resources and results in a lower birth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 is the influx of new individuals from other a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 is the movement of individuals out of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it is impractical or impossible to count all individuals in a population. Sampling techniques can be used to estimate densities and total population siz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can be estimated by either extrapolation from small samples, an index of population size, or the Mark-Recapture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 is the influx of new individuals from other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 is the movement of individuals out of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it is impractical or impossible to count all individuals in a population. Sampling techniques can be used to estimate densities and total population siz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can be estimated by either extrapolation from small samples, an index of population size, or the Mark-Recapture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reproduction at high population dens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juveniles producing lam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reproduction at high population d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juveniles producing la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vertebrates and some invertebrates, competition for territory may limit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are highly territorial, using chemical communication to warn other cheetahs of their bound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vertebrates and some invertebrates, competition for territory may limit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are highly territorial, using chemical communication to warn other cheetahs of their bound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heetah marking its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Gan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heetah marking its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Gan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,     Predation,   &amp;  Toxic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ensity can influence the health and survival of organisms.  In dense populations, pathogens can spread more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prey population builds up, predators may feed preferentially on tha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toxic wastes can contribute to density-dependent regulation of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ome populations, intrinsic (physiological) factors appear to regulate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,     Predation,   &amp;  Toxic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ensity can influence the health and survival of organisms.  In dense populations, pathogens can spread more rapid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prey population builds up, predators may feed preferentially on tha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toxic wastes can contribute to density-dependent regulation of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ome populations, intrinsic (physiological) factors appear to regulate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population dynamics focuses on the complex interactions between biotic and abiotic factors that cause variation in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-term population studies have challenged the hypothesis that populations of large mammals are relatively stabl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 can affect population siz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population dynamics focuses on the complex interactions between biotic and abiotic factors that cause variation in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-term population studies have challenged the hypothesis that populations of large mammals are relatively stable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 can affect population size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predation pressure can drive population fluct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mo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predation pressure can drive population fluct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mo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ycles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undergo regular boom-and-bust cy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 populations follow the 10 year boom-and-bust cycle of hare popul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potheses have been proposed to explain the hare’s 10-year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ycles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undergo regular boom-and-bust cy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 populations follow the 10 year boom-and-bust cycle of hare pop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potheses have been proposed to explain the hare’s 10-year inter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owshoe 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l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h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owshoe 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lyn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h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1: The hare’s population cycle follows a cycle of winter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hypothesis is correct, then the cycles should stop if the food supply is increa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food was provided experimentally to a hare population, and the whole population increased in size but continued to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ares appeared to have died of star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1: The hare’s population cycle follows a cycle of winter food sup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hypothesis is correct, then the cycles should stop if the food supply is increa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food was provided experimentally to a hare population, and the whole population increased in size but continued to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ares appeared to have died of starv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2: The hare’s population cycle is driven by pressure from other preda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tudy conducted by field ecologists, 90% of the hares were killed by preda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data support this second hypo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2: The hare’s population cycle is driven by pressure from other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tudy conducted by field ecologists, 90% of the hares were killed by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data support this second hypo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 and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individual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and e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 and im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individual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and e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3: The hare’s population cycle is linked to sunspot cy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activity affects light quality, which in turn affects the quality of the hares’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good correlation between sunspot activity and hare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s of all these experiments suggest that both predation and sunspot activity regulate hare numbers and that food availability plays a less important ro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3: The hare’s population cycle is linked to sunspot cy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activity affects light quality, which in turn affects the quality of the hares’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good correlation between sunspot activity and hare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s of all these experiments suggest that both predation and sunspot activity regulate hare numbers and that food availability plays a less important 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, Emigration, and Meta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opulations are groups of populations linked by immigration and emig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levels of immigration combined with higher survival can result in greater stability i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, Emigration, and Meta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opulations are groups of populations linked by immigration and emi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levels of immigration combined with higher survival can result in greater stability i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s no longer growing exponentially but is still increasing rapi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opulation can grow indefinitely, and humans are no exce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ncreased relatively slowly until about 1650 and then began to grow exponent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the global population is still growing, the rate of growth began to slow during the 196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urrent global population growth is concentrated in developing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s no longer growing exponentially but is still increasing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opulation can grow indefinitely, and humans are no exce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ncreased relatively slowly until about 1650 and then began to grow expon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the global population is still growing, the rate of growth began to slow during the 1960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urrent global population growth is concentrated in developing cou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(bill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(bill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Patterns of Population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intain population stability, a regional human population can exist in one of two configur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irth rate – High death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birth rate – Low death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mographic transition is the move from the first state toward the seco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Patterns of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intain population stability, a regional human population can exist in one of two configur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irth rate – High death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birth rate – Low death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mographic transition is the move from the first state toward the second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mportant demographic factor in present and future growth trends is a country’s age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is the relative number of individuals at each 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diagrams can predict a population’s growth tre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illuminate social conditions and help us plan for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mportant demographic factor in present and future growth trends is a country’s age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is the relative number of individuals at each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diagrams can predict a population’s growth tr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illuminate social conditions and help us plan for the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-structure pyramids for the human population of three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ghani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-structure pyramids for the human population of three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of Earth’s Carrying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humans can the biosphere suppo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rying capacity of Earth for humans is uncer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erage estimate is 10–15 b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of Earth’s Carrying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humans can the biosphere suppo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rying capacity of Earth for humans is uncert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erage estimate is 10–15 bill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s on Human Populatio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footprint concept summarizes the aggregate land and water area needed to sustain the people of a 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ne measure of how close we are to the carrying capacity of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vary greatly in footprint size and available ecological cap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arrying capacity could potentially be limited by food, space, nonrenewable resources, or buildup of was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s on Human 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footprint concept summarizes the aggregate land and water area needed to sustain the people of a 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ne measure of how close we are to the carrying capacity of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vary greatly in footprint size and available ecological capa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arrying capacity could potentially be limited by food, space, nonrenewable resources, or buildup of was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:  Population Growth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carrying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max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–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:  Population Growth 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carrying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max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–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and social factors influence spacing of individuals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lumped dispersion, individuals aggregate in patches. A clumped dispersion may be influenced by resource availability an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form dispersion is one in which individuals are evenly distributed. It may be influenced by social interactions such as territori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random dispersion, the position of each individual is independent of other individuals.  It occurs in the absence of strong attractions or repul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and social factors influence spacing of individuals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lumped dispersion, individuals aggregate in patches. A clumped dispersion may be influenced by resource availability and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form dispersion is one in which individuals are evenly distributed. It may be influenced by social interactions such as territori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random dispersion, the position of each individual is independent of other individuals.  It occurs in the absence of strong attractions or repul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tinguish between the following sets of terms: density and dispersion; clumped dispersion, uniform dispersion, and random dispersion; life table and reproductive table; Type I, Type II, and Type III survivorship curves; semelparity and iteroparity; r-selected populations and K-selected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ecologists may estimate the density of a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tinguish between the following sets of terms: density and dispersion; clumped dispersion, uniform dispersion, and random dispersion; life table and reproductive table; Type I, Type II, and Type III survivorship curves; semelparity and iteroparity; r-selected populations and K-selected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ecologists may estimate the density of a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limited resources and trade-offs may affect life his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exponential and logistic models of population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density-dependent and density-independent factors may affect population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biotic and abiotic factors may work together to control a population’s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limited resources and trade-offs may affect life histo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exponential and logistic models of population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density-dependent and density-independent factors may affect population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biotic and abiotic factors may work together to control a population’s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 within a population’s geographic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um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Uni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 within a population’s geographic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um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Uni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y is the study of the vital statistics of a population and how they chang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rates and birth rates are of particular interest to demograp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y is the study of the vital statistics of a population and how they change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rates and birth rates are of particular interest to demograp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Tables  &amp;  Survivorship Cu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 table is an age-specific summary of the survival pattern of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st made by following the fate of a cohort, a group of individuals of the same 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ivorship curve is a graphic way of representing the data in a lif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Tables  &amp;  Survivorship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 table is an age-specific summary of the survival pattern of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st made by following the fate of a cohort, a group of individuals of the sam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ivorship curve is a graphic way of representing the data in a lif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for squirrels shows relatively constant death 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(ye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for squirrels shows relatively constant death 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(y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29376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0628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8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9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4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ver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5400" y="1164960"/>
            <a:ext cx="853452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Population ecolog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study of populations in relation to environment, including environmental influences on density and distribution, age structure, and population siz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pul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oup of individuals of a single species living in the same general ar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84320" y="1176480"/>
            <a:ext cx="853416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125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Survivorship curv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be classified into three general typ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049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ype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w death rates during early and middle life, then an increase among older ag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049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ype 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death rate is constant over the organism’s life 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049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ype I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igh death rates for the young, then a slower death rate for surviv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53_06SurvivorshipCurves-U"/>
          <p:cNvPicPr/>
          <p:nvPr/>
        </p:nvPicPr>
        <p:blipFill>
          <a:blip r:embed="rId1"/>
          <a:stretch/>
        </p:blipFill>
        <p:spPr>
          <a:xfrm>
            <a:off x="293760" y="506520"/>
            <a:ext cx="8555040" cy="59198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152280" y="0"/>
            <a:ext cx="533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vivorship 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898560" y="1054080"/>
            <a:ext cx="738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120680" y="2419200"/>
            <a:ext cx="4906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273320" y="3772080"/>
            <a:ext cx="3315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457280" y="5118120"/>
            <a:ext cx="1605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692360" y="5435640"/>
            <a:ext cx="160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791240" y="5435640"/>
            <a:ext cx="350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7947000" y="5435640"/>
            <a:ext cx="4906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5006880" y="2863800"/>
            <a:ext cx="351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146400" y="4680000"/>
            <a:ext cx="351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2867040" y="5810400"/>
            <a:ext cx="42688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centage of maximum life sp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 rot="16200000">
            <a:off x="-1481400" y="3103920"/>
            <a:ext cx="4268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umber of survivors (log sca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6734160" y="1339920"/>
            <a:ext cx="211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productive Rat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species with sexual reproduction, demographers often concentrate on females in a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reproductive ta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fertility schedu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is an age-specific summary of the reproductive rates in a population.  It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describes reproductive patterns of a pop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Life history traits are products of natur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3320" y="990720"/>
            <a:ext cx="8534520" cy="54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rganism’s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life histor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ises the traits that affect its schedule of reproduction and surviv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he age at which reproduction be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How often the organism reprodu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How many offspring are produced during each reproductiv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history traits are evolutionary outcomes reflected in the development, physiology, and behavior of an organis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volution and Life History Divers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5400" y="99072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histories are very diver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es that exhibi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melpar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g-bang reprodu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reproduce once and di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es that exhibi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teropar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peated reprodu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produce offspring repeated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ly variable or unpredictable environments likely favor big-bang reproduction, while dependable environments may favor repeated reprodu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rade-offs” and Life Histor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84320" y="1174680"/>
            <a:ext cx="853416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90910"/>
                </a:solidFill>
                <a:latin typeface="Arial"/>
              </a:rPr>
              <a:t>Organisms have finite resources, which may lead to trade-offs between survival and reprodu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nimals, parental care of smaller broods may facilitate survival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plants, like the dandelion, produce a large number of small seeds, ensuring that at least some of them will grow and eventually reprodu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types of plants, like the coconut tree, produce a moderate number of large seeds that provide a large store of energy that will help seedlings become establish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53_09-SeedCropSize-U"/>
          <p:cNvPicPr/>
          <p:nvPr/>
        </p:nvPicPr>
        <p:blipFill>
          <a:blip r:embed="rId1"/>
          <a:stretch/>
        </p:blipFill>
        <p:spPr>
          <a:xfrm>
            <a:off x="2081160" y="174600"/>
            <a:ext cx="4981680" cy="65851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6"/>
          <p:cNvSpPr/>
          <p:nvPr/>
        </p:nvSpPr>
        <p:spPr>
          <a:xfrm>
            <a:off x="152280" y="228600"/>
            <a:ext cx="1981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Variation in the size of seed crops i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24000" y="3124080"/>
            <a:ext cx="17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Dande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17880" y="634356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Coconut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133200" y="762120"/>
            <a:ext cx="8839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304920" y="14158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exponential model describes population growth in an idealized, unlimited environ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85400" y="159660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useful to study population growth in an idealized situ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lized situations help us understand the capacity of species to increase and the conditions that may facilitate this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94760" y="114264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Zero population growth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when the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birth rate equals the death r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cologists use differential calculus to express population growth as growth rate at a particular instant in ti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7"/>
          <p:cNvGrpSpPr/>
          <p:nvPr/>
        </p:nvGrpSpPr>
        <p:grpSpPr>
          <a:xfrm>
            <a:off x="3699720" y="4002120"/>
            <a:ext cx="1476720" cy="989280"/>
            <a:chOff x="3699720" y="4002120"/>
            <a:chExt cx="1476720" cy="989280"/>
          </a:xfrm>
        </p:grpSpPr>
        <p:sp>
          <p:nvSpPr>
            <p:cNvPr id="209" name="Text Box 10"/>
            <p:cNvSpPr/>
            <p:nvPr/>
          </p:nvSpPr>
          <p:spPr>
            <a:xfrm>
              <a:off x="3699720" y="4002120"/>
              <a:ext cx="6940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3865680" y="4486320"/>
              <a:ext cx="38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3778200" y="4305240"/>
              <a:ext cx="52344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4233240" y="4170600"/>
              <a:ext cx="471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4588920" y="4210200"/>
              <a:ext cx="587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r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18"/>
          <p:cNvSpPr/>
          <p:nvPr/>
        </p:nvSpPr>
        <p:spPr>
          <a:xfrm>
            <a:off x="593640" y="5038560"/>
            <a:ext cx="8474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population size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time,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per capita rate of increase = birth – dea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xponential Growt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84320" y="1174320"/>
            <a:ext cx="8534160" cy="62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90910"/>
                </a:solidFill>
                <a:latin typeface="Arial"/>
              </a:rPr>
              <a:t>Exponential population grow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opulation increase under idealized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these conditions, the rate of reproduction is at its maximum, called the intrinsic rate of inc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ential population growth results in a </a:t>
            </a: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J-shaped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Exponential Growth is not sustain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133200" y="762120"/>
            <a:ext cx="8839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304920" y="14158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ynamic biological processes influence population density, dispersion, and demograph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4320" y="159984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nsit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number of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individuals per unit are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volu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ispers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pattern of spac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mong individuals within the boundaries of the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nsity is the result of an interplay between processes that add individuals to a population and those that remove individu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53_10ExponGrowthPredict-U"/>
          <p:cNvPicPr/>
          <p:nvPr/>
        </p:nvPicPr>
        <p:blipFill>
          <a:blip r:embed="rId1"/>
          <a:stretch/>
        </p:blipFill>
        <p:spPr>
          <a:xfrm>
            <a:off x="511200" y="304920"/>
            <a:ext cx="8121600" cy="64548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152280" y="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90910"/>
                </a:solidFill>
                <a:latin typeface="Arial"/>
              </a:rPr>
              <a:t>Exponential Growth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3521160" y="6140520"/>
            <a:ext cx="3004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umber of gener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1863720" y="5753160"/>
            <a:ext cx="204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3774960" y="5753160"/>
            <a:ext cx="204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5603760" y="5753160"/>
            <a:ext cx="3445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7521480" y="5753160"/>
            <a:ext cx="3445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1609560" y="5435640"/>
            <a:ext cx="204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1317600" y="4222800"/>
            <a:ext cx="458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1095480" y="300348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1095480" y="177156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1095480" y="56520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4067280" y="112392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3895560" y="1149480"/>
            <a:ext cx="2746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3610080" y="990720"/>
            <a:ext cx="4143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3654360" y="1327320"/>
            <a:ext cx="306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3594240" y="1257480"/>
            <a:ext cx="32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6235560" y="2279520"/>
            <a:ext cx="3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6708600" y="215280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6537240" y="2178000"/>
            <a:ext cx="2746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6251400" y="2019240"/>
            <a:ext cx="414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6"/>
          <p:cNvSpPr/>
          <p:nvPr/>
        </p:nvSpPr>
        <p:spPr>
          <a:xfrm>
            <a:off x="6296040" y="2355840"/>
            <a:ext cx="306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7"/>
          <p:cNvSpPr/>
          <p:nvPr/>
        </p:nvSpPr>
        <p:spPr>
          <a:xfrm rot="16200000">
            <a:off x="-370440" y="2748240"/>
            <a:ext cx="24591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53_11ExponGrowthElephant-U"/>
          <p:cNvPicPr/>
          <p:nvPr/>
        </p:nvPicPr>
        <p:blipFill>
          <a:blip r:embed="rId1"/>
          <a:stretch/>
        </p:blipFill>
        <p:spPr>
          <a:xfrm>
            <a:off x="290520" y="568440"/>
            <a:ext cx="8561520" cy="5797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The J-shaped curve of exponential growth characterizes some </a:t>
            </a:r>
            <a:br>
              <a:rPr sz="2000"/>
            </a:b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                                 rebounding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1038240" y="85716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1038240" y="190512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1038240" y="295272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038240" y="400068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1552680" y="5060880"/>
            <a:ext cx="17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314640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2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702320" y="5359320"/>
            <a:ext cx="591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625140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787068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5064120" y="575928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 rot="16200000">
            <a:off x="-624600" y="2811960"/>
            <a:ext cx="2725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ephant popul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160956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133200" y="762120"/>
            <a:ext cx="8839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"/>
          <p:cNvSpPr/>
          <p:nvPr/>
        </p:nvSpPr>
        <p:spPr>
          <a:xfrm>
            <a:off x="304920" y="14158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0760" y="759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ogistic model describes how a population grows more slowly as it nears its carrying capac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84320" y="1598760"/>
            <a:ext cx="853416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onential growth cannot be sustained for long in any population.  A more realistic population model limits growth by incorporating carrying capac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90910"/>
                </a:solidFill>
                <a:latin typeface="Arial"/>
              </a:rPr>
              <a:t>Carrying capacity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 the maximum population size the environment can suppo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gistic population growt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, the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rate of increase declines as carrying capacity is reach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logistic mode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population growth produces a sigmoid (S-shaped) cur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53_12LogisticGrowth-U"/>
          <p:cNvPicPr/>
          <p:nvPr/>
        </p:nvPicPr>
        <p:blipFill>
          <a:blip r:embed="rId1"/>
          <a:stretch/>
        </p:blipFill>
        <p:spPr>
          <a:xfrm>
            <a:off x="749160" y="304920"/>
            <a:ext cx="7645680" cy="64548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6"/>
          <p:cNvSpPr/>
          <p:nvPr/>
        </p:nvSpPr>
        <p:spPr>
          <a:xfrm>
            <a:off x="152280" y="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Logistic Growth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324080" y="914400"/>
            <a:ext cx="655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324080" y="2057400"/>
            <a:ext cx="655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324080" y="3213000"/>
            <a:ext cx="655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527120" y="4362480"/>
            <a:ext cx="433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1806480" y="5499000"/>
            <a:ext cx="1983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2041560" y="5791320"/>
            <a:ext cx="1983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844800" y="5791320"/>
            <a:ext cx="198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5559480" y="5791320"/>
            <a:ext cx="3189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7356600" y="5791320"/>
            <a:ext cx="3189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3584520" y="6165720"/>
            <a:ext cx="28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gen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 rot="16200000">
            <a:off x="-46800" y="2805840"/>
            <a:ext cx="23385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432240" y="393840"/>
            <a:ext cx="149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4206960" y="1174680"/>
            <a:ext cx="681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4035600" y="1206360"/>
            <a:ext cx="1854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3711600" y="1054080"/>
            <a:ext cx="382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3736800" y="1378080"/>
            <a:ext cx="382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3"/>
          <p:cNvSpPr/>
          <p:nvPr/>
        </p:nvSpPr>
        <p:spPr>
          <a:xfrm>
            <a:off x="3676680" y="13082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5565600" y="3568680"/>
            <a:ext cx="681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5394240" y="3600360"/>
            <a:ext cx="1857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5070600" y="3448080"/>
            <a:ext cx="382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7"/>
          <p:cNvSpPr/>
          <p:nvPr/>
        </p:nvSpPr>
        <p:spPr>
          <a:xfrm>
            <a:off x="5095800" y="3772080"/>
            <a:ext cx="3826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5048280" y="3701880"/>
            <a:ext cx="29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9"/>
          <p:cNvSpPr/>
          <p:nvPr/>
        </p:nvSpPr>
        <p:spPr>
          <a:xfrm>
            <a:off x="2346480" y="2292480"/>
            <a:ext cx="1144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5318280" y="3067200"/>
            <a:ext cx="2020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stic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1"/>
          <p:cNvSpPr/>
          <p:nvPr/>
        </p:nvSpPr>
        <p:spPr>
          <a:xfrm>
            <a:off x="6353280" y="3429000"/>
            <a:ext cx="11905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500 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2"/>
          <p:cNvSpPr/>
          <p:nvPr/>
        </p:nvSpPr>
        <p:spPr>
          <a:xfrm>
            <a:off x="6537240" y="3753000"/>
            <a:ext cx="6177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3"/>
          <p:cNvSpPr/>
          <p:nvPr/>
        </p:nvSpPr>
        <p:spPr>
          <a:xfrm>
            <a:off x="6375240" y="3695760"/>
            <a:ext cx="102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4"/>
          <p:cNvSpPr/>
          <p:nvPr/>
        </p:nvSpPr>
        <p:spPr>
          <a:xfrm>
            <a:off x="6230880" y="3416400"/>
            <a:ext cx="6192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35"/>
          <p:cNvSpPr/>
          <p:nvPr/>
        </p:nvSpPr>
        <p:spPr>
          <a:xfrm flipH="1">
            <a:off x="7412040" y="3416400"/>
            <a:ext cx="6192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ogistic Model and Real Populatio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94760" y="1174320"/>
            <a:ext cx="853452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wth of laboratory populations of paramecia fits an S-shaped cur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organisms are grown in a constant environment lacking predators and competi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populations overshoo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fore settling down to a relatively stable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53_13-PopGrowthCurves-U"/>
          <p:cNvPicPr/>
          <p:nvPr/>
        </p:nvPicPr>
        <p:blipFill>
          <a:blip r:embed="rId1"/>
          <a:stretch/>
        </p:blipFill>
        <p:spPr>
          <a:xfrm>
            <a:off x="297000" y="1536840"/>
            <a:ext cx="8548560" cy="38592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6"/>
          <p:cNvSpPr/>
          <p:nvPr/>
        </p:nvSpPr>
        <p:spPr>
          <a:xfrm>
            <a:off x="152280" y="0"/>
            <a:ext cx="8534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rowth of laboratory populations fits an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S-shaped cur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hovers around the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Carrying Capaci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area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.</a:t>
            </a:r>
            <a:br>
              <a:rPr sz="4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708120" y="1930320"/>
            <a:ext cx="4460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853920" y="2368440"/>
            <a:ext cx="319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853920" y="2813040"/>
            <a:ext cx="319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853920" y="3251160"/>
            <a:ext cx="319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853920" y="3664080"/>
            <a:ext cx="31932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1031760" y="4102200"/>
            <a:ext cx="1288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1184400" y="4299120"/>
            <a:ext cx="128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1876320" y="4299120"/>
            <a:ext cx="128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2536920" y="4299120"/>
            <a:ext cx="1983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3235320" y="4299120"/>
            <a:ext cx="1983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7"/>
          <p:cNvSpPr/>
          <p:nvPr/>
        </p:nvSpPr>
        <p:spPr>
          <a:xfrm>
            <a:off x="1965240" y="4540320"/>
            <a:ext cx="95400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ime (day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 rot="16200000">
            <a:off x="-605160" y="2767680"/>
            <a:ext cx="22683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umber of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aramecium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/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9"/>
          <p:cNvSpPr/>
          <p:nvPr/>
        </p:nvSpPr>
        <p:spPr>
          <a:xfrm rot="16200000">
            <a:off x="3026520" y="2767680"/>
            <a:ext cx="2147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umber of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Daphnia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/50 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4429080" y="4108320"/>
            <a:ext cx="128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4340160" y="3746520"/>
            <a:ext cx="2113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4340160" y="3359160"/>
            <a:ext cx="2113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3"/>
          <p:cNvSpPr/>
          <p:nvPr/>
        </p:nvSpPr>
        <p:spPr>
          <a:xfrm>
            <a:off x="4340160" y="3016080"/>
            <a:ext cx="2113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4"/>
          <p:cNvSpPr/>
          <p:nvPr/>
        </p:nvSpPr>
        <p:spPr>
          <a:xfrm>
            <a:off x="4251240" y="1917720"/>
            <a:ext cx="287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5"/>
          <p:cNvSpPr/>
          <p:nvPr/>
        </p:nvSpPr>
        <p:spPr>
          <a:xfrm>
            <a:off x="4251240" y="2286000"/>
            <a:ext cx="287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6"/>
          <p:cNvSpPr/>
          <p:nvPr/>
        </p:nvSpPr>
        <p:spPr>
          <a:xfrm>
            <a:off x="4251240" y="2654280"/>
            <a:ext cx="287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7"/>
          <p:cNvSpPr/>
          <p:nvPr/>
        </p:nvSpPr>
        <p:spPr>
          <a:xfrm>
            <a:off x="4587840" y="4299120"/>
            <a:ext cx="128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8"/>
          <p:cNvSpPr/>
          <p:nvPr/>
        </p:nvSpPr>
        <p:spPr>
          <a:xfrm>
            <a:off x="498168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9"/>
          <p:cNvSpPr/>
          <p:nvPr/>
        </p:nvSpPr>
        <p:spPr>
          <a:xfrm>
            <a:off x="544500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0"/>
          <p:cNvSpPr/>
          <p:nvPr/>
        </p:nvSpPr>
        <p:spPr>
          <a:xfrm>
            <a:off x="590220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1"/>
          <p:cNvSpPr/>
          <p:nvPr/>
        </p:nvSpPr>
        <p:spPr>
          <a:xfrm>
            <a:off x="636588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2"/>
          <p:cNvSpPr/>
          <p:nvPr/>
        </p:nvSpPr>
        <p:spPr>
          <a:xfrm>
            <a:off x="677880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3"/>
          <p:cNvSpPr/>
          <p:nvPr/>
        </p:nvSpPr>
        <p:spPr>
          <a:xfrm>
            <a:off x="723600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4"/>
          <p:cNvSpPr/>
          <p:nvPr/>
        </p:nvSpPr>
        <p:spPr>
          <a:xfrm>
            <a:off x="769932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5"/>
          <p:cNvSpPr/>
          <p:nvPr/>
        </p:nvSpPr>
        <p:spPr>
          <a:xfrm>
            <a:off x="815652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6"/>
          <p:cNvSpPr/>
          <p:nvPr/>
        </p:nvSpPr>
        <p:spPr>
          <a:xfrm>
            <a:off x="6168960" y="4540320"/>
            <a:ext cx="95400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ime (day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7"/>
          <p:cNvSpPr/>
          <p:nvPr/>
        </p:nvSpPr>
        <p:spPr>
          <a:xfrm>
            <a:off x="3902040" y="5029200"/>
            <a:ext cx="28209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b) A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Daphnia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population in the la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345960" y="5029200"/>
            <a:ext cx="31132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a) A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aramecium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population in the la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ogistic Model and Life Histor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84320" y="1164960"/>
            <a:ext cx="853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history traits favored by natural selection may vary with population density and environmental condi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90910"/>
                </a:solidFill>
                <a:latin typeface="Arial"/>
              </a:rPr>
              <a:t>K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-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density-dependent 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selects for life history traits that are sensitive to population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90910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-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= or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density-independent 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selects for life history traits that maximize reprodu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any factors that regulate population growth are density depend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93320" y="1176480"/>
            <a:ext cx="853452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two general questions about regulation of population grow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nvironmental factors stop a population from growing indefini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some populations show radical fluctuations in size over time, while others remain s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910"/>
                </a:solidFill>
                <a:latin typeface="Times New Roman"/>
              </a:rPr>
              <a:t>Population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Change and Population Dens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84320" y="1174320"/>
            <a:ext cx="853416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nsity-independen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lations, birth rate and death rate do not change with population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nsity-dependen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lations, birth rates fall and death rates rise with population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ensity-Dependent Population Reg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94760" y="1176480"/>
            <a:ext cx="8534520" cy="56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90910"/>
                </a:solidFill>
                <a:latin typeface="Arial"/>
              </a:rPr>
              <a:t>Density-depend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irth and death rates are an example of </a:t>
            </a:r>
            <a:r>
              <a:rPr b="0" i="1" lang="en-US" sz="3000" spc="-1" strike="noStrike">
                <a:solidFill>
                  <a:srgbClr val="c90910"/>
                </a:solidFill>
                <a:latin typeface="Arial"/>
              </a:rPr>
              <a:t>negative feedback that regulates population grow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are affected by many factors, such as </a:t>
            </a:r>
            <a:r>
              <a:rPr b="0" i="1" lang="en-US" sz="3000" spc="-1" strike="noStrike">
                <a:solidFill>
                  <a:srgbClr val="c90910"/>
                </a:solidFill>
                <a:latin typeface="Arial"/>
              </a:rPr>
              <a:t>competition for resources, territoriality, disease, predation, toxic wastes, and intrinsic fact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rowded populations, increasing population density intensifies competition for resources and results in a lower birth r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93320" y="990360"/>
            <a:ext cx="8534520" cy="54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migr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influx of new individuals from other are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migr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movement of individuals out of a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ost cases, it is impractical or impossible to count all individuals in a population.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Sampling techniqu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be used to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estim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nsities and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total popu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iz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size can be estimated by either extrapolation from small samples, an index of population size, or the </a:t>
            </a:r>
            <a:r>
              <a:rPr b="1" lang="en-US" sz="2600" spc="-1" strike="noStrike">
                <a:solidFill>
                  <a:srgbClr val="c90910"/>
                </a:solidFill>
                <a:latin typeface="Arial"/>
              </a:rPr>
              <a:t>Mark-Recapture Metho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5" descr="53_16DecreasedReprod-U"/>
          <p:cNvPicPr/>
          <p:nvPr/>
        </p:nvPicPr>
        <p:blipFill>
          <a:blip r:embed="rId1"/>
          <a:stretch/>
        </p:blipFill>
        <p:spPr>
          <a:xfrm>
            <a:off x="290520" y="533520"/>
            <a:ext cx="8561520" cy="60246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6"/>
          <p:cNvSpPr/>
          <p:nvPr/>
        </p:nvSpPr>
        <p:spPr>
          <a:xfrm>
            <a:off x="152280" y="0"/>
            <a:ext cx="883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Decreased reproduction at high population den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3927600" y="5978520"/>
            <a:ext cx="209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pulation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841320" y="568440"/>
            <a:ext cx="515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993600" y="1521000"/>
            <a:ext cx="3254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993600" y="24796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993600" y="3419640"/>
            <a:ext cx="3254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993600" y="437184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1146240" y="5330880"/>
            <a:ext cx="172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4"/>
          <p:cNvSpPr/>
          <p:nvPr/>
        </p:nvSpPr>
        <p:spPr>
          <a:xfrm>
            <a:off x="125424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454356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620064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783900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290520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9"/>
          <p:cNvSpPr/>
          <p:nvPr/>
        </p:nvSpPr>
        <p:spPr>
          <a:xfrm rot="16200000">
            <a:off x="-2104200" y="2999160"/>
            <a:ext cx="5488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centage of juveniles producing lam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Territorial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84320" y="1176120"/>
            <a:ext cx="853416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many vertebrates and some invertebrates, competition for territory may limit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125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etahs are highly territorial, using chemical communication to warn other cheetahs of their boundar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53_17-Territoriality-U"/>
          <p:cNvPicPr/>
          <p:nvPr/>
        </p:nvPicPr>
        <p:blipFill>
          <a:blip r:embed="rId1"/>
          <a:stretch/>
        </p:blipFill>
        <p:spPr>
          <a:xfrm>
            <a:off x="2455920" y="174600"/>
            <a:ext cx="4230720" cy="65851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6"/>
          <p:cNvSpPr/>
          <p:nvPr/>
        </p:nvSpPr>
        <p:spPr>
          <a:xfrm>
            <a:off x="152280" y="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erritoriality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2505240" y="2981160"/>
            <a:ext cx="3531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Cheetah marking its terr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2492280" y="6346800"/>
            <a:ext cx="134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Gan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Disease,     Predation,   &amp;  Toxic Wast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84320" y="1176120"/>
            <a:ext cx="853416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density can influence the health and survival of organisms.  In dense populations, pathogens can spread more rapid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 prey population builds up, predators may feed preferentially on that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umulation of toxic wastes can contribute to density-dependent regulation of population si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some populations,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intrinsic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hysiological)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 facto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ppear to regulate population si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opulation Dynam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9476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tudy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pulation dynamic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es on the </a:t>
            </a:r>
            <a:r>
              <a:rPr b="0" i="1" lang="en-US" sz="3000" spc="-1" strike="noStrike">
                <a:solidFill>
                  <a:srgbClr val="c90910"/>
                </a:solidFill>
                <a:latin typeface="Arial"/>
              </a:rPr>
              <a:t>complex interactions between biotic and abiotic factors that cause variation in population s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-term population studies have challenged the hypothesis that populations of large mammals are relatively stable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ather can affect population size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53_19MooseWolfPop-U"/>
          <p:cNvPicPr/>
          <p:nvPr/>
        </p:nvPicPr>
        <p:blipFill>
          <a:blip r:embed="rId1"/>
          <a:stretch/>
        </p:blipFill>
        <p:spPr>
          <a:xfrm>
            <a:off x="297000" y="573120"/>
            <a:ext cx="8548560" cy="57862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predation pressure can drive population fluctuations</a:t>
            </a:r>
            <a:br>
              <a:rPr sz="4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2479680" y="1419120"/>
            <a:ext cx="998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3479760" y="1581120"/>
            <a:ext cx="26676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4791240" y="1419120"/>
            <a:ext cx="858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5702400" y="1587600"/>
            <a:ext cx="266760" cy="9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7515360" y="993600"/>
            <a:ext cx="68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7515360" y="1800360"/>
            <a:ext cx="680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508880" y="2612880"/>
            <a:ext cx="6811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7508880" y="3419640"/>
            <a:ext cx="6811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7515360" y="4232160"/>
            <a:ext cx="68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6"/>
          <p:cNvSpPr/>
          <p:nvPr/>
        </p:nvSpPr>
        <p:spPr>
          <a:xfrm rot="16200000">
            <a:off x="7344360" y="2739240"/>
            <a:ext cx="2401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mo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7"/>
          <p:cNvSpPr/>
          <p:nvPr/>
        </p:nvSpPr>
        <p:spPr>
          <a:xfrm>
            <a:off x="7515360" y="5045040"/>
            <a:ext cx="68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8"/>
          <p:cNvSpPr/>
          <p:nvPr/>
        </p:nvSpPr>
        <p:spPr>
          <a:xfrm rot="16200000">
            <a:off x="-548280" y="2738520"/>
            <a:ext cx="2452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wo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9"/>
          <p:cNvSpPr/>
          <p:nvPr/>
        </p:nvSpPr>
        <p:spPr>
          <a:xfrm>
            <a:off x="930240" y="10000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0"/>
          <p:cNvSpPr/>
          <p:nvPr/>
        </p:nvSpPr>
        <p:spPr>
          <a:xfrm>
            <a:off x="930240" y="18064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1"/>
          <p:cNvSpPr/>
          <p:nvPr/>
        </p:nvSpPr>
        <p:spPr>
          <a:xfrm>
            <a:off x="930240" y="26128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930240" y="3419640"/>
            <a:ext cx="3254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930240" y="423216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4"/>
          <p:cNvSpPr/>
          <p:nvPr/>
        </p:nvSpPr>
        <p:spPr>
          <a:xfrm>
            <a:off x="1089000" y="5045040"/>
            <a:ext cx="198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5"/>
          <p:cNvSpPr/>
          <p:nvPr/>
        </p:nvSpPr>
        <p:spPr>
          <a:xfrm>
            <a:off x="1120680" y="5343480"/>
            <a:ext cx="668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227664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3438360" y="5343480"/>
            <a:ext cx="668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8"/>
          <p:cNvSpPr/>
          <p:nvPr/>
        </p:nvSpPr>
        <p:spPr>
          <a:xfrm>
            <a:off x="461340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575640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691200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1"/>
          <p:cNvSpPr/>
          <p:nvPr/>
        </p:nvSpPr>
        <p:spPr>
          <a:xfrm>
            <a:off x="4067280" y="573732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Population Cycles: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Scientific Inqui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populations undergo regular boom-and-bust cyc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ynx populations follow the 10 year boom-and-bust cycle of hare population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hypotheses have been proposed to explain the hare’s 10-year interv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5" descr="53_20-HareLynxCycles-U"/>
          <p:cNvPicPr/>
          <p:nvPr/>
        </p:nvPicPr>
        <p:blipFill>
          <a:blip r:embed="rId1"/>
          <a:stretch/>
        </p:blipFill>
        <p:spPr>
          <a:xfrm>
            <a:off x="1627200" y="174600"/>
            <a:ext cx="5889600" cy="65851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6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178080" y="3394080"/>
            <a:ext cx="1430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nowshoe h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5229360" y="4390920"/>
            <a:ext cx="515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yn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 flipH="1">
            <a:off x="3625560" y="3581280"/>
            <a:ext cx="25380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 flipH="1">
            <a:off x="5289480" y="4578480"/>
            <a:ext cx="152640" cy="53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"/>
          <p:cNvSpPr/>
          <p:nvPr/>
        </p:nvSpPr>
        <p:spPr>
          <a:xfrm rot="16200000">
            <a:off x="6401520" y="4406040"/>
            <a:ext cx="1442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umber of lyn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thousand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 rot="16200000">
            <a:off x="1353240" y="4463280"/>
            <a:ext cx="1532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umber of ha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thousand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397240" y="3521160"/>
            <a:ext cx="3445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4"/>
          <p:cNvSpPr/>
          <p:nvPr/>
        </p:nvSpPr>
        <p:spPr>
          <a:xfrm>
            <a:off x="2397240" y="4098960"/>
            <a:ext cx="3445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2505240" y="4670280"/>
            <a:ext cx="2491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2505240" y="5248440"/>
            <a:ext cx="2491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2612880" y="5826240"/>
            <a:ext cx="1414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8"/>
          <p:cNvSpPr/>
          <p:nvPr/>
        </p:nvSpPr>
        <p:spPr>
          <a:xfrm>
            <a:off x="2771640" y="602928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8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9"/>
          <p:cNvSpPr/>
          <p:nvPr/>
        </p:nvSpPr>
        <p:spPr>
          <a:xfrm>
            <a:off x="3781440" y="602928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87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0"/>
          <p:cNvSpPr/>
          <p:nvPr/>
        </p:nvSpPr>
        <p:spPr>
          <a:xfrm>
            <a:off x="4842000" y="6029280"/>
            <a:ext cx="452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1"/>
          <p:cNvSpPr/>
          <p:nvPr/>
        </p:nvSpPr>
        <p:spPr>
          <a:xfrm>
            <a:off x="5883120" y="602928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2"/>
          <p:cNvSpPr/>
          <p:nvPr/>
        </p:nvSpPr>
        <p:spPr>
          <a:xfrm>
            <a:off x="4429080" y="631512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3"/>
          <p:cNvSpPr/>
          <p:nvPr/>
        </p:nvSpPr>
        <p:spPr>
          <a:xfrm>
            <a:off x="6651720" y="4245120"/>
            <a:ext cx="13500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4"/>
          <p:cNvSpPr/>
          <p:nvPr/>
        </p:nvSpPr>
        <p:spPr>
          <a:xfrm>
            <a:off x="6651720" y="4778280"/>
            <a:ext cx="135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5"/>
          <p:cNvSpPr/>
          <p:nvPr/>
        </p:nvSpPr>
        <p:spPr>
          <a:xfrm>
            <a:off x="6651720" y="5292720"/>
            <a:ext cx="135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6"/>
          <p:cNvSpPr/>
          <p:nvPr/>
        </p:nvSpPr>
        <p:spPr>
          <a:xfrm>
            <a:off x="6651720" y="5813280"/>
            <a:ext cx="135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184320" y="1176120"/>
            <a:ext cx="8534160" cy="54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Hypothesis 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hare’s population cycle follows a cycle of winter food supp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is hypothesis is correct, then the cycles should stop if the food supply is increas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al food was provided experimentally to a hare population, and the whole population increased in size but continued to cy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hares appeared to have died of starv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204480" y="1176120"/>
            <a:ext cx="8534520" cy="30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Hypothesis 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hare’s population cycle is driven by pressure from other preda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 study conducted by field ecologists, 90% of the hares were killed by preda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data support this second hypothe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53_03PopulationDynamics-U"/>
          <p:cNvPicPr/>
          <p:nvPr/>
        </p:nvPicPr>
        <p:blipFill>
          <a:blip r:embed="rId1"/>
          <a:stretch/>
        </p:blipFill>
        <p:spPr>
          <a:xfrm>
            <a:off x="293760" y="777960"/>
            <a:ext cx="8555040" cy="53766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152280" y="0"/>
            <a:ext cx="45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Population dynamics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45960" y="1238400"/>
            <a:ext cx="71928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r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45960" y="3359160"/>
            <a:ext cx="2535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rths and im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individual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39840" y="5734080"/>
            <a:ext cx="14745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340320" y="3390840"/>
            <a:ext cx="2535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ths and e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a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6746760" y="1238400"/>
            <a:ext cx="8780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6746760" y="5734080"/>
            <a:ext cx="13417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85400" y="1176120"/>
            <a:ext cx="8534520" cy="60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Hypothesis 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he hare’s population cycle is linked to sunspot cyc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nspot activity affects light quality, which in turn affects the quality of the hares’ fo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 good correlation between sunspot activity and hare population si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sults of all these experiments suggest that both predation and sunspot activity regulate hare numbers and that food availability plays a less important ro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Immigration, Emigration, and Metapopulatio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tapopul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groups of populations linked by immigration and emigr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levels of immigration combined with higher survival can result in greater stability in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uman population is no longer growing exponentially but is still increasing rapidl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84320" y="1174320"/>
            <a:ext cx="853416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population can grow indefinitely, and humans are no excep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human population increased relatively slowly until about 1650 and then began to grow exponenti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ough the global population is still growing, the rate of growth began to slow during the 1960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of the current global population growth is concentrated in developing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5" descr="53_22HumanPopGrowth-U"/>
          <p:cNvPicPr/>
          <p:nvPr/>
        </p:nvPicPr>
        <p:blipFill>
          <a:blip r:embed="rId1"/>
          <a:stretch/>
        </p:blipFill>
        <p:spPr>
          <a:xfrm>
            <a:off x="290520" y="496800"/>
            <a:ext cx="8561520" cy="593892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6"/>
          <p:cNvSpPr/>
          <p:nvPr/>
        </p:nvSpPr>
        <p:spPr>
          <a:xfrm>
            <a:off x="152280" y="0"/>
            <a:ext cx="5791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Human population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78732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243216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325764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410832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493380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5905440" y="5616720"/>
            <a:ext cx="4017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"/>
          <p:cNvSpPr/>
          <p:nvPr/>
        </p:nvSpPr>
        <p:spPr>
          <a:xfrm>
            <a:off x="652788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4"/>
          <p:cNvSpPr/>
          <p:nvPr/>
        </p:nvSpPr>
        <p:spPr>
          <a:xfrm>
            <a:off x="734688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5"/>
          <p:cNvSpPr/>
          <p:nvPr/>
        </p:nvSpPr>
        <p:spPr>
          <a:xfrm>
            <a:off x="8007480" y="5254560"/>
            <a:ext cx="223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6"/>
          <p:cNvSpPr/>
          <p:nvPr/>
        </p:nvSpPr>
        <p:spPr>
          <a:xfrm>
            <a:off x="8007480" y="460692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7"/>
          <p:cNvSpPr/>
          <p:nvPr/>
        </p:nvSpPr>
        <p:spPr>
          <a:xfrm>
            <a:off x="8007480" y="3965400"/>
            <a:ext cx="223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8"/>
          <p:cNvSpPr/>
          <p:nvPr/>
        </p:nvSpPr>
        <p:spPr>
          <a:xfrm>
            <a:off x="8007480" y="3298680"/>
            <a:ext cx="223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9"/>
          <p:cNvSpPr/>
          <p:nvPr/>
        </p:nvSpPr>
        <p:spPr>
          <a:xfrm>
            <a:off x="8007480" y="263844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0"/>
          <p:cNvSpPr/>
          <p:nvPr/>
        </p:nvSpPr>
        <p:spPr>
          <a:xfrm>
            <a:off x="8007480" y="199080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1"/>
          <p:cNvSpPr/>
          <p:nvPr/>
        </p:nvSpPr>
        <p:spPr>
          <a:xfrm>
            <a:off x="8007480" y="134316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2"/>
          <p:cNvSpPr/>
          <p:nvPr/>
        </p:nvSpPr>
        <p:spPr>
          <a:xfrm>
            <a:off x="5892840" y="4282920"/>
            <a:ext cx="15764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la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3"/>
          <p:cNvSpPr/>
          <p:nvPr/>
        </p:nvSpPr>
        <p:spPr>
          <a:xfrm>
            <a:off x="6743880" y="4565520"/>
            <a:ext cx="41904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4"/>
          <p:cNvSpPr/>
          <p:nvPr/>
        </p:nvSpPr>
        <p:spPr>
          <a:xfrm rot="16200000">
            <a:off x="6661800" y="2783520"/>
            <a:ext cx="3722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an population (bill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5"/>
          <p:cNvSpPr/>
          <p:nvPr/>
        </p:nvSpPr>
        <p:spPr>
          <a:xfrm>
            <a:off x="8007480" y="70812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gional Patterns of Population Chang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94760" y="1176480"/>
            <a:ext cx="8534520" cy="50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maintain population stability, a regional human population can exist in one of two configura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 population growth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birth rate – High 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 population growth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birth rate – Low 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mographic transi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move from the first state toward the second st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ge Structu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93320" y="1176480"/>
            <a:ext cx="8534520" cy="54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important demographic factor in present and future growth trends is a country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ge struc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 structure is the relative number of individuals at each 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Age structure diagrams can predict a population’s growth trend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can illuminate social conditions and help us plan for the fu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5" descr="53_25AgeStructPyramids-U"/>
          <p:cNvPicPr/>
          <p:nvPr/>
        </p:nvPicPr>
        <p:blipFill>
          <a:blip r:embed="rId1"/>
          <a:stretch/>
        </p:blipFill>
        <p:spPr>
          <a:xfrm>
            <a:off x="290520" y="1106640"/>
            <a:ext cx="8561520" cy="471960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6"/>
          <p:cNvSpPr/>
          <p:nvPr/>
        </p:nvSpPr>
        <p:spPr>
          <a:xfrm>
            <a:off x="152280" y="0"/>
            <a:ext cx="8991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Age-structure pyramids for the human population of thre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1295280" y="12222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1346040" y="14256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ghanis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1225440" y="1622520"/>
            <a:ext cx="452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"/>
          <p:cNvSpPr/>
          <p:nvPr/>
        </p:nvSpPr>
        <p:spPr>
          <a:xfrm>
            <a:off x="2070000" y="1622520"/>
            <a:ext cx="763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1"/>
          <p:cNvSpPr/>
          <p:nvPr/>
        </p:nvSpPr>
        <p:spPr>
          <a:xfrm>
            <a:off x="3340080" y="1622520"/>
            <a:ext cx="38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2"/>
          <p:cNvSpPr/>
          <p:nvPr/>
        </p:nvSpPr>
        <p:spPr>
          <a:xfrm>
            <a:off x="6039000" y="1622520"/>
            <a:ext cx="38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4216320" y="1622520"/>
            <a:ext cx="452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4"/>
          <p:cNvSpPr/>
          <p:nvPr/>
        </p:nvSpPr>
        <p:spPr>
          <a:xfrm>
            <a:off x="5060880" y="1622520"/>
            <a:ext cx="763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5"/>
          <p:cNvSpPr/>
          <p:nvPr/>
        </p:nvSpPr>
        <p:spPr>
          <a:xfrm>
            <a:off x="4330800" y="12222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w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4292640" y="14256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6940440" y="1622520"/>
            <a:ext cx="452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7785000" y="1622520"/>
            <a:ext cx="763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9"/>
          <p:cNvSpPr/>
          <p:nvPr/>
        </p:nvSpPr>
        <p:spPr>
          <a:xfrm>
            <a:off x="7143840" y="1222200"/>
            <a:ext cx="1030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0"/>
          <p:cNvSpPr/>
          <p:nvPr/>
        </p:nvSpPr>
        <p:spPr>
          <a:xfrm>
            <a:off x="7404120" y="1425600"/>
            <a:ext cx="4651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1"/>
          <p:cNvSpPr/>
          <p:nvPr/>
        </p:nvSpPr>
        <p:spPr>
          <a:xfrm>
            <a:off x="3251160" y="18572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2"/>
          <p:cNvSpPr/>
          <p:nvPr/>
        </p:nvSpPr>
        <p:spPr>
          <a:xfrm>
            <a:off x="3263760" y="20350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–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3"/>
          <p:cNvSpPr/>
          <p:nvPr/>
        </p:nvSpPr>
        <p:spPr>
          <a:xfrm>
            <a:off x="3263760" y="221940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5–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4"/>
          <p:cNvSpPr/>
          <p:nvPr/>
        </p:nvSpPr>
        <p:spPr>
          <a:xfrm>
            <a:off x="3263760" y="240336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–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5"/>
          <p:cNvSpPr/>
          <p:nvPr/>
        </p:nvSpPr>
        <p:spPr>
          <a:xfrm>
            <a:off x="3263760" y="27716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–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6"/>
          <p:cNvSpPr/>
          <p:nvPr/>
        </p:nvSpPr>
        <p:spPr>
          <a:xfrm>
            <a:off x="3263760" y="25876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–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7"/>
          <p:cNvSpPr/>
          <p:nvPr/>
        </p:nvSpPr>
        <p:spPr>
          <a:xfrm>
            <a:off x="3263760" y="296244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5–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8"/>
          <p:cNvSpPr/>
          <p:nvPr/>
        </p:nvSpPr>
        <p:spPr>
          <a:xfrm>
            <a:off x="3263760" y="314640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–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9"/>
          <p:cNvSpPr/>
          <p:nvPr/>
        </p:nvSpPr>
        <p:spPr>
          <a:xfrm>
            <a:off x="3263760" y="333072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–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0"/>
          <p:cNvSpPr/>
          <p:nvPr/>
        </p:nvSpPr>
        <p:spPr>
          <a:xfrm>
            <a:off x="3263760" y="35146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–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1"/>
          <p:cNvSpPr/>
          <p:nvPr/>
        </p:nvSpPr>
        <p:spPr>
          <a:xfrm>
            <a:off x="3263760" y="369900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–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2"/>
          <p:cNvSpPr/>
          <p:nvPr/>
        </p:nvSpPr>
        <p:spPr>
          <a:xfrm>
            <a:off x="3263760" y="38894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–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3"/>
          <p:cNvSpPr/>
          <p:nvPr/>
        </p:nvSpPr>
        <p:spPr>
          <a:xfrm>
            <a:off x="3263760" y="407340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–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4"/>
          <p:cNvSpPr/>
          <p:nvPr/>
        </p:nvSpPr>
        <p:spPr>
          <a:xfrm>
            <a:off x="3263760" y="425772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–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5"/>
          <p:cNvSpPr/>
          <p:nvPr/>
        </p:nvSpPr>
        <p:spPr>
          <a:xfrm>
            <a:off x="3263760" y="44416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–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6"/>
          <p:cNvSpPr/>
          <p:nvPr/>
        </p:nvSpPr>
        <p:spPr>
          <a:xfrm>
            <a:off x="3263760" y="500076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–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7"/>
          <p:cNvSpPr/>
          <p:nvPr/>
        </p:nvSpPr>
        <p:spPr>
          <a:xfrm>
            <a:off x="3263760" y="48164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–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8"/>
          <p:cNvSpPr/>
          <p:nvPr/>
        </p:nvSpPr>
        <p:spPr>
          <a:xfrm>
            <a:off x="3263760" y="462600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–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9"/>
          <p:cNvSpPr/>
          <p:nvPr/>
        </p:nvSpPr>
        <p:spPr>
          <a:xfrm>
            <a:off x="5950080" y="18572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0"/>
          <p:cNvSpPr/>
          <p:nvPr/>
        </p:nvSpPr>
        <p:spPr>
          <a:xfrm>
            <a:off x="5962680" y="20350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–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1"/>
          <p:cNvSpPr/>
          <p:nvPr/>
        </p:nvSpPr>
        <p:spPr>
          <a:xfrm>
            <a:off x="5962680" y="221940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5–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2"/>
          <p:cNvSpPr/>
          <p:nvPr/>
        </p:nvSpPr>
        <p:spPr>
          <a:xfrm>
            <a:off x="5962680" y="240336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–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3"/>
          <p:cNvSpPr/>
          <p:nvPr/>
        </p:nvSpPr>
        <p:spPr>
          <a:xfrm>
            <a:off x="5962680" y="27716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–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4"/>
          <p:cNvSpPr/>
          <p:nvPr/>
        </p:nvSpPr>
        <p:spPr>
          <a:xfrm>
            <a:off x="5962680" y="25876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–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5"/>
          <p:cNvSpPr/>
          <p:nvPr/>
        </p:nvSpPr>
        <p:spPr>
          <a:xfrm>
            <a:off x="5962680" y="296244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5–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6"/>
          <p:cNvSpPr/>
          <p:nvPr/>
        </p:nvSpPr>
        <p:spPr>
          <a:xfrm>
            <a:off x="5962680" y="314640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–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7"/>
          <p:cNvSpPr/>
          <p:nvPr/>
        </p:nvSpPr>
        <p:spPr>
          <a:xfrm>
            <a:off x="5962680" y="333072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–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8"/>
          <p:cNvSpPr/>
          <p:nvPr/>
        </p:nvSpPr>
        <p:spPr>
          <a:xfrm>
            <a:off x="5962680" y="35146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–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9"/>
          <p:cNvSpPr/>
          <p:nvPr/>
        </p:nvSpPr>
        <p:spPr>
          <a:xfrm>
            <a:off x="5962680" y="369900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–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0"/>
          <p:cNvSpPr/>
          <p:nvPr/>
        </p:nvSpPr>
        <p:spPr>
          <a:xfrm>
            <a:off x="5962680" y="38894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–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1"/>
          <p:cNvSpPr/>
          <p:nvPr/>
        </p:nvSpPr>
        <p:spPr>
          <a:xfrm>
            <a:off x="5962680" y="407340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–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52"/>
          <p:cNvSpPr/>
          <p:nvPr/>
        </p:nvSpPr>
        <p:spPr>
          <a:xfrm>
            <a:off x="5962680" y="425772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–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3"/>
          <p:cNvSpPr/>
          <p:nvPr/>
        </p:nvSpPr>
        <p:spPr>
          <a:xfrm>
            <a:off x="5962680" y="44416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–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4"/>
          <p:cNvSpPr/>
          <p:nvPr/>
        </p:nvSpPr>
        <p:spPr>
          <a:xfrm>
            <a:off x="5962680" y="500076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–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5"/>
          <p:cNvSpPr/>
          <p:nvPr/>
        </p:nvSpPr>
        <p:spPr>
          <a:xfrm>
            <a:off x="5962680" y="48164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–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6"/>
          <p:cNvSpPr/>
          <p:nvPr/>
        </p:nvSpPr>
        <p:spPr>
          <a:xfrm>
            <a:off x="5962680" y="462600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–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7"/>
          <p:cNvSpPr/>
          <p:nvPr/>
        </p:nvSpPr>
        <p:spPr>
          <a:xfrm>
            <a:off x="36180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8"/>
          <p:cNvSpPr/>
          <p:nvPr/>
        </p:nvSpPr>
        <p:spPr>
          <a:xfrm>
            <a:off x="317484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9"/>
          <p:cNvSpPr/>
          <p:nvPr/>
        </p:nvSpPr>
        <p:spPr>
          <a:xfrm>
            <a:off x="6159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60"/>
          <p:cNvSpPr/>
          <p:nvPr/>
        </p:nvSpPr>
        <p:spPr>
          <a:xfrm>
            <a:off x="28702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1"/>
          <p:cNvSpPr/>
          <p:nvPr/>
        </p:nvSpPr>
        <p:spPr>
          <a:xfrm>
            <a:off x="25909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2"/>
          <p:cNvSpPr/>
          <p:nvPr/>
        </p:nvSpPr>
        <p:spPr>
          <a:xfrm>
            <a:off x="8953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3"/>
          <p:cNvSpPr/>
          <p:nvPr/>
        </p:nvSpPr>
        <p:spPr>
          <a:xfrm>
            <a:off x="117468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64"/>
          <p:cNvSpPr/>
          <p:nvPr/>
        </p:nvSpPr>
        <p:spPr>
          <a:xfrm>
            <a:off x="23050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5"/>
          <p:cNvSpPr/>
          <p:nvPr/>
        </p:nvSpPr>
        <p:spPr>
          <a:xfrm>
            <a:off x="20257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6"/>
          <p:cNvSpPr/>
          <p:nvPr/>
        </p:nvSpPr>
        <p:spPr>
          <a:xfrm>
            <a:off x="145404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7"/>
          <p:cNvSpPr/>
          <p:nvPr/>
        </p:nvSpPr>
        <p:spPr>
          <a:xfrm>
            <a:off x="17398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8"/>
          <p:cNvSpPr/>
          <p:nvPr/>
        </p:nvSpPr>
        <p:spPr>
          <a:xfrm>
            <a:off x="946080" y="5407200"/>
            <a:ext cx="1843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9"/>
          <p:cNvSpPr/>
          <p:nvPr/>
        </p:nvSpPr>
        <p:spPr>
          <a:xfrm>
            <a:off x="3943440" y="5407200"/>
            <a:ext cx="18428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70"/>
          <p:cNvSpPr/>
          <p:nvPr/>
        </p:nvSpPr>
        <p:spPr>
          <a:xfrm>
            <a:off x="6667560" y="5407200"/>
            <a:ext cx="1843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1"/>
          <p:cNvSpPr/>
          <p:nvPr/>
        </p:nvSpPr>
        <p:spPr>
          <a:xfrm>
            <a:off x="558180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2"/>
          <p:cNvSpPr/>
          <p:nvPr/>
        </p:nvSpPr>
        <p:spPr>
          <a:xfrm>
            <a:off x="388620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3"/>
          <p:cNvSpPr/>
          <p:nvPr/>
        </p:nvSpPr>
        <p:spPr>
          <a:xfrm>
            <a:off x="41655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74"/>
          <p:cNvSpPr/>
          <p:nvPr/>
        </p:nvSpPr>
        <p:spPr>
          <a:xfrm>
            <a:off x="52959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5"/>
          <p:cNvSpPr/>
          <p:nvPr/>
        </p:nvSpPr>
        <p:spPr>
          <a:xfrm>
            <a:off x="501660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76"/>
          <p:cNvSpPr/>
          <p:nvPr/>
        </p:nvSpPr>
        <p:spPr>
          <a:xfrm>
            <a:off x="444492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7"/>
          <p:cNvSpPr/>
          <p:nvPr/>
        </p:nvSpPr>
        <p:spPr>
          <a:xfrm>
            <a:off x="47307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8"/>
          <p:cNvSpPr/>
          <p:nvPr/>
        </p:nvSpPr>
        <p:spPr>
          <a:xfrm>
            <a:off x="360684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9"/>
          <p:cNvSpPr/>
          <p:nvPr/>
        </p:nvSpPr>
        <p:spPr>
          <a:xfrm>
            <a:off x="58611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0"/>
          <p:cNvSpPr/>
          <p:nvPr/>
        </p:nvSpPr>
        <p:spPr>
          <a:xfrm>
            <a:off x="83059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81"/>
          <p:cNvSpPr/>
          <p:nvPr/>
        </p:nvSpPr>
        <p:spPr>
          <a:xfrm>
            <a:off x="66103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2"/>
          <p:cNvSpPr/>
          <p:nvPr/>
        </p:nvSpPr>
        <p:spPr>
          <a:xfrm>
            <a:off x="688968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3"/>
          <p:cNvSpPr/>
          <p:nvPr/>
        </p:nvSpPr>
        <p:spPr>
          <a:xfrm>
            <a:off x="80200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4"/>
          <p:cNvSpPr/>
          <p:nvPr/>
        </p:nvSpPr>
        <p:spPr>
          <a:xfrm>
            <a:off x="77407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5"/>
          <p:cNvSpPr/>
          <p:nvPr/>
        </p:nvSpPr>
        <p:spPr>
          <a:xfrm>
            <a:off x="716904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6"/>
          <p:cNvSpPr/>
          <p:nvPr/>
        </p:nvSpPr>
        <p:spPr>
          <a:xfrm>
            <a:off x="74548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87"/>
          <p:cNvSpPr/>
          <p:nvPr/>
        </p:nvSpPr>
        <p:spPr>
          <a:xfrm>
            <a:off x="63309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8"/>
          <p:cNvSpPr/>
          <p:nvPr/>
        </p:nvSpPr>
        <p:spPr>
          <a:xfrm>
            <a:off x="85852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Estimates of Earth’s Carrying Capac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many humans can the biosphere suppo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arrying capacity of Earth for humans is uncert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verage estimate is 10–15 bill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Limits on Human Population Siz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84320" y="1066320"/>
            <a:ext cx="8534160" cy="57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c90910"/>
                </a:solidFill>
                <a:latin typeface="Arial"/>
              </a:rPr>
              <a:t>ecological footpri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 summarizes the aggregate land and water area needed to sustain the people of a n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one measure of how close we are to the carrying capacity of Ear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ntries vary greatly in footprint size and available ecological capac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Our carrying capacity could potentially be limited by food, space, nonrenewable resources, or buildup of was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53_UN03Summary-U"/>
          <p:cNvPicPr/>
          <p:nvPr/>
        </p:nvPicPr>
        <p:blipFill>
          <a:blip r:embed="rId1"/>
          <a:stretch/>
        </p:blipFill>
        <p:spPr>
          <a:xfrm>
            <a:off x="1736640" y="1092240"/>
            <a:ext cx="5670720" cy="474984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3"/>
          <p:cNvSpPr/>
          <p:nvPr/>
        </p:nvSpPr>
        <p:spPr>
          <a:xfrm>
            <a:off x="152280" y="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Review:  Population Growth 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3238560" y="5172120"/>
            <a:ext cx="3411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629080" y="2066760"/>
            <a:ext cx="3411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arrying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 rot="16200000">
            <a:off x="413280" y="2580120"/>
            <a:ext cx="3411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5213520" y="3641760"/>
            <a:ext cx="909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4559400" y="3483000"/>
            <a:ext cx="471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4616280" y="3851280"/>
            <a:ext cx="471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4991040" y="3673440"/>
            <a:ext cx="2239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1"/>
          <p:cNvSpPr/>
          <p:nvPr/>
        </p:nvSpPr>
        <p:spPr>
          <a:xfrm>
            <a:off x="4556160" y="3790800"/>
            <a:ext cx="37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2"/>
          <p:cNvSpPr/>
          <p:nvPr/>
        </p:nvSpPr>
        <p:spPr>
          <a:xfrm>
            <a:off x="6210360" y="3457440"/>
            <a:ext cx="909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 –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6496200" y="3851280"/>
            <a:ext cx="3571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4"/>
          <p:cNvSpPr/>
          <p:nvPr/>
        </p:nvSpPr>
        <p:spPr>
          <a:xfrm>
            <a:off x="6216480" y="3778200"/>
            <a:ext cx="75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5"/>
          <p:cNvSpPr/>
          <p:nvPr/>
        </p:nvSpPr>
        <p:spPr>
          <a:xfrm>
            <a:off x="6129360" y="3460680"/>
            <a:ext cx="8712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6"/>
          <p:cNvSpPr/>
          <p:nvPr/>
        </p:nvSpPr>
        <p:spPr>
          <a:xfrm flipH="1">
            <a:off x="7036560" y="3460680"/>
            <a:ext cx="8748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Patterns of Dispers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61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nmental and social factors influence spacing of individuals in a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clump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ersion, individuals aggregate in patches. A clumped dispersion may be influenced by resource availability and behavi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unifo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ersion is one in which individuals are evenly distributed. It may be influenced by social interactions such a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rritoria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rand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ersion, the position of each individual is independent of other individuals.  It occurs in the absence of strong attractions or repul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6920" y="1176480"/>
            <a:ext cx="85341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and distinguish between the following sets of terms: density and dispersion; clumped dispersion, uniform dispersion, and random dispersion; life table and reproductive table; Type I, Type II, and Type III survivorship curves; semelparity and iteroparity;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selected populations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selected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ecologists may estimate the density of a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304920" y="1176480"/>
            <a:ext cx="853416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limited resources and trade-offs may affect life histori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e the exponential and logistic models of population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density-dependent and density-independent factors may affect population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biotic and abiotic factors may work together to control a population’s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53_04-DispersionPatterns-U"/>
          <p:cNvPicPr/>
          <p:nvPr/>
        </p:nvPicPr>
        <p:blipFill>
          <a:blip r:embed="rId1"/>
          <a:stretch/>
        </p:blipFill>
        <p:spPr>
          <a:xfrm>
            <a:off x="2882880" y="168120"/>
            <a:ext cx="3378240" cy="6597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152280" y="228600"/>
            <a:ext cx="1981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90910"/>
                </a:solidFill>
                <a:latin typeface="Arial"/>
              </a:rPr>
              <a:t>Patterns of dispersion within a population’s geographic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924280" y="2095560"/>
            <a:ext cx="871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1600" spc="-1" strike="noStrike">
                <a:solidFill>
                  <a:srgbClr val="c90910"/>
                </a:solidFill>
                <a:latin typeface="Arial"/>
              </a:rPr>
              <a:t>Clum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2930400" y="4260960"/>
            <a:ext cx="871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1600" spc="-1" strike="noStrike">
                <a:solidFill>
                  <a:srgbClr val="c90910"/>
                </a:solidFill>
                <a:latin typeface="Arial"/>
              </a:rPr>
              <a:t>Uni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917800" y="6419880"/>
            <a:ext cx="871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1600" spc="-1" strike="noStrike">
                <a:solidFill>
                  <a:srgbClr val="c90910"/>
                </a:solidFill>
                <a:latin typeface="Arial"/>
              </a:rPr>
              <a:t>Ran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emograph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mograph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study of the vital statistics of a population and how they change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ath rates and birth rates are of particular interest to demograp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Life Tables  &amp;  Survivorship Curv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fe tab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n age-specific summary of the survival pattern of a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best made by following the fate of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hor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group of individuals of the same 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survivorship curv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aphic way of representing the data in a life t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53_05SquirrelSurvCurve-U"/>
          <p:cNvPicPr/>
          <p:nvPr/>
        </p:nvPicPr>
        <p:blipFill>
          <a:blip r:embed="rId1"/>
          <a:stretch/>
        </p:blipFill>
        <p:spPr>
          <a:xfrm>
            <a:off x="293760" y="506520"/>
            <a:ext cx="8555040" cy="59198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90910"/>
                </a:solidFill>
                <a:latin typeface="Arial"/>
              </a:rPr>
              <a:t>Survivorship curv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squirrels shows relatively constant death 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486320" y="5829480"/>
            <a:ext cx="1836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 (yea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032280" y="5454720"/>
            <a:ext cx="22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67940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574344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72436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39092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7121520" y="544824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573732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254240" y="3670200"/>
            <a:ext cx="357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8404200" y="544824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1444680" y="5149800"/>
            <a:ext cx="185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873000" y="679320"/>
            <a:ext cx="738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1101600" y="2178000"/>
            <a:ext cx="5223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 rot="16200000">
            <a:off x="-1596240" y="2831040"/>
            <a:ext cx="4523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survivors (log sca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3425760" y="3905280"/>
            <a:ext cx="8082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4254480" y="405144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6816600" y="3263760"/>
            <a:ext cx="121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 flipH="1">
            <a:off x="6254280" y="3359160"/>
            <a:ext cx="514440" cy="38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2-17T12:52:30Z</cp:lastPrinted>
  <dcterms:modified xsi:type="dcterms:W3CDTF">2018-03-12T09:15:35Z</dcterms:modified>
  <cp:revision>4806</cp:revision>
  <dc:subject/>
  <dc:title>video slide</dc:title>
</cp:coreProperties>
</file>