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8.png" ContentType="image/png"/>
  <Override PartName="/ppt/media/image7.png" ContentType="image/png"/>
  <Override PartName="/ppt/media/image9.png" ContentType="image/png"/>
  <Override PartName="/ppt/media/image13.jpeg" ContentType="image/jpeg"/>
  <Override PartName="/ppt/media/image30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340C-A7D5-4F3F-B520-194F0CC6A1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ened Birds of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12 bird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reat Indian Bustard Ardeotis nig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storically spread all over Indian subcontinent. Now restricted to only a few places in Rajasthan, Maharashtra, Karnataka, Andhra Pradesh and Madhya Prade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s representative of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expansion of agriculture, habitat fragmentation, overgrazing, pesticides and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9 specie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t-billed Pelican Pelecanus philippen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cies found all over India in large wet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tion is declining very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destruction of nesting habitat, drainage and pollution of wetlands and dearth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us Crane Grus antig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ly widespread all over south Asia and Australia. Now declining all over its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primarily threatened by a combination of habitat loss and modification (owing primarily to agricultural expansion), pollution and pers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58 species which fall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ted Stork Mycteria leucocepha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spread and locally common resident in South east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requents freshwater marshes, lakes and reservoirs, flooded fields, paddy fields, freshwater swamp forests, riverbanks, intertidal mudflats and saltp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- habitat loss, disturbance, pollution and hunting of adults and collection of eggs and nestlings from colonies is cause for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er Flamingo Phoeniconaias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Asia and African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year 10%  population decline is observed in Africa. It breeds in Little Run of Katch in Gujar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reeding, disperse over Indian Sub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water pollution, disturbance to nesting sites and  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birds are threat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of Agri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Industri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aching and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 and Climat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ies of threatened 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 – not seen at least for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 – likely to be extin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angered – high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ulnerable – risk of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 threatened – close to vuln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st Concern – not qualify any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deficient – no informatio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ened Birds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ly Endang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entral India we have 9 species of the birds which come under this categ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-backed Vulture Gyps bengalen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late 1990 it was in abundant but declined rapi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live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-billed Vulture Gyps ind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es is also widely distributed in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hite-backed Vultures their population declined rapidly after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– veterinary use of  diclofenac for c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erdon's Courser Rhinptilus bitorqu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endemic bird found in south-eastern Andhra Pradesh. Earlier known from few places in Central India from Godavari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abitat specialist bird found only in scrub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ats – habitat destruction because of human activ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st Owlet Heteroglaux blew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dry decidu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ts – habitat destruction for fuel wood, illicit wood cutting, overgrazing and direct persecution by tri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C8C-DB50-41A3-9C79-11F2184D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D9C-30CD-44C7-BD0E-7876D22F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F0F-CF0F-482F-A230-BA59E9C0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D3E-E492-4744-9E64-635C5C0D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9AC9-683C-4A7C-9AAE-16295617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E158-A3D8-4419-9EF6-68885A40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B585-E085-4C68-9A6E-BA227B2D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DA77-8C36-45B9-A64F-DBE00186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00CF-D876-439D-9CC8-CB4AB3C1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FEA6-2368-4D97-8DBF-A2F92016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5EF8-489F-41CB-B77C-56E3CB23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4E5-1464-4359-90B8-7FC43E8C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E8E1-9FAC-4205-B038-836B9201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CB3A-E455-467C-AD2F-3B5B95C0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DEB2-AF31-49C9-A4E9-9F1D21B4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FB9B-FF80-4D54-99DA-617C6267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FD9B-49F7-4C89-B735-B3650D27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349AC-431A-4777-8BE4-A4236043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E51D0-9B92-497F-95E1-6D4D3C51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B1BB9-9562-4B60-8209-8DC144CC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6C458-BF25-4BE7-99D0-F5547B1A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8C13C-0901-49D8-843E-1A39462C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D75-A83E-4DF1-B70E-7C1AB928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81D3D-2C9B-4F81-8AD0-A17095E8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B0A2F-EB9B-458D-809C-6BB12A5F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FE1A4-FEAD-4EFE-BD4D-0EE7035B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4CA7D-B234-45BC-AA52-20748332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B992D-3718-4D09-AE38-33D6F4E0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32D5B-490E-48FF-81EA-6BC54F02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D6407-E25B-487D-8C68-D8BFDAD2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41D90-C612-47D1-A3DC-1D32D0D5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EE5FC-09DC-4188-9070-D6862D86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2FFC1-4C83-40A2-B12A-49663964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C71-9139-415A-A1DD-7716789A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BB0EB-DC54-423E-A608-5FEE30E1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34255-64CA-4BEC-80CD-88B1F755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CAF60-2481-4B79-95C5-F6D77C48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BE1C1-F1F8-472E-A1D2-FC560486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7EDD8-81B6-4953-8328-1A1B7D7A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A1DF7-913B-4EEF-9F70-77CF0F94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400E6-6B34-4534-B4A0-6BEF2967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50A60-E3A0-4998-A2EB-A2A65473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FBC7F-462B-4544-AE04-5E26906B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21DD1-B61E-4E1F-AA1E-9F440C8F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E8C-9E28-4E97-A587-10367266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A1997-2BB2-40CC-907A-CE0E27EC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0B02D-47C8-4172-9B05-4321180B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1830F-2E53-4773-8603-C0270D64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67111-6CE2-441D-9DE2-DC8A861F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0FAFD-2D3A-4CC1-B716-D380C231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D5FC6-1351-438A-864E-F441171A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5883D-5DF9-4484-9A80-91C9A18C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DE765-7BBF-4577-813F-EF49465D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3B06F-5F4F-4219-BB07-1B7B2196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02A65-767E-4CA1-B4BD-D0BAD06C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CFD-8B13-4608-AD3C-48698EF6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61A05-8877-48CC-843A-D86FFAFF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FB22D-68F7-4D78-8D9D-332DEA08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D3E21-2B21-431C-B98D-35AE5F00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91217-53F6-4F72-ACDC-8D0C9BB6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EB8E9-9FB4-4374-A877-B91245D2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44530-7D13-4371-AB13-495E6930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89F7A-FC93-4EB8-8164-13BDA7CC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D7C58-70CB-4B8C-A8AD-611659CD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5535D-AEF9-47B9-AA4A-AF200E0C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CE897-9F61-414B-9BA8-8C52D9C6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549-9B5D-487A-9731-535FEAF0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B98E7-7BB5-4ED9-97BA-0A55AD6A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E32AD-5EF6-4937-9FC2-839405BB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DDADC-9C86-470F-BA12-0B184A4A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63794-C172-4C4B-A1E4-1C8B2F14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010A2-6AB7-4FFE-8447-FE9AFF17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32810-94F6-41E0-BBEF-FD4F9E97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E2810-E334-468C-AC45-9C33F5DB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25125-0092-4C54-953D-9A0E2424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338B5-D182-4A32-8BF2-4E9384B5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8E4B9-AFEA-4873-91C2-C652B194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867-321F-4F43-B69C-74E5151E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3D74D-1E37-4635-B013-54F77684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CBFFF-6DE4-448F-B980-E1B536F9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D018C-ED0E-4300-9C67-DFC2997A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CAA16-908D-41DE-99E7-A7B6F417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E1521-B3CA-4A09-83F5-7FB92FE0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3017-AFAA-4FC1-8DDB-DAC534DF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77DA-EBA1-442A-A283-3BE650FEE82C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276F-8B2C-4889-9893-0EEAB248E1D1}" type="slidenum">
              <a:rPr b="0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9586-17D6-4B82-9C6C-234A09ADF97C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4e7ed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109B-BA42-4FA8-B21A-15E4A57B3B42}" type="slidenum">
              <a:rPr b="0" lang="en-GB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B329-5192-439D-BFED-9FC513DF6F79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F572-4C8E-499F-890D-20ADFB5E1154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26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A3F7-BA2B-40AF-BB9C-5BE8F4046BC4}" type="slidenum">
              <a:rPr b="0" lang="en-GB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4" descr=""/>
          <p:cNvPicPr/>
          <p:nvPr/>
        </p:nvPicPr>
        <p:blipFill>
          <a:blip r:embed="rId1"/>
          <a:stretch/>
        </p:blipFill>
        <p:spPr>
          <a:xfrm>
            <a:off x="212760" y="2743200"/>
            <a:ext cx="8474040" cy="1438200"/>
          </a:xfrm>
          <a:prstGeom prst="rect">
            <a:avLst/>
          </a:prstGeom>
          <a:ln w="0">
            <a:noFill/>
          </a:ln>
        </p:spPr>
      </p:pic>
      <p:sp>
        <p:nvSpPr>
          <p:cNvPr id="316" name="Нижний колонтитул 2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2857320"/>
            <a:ext cx="822960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12 bird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038120" y="1600200"/>
            <a:ext cx="4800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istorically spread all over Indian subcontinent. Now restricted to only a few places in Rajasthan, Maharashtra, Karnataka, Andhra Pradesh and Madhya Pradesh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s representative of Grassland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expansion of agriculture, habitat fragmentation, overgrazing, pesticides and huntin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1" name="Picture 4" descr="Great Indian Bustard"/>
          <p:cNvPicPr/>
          <p:nvPr/>
        </p:nvPicPr>
        <p:blipFill>
          <a:blip r:embed="rId2"/>
          <a:stretch/>
        </p:blipFill>
        <p:spPr>
          <a:xfrm>
            <a:off x="304920" y="1676520"/>
            <a:ext cx="3406680" cy="4114800"/>
          </a:xfrm>
          <a:prstGeom prst="rect">
            <a:avLst/>
          </a:prstGeom>
          <a:ln w="0">
            <a:noFill/>
          </a:ln>
        </p:spPr>
      </p:pic>
      <p:sp>
        <p:nvSpPr>
          <p:cNvPr id="3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9144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9 specie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species found all over India in large wetlan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population is declining very fas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destruction of nesting habitat, drainage and pollution of wetlands and dearth of foo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8" name="Picture 4" descr="Spot-bellied-Pelican"/>
          <p:cNvPicPr/>
          <p:nvPr/>
        </p:nvPicPr>
        <p:blipFill>
          <a:blip r:embed="rId2"/>
          <a:stretch/>
        </p:blipFill>
        <p:spPr>
          <a:xfrm>
            <a:off x="533520" y="2514600"/>
            <a:ext cx="3809880" cy="2725560"/>
          </a:xfrm>
          <a:prstGeom prst="rect">
            <a:avLst/>
          </a:prstGeom>
          <a:ln w="0">
            <a:noFill/>
          </a:ln>
        </p:spPr>
      </p:pic>
      <p:sp>
        <p:nvSpPr>
          <p:cNvPr id="3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712800" y="-79200"/>
            <a:ext cx="7974000" cy="1371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4197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istorically widespread all over south Asia and Australia. Now declining all over its rang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- primarily threatened by a combination of habitat loss and modification (owing primarily to agricultural expansion), pollution and persecu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2" name="Picture 4" descr="Sarus-Crane"/>
          <p:cNvPicPr/>
          <p:nvPr/>
        </p:nvPicPr>
        <p:blipFill>
          <a:blip r:embed="rId2"/>
          <a:stretch/>
        </p:blipFill>
        <p:spPr>
          <a:xfrm>
            <a:off x="380880" y="2057400"/>
            <a:ext cx="3810240" cy="3070080"/>
          </a:xfrm>
          <a:prstGeom prst="rect">
            <a:avLst/>
          </a:prstGeom>
          <a:ln w="0">
            <a:noFill/>
          </a:ln>
        </p:spPr>
      </p:pic>
      <p:sp>
        <p:nvSpPr>
          <p:cNvPr id="3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838080" y="2743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have 58 species which fall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87440" y="-15228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4495680" y="11426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Widespread and locally common resident in South east As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t frequents freshwater marshes, lakes and reservoirs, flooded fields, paddy fields, freshwater swamp forests, riverbanks, intertidal mudflats and saltpan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- habitat loss, disturbance, pollution and hunting of adults and collection of eggs and nestlings from colonies is cause for concer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69" name="Picture 4" descr="Painted-Stork"/>
          <p:cNvPicPr/>
          <p:nvPr/>
        </p:nvPicPr>
        <p:blipFill>
          <a:blip r:embed="rId2"/>
          <a:stretch/>
        </p:blipFill>
        <p:spPr>
          <a:xfrm>
            <a:off x="152280" y="1600200"/>
            <a:ext cx="4191120" cy="3195720"/>
          </a:xfrm>
          <a:prstGeom prst="rect">
            <a:avLst/>
          </a:prstGeom>
          <a:ln w="0">
            <a:noFill/>
          </a:ln>
        </p:spPr>
      </p:pic>
      <p:sp>
        <p:nvSpPr>
          <p:cNvPr id="37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487440" y="0"/>
            <a:ext cx="7974000" cy="13906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495320" y="144756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nd only in Asia and African 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ery year 10%  population decline is observed in Africa. It breeds in Little Run of Katch in Gujar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fter breeding, disperse over Indian Subcontin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reats – water pollution, disturbance to nesting sites and  habitat destruc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3" name="Picture 6" descr="B-0043"/>
          <p:cNvPicPr/>
          <p:nvPr/>
        </p:nvPicPr>
        <p:blipFill>
          <a:blip r:embed="rId2"/>
          <a:stretch/>
        </p:blipFill>
        <p:spPr>
          <a:xfrm>
            <a:off x="228600" y="2576520"/>
            <a:ext cx="4038480" cy="2681280"/>
          </a:xfrm>
          <a:prstGeom prst="rect">
            <a:avLst/>
          </a:prstGeom>
          <a:ln w="0">
            <a:noFill/>
          </a:ln>
        </p:spPr>
      </p:pic>
      <p:sp>
        <p:nvSpPr>
          <p:cNvPr id="37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Why birds are threate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bitat De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ansion of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pid Industr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aching and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obal Warming and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abitat Destruction"/>
          <p:cNvPicPr/>
          <p:nvPr/>
        </p:nvPicPr>
        <p:blipFill>
          <a:blip r:embed="rId1"/>
          <a:stretch/>
        </p:blipFill>
        <p:spPr>
          <a:xfrm>
            <a:off x="3200400" y="1523880"/>
            <a:ext cx="2847960" cy="4343400"/>
          </a:xfrm>
          <a:prstGeom prst="rect">
            <a:avLst/>
          </a:prstGeom>
          <a:ln w="0">
            <a:noFill/>
          </a:ln>
        </p:spPr>
      </p:pic>
      <p:sp>
        <p:nvSpPr>
          <p:cNvPr id="3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xtinct – not seen at least for 50 yea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Critically Endangered – likely to be extin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Endangered – high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Vulnerable – risk of extinc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Near threatened – close to vulner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Least Concern – not qualify any of the abo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ata deficient – no information avail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444600" y="0"/>
            <a:ext cx="80168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800280" y="1905120"/>
          <a:ext cx="7429320" cy="4114800"/>
        </p:xfrm>
        <a:graphic>
          <a:graphicData uri="http://schemas.openxmlformats.org/drawingml/2006/table">
            <a:tbl>
              <a:tblPr/>
              <a:tblGrid>
                <a:gridCol w="4076640"/>
                <a:gridCol w="1722240"/>
                <a:gridCol w="16304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ically 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ange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lner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 Threaten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500040" y="-152280"/>
            <a:ext cx="8034480" cy="1450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990720" y="2971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Central India we have 9 species of the birds which come under this categ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182520" y="-49320"/>
            <a:ext cx="8431200" cy="1420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403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species is widely distributed in Indi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ill late 1990 it was in abundant but declined rapidly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use – veterinary use of  diclofenac for livestoc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2" name="Picture 4" descr="White-backed-vulture"/>
          <p:cNvPicPr/>
          <p:nvPr/>
        </p:nvPicPr>
        <p:blipFill>
          <a:blip r:embed="rId2"/>
          <a:stretch/>
        </p:blipFill>
        <p:spPr>
          <a:xfrm>
            <a:off x="4648320" y="1523880"/>
            <a:ext cx="4267080" cy="4267440"/>
          </a:xfrm>
          <a:prstGeom prst="rect">
            <a:avLst/>
          </a:prstGeom>
          <a:ln w="0">
            <a:noFill/>
          </a:ln>
        </p:spPr>
      </p:pic>
      <p:sp>
        <p:nvSpPr>
          <p:cNvPr id="33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712800" y="0"/>
            <a:ext cx="8431200" cy="13906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495680" y="1752120"/>
            <a:ext cx="4648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species is also widely distributed in India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ike White-backed Vultures their population declined rapidly after 1990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use – veterinary use of  diclofenac for c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6" name="Picture 4" descr="Long-billed-vulture"/>
          <p:cNvPicPr/>
          <p:nvPr/>
        </p:nvPicPr>
        <p:blipFill>
          <a:blip r:embed="rId2"/>
          <a:stretch/>
        </p:blipFill>
        <p:spPr>
          <a:xfrm>
            <a:off x="733320" y="1600200"/>
            <a:ext cx="3762360" cy="4114800"/>
          </a:xfrm>
          <a:prstGeom prst="rect">
            <a:avLst/>
          </a:prstGeom>
          <a:ln w="0">
            <a:noFill/>
          </a:ln>
        </p:spPr>
      </p:pic>
      <p:sp>
        <p:nvSpPr>
          <p:cNvPr id="33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4800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is is endemic bird found in south-eastern Andhra Pradesh. Earlier known from few places in Central India from Godavari River basin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Habitat specialist bird found only in scrub fores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hreats – habitat destruction because of human activitie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0" name="Picture 4" descr="Jerdon's-Courser"/>
          <p:cNvPicPr/>
          <p:nvPr/>
        </p:nvPicPr>
        <p:blipFill>
          <a:blip r:embed="rId2"/>
          <a:stretch/>
        </p:blipFill>
        <p:spPr>
          <a:xfrm>
            <a:off x="5516640" y="1600200"/>
            <a:ext cx="324648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487440" y="-79200"/>
            <a:ext cx="7974000" cy="13903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s bird is endemic to Satpuda Mountains known from only from six places in Central India. Because of the Forest Owlet, the Central Indian Forests come under Endemic Bird Ar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nly found in dry deciduous fore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reats – habitat destruction for fuel wood, illicit wood cutting, overgrazing and direct persecution by triba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4" name="Picture 4" descr="Forest Owlet"/>
          <p:cNvPicPr/>
          <p:nvPr/>
        </p:nvPicPr>
        <p:blipFill>
          <a:blip r:embed="rId2"/>
          <a:stretch/>
        </p:blipFill>
        <p:spPr>
          <a:xfrm>
            <a:off x="5467320" y="1600200"/>
            <a:ext cx="3524400" cy="3809880"/>
          </a:xfrm>
          <a:prstGeom prst="rect">
            <a:avLst/>
          </a:prstGeom>
          <a:ln w="0">
            <a:noFill/>
          </a:ln>
        </p:spPr>
      </p:pic>
      <p:sp>
        <p:nvSpPr>
          <p:cNvPr id="34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b13f9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42:41Z</dcterms:created>
  <dc:creator> GIRISH</dc:creator>
  <dc:description/>
  <dc:language>en-US</dc:language>
  <cp:lastModifiedBy>LEGION</cp:lastModifiedBy>
  <dcterms:modified xsi:type="dcterms:W3CDTF">2018-03-12T09:10:25Z</dcterms:modified>
  <cp:revision>337</cp:revision>
  <dc:subject/>
  <dc:title>Slide 1</dc:title>
</cp:coreProperties>
</file>