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DRUMROLL.WAV" ContentType="audio/x-wav"/>
  <Override PartName="/ppt/media/image4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E53A-4D64-49DA-A44F-D48B554B2BA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rannosaurus R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rannosaurus R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gosa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go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teranod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erano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rap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locir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siosa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sio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898F-22DF-45B1-A66C-9A08293A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9CC6-E92B-44C6-B358-CF3EF01D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C398-4750-4A70-84A9-D4478590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1D7-4C4D-486C-AF9C-3E155E26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C8A3-14B3-488F-BA21-88237509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E98D-2BA3-470F-A854-6AE821D9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54DF-4786-446F-B783-289C26B2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A442-755E-4B77-830D-26042E91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D649-E8A4-40BD-BFD4-E611BCCF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884B-5C6B-4077-919C-C51966AB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A03F-7756-440A-9DED-6BA9953E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B4D-CAF8-474F-919B-6D5388D1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5EEE-26EA-41F5-AC14-E399DC7B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DCC9-08BC-4290-BD65-C65009C1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DCF7-80A1-45C7-9C9C-DA5EA77A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9FD6-ECD4-4943-AFD3-F43C4931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2A38-E5A9-47A5-BE7E-C6075979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67528-8616-4F7D-924E-D3D1FAEC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DE741-5E77-4D58-9F4D-36CC45F5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B4E3C-A08B-40FE-A6B1-ABFCF879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A41A4-A469-43E2-AC24-CE725D5B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0B621-C2F4-4163-9FD2-671A3B48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69C-4FA0-484B-A001-CDD7F06F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4BEC4-BFF6-4059-BAD3-EA2CD11F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B7F67-0D22-453C-9ADA-DDE10AF0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2B5D3-46EB-4FE0-BFC4-727CFC22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A0978-E9E0-4BAD-85F8-6258775F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EACDE-AE42-46BE-9D27-21E45864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3AF4A-867E-4BD0-BE78-50C047FF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0E5CC-5633-489F-ACEE-3308B4B8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37314-78D4-4551-A48D-8498665B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C9DEA-C508-4567-A1B2-88482F55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6A3BE-78F8-40CF-A08D-4E3F8886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4A6-75E8-47F1-9987-D7FD0B4B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F368B-0B59-406C-943A-089E43D7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199C8-0640-431B-B3B3-9CFE36DC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0F31B-73F5-42C4-A762-13F16011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F97AB-B867-44C8-9817-8D2D431A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7F1AB-3956-478A-B3FA-23721A64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C6275-7C27-4B3A-8830-B046D354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EE2A7-92DE-43D0-B6F2-9FA0EE18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354E8-38BF-44D2-9631-0DFA8EAC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19A86-B27D-4FEA-9108-3B177409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24B5E-561E-434A-898C-4176F877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B4B-B9C8-4B52-924E-E647B49C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CE47F-FF7F-4DAA-8BB8-A53E2B26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11597-47CC-4147-8B7D-58F1962E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02241-24B3-4128-8447-4E73CC75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637BF-D4E3-437D-9274-A6AE2384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B75FE-CF74-470F-A64C-6D053242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81868-D4AF-432C-B84A-2F39FEF1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347A4-51A0-49EC-847D-54C285C3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1A604-BDD3-485E-A410-F3A60AA3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89B05-6A94-4110-952F-28649EDA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0CB56-C604-485F-B6D4-1A42D941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ED5-577B-431B-A3AD-7BE819B9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7D4E3-C2B6-435C-AAFB-3D28B124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030C5-775E-4747-88E6-26BC7384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A288D-3FE9-48CD-A3E6-1426CE84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4DFAD-D415-4C9E-A293-FE3D3980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D0FE4-5860-4477-9320-C3A943A3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A7954-2B06-45C8-B45A-33DCA876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CFCFB-E92A-4814-A35B-DFE53CAE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280AA-BACC-4DE9-A693-EF9E3720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19E5F-7055-494D-BBAA-0ED97497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097EC-0A64-491E-AB3F-4059E77D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309-6D2D-4D5E-99BD-0C152FF0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E5DBF-AE8E-404B-896E-75034220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88103-6050-4773-94DB-A41DF17D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1BE15-F87F-4DD5-83A8-744DF20D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7915E-296C-47B7-A39A-3A2C71C5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6C4F6-C642-4864-89DB-543A1C24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12C05-4BDE-4310-BCAE-AAE9ECA1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42415-B613-4E87-8B8D-6C968C6C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7E8B2-D8EF-4131-AFE7-BCA1E6A5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B81AD-786F-462D-825D-5B9E32AD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66EA4-396C-4FB7-B23F-9557040F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0041-509A-4515-8DA6-3FF1CA73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468A4-CA97-4860-AC23-8F361E07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ADF6C-A0D1-4167-A140-1EA0417C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801B1-8171-4A93-8C7C-E5487D5B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69C27-0EB7-4745-88EC-D3246AA4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796AC-D2C6-4F7F-A746-F5D0439E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3D4-684A-4774-9568-95F5FEBB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3730-679C-4FC0-BD76-82649FE8DF3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9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2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3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E6E4-7753-49AE-B4DE-95CA187420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2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13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6F3E-F892-46C9-9BFB-370E79A71A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22F8-911C-433F-99EF-64078DC606A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77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12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13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6203-7BAE-4FAF-9D3A-6263F217AF5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225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12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5A38-D8AF-4D76-859A-561B743AA66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2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оугольник 13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1B7E-8F42-40A2-80D0-E03F8039C8B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" descr="H:\Dinosaurs\tyrannos.jpg"/>
          <p:cNvPicPr/>
          <p:nvPr/>
        </p:nvPicPr>
        <p:blipFill>
          <a:blip r:embed="rId1"/>
          <a:stretch/>
        </p:blipFill>
        <p:spPr>
          <a:xfrm>
            <a:off x="2743200" y="1066680"/>
            <a:ext cx="6400800" cy="38703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0" y="50292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3239280" y="76320"/>
            <a:ext cx="52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Tyrannosaurus R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:\Dinosaurs\stegosaurus.jpg"/>
          <p:cNvPicPr/>
          <p:nvPr/>
        </p:nvPicPr>
        <p:blipFill>
          <a:blip r:embed="rId1"/>
          <a:stretch/>
        </p:blipFill>
        <p:spPr>
          <a:xfrm>
            <a:off x="2666880" y="914400"/>
            <a:ext cx="6477120" cy="34290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228600" y="46483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228600" y="477504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3735000" y="15228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Forte"/>
              </a:rPr>
              <a:t>Stegosau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Нижний колонтитул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H:\Dinosaurs\pterobig.gif"/>
          <p:cNvPicPr/>
          <p:nvPr/>
        </p:nvPicPr>
        <p:blipFill>
          <a:blip r:embed="rId1"/>
          <a:stretch/>
        </p:blipFill>
        <p:spPr>
          <a:xfrm>
            <a:off x="2590920" y="914400"/>
            <a:ext cx="6553080" cy="39625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457200" y="51055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4251240" y="76320"/>
            <a:ext cx="329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Pterano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H:\Dinosaurs\Velocira.gif"/>
          <p:cNvPicPr/>
          <p:nvPr/>
        </p:nvPicPr>
        <p:blipFill>
          <a:blip r:embed="rId1"/>
          <a:srcRect l="0" t="1536" r="4753" b="13408"/>
          <a:stretch/>
        </p:blipFill>
        <p:spPr>
          <a:xfrm>
            <a:off x="2666880" y="990720"/>
            <a:ext cx="6477120" cy="34480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609480" y="4619520"/>
            <a:ext cx="7925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3746880" y="152280"/>
            <a:ext cx="338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Velocira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H:\Dinosaurs\plesiosaurus_normal.jpg"/>
          <p:cNvPicPr/>
          <p:nvPr/>
        </p:nvPicPr>
        <p:blipFill>
          <a:blip r:embed="rId1"/>
          <a:srcRect l="5311" t="0" r="7965" b="0"/>
          <a:stretch/>
        </p:blipFill>
        <p:spPr>
          <a:xfrm>
            <a:off x="1676520" y="914400"/>
            <a:ext cx="7467480" cy="40273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914400" y="50292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3564360" y="76320"/>
            <a:ext cx="35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Plesiosau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8:56:08Z</dcterms:created>
  <dc:creator>Spring Cove School District</dc:creator>
  <dc:description/>
  <dc:language>en-US</dc:language>
  <cp:lastModifiedBy>LEGION</cp:lastModifiedBy>
  <dcterms:modified xsi:type="dcterms:W3CDTF">2018-03-12T09:05:55Z</dcterms:modified>
  <cp:revision>24</cp:revision>
  <dc:subject/>
  <dc:title>PowerPoint Presentation</dc:title>
</cp:coreProperties>
</file>