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D76E-04FE-44D2-B9DD-80F40C91F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Original popul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o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BB 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aest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ead w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ausch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42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160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4760" y="1218960"/>
            <a:ext cx="85345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origin of new species, is at the focal point of Darwin’s evolutionary the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ary theory must explain how new species originate and how populations evol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i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ists of adaptations that evolve within a population, confined to one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evolutionary change above the species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24_04cReproBarriersHabA-U"/>
          <p:cNvPicPr/>
          <p:nvPr/>
        </p:nvPicPr>
        <p:blipFill>
          <a:blip r:embed="rId1"/>
          <a:stretch/>
        </p:blipFill>
        <p:spPr>
          <a:xfrm>
            <a:off x="2057400" y="685800"/>
            <a:ext cx="4919760" cy="549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327400" y="84456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24000" y="5657760"/>
            <a:ext cx="426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-dwell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4_04dReproBarriersHabB-U"/>
          <p:cNvPicPr/>
          <p:nvPr/>
        </p:nvPicPr>
        <p:blipFill>
          <a:blip r:embed="rId1"/>
          <a:stretch/>
        </p:blipFill>
        <p:spPr>
          <a:xfrm>
            <a:off x="2763720" y="1082520"/>
            <a:ext cx="3614760" cy="4767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924280" y="1174680"/>
            <a:ext cx="42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09800" y="5315040"/>
            <a:ext cx="338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Temp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es that breed at different times of the day, different seasons, or different years cannot mix their gam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Behavi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urtship rituals and other behaviors unique to a species are effective barr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orphological differences can prevent successful m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ametic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rm of one species may not be able to fertilize eggs of another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" y="266400"/>
            <a:ext cx="73915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4_04gReproBarriersBehE-U"/>
          <p:cNvPicPr/>
          <p:nvPr/>
        </p:nvPicPr>
        <p:blipFill>
          <a:blip r:embed="rId1"/>
          <a:stretch/>
        </p:blipFill>
        <p:spPr>
          <a:xfrm>
            <a:off x="1819440" y="558720"/>
            <a:ext cx="5505120" cy="5816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Behavioral Iso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Without Appropriate Mating Ri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7520" y="730080"/>
            <a:ext cx="42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857240" y="5543640"/>
            <a:ext cx="576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ship ritual of blue-footed bo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24_04hReproBarriersMecF-U"/>
          <p:cNvPicPr/>
          <p:nvPr/>
        </p:nvPicPr>
        <p:blipFill>
          <a:blip r:embed="rId1"/>
          <a:stretch/>
        </p:blipFill>
        <p:spPr>
          <a:xfrm>
            <a:off x="938160" y="174600"/>
            <a:ext cx="726768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28600" y="380880"/>
            <a:ext cx="73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20680" y="285840"/>
            <a:ext cx="428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09480" y="5607000"/>
            <a:ext cx="8534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dyba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hells spiraling in opposi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hybrid zygote from developing into a viable, fertile ad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viab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weak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fert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steril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eak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77480"/>
            <a:ext cx="9144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ost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24_04oReproBarriersFerK-U"/>
          <p:cNvPicPr/>
          <p:nvPr/>
        </p:nvPicPr>
        <p:blipFill>
          <a:blip r:embed="rId1"/>
          <a:stretch/>
        </p:blipFill>
        <p:spPr>
          <a:xfrm>
            <a:off x="1219320" y="533520"/>
            <a:ext cx="6657840" cy="5908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152280" y="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52680" y="69228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4920" y="5873760"/>
            <a:ext cx="78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:  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ster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 offspring between horse and d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ther Definitions of Spec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853416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ological species concept cannot be applied to fossils or asexual organisms (including all prokaryot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species concepts emphasize the unity within a species rather than the separateness of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orphological species concep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 species by structural featur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but relies on subjec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080" y="990360"/>
            <a:ext cx="85345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ecological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ews a species in terms of its ecological niche.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and emphasizes the role of disruptive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hylogenetic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a species as the smallest group of individuals on a phylogenetic tree.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, but it can be difficult to determine the degree of difference required for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2: Speciation can take place with or without geographic sepa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occur in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wo wa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 geographic barrier separates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no geographic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24_01FlightlessCormorant-U"/>
          <p:cNvPicPr/>
          <p:nvPr/>
        </p:nvPicPr>
        <p:blipFill>
          <a:blip r:embed="rId1"/>
          <a:stretch/>
        </p:blipFill>
        <p:spPr>
          <a:xfrm>
            <a:off x="297000" y="235080"/>
            <a:ext cx="8548560" cy="6565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52280" y="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1a29"/>
                </a:solidFill>
                <a:latin typeface="Arial"/>
              </a:rPr>
              <a:t>In the Galápagos Islands Darwin discovered plants and animals found nowhere else on Eart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8" descr="24_05AlloSymSpeciation-U"/>
          <p:cNvPicPr/>
          <p:nvPr/>
        </p:nvPicPr>
        <p:blipFill>
          <a:blip r:embed="rId1"/>
          <a:stretch/>
        </p:blipFill>
        <p:spPr>
          <a:xfrm>
            <a:off x="1008000" y="174600"/>
            <a:ext cx="7128000" cy="6585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082520" y="6299280"/>
            <a:ext cx="263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746600" y="6305400"/>
            <a:ext cx="27208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(“Other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ne flow is interrupted or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when a population is divided into geographically isolated subpopulations …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eographic barr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parates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e popu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evolve independently through mutation, natural selection, and genetic dri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populations generally increases as the distance between them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s to reproduction are intrinsic; separation itself is not a biological barr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4_06AlloSpeciaGCanyon-U"/>
          <p:cNvPicPr/>
          <p:nvPr/>
        </p:nvPicPr>
        <p:blipFill>
          <a:blip r:embed="rId1"/>
          <a:stretch/>
        </p:blipFill>
        <p:spPr>
          <a:xfrm>
            <a:off x="297000" y="2079720"/>
            <a:ext cx="8548560" cy="2773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8600" y="3924360"/>
            <a:ext cx="102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harr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7292880" y="393048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leuc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24_07-AlloSpeciaFrogs-U"/>
          <p:cNvPicPr/>
          <p:nvPr/>
        </p:nvPicPr>
        <p:blipFill>
          <a:blip r:embed="rId1"/>
          <a:stretch/>
        </p:blipFill>
        <p:spPr>
          <a:xfrm>
            <a:off x="365040" y="200160"/>
            <a:ext cx="8413920" cy="6584760"/>
          </a:xfrm>
          <a:prstGeom prst="rect">
            <a:avLst/>
          </a:prstGeom>
          <a:ln w="0">
            <a:noFill/>
          </a:ln>
        </p:spPr>
      </p:pic>
      <p:sp>
        <p:nvSpPr>
          <p:cNvPr id="267" name="Oval 8"/>
          <p:cNvSpPr/>
          <p:nvPr/>
        </p:nvSpPr>
        <p:spPr>
          <a:xfrm>
            <a:off x="5526000" y="480996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255840" y="480708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1017720" y="479736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833560" y="416232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36844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135108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52280" y="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Continental Drif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 Allopatric Spe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635800" y="507960"/>
            <a:ext cx="1857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ell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dagascar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629320" y="1593720"/>
            <a:ext cx="1781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acophor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dia/Sou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): 31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5800" y="2673360"/>
            <a:ext cx="16160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d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east 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1660680" y="4397400"/>
            <a:ext cx="2670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years ago (m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415880" y="416088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44476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0988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1085760" y="4813200"/>
            <a:ext cx="95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3332160" y="481500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600880" y="4813200"/>
            <a:ext cx="95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79320" y="3889440"/>
            <a:ext cx="3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65420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90920" y="3895560"/>
            <a:ext cx="239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54816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473720" y="3895560"/>
            <a:ext cx="2394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468760" y="3902040"/>
            <a:ext cx="12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349280" y="635796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589200" y="6357960"/>
            <a:ext cx="70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830920" y="635652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575480" y="4951440"/>
            <a:ext cx="478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6748560" y="5079960"/>
            <a:ext cx="80316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7577280" y="5907240"/>
            <a:ext cx="1188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6172200" y="6037200"/>
            <a:ext cx="13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mpatric (“Same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69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peciation takes place in geographically overlapping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Polyploid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esence of extra sets of chromosomes due to accidents during cell di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ut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individual with more than two chromosome sets,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one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ll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cies with multiple sets of chromosomes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different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ploidy is common in plants. Many important crops (oats, cotton, potatoes, tobacco, and wheat) are polyploi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4_10SymAutopolyploidy_3-U"/>
          <p:cNvPicPr/>
          <p:nvPr/>
        </p:nvPicPr>
        <p:blipFill>
          <a:blip r:embed="rId1"/>
          <a:stretch/>
        </p:blipFill>
        <p:spPr>
          <a:xfrm>
            <a:off x="297000" y="1719360"/>
            <a:ext cx="8548560" cy="34941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52280" y="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Polyploi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33520" y="3152880"/>
            <a:ext cx="749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21040" y="3152880"/>
            <a:ext cx="888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244520" y="3533760"/>
            <a:ext cx="18795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e to 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460840" y="3127320"/>
            <a:ext cx="292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156280" y="3533760"/>
            <a:ext cx="13208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diploid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20120" y="3152880"/>
            <a:ext cx="29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86600" y="3533760"/>
            <a:ext cx="17146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yotype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via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4_11SymAllopolyploidy_4-U"/>
          <p:cNvPicPr/>
          <p:nvPr/>
        </p:nvPicPr>
        <p:blipFill>
          <a:blip r:embed="rId1"/>
          <a:stretch/>
        </p:blipFill>
        <p:spPr>
          <a:xfrm>
            <a:off x="297000" y="1778040"/>
            <a:ext cx="8548560" cy="3378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- Polyploidy --&gt; Allopoly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2200" y="45450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451240" y="4124160"/>
            <a:ext cx="711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428840" y="2911320"/>
            <a:ext cx="73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61800" y="17748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28760" y="1825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006800" y="2308320"/>
            <a:ext cx="1441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759280" y="200340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880240" y="4327560"/>
            <a:ext cx="711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7397640" y="4111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ble fer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poly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ympatric Speciation:  Habitat Differentiation and 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result from the appearance of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new ecological ni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North American maggot fly can live on native hawthorn trees as well as more recently introduced apple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exu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drive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election for mates of different colors has likely contributed to the speciation in cichlid fish in Lake Victo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ympatric Speciation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May Caus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Reproductive Isol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ographic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ricts gene flow between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then arise by natural selection, genetic drift, or sexual selection in the isolated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contact is restored between populations, interbreeding is preven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 reproductive barrier isolates a subset of a population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without geographic 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paren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ric speciation can result from polyploidy, natural selection, or sexual s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708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 zon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region in which members of different species mate and produce hybr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brid zone can occur in a single band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where adjacent species me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s often have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reduced fitn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ared with pa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ribution of hybrid zones can be more complex if parent species are found in multiple habitats within the same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Biological Species Concept emphasizes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compare morphology, physiology, biochemistry, and DNA sequences when grouping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logical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that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populations whose members have the potential to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interbre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ature and produce viable,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ertile offsp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y do not breed successfully with other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24_13-FrogHybridZone-U"/>
          <p:cNvPicPr/>
          <p:nvPr/>
        </p:nvPicPr>
        <p:blipFill>
          <a:blip r:embed="rId1"/>
          <a:stretch/>
        </p:blipFill>
        <p:spPr>
          <a:xfrm>
            <a:off x="297000" y="558720"/>
            <a:ext cx="854856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152280" y="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003320" y="1076400"/>
            <a:ext cx="5587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743360" y="2714760"/>
            <a:ext cx="67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197240" y="3038400"/>
            <a:ext cx="749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53000" y="3336840"/>
            <a:ext cx="876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68280" y="3540240"/>
            <a:ext cx="119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varieg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962680" y="3139920"/>
            <a:ext cx="1193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bomb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 rot="16200000">
            <a:off x="4101120" y="4632480"/>
            <a:ext cx="167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ele frequency (log sc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918040" y="5965920"/>
            <a:ext cx="23371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ance from hybrid zone center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341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81652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6311880" y="5781600"/>
            <a:ext cx="165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24868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137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75980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340760" y="5788080"/>
            <a:ext cx="114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5060880" y="5572080"/>
            <a:ext cx="2541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137200" y="5108400"/>
            <a:ext cx="190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130720" y="4664160"/>
            <a:ext cx="190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137200" y="4219560"/>
            <a:ext cx="183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067360" y="3718080"/>
            <a:ext cx="24120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Times New Roman"/>
              </a:rPr>
              <a:t>Hybrid Zones over Ti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closely related species meet in a hybrid zone, there are </a:t>
            </a:r>
            <a:r>
              <a:rPr b="0" i="1" lang="en-US" sz="3000" spc="-1" strike="noStrike">
                <a:solidFill>
                  <a:srgbClr val="f61a29"/>
                </a:solidFill>
                <a:latin typeface="Arial"/>
              </a:rPr>
              <a:t>three possible outco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trengthening of reproductive barriers reducing 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Weakening of reproductive barriers with eventual fusion into one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Stabi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ontinued formation of hybri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24_14HybrZoneOverTime_4-U"/>
          <p:cNvPicPr/>
          <p:nvPr/>
        </p:nvPicPr>
        <p:blipFill>
          <a:blip r:embed="rId1"/>
          <a:stretch/>
        </p:blipFill>
        <p:spPr>
          <a:xfrm>
            <a:off x="297000" y="1379520"/>
            <a:ext cx="8847000" cy="4038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2280" y="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33480" y="3863880"/>
            <a:ext cx="1143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36600" y="4562640"/>
            <a:ext cx="1663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ive individu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show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76440" y="4352760"/>
            <a:ext cx="99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rrier 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647640" y="3613320"/>
            <a:ext cx="20952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193760" y="3486240"/>
            <a:ext cx="20952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2368440" y="3346560"/>
            <a:ext cx="362160" cy="9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41400" y="1546200"/>
            <a:ext cx="1981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olated 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851200" y="2019240"/>
            <a:ext cx="32364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5956200" y="2130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5952960" y="408636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5613480" y="3759120"/>
            <a:ext cx="296640" cy="40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5586480" y="2222280"/>
            <a:ext cx="34920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83560" y="762120"/>
            <a:ext cx="109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883560" y="2575080"/>
            <a:ext cx="1562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Reinfor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gene flow barr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7467480" y="3200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7391520" y="4191120"/>
            <a:ext cx="55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972480" y="3629160"/>
            <a:ext cx="723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e speci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946920" y="4784760"/>
            <a:ext cx="851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tabilit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ed 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hybrid individu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6781680" y="1625760"/>
            <a:ext cx="0" cy="353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ime Course of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5345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 patterns in speciation can be studied using the fossil record, morphological data, or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ssil record includes examples of species that appear suddenly, persist essentially unchanged for some time, and then apparently dis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le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Eldre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ephen Jay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ou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ined the term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unctuated equilibr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cribe periods of apparent stasis (no change) punctuated by brief periods of rapid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nctuated equilibrium model contrasts with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Darwin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radualism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continuous change over time in a species’ exist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24_17PunctuatedVsGradual-U"/>
          <p:cNvPicPr/>
          <p:nvPr/>
        </p:nvPicPr>
        <p:blipFill>
          <a:blip r:embed="rId1"/>
          <a:stretch/>
        </p:blipFill>
        <p:spPr>
          <a:xfrm>
            <a:off x="0" y="1143000"/>
            <a:ext cx="8845560" cy="4876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52280" y="0"/>
            <a:ext cx="830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atterns in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4920" y="1371600"/>
            <a:ext cx="24746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unctuated</a:t>
            </a: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22200" y="4152960"/>
            <a:ext cx="2068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Gradual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133720" y="2927520"/>
            <a:ext cx="1239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 /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8388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udying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netics of Speciation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plosion of genomics is enabling researchers to identify specific genes involved in some cases of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ending on the species in question, speciation might require the change of only a single allele or many alle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4694"/>
                </a:solidFill>
                <a:latin typeface="Arial"/>
              </a:rPr>
              <a:t>From Speciation to Macro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24_UN01SummaryAlloSym-U"/>
          <p:cNvPicPr/>
          <p:nvPr/>
        </p:nvPicPr>
        <p:blipFill>
          <a:blip r:embed="rId1"/>
          <a:stretch/>
        </p:blipFill>
        <p:spPr>
          <a:xfrm>
            <a:off x="1306440" y="174600"/>
            <a:ext cx="6529320" cy="6585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9"/>
          <p:cNvSpPr/>
          <p:nvPr/>
        </p:nvSpPr>
        <p:spPr>
          <a:xfrm>
            <a:off x="152280" y="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225960" y="208080"/>
            <a:ext cx="2792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397160" y="6278400"/>
            <a:ext cx="2995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730760" y="6284880"/>
            <a:ext cx="3071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24_UN02SIQWheat-U"/>
          <p:cNvPicPr/>
          <p:nvPr/>
        </p:nvPicPr>
        <p:blipFill>
          <a:blip r:embed="rId1"/>
          <a:stretch/>
        </p:blipFill>
        <p:spPr>
          <a:xfrm>
            <a:off x="1449360" y="174600"/>
            <a:ext cx="6243840" cy="658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0" y="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530360" y="208080"/>
            <a:ext cx="20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523880" y="214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904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464000" y="2157480"/>
            <a:ext cx="98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523880" y="3821040"/>
            <a:ext cx="976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4444920" y="4849920"/>
            <a:ext cx="106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4422600" y="538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534000" y="2131920"/>
            <a:ext cx="119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64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920" y="119988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cuss the limitations of the four species concep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and provide examples of prezygotic and postzygotic reproductive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and provide examples of allopatric and sympatric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polyploidy can cause reproductive iso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 hybrid zone and describe three outcomes for hybrid zones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24_02-BioSpeciesConcept-U"/>
          <p:cNvPicPr/>
          <p:nvPr/>
        </p:nvPicPr>
        <p:blipFill>
          <a:blip r:embed="rId1"/>
          <a:stretch/>
        </p:blipFill>
        <p:spPr>
          <a:xfrm>
            <a:off x="2286000" y="174600"/>
            <a:ext cx="4572000" cy="6585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344680" y="1854360"/>
            <a:ext cx="449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a) Similarity between different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306520" y="6273720"/>
            <a:ext cx="33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b) Diversity within a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24_03-BabblerGeneFlowInq-U"/>
          <p:cNvPicPr/>
          <p:nvPr/>
        </p:nvPicPr>
        <p:blipFill>
          <a:blip r:embed="rId1"/>
          <a:stretch/>
        </p:blipFill>
        <p:spPr>
          <a:xfrm>
            <a:off x="2416320" y="174600"/>
            <a:ext cx="4309920" cy="658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451240" y="3600360"/>
            <a:ext cx="1225440" cy="2034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451240" y="654120"/>
            <a:ext cx="1218960" cy="2160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52280" y="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Gene Flow Between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29000" y="685800"/>
            <a:ext cx="922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529000" y="3619440"/>
            <a:ext cx="6681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20800" y="961920"/>
            <a:ext cx="25228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ample of a gene tree for population pair A-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triangle_bullet"/>
          <p:cNvPicPr/>
          <p:nvPr/>
        </p:nvPicPr>
        <p:blipFill>
          <a:blip r:embed="rId2"/>
          <a:stretch/>
        </p:blipFill>
        <p:spPr>
          <a:xfrm>
            <a:off x="2506680" y="981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3833640" y="1174680"/>
            <a:ext cx="319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37200" y="1174680"/>
            <a:ext cx="525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487600" y="1292400"/>
            <a:ext cx="7920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flow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3295800" y="13557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983040" y="13366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338720" y="13399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354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338720" y="285120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338720" y="3149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9862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983040" y="28544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983040" y="31528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983040" y="165096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983040" y="1952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79800" y="22478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338720" y="1647720"/>
            <a:ext cx="651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338720" y="19591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4338720" y="22543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400640" y="1308240"/>
            <a:ext cx="152280" cy="1092240"/>
          </a:xfrm>
          <a:custGeom>
            <a:avLst/>
            <a:gdLst>
              <a:gd name="textAreaLeft" fmla="*/ 0 w 152280"/>
              <a:gd name="textAreaRight" fmla="*/ 55080 w 15228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/>
          <p:cNvSpPr/>
          <p:nvPr/>
        </p:nvSpPr>
        <p:spPr>
          <a:xfrm>
            <a:off x="4400640" y="2540160"/>
            <a:ext cx="152280" cy="758520"/>
          </a:xfrm>
          <a:custGeom>
            <a:avLst/>
            <a:gdLst>
              <a:gd name="textAreaLeft" fmla="*/ 0 w 152280"/>
              <a:gd name="textAreaRight" fmla="*/ 55080 w 15228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578480" y="1581120"/>
            <a:ext cx="1849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 1 is more closely related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2, 3, and 4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576680" y="2658960"/>
            <a:ext cx="1895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 are more clos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ted to one another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in population 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No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08200" y="3941640"/>
            <a:ext cx="903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det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3699000" y="3944880"/>
            <a:ext cx="1415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d minim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s to accou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tic patter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69040" y="4278240"/>
            <a:ext cx="119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ance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 (k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849400" y="471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852640" y="498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841480" y="52578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847960" y="55292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2855880" y="57960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852640" y="60674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2855880" y="634212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363920" y="472140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4359240" y="498492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4313160" y="5261040"/>
            <a:ext cx="208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–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4373640" y="553248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4368960" y="5802480"/>
            <a:ext cx="96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4365720" y="606744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4308480" y="6335640"/>
            <a:ext cx="203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–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883120" y="472428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880240" y="499104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5784840" y="525780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8"/>
          <p:cNvSpPr/>
          <p:nvPr/>
        </p:nvSpPr>
        <p:spPr>
          <a:xfrm>
            <a:off x="5781600" y="5524560"/>
            <a:ext cx="3463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9"/>
          <p:cNvSpPr/>
          <p:nvPr/>
        </p:nvSpPr>
        <p:spPr>
          <a:xfrm>
            <a:off x="5783400" y="6068880"/>
            <a:ext cx="345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888160" y="579600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5776920" y="633564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0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Isolation  =  Barriers to Interbreeding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existence of biological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arriers)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hat impede two different spe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producing viable, fertile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offspring of crosses between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isolation can be classified by whether factors act before or after fer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rezygoti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block fertil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ccurring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ng different species from attempting to 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the successful completion of m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ering fertilization if mating i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Prezygotic barr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oductive 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Temp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Habit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Behavi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Mechanic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Game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3520" y="139320"/>
            <a:ext cx="8001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61a29"/>
                </a:solidFill>
                <a:latin typeface="Arial"/>
              </a:rPr>
              <a:t>Reproductive Barriers Between Spec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24_04-ReproBarriers-U"/>
          <p:cNvPicPr/>
          <p:nvPr/>
        </p:nvPicPr>
        <p:blipFill>
          <a:blip r:embed="rId1"/>
          <a:stretch/>
        </p:blipFill>
        <p:spPr>
          <a:xfrm>
            <a:off x="304920" y="1752480"/>
            <a:ext cx="854856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152280" y="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productive Barriers </a:t>
            </a: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Between</a:t>
            </a: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719440" y="1600200"/>
            <a:ext cx="69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re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905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9600" y="2289240"/>
            <a:ext cx="44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538280" y="1905120"/>
            <a:ext cx="9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63920" y="198108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297240" y="2374920"/>
            <a:ext cx="274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598920" y="198432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761000" y="1987560"/>
            <a:ext cx="658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370480" y="2413080"/>
            <a:ext cx="43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675400" y="1987560"/>
            <a:ext cx="9284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6726240" y="1987560"/>
            <a:ext cx="8938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6400800" y="1600200"/>
            <a:ext cx="1193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ost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8077320" y="1981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447040" y="2349360"/>
            <a:ext cx="33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ab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9852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98520" y="388620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45260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44936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327168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525840" y="289548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f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691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726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770520" y="29019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7376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1200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773760" y="43527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wo species encounter each other rarely, or not at all, because they occupy different habitats, even though not isolated by physical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4920" y="393480"/>
            <a:ext cx="6400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05:28:16Z</cp:lastPrinted>
  <dcterms:modified xsi:type="dcterms:W3CDTF">2018-03-12T09:00:10Z</dcterms:modified>
  <cp:revision>791</cp:revision>
  <dc:subject/>
  <dc:title>video slide</dc:title>
</cp:coreProperties>
</file>