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2EBC-4B1D-4BF3-B173-06C5A0145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, the origin of new species, is at the focal point of Darwin’s evolutionary the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ary theory must explain how new species originate and how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consists of adaptations that evolve within a population, confined to one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refers to evolutionary change above the species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-dwelling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Thamnop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 Isolation: Species that breed at different times of the day, different seasons, or different years cannot mix their game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: Courtship rituals and other behaviors unique to a species are effe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 Morphological differences can prevent successful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 isolation: Sperm of one species may not be able to fertilize eggs of another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 Isolation Occurs Without Appropriate Mating Rit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ship ritual of blue-footed boo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Iso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dybaena with shells spiraling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barriers prevent the hybrid zygote from developing into a viable, fertile adul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viability -- wea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duced hybrid fertility -- steril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brid break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st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Reproductive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e:  sterile hybrid offspring between horse and don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efinitions of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cannot be applied to fossils or asexual organisms (including all prokaryote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pecies concepts emphasize the unity within a species rather than the separateness of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phological species concept defines a species by structural featur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but relies on subjective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cological species concept views a species in terms of its ecological niche.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 and emphasizes the role of disruptive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ylogenetic species concept: defines a species as the smallest group of individuals on a phylogenetic tree.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applies to sexual and asexual species, but it can be difficult to determine the degree of difference required for separate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2: Speciation can take place with or without geographic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can occur in two way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:  geographic barrier separates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no geographic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Galápagos Islands Darwin discovered plants and animals found nowhere else on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Sym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(“Other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ne flow is interrupted or 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when a population is divided into geographically isolated subpopulations … A geographic barrier separates the original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e populations may evolve independently through mutation, natural selection, and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between populations generally increases as the distance between them incr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s to reproduction are intrinsic; separation itself is not a biological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harri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euc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al Drift Caused Allopatric Speci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tell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adagascar onl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hacophorin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dia/South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): 310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Ind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ast A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of years ago (my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my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agas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(“Same Country”)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speciation takes place in geographically overlappi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the presence of extra sets of chromosomes due to accidents during cell divi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utopolyploid is an individual with more than two chromosome sets, derived from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lopolyploid is a species with multiple sets of chromosomes derived from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loidy is common in plants. Many important crops (oats, cotton, potatoes, tobacco, and wheat) are polyplo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via Polyploidy is Common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ure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ion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e to 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iploid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tra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yotypes m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viabl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- Polyploidy --&gt; Allopolypl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 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lopolypl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 =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:  Habitat Differentiation and 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also result from the appearance of new ecological ni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the North American maggot fly can live on native hawthorn trees as well as more recently introduced apple t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can drive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for mates of different colors has likely contributed to the speciation in cichlid fish in Lake Victor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and Sympatric Speciation May Cause Reproductive Isolation: A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opatric speciation, geographic separation restricts gene flow betwee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may then arise by natural selection, genetic drift, or sexual selection in the isolated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if contact is restored between populations, interbreeding is preven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ympatric speciation, a reproductive barrier isolates a subset of a population without geographic separation from the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 can result from polyploidy, natural selection, or 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is a region in which members of different species mate and produce hybr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ybrid zone can occur in a single band where adjacent species m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often have reduced fitness compared with pa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ribution of hybrid zones can be more complex if parent species are found in multiple habitats within the same re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emphasizes reproductive 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sts compare morphology, physiology, biochemistry, and DNA sequences when grouping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ological species concept states that a species is a group of populations whose members have the potential to interbreed in nature and produce viable, fertile offspring; they do not breed successfully with other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ad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varieg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e-bellied toa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mbina bomb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y (log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from hybrid zone center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losely related species meet in a hybrid zone, there are three possible 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-- Strengthening of reproductive barriers reducing gene f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-- Weakening of reproductive barriers with eventual fusion into 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-- Continued formation of hybrid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Zones Ove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ive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ri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ed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co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ene flow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pec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ybrid individua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Course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ad patterns in speciation can be studied using the fossil record, morphological data, or molecular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ssil record includes examples of species that appear suddenly, persist essentially unchanged for some time, and then apparently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les Eldredge and Stephen Jay Gould coined the term punctuated equilibrium to describe periods of apparent stasis (no change) punctuated by brief periods of rapid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nctuated equilibrium model contrasts with a Darwinian model of gradualism:  slow continuous change over time in a species’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s in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ctuated Equilib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ualism pat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 / 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ing the Genetics of Spec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plosion of genomics is enabling researchers to identify specific genes involved in some cases of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ing on the species in question, speciation might require the change of only a single allele or many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Speciation to Macroev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evolution is the cumulative effect of many speciation and extinction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patric 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Original popul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cestral spe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o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ti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 BB 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aestiv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read wh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. tausch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n = 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peciation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42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2n = 14)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and discuss the limitations of the four species concep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 and provide examples of prezygotic and postzygotic reproductive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between and provide examples of allopatric and sympatric spec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polyploidy can cause reproductiv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 hybrid zone and describe three outcomes for hybrid zone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Similarity between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versity within 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Between 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 gene tree for population pair 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1 is more closely related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2, 3, and 4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5, 6, and 7 are more clos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one another than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in populatio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erence: No gene flow occu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et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s to account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betw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(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-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-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-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-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–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3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 =  Barriers to Interbree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is the existence of biological factors (barriers) that impede two different species from producing viable,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s are the offspring of crosses between different spe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isolation can be classified by whether factors act before or after fert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block fertilization from occurring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eding different species from attempting to m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ng the successful completion of m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dering fertilization if mating is success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 maintain reproductive isolation and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, Habitat, Behavioral, Mechanical, and Gamete Iso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Barriers Between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zygotic 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abl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olation: Two species encounter each other rarely, or not at all, because they occupy different habitats, even though not isolated by physical barri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Zygotic Reproductive Barr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16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080" y="114300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92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16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080" y="3657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76320"/>
            <a:ext cx="853452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9560" y="365796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92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9560" y="1143000"/>
            <a:ext cx="416484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920" y="3657960"/>
            <a:ext cx="853452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8"/>
          <p:cNvSpPr/>
          <p:nvPr/>
        </p:nvSpPr>
        <p:spPr>
          <a:xfrm>
            <a:off x="2160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469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3469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05920" y="1143000"/>
            <a:ext cx="853452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94760" y="1218960"/>
            <a:ext cx="853452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origin of new species, is at the focal point of Darwin’s evolutionary theory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ary theory must explain how new species originate and how populations evol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i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sists of adaptations that evolve within a population, confined to one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ers to evolutionary change above the species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1" descr="24_04cReproBarriersHabA-U"/>
          <p:cNvPicPr/>
          <p:nvPr/>
        </p:nvPicPr>
        <p:blipFill>
          <a:blip r:embed="rId1"/>
          <a:stretch/>
        </p:blipFill>
        <p:spPr>
          <a:xfrm>
            <a:off x="2057400" y="685800"/>
            <a:ext cx="4919760" cy="5492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327400" y="84456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2124000" y="5657760"/>
            <a:ext cx="42642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-dwell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24_04dReproBarriersHabB-U"/>
          <p:cNvPicPr/>
          <p:nvPr/>
        </p:nvPicPr>
        <p:blipFill>
          <a:blip r:embed="rId1"/>
          <a:stretch/>
        </p:blipFill>
        <p:spPr>
          <a:xfrm>
            <a:off x="2763720" y="1082520"/>
            <a:ext cx="3614760" cy="47674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924280" y="1174680"/>
            <a:ext cx="428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2809800" y="5315040"/>
            <a:ext cx="33879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restria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amnop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Temp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cies that breed at different times of the day, different seasons, or different years cannot mix their game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Behavior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urtship rituals and other behaviors unique to a species are effective barri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orphological differences can prevent successful m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ametic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perm of one species may not be able to fertilize eggs of another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57200" y="266400"/>
            <a:ext cx="73915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24_04gReproBarriersBehE-U"/>
          <p:cNvPicPr/>
          <p:nvPr/>
        </p:nvPicPr>
        <p:blipFill>
          <a:blip r:embed="rId1"/>
          <a:stretch/>
        </p:blipFill>
        <p:spPr>
          <a:xfrm>
            <a:off x="1819440" y="558720"/>
            <a:ext cx="5505120" cy="58165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152280" y="0"/>
            <a:ext cx="8763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Behavioral Iso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s Without Appropriate Mating Rit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797520" y="730080"/>
            <a:ext cx="4287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1857240" y="5543640"/>
            <a:ext cx="5762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tship ritual of blue-footed boob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24_04hReproBarriersMecF-U"/>
          <p:cNvPicPr/>
          <p:nvPr/>
        </p:nvPicPr>
        <p:blipFill>
          <a:blip r:embed="rId1"/>
          <a:stretch/>
        </p:blipFill>
        <p:spPr>
          <a:xfrm>
            <a:off x="938160" y="174600"/>
            <a:ext cx="7267680" cy="65851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28600" y="380880"/>
            <a:ext cx="7315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120680" y="285840"/>
            <a:ext cx="4287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09480" y="5607000"/>
            <a:ext cx="85345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Mechanical Isol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dybaen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shells spiraling in opposit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vent the hybrid zygote from developing into a viable, fertile adul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viab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weak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hybrid fertility -- </a:t>
            </a:r>
            <a:r>
              <a:rPr b="0" lang="en-US" sz="2800" spc="-1" strike="noStrike">
                <a:solidFill>
                  <a:srgbClr val="f61a29"/>
                </a:solidFill>
                <a:latin typeface="Arial"/>
              </a:rPr>
              <a:t>sterile off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 break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177480"/>
            <a:ext cx="9144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ost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24_04oReproBarriersFerK-U"/>
          <p:cNvPicPr/>
          <p:nvPr/>
        </p:nvPicPr>
        <p:blipFill>
          <a:blip r:embed="rId1"/>
          <a:stretch/>
        </p:blipFill>
        <p:spPr>
          <a:xfrm>
            <a:off x="1219320" y="533520"/>
            <a:ext cx="6657840" cy="5908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152280" y="0"/>
            <a:ext cx="6553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PostZygot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oductive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B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552680" y="692280"/>
            <a:ext cx="4284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304920" y="5873760"/>
            <a:ext cx="7848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e:  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steri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ybrid offspring between horse and don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ther Definitions of Specie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16000" y="990360"/>
            <a:ext cx="8534160" cy="55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biological species concept cannot be applied to fossils or asexual organisms (including all prokaryot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ther species concepts emphasize the unity within a species rather than the separateness of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orphological species concep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s a species by structural feature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but relies on subjective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17080" y="990360"/>
            <a:ext cx="8534520" cy="54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ecological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iews a species in terms of its ecological niche.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 and emphasizes the role of disruptive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phylogenetic species concep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defines a species as the smallest group of individuals on a phylogenetic tree.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pplies to sexual and asexual species, but it can be difficult to determine the degree of difference required for separate spe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2: Speciation can take place with or without geographic sepa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4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occur in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wo way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 geographic barrier separates pop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ation: no geographic b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5" descr="24_01FlightlessCormorant-U"/>
          <p:cNvPicPr/>
          <p:nvPr/>
        </p:nvPicPr>
        <p:blipFill>
          <a:blip r:embed="rId1"/>
          <a:stretch/>
        </p:blipFill>
        <p:spPr>
          <a:xfrm>
            <a:off x="297000" y="235080"/>
            <a:ext cx="8548560" cy="65656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52280" y="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61a29"/>
                </a:solidFill>
                <a:latin typeface="Arial"/>
              </a:rPr>
              <a:t>In the Galápagos Islands Darwin discovered plants and animals found nowhere else on Earth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8" descr="24_05AlloSymSpeciation-U"/>
          <p:cNvPicPr/>
          <p:nvPr/>
        </p:nvPicPr>
        <p:blipFill>
          <a:blip r:embed="rId1"/>
          <a:stretch/>
        </p:blipFill>
        <p:spPr>
          <a:xfrm>
            <a:off x="1008000" y="174600"/>
            <a:ext cx="7128000" cy="65851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082520" y="6299280"/>
            <a:ext cx="26384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Allo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746600" y="6305400"/>
            <a:ext cx="272088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) 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(“Other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ne flow is interrupted or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d when a population is divided into geographically isolated subpopulations …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eographic barri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eparates the original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e popul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evolve independently through mutation, natural selection, and genetic dri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populations generally increases as the distance between them increa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rriers to reproduction are intrinsic; separation itself is not a biological barr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7" descr="24_06AlloSpeciaGCanyon-U"/>
          <p:cNvPicPr/>
          <p:nvPr/>
        </p:nvPicPr>
        <p:blipFill>
          <a:blip r:embed="rId1"/>
          <a:stretch/>
        </p:blipFill>
        <p:spPr>
          <a:xfrm>
            <a:off x="297000" y="2079720"/>
            <a:ext cx="8548560" cy="2773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8"/>
          <p:cNvSpPr/>
          <p:nvPr/>
        </p:nvSpPr>
        <p:spPr>
          <a:xfrm>
            <a:off x="152280" y="0"/>
            <a:ext cx="7620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498600" y="3924360"/>
            <a:ext cx="10252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harri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7292880" y="393048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. leucu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24_07-AlloSpeciaFrogs-U"/>
          <p:cNvPicPr/>
          <p:nvPr/>
        </p:nvPicPr>
        <p:blipFill>
          <a:blip r:embed="rId1"/>
          <a:stretch/>
        </p:blipFill>
        <p:spPr>
          <a:xfrm>
            <a:off x="365040" y="200160"/>
            <a:ext cx="8413920" cy="6584760"/>
          </a:xfrm>
          <a:prstGeom prst="rect">
            <a:avLst/>
          </a:prstGeom>
          <a:ln w="0">
            <a:noFill/>
          </a:ln>
        </p:spPr>
      </p:pic>
      <p:sp>
        <p:nvSpPr>
          <p:cNvPr id="267" name="Oval 8"/>
          <p:cNvSpPr/>
          <p:nvPr/>
        </p:nvSpPr>
        <p:spPr>
          <a:xfrm>
            <a:off x="5526000" y="480996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255840" y="480708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0"/>
          <p:cNvSpPr/>
          <p:nvPr/>
        </p:nvSpPr>
        <p:spPr>
          <a:xfrm>
            <a:off x="1017720" y="479736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1"/>
          <p:cNvSpPr/>
          <p:nvPr/>
        </p:nvSpPr>
        <p:spPr>
          <a:xfrm>
            <a:off x="2833560" y="4162320"/>
            <a:ext cx="247680" cy="23364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36844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3"/>
          <p:cNvSpPr/>
          <p:nvPr/>
        </p:nvSpPr>
        <p:spPr>
          <a:xfrm>
            <a:off x="1351080" y="4154400"/>
            <a:ext cx="247680" cy="233280"/>
          </a:xfrm>
          <a:prstGeom prst="ellipse">
            <a:avLst/>
          </a:prstGeom>
          <a:solidFill>
            <a:srgbClr val="0092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152280" y="0"/>
            <a:ext cx="8153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Continental Drif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</a:t>
            </a: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 Allopatric Spe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635800" y="507960"/>
            <a:ext cx="1857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tell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dagascar only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5629320" y="1593720"/>
            <a:ext cx="17812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hacophorin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dia/Southe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ia): 310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635800" y="2673360"/>
            <a:ext cx="161604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di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east As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8"/>
          <p:cNvSpPr/>
          <p:nvPr/>
        </p:nvSpPr>
        <p:spPr>
          <a:xfrm>
            <a:off x="1660680" y="4397400"/>
            <a:ext cx="26701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ons of years ago (my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9"/>
          <p:cNvSpPr/>
          <p:nvPr/>
        </p:nvSpPr>
        <p:spPr>
          <a:xfrm>
            <a:off x="1415880" y="416088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0"/>
          <p:cNvSpPr/>
          <p:nvPr/>
        </p:nvSpPr>
        <p:spPr>
          <a:xfrm>
            <a:off x="244476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2909880" y="416412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2"/>
          <p:cNvSpPr/>
          <p:nvPr/>
        </p:nvSpPr>
        <p:spPr>
          <a:xfrm>
            <a:off x="1085760" y="4813200"/>
            <a:ext cx="9540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3332160" y="4815000"/>
            <a:ext cx="9540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4"/>
          <p:cNvSpPr/>
          <p:nvPr/>
        </p:nvSpPr>
        <p:spPr>
          <a:xfrm>
            <a:off x="5600880" y="4813200"/>
            <a:ext cx="95040" cy="2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79320" y="3889440"/>
            <a:ext cx="3700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6"/>
          <p:cNvSpPr/>
          <p:nvPr/>
        </p:nvSpPr>
        <p:spPr>
          <a:xfrm>
            <a:off x="165420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2590920" y="3895560"/>
            <a:ext cx="2397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"/>
          <p:cNvSpPr/>
          <p:nvPr/>
        </p:nvSpPr>
        <p:spPr>
          <a:xfrm>
            <a:off x="3548160" y="3897360"/>
            <a:ext cx="2397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4473720" y="3895560"/>
            <a:ext cx="2394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5468760" y="3902040"/>
            <a:ext cx="1256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1349280" y="635796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8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3589200" y="6357960"/>
            <a:ext cx="70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3"/>
          <p:cNvSpPr/>
          <p:nvPr/>
        </p:nvSpPr>
        <p:spPr>
          <a:xfrm>
            <a:off x="5830920" y="6356520"/>
            <a:ext cx="709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6 m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4"/>
          <p:cNvSpPr/>
          <p:nvPr/>
        </p:nvSpPr>
        <p:spPr>
          <a:xfrm>
            <a:off x="7575480" y="4951440"/>
            <a:ext cx="478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35"/>
          <p:cNvSpPr/>
          <p:nvPr/>
        </p:nvSpPr>
        <p:spPr>
          <a:xfrm flipV="1">
            <a:off x="6748560" y="5079960"/>
            <a:ext cx="803160" cy="317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6"/>
          <p:cNvSpPr/>
          <p:nvPr/>
        </p:nvSpPr>
        <p:spPr>
          <a:xfrm>
            <a:off x="7577280" y="5907240"/>
            <a:ext cx="118872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7"/>
          <p:cNvSpPr/>
          <p:nvPr/>
        </p:nvSpPr>
        <p:spPr>
          <a:xfrm>
            <a:off x="6172200" y="6037200"/>
            <a:ext cx="1389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ympatric (“Same Country”)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69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speciation takes place in geographically overlapping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Polyploidy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the presence of extra sets of chromosomes due to accidents during cell divis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ut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n individual with more than two chromosome sets,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one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allopolyploi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species with multiple sets of chromosomes </a:t>
            </a: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derived from different spec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yploidy is common in plants. Many important crops (oats, cotton, potatoes, tobacco, and wheat) are polyploi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24_10SymAutopolyploidy_3-U"/>
          <p:cNvPicPr/>
          <p:nvPr/>
        </p:nvPicPr>
        <p:blipFill>
          <a:blip r:embed="rId1"/>
          <a:stretch/>
        </p:blipFill>
        <p:spPr>
          <a:xfrm>
            <a:off x="297000" y="1719360"/>
            <a:ext cx="8548560" cy="34941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3"/>
          <p:cNvSpPr/>
          <p:nvPr/>
        </p:nvSpPr>
        <p:spPr>
          <a:xfrm>
            <a:off x="152280" y="0"/>
            <a:ext cx="807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Polyploid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omm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33520" y="3152880"/>
            <a:ext cx="7491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921040" y="3152880"/>
            <a:ext cx="8888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244520" y="3533760"/>
            <a:ext cx="1879560" cy="15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ilur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vision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plication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e to 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ss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5460840" y="3127320"/>
            <a:ext cx="292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5156280" y="3533760"/>
            <a:ext cx="132084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diploid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7620120" y="3152880"/>
            <a:ext cx="291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7086600" y="3533760"/>
            <a:ext cx="17146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fspring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trapl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ryotypes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viable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rt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24_11SymAllopolyploidy_4-U"/>
          <p:cNvPicPr/>
          <p:nvPr/>
        </p:nvPicPr>
        <p:blipFill>
          <a:blip r:embed="rId1"/>
          <a:stretch/>
        </p:blipFill>
        <p:spPr>
          <a:xfrm>
            <a:off x="297000" y="1778040"/>
            <a:ext cx="8548560" cy="337824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3"/>
          <p:cNvSpPr/>
          <p:nvPr/>
        </p:nvSpPr>
        <p:spPr>
          <a:xfrm>
            <a:off x="152280" y="0"/>
            <a:ext cx="8839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ympatric Speciation - Polyploidy --&gt; Allopolypl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22200" y="45450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2451240" y="4124160"/>
            <a:ext cx="711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428840" y="2911320"/>
            <a:ext cx="730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io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61800" y="1774800"/>
            <a:ext cx="10288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e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228760" y="1825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4006800" y="2308320"/>
            <a:ext cx="144144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5759280" y="200340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redu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880240" y="4327560"/>
            <a:ext cx="711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me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7397640" y="4111560"/>
            <a:ext cx="1390680" cy="8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able fert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llopolypl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Sympatric Speciation:  Habitat Differentiation and 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also result from the appearance of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new ecological ni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North American maggot fly can live on native hawthorn trees as well as more recently introduced apple tre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Sexu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drive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election for mates of different colors has likely contributed to the speciation in cichlid fish in Lake Victori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Allopatric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and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Sympatric Speciation </a:t>
            </a:r>
            <a:r>
              <a:rPr b="0" lang="en-US" sz="3000" spc="-1" strike="noStrike">
                <a:solidFill>
                  <a:srgbClr val="333399"/>
                </a:solidFill>
                <a:latin typeface="Times New Roman"/>
              </a:rPr>
              <a:t>May Cause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Reproductive Isolation: </a:t>
            </a: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 Review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05920" y="1066320"/>
            <a:ext cx="8534520" cy="735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allo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geographic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tricts gene flow between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y then arise by natural selection, genetic drift, or sexual selection in the isolated popul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contact is restored between populations, interbreeding is prevent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i="1" lang="en-US" sz="2600" spc="-1" strike="noStrike">
                <a:solidFill>
                  <a:srgbClr val="f61a29"/>
                </a:solidFill>
                <a:latin typeface="Arial"/>
              </a:rPr>
              <a:t>sympatric spec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 reproductive barrier isolates a subset of a population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without geographic sepa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the parent spe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mpatric speciation can result from polyploidy, natural selection, or sexual sele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4.3: Hybrid zones provide opportunities to study factors that cause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1708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 zon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region in which members of different species mate and produce hybri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hybrid zone can occur in a single band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where adjacent species me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ybrids often have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reduced fitn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mpared with pa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stribution of hybrid zones can be more complex if parent species are found in multiple habitats within the same reg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Biological Species Concept emphasizes reproductive iso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7080" y="1174320"/>
            <a:ext cx="853452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ologists compare morphology, physiology, biochemistry, and DNA sequences when grouping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logical </a:t>
            </a: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specie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oncept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es that 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ec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group of populations whose members have the potential to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interbre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nature and produce viable,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ertile offspr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they do not breed successfully with other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24_13-FrogHybridZone-U"/>
          <p:cNvPicPr/>
          <p:nvPr/>
        </p:nvPicPr>
        <p:blipFill>
          <a:blip r:embed="rId1"/>
          <a:stretch/>
        </p:blipFill>
        <p:spPr>
          <a:xfrm>
            <a:off x="297000" y="558720"/>
            <a:ext cx="8548560" cy="58165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8"/>
          <p:cNvSpPr/>
          <p:nvPr/>
        </p:nvSpPr>
        <p:spPr>
          <a:xfrm>
            <a:off x="152280" y="0"/>
            <a:ext cx="274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1003320" y="1076400"/>
            <a:ext cx="55872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4743360" y="2714760"/>
            <a:ext cx="67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4197240" y="3038400"/>
            <a:ext cx="749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Hybrid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2"/>
          <p:cNvSpPr/>
          <p:nvPr/>
        </p:nvSpPr>
        <p:spPr>
          <a:xfrm>
            <a:off x="3753000" y="3336840"/>
            <a:ext cx="87624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ad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3"/>
          <p:cNvSpPr/>
          <p:nvPr/>
        </p:nvSpPr>
        <p:spPr>
          <a:xfrm>
            <a:off x="368280" y="3540240"/>
            <a:ext cx="119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Yellow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varieg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4"/>
          <p:cNvSpPr/>
          <p:nvPr/>
        </p:nvSpPr>
        <p:spPr>
          <a:xfrm>
            <a:off x="5962680" y="3139920"/>
            <a:ext cx="1193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-bellied toad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Bombina bomb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5"/>
          <p:cNvSpPr/>
          <p:nvPr/>
        </p:nvSpPr>
        <p:spPr>
          <a:xfrm rot="16200000">
            <a:off x="4101120" y="4632480"/>
            <a:ext cx="16765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llele frequency (log sca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6"/>
          <p:cNvSpPr/>
          <p:nvPr/>
        </p:nvSpPr>
        <p:spPr>
          <a:xfrm>
            <a:off x="5918040" y="5965920"/>
            <a:ext cx="233712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stance from hybrid zone center (k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7"/>
          <p:cNvSpPr/>
          <p:nvPr/>
        </p:nvSpPr>
        <p:spPr>
          <a:xfrm>
            <a:off x="53341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8"/>
          <p:cNvSpPr/>
          <p:nvPr/>
        </p:nvSpPr>
        <p:spPr>
          <a:xfrm>
            <a:off x="581652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9"/>
          <p:cNvSpPr/>
          <p:nvPr/>
        </p:nvSpPr>
        <p:spPr>
          <a:xfrm>
            <a:off x="6311880" y="5781600"/>
            <a:ext cx="1652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0"/>
          <p:cNvSpPr/>
          <p:nvPr/>
        </p:nvSpPr>
        <p:spPr>
          <a:xfrm>
            <a:off x="8248680" y="5788080"/>
            <a:ext cx="1652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1"/>
          <p:cNvSpPr/>
          <p:nvPr/>
        </p:nvSpPr>
        <p:spPr>
          <a:xfrm>
            <a:off x="681372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2"/>
          <p:cNvSpPr/>
          <p:nvPr/>
        </p:nvSpPr>
        <p:spPr>
          <a:xfrm>
            <a:off x="7759800" y="5788080"/>
            <a:ext cx="16488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3"/>
          <p:cNvSpPr/>
          <p:nvPr/>
        </p:nvSpPr>
        <p:spPr>
          <a:xfrm>
            <a:off x="7340760" y="5788080"/>
            <a:ext cx="11412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4"/>
          <p:cNvSpPr/>
          <p:nvPr/>
        </p:nvSpPr>
        <p:spPr>
          <a:xfrm>
            <a:off x="5060880" y="5572080"/>
            <a:ext cx="25416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137200" y="5108400"/>
            <a:ext cx="19044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5130720" y="4664160"/>
            <a:ext cx="190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5137200" y="4219560"/>
            <a:ext cx="18396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5067360" y="3718080"/>
            <a:ext cx="24120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Times New Roman"/>
              </a:rPr>
              <a:t>Hybrid Zones over Tim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closely related species meet in a hybrid zone, there are </a:t>
            </a:r>
            <a:r>
              <a:rPr b="0" i="1" lang="en-US" sz="3000" spc="-1" strike="noStrike">
                <a:solidFill>
                  <a:srgbClr val="f61a29"/>
                </a:solidFill>
                <a:latin typeface="Arial"/>
              </a:rPr>
              <a:t>three possible outcom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Reinforc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Strengthening of reproductive barriers reducing 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Weakening of reproductive barriers with eventual fusion into one spec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61a29"/>
                </a:solidFill>
                <a:latin typeface="Arial"/>
              </a:rPr>
              <a:t>Stabili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Continued formation of hybrid indiv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24_14HybrZoneOverTime_4-U"/>
          <p:cNvPicPr/>
          <p:nvPr/>
        </p:nvPicPr>
        <p:blipFill>
          <a:blip r:embed="rId1"/>
          <a:stretch/>
        </p:blipFill>
        <p:spPr>
          <a:xfrm>
            <a:off x="297000" y="1379520"/>
            <a:ext cx="8847000" cy="4038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3"/>
          <p:cNvSpPr/>
          <p:nvPr/>
        </p:nvSpPr>
        <p:spPr>
          <a:xfrm>
            <a:off x="152280" y="0"/>
            <a:ext cx="746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Hybrid Zon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933480" y="3863880"/>
            <a:ext cx="1143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36600" y="4562640"/>
            <a:ext cx="1663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(five individua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e show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2476440" y="4352760"/>
            <a:ext cx="990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Barrier 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7"/>
          <p:cNvSpPr/>
          <p:nvPr/>
        </p:nvSpPr>
        <p:spPr>
          <a:xfrm flipH="1">
            <a:off x="647640" y="3613320"/>
            <a:ext cx="209520" cy="95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8"/>
          <p:cNvSpPr/>
          <p:nvPr/>
        </p:nvSpPr>
        <p:spPr>
          <a:xfrm>
            <a:off x="1193760" y="3486240"/>
            <a:ext cx="209520" cy="36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9"/>
          <p:cNvSpPr/>
          <p:nvPr/>
        </p:nvSpPr>
        <p:spPr>
          <a:xfrm>
            <a:off x="2368440" y="3346560"/>
            <a:ext cx="362160" cy="9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1841400" y="1546200"/>
            <a:ext cx="19814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solated popu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iverg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1"/>
          <p:cNvSpPr/>
          <p:nvPr/>
        </p:nvSpPr>
        <p:spPr>
          <a:xfrm>
            <a:off x="2851200" y="2019240"/>
            <a:ext cx="323640" cy="628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5956200" y="2130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z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5952960" y="4086360"/>
            <a:ext cx="68580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4"/>
          <p:cNvSpPr/>
          <p:nvPr/>
        </p:nvSpPr>
        <p:spPr>
          <a:xfrm>
            <a:off x="5613480" y="3759120"/>
            <a:ext cx="296640" cy="401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5586480" y="2222280"/>
            <a:ext cx="349200" cy="35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83560" y="762120"/>
            <a:ext cx="10918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com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883560" y="2575080"/>
            <a:ext cx="15620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Reinforc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gene flow barri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7467480" y="3200400"/>
            <a:ext cx="482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7391520" y="4191120"/>
            <a:ext cx="55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972480" y="3629160"/>
            <a:ext cx="7236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Fus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i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ne specie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1"/>
          <p:cNvSpPr/>
          <p:nvPr/>
        </p:nvSpPr>
        <p:spPr>
          <a:xfrm>
            <a:off x="6946920" y="4784760"/>
            <a:ext cx="85104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Stabilit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inued form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f hybrid individual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2"/>
          <p:cNvSpPr/>
          <p:nvPr/>
        </p:nvSpPr>
        <p:spPr>
          <a:xfrm>
            <a:off x="6781680" y="1625760"/>
            <a:ext cx="0" cy="3530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Time Course of Spec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05920" y="990360"/>
            <a:ext cx="8534520" cy="58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ad patterns in speciation can be studied using the fossil record, morphological data, or molecular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ssil record includes examples of species that appear suddenly, persist essentially unchanged for some time, and then apparently disapp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ile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Eldre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Stephen Jay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Gou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ined the term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unctuated equilibrium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cribe periods of apparent stasis (no change) punctuated by brief periods of rapid chan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unctuated equilibrium model contrasts with a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Darwini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gradualism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low continuous change over time in a species’ exist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7" descr="24_17PunctuatedVsGradual-U"/>
          <p:cNvPicPr/>
          <p:nvPr/>
        </p:nvPicPr>
        <p:blipFill>
          <a:blip r:embed="rId1"/>
          <a:stretch/>
        </p:blipFill>
        <p:spPr>
          <a:xfrm>
            <a:off x="0" y="1143000"/>
            <a:ext cx="8845560" cy="48769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152280" y="0"/>
            <a:ext cx="8305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atterns in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4920" y="1371600"/>
            <a:ext cx="247464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Punctuated</a:t>
            </a: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"/>
          <p:cNvSpPr/>
          <p:nvPr/>
        </p:nvSpPr>
        <p:spPr>
          <a:xfrm>
            <a:off x="322200" y="4152960"/>
            <a:ext cx="20685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1a29"/>
                </a:solidFill>
                <a:latin typeface="Arial"/>
              </a:rPr>
              <a:t>Graduali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2133720" y="2927520"/>
            <a:ext cx="123984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ange  / 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1920" y="8388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tudying the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Genetics of Speciation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17080" y="1176120"/>
            <a:ext cx="853452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xplosion of genomics is enabling researchers to identify specific genes involved in some cases of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pending on the species in question, speciation might require the change of only a single allele or many alle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34694"/>
                </a:solidFill>
                <a:latin typeface="Arial"/>
              </a:rPr>
              <a:t>From Speciation to Macro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Macroevolu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the cumulative effect of many speciation and extinction ev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8" descr="24_UN01SummaryAlloSym-U"/>
          <p:cNvPicPr/>
          <p:nvPr/>
        </p:nvPicPr>
        <p:blipFill>
          <a:blip r:embed="rId1"/>
          <a:stretch/>
        </p:blipFill>
        <p:spPr>
          <a:xfrm>
            <a:off x="1306440" y="174600"/>
            <a:ext cx="6529320" cy="658512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9"/>
          <p:cNvSpPr/>
          <p:nvPr/>
        </p:nvSpPr>
        <p:spPr>
          <a:xfrm>
            <a:off x="152280" y="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tion</a:t>
            </a:r>
            <a:r>
              <a:rPr b="1" lang="en-US" sz="2000" spc="-1" strike="noStrike">
                <a:solidFill>
                  <a:srgbClr val="f61a29"/>
                </a:solidFill>
                <a:latin typeface="Arial"/>
              </a:rPr>
              <a:t> </a:t>
            </a:r>
            <a:br>
              <a:rPr sz="2000"/>
            </a:b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3225960" y="208080"/>
            <a:ext cx="27921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Origin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1397160" y="6278400"/>
            <a:ext cx="2995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2"/>
          <p:cNvSpPr/>
          <p:nvPr/>
        </p:nvSpPr>
        <p:spPr>
          <a:xfrm>
            <a:off x="4730760" y="6284880"/>
            <a:ext cx="30718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patric sp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24_UN02SIQWheat-U"/>
          <p:cNvPicPr/>
          <p:nvPr/>
        </p:nvPicPr>
        <p:blipFill>
          <a:blip r:embed="rId1"/>
          <a:stretch/>
        </p:blipFill>
        <p:spPr>
          <a:xfrm>
            <a:off x="1449360" y="174600"/>
            <a:ext cx="6243840" cy="6585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3"/>
          <p:cNvSpPr/>
          <p:nvPr/>
        </p:nvSpPr>
        <p:spPr>
          <a:xfrm>
            <a:off x="0" y="0"/>
            <a:ext cx="213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61a29"/>
                </a:solidFill>
                <a:latin typeface="Arial"/>
              </a:rPr>
              <a:t>Spe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530360" y="208080"/>
            <a:ext cx="2055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cestral 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523880" y="214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nococ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48904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57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4464000" y="2157480"/>
            <a:ext cx="9828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rit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1523880" y="3821040"/>
            <a:ext cx="976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4444920" y="4849920"/>
            <a:ext cx="106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A BB D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4422600" y="5384880"/>
            <a:ext cx="1509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aestiv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read wh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6534000" y="2131920"/>
            <a:ext cx="11988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. tausch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6648480" y="1604880"/>
            <a:ext cx="36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05920" y="1199880"/>
            <a:ext cx="853452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and discuss the limitations of the four species concep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ribe and provide examples of prezygotic and postzygotic reproductive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between and provide examples of allopatric and sympatric spec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polyploidy can cause reproductive iso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 hybrid zone and describe three outcomes for hybrid zones over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24_02-BioSpeciesConcept-U"/>
          <p:cNvPicPr/>
          <p:nvPr/>
        </p:nvPicPr>
        <p:blipFill>
          <a:blip r:embed="rId1"/>
          <a:stretch/>
        </p:blipFill>
        <p:spPr>
          <a:xfrm>
            <a:off x="2286000" y="174600"/>
            <a:ext cx="4572000" cy="6585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. 2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344680" y="1854360"/>
            <a:ext cx="44974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a) Similarity between different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2306520" y="6273720"/>
            <a:ext cx="335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(b) Diversity within a spec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8" descr="24_03-BabblerGeneFlowInq-U"/>
          <p:cNvPicPr/>
          <p:nvPr/>
        </p:nvPicPr>
        <p:blipFill>
          <a:blip r:embed="rId1"/>
          <a:stretch/>
        </p:blipFill>
        <p:spPr>
          <a:xfrm>
            <a:off x="2416320" y="174600"/>
            <a:ext cx="4309920" cy="65851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9"/>
          <p:cNvSpPr/>
          <p:nvPr/>
        </p:nvSpPr>
        <p:spPr>
          <a:xfrm>
            <a:off x="2451240" y="3600360"/>
            <a:ext cx="1225440" cy="2034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451240" y="654120"/>
            <a:ext cx="1218960" cy="216000"/>
          </a:xfrm>
          <a:prstGeom prst="rect">
            <a:avLst/>
          </a:prstGeom>
          <a:solidFill>
            <a:srgbClr val="fecd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52280" y="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Gene Flow Between Pop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529000" y="685800"/>
            <a:ext cx="92232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EXPERI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2529000" y="3619440"/>
            <a:ext cx="668160" cy="1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563a84"/>
                </a:solidFill>
                <a:latin typeface="Arial"/>
              </a:rPr>
              <a:t>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2620800" y="961920"/>
            <a:ext cx="252288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xample of a gene tree for population pair A-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triangle_bullet"/>
          <p:cNvPicPr/>
          <p:nvPr/>
        </p:nvPicPr>
        <p:blipFill>
          <a:blip r:embed="rId2"/>
          <a:stretch/>
        </p:blipFill>
        <p:spPr>
          <a:xfrm>
            <a:off x="2506680" y="981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6"/>
          <p:cNvSpPr/>
          <p:nvPr/>
        </p:nvSpPr>
        <p:spPr>
          <a:xfrm>
            <a:off x="3833640" y="1174680"/>
            <a:ext cx="3193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le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7"/>
          <p:cNvSpPr/>
          <p:nvPr/>
        </p:nvSpPr>
        <p:spPr>
          <a:xfrm>
            <a:off x="4237200" y="1174680"/>
            <a:ext cx="5252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2487600" y="1292400"/>
            <a:ext cx="79200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ene flow ev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3295800" y="1355760"/>
            <a:ext cx="171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983040" y="13366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338720" y="13399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354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338720" y="285120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4338720" y="3149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986280" y="25462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3983040" y="28544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3983040" y="315288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81d29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3983040" y="165096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3983040" y="19526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0"/>
          <p:cNvSpPr/>
          <p:nvPr/>
        </p:nvSpPr>
        <p:spPr>
          <a:xfrm>
            <a:off x="3979800" y="224784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4338720" y="1647720"/>
            <a:ext cx="65160" cy="1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4338720" y="19591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4338720" y="2254320"/>
            <a:ext cx="6516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96d9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400640" y="1308240"/>
            <a:ext cx="152280" cy="1092240"/>
          </a:xfrm>
          <a:custGeom>
            <a:avLst/>
            <a:gdLst>
              <a:gd name="textAreaLeft" fmla="*/ 0 w 152280"/>
              <a:gd name="textAreaRight" fmla="*/ 55080 w 152280"/>
              <a:gd name="textAreaTop" fmla="*/ 28440 h 1092240"/>
              <a:gd name="textAreaBottom" fmla="*/ 1063800 h 109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5"/>
          <p:cNvSpPr/>
          <p:nvPr/>
        </p:nvSpPr>
        <p:spPr>
          <a:xfrm>
            <a:off x="4400640" y="2540160"/>
            <a:ext cx="152280" cy="758520"/>
          </a:xfrm>
          <a:custGeom>
            <a:avLst/>
            <a:gdLst>
              <a:gd name="textAreaLeft" fmla="*/ 0 w 152280"/>
              <a:gd name="textAreaRight" fmla="*/ 55080 w 152280"/>
              <a:gd name="textAreaTop" fmla="*/ 19440 h 758520"/>
              <a:gd name="textAreaBottom" fmla="*/ 739080 h 75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4578480" y="1581120"/>
            <a:ext cx="1849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 1 is more closely related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2, 3, and 4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4576680" y="2658960"/>
            <a:ext cx="18954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5, 6, and 7 are more close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lated to one another than 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leles in population 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ference: No gene flow occur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8"/>
          <p:cNvSpPr/>
          <p:nvPr/>
        </p:nvSpPr>
        <p:spPr>
          <a:xfrm>
            <a:off x="2608200" y="3941640"/>
            <a:ext cx="9032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ir o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ith detec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9"/>
          <p:cNvSpPr/>
          <p:nvPr/>
        </p:nvSpPr>
        <p:spPr>
          <a:xfrm>
            <a:off x="3699000" y="3944880"/>
            <a:ext cx="14158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stimated minim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umber of gene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vents to account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enetic patter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0"/>
          <p:cNvSpPr/>
          <p:nvPr/>
        </p:nvSpPr>
        <p:spPr>
          <a:xfrm>
            <a:off x="5369040" y="4278240"/>
            <a:ext cx="1199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tance betw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opulations (k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2849400" y="471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2"/>
          <p:cNvSpPr/>
          <p:nvPr/>
        </p:nvSpPr>
        <p:spPr>
          <a:xfrm>
            <a:off x="2852640" y="4989600"/>
            <a:ext cx="2239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K-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3"/>
          <p:cNvSpPr/>
          <p:nvPr/>
        </p:nvSpPr>
        <p:spPr>
          <a:xfrm>
            <a:off x="2841480" y="52578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4"/>
          <p:cNvSpPr/>
          <p:nvPr/>
        </p:nvSpPr>
        <p:spPr>
          <a:xfrm>
            <a:off x="2847960" y="55292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5"/>
          <p:cNvSpPr/>
          <p:nvPr/>
        </p:nvSpPr>
        <p:spPr>
          <a:xfrm>
            <a:off x="2855880" y="579600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-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6"/>
          <p:cNvSpPr/>
          <p:nvPr/>
        </p:nvSpPr>
        <p:spPr>
          <a:xfrm>
            <a:off x="2852640" y="606744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-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7"/>
          <p:cNvSpPr/>
          <p:nvPr/>
        </p:nvSpPr>
        <p:spPr>
          <a:xfrm>
            <a:off x="2855880" y="6342120"/>
            <a:ext cx="223920" cy="1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-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8"/>
          <p:cNvSpPr/>
          <p:nvPr/>
        </p:nvSpPr>
        <p:spPr>
          <a:xfrm>
            <a:off x="4363920" y="472140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9"/>
          <p:cNvSpPr/>
          <p:nvPr/>
        </p:nvSpPr>
        <p:spPr>
          <a:xfrm>
            <a:off x="4359240" y="498492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0"/>
          <p:cNvSpPr/>
          <p:nvPr/>
        </p:nvSpPr>
        <p:spPr>
          <a:xfrm>
            <a:off x="4313160" y="5261040"/>
            <a:ext cx="20808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–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1"/>
          <p:cNvSpPr/>
          <p:nvPr/>
        </p:nvSpPr>
        <p:spPr>
          <a:xfrm>
            <a:off x="4373640" y="553248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2"/>
          <p:cNvSpPr/>
          <p:nvPr/>
        </p:nvSpPr>
        <p:spPr>
          <a:xfrm>
            <a:off x="4368960" y="5802480"/>
            <a:ext cx="968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3"/>
          <p:cNvSpPr/>
          <p:nvPr/>
        </p:nvSpPr>
        <p:spPr>
          <a:xfrm>
            <a:off x="4365720" y="6067440"/>
            <a:ext cx="96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4"/>
          <p:cNvSpPr/>
          <p:nvPr/>
        </p:nvSpPr>
        <p:spPr>
          <a:xfrm>
            <a:off x="4308480" y="6335640"/>
            <a:ext cx="20304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–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5"/>
          <p:cNvSpPr/>
          <p:nvPr/>
        </p:nvSpPr>
        <p:spPr>
          <a:xfrm>
            <a:off x="5883120" y="4724280"/>
            <a:ext cx="23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5880240" y="499104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7"/>
          <p:cNvSpPr/>
          <p:nvPr/>
        </p:nvSpPr>
        <p:spPr>
          <a:xfrm>
            <a:off x="5784840" y="525780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8"/>
          <p:cNvSpPr/>
          <p:nvPr/>
        </p:nvSpPr>
        <p:spPr>
          <a:xfrm>
            <a:off x="5781600" y="5524560"/>
            <a:ext cx="3463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9"/>
          <p:cNvSpPr/>
          <p:nvPr/>
        </p:nvSpPr>
        <p:spPr>
          <a:xfrm>
            <a:off x="5783400" y="6068880"/>
            <a:ext cx="34596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1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0"/>
          <p:cNvSpPr/>
          <p:nvPr/>
        </p:nvSpPr>
        <p:spPr>
          <a:xfrm>
            <a:off x="5888160" y="5796000"/>
            <a:ext cx="23148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6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1"/>
          <p:cNvSpPr/>
          <p:nvPr/>
        </p:nvSpPr>
        <p:spPr>
          <a:xfrm>
            <a:off x="5776920" y="6335640"/>
            <a:ext cx="34596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,3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0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Reproductive Isolation  =  Barriers to Interbreeding 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05920" y="1176480"/>
            <a:ext cx="853452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Reproductive iso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existence of biological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f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barriers) </a:t>
            </a:r>
            <a:r>
              <a:rPr b="0" lang="en-US" sz="3000" spc="-1" strike="noStrike">
                <a:solidFill>
                  <a:srgbClr val="f61a29"/>
                </a:solidFill>
                <a:latin typeface="Arial"/>
              </a:rPr>
              <a:t>that impede two different spe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producing viable, fertile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ybri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the offspring of crosses between different spe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oductive isolation can be classified by whether factors act before or after fertiliz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04480" y="1176480"/>
            <a:ext cx="853452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61a29"/>
                </a:solidFill>
                <a:latin typeface="Arial"/>
              </a:rPr>
              <a:t>Prezygoti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rriers </a:t>
            </a:r>
            <a:r>
              <a:rPr b="0" lang="en-US" sz="2600" spc="-1" strike="noStrike">
                <a:solidFill>
                  <a:srgbClr val="f61a29"/>
                </a:solidFill>
                <a:latin typeface="Arial"/>
              </a:rPr>
              <a:t>block fertiliz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ccurring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ding different species from attempting to 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ing the successful completion of ma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349"/>
              </a:spcBef>
              <a:spcAft>
                <a:spcPts val="601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ering fertilization if mating is success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Prezygotic barr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nt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productive 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Temp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Habita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Behavior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Mechanic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Game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1" i="1" lang="en-US" sz="2400" spc="-1" strike="noStrike">
                <a:solidFill>
                  <a:srgbClr val="f61a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33520" y="139320"/>
            <a:ext cx="80010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61a29"/>
                </a:solidFill>
                <a:latin typeface="Arial"/>
              </a:rPr>
              <a:t>Reproductive Barriers Between Speci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24_04-ReproBarriers-U"/>
          <p:cNvPicPr/>
          <p:nvPr/>
        </p:nvPicPr>
        <p:blipFill>
          <a:blip r:embed="rId1"/>
          <a:stretch/>
        </p:blipFill>
        <p:spPr>
          <a:xfrm>
            <a:off x="304920" y="1752480"/>
            <a:ext cx="8548560" cy="38102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10"/>
          <p:cNvSpPr/>
          <p:nvPr/>
        </p:nvSpPr>
        <p:spPr>
          <a:xfrm>
            <a:off x="152280" y="0"/>
            <a:ext cx="8077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Reproductive Barriers </a:t>
            </a:r>
            <a:r>
              <a:rPr b="1" lang="en-US" sz="2800" spc="-1" strike="noStrike">
                <a:solidFill>
                  <a:srgbClr val="034694"/>
                </a:solidFill>
                <a:latin typeface="Arial"/>
              </a:rPr>
              <a:t>Between</a:t>
            </a:r>
            <a:r>
              <a:rPr b="1" lang="en-US" sz="2800" spc="-1" strike="noStrike">
                <a:solidFill>
                  <a:srgbClr val="f61a29"/>
                </a:solidFill>
                <a:latin typeface="Arial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719440" y="1600200"/>
            <a:ext cx="69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re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457200" y="19051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bita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309600" y="2289240"/>
            <a:ext cx="4460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e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1538280" y="1905120"/>
            <a:ext cx="97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mp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2563920" y="198108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3297240" y="2374920"/>
            <a:ext cx="27468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ttem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3598920" y="1984320"/>
            <a:ext cx="731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8"/>
          <p:cNvSpPr/>
          <p:nvPr/>
        </p:nvSpPr>
        <p:spPr>
          <a:xfrm>
            <a:off x="4761000" y="1987560"/>
            <a:ext cx="6588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ame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5370480" y="2413080"/>
            <a:ext cx="439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675400" y="1987560"/>
            <a:ext cx="928440" cy="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 V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6726240" y="1987560"/>
            <a:ext cx="89388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d 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r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6400800" y="1600200"/>
            <a:ext cx="119376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61a29"/>
                </a:solidFill>
                <a:latin typeface="Arial"/>
              </a:rPr>
              <a:t>Postzygotic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34694"/>
                </a:solidFill>
                <a:latin typeface="Arial"/>
              </a:rPr>
              <a:t>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3"/>
          <p:cNvSpPr/>
          <p:nvPr/>
        </p:nvSpPr>
        <p:spPr>
          <a:xfrm>
            <a:off x="8077320" y="1981080"/>
            <a:ext cx="761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eak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4"/>
          <p:cNvSpPr/>
          <p:nvPr/>
        </p:nvSpPr>
        <p:spPr>
          <a:xfrm>
            <a:off x="8447040" y="2349360"/>
            <a:ext cx="338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iab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ffsp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9852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6"/>
          <p:cNvSpPr/>
          <p:nvPr/>
        </p:nvSpPr>
        <p:spPr>
          <a:xfrm>
            <a:off x="398520" y="388620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b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145260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144936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3271680" y="289260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3525840" y="289548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f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4691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g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72616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h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770520" y="29019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i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773760" y="3625920"/>
            <a:ext cx="9684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j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5"/>
          <p:cNvSpPr/>
          <p:nvPr/>
        </p:nvSpPr>
        <p:spPr>
          <a:xfrm>
            <a:off x="7812000" y="289872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Arial"/>
              </a:rPr>
              <a:t>(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6"/>
          <p:cNvSpPr/>
          <p:nvPr/>
        </p:nvSpPr>
        <p:spPr>
          <a:xfrm>
            <a:off x="6773760" y="4352760"/>
            <a:ext cx="9684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(k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17080" y="1176120"/>
            <a:ext cx="8534520" cy="20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61a29"/>
                </a:solidFill>
                <a:latin typeface="Arial"/>
              </a:rPr>
              <a:t>Habitat iso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Two species encounter each other rarely, or not at all, because they occupy different habitats, even though not isolated by physical barri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04920" y="393480"/>
            <a:ext cx="640080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34694"/>
                </a:solidFill>
                <a:latin typeface="Arial"/>
              </a:rPr>
              <a:t>PreZygotic Reproductive Barrier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05:28:16Z</cp:lastPrinted>
  <dcterms:modified xsi:type="dcterms:W3CDTF">2018-03-12T09:00:10Z</dcterms:modified>
  <cp:revision>791</cp:revision>
  <dc:subject/>
  <dc:title>video slide</dc:title>
</cp:coreProperties>
</file>