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AA37-2E03-44B6-ABE1-B62524BC3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The Smallest Unit of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cts on individuals, but only populations ev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s in populations contribute to 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is a change in allele frequencies in a population over gen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cesses, mutation and sexual reproduction, produce the variation in gene pools that contributes to differences among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The Smallest Unit of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cts on individuals, but only populations ev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s in populations contribute to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evolution is a change in allele frequencies in a population over gen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rocesses, mutation and sexual reproduction, produce the variation in gene pools that contributes to differences among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 can   be calcul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2 alleles at a locus, p and q are used to represent their frequ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ll alleles in a population will add up to 1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n allele in a population can   be calcul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are 2 alleles at a locus, p and q are used to represent their frequenc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all alleles in a population will add up to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+ q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: a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 describes an ideal population that is not 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ser a population is to the criteria of the Hardy-Weinberg principle, the more stable the population is likely to 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Genotype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p2 and q2 represent the frequencies of the homozygous genotypes and 2pq represents the frequency of the heterozygous g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: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rdy-Weinberg principle describes an ideal population that is not ev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ser a population is to the criteria of the Hardy-Weinberg principle, the more stable the population is likely to 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Genotyp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2 + 2pq + q2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p2 and q2 represent the frequencies of the homozygous genotypes and 2pq represents the frequency of the heterozygous g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ve conditions for nonevolving populations are rarely met in na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ut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larg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Ide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ve conditions for nonevolving populations are rarely met in na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ut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om m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natural sele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emely large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Ideal Con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Hardy-Weinberg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ssume the locus that causes phenylketonuria (PKU) is in Hardy-Weinberg equilibrium given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U gene mutation rate is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 selection is random with respect to whether or not an individual is a carrier for the PKU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can only act on rare homozygous individuals who do not follow dietary restri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has no effect as many other populations have similar allele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Hardy-Weinberg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assume the locus that causes phenylketonuria (PKU) is in Hardy-Weinberg equilibrium given tha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KU gene mutation rate is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 selection is random with respect to whether or not an individual is a carrier for the PKU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can only act on rare homozygous individuals who do not follow dietary restri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is 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 has no effect as many other populations have similar allele frequ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currence of PKU is 1 per 10,000 bir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0.0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normal allel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 – q = 1 – 0.01 = 0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heterozygotes / carrier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2 x 0.99 x 0.01 = 0.01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pproximately 2% of the U.S.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ccurrence of PKU is 1 per 10,000 bir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2 = 0.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normal allele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 – q = 1 – 0.01 = 0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requency of heterozygotes / carrier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pq = 2 x 0.99 x 0.01 = 0.01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approximately 2% of the U.S.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factors alter allele frequencies and bring about most evolutionary cha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 -  non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  - 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  - 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ajor factors alter allele frequencies and bring about most evolutionary chan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 -  non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  - 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  -  ran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nd Genetic Dr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Differential success in reproduction results in certain alleles being passed to the next generation in greater proportions by the more fit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describes how allele frequencies fluctuate randomly from one generation to the n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a sample, the greater the chance of deviation from a predicted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tends to reduce genetic variation through losses of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and Genetic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Differential success in reproduction results in certain alleles being passed to the next generation in greater proportions by the more fit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describes how allele frequencies fluctuate randomly from one generation to the nex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r a sample, the greater the chance of deviation from a predicted resu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tends to reduce genetic variation through losses of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(frequency of CR) = 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(frequency of CW ) = 0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(frequency of CR) = 0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(frequency of CW ) = 0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W C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0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Founder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under effect occurs when a few individuals become isolated from a larger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in the small founder population can be different from those in the larger parent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Founder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under effect occurs when a few individuals become isolated from a larger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 frequencies in the small founder population can be different from those in the larger parent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leneck effect is a sudden reduction in  population size due to a change in the environment, such as a natural dis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gene pool may no longer be reflective of the original population’s gene 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pulation remains small, it may be further affected by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ttleneck effect is a sudden reduction in  population size due to a change in the environment, such as a natural disas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ing gene pool may no longer be reflective of the original population’s gene p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opulation remains small, it may be further affected by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:  The BottleNeck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lenec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v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Genetic Drift: A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is significant in small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uses allele frequencies to change at rand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lead to a loss of genetic variation within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cause harmful alleles to become fix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Genetic Drift: A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is significant in small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uses allele frequencies to change at rand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lead to a loss of genetic variation within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can cause harmful alleles to becom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:  Immigration &amp; E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consists of the movement of alleles among pop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can be transferred through the  movement of fertile individuals or gametes (for example, polle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tends to reduce differences between populations ov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is more likely than mutation to alter allele frequencies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:  Immigration &amp; Em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consists of the movement of alleles among pop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eles can be transferred through the  movement of fertile individuals or gametes (for example, poll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tends to reduce differences between populations over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 is more likely than mutation to alter allele frequencies direc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atural selection consistently results in adaptive 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brings about adaptive evolution by acting on an organism’s pheno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natural selection consistently results in adaptive ev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brings about adaptive evolution by acting on an organism’s phenoty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Relative Fi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election phrases “struggle for existence” and “survival of the fittest” are misleading as they imply direct competition among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uccess is generally more subtle and depends on many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itness is the contribution an individual makes to the gene pool of the next generation, relative to the contributions of other individu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certain genotypes by acting on the phenotypes of certain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:  Relative Fit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election phrases “struggle for existence” and “survival of the fittest” are misleading as they imply direct competition among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ve success is generally more subtle and depends on many f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itness is the contribution an individual makes to the gene pool of the next generation, relative to the contributions of other individu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certain genotypes by acting on the phenotypes of certain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, Disruptive, and Stabilizing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des of natural sel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 favors individuals at one end of the phenotypic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 favors individuals at both extremes of the phenotypic r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 favors intermediate variants and acts against extreme pheno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, Disruptive, and 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des of natural sel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al selection favors individuals at one end of the phenotypic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ruptive selection favors individuals at both extremes of the phenotypic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bilizing selection favors intermediate variants and acts against extreme pheno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bilizing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sruptive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irection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 (fur col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bilizing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isruptive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Direction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s (fur col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ey Role of Natural Selection in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creases the frequencies of alleles that enhance survival and re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evolution =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ey Role of Natural Selection in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increases the frequencies of alleles that enhance survival and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ive evolution =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- Adaptive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lor-changing ability in cuttle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Movable j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Selection - Adaptiv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Color-changing ability in cuttle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Movable j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nak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ists measure polymorphisms in a population by determining the amount of heterozygosity at the gene and molecular lev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heterozygosity measures the average percent of loci that are heterozygous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pecies exhibit geographic variation, differences between gene pools of separate populations or population subgrou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of geographic variation occur as a cline, which is a graded change in a trait along a geographic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geneticists measure polymorphisms in a population by determining the amount of heterozygosity at the gene and molecular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heterozygosity measures the average percent of loci that are heterozygous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pecies exhibit geographic variation, differences between gene pools of separate populations or population sub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examples of geographic variation occur as a cline, which is a graded change in a trait along a geographic ax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environments change, adaptive evolution is a continuous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environments change, adaptive evolution is a continuou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is natural selection for mating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result in sexual dimorphism, marked differences between the sexes in secondary sexual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howiness due to mate choice can increase a male’s chances of attracting a female, while decreasing his chances of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 is natural selection for mating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an result in sexual dimorphism, marked differences between the sexes in secondary sexual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showiness due to mate choice can increase a male’s chances of attracting a female, while decreasing his chances of survi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female preferences evo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od genes hypothesis suggests that if a trait is related to male health, both the male trait and female preference for that trait should be selected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female preferences evol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od genes hypothesis suggests that if a trait is related to male health, both the male trait and female preference for that trait should be selected f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rvation of Genetic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mechanisms help to preserve genetic variation in a pop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idy maintains genetic variation in the form of hidden recessive alle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 occurs when heterozygotes have a higher fitness than do both homozygotes. Natural selection will tend to maintain two or more alleles at that l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ckle-cell allele causes mutations in hemoglobin but also confers malaria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rvation of Genetic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mechanisms help to preserve genetic variation in a popul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ploidy maintains genetic variation in the form of hidden recessive alle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 occurs when heterozygotes have a higher fitness than do both homozygotes. Natural selection will tend to maintain two or more alleles at that lo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ckle-cell allele causes mutations in hemoglobin but also confers malaria res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caus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odium falcipa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parasitic unicellular eukaryo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-cell all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–5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–10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–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–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terozygote Adva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–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aria caus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odium falcipa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 parasitic unicellular eukaryo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ie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ckle-cell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–5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–10.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0–7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1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0–12.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requency-dependent selection, the fitness of a phenotype declines if it becomes too common in the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whichever phenotype is less common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-Dependen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frequency-dependent selection, the fitness of a phenotype declines if it becomes too common in th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favors whichever phenotype is less common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-Dependen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Dependen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-mouth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 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Dependent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-mout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quency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-mouthed”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ple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 is genetic variation that appears to confer no selective advantage or disadvan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noncoding region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proteins that have little effect on protein function or reproductive fit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variation is genetic variation that appears to confer no selective advantage or disadvant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noncoding region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 in proteins that have little effect on protein function or reproductive 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atural Selection Cannot Fashion Perfec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can act only on existing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is limited by historical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s are often compromi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, natural selection, and the environment intera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atural Selection Cannot Fashion Perfec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ion can act only on existing vari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olution is limited by historical constrai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aptations are often comprom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ce, natural selection, and the environment interac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(21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 (°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(6°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h-B b allele freq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r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 (21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itude (°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(6°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dh-B b allele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majority of point mutations are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sexual recombination generates genetic vari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s population, species, gene pool, relative fitness, and neutral var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five conditions of Hardy-Weinberg equilibr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ould now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the majority of point mutations are harm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how sexual recombination generates genetic vari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the terms population, species, gene pool, relative fitness, and neutral vari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the five conditions of Hardy-Weinberg equilib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Hardy-Weinberg equation to a population genetics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natural selection is the only mechanism that consistently produces adaptive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role of population size in genetic dri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 the Hardy-Weinberg equation to a population genetics probl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natural selection is the only mechanism that consistently produces adaptiv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 role of population size in genetic dri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among the following sets of terms: directional, disruptive, and stabilizing selection; intrasexual and intersexual sel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our reasons why natural selection cannot produce perfect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inguish among the following sets of terms: directional, disruptive, and stabilizing selection; intrasexual and intersexual se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our reasons why natural selection cannot produce perfect org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changes in the nucleotide sequen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use new genes and alleles to a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utations in cells that produce gametes can be passed to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mutation is a change in one base in a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are changes in the nucleotide sequence of D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cause new genes and alleles to ar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mutations in cells that produce gametes can be passed to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int mutation is a change in one base in a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point mutations can v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noncoding regions of DNA are often harml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a gene might not affect protein production because of redundancy in the genetic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are often harm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can sometimes increase the fitness of the organism in its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ffects of point mutations can va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noncoding regions of DNA are often harm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in a gene might not affect protein production because of redundancy in the genetic c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are often harm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result in a change in protein production can sometimes increase the fitness of the organism in its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Alter Gene / Chromosome Number or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al mutations that delete, disrupt, or rearrange many loci are typically harm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s are low in animals and pl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rates are often lower in prokaryotes and higher in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That Alter Gene / Chromosome Number or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al mutations that delete, disrupt, or rearrange many loci are typically harm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 rates are low in animals and pl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s rates are often lower in prokaryotes and higher in vir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 can shuffle existing alleles into new combin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ganisms that reproduce sexually, recombination of alleles is more important than mutation in producing the genetic differences that make adaptation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reproduction can shuffle existing alleles into new combi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ganisms that reproduce sexually, recombination of alleles is more important than mutation in producing the genetic differences that make adaptation pos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 tests whether a sexually reproducing population is ev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localized group of individuals (a species in an area) capable of interbreeding and producing fertile offsp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pool consists of all the alleles for all loci in a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us is fixed if all individuals in a population are homozygous for the same alle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y-Weinberg equation tests whether a sexually reproducing population is evol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a localized group of individuals (a species in an area) capable of interbreeding and producing fertile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ene pool consists of all the alleles for all loci in a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cus is fixed if all individuals in a population are homozygous for the same alle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733920"/>
            <a:ext cx="27478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76320"/>
            <a:ext cx="853416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76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73392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733920"/>
            <a:ext cx="8534160" cy="229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76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5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6"/>
          <p:cNvSpPr/>
          <p:nvPr/>
        </p:nvSpPr>
        <p:spPr>
          <a:xfrm>
            <a:off x="304920" y="99072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214200" y="65574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228600" y="5791320"/>
            <a:ext cx="86104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41040" indent="-4104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art"/>
          <p:cNvPicPr/>
          <p:nvPr/>
        </p:nvPicPr>
        <p:blipFill>
          <a:blip r:embed="rId2"/>
          <a:srcRect l="0" t="53715" r="0" b="2773"/>
          <a:stretch/>
        </p:blipFill>
        <p:spPr>
          <a:xfrm>
            <a:off x="0" y="0"/>
            <a:ext cx="9147240" cy="62485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21"/>
          <p:cNvSpPr/>
          <p:nvPr/>
        </p:nvSpPr>
        <p:spPr>
          <a:xfrm>
            <a:off x="0" y="0"/>
            <a:ext cx="9140760" cy="68565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0" y="6019920"/>
            <a:ext cx="9144000" cy="533160"/>
          </a:xfrm>
          <a:prstGeom prst="rect">
            <a:avLst/>
          </a:prstGeom>
          <a:solidFill>
            <a:srgbClr val="584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57b2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147600" y="6598800"/>
            <a:ext cx="54864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opyright © 2008 Pearson Education, Inc., publishing as Pearson Benjamin Cumming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6320" y="4254480"/>
            <a:ext cx="36957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 Narrow"/>
              </a:rPr>
              <a:t>®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Lecture Presentations for</a:t>
            </a: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Bi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ighth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l Campbell and Jane Re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0" y="6172200"/>
            <a:ext cx="914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ctures by Chris Romero, updated by Erin Barley with contributions from Joan Shar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48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34272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33480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86000" indent="-334800">
              <a:spcBef>
                <a:spcPts val="1576"/>
              </a:spcBef>
              <a:spcAft>
                <a:spcPts val="7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Overview: The Smallest Unit of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05920" y="1164960"/>
            <a:ext cx="8534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cts on individuals, but only populations evolv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Genetic varia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populations contribute to evo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Microevoluti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change in allele frequenc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pop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 generat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processes,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mut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sexual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roduce the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var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gene pools that contributes to differences among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07720" y="1166400"/>
            <a:ext cx="8902440" cy="508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frequency of an alle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population can   be calcul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re are 2 alleles at a locus,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used to represent their frequenc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frequency of all alleles in a 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ll add up to 1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ed0e08"/>
                </a:solidFill>
                <a:latin typeface="Arial"/>
              </a:rPr>
              <a:t>p + q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8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228600" y="93600"/>
            <a:ext cx="6019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Hardy-Weinberg eq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Hardy-Weinberg Principle: a Pop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64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Hardy-Weinberg princi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scribes an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ide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pulation that is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not evolv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loser a population is to the criteria of the Hardy-Weinberg principle, the more stable the population is likely to b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ing </a:t>
            </a: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Genotype Frequ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                  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p</a:t>
            </a:r>
            <a:r>
              <a:rPr b="1" i="1" lang="en-US" sz="24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+ 2pq + q</a:t>
            </a:r>
            <a:r>
              <a:rPr b="1" i="1" lang="en-US" sz="24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ed0e08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 the frequencies of the homozygous genotypes and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resents the frequency of the heterozygous geno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34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10520" y="4546080"/>
            <a:ext cx="2872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04480" y="1164960"/>
            <a:ext cx="853452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ive conditions for nonevolving populations are rarely met in natu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mu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Random ma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natural sel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Extremely larg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0e08"/>
                </a:solidFill>
                <a:latin typeface="Arial"/>
              </a:rPr>
              <a:t>No gene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228240"/>
            <a:ext cx="65530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ed0e08"/>
                </a:solidFill>
                <a:latin typeface="Arial"/>
              </a:rPr>
              <a:t>Hardy-Weinberg Ideal Condition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540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Applying the Hardy-Weinberg Principl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04480" y="1230480"/>
            <a:ext cx="8534520" cy="516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137"/>
              </a:spcBef>
              <a:spcAft>
                <a:spcPts val="326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assume the locus that causes phenylketonuria (PKU) is in Hardy-Weinberg equilibrium given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KU gene mutation rate is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 selection is random with respect to whether or not an individual is a carrier for the PKU all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selection can only act on rare homozygous individuals who do not follow dietary restri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pulation is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has no effect as many other populations have similar allele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1049"/>
              </a:spcBef>
              <a:spcAft>
                <a:spcPts val="300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204480" y="1211400"/>
            <a:ext cx="853452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ccurrence of PKU is 1 per 10,000 birth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ed0e08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0.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normal alleles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= 1 – </a:t>
            </a: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q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 – 0.01 = 0.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5000"/>
              </a:lnSpc>
              <a:spcBef>
                <a:spcPts val="1500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requency of 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heterozygo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/ carriers 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ed0e08"/>
                </a:solidFill>
                <a:latin typeface="Arial"/>
              </a:rPr>
              <a:t>pq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2 x 0.99 x 0.01 = 0.01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5000"/>
              </a:lnSpc>
              <a:spcBef>
                <a:spcPts val="1400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pproximately 2% of the U.S. popu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98000" y="1574640"/>
            <a:ext cx="853452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ajor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actors alter allele frequenc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bring about most evolutionary chan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Natural selection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Genetic drift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Gene flow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 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304920" y="14050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52280" y="838080"/>
            <a:ext cx="8839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3.3: Natural selection, genetic drift, and gene flow can alter allele frequencies in a popul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Natural Selection and Genetic Drif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6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Differential success in reprodu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sults in certain alleles being passed to the next generation in greater proportions by the more fit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Genetic drif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cribes how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allele frequencies fluctuate random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rom one generation to the nex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maller a sample, the greater the chance of deviation from a predicted resul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tic drift tends to reduce genetic variation through losses of alle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23_08GeneticDrift_3-U"/>
          <p:cNvPicPr/>
          <p:nvPr/>
        </p:nvPicPr>
        <p:blipFill>
          <a:blip r:embed="rId1"/>
          <a:stretch/>
        </p:blipFill>
        <p:spPr>
          <a:xfrm>
            <a:off x="297000" y="995400"/>
            <a:ext cx="8548560" cy="48657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152280" y="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tic Drif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028880" y="4941720"/>
            <a:ext cx="132372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53920" y="283068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52600" y="16747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78040" y="458316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2279520" y="166860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828800" y="282744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574560" y="400536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930240" y="45799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2251080" y="400536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1339920" y="341136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393920" y="218268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22280" y="5214960"/>
            <a:ext cx="2365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(frequency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) = 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378000" y="5472000"/>
            <a:ext cx="24796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(frequency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6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r>
              <a:rPr b="1" lang="en-US" sz="600" spc="-1" strike="noStrike" baseline="30000">
                <a:solidFill>
                  <a:srgbClr val="000000"/>
                </a:solidFill>
                <a:latin typeface="BI Times BoldItalic"/>
                <a:ea typeface="Genev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) =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4006800" y="4957920"/>
            <a:ext cx="1324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5184720" y="456732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3505320" y="4564080"/>
            <a:ext cx="4824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43400" y="339876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4340160" y="2208240"/>
            <a:ext cx="48276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3876840" y="165888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5137200" y="283356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4"/>
          <p:cNvSpPr/>
          <p:nvPr/>
        </p:nvSpPr>
        <p:spPr>
          <a:xfrm>
            <a:off x="3882960" y="3976560"/>
            <a:ext cx="5270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W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4854600" y="16621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3552840" y="28717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4851360" y="400536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17840" y="521820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21080" y="548172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6940440" y="4957920"/>
            <a:ext cx="132408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Genera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1"/>
          <p:cNvSpPr/>
          <p:nvPr/>
        </p:nvSpPr>
        <p:spPr>
          <a:xfrm>
            <a:off x="7257960" y="521496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7257960" y="5478480"/>
            <a:ext cx="65736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Geneva"/>
              </a:rPr>
              <a:t>q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 =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7302600" y="166212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6464160" y="221148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6861240" y="279576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6"/>
          <p:cNvSpPr/>
          <p:nvPr/>
        </p:nvSpPr>
        <p:spPr>
          <a:xfrm>
            <a:off x="8163000" y="221760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7"/>
          <p:cNvSpPr/>
          <p:nvPr/>
        </p:nvSpPr>
        <p:spPr>
          <a:xfrm>
            <a:off x="7731000" y="282420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8"/>
          <p:cNvSpPr/>
          <p:nvPr/>
        </p:nvSpPr>
        <p:spPr>
          <a:xfrm>
            <a:off x="6467400" y="340848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9"/>
          <p:cNvSpPr/>
          <p:nvPr/>
        </p:nvSpPr>
        <p:spPr>
          <a:xfrm>
            <a:off x="8188200" y="340524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0"/>
          <p:cNvSpPr/>
          <p:nvPr/>
        </p:nvSpPr>
        <p:spPr>
          <a:xfrm>
            <a:off x="7318440" y="392904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1"/>
          <p:cNvSpPr/>
          <p:nvPr/>
        </p:nvSpPr>
        <p:spPr>
          <a:xfrm>
            <a:off x="6873840" y="4525920"/>
            <a:ext cx="44784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2"/>
          <p:cNvSpPr/>
          <p:nvPr/>
        </p:nvSpPr>
        <p:spPr>
          <a:xfrm>
            <a:off x="7689960" y="4522680"/>
            <a:ext cx="44748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  <a:ea typeface="Geneva"/>
              </a:rPr>
              <a:t>C</a:t>
            </a:r>
            <a:r>
              <a:rPr b="1" i="1" lang="en-US" sz="13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enetic Drift:  The Founder Effec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04480" y="1165320"/>
            <a:ext cx="8534520" cy="32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founder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curs when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 few individuals become isolat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rom a larger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le frequencies in the small founder population can be different from those in the larger parent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Genetic Drift:  The Bottleneck Effect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bottleneck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sudden reduction in  population siz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ue to a change in the environment, such as a natural disas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resulting gene pool may no longer be reflective of the original population’s gene poo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population remains small, it may be further affected by genetic dri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23_02-NonheritVariation-U"/>
          <p:cNvPicPr/>
          <p:nvPr/>
        </p:nvPicPr>
        <p:blipFill>
          <a:blip r:embed="rId1"/>
          <a:stretch/>
        </p:blipFill>
        <p:spPr>
          <a:xfrm>
            <a:off x="297000" y="1825560"/>
            <a:ext cx="8548560" cy="32068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8"/>
          <p:cNvSpPr/>
          <p:nvPr/>
        </p:nvSpPr>
        <p:spPr>
          <a:xfrm>
            <a:off x="152280" y="0"/>
            <a:ext cx="2971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e08"/>
                </a:solidFill>
                <a:latin typeface="Arial"/>
              </a:rPr>
              <a:t>Genetic Var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428760" y="185580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eneva"/>
              </a:rPr>
              <a:t>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765680" y="184932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eneva"/>
              </a:rPr>
              <a:t>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23_09BottleneckEffect-U"/>
          <p:cNvPicPr/>
          <p:nvPr/>
        </p:nvPicPr>
        <p:blipFill>
          <a:blip r:embed="rId1"/>
          <a:stretch/>
        </p:blipFill>
        <p:spPr>
          <a:xfrm>
            <a:off x="304920" y="762120"/>
            <a:ext cx="8548560" cy="534672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152280" y="0"/>
            <a:ext cx="6705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0e08"/>
                </a:solidFill>
                <a:latin typeface="Arial"/>
              </a:rPr>
              <a:t>Genetic Drift:  The BottleNe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0920" y="5303880"/>
            <a:ext cx="15652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Orig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629160" y="5297400"/>
            <a:ext cx="19461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Bottlenec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ev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7311960" y="5300640"/>
            <a:ext cx="159084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Survi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3080" y="75960"/>
            <a:ext cx="8534520" cy="5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d0e08"/>
                </a:solidFill>
                <a:latin typeface="Times New Roman"/>
              </a:rPr>
              <a:t>Effects of Genetic Drift</a:t>
            </a:r>
            <a:r>
              <a:rPr b="1" lang="en-US" sz="3200" spc="-1" strike="noStrike">
                <a:solidFill>
                  <a:srgbClr val="ed0e08"/>
                </a:solidFill>
                <a:latin typeface="Times New Roman"/>
              </a:rPr>
              <a:t>: A Summary</a:t>
            </a:r>
            <a:endParaRPr b="1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7160" y="1174320"/>
            <a:ext cx="8534160" cy="42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is significant in small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uses allele frequencies to change at rando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n lead to a loss of genetic variation within popul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can cause harmful alleles to become fix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Gene Flow:  Immigration &amp; Emmigr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Gene flow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ovement of alleles among popul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les can be transferred through the 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ovement of fertile individuals or game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for example, polle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Gene flow tends to reduce differences between populations over ti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 flow is more likely than mutation to alter allele frequencies direct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23_11GeneFlowHumanFace-U"/>
          <p:cNvPicPr/>
          <p:nvPr/>
        </p:nvPicPr>
        <p:blipFill>
          <a:blip r:embed="rId1"/>
          <a:stretch/>
        </p:blipFill>
        <p:spPr>
          <a:xfrm>
            <a:off x="2147760" y="136440"/>
            <a:ext cx="4846680" cy="6585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05920" y="1568160"/>
            <a:ext cx="8534520" cy="35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natural selection consistently results in adaptive evolu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atural selection brings about adaptive evolution by acting on an organism’s phenotyp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304920" y="1405080"/>
            <a:ext cx="8534160" cy="0"/>
          </a:xfrm>
          <a:prstGeom prst="line">
            <a:avLst/>
          </a:prstGeom>
          <a:ln w="507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152280" y="838080"/>
            <a:ext cx="87631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38240" y="76320"/>
            <a:ext cx="89964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Concept 23.4: Natural selection is the only mechanism that consistently causes adaptive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atural Selection:  Relative Fitnes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05920" y="1165320"/>
            <a:ext cx="85345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atural selection phrases “struggle for existence” and “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survival of the fittes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” are misleading as they imply direct competition among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oductive success is generally more subtle and depends on many facto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Relative fitnes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the contribution an individual makes to the gene poo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 next generation, relative to the contributions of other individua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ion favors certain genotypes by acting on the phenotypes of certain organis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Directional, Disruptive, and Stabilizing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40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modes of natural selec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Directional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dividuals at one end of the phenotypic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Disruptive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dividuals at both extremes of the phenotypic r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0e08"/>
                </a:solidFill>
                <a:latin typeface="Arial"/>
              </a:rPr>
              <a:t>Stabilizing selec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vors intermediate variants and acts against extreme phenotyp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7" descr="23_13-SelectionModes-U"/>
          <p:cNvPicPr/>
          <p:nvPr/>
        </p:nvPicPr>
        <p:blipFill>
          <a:blip r:embed="rId1"/>
          <a:stretch/>
        </p:blipFill>
        <p:spPr>
          <a:xfrm>
            <a:off x="304920" y="380880"/>
            <a:ext cx="8548560" cy="60548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8"/>
          <p:cNvSpPr/>
          <p:nvPr/>
        </p:nvSpPr>
        <p:spPr>
          <a:xfrm>
            <a:off x="152280" y="0"/>
            <a:ext cx="3733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6105600" y="1425600"/>
            <a:ext cx="184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Original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6465960" y="6043680"/>
            <a:ext cx="1842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c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) Stabilizing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395520" y="6043680"/>
            <a:ext cx="1843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b) 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Disruptiv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339840" y="6046920"/>
            <a:ext cx="19825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(a</a:t>
            </a:r>
            <a:r>
              <a:rPr b="1" lang="en-US" sz="2000" spc="-1" strike="noStrike">
                <a:solidFill>
                  <a:srgbClr val="ed0e08"/>
                </a:solidFill>
                <a:latin typeface="Arial"/>
                <a:ea typeface="Geneva"/>
              </a:rPr>
              <a:t>) Directional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3718080" y="3095640"/>
            <a:ext cx="198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henotypes (fur colo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 rot="16162200">
            <a:off x="2263680" y="1539720"/>
            <a:ext cx="1982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Frequency of individu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790560" y="3218040"/>
            <a:ext cx="87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Origin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1787400" y="3218040"/>
            <a:ext cx="878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Evolv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eneva"/>
              </a:rPr>
              <a:t>popul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7"/>
          <p:cNvSpPr/>
          <p:nvPr/>
        </p:nvSpPr>
        <p:spPr>
          <a:xfrm>
            <a:off x="4835520" y="1530360"/>
            <a:ext cx="1235160" cy="3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1303200" y="3535200"/>
            <a:ext cx="131760" cy="73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 flipH="1">
            <a:off x="1854000" y="3535200"/>
            <a:ext cx="220680" cy="731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Key Role of Natural Selection in Adaptive Evolu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Natural selection increas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frequencies of alleles that enhance survival and reprodu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Adaptive evolution =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the match between an organism and its environmen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8" descr="23_14-AdaptationExamples-U"/>
          <p:cNvPicPr/>
          <p:nvPr/>
        </p:nvPicPr>
        <p:blipFill>
          <a:blip r:embed="rId1"/>
          <a:stretch/>
        </p:blipFill>
        <p:spPr>
          <a:xfrm>
            <a:off x="2849400" y="136440"/>
            <a:ext cx="3445200" cy="65851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9"/>
          <p:cNvSpPr/>
          <p:nvPr/>
        </p:nvSpPr>
        <p:spPr>
          <a:xfrm>
            <a:off x="152280" y="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0e08"/>
                </a:solidFill>
                <a:latin typeface="Arial"/>
              </a:rPr>
              <a:t>Natural Selection - Adaptive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879640" y="2433600"/>
            <a:ext cx="420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(a)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Color-changing ability in cuttlefi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2209680" y="5943600"/>
            <a:ext cx="18702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(b)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Movable j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bone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  <a:ea typeface="Geneva"/>
              </a:rPr>
              <a:t>snak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2889360" y="2963880"/>
            <a:ext cx="117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eneva"/>
              </a:rPr>
              <a:t>Movabl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3"/>
          <p:cNvSpPr/>
          <p:nvPr/>
        </p:nvSpPr>
        <p:spPr>
          <a:xfrm flipV="1">
            <a:off x="3111480" y="3143160"/>
            <a:ext cx="50760" cy="3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 flipH="1" flipV="1">
            <a:off x="3162240" y="3139920"/>
            <a:ext cx="44640" cy="44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1920" y="990720"/>
            <a:ext cx="8534520" cy="61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Population geneticis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easure polymorphisms in a population by determining the amount of heterozygosity at the gene and molecular leve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verage heterozygosity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 the average percent of loci that are heterozygous in a pop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species exhibit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geographic vari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ces between gene pools of separate populations or population subgrou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examples of geographic variation occur as a </a:t>
            </a: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cli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is a graded change in a trait along a geographic ax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environments chan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daptive evolution is a continuous proc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etic drift and gene flow are random and so do not consistently lead to adaptive evolution as they can increase or decrease the match between an organism and its environmen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xual Sele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d0e08"/>
                </a:solidFill>
                <a:latin typeface="Arial"/>
              </a:rPr>
              <a:t>Sexual sele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natural selectio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600" spc="-1" strike="noStrike">
                <a:solidFill>
                  <a:srgbClr val="ed0e08"/>
                </a:solidFill>
                <a:latin typeface="Arial"/>
              </a:rPr>
              <a:t> mating succ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can result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xual dimorphis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marked differences between the sexes in secondary sexual characteristi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le showiness due to mate choice can increase a male’s chances of attracting a female, while decreasing his chances of surviv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7" descr="23_15SexualSelection-U"/>
          <p:cNvPicPr/>
          <p:nvPr/>
        </p:nvPicPr>
        <p:blipFill>
          <a:blip r:embed="rId1"/>
          <a:stretch/>
        </p:blipFill>
        <p:spPr>
          <a:xfrm>
            <a:off x="297000" y="458640"/>
            <a:ext cx="8548560" cy="59389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8"/>
          <p:cNvSpPr/>
          <p:nvPr/>
        </p:nvSpPr>
        <p:spPr>
          <a:xfrm>
            <a:off x="0" y="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0e08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ed0e08"/>
                </a:solidFill>
                <a:latin typeface="Arial"/>
              </a:rPr>
              <a:t>Sexual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204480" y="1174320"/>
            <a:ext cx="8534520" cy="27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do female preferences evolv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genes hypothesis suggests that if a trait is related to male health, both the male trait and female preference for that trait should be selected f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i="1" lang="en-US" sz="3000" spc="-1" strike="noStrike">
                <a:solidFill>
                  <a:srgbClr val="ed0e08"/>
                </a:solidFill>
                <a:latin typeface="Times New Roman"/>
              </a:rPr>
              <a:t>Preservation of Genetic Var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ous mechanisms help to preserve genetic variation in a popul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Diploid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maintains genetic variation in the form of hidden recessive alle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d0e08"/>
                </a:solidFill>
                <a:latin typeface="Arial"/>
              </a:rPr>
              <a:t>Heterozygote advantage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curs when heterozygotes have a higher fitness than do both homozygotes. Natural selection will tend to maintain two or more alleles at that loc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sickle-cell alle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uses mutations in hemoglobin but also confers </a:t>
            </a:r>
            <a:r>
              <a:rPr b="0" i="1" lang="en-US" sz="2600" spc="-1" strike="noStrike">
                <a:solidFill>
                  <a:srgbClr val="ed0e08"/>
                </a:solidFill>
                <a:latin typeface="Arial"/>
              </a:rPr>
              <a:t>malaria resist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lnSpc>
                <a:spcPct val="90000"/>
              </a:lnSpc>
              <a:spcBef>
                <a:spcPts val="1463"/>
              </a:spcBef>
              <a:spcAft>
                <a:spcPts val="6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7" descr="23_17MalariaSickleCelMap-U"/>
          <p:cNvPicPr/>
          <p:nvPr/>
        </p:nvPicPr>
        <p:blipFill>
          <a:blip r:embed="rId1"/>
          <a:stretch/>
        </p:blipFill>
        <p:spPr>
          <a:xfrm>
            <a:off x="952560" y="136440"/>
            <a:ext cx="7237440" cy="65851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0" y="0"/>
            <a:ext cx="3962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terozygote Adva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6454800" y="4125960"/>
            <a:ext cx="10080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0–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1130400" y="4998960"/>
            <a:ext cx="410688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Distribution o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malaria caused b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Plasmodium falcipa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(a parasitic unicellular eukaryot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5587920" y="3475080"/>
            <a:ext cx="2252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Frequencies of th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sickle-cell all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251400" y="4494240"/>
            <a:ext cx="1097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2.5–5.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251400" y="5205240"/>
            <a:ext cx="12877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7.5–10.0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6251400" y="4849920"/>
            <a:ext cx="109728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5.0–7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620040" y="5942160"/>
            <a:ext cx="1071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&gt;1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6111720" y="5548320"/>
            <a:ext cx="14655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Geneva"/>
              </a:rPr>
              <a:t>10.0–12.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16000" y="1955880"/>
            <a:ext cx="853416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frequency-dependent selection, the fitness of a phenotype declines if it becomes too common in the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avors whichever phenotype is less comm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a popul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209520" y="1181160"/>
            <a:ext cx="6008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Frequency-Dependent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7" descr="23_18-FreqDepSelection-U"/>
          <p:cNvPicPr/>
          <p:nvPr/>
        </p:nvPicPr>
        <p:blipFill>
          <a:blip r:embed="rId1"/>
          <a:stretch/>
        </p:blipFill>
        <p:spPr>
          <a:xfrm>
            <a:off x="1346040" y="136440"/>
            <a:ext cx="6451920" cy="658512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8"/>
          <p:cNvSpPr/>
          <p:nvPr/>
        </p:nvSpPr>
        <p:spPr>
          <a:xfrm>
            <a:off x="152280" y="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quency Depend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4886280" y="1319040"/>
            <a:ext cx="2100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Right-mouth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2438280" y="5884920"/>
            <a:ext cx="58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19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4959360" y="2878200"/>
            <a:ext cx="1566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Left-mouthed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 rot="16198800">
            <a:off x="330480" y="3664080"/>
            <a:ext cx="27990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Frequenc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left-mouthed”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4013280" y="6192720"/>
            <a:ext cx="1414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Sample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2025720" y="2023920"/>
            <a:ext cx="588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2022480" y="3824280"/>
            <a:ext cx="309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2193840" y="5703840"/>
            <a:ext cx="109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294948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339084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3819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0"/>
          <p:cNvSpPr/>
          <p:nvPr/>
        </p:nvSpPr>
        <p:spPr>
          <a:xfrm>
            <a:off x="425772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4692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5127480" y="5881680"/>
            <a:ext cx="3225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3"/>
          <p:cNvSpPr/>
          <p:nvPr/>
        </p:nvSpPr>
        <p:spPr>
          <a:xfrm>
            <a:off x="5562720" y="588816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4"/>
          <p:cNvSpPr/>
          <p:nvPr/>
        </p:nvSpPr>
        <p:spPr>
          <a:xfrm>
            <a:off x="599760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5"/>
          <p:cNvSpPr/>
          <p:nvPr/>
        </p:nvSpPr>
        <p:spPr>
          <a:xfrm>
            <a:off x="6438960" y="5884920"/>
            <a:ext cx="322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eneva"/>
              </a:rPr>
              <a:t>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Neutral Vari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utral vari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genetic variation that appears to confer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o selective advantag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disadvanta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example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in noncoding regions of D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tion in proteins that have little effect on protein function or reproductive fit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Why </a:t>
            </a: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Natural Selection Cannot Fashion Perfect Organisms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7160" y="1174680"/>
            <a:ext cx="853416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can act only on existing vari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volution is limited by historical constrai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aptations are often compromi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ce, natural selection, and the environment interact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23_04GeoVariationCline-U"/>
          <p:cNvPicPr/>
          <p:nvPr/>
        </p:nvPicPr>
        <p:blipFill>
          <a:blip r:embed="rId1"/>
          <a:stretch/>
        </p:blipFill>
        <p:spPr>
          <a:xfrm>
            <a:off x="297000" y="279360"/>
            <a:ext cx="8548560" cy="62974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8"/>
          <p:cNvSpPr/>
          <p:nvPr/>
        </p:nvSpPr>
        <p:spPr>
          <a:xfrm>
            <a:off x="152280" y="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0e08"/>
                </a:solidFill>
                <a:latin typeface="Arial"/>
              </a:rPr>
              <a:t>C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028880" y="42696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1.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019160" y="124308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1019160" y="205884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1015920" y="287820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1019160" y="3693960"/>
            <a:ext cx="682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.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1263600" y="450684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153684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239076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323856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409248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4943520" y="480852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579132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6645240" y="480528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7499520" y="4808520"/>
            <a:ext cx="444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8350200" y="4808520"/>
            <a:ext cx="4446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924600" y="5627520"/>
            <a:ext cx="17146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Georg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Warm (21°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4397400" y="5227560"/>
            <a:ext cx="1714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Latitude (°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1558800" y="5627520"/>
            <a:ext cx="151776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Ma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Cold (6°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7"/>
          <p:cNvSpPr/>
          <p:nvPr/>
        </p:nvSpPr>
        <p:spPr>
          <a:xfrm rot="16199400">
            <a:off x="-930240" y="2380680"/>
            <a:ext cx="32324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Geneva"/>
              </a:rPr>
              <a:t>Ldh-B</a:t>
            </a:r>
            <a:r>
              <a:rPr b="1" i="1" lang="en-US" sz="600" spc="-1" strike="noStrike">
                <a:solidFill>
                  <a:srgbClr val="000000"/>
                </a:solidFill>
                <a:latin typeface="Times New Roman"/>
                <a:ea typeface="Geneva"/>
              </a:rPr>
              <a:t> </a:t>
            </a:r>
            <a:r>
              <a:rPr b="1" i="1" lang="en-US" sz="2200" spc="-1" strike="noStrike" baseline="30000">
                <a:solidFill>
                  <a:srgbClr val="000000"/>
                </a:solidFill>
                <a:latin typeface="Times New Roman"/>
                <a:ea typeface="Geneva"/>
              </a:rPr>
              <a:t>b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eneva"/>
              </a:rPr>
              <a:t> allele frequ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You should now be able to: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7160" y="1177560"/>
            <a:ext cx="85341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the majority of point mutations are harmles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how sexual recombination generates genetic variabil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fine the terms population, species, gene pool, relative fitness, and neutral varia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the five conditions of Hardy-Weinberg equilibriu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227160" y="1177560"/>
            <a:ext cx="85341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y the Hardy-Weinberg equation to a population genetics probl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why natural selection is the only mechanism that consistently produces adaptive chan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in the role of population size in genetic drif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216000" y="1174320"/>
            <a:ext cx="8534160" cy="314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tinguish among the following sets of terms: directional, disruptive, and stabilizing selection; intrasexual and intersexual selectio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four reasons why natural selection cannot produce perfect organism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Muta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Mutation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changes i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nucleotide sequenc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DN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cause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w gen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lle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o aris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ly mutations in cells that produce gametes can be passed to 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000" spc="-1" strike="noStrike">
                <a:solidFill>
                  <a:srgbClr val="ed0e08"/>
                </a:solidFill>
                <a:latin typeface="Arial"/>
              </a:rPr>
              <a:t>point mu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a change in one base in a ge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315280" y="5905440"/>
            <a:ext cx="18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04480" y="990720"/>
            <a:ext cx="8534520" cy="55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lnSpc>
                <a:spcPct val="90000"/>
              </a:lnSpc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effects of point mut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var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in noncoding regions of DNA are often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harm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in a gene might not affect protein production because of redundancy in the genetic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that result in a change in protein production are often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harmfu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90000"/>
              </a:lnSpc>
              <a:spcBef>
                <a:spcPts val="1576"/>
              </a:spcBef>
              <a:spcAft>
                <a:spcPts val="700"/>
              </a:spcAft>
              <a:buClr>
                <a:srgbClr val="3333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tions that result in a change in protein production can sometimes </a:t>
            </a:r>
            <a:r>
              <a:rPr b="0" lang="en-US" sz="2800" spc="-1" strike="noStrike">
                <a:solidFill>
                  <a:srgbClr val="ed0e08"/>
                </a:solidFill>
                <a:latin typeface="Arial"/>
              </a:rPr>
              <a:t>increase the fit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organism in its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3399"/>
                </a:solidFill>
                <a:latin typeface="Times New Roman"/>
              </a:rPr>
              <a:t>Mutations That Alter Gene / Chromosome Number or Sequence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Chromosomal mut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at delete, disrupt, or rearrange many loci are typically harmfu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Mutation ra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low in animals and pla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tations rates are often lower in prokaryotes and higher in virus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0">
              <a:spcBef>
                <a:spcPts val="1687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5345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Sexual Reproduction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04480" y="1174320"/>
            <a:ext cx="8534520" cy="32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Sexual reprodu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an shuffle existing alleles into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new combin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organisms that reproduce sexually, recombination of alleles is more important than mutation in producing the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genetic differences that make adaptation possi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3080" y="7632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d0e08"/>
                </a:solidFill>
                <a:latin typeface="Times New Roman"/>
              </a:rPr>
              <a:t>Hardy-Weinberg equation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 tests whether a sexually reproducing population is evolving</a:t>
            </a:r>
            <a:endParaRPr b="1" lang="en-US" sz="3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04480" y="1174680"/>
            <a:ext cx="853452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populatio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a localized group of individuals (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specie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in an</a:t>
            </a:r>
            <a:r>
              <a:rPr b="0" i="1" lang="en-US" sz="3000" spc="-1" strike="noStrike">
                <a:solidFill>
                  <a:srgbClr val="ed0e08"/>
                </a:solidFill>
                <a:latin typeface="Arial"/>
              </a:rPr>
              <a:t> are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 capable of interbreeding and producing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fertil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spr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000" spc="-1" strike="noStrike">
                <a:solidFill>
                  <a:srgbClr val="ed0e08"/>
                </a:solidFill>
                <a:latin typeface="Arial"/>
              </a:rPr>
              <a:t>gene pool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sts of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al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 allel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or all loci in a </a:t>
            </a:r>
            <a:r>
              <a:rPr b="0" lang="en-US" sz="3000" spc="-1" strike="noStrike">
                <a:solidFill>
                  <a:srgbClr val="ed0e08"/>
                </a:solidFill>
                <a:latin typeface="Arial"/>
              </a:rPr>
              <a:t>popul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1687"/>
              </a:spcBef>
              <a:spcAft>
                <a:spcPts val="751"/>
              </a:spcAft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locus is fixed if all individuals in a population are homozygous for the same alle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3T19:06:35Z</cp:lastPrinted>
  <dcterms:modified xsi:type="dcterms:W3CDTF">2018-03-12T08:53:58Z</dcterms:modified>
  <cp:revision>816</cp:revision>
  <dc:subject/>
  <dc:title>video slide</dc:title>
</cp:coreProperties>
</file>