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D426-0CA6-4AD6-8C66-62D3CA814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The Smallest Unit of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acts on individuals, but only populations ev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s in populations contribute to 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is a change in allele frequencies in a population over gen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rocesses, mutation and sexual reproduction, produce the variation in gene pools that contributes to differences among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The Smallest Unit of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acts on individuals, but only populations ev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s in populations contribute to 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is a change in allele frequencies in a population over gen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rocesses, mutation and sexual reproduction, produce the variation in gene pools that contributes to differences among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n allele in a population can   be calcul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are 2 alleles at a locus, p and q are used to represent their frequ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ll alleles in a population will add up to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n allele in a population can   be calcul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are 2 alleles at a locus, p and q are used to represent their frequen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ll alleles in a population will add up to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: a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 describes an ideal population that is not evol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ser a population is to the criteria of the Hardy-Weinberg principle, the more stable the population is likely to 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Genotype Frequ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p2 and q2 represent the frequencies of the homozygous genotypes and 2pq represents the frequency of the heterozygous gen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: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 describes an ideal population that is not evol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ser a population is to the criteria of the Hardy-Weinberg principle, the more stable the population is likely to 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Genotype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p2 and q2 represent the frequencies of the homozygous genotypes and 2pq represents the frequency of the heterozygous g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ve conditions for nonevolving populations are rarely met in na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ut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larg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Ide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ve conditions for nonevolving populations are rarely met in na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ut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larg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Ideal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the Hardy-Weinberg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ssume the locus that causes phenylketonuria (PKU) is in Hardy-Weinberg equilibrium given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U gene mutation rate is 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 selection is random with respect to whether or not an individual is a carrier for the PKU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can only act on rare homozygous individuals who do not follow dietary restri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has no effect as many other populations have similar allele frequ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ssume the locus that causes phenylketonuria (PKU) is in Hardy-Weinberg equilibrium given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U gene mutation rate is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 selection is random with respect to whether or not an individual is a carrier for the PKU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can only act on rare homozygous individuals who do not follow dietary restri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has no effect as many other populations have similar allele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ccurrence of PKU is 1 per 10,000 bir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 = 0.0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normal allele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1 – q = 1 – 0.01 = 0.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heterozygotes / carrier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q = 2 x 0.99 x 0.01 = 0.01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pproximately 2% of the U.S.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ccurrence of PKU is 1 per 10,000 bi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 = 0.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normal allele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1 – q = 1 – 0.01 = 0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heterozygotes / carrier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q = 2 x 0.99 x 0.01 = 0.01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pproximately 2% of the U.S.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jor factors alter allele frequencies and bring about most evolutionary chan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 -  non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  -  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  -  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3.3: Natural selection, genetic drift, and gene flow can alter allele frequencies in a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jor factors alter allele frequencies and bring about most evolutionary chan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 -  nonran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  -  ran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  -  ran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3.3: Natural selection, genetic drift, and gene flow can alter allele frequencie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and Genetic 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:  Differential success in reproduction results in certain alleles being passed to the next generation in greater proportions by the more fit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describes how allele frequencies fluctuate randomly from one generation to the n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a sample, the greater the chance of deviation from a predicted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tends to reduce genetic variation through losses of alle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and 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:  Differential success in reproduction results in certain alleles being passed to the next generation in greater proportions by the more fit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describes how allele frequencies fluctuate randomly from one generation to the nex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a sample, the greater the chance of deviation from a predicted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tends to reduce genetic variation through losses of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(frequency of CR) = 0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(frequency of CW ) = 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(frequency of CR) = 0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(frequency of CW ) = 0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Founde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under effect occurs when a few individuals become isolated from a larger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in the small founder population can be different from those in the larger parent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Found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under effect occurs when a few individuals become isolated from a larger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in the small founder population can be different from those in the larger parent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Bottleneck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ttleneck effect is a sudden reduction in  population size due to a change in the environment, such as a natural dis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gene pool may no longer be reflective of the original population’s gene 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opulation remains small, it may be further affected by genetic dri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Bottleneck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ttleneck effect is a sudden reduction in  population size due to a change in the environment, such as a natural disa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gene pool may no longer be reflective of the original population’s gene p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opulation remains small, it may be further affected by genetic dri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BottleNeck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BottleNeck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Genetic Drift: A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is significant in small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uses allele frequencies to change at rand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n lead to a loss of genetic variation within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n cause harmful alleles to become fix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Genetic Drift: A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is significant in small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uses allele frequencies to change at rand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n lead to a loss of genetic variation within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n cause harmful alleles to becom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:  Immigration &amp; E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consists of the movement of alleles among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can be transferred through the  movement of fertile individuals or gametes (for example, poll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tends to reduce differences between populations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is more likely than mutation to alter allele frequencies di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:  Immigration &amp; Em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consists of the movement of alleles among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can be transferred through the  movement of fertile individuals or gametes (for example, poll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tends to reduce differences between populations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is more likely than mutation to alter allele frequencies di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natural selection consistently results in adaptive 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brings about adaptive evolution by acting on an organism’s phen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3.4: Natural selection is the only mechanism that consistently causes adaptive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natural selection consistently results in adaptive 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brings about adaptive evolution by acting on an organism’s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3.4: Natural selection is the only mechanism that consistently causes adapt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:  Relative Fi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al selection phrases “struggle for existence” and “survival of the fittest” are misleading as they imply direct competition among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success is generally more subtle and depends on many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itness is the contribution an individual makes to the gene pool of the next generation, relative to the contributions of other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favors certain genotypes by acting on the phenotypes of certain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:  Relative Fit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al selection phrases “struggle for existence” and “survival of the fittest” are misleading as they imply direct competition among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success is generally more subtle and depends on many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itness is the contribution an individual makes to the gene pool of the next generation, relative to the contributions of other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favors certain genotypes by acting on the phenotypes of certain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, Disruptive, and Stabilizing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des of natural sel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 favors individuals at one end of the phenotypic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 favors individuals at both extremes of the phenotypic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 favors intermediate variants and acts against extreme pheno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, Disruptive, and Stabilizing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des of natural sel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 favors individuals at one end of the phenotypic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 favors individuals at both extremes of the phenotypic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 favors intermediate variants and acts against extreme pheno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Stabilizing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sruptive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Direction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 (fur col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of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Stabilizing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sruptive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Direction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 (fur col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of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ey Role of Natural Selection in Adaptive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creases the frequencies of alleles that enhance survival and re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evolution = the match between an organism and its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ey Role of Natural Selection in Adapt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creases the frequencies of alleles that enhance survival and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evolution = the match between an organism and its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- Adaptive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lor-changing ability in cuttle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Movable j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e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abl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- Adapt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lor-changing ability in cuttle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Movable j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e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able b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ists measure polymorphisms in a population by determining the amount of heterozygosity at the gene and molecular le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heterozygosity measures the average percent of loci that are heterozygous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species exhibit geographic variation, differences between gene pools of separate populations or population subgrou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 of geographic variation occur as a cline, which is a graded change in a trait along a geographic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ists measure polymorphisms in a population by determining the amount of heterozygosity at the gene and molecular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heterozygosity measures the average percent of loci that are heterozygous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species exhibit geographic variation, differences between gene pools of separate populations or population sub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 of geographic variation occur as a cline, which is a graded change in a trait along a geographic ax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environments change, adaptive evolution is a continuous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and gene flow are random and so do not consistently lead to adaptive evolution as they can increase or decrease the match between an organism and its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environments change, adaptive evolution is a continuous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and gene flow are random and so do not consistently lead to adaptive evolution as they can increase or decrease the match between an organism and its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is natural selection for mating su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result in sexual dimorphism, marked differences between the sexes in secondary sexual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howiness due to mate choice can increase a male’s chances of attracting a female, while decreasing his chances of survi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is natural selection for mating suc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result in sexual dimorphism, marked differences between the sexes in secondary sexual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howiness due to mate choice can increase a male’s chances of attracting a female, while decreasing his chances of survi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female preferences evol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od genes hypothesis suggests that if a trait is related to male health, both the male trait and female preference for that trait should be selected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female preferences evol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od genes hypothesis suggests that if a trait is related to male health, both the male trait and female preference for that trait should be selected f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rvation of Genetic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mechanisms help to preserve genetic variation in a popu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idy maintains genetic variation in the form of hidden recessive alle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 occurs when heterozygotes have a higher fitness than do both homozygotes. Natural selection will tend to maintain two or more alleles at that l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ckle-cell allele causes mutations in hemoglobin but also confers malaria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rvation of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mechanisms help to preserve genetic variation in a popul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idy maintains genetic variation in the form of hidden recessive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 occurs when heterozygotes have a higher fitness than do both homozygotes. Natural selection will tend to maintain two or more alleles at that loc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ckle-cell allele causes mutations in hemoglobin but also confers malaria resi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caus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odium falcipa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 parasitic unicellular eukary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-cell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–5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–10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–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1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0–1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2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caus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odium falcipa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 parasitic unicellular eukaryo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-cell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–5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–10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–7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12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0–12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requency-dependent selection, the fitness of a phenotype declines if it becomes too common in the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favors whichever phenotype is less common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-Dependent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requency-dependent selection, the fitness of a phenotype declines if it becomes too common in th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favors whichever phenotype is less common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-Dependent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Dependent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-mouth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-mouth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-mouthed”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le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Dependent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-mouth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-mouth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-mouthed”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l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variation is genetic variation that appears to confer no selective advantage or disadvan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noncoding region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proteins that have little effect on protein function or reproductive fit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variation is genetic variation that appears to confer no selective advantage or disadvan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noncoding region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proteins that have little effect on protein function or reproductive fit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atural Selection Cannot Fashion Perfect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can act only on existing vari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 is limited by historical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s are often compromi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, natural selection, and the environment intera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atural Selection Cannot Fashion Perfect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can act only on existing vari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 is limited by historical constra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s are often compromi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, natural selection, and the environment intera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 (21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itude (°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(6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dh-B b allele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 (21°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itude (°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(6°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dh-B b allel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the majority of point mutations are harm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sexual recombination generates genetic vari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s population, species, gene pool, relative fitness, and neutral var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five conditions of Hardy-Weinberg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the majority of point mutations are harm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sexual recombination generates genetic vari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s population, species, gene pool, relative fitness, and neutral var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five conditions of Hardy-Weinberg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 the Hardy-Weinberg equation to a population genetics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natural selection is the only mechanism that consistently produces adaptive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role of population size in genetic dri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 the Hardy-Weinberg equation to a population genetics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natural selection is the only mechanism that consistently produces adaptiv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role of population size in genetic dri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among the following sets of terms: directional, disruptive, and stabilizing selection; intrasexual and intersexual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four reasons why natural selection cannot produce perfect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among the following sets of terms: directional, disruptive, and stabilizing selection; intrasexual and intersexual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four reasons why natural selection cannot produce perfect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changes in the nucleotide sequence of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use new genes and alleles to a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mutations in cells that produce gametes can be passed to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mutation is a change in one base in a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changes in the nucleotide sequence of D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use new genes and alleles to ar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mutations in cells that produce gametes can be passed to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mutation is a change in one base in a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point mutations can v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noncoding regions of DNA are often harm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a gene might not affect protein production because of redundancy in the genetic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result in a change in protein production are often harm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result in a change in protein production can sometimes increase the fitness of the organism in its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point mutations can v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noncoding regions of DNA are often harm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a gene might not affect protein production because of redundancy in the genetic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result in a change in protein production are often harm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result in a change in protein production can sometimes increase the fitness of the organism in its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Alter Gene / Chromosome Number or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al mutations that delete, disrupt, or rearrange many loci are typically harm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rates are low in animals and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rates are often lower in prokaryotes and higher in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Alter Gene / Chromosome Number or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al mutations that delete, disrupt, or rearrange many loci are typically harm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rates are low in animals and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rates are often lower in prokaryotes and higher in vir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reproduction can shuffle existing alleles into new combin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ganisms that reproduce sexually, recombination of alleles is more important than mutation in producing the genetic differences that make adaptation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reproduction can shuffle existing alleles into new combin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ganisms that reproduce sexually, recombination of alleles is more important than mutation in producing the genetic differences that make adaptation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ation tests whether a sexually reproducing population is ev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a localized group of individuals (a species in an area) capable of interbreeding and producing fertile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ene pool consists of all the alleles for all loci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cus is fixed if all individuals in a population are homozygous for the same all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ation tests whether a sexually reproducing population is evol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a localized group of individuals (a species in an area) capable of interbreeding and producing fertile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ene pool consists of all the alleles for all loci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cus is fixed if all individuals in a population are homozygous for the same alle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06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0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06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0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0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1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3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Overview: The Smallest Unit of Evolu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5920" y="1164960"/>
            <a:ext cx="853452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Natural sele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cts on individuals, but only populations evol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Genetic vari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populations contribute to evolu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Microevolut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change in allele frequenci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 popu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ver gener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processes,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mut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sexual reprodu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produce the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var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gene pools that contributes to differences among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07720" y="1166400"/>
            <a:ext cx="8902440" cy="50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frequency of an alle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 population can   be calcula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re are 2 alleles at a locus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used to represent their frequen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frequency of all alleles in a pop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ll add up to 1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800"/>
              </a:spcBef>
              <a:spcAft>
                <a:spcPts val="7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en-US" sz="3200" spc="-1" strike="noStrike">
                <a:solidFill>
                  <a:srgbClr val="ed0e08"/>
                </a:solidFill>
                <a:latin typeface="Arial"/>
              </a:rPr>
              <a:t>p + q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8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228600" y="93600"/>
            <a:ext cx="6019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Times New Roman"/>
              </a:rPr>
              <a:t>Hardy-Weinberg eq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Hardy-Weinberg Principle: a Popu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64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Hardy-Weinberg princi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scribes an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ide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pulation that is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not evolv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loser a population is to the criteria of the Hardy-Weinberg principle, the more stable the population is likely to b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ulating </a:t>
            </a: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Genotype Frequ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d0e08"/>
                </a:solidFill>
                <a:latin typeface="Arial"/>
              </a:rPr>
              <a:t>                   </a:t>
            </a:r>
            <a:r>
              <a:rPr b="1" i="1" lang="en-US" sz="2400" spc="-1" strike="noStrike">
                <a:solidFill>
                  <a:srgbClr val="ed0e08"/>
                </a:solidFill>
                <a:latin typeface="Arial"/>
              </a:rPr>
              <a:t>p</a:t>
            </a:r>
            <a:r>
              <a:rPr b="1" i="1" lang="en-US" sz="2400" spc="-1" strike="noStrike" baseline="30000">
                <a:solidFill>
                  <a:srgbClr val="ed0e08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ed0e08"/>
                </a:solidFill>
                <a:latin typeface="Arial"/>
              </a:rPr>
              <a:t> + 2pq + q</a:t>
            </a:r>
            <a:r>
              <a:rPr b="1" i="1" lang="en-US" sz="2400" spc="-1" strike="noStrike" baseline="30000">
                <a:solidFill>
                  <a:srgbClr val="ed0e08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ed0e08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the frequencies of the homozygous genotypes and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s the frequency of the heterozygous g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10520" y="4546080"/>
            <a:ext cx="28728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04480" y="1164960"/>
            <a:ext cx="853452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ive conditions for nonevolving populations are rarely met in natu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No mu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Random ma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No natural sel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Extremely larg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No gene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228240"/>
            <a:ext cx="655308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ed0e08"/>
                </a:solidFill>
                <a:latin typeface="Arial"/>
              </a:rPr>
              <a:t>Hardy-Weinberg Ideal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540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pplying the Hardy-Weinberg Principl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04480" y="1230480"/>
            <a:ext cx="8534520" cy="516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137"/>
              </a:spcBef>
              <a:spcAft>
                <a:spcPts val="326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assume the locus that causes phenylketonuria (PKU) is in Hardy-Weinberg equilibrium given th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KU gene mutation rate is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 selection is random with respect to whether or not an individual is a carrier for the PKU all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selection can only act on rare homozygous individuals who do not follow dietary restri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is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has no effect as many other populations have similar allele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04480" y="1211400"/>
            <a:ext cx="853452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ccurrence of PKU is 1 per 10,000 bir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q</a:t>
            </a:r>
            <a:r>
              <a:rPr b="0" lang="en-US" sz="2800" spc="-1" strike="noStrike" baseline="30000">
                <a:solidFill>
                  <a:srgbClr val="ed0e08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.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requency of normal alleles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 = 1 – </a:t>
            </a: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 – 0.01 = 0.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requency of </a:t>
            </a:r>
            <a:r>
              <a:rPr b="0" i="1" lang="en-US" sz="3000" spc="-1" strike="noStrike">
                <a:solidFill>
                  <a:srgbClr val="ed0e08"/>
                </a:solidFill>
                <a:latin typeface="Arial"/>
              </a:rPr>
              <a:t>heterozygot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/ carriers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pq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 x 0.99 x 0.01 = 0.01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pproximately 2% of the U.S.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98000" y="1574640"/>
            <a:ext cx="8534520" cy="32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major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factors alter allele frequenc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bring about most evolutionary chang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Natural selection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Genetic drift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Gene flow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304920" y="14050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52280" y="838080"/>
            <a:ext cx="8839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3.3: Natural selection, genetic drift, and gene flow can alter allele frequencies in a popu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Natural Selection and Genetic Drif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Natural Sele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Differential success in reprodu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sults in certain alleles being passed to the next generation in greater proportions by the more fit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Genetic drif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s how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allele frequencies fluctuate random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one generation to the nex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maller a sample, the greater the chance of deviation from a predicted resul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tic drift tends to reduce genetic variation through losses of alle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23_08GeneticDrift_3-U"/>
          <p:cNvPicPr/>
          <p:nvPr/>
        </p:nvPicPr>
        <p:blipFill>
          <a:blip r:embed="rId1"/>
          <a:stretch/>
        </p:blipFill>
        <p:spPr>
          <a:xfrm>
            <a:off x="297000" y="995400"/>
            <a:ext cx="8548560" cy="48657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152280" y="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tic Drif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028880" y="4941720"/>
            <a:ext cx="132372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Generatio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853920" y="2830680"/>
            <a:ext cx="5270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552600" y="167472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78040" y="4583160"/>
            <a:ext cx="4824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2279520" y="166860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1828800" y="282744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574560" y="400536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930240" y="457992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2251080" y="4005360"/>
            <a:ext cx="48276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1339920" y="3411360"/>
            <a:ext cx="4824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1393920" y="2182680"/>
            <a:ext cx="4824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422280" y="5214960"/>
            <a:ext cx="2365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(frequency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) = 0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378000" y="5472000"/>
            <a:ext cx="24796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q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(frequency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r>
              <a:rPr b="1" lang="en-US" sz="600" spc="-1" strike="noStrike" baseline="30000">
                <a:solidFill>
                  <a:srgbClr val="000000"/>
                </a:solidFill>
                <a:latin typeface="BI Times BoldItalic"/>
                <a:ea typeface="Genev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) = 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4006800" y="4957920"/>
            <a:ext cx="13240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Generatio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5184720" y="4567320"/>
            <a:ext cx="48276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505320" y="4564080"/>
            <a:ext cx="4824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343400" y="3398760"/>
            <a:ext cx="48276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4340160" y="2208240"/>
            <a:ext cx="48276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3876840" y="1658880"/>
            <a:ext cx="5270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5137200" y="2833560"/>
            <a:ext cx="5270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3882960" y="3976560"/>
            <a:ext cx="5270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4854600" y="166212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3552840" y="287172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4851360" y="400536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4317840" y="5218200"/>
            <a:ext cx="6573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= 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4321080" y="5481720"/>
            <a:ext cx="6573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q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= 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0"/>
          <p:cNvSpPr/>
          <p:nvPr/>
        </p:nvSpPr>
        <p:spPr>
          <a:xfrm>
            <a:off x="6940440" y="4957920"/>
            <a:ext cx="13240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Generatio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1"/>
          <p:cNvSpPr/>
          <p:nvPr/>
        </p:nvSpPr>
        <p:spPr>
          <a:xfrm>
            <a:off x="7257960" y="5214960"/>
            <a:ext cx="6573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= 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2"/>
          <p:cNvSpPr/>
          <p:nvPr/>
        </p:nvSpPr>
        <p:spPr>
          <a:xfrm>
            <a:off x="7257960" y="5478480"/>
            <a:ext cx="6573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q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= 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3"/>
          <p:cNvSpPr/>
          <p:nvPr/>
        </p:nvSpPr>
        <p:spPr>
          <a:xfrm>
            <a:off x="7302600" y="166212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6464160" y="221148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5"/>
          <p:cNvSpPr/>
          <p:nvPr/>
        </p:nvSpPr>
        <p:spPr>
          <a:xfrm>
            <a:off x="6861240" y="279576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6"/>
          <p:cNvSpPr/>
          <p:nvPr/>
        </p:nvSpPr>
        <p:spPr>
          <a:xfrm>
            <a:off x="8163000" y="221760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7"/>
          <p:cNvSpPr/>
          <p:nvPr/>
        </p:nvSpPr>
        <p:spPr>
          <a:xfrm>
            <a:off x="7731000" y="282420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8"/>
          <p:cNvSpPr/>
          <p:nvPr/>
        </p:nvSpPr>
        <p:spPr>
          <a:xfrm>
            <a:off x="6467400" y="340848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9"/>
          <p:cNvSpPr/>
          <p:nvPr/>
        </p:nvSpPr>
        <p:spPr>
          <a:xfrm>
            <a:off x="8188200" y="340524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0"/>
          <p:cNvSpPr/>
          <p:nvPr/>
        </p:nvSpPr>
        <p:spPr>
          <a:xfrm>
            <a:off x="7318440" y="392904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1"/>
          <p:cNvSpPr/>
          <p:nvPr/>
        </p:nvSpPr>
        <p:spPr>
          <a:xfrm>
            <a:off x="6873840" y="452592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2"/>
          <p:cNvSpPr/>
          <p:nvPr/>
        </p:nvSpPr>
        <p:spPr>
          <a:xfrm>
            <a:off x="7689960" y="452268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Genetic Drift:  The Founder Effec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04480" y="1165320"/>
            <a:ext cx="8534520" cy="32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founder effec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curs when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a few individuals become isolat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rom a larger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le frequencies in the small founder population can be different from those in the larger parent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Genetic Drift:  The Bottleneck Effec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bottleneck effec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sudden reduction in  population siz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ue to a change in the environment, such as a natural disas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sulting gene pool may no longer be reflective of the original population’s gene poo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population remains small, it may be further affected by genetic drif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23_02-NonheritVariation-U"/>
          <p:cNvPicPr/>
          <p:nvPr/>
        </p:nvPicPr>
        <p:blipFill>
          <a:blip r:embed="rId1"/>
          <a:stretch/>
        </p:blipFill>
        <p:spPr>
          <a:xfrm>
            <a:off x="297000" y="1825560"/>
            <a:ext cx="8548560" cy="32068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152280" y="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0e08"/>
                </a:solidFill>
                <a:latin typeface="Arial"/>
              </a:rPr>
              <a:t>Genetic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428760" y="1855800"/>
            <a:ext cx="3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eneva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4765680" y="1849320"/>
            <a:ext cx="3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eneva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7" descr="23_09BottleneckEffect-U"/>
          <p:cNvPicPr/>
          <p:nvPr/>
        </p:nvPicPr>
        <p:blipFill>
          <a:blip r:embed="rId1"/>
          <a:stretch/>
        </p:blipFill>
        <p:spPr>
          <a:xfrm>
            <a:off x="304920" y="762120"/>
            <a:ext cx="8548560" cy="53467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8"/>
          <p:cNvSpPr/>
          <p:nvPr/>
        </p:nvSpPr>
        <p:spPr>
          <a:xfrm>
            <a:off x="152280" y="0"/>
            <a:ext cx="6705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0e08"/>
                </a:solidFill>
                <a:latin typeface="Arial"/>
              </a:rPr>
              <a:t>Genetic Drift:  The BottleNeck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250920" y="5303880"/>
            <a:ext cx="15652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Origi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629160" y="5297400"/>
            <a:ext cx="19461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Bottlenec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ev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7311960" y="5300640"/>
            <a:ext cx="159084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Survi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3080" y="75960"/>
            <a:ext cx="853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d0e08"/>
                </a:solidFill>
                <a:latin typeface="Times New Roman"/>
              </a:rPr>
              <a:t>Effects of Genetic Drift</a:t>
            </a:r>
            <a:r>
              <a:rPr b="1" lang="en-US" sz="3200" spc="-1" strike="noStrike">
                <a:solidFill>
                  <a:srgbClr val="ed0e08"/>
                </a:solidFill>
                <a:latin typeface="Times New Roman"/>
              </a:rPr>
              <a:t>: A Summary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7160" y="1174320"/>
            <a:ext cx="853416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is significant in small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causes allele frequencies to change at rand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can lead to a loss of genetic variation within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can cause harmful alleles to become fix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Gene Flow:  Immigration &amp; Emmigr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Gene flow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sts of th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movement of alleles among popul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les can be transferred through the 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movement of fertile individuals or gamet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for example, pollen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ed0e08"/>
                </a:solidFill>
                <a:latin typeface="Arial"/>
              </a:rPr>
              <a:t>Gene flow tends to reduce differences between populations over ti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 flow is more likely than mutation to alter allele frequencies direct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7" descr="23_11GeneFlowHumanFace-U"/>
          <p:cNvPicPr/>
          <p:nvPr/>
        </p:nvPicPr>
        <p:blipFill>
          <a:blip r:embed="rId1"/>
          <a:stretch/>
        </p:blipFill>
        <p:spPr>
          <a:xfrm>
            <a:off x="2147760" y="136440"/>
            <a:ext cx="4846680" cy="65851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205920" y="1568160"/>
            <a:ext cx="853452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y natural selection consistently results in adaptive evolu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Natural selection brings about adaptive evolution by acting on an organism’s phenotyp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304920" y="14050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52280" y="838080"/>
            <a:ext cx="8763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38240" y="76320"/>
            <a:ext cx="89964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3.4: Natural selection is the only mechanism that consistently causes adaptive evolu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Natural Selection:  Relative Fitnes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05920" y="1165320"/>
            <a:ext cx="85345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atural selection phrases “struggle for existence” and “</a:t>
            </a:r>
            <a:r>
              <a:rPr b="0" i="1" lang="en-US" sz="2600" spc="-1" strike="noStrike">
                <a:solidFill>
                  <a:srgbClr val="ed0e08"/>
                </a:solidFill>
                <a:latin typeface="Arial"/>
              </a:rPr>
              <a:t>survival of the fitte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” are misleading as they imply direct competition among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roductive success is generally more subtle and depends on many facto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Relative fitnes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the contribution an individual makes to the gene poo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the next generation, relative to the contributions of other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ion favors certain genotypes by acting on the phenotypes of certain organis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Directional, Disruptive, and Stabilizing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modes of natural selec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Directional sel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s individuals at one end of the phenotypic 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Disruptive sel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s individuals at both extremes of the phenotypic 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Stabilizing sel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s intermediate variants and acts against extreme phenoty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7" descr="23_13-SelectionModes-U"/>
          <p:cNvPicPr/>
          <p:nvPr/>
        </p:nvPicPr>
        <p:blipFill>
          <a:blip r:embed="rId1"/>
          <a:stretch/>
        </p:blipFill>
        <p:spPr>
          <a:xfrm>
            <a:off x="304920" y="380880"/>
            <a:ext cx="8548560" cy="60548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8"/>
          <p:cNvSpPr/>
          <p:nvPr/>
        </p:nvSpPr>
        <p:spPr>
          <a:xfrm>
            <a:off x="152280" y="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6105600" y="1425600"/>
            <a:ext cx="1842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0e08"/>
                </a:solidFill>
                <a:latin typeface="Arial"/>
                <a:ea typeface="Geneva"/>
              </a:rPr>
              <a:t>Original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 popu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6465960" y="6043680"/>
            <a:ext cx="1842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(c</a:t>
            </a:r>
            <a:r>
              <a:rPr b="1" lang="en-US" sz="2000" spc="-1" strike="noStrike">
                <a:solidFill>
                  <a:srgbClr val="ed0e08"/>
                </a:solidFill>
                <a:latin typeface="Arial"/>
                <a:ea typeface="Geneva"/>
              </a:rPr>
              <a:t>) Stabilizing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395520" y="6043680"/>
            <a:ext cx="1843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(b) </a:t>
            </a:r>
            <a:r>
              <a:rPr b="1" lang="en-US" sz="2000" spc="-1" strike="noStrike">
                <a:solidFill>
                  <a:srgbClr val="ed0e08"/>
                </a:solidFill>
                <a:latin typeface="Arial"/>
                <a:ea typeface="Geneva"/>
              </a:rPr>
              <a:t>Disruptiv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339840" y="6046920"/>
            <a:ext cx="1982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(a</a:t>
            </a:r>
            <a:r>
              <a:rPr b="1" lang="en-US" sz="2000" spc="-1" strike="noStrike">
                <a:solidFill>
                  <a:srgbClr val="ed0e08"/>
                </a:solidFill>
                <a:latin typeface="Arial"/>
                <a:ea typeface="Geneva"/>
              </a:rPr>
              <a:t>) Directional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3718080" y="3095640"/>
            <a:ext cx="198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Phenotypes (fur colo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 rot="16162200">
            <a:off x="2263680" y="1539720"/>
            <a:ext cx="1982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Frequency of individua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790560" y="3218040"/>
            <a:ext cx="87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Origi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popu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1787400" y="3218040"/>
            <a:ext cx="87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Evolv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popu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7"/>
          <p:cNvSpPr/>
          <p:nvPr/>
        </p:nvSpPr>
        <p:spPr>
          <a:xfrm>
            <a:off x="4835520" y="1530360"/>
            <a:ext cx="1235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>
            <a:off x="1303200" y="3535200"/>
            <a:ext cx="131760" cy="73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 flipH="1">
            <a:off x="1854000" y="3535200"/>
            <a:ext cx="220680" cy="73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Key Role of Natural Selection in Adaptive Evolu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Natural selection increase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frequencies of alleles that enhance survival and reprodu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Adaptive evolution =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the match between an organism and its environm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8" descr="23_14-AdaptationExamples-U"/>
          <p:cNvPicPr/>
          <p:nvPr/>
        </p:nvPicPr>
        <p:blipFill>
          <a:blip r:embed="rId1"/>
          <a:stretch/>
        </p:blipFill>
        <p:spPr>
          <a:xfrm>
            <a:off x="2849400" y="136440"/>
            <a:ext cx="3445200" cy="65851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9"/>
          <p:cNvSpPr/>
          <p:nvPr/>
        </p:nvSpPr>
        <p:spPr>
          <a:xfrm>
            <a:off x="152280" y="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0e08"/>
                </a:solidFill>
                <a:latin typeface="Arial"/>
              </a:rPr>
              <a:t>Natural Selection - Adaptive 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2879640" y="2433600"/>
            <a:ext cx="420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(a)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Color-changing ability in cuttlef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2209680" y="5943600"/>
            <a:ext cx="18702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(b)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Movable j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     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bone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     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snak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2889360" y="2963880"/>
            <a:ext cx="1170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Movabl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3"/>
          <p:cNvSpPr/>
          <p:nvPr/>
        </p:nvSpPr>
        <p:spPr>
          <a:xfrm flipV="1">
            <a:off x="3111480" y="3143160"/>
            <a:ext cx="50760" cy="3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 flipH="1" flipV="1">
            <a:off x="3162240" y="3139920"/>
            <a:ext cx="44640" cy="44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51920" y="990720"/>
            <a:ext cx="8534520" cy="61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Population geneticis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easure polymorphisms in a population by determining the amount of heterozygosity at the gene and molecular leve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verage heterozygosit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s the average percent of loci that are heterozygous in a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species exhibit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geographic var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ces between gene pools of separate populations or population subgrou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examples of geographic variation occur as a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cli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hich is a graded change in a trait along a geographic ax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204480" y="1174320"/>
            <a:ext cx="8534520" cy="32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environments chan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adaptive evolution is a continuous proce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and gene flow are random and so do not consistently lead to adaptive evolution as they can increase or decrease the match between an organism and its environ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exual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Sexual selec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 natural selec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 mating succes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can result 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xual dimorphis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marked differences between the sexes in secondary sexual characteristic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e showiness due to mate choice can increase a male’s chances of attracting a female, while decreasing his chances of surviv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7" descr="23_15SexualSelection-U"/>
          <p:cNvPicPr/>
          <p:nvPr/>
        </p:nvPicPr>
        <p:blipFill>
          <a:blip r:embed="rId1"/>
          <a:stretch/>
        </p:blipFill>
        <p:spPr>
          <a:xfrm>
            <a:off x="297000" y="458640"/>
            <a:ext cx="8548560" cy="59389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8"/>
          <p:cNvSpPr/>
          <p:nvPr/>
        </p:nvSpPr>
        <p:spPr>
          <a:xfrm>
            <a:off x="0" y="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0e08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</a:rPr>
              <a:t>Sexual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04480" y="1174320"/>
            <a:ext cx="8534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 female preferences evolv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genes hypothesis suggests that if a trait is related to male health, both the male trait and female preference for that trait should be selected f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</a:t>
            </a:r>
            <a:r>
              <a:rPr b="1" i="1" lang="en-US" sz="3000" spc="-1" strike="noStrike">
                <a:solidFill>
                  <a:srgbClr val="ed0e08"/>
                </a:solidFill>
                <a:latin typeface="Times New Roman"/>
              </a:rPr>
              <a:t>Preservation of Genetic Var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575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ous mechanisms help to preserve genetic variation in a popul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Diploid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intains genetic variation in the form of hidden recessive alle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Heterozygote advantag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curs when heterozygotes have a higher fitness than do both homozygotes. Natural selection will tend to maintain two or more alleles at that locu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ed0e08"/>
                </a:solidFill>
                <a:latin typeface="Arial"/>
              </a:rPr>
              <a:t>sickle-cell alle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uses mutations in hemoglobin but also confers </a:t>
            </a:r>
            <a:r>
              <a:rPr b="0" i="1" lang="en-US" sz="2600" spc="-1" strike="noStrike">
                <a:solidFill>
                  <a:srgbClr val="ed0e08"/>
                </a:solidFill>
                <a:latin typeface="Arial"/>
              </a:rPr>
              <a:t>malaria resist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7" descr="23_17MalariaSickleCelMap-U"/>
          <p:cNvPicPr/>
          <p:nvPr/>
        </p:nvPicPr>
        <p:blipFill>
          <a:blip r:embed="rId1"/>
          <a:stretch/>
        </p:blipFill>
        <p:spPr>
          <a:xfrm>
            <a:off x="952560" y="136440"/>
            <a:ext cx="7237440" cy="658512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8"/>
          <p:cNvSpPr/>
          <p:nvPr/>
        </p:nvSpPr>
        <p:spPr>
          <a:xfrm>
            <a:off x="0" y="0"/>
            <a:ext cx="3962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terozygote Adva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6454800" y="4125960"/>
            <a:ext cx="1008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0–2.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1130400" y="4998960"/>
            <a:ext cx="41068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Distribution o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malaria caused b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Plasmodium falcipa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(a parasitic unicellular eukaryot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5587920" y="3475080"/>
            <a:ext cx="22528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Frequencies of th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sickle-cell alle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6251400" y="4494240"/>
            <a:ext cx="10972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2.5–5.0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6251400" y="5205240"/>
            <a:ext cx="1287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7.5–10.0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6251400" y="4849920"/>
            <a:ext cx="10972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5.0–7.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6620040" y="5942160"/>
            <a:ext cx="10713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&gt;12.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6111720" y="5548320"/>
            <a:ext cx="1465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10.0–12.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16000" y="195588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frequency-dependent selection, the fitness of a phenotype declines if it becomes too common in the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favors whichever phenotype is less comm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209520" y="1181160"/>
            <a:ext cx="6008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Frequency-Dependent Se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7" descr="23_18-FreqDepSelection-U"/>
          <p:cNvPicPr/>
          <p:nvPr/>
        </p:nvPicPr>
        <p:blipFill>
          <a:blip r:embed="rId1"/>
          <a:stretch/>
        </p:blipFill>
        <p:spPr>
          <a:xfrm>
            <a:off x="1346040" y="136440"/>
            <a:ext cx="6451920" cy="65851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8"/>
          <p:cNvSpPr/>
          <p:nvPr/>
        </p:nvSpPr>
        <p:spPr>
          <a:xfrm>
            <a:off x="152280" y="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quency Depend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4886280" y="1319040"/>
            <a:ext cx="2100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Right-mouthe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2438280" y="5884920"/>
            <a:ext cx="588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19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4959360" y="2878200"/>
            <a:ext cx="1566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Left-mouthe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2"/>
          <p:cNvSpPr/>
          <p:nvPr/>
        </p:nvSpPr>
        <p:spPr>
          <a:xfrm rot="16198800">
            <a:off x="330480" y="3664080"/>
            <a:ext cx="2799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Frequency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left-mouthed” individ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4013280" y="6192720"/>
            <a:ext cx="1414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Sample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2025720" y="2023920"/>
            <a:ext cx="588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2022480" y="3824280"/>
            <a:ext cx="309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2193840" y="5703840"/>
            <a:ext cx="109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7"/>
          <p:cNvSpPr/>
          <p:nvPr/>
        </p:nvSpPr>
        <p:spPr>
          <a:xfrm>
            <a:off x="294948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8"/>
          <p:cNvSpPr/>
          <p:nvPr/>
        </p:nvSpPr>
        <p:spPr>
          <a:xfrm>
            <a:off x="3390840" y="588816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381960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0"/>
          <p:cNvSpPr/>
          <p:nvPr/>
        </p:nvSpPr>
        <p:spPr>
          <a:xfrm>
            <a:off x="4257720" y="588816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1"/>
          <p:cNvSpPr/>
          <p:nvPr/>
        </p:nvSpPr>
        <p:spPr>
          <a:xfrm>
            <a:off x="469260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5127480" y="5881680"/>
            <a:ext cx="3225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3"/>
          <p:cNvSpPr/>
          <p:nvPr/>
        </p:nvSpPr>
        <p:spPr>
          <a:xfrm>
            <a:off x="5562720" y="588816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4"/>
          <p:cNvSpPr/>
          <p:nvPr/>
        </p:nvSpPr>
        <p:spPr>
          <a:xfrm>
            <a:off x="599760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5"/>
          <p:cNvSpPr/>
          <p:nvPr/>
        </p:nvSpPr>
        <p:spPr>
          <a:xfrm>
            <a:off x="643896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Neutral Var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Neutral vari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genetic variation that appears to confer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no selective advant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disadvant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xample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 in noncoding regions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 in proteins that have little effect on protein function or reproductive fit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Why </a:t>
            </a:r>
            <a:r>
              <a:rPr b="1" lang="en-US" sz="3000" spc="-1" strike="noStrike">
                <a:solidFill>
                  <a:srgbClr val="ed0e08"/>
                </a:solidFill>
                <a:latin typeface="Times New Roman"/>
              </a:rPr>
              <a:t>Natural Selection Cannot Fashion Perfect Organism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7160" y="1174680"/>
            <a:ext cx="853416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can act only on existing vari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olution is limited by historical constrai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aptations are often compromi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ce, natural selection, and the environment interac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23_04GeoVariationCline-U"/>
          <p:cNvPicPr/>
          <p:nvPr/>
        </p:nvPicPr>
        <p:blipFill>
          <a:blip r:embed="rId1"/>
          <a:stretch/>
        </p:blipFill>
        <p:spPr>
          <a:xfrm>
            <a:off x="297000" y="279360"/>
            <a:ext cx="8548560" cy="62974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0e08"/>
                </a:solidFill>
                <a:latin typeface="Arial"/>
              </a:rPr>
              <a:t>C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028880" y="42696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1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019160" y="124308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.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1019160" y="205884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.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1015920" y="287820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.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1019160" y="369396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1263600" y="450684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1536840" y="4808520"/>
            <a:ext cx="444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2390760" y="480528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3238560" y="480528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4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4092480" y="480528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4943520" y="480852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5791320" y="4808520"/>
            <a:ext cx="444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6645240" y="480528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7499520" y="4808520"/>
            <a:ext cx="444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8350200" y="480852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6924600" y="5627520"/>
            <a:ext cx="17146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Georg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Warm (21°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4397400" y="5227560"/>
            <a:ext cx="171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Latitude (°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1558800" y="5627520"/>
            <a:ext cx="15177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Ma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Cold (6°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7"/>
          <p:cNvSpPr/>
          <p:nvPr/>
        </p:nvSpPr>
        <p:spPr>
          <a:xfrm rot="16199400">
            <a:off x="-930240" y="2380680"/>
            <a:ext cx="32324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Geneva"/>
              </a:rPr>
              <a:t>Ldh-B</a:t>
            </a:r>
            <a:r>
              <a:rPr b="1" i="1" lang="en-US" sz="600" spc="-1" strike="noStrike">
                <a:solidFill>
                  <a:srgbClr val="000000"/>
                </a:solidFill>
                <a:latin typeface="Times New Roman"/>
                <a:ea typeface="Geneva"/>
              </a:rPr>
              <a:t> 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 allele frequ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7160" y="1177560"/>
            <a:ext cx="853416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why the majority of point mutations are harml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sexual recombination generates genetic variabil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the terms population, species, gene pool, relative fitness, and neutral var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 the five conditions of Hardy-Weinberg equilibriu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227160" y="1177560"/>
            <a:ext cx="853416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 the Hardy-Weinberg equation to a population genetics probl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why natural selection is the only mechanism that consistently produces adaptive chan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the role of population size in genetic drif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216000" y="1174320"/>
            <a:ext cx="8534160" cy="314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inguish among the following sets of terms: directional, disruptive, and stabilizing selection; intrasexual and intersexual sele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 four reasons why natural selection cannot produce perfect organis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ut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54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Mutation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changes i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nucleotide sequ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DN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tations cause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new gen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allel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ari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y mutations in cells that produce gametes can be passed to offspr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point mut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a change in one base in a ge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315280" y="5905440"/>
            <a:ext cx="18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04480" y="990720"/>
            <a:ext cx="853452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effects of point mut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var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 in noncoding regions of DNA are often 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harm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 in a gene might not affect protein production because of redundancy in the genetic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 that result in a change in protein production are often 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harmf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 that result in a change in protein production can sometimes 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increase the fit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organism in its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Mutations That Alter Gene / Chromosome Number or Sequenc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Chromosomal mut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delete, disrupt, or rearrange many loci are typically harmfu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Mutation rat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low in animals and pla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tations rates are often lower in prokaryotes and higher in viru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exual Reprodu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32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Sexual reprodu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shuffle existing alleles into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new combin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organisms that reproduce sexually, recombination of alleles is more important than mutation in producing th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genetic differences that make adaptation possi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Times New Roman"/>
              </a:rPr>
              <a:t>Hardy-Weinberg equation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tests whether a sexually reproducing population is evolving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popul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localized group of individuals 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ed0e08"/>
                </a:solidFill>
                <a:latin typeface="Arial"/>
              </a:rPr>
              <a:t>specie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n an</a:t>
            </a:r>
            <a:r>
              <a:rPr b="0" i="1" lang="en-US" sz="3000" spc="-1" strike="noStrike">
                <a:solidFill>
                  <a:srgbClr val="ed0e08"/>
                </a:solidFill>
                <a:latin typeface="Arial"/>
              </a:rPr>
              <a:t> are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capable of interbreeding and producing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ferti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spr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gene pool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sts of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al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 allel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all loci in a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pop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ocus is fixed if all individuals in a population are homozygous for the same alle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1-23T19:06:35Z</cp:lastPrinted>
  <dcterms:modified xsi:type="dcterms:W3CDTF">2018-03-12T08:53:58Z</dcterms:modified>
  <cp:revision>816</cp:revision>
  <dc:subject/>
  <dc:title>video slide</dc:title>
</cp:coreProperties>
</file>