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EB66-85F0-42F2-A254-FDFA1FCEAA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nd fats – important for storing chemical energy in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s are liquids – fats are sol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from esters of propane-1,2,3,triol (glycerol) + long chain carboxylic acids R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s (triglycerides) – 3 carboxylic acids react with tri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ed triesters – three acid groups, not all alike often found in natural oils and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 and fatty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anched hydrocarbon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fatty acids – occur in fat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unsaturated / 3 or 4 double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known by old names – systematic names too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cause blockage of blood vessels and heart disease, especially the saturated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oils and fats are mixtures of tri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plit up by hydrolysis, heat with conc. Na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ster + NaOH  glycerol + sodium salt of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s of soap manufacture eg. “Palmol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dium salts to free acids by adding dil. HCl or other mineral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cis double bonds - causes kin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ation of unsaturated oils - make marga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hydrogenation makes oils more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H2 through heated oil - nickel cataly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1DF-24E2-4147-90BB-4222DD61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780-A07F-4F74-916F-1DF9890C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265-529A-494D-ACAF-03705F94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2BB-5138-4EF8-A50F-56819373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EFE-384F-4A49-A0F8-B7B67788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489-83E5-44C3-AB6A-C08E9CF3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581-5B87-4A6D-ADDA-A4FF707E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EF5-5863-4718-BB3A-86CEE8B6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6ED-1EBC-4363-A07A-FB686C85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392-570C-442D-B6BB-3287E12A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3B5-8725-4BFD-858E-BCEC0CF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2D0-38CD-4D02-9A92-BAE30E93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0AF3-B283-4EC9-974A-4725D268C0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3.6 Oils and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057400" y="3581280"/>
          <a:ext cx="173844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81280"/>
                    <a:ext cx="1738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6"/>
          <p:cNvGraphicFramePr/>
          <p:nvPr/>
        </p:nvGraphicFramePr>
        <p:xfrm>
          <a:off x="5181480" y="4038480"/>
          <a:ext cx="2057400" cy="13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038480"/>
                    <a:ext cx="20574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Chemical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nd fats – important for storing chemical energy in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ils are liquids – fats are sol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de from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propane-1,2,3,triol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(glycerol) + long chain carboxylic acids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RCOO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1676520" y="4343400"/>
          <a:ext cx="645768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64576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fatty acids"/>
          <p:cNvPicPr/>
          <p:nvPr/>
        </p:nvPicPr>
        <p:blipFill>
          <a:blip r:embed="rId1"/>
          <a:stretch/>
        </p:blipFill>
        <p:spPr>
          <a:xfrm>
            <a:off x="457200" y="1981080"/>
            <a:ext cx="8282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ble 11 Common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tri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triglycerides)</a:t>
            </a:r>
            <a:r>
              <a:rPr b="0" lang="en-GB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3 carboxylic acids react with tri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ed triester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– three acid groups, not all alike often found in natural oils and f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609480" y="2362320"/>
          <a:ext cx="449604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44960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ourier New"/>
              </a:rPr>
              <a:t>Fats and fatty aci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Unbranched hydrocarbon ch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lled fatty acids – occur in fa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lly unsaturated / 3 or 4 double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till known by old names – systematic name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ought to cause blockage of blood vessels and heart disease, especially the saturated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t fac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atural oils and fats are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mixtures of triester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an be split up by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hydrolysis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eat with conc.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Triester + NaOH </a:t>
            </a: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 glycerol + sodium salt of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asis of soap manufacture eg. </a:t>
            </a: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“Palmol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nvert sodium salts to free acids by adding dil. HCl or other mineral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or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380988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tty acids present in mixture affect th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turated triglycerides pack closely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tractive forces - higher melting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3" descr="satgly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18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14"/>
          <p:cNvGraphicFramePr/>
          <p:nvPr/>
        </p:nvGraphicFramePr>
        <p:xfrm>
          <a:off x="914400" y="657360"/>
          <a:ext cx="1752480" cy="114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57360"/>
                    <a:ext cx="175248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r Liqu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saturated triglyceride molecules cannot pack closely together becaus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ouble bonds - causes kin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molecular forces are wea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energy needed to separate molecules - lower melt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unsatgly"/>
          <p:cNvPicPr/>
          <p:nvPr/>
        </p:nvPicPr>
        <p:blipFill>
          <a:blip r:embed="rId1"/>
          <a:stretch/>
        </p:blipFill>
        <p:spPr>
          <a:xfrm>
            <a:off x="1219320" y="1371600"/>
            <a:ext cx="5867280" cy="27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9"/>
          <p:cNvGraphicFramePr/>
          <p:nvPr/>
        </p:nvGraphicFramePr>
        <p:xfrm>
          <a:off x="838080" y="685800"/>
          <a:ext cx="1430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685800"/>
                    <a:ext cx="1430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verting oil to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atural oils need processing to make them fit fo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ydrogen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unsaturated oils - make marga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roll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ydrogenation makes oils mor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 heated oil - nickel catal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flavourings, salt, vitamin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609480" y="914400"/>
            <a:ext cx="8344080" cy="2857680"/>
            <a:chOff x="609480" y="914400"/>
            <a:chExt cx="8344080" cy="2857680"/>
          </a:xfrm>
        </p:grpSpPr>
        <p:grpSp>
          <p:nvGrpSpPr>
            <p:cNvPr id="81" name="Group 32"/>
            <p:cNvGrpSpPr/>
            <p:nvPr/>
          </p:nvGrpSpPr>
          <p:grpSpPr>
            <a:xfrm>
              <a:off x="609480" y="914400"/>
              <a:ext cx="8344080" cy="2400480"/>
              <a:chOff x="609480" y="914400"/>
              <a:chExt cx="8344080" cy="2400480"/>
            </a:xfrm>
          </p:grpSpPr>
          <p:sp>
            <p:nvSpPr>
              <p:cNvPr id="82" name="Line 33"/>
              <p:cNvSpPr/>
              <p:nvPr/>
            </p:nvSpPr>
            <p:spPr>
              <a:xfrm flipV="1">
                <a:off x="4200480" y="2287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Group 34"/>
              <p:cNvGrpSpPr/>
              <p:nvPr/>
            </p:nvGrpSpPr>
            <p:grpSpPr>
              <a:xfrm>
                <a:off x="609480" y="914400"/>
                <a:ext cx="8344080" cy="2400480"/>
                <a:chOff x="609480" y="914400"/>
                <a:chExt cx="8344080" cy="2400480"/>
              </a:xfrm>
            </p:grpSpPr>
            <p:sp>
              <p:nvSpPr>
                <p:cNvPr id="84" name="AutoShape 35"/>
                <p:cNvSpPr/>
                <p:nvPr/>
              </p:nvSpPr>
              <p:spPr>
                <a:xfrm>
                  <a:off x="60948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Oil mixtu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36"/>
                <p:cNvSpPr/>
                <p:nvPr/>
              </p:nvSpPr>
              <p:spPr>
                <a:xfrm>
                  <a:off x="2666880" y="1943280"/>
                  <a:ext cx="799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efin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37"/>
                <p:cNvSpPr/>
                <p:nvPr/>
              </p:nvSpPr>
              <p:spPr>
                <a:xfrm>
                  <a:off x="3695400" y="1943280"/>
                  <a:ext cx="1142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38"/>
                <p:cNvSpPr/>
                <p:nvPr/>
              </p:nvSpPr>
              <p:spPr>
                <a:xfrm>
                  <a:off x="5067360" y="1943280"/>
                  <a:ext cx="6854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Blen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39"/>
                <p:cNvSpPr/>
                <p:nvPr/>
              </p:nvSpPr>
              <p:spPr>
                <a:xfrm>
                  <a:off x="5981760" y="1943280"/>
                  <a:ext cx="91440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Emulsifi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40"/>
                <p:cNvSpPr/>
                <p:nvPr/>
              </p:nvSpPr>
              <p:spPr>
                <a:xfrm>
                  <a:off x="7124760" y="1600200"/>
                  <a:ext cx="1828800" cy="91440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Margar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41"/>
                <p:cNvSpPr/>
                <p:nvPr/>
              </p:nvSpPr>
              <p:spPr>
                <a:xfrm>
                  <a:off x="3466800" y="251460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Cataly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42"/>
                <p:cNvSpPr/>
                <p:nvPr/>
              </p:nvSpPr>
              <p:spPr>
                <a:xfrm>
                  <a:off x="3466800" y="1142640"/>
                  <a:ext cx="1485720" cy="5713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ydro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>
                  <a:off x="5753160" y="914400"/>
                  <a:ext cx="1485720" cy="79992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at free mil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44"/>
                <p:cNvSpPr/>
                <p:nvPr/>
              </p:nvSpPr>
              <p:spPr>
                <a:xfrm>
                  <a:off x="5753160" y="2514600"/>
                  <a:ext cx="1714680" cy="800280"/>
                </a:xfrm>
                <a:prstGeom prst="flowChartDecis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Flavourings et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45"/>
                <p:cNvSpPr/>
                <p:nvPr/>
              </p:nvSpPr>
              <p:spPr>
                <a:xfrm>
                  <a:off x="243828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46"/>
                <p:cNvSpPr/>
                <p:nvPr/>
              </p:nvSpPr>
              <p:spPr>
                <a:xfrm>
                  <a:off x="34668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47"/>
                <p:cNvSpPr/>
                <p:nvPr/>
              </p:nvSpPr>
              <p:spPr>
                <a:xfrm>
                  <a:off x="4838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Line 48"/>
                <p:cNvSpPr/>
                <p:nvPr/>
              </p:nvSpPr>
              <p:spPr>
                <a:xfrm>
                  <a:off x="575316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9"/>
                <p:cNvSpPr/>
                <p:nvPr/>
              </p:nvSpPr>
              <p:spPr>
                <a:xfrm>
                  <a:off x="6896160" y="2057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50"/>
                <p:cNvSpPr/>
                <p:nvPr/>
              </p:nvSpPr>
              <p:spPr>
                <a:xfrm>
                  <a:off x="4209840" y="1706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51"/>
                <p:cNvSpPr/>
                <p:nvPr/>
              </p:nvSpPr>
              <p:spPr>
                <a:xfrm>
                  <a:off x="6496200" y="1716120"/>
                  <a:ext cx="0" cy="23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52"/>
                <p:cNvSpPr/>
                <p:nvPr/>
              </p:nvSpPr>
              <p:spPr>
                <a:xfrm flipV="1">
                  <a:off x="6610320" y="22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Rectangle 53"/>
            <p:cNvSpPr/>
            <p:nvPr/>
          </p:nvSpPr>
          <p:spPr>
            <a:xfrm>
              <a:off x="1066680" y="308628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2323800" y="3086280"/>
              <a:ext cx="182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Processe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55"/>
            <p:cNvSpPr/>
            <p:nvPr/>
          </p:nvSpPr>
          <p:spPr>
            <a:xfrm>
              <a:off x="952200" y="3429360"/>
              <a:ext cx="1028520" cy="342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2095200" y="3429360"/>
              <a:ext cx="17146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hemicals invol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45:16Z</dcterms:created>
  <dc:creator>M Tyrrell</dc:creator>
  <dc:description/>
  <dc:language>en-US</dc:language>
  <cp:lastModifiedBy>RomaK</cp:lastModifiedBy>
  <cp:lastPrinted>2002-03-05T22:45:04Z</cp:lastPrinted>
  <dcterms:modified xsi:type="dcterms:W3CDTF">2015-09-02T05:58:37Z</dcterms:modified>
  <cp:revision>16</cp:revision>
  <dc:subject/>
  <dc:title>13.6 Oils and Fats</dc:title>
</cp:coreProperties>
</file>