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F942-2468-45B6-8BAF-6E1BD9105667}"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96DA4-D22C-4578-8C1D-1DBE6C073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E7312-AE70-467E-BA12-ECFD37C7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CFF4-D519-4BD1-AEE8-F134812E1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46DFB-36E2-40E5-B565-8EF01C0B3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6726-1363-4C61-A6D7-B5328C4A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0F08-A1C1-467C-8605-227A7C08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17D1-0176-4CAB-A8E8-698DFC112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BB64-3138-4930-BA90-954A254D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6650B-D148-4A4D-BAD6-548E0E58A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684C-3B4A-4E01-BEE0-23F9DA55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8776-2BB6-45CC-B751-48B730B37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85A9-93DE-47B9-ACE4-D07786C7F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AB59-9099-4180-B9C2-879CE524C4C3}" type="datetime">
              <a:rPr b="0" lang="en-IN" sz="1200" spc="-1" strike="noStrike">
                <a:solidFill>
                  <a:srgbClr val="898989"/>
                </a:solidFill>
                <a:latin typeface="Calibri"/>
              </a:rPr>
              <a:t>31/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6915-29DF-4245-976B-899D8945CFA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