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5E06-7272-431A-9F7F-86CA9C2CD395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Giant pandas are black and white bears that live in temperate-zone bamboo forests in central Ch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Giant pandas are black and white bears that live in temperate-zone bamboo forests in central Ch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104B-8DD5-4A47-AE96-0CF56BC7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88E-C969-4835-8F40-08729456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6123-0EA1-4123-8811-8EFEAE3B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D89D-AE4F-4FC5-BC27-5FAA4AA0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0017-5BCE-40DB-8505-850DE263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A672-7ADA-490A-960B-42EAFD38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F49-881F-4DD1-B761-9A0608B9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8A0D-59D4-4C1E-A015-85E3F5F7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AE2-E518-4F54-BF9B-0C75FDA5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A4B0-2A10-4B59-BBA7-0E01C980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B963-17B6-4ABC-93CA-C53253BA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7DC-82F9-43AE-BC1E-4EFF59DB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BE4A-970D-4B89-A4D9-1A2920606446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85C7-A561-442D-8E98-630E0B982FE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344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https://encrypted-tbn3.google.com/images?q=tbn:ANd9GcSzAcg4MPcRW4xsqWc8mNq4SuX0j-01BqVdiQPb_WC2eSX4iB3oqw"/>
          <p:cNvPicPr/>
          <p:nvPr/>
        </p:nvPicPr>
        <p:blipFill>
          <a:blip r:embed="rId1"/>
          <a:stretch/>
        </p:blipFill>
        <p:spPr>
          <a:xfrm>
            <a:off x="3348000" y="404640"/>
            <a:ext cx="2232000" cy="288000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2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Giant pandas are black and white bears that live in temperate-zone bamboo forests in central Chi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62864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https://encrypted-tbn3.google.com/images?q=tbn:ANd9GcTXqF7mEPd2_9RRp3NNrzDm_8A781UhVjzOQECooTtzUyxNWdgKfw"/>
          <p:cNvPicPr/>
          <p:nvPr/>
        </p:nvPicPr>
        <p:blipFill>
          <a:blip r:embed="rId1"/>
          <a:stretch/>
        </p:blipFill>
        <p:spPr>
          <a:xfrm>
            <a:off x="395280" y="1844640"/>
            <a:ext cx="3835440" cy="316692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https://encrypted-tbn1.google.com/images?q=tbn:ANd9GcRmjqycL2m9C9y1LKKi3BLgrSr7ITe0yQG8swQyM5JJm7i_2UYsWA"/>
          <p:cNvPicPr/>
          <p:nvPr/>
        </p:nvPicPr>
        <p:blipFill>
          <a:blip r:embed="rId1"/>
          <a:stretch/>
        </p:blipFill>
        <p:spPr>
          <a:xfrm>
            <a:off x="177840" y="2276640"/>
            <a:ext cx="2738520" cy="265248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1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1196640"/>
            <a:ext cx="8785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68360" y="11970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173320" y="907920"/>
            <a:ext cx="65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9280" y="-144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74520" y="1773360"/>
            <a:ext cx="2098800" cy="2098440"/>
          </a:xfrm>
          <a:prstGeom prst="rect">
            <a:avLst/>
          </a:prstGeom>
          <a:ln w="0">
            <a:noFill/>
          </a:ln>
        </p:spPr>
      </p:pic>
      <p:sp>
        <p:nvSpPr>
          <p:cNvPr id="7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7:30:55Z</dcterms:created>
  <dc:creator>Sumitomo</dc:creator>
  <dc:description/>
  <dc:language>en-US</dc:language>
  <cp:lastModifiedBy>LEGION</cp:lastModifiedBy>
  <dcterms:modified xsi:type="dcterms:W3CDTF">2018-03-12T08:29:29Z</dcterms:modified>
  <cp:revision>11</cp:revision>
  <dc:subject/>
  <dc:title>Polar Bear</dc:title>
</cp:coreProperties>
</file>