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8644-58D9-4013-B609-05469F727AD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origins of the word "monkey" are unclear. It could come from Moneke , the name of the son of Martin the Ape in a medieval animal story. It appears also to be related to manikin, from the Dutch manneken  ("little man"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ord Hanuma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mission or a trib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D69-CA59-4C9D-AB7D-01A660CB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96B-624A-4593-A70D-4036ED8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864-7DE8-4570-80DE-B2D7E601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862-048E-4AA3-9D60-573EABFF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501-6B12-43EB-96FE-E563E085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902-2212-4317-883C-489F644F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A07-3A7F-44AC-8F60-98A1042B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55C-2B1E-4542-80AC-BDC9008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8F6-BB55-4A32-91FD-69D06A9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710-572E-4CC8-B48E-5C906C76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B75-F856-4DE8-A238-DFC8550C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458-F760-40E3-8D11-E942F3D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EC8B-706F-4C9A-9181-0D13317AA3EB}" type="datetime">
              <a:rPr b="0" lang="en-IN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7C2-387D-4D09-9544-BBF4C1E7347E}" type="slidenum">
              <a:rPr b="0" lang="en-I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3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keys :Facts you may not k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417760" y="333360"/>
            <a:ext cx="360036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84360" y="443700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The origins of the word "monkey" are unclear. It could come from Moneke , the name of the son of Martin the Ape in a medieval animal story. It appears also to be related to manikin, from the Dutch </a:t>
            </a:r>
            <a:r>
              <a:rPr b="0" i="1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manneken </a:t>
            </a:r>
            <a:r>
              <a:rPr b="0" lang="en-IN" sz="2000" spc="-1" strike="noStrike">
                <a:solidFill>
                  <a:srgbClr val="ffffff"/>
                </a:solidFill>
                <a:latin typeface="Calibri"/>
                <a:ea typeface="Arial"/>
              </a:rPr>
              <a:t> ("little man"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llige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generally considered to  be intelligen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The first monkey in space was Albert II who flew in the US-launched V-2 rocket on June 14, 1949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nkeys are also used in various experiments as they are intelligent enough &amp; pick up skills very fast 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ffffff"/>
                </a:solidFill>
                <a:latin typeface="Calibri"/>
              </a:rPr>
              <a:t>Monkeys are worshipped in India; they are believed to represent the Lord Hanuman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8720" cy="2849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80280" y="52293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Lord Hanum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ooming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71360" y="1413000"/>
            <a:ext cx="58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All monkeys like to be clean so they have a barber monkey clean out their fur. The barber monkey's payment is the bugs in its customer's hai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Monkeys express affection and make peace with others by grooming each o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Calibri"/>
              </a:rPr>
              <a:t>Chimpanzees, gorillas, and orangutans all catch cold, but curiously monkeys do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26924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form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5661000"/>
            <a:ext cx="75708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Africa, South Asia –Monkeys are trained to do certain gymnastic activities ,they are great entertainers after train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A group of monkeys is called a "troop."A group of monkeys may be referred to as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mission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 or a </a:t>
            </a:r>
            <a:r>
              <a:rPr b="0" i="1" lang="en-IN" sz="2500" spc="-1" strike="noStrike">
                <a:solidFill>
                  <a:srgbClr val="ffffff"/>
                </a:solidFill>
                <a:latin typeface="Calibri"/>
              </a:rPr>
              <a:t>tribe</a:t>
            </a: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Did you know that when monkeys yawn it's sometimes because they are tired, and sometimes because they are mad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s peel their bananas and do not eat the skin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500" spc="-1" strike="noStrike">
                <a:solidFill>
                  <a:srgbClr val="ffffff"/>
                </a:solidFill>
                <a:latin typeface="Calibri"/>
              </a:rPr>
              <a:t>Monkey brains are eaten as a delicacy in parts of South Asia, Africa and Chin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305080" cy="34765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ing Mother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ther Monkey carries its kid ,stuck to its body , till the time it is able walk/take care of himself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632720" cy="39434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ew more Fa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03280" y="155736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ffffff"/>
                </a:solidFill>
                <a:latin typeface="Calibri"/>
              </a:rPr>
              <a:t>Monkeys can weigh up to 45 kgs.  Their tails can be as long as 3 feet. They have opposable thumb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The pygmy marmoset, whose body is only 10 centimetres long, lives in the forests along the Amazon river, in South America. It is the smallest monkey in the wor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ffffff"/>
                </a:solidFill>
                <a:latin typeface="Calibri"/>
              </a:rPr>
              <a:t>Monkeys are great swimmers; however, they prefer not to be in the wate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519280" cy="311940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o you Know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The English Language Institute have campaigned for years to have the plural of monkey to be changed accordingly to monkeies - changing the "y" to an "i" and adding "es"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1:19:25Z</dcterms:created>
  <dc:creator>Sumitomo</dc:creator>
  <dc:description/>
  <dc:language>en-US</dc:language>
  <cp:lastModifiedBy>LEGION</cp:lastModifiedBy>
  <dcterms:modified xsi:type="dcterms:W3CDTF">2018-03-12T08:19:20Z</dcterms:modified>
  <cp:revision>9</cp:revision>
  <dc:subject/>
  <dc:title>PowerPoint Presentation</dc:title>
</cp:coreProperties>
</file>