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5EAD4-1C6B-40ED-A1CA-F08132F01366}" type="slidenum">
              <a:rPr b="0" lang="en-I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nkeys :Facts you may not kno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rigins of the word "monkey" are unclear. It could come from Moneke , the name of the son of Martin the Ape in a medieval animal story. It appears also to be related to manikin, from the Dutch manneken  ("little man"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Monkeys :Facts you may not know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he origins of the word "monkey" are unclear. It could come from Moneke , the name of the son of Martin the Ape in a medieval animal story. It appears also to be related to manikin, from the Dutch manneken  ("little man")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lligen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nkeys are generally considered to  be intellig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rst monkey in space was Albert II who flew in the US-launched V-2 rocket on June 14, 1949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nkeys are also used in various experiments as they are intelligent enough &amp; pick up skills very fast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nkeys are worshipped in India; they are believed to represent the Lord Hanuma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rd Hanum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Intelligent!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Monkeys are generally considered to  be intelligent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 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he first monkey in space was Albert II who flew in the US-launched V-2 rocket on June 14, 1949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Monkeys are also used in various experiments as they are intelligent enough &amp; pick up skills very fast 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Monkeys are worshipped in India; they are believed to represent the Lord Hanuman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Lord Hanuman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om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monkeys like to be clean so they have a barber monkey clean out their fur. The barber monkey's payment is the bugs in its customer's hai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nkeys express affection and make peace with others by grooming each oth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impanzees, gorillas, and orangutans all catch cold, but curiously monkeys do no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Grooming 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ll monkeys like to be clean so they have a barber monkey clean out their fur. The barber monkey's payment is the bugs in its customer's hair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Monkeys express affection and make peace with others by grooming each other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himpanzees, gorillas, and orangutans all catch cold, but curiously monkeys do not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rform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Africa, South Asia –Monkeys are trained to do certain gymnastic activities ,they are great entertainers after trai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Performer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In Africa, South Asia –Monkeys are trained to do certain gymnastic activities ,they are great entertainers after training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group of monkeys is called a "troop."A group of monkeys may be referred to as a mission or a trib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d you know that when monkeys yawn it's sometimes because they are tired, and sometimes because they are ma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nkeys peel their bananas and do not eat the ski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nkey brains are eaten as a delicacy in parts of South Asia, Africa and Chi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 group of monkeys is called a "troop."A group of monkeys may be referred to as a mission or a tribe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id you know that when monkeys yawn it's sometimes because they are tired, and sometimes because they are mad?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Monkeys peel their bananas and do not eat the skins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Monkey brains are eaten as a delicacy in parts of South Asia, Africa and China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ing Mother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ther Monkey carries its kid ,stuck to its body , till the time it is able walk/take care of himself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aring Mother!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Mother Monkey carries its kid ,stuck to its body , till the time it is able walk/take care of himself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ew more Fa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nkeys can weigh up to 45 kgs.  Their tails can be as long as 3 feet. They have opposable thumb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ygmy marmoset, whose body is only 10 centimetres long, lives in the forests along the Amazon river, in South America. It is the smallest monkey in the worl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nkeys are great swimmers; however, they prefer not to be in the wa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Few more Facts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Monkeys can weigh up to 45 kgs.  Their tails can be as long as 3 feet. They have opposable thumbs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he pygmy marmoset, whose body is only 10 centimetres long, lives in the forests along the Amazon river, in South America. It is the smallest monkey in the world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Monkeys are great swimmers; however, they prefer not to be in the water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 you Know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glish Language Institute have campaigned for years to have the plural of monkey to be changed accordingly to monkeies - changing the "y" to an "i" and adding "es"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o you Know?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he English Language Institute have campaigned for years to have the plural of monkey to be changed accordingly to monkeies - changing the "y" to an "i" and adding "es"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18F3-D503-4CDE-8DD3-AF70AEFDC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5293-1802-47F1-A546-A3F0D1970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DA3B-A045-4884-BCA0-0378E7399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CE7E-8508-46E1-9FC5-B8C4FC98C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E215-1047-4402-95C1-6B6081766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83B9-1422-4909-82E5-C1D1F63D5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FA14-65D5-43B7-9206-371A124E3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EB9F-A8AC-47E0-B6CD-66969CB30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D1CE-F675-474D-86BE-DEABE5792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8C0D-F75E-4898-B959-8731B4905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76F2-5086-481D-9275-886CE9ACE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A89F-B628-439F-8674-717AF9EEB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0764A-D5AD-40CE-B2AB-66CFA379E7CD}" type="datetime">
              <a:rPr b="0" lang="en-IN" sz="1200" spc="-1" strike="noStrike">
                <a:solidFill>
                  <a:srgbClr val="ffffff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C4469-ACAB-49A6-81A7-0A5199620673}" type="slidenum">
              <a:rPr b="0" lang="en-IN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50336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onkeys :Facts you may not know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2417760" y="333360"/>
            <a:ext cx="3600360" cy="288288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3"/>
          <p:cNvSpPr/>
          <p:nvPr/>
        </p:nvSpPr>
        <p:spPr>
          <a:xfrm>
            <a:off x="684360" y="4437000"/>
            <a:ext cx="7920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ffffff"/>
                </a:solidFill>
                <a:latin typeface="Calibri"/>
                <a:ea typeface="Arial"/>
              </a:rPr>
              <a:t>The origins of the word "monkey" are unclear. It could come from Moneke , the name of the son of Martin the Ape in a medieval animal story. It appears also to be related to manikin, from the Dutch </a:t>
            </a:r>
            <a:r>
              <a:rPr b="0" i="1" lang="en-IN" sz="2000" spc="-1" strike="noStrike">
                <a:solidFill>
                  <a:srgbClr val="ffffff"/>
                </a:solidFill>
                <a:latin typeface="Calibri"/>
                <a:ea typeface="Arial"/>
              </a:rPr>
              <a:t>manneken </a:t>
            </a:r>
            <a:r>
              <a:rPr b="0" lang="en-IN" sz="2000" spc="-1" strike="noStrike">
                <a:solidFill>
                  <a:srgbClr val="ffffff"/>
                </a:solidFill>
                <a:latin typeface="Calibri"/>
                <a:ea typeface="Arial"/>
              </a:rPr>
              <a:t> ("little man")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Intelligent!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419280" y="1600200"/>
            <a:ext cx="526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ffffff"/>
                </a:solidFill>
                <a:latin typeface="Calibri"/>
              </a:rPr>
              <a:t>Monkeys are generally considered to  be intelligent.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ffffff"/>
                </a:solidFill>
                <a:latin typeface="Calibri"/>
              </a:rPr>
              <a:t> </a:t>
            </a:r>
            <a:r>
              <a:rPr b="0" lang="en-IN" sz="2200" spc="-1" strike="noStrike">
                <a:solidFill>
                  <a:srgbClr val="ffffff"/>
                </a:solidFill>
                <a:latin typeface="Calibri"/>
              </a:rPr>
              <a:t>The first monkey in space was Albert II who flew in the US-launched V-2 rocket on June 14, 1949.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Monkeys are also used in various experiments as they are intelligent enough &amp; pick up skills very fast .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ffffff"/>
                </a:solidFill>
                <a:latin typeface="Calibri"/>
              </a:rPr>
              <a:t>Monkeys are worshipped in India; they are believed to represent the Lord Hanuman.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3168720" cy="2849760"/>
          </a:xfrm>
          <a:prstGeom prst="rect">
            <a:avLst/>
          </a:prstGeom>
          <a:ln w="0">
            <a:noFill/>
          </a:ln>
        </p:spPr>
      </p:pic>
      <p:sp>
        <p:nvSpPr>
          <p:cNvPr id="55" name="TextBox 3"/>
          <p:cNvSpPr/>
          <p:nvPr/>
        </p:nvSpPr>
        <p:spPr>
          <a:xfrm>
            <a:off x="980280" y="5229360"/>
            <a:ext cx="155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Lord Hanuma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Grooming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71360" y="1413000"/>
            <a:ext cx="5815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ffffff"/>
                </a:solidFill>
                <a:latin typeface="Calibri"/>
              </a:rPr>
              <a:t>All monkeys like to be clean so they have a barber monkey clean out their fur. The barber monkey's payment is the bugs in its customer's hair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ffffff"/>
                </a:solidFill>
                <a:latin typeface="Calibri"/>
              </a:rPr>
              <a:t>Monkeys express affection and make peace with others by grooming each other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ffffff"/>
                </a:solidFill>
                <a:latin typeface="Calibri"/>
              </a:rPr>
              <a:t>Chimpanzees, gorillas, and orangutans all catch cold, but curiously monkeys do not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179280" y="1989000"/>
            <a:ext cx="2692440" cy="2735280"/>
          </a:xfrm>
          <a:prstGeom prst="rect">
            <a:avLst/>
          </a:prstGeom>
          <a:ln w="0">
            <a:noFill/>
          </a:ln>
        </p:spPr>
      </p:pic>
      <p:sp>
        <p:nvSpPr>
          <p:cNvPr id="60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4716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Performer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116000" y="5661000"/>
            <a:ext cx="7570800" cy="75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 Africa, South Asia –Monkeys are trained to do certain gymnastic activities ,they are great entertainers after training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1116000" y="1052640"/>
            <a:ext cx="6408720" cy="4321080"/>
          </a:xfrm>
          <a:prstGeom prst="rect">
            <a:avLst/>
          </a:prstGeom>
          <a:ln w="0">
            <a:noFill/>
          </a:ln>
        </p:spPr>
      </p:pic>
      <p:sp>
        <p:nvSpPr>
          <p:cNvPr id="64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N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059280" y="1600200"/>
            <a:ext cx="562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500" spc="-1" strike="noStrike">
                <a:solidFill>
                  <a:srgbClr val="ffffff"/>
                </a:solidFill>
                <a:latin typeface="Calibri"/>
              </a:rPr>
              <a:t>A group of monkeys is called a "troop."A group of monkeys may be referred to as a </a:t>
            </a:r>
            <a:r>
              <a:rPr b="0" i="1" lang="en-IN" sz="2500" spc="-1" strike="noStrike">
                <a:solidFill>
                  <a:srgbClr val="ffffff"/>
                </a:solidFill>
                <a:latin typeface="Calibri"/>
              </a:rPr>
              <a:t>mission</a:t>
            </a:r>
            <a:r>
              <a:rPr b="0" lang="en-IN" sz="2500" spc="-1" strike="noStrike">
                <a:solidFill>
                  <a:srgbClr val="ffffff"/>
                </a:solidFill>
                <a:latin typeface="Calibri"/>
              </a:rPr>
              <a:t> or a </a:t>
            </a:r>
            <a:r>
              <a:rPr b="0" i="1" lang="en-IN" sz="2500" spc="-1" strike="noStrike">
                <a:solidFill>
                  <a:srgbClr val="ffffff"/>
                </a:solidFill>
                <a:latin typeface="Calibri"/>
              </a:rPr>
              <a:t>tribe</a:t>
            </a:r>
            <a:r>
              <a:rPr b="0" lang="en-IN" sz="25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500" spc="-1" strike="noStrike">
                <a:solidFill>
                  <a:srgbClr val="ffffff"/>
                </a:solidFill>
                <a:latin typeface="Calibri"/>
              </a:rPr>
              <a:t>Did you know that when monkeys yawn it's sometimes because they are tired, and sometimes because they are mad?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500" spc="-1" strike="noStrike">
                <a:solidFill>
                  <a:srgbClr val="ffffff"/>
                </a:solidFill>
                <a:latin typeface="Calibri"/>
              </a:rPr>
              <a:t>Monkeys peel their bananas and do not eat the skins.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500" spc="-1" strike="noStrike">
                <a:solidFill>
                  <a:srgbClr val="ffffff"/>
                </a:solidFill>
                <a:latin typeface="Calibri"/>
              </a:rPr>
              <a:t>Monkey brains are eaten as a delicacy in parts of South Asia, Africa and China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250920" y="1700280"/>
            <a:ext cx="2305080" cy="3476520"/>
          </a:xfrm>
          <a:prstGeom prst="rect">
            <a:avLst/>
          </a:prstGeom>
          <a:ln w="0">
            <a:noFill/>
          </a:ln>
        </p:spPr>
      </p:pic>
      <p:sp>
        <p:nvSpPr>
          <p:cNvPr id="68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aring Mother!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5229000"/>
            <a:ext cx="8229600" cy="89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Mother Monkey carries its kid ,stuck to its body , till the time it is able walk/take care of himself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1116000" y="1285920"/>
            <a:ext cx="7632720" cy="3943440"/>
          </a:xfrm>
          <a:prstGeom prst="rect">
            <a:avLst/>
          </a:prstGeom>
          <a:ln w="0">
            <a:noFill/>
          </a:ln>
        </p:spPr>
      </p:pic>
      <p:sp>
        <p:nvSpPr>
          <p:cNvPr id="72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ew more Fact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3203280" y="1557360"/>
            <a:ext cx="5545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700" spc="-1" strike="noStrike">
                <a:solidFill>
                  <a:srgbClr val="ffffff"/>
                </a:solidFill>
                <a:latin typeface="Calibri"/>
              </a:rPr>
              <a:t>Monkeys can weigh up to 45 kgs.  Their tails can be as long as 3 feet. They have opposable thumbs.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700" spc="-1" strike="noStrike">
                <a:solidFill>
                  <a:srgbClr val="ffffff"/>
                </a:solidFill>
                <a:latin typeface="Calibri"/>
              </a:rPr>
              <a:t>The pygmy marmoset, whose body is only 10 centimetres long, lives in the forests along the Amazon river, in South America. It is the smallest monkey in the world.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700" spc="-1" strike="noStrike">
                <a:solidFill>
                  <a:srgbClr val="ffffff"/>
                </a:solidFill>
                <a:latin typeface="Calibri"/>
              </a:rPr>
              <a:t>Monkeys are great swimmers; however, they prefer not to be in the water.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468360" y="1989000"/>
            <a:ext cx="2519280" cy="3119400"/>
          </a:xfrm>
          <a:prstGeom prst="rect">
            <a:avLst/>
          </a:prstGeom>
          <a:ln w="0">
            <a:noFill/>
          </a:ln>
        </p:spPr>
      </p:pic>
      <p:sp>
        <p:nvSpPr>
          <p:cNvPr id="76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Do you Know?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ffffff"/>
                </a:solidFill>
                <a:latin typeface="Calibri"/>
              </a:rPr>
              <a:t>The English Language Institute have campaigned for years to have the plural of monkey to be changed accordingly to monkeies - changing the "y" to an "i" and adding "es"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7T11:19:25Z</dcterms:created>
  <dc:creator>Sumitomo</dc:creator>
  <dc:description/>
  <dc:language>en-US</dc:language>
  <cp:lastModifiedBy>LEGION</cp:lastModifiedBy>
  <dcterms:modified xsi:type="dcterms:W3CDTF">2018-03-12T08:19:20Z</dcterms:modified>
  <cp:revision>9</cp:revision>
  <dc:subject/>
  <dc:title>PowerPoint Presentation</dc:title>
</cp:coreProperties>
</file>