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517C5-18BA-4D8A-9363-F0727B89B905}"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io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General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belong to “Cat” family of animals &amp; is the 2nd largest in cat family , the 1st one is Ti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of Lions is called “Pr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verage pride consists of about 15 individuals, including five to 10 fema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re the only members of the cat family to have a m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also called the “King of Ju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live for 10–14 years in the wild, while in captivity they can live longer than 2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General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belong to “Cat” family of animals &amp; is the 2nd largest in cat family , the 1st one is Tig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of Lions is called “Prid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verage pride consists of about 15 individuals, including five to 10 female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re the only members of the cat family to have a man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also called the “King of Jung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live for 10–14 years in the wild, while in captivity they can live longer than 20 year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ons may hunt at any hour, but they typically go after large prey at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y hunt in a  team to increase their chances, as larger animal can be difficult to catch and can outrun a single 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males do &gt;85%  of the pride's hunting as they are more aggressive,  the males patrol the territory and protect the pride, for which they take the "lion's (major)share" of the females' pr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not always successful in the job, 50% of times their hunting adventure fails t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Hun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ons may hunt at any hour, but they typically go after large prey at nigh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y hunt in a  team to increase their chances, as larger animal can be difficult to catch and can outrun a single lio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males do &gt;85%  of the pride's hunting as they are more aggressive,  the males patrol the territory and protect the pride, for which they take the "lion's (major)share" of the females' pre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not always successful in the job, 50% of times their hunting adventure fails too.</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Hun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 Lazy L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s do 85 to 90 percent of the pride's hunting, while the males patrol the territory and protect the pride, for which they take the "lion's (major)share" of the females' prey. The males eat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the laziest of the big cats. They usually spend 16 to 20 hours a day sleeping and resting, devoting the remaining hours to hunting, courting or protecting their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also called “Nocturnal” animals, this means sleeping during day-time &amp; working in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pend an average of two hours a day walking and 50 minutes e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 Lazy Lot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s do 85 to 90 percent of the pride's hunting, while the males patrol the territory and protect the pride, for which they take the "lion's (major)share" of the females' prey. The males eat firs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the laziest of the big cats. They usually spend 16 to 20 hours a day sleeping and resting, devoting the remaining hours to hunting, courting or protecting their territor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also called “Nocturnal” animals, this means sleeping during day-time &amp; working in nigh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pend an average of two hours a day walking and 50 minutes ea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ol Fa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make many gestures towards each other .Rubbing head, face and neck against another lion—seems to be a form of gr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ions drink water daily if available, but can go four or five days without it. Lions in arid areas seem to obtain needed moisture from the stomach contents of their pr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worst enemy – it is a surprise, it is a porcup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t actually roar until it's 2 years 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ult, a lion’s roar can be heard from as far as 5 miles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the only one having a tassel on the tail. It's often used to signal to other members of the pride, with messages like, "this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ol Fact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make many gestures towards each other .Rubbing head, face and neck against another lion—seems to be a form of gree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ions drink water daily if available, but can go four or five days without it. Lions in arid areas seem to obtain needed moisture from the stomach contents of their pre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worst enemy – it is a surprise, it is a porcupin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t actually roar until it's 2 years old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ult, a lion’s roar can be heard from as far as 5 miles awa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the only one having a tassel on the tail. It's often used to signal to other members of the pride, with messages like, "this wa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so-cool Fa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don’t have much  stamina, thus, they only run fast in short bur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 run for short distances at 50 miles per hour and can leap as far as 36 f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s heels don’t touch the ground when it wal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les take over a new pride, they usually kill the cub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so-cool Fact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don’t have much  stamina, thus, they only run fast in short burs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 run for short distances at 50 miles per hour and can leap as far as 36 fee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s heels don’t touch the ground when it walk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les take over a new pride, they usually kill the cub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F2FE3-E6C9-4BDC-B9AA-998C0085F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626D3-75F4-4C12-A8B5-C1C068BFC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D983F-1E9D-4038-A5A2-6BE7EDAEB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62B31-474E-4892-883C-E26BC4942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A8499-C29C-4A0C-BFBF-C43A626FC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E52C5-E1D9-484C-AC25-566259860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A70B4-397B-4F06-BF47-9EBD017D6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7AE07-A975-4FD1-8865-AAA5C3A2C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731D8-72A3-4935-AED0-76B37C9A3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819F1-CC84-4145-8B0A-62C5715CB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D05FA-0AA0-4DEB-84E8-1282658AF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BA154-8692-4155-B1A5-C8A04508B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F71D-00BB-4F99-8790-C92F9CAD8E7A}" type="datetime">
              <a:rPr b="0" lang="en-IN"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8BE0-68D6-47A8-9F7E-36786105B8BB}"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26920" y="2997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s</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6" descr=""/>
          <p:cNvPicPr/>
          <p:nvPr/>
        </p:nvPicPr>
        <p:blipFill>
          <a:blip r:embed="rId1"/>
          <a:stretch/>
        </p:blipFill>
        <p:spPr>
          <a:xfrm>
            <a:off x="2268360" y="725400"/>
            <a:ext cx="4083120" cy="254952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 –General Facts</a:t>
            </a:r>
            <a:endParaRPr b="0" lang="en-US" sz="4400" spc="-1" strike="noStrike">
              <a:solidFill>
                <a:srgbClr val="000000"/>
              </a:solidFill>
              <a:latin typeface="Calibri"/>
            </a:endParaRPr>
          </a:p>
        </p:txBody>
      </p:sp>
      <p:sp>
        <p:nvSpPr>
          <p:cNvPr id="53" name=""/>
          <p:cNvSpPr txBox="1"/>
          <p:nvPr/>
        </p:nvSpPr>
        <p:spPr>
          <a:xfrm>
            <a:off x="2266560" y="1052640"/>
            <a:ext cx="6877080" cy="4525920"/>
          </a:xfrm>
          <a:prstGeom prst="rect">
            <a:avLst/>
          </a:prstGeom>
          <a:noFill/>
          <a:ln w="0">
            <a:noFill/>
          </a:ln>
        </p:spPr>
        <p:txBody>
          <a:bodyPr anchor="t">
            <a:normAutofit fontScale="93000"/>
          </a:bodyPr>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Lions belong to “Cat” family of animals &amp; is the 2</a:t>
            </a:r>
            <a:r>
              <a:rPr b="0" lang="en-US" sz="2800" spc="-1" strike="noStrike" baseline="30000">
                <a:solidFill>
                  <a:srgbClr val="7030a0"/>
                </a:solidFill>
                <a:latin typeface="Calibri"/>
              </a:rPr>
              <a:t>nd</a:t>
            </a:r>
            <a:r>
              <a:rPr b="0" lang="en-US" sz="2800" spc="-1" strike="noStrike">
                <a:solidFill>
                  <a:srgbClr val="7030a0"/>
                </a:solidFill>
                <a:latin typeface="Calibri"/>
              </a:rPr>
              <a:t> largest in cat family , the 1</a:t>
            </a:r>
            <a:r>
              <a:rPr b="0" lang="en-US" sz="2800" spc="-1" strike="noStrike" baseline="30000">
                <a:solidFill>
                  <a:srgbClr val="7030a0"/>
                </a:solidFill>
                <a:latin typeface="Calibri"/>
              </a:rPr>
              <a:t>st</a:t>
            </a:r>
            <a:r>
              <a:rPr b="0" lang="en-US" sz="2800" spc="-1" strike="noStrike">
                <a:solidFill>
                  <a:srgbClr val="7030a0"/>
                </a:solidFill>
                <a:latin typeface="Calibri"/>
              </a:rPr>
              <a:t> one is Tiger.</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A group of Lions is called “Prid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 </a:t>
            </a:r>
            <a:r>
              <a:rPr b="0" lang="en-IN" sz="2800" spc="-1" strike="noStrike">
                <a:solidFill>
                  <a:srgbClr val="7030a0"/>
                </a:solidFill>
                <a:latin typeface="Calibri"/>
              </a:rPr>
              <a:t>The average pride consists of about 15 individuals, including five to 10 females </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Male lions are the only members of the cat family to have a man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A lion is also called the “King of Jungl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Lions live for 10–14 years in the wild, while in captivity they can live longer than 20 years.</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 name="Picture 2" descr=""/>
          <p:cNvPicPr/>
          <p:nvPr/>
        </p:nvPicPr>
        <p:blipFill>
          <a:blip r:embed="rId1"/>
          <a:stretch/>
        </p:blipFill>
        <p:spPr>
          <a:xfrm>
            <a:off x="-20520" y="2205000"/>
            <a:ext cx="2360520" cy="2052720"/>
          </a:xfrm>
          <a:prstGeom prst="rect">
            <a:avLst/>
          </a:prstGeom>
          <a:ln w="0">
            <a:noFill/>
          </a:ln>
        </p:spPr>
      </p:pic>
      <p:sp>
        <p:nvSpPr>
          <p:cNvPr id="55"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050560" y="1125000"/>
            <a:ext cx="7093080" cy="4526280"/>
          </a:xfrm>
          <a:prstGeom prst="rect">
            <a:avLst/>
          </a:prstGeom>
          <a:noFill/>
          <a:ln w="0">
            <a:noFill/>
          </a:ln>
        </p:spPr>
        <p:txBody>
          <a:bodyPr anchor="t">
            <a:normAutofit fontScale="92000"/>
          </a:bodyPr>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Lions may hunt at any hour, but they typically go after large prey at night.</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They hunt in a  team to increase their chances, as larger animal can be difficult to catch and can outrun a single lion.</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Females do &gt;85%  of the pride's hunting as they are more aggressive,  the males patrol the territory and protect the pride, for which they take the "lion's (major)share" of the females' prey.</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030a0"/>
                </a:solidFill>
                <a:latin typeface="Calibri"/>
              </a:rPr>
              <a:t>Lions are not always successful in the job, 50% of times their hunting adventure fails too.</a:t>
            </a:r>
            <a:endParaRPr b="0" lang="en-US" sz="2100" spc="-1" strike="noStrike">
              <a:solidFill>
                <a:srgbClr val="000000"/>
              </a:solidFill>
              <a:latin typeface="Calibri"/>
            </a:endParaRPr>
          </a:p>
        </p:txBody>
      </p:sp>
      <p:sp>
        <p:nvSpPr>
          <p:cNvPr id="57" name="PlaceHolder 1"/>
          <p:cNvSpPr>
            <a:spLocks noGrp="1"/>
          </p:cNvSpPr>
          <p:nvPr>
            <p:ph type="title"/>
          </p:nvPr>
        </p:nvSpPr>
        <p:spPr>
          <a:xfrm>
            <a:off x="468360" y="3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 –Hunting</a:t>
            </a:r>
            <a:endParaRPr b="0" lang="en-US" sz="4400" spc="-1" strike="noStrike">
              <a:solidFill>
                <a:srgbClr val="000000"/>
              </a:solidFill>
              <a:latin typeface="Calibri"/>
            </a:endParaRPr>
          </a:p>
        </p:txBody>
      </p:sp>
      <p:pic>
        <p:nvPicPr>
          <p:cNvPr id="58" name="Picture 2" descr=""/>
          <p:cNvPicPr/>
          <p:nvPr/>
        </p:nvPicPr>
        <p:blipFill>
          <a:blip r:embed="rId1"/>
          <a:stretch/>
        </p:blipFill>
        <p:spPr>
          <a:xfrm>
            <a:off x="0" y="1932120"/>
            <a:ext cx="2016000" cy="2374920"/>
          </a:xfrm>
          <a:prstGeom prst="rect">
            <a:avLst/>
          </a:prstGeom>
          <a:ln w="0">
            <a:noFill/>
          </a:ln>
        </p:spPr>
      </p:pic>
      <p:sp>
        <p:nvSpPr>
          <p:cNvPr id="59"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25600" y="-93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le Lions- A Lazy Lot </a:t>
            </a:r>
            <a:endParaRPr b="0" lang="en-US" sz="4400" spc="-1" strike="noStrike">
              <a:solidFill>
                <a:srgbClr val="000000"/>
              </a:solidFill>
              <a:latin typeface="Calibri"/>
            </a:endParaRPr>
          </a:p>
        </p:txBody>
      </p:sp>
      <p:sp>
        <p:nvSpPr>
          <p:cNvPr id="61" name=""/>
          <p:cNvSpPr txBox="1"/>
          <p:nvPr/>
        </p:nvSpPr>
        <p:spPr>
          <a:xfrm>
            <a:off x="2874600" y="1125000"/>
            <a:ext cx="6372360" cy="4464360"/>
          </a:xfrm>
          <a:prstGeom prst="rect">
            <a:avLst/>
          </a:prstGeom>
          <a:noFill/>
          <a:ln w="0">
            <a:noFill/>
          </a:ln>
        </p:spPr>
        <p:txBody>
          <a:bodyPr anchor="t">
            <a:normAutofit fontScale="95000"/>
          </a:bodyPr>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Females do 85 to 90 percent of the pride's hunting, while the males patrol the territory and protect the pride, for which they take the "lion's (major)share" of the females' prey. The males eat first.</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Lions are the laziest of the big cats. They usually spend 16 to 20 hours a day sleeping and resting, devoting the remaining hours to hunting, courting or protecting their territory.</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030a0"/>
                </a:solidFill>
                <a:latin typeface="Calibri"/>
              </a:rPr>
              <a:t>Lions are also called “Nocturnal” animals, this means sleeping during day-time &amp; working in night.</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They spend an average of two hours a day walking and 50 minutes eating.</a:t>
            </a:r>
            <a:endParaRPr b="0" lang="en-US" sz="2300" spc="-1" strike="noStrike">
              <a:solidFill>
                <a:srgbClr val="000000"/>
              </a:solidFill>
              <a:latin typeface="Calibri"/>
            </a:endParaRPr>
          </a:p>
          <a:p>
            <a:pPr marL="325800" indent="-325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62" name="Picture 3" descr=""/>
          <p:cNvPicPr/>
          <p:nvPr/>
        </p:nvPicPr>
        <p:blipFill>
          <a:blip r:embed="rId1"/>
          <a:stretch/>
        </p:blipFill>
        <p:spPr>
          <a:xfrm>
            <a:off x="179280" y="1989000"/>
            <a:ext cx="2737080" cy="2592360"/>
          </a:xfrm>
          <a:prstGeom prst="rect">
            <a:avLst/>
          </a:prstGeom>
          <a:ln w="0">
            <a:noFill/>
          </a:ln>
        </p:spPr>
      </p:pic>
      <p:sp>
        <p:nvSpPr>
          <p:cNvPr id="63"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me Cool Facts </a:t>
            </a:r>
            <a:endParaRPr b="0" lang="en-US" sz="4400" spc="-1" strike="noStrike">
              <a:solidFill>
                <a:srgbClr val="000000"/>
              </a:solidFill>
              <a:latin typeface="Calibri"/>
            </a:endParaRPr>
          </a:p>
        </p:txBody>
      </p:sp>
      <p:sp>
        <p:nvSpPr>
          <p:cNvPr id="65" name=""/>
          <p:cNvSpPr txBox="1"/>
          <p:nvPr/>
        </p:nvSpPr>
        <p:spPr>
          <a:xfrm>
            <a:off x="2714760" y="884160"/>
            <a:ext cx="6394320" cy="4525920"/>
          </a:xfrm>
          <a:prstGeom prst="rect">
            <a:avLst/>
          </a:prstGeom>
          <a:noFill/>
          <a:ln w="0">
            <a:noFill/>
          </a:ln>
        </p:spPr>
        <p:txBody>
          <a:bodyPr anchor="t">
            <a:normAutofit fontScale="88000"/>
          </a:bodyPr>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Lions make many gestures towards each other .Rubbing head, face and neck against another lion—seems to be a form of greeting.</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Most lions drink water daily if available, but can go four or five days without it. Lions in arid areas seem to obtain needed moisture from the stomach contents of their pre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The lion’s worst enemy – it is a surprise, it is a porcupine.</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A lion can't actually roar until it's 2 years old </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When adult, a lion’s roar can be heard from as far as 5 miles awa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A lion is the only one having a tassel on the tail.</a:t>
            </a:r>
            <a:r>
              <a:rPr b="0" lang="en-IN" sz="2200" spc="-1" strike="noStrike">
                <a:solidFill>
                  <a:srgbClr val="7030a0"/>
                </a:solidFill>
                <a:latin typeface="Calibri"/>
              </a:rPr>
              <a:t> It's often used to signal to other members of the pride, with messages like, "this wa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6" name="Picture 2" descr=""/>
          <p:cNvPicPr/>
          <p:nvPr/>
        </p:nvPicPr>
        <p:blipFill>
          <a:blip r:embed="rId1"/>
          <a:stretch/>
        </p:blipFill>
        <p:spPr>
          <a:xfrm>
            <a:off x="0" y="1197000"/>
            <a:ext cx="2714760" cy="2868480"/>
          </a:xfrm>
          <a:prstGeom prst="rect">
            <a:avLst/>
          </a:prstGeom>
          <a:ln w="0">
            <a:noFill/>
          </a:ln>
        </p:spPr>
      </p:pic>
      <p:pic>
        <p:nvPicPr>
          <p:cNvPr id="67" name="Picture 3" descr=""/>
          <p:cNvPicPr/>
          <p:nvPr/>
        </p:nvPicPr>
        <p:blipFill>
          <a:blip r:embed="rId2"/>
          <a:stretch/>
        </p:blipFill>
        <p:spPr>
          <a:xfrm>
            <a:off x="241200" y="4581360"/>
            <a:ext cx="2232000" cy="1584360"/>
          </a:xfrm>
          <a:prstGeom prst="rect">
            <a:avLst/>
          </a:prstGeom>
          <a:ln w="0">
            <a:noFill/>
          </a:ln>
        </p:spPr>
      </p:pic>
      <p:sp>
        <p:nvSpPr>
          <p:cNvPr id="68"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me not-so-cool Facts </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Lions don’t have much  stamina, thus, they only run fast in short bursts.</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A lion can run for short distances at 50 miles per hour and can leap as far as 36 feet.</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A lion’s heels don’t touch the ground when it walks</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When males take over a new pride, they usually kill the cubs</a:t>
            </a:r>
            <a:endParaRPr b="0" lang="en-US" sz="3200" spc="-1" strike="noStrike">
              <a:solidFill>
                <a:srgbClr val="000000"/>
              </a:solidFill>
              <a:latin typeface="Calibri"/>
            </a:endParaRPr>
          </a:p>
        </p:txBody>
      </p:sp>
      <p:sp>
        <p:nvSpPr>
          <p:cNvPr id="71"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12:48Z</dcterms:modified>
  <cp:revision>25</cp:revision>
  <dc:subject/>
  <dc:title>Polar Bear</dc:title>
</cp:coreProperties>
</file>