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26AA-4F8C-40D6-B8FB-A25F1398EC6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7C7-A596-4664-8B9B-DDD9A030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1A2-536C-4CC0-A718-D6D3C571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DFD-A853-4322-BB59-25A629DD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D6A-6A23-40E5-A328-2994B8B8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6F9-A9BF-411C-A00E-31DF73AB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0D0-BEEA-49C0-B292-09459796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227-FB5E-40D6-A220-54A6A373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1B7-7698-41CD-849B-D526A7E1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7BD-669E-410E-8BAE-111C451E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773-B36E-47FB-99EB-14F124A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612-360D-4BDB-A6F4-263A14DB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E86-3F87-4893-8A49-4C7E0BA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64ED-F8F7-4A02-B500-F5F5E4B885CB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CE8-65FD-4B8B-8779-C394FF1B80E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7000" y="1268280"/>
            <a:ext cx="911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A Glow Worm (Fire Fly) glows to attract small insect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The glow worms construct snares made from silk threads and sticky droplets to capture the insects attracted to their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re Larv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d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56868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2000" y="1773360"/>
            <a:ext cx="4167000" cy="403200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4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3:00:33Z</dcterms:created>
  <dc:creator>Sumitomo</dc:creator>
  <dc:description/>
  <dc:language>en-US</dc:language>
  <cp:lastModifiedBy>LEGION</cp:lastModifiedBy>
  <dcterms:modified xsi:type="dcterms:W3CDTF">2018-03-12T08:06:04Z</dcterms:modified>
  <cp:revision>6</cp:revision>
  <dc:subject/>
  <dc:title>Glow Worms   Fire Flies</dc:title>
</cp:coreProperties>
</file>