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1225-AA22-464F-9514-FAF5D73117A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 Worm (Fire Fly) glows to attract small insect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worms construct snares made from silk threads and sticky droplets to capture the insects attracted to their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Habi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 Worm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593-7ACE-4DEE-B056-A7B19997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212-A86C-43F5-8BC5-905D24B3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E727-1608-4C3F-BD43-AC62B765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808-4C73-482B-BB8D-B11E4393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957-23B1-4FDC-9DFF-B7D0274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FA4-E809-411B-B0D6-A0DBF875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2B9-AE11-4179-9116-47BA1902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0FF-E25A-49C8-8A14-F89A7E6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B10-89C3-4FF3-8153-1DE7292E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457-7C43-4C54-AD59-F07AE5F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525-7BBC-4E5E-812D-8DB19EB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5E3-379A-4EDA-B572-364CDADE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4675-C029-4BB8-9FA5-83FAF1AF1493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3D4-3B88-45AB-BBB4-AA19449F509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7000" y="1268280"/>
            <a:ext cx="9117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A Glow Worm (Fire Fly) glows to attract small insect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00"/>
                </a:solidFill>
                <a:latin typeface="Calibri"/>
                <a:ea typeface="Arial"/>
              </a:rPr>
              <a:t>The glow worms construct snares made from silk threads and sticky droplets to capture the insects attracted to their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re Larv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re larvae (immature stage) of a small f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rvae stage is only stage in their life cycle when they can g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600360" cy="4105080"/>
          </a:xfrm>
          <a:prstGeom prst="rect">
            <a:avLst/>
          </a:prstGeom>
          <a:ln w="0">
            <a:noFill/>
          </a:ln>
        </p:spPr>
      </p:pic>
      <p:sp>
        <p:nvSpPr>
          <p:cNvPr id="5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Ad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adults are delicate &amp; don’t have mouth-parts &amp; only live for small no. of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male adults live for two days &amp; males only for 6 d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568680" cy="4319640"/>
          </a:xfrm>
          <a:prstGeom prst="rect">
            <a:avLst/>
          </a:prstGeom>
          <a:ln w="0">
            <a:noFill/>
          </a:ln>
        </p:spPr>
      </p:pic>
      <p:sp>
        <p:nvSpPr>
          <p:cNvPr id="5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dults can’t feed itself ,so glow-worms must gain enough strength at larval stage to spend adult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larvae are believed to live for approximately one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62000" y="1773360"/>
            <a:ext cx="4167000" cy="403200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produced by it is 99% light &amp; 1% h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emicals needed to generate light are all produced within glow-worm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24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s Habi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w worms require permanently ,moist habitat for their surviva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they are dependent on rain forests &amp; wet ca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low Worm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0000" y="160020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wish I was a glow-wor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low-worm is never g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ause how can you be grump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sun shines out of your b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35100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23:00:33Z</dcterms:created>
  <dc:creator>Sumitomo</dc:creator>
  <dc:description/>
  <dc:language>en-US</dc:language>
  <cp:lastModifiedBy>LEGION</cp:lastModifiedBy>
  <dcterms:modified xsi:type="dcterms:W3CDTF">2018-03-12T08:06:04Z</dcterms:modified>
  <cp:revision>6</cp:revision>
  <dc:subject/>
  <dc:title>Glow Worms   Fire Flies</dc:title>
</cp:coreProperties>
</file>