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97B7-170B-42F5-9F0A-1193714CF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7D9-1744-4827-BC9C-9B32EED7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68C-AD95-40E7-AAD1-2A271DC0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147-AEE7-468D-91C3-E6AE989D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2F7-22AF-4D41-B053-53114E56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FFF4-6596-41E1-A095-022728A9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E33C-2E41-4E8E-9941-9820DAC9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C32F-39A5-4DBD-8897-06D11A01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C4CA-545B-4C51-AC8B-2512A30A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5AD4-7EA6-4130-98B2-5E6C413A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0948-EBE0-49DE-A00A-3E5E7AF4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FF77-4AD0-4C4E-90C4-C4887267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451-2950-4F7B-9666-D0B6D9D4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1866-B230-428C-92B0-13BCCFB0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65C1-86D6-4A23-8253-540614AA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2F5E-7412-4A20-BB5E-47D9C843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98D1-A13E-4010-8C3A-21AF048F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B161-8B23-41AE-9762-64C74E6F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FDA01-1A91-46F0-B797-1250404E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E6283-11F8-4EF0-8E25-B689DEE9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17C85-AAA1-41E2-AD40-BAA5FC50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CF820-C870-4CAA-9323-787AFF1E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F2179-D57D-45D0-A0D3-07223E4F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0E5-5583-49DA-8867-EB625096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5A0CE-1F7D-445B-A4FB-03B9B0D8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E12F9-F2CE-4B01-942D-F7B90014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B8A7-D909-4D90-8584-BD32C737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F8847-C102-4960-B637-0C94ECA7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E7F6C-3512-469F-85C7-D992BBF0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2279A-5886-4040-82EE-0F138403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7CEE-E7BF-4BEC-9E6C-4D171BD8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CC61F-5B74-4D7B-A8D9-26C5285C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3FD5E-CEC3-4905-88B9-0A1C4618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5B4DA-F66A-4A52-B292-8ADAE6DB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6F6-E511-45B8-B372-2DFA2415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96F48-25D6-4D25-A86B-FAB8E35B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D2ED0-0402-4F2E-A632-D2B10B4D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E710A-DF23-4B42-8E9D-899A33E4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822F6-E33B-48D5-8C67-AA478E2E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3A136-7A69-49B5-8481-875BF920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FEFE1-8C62-496C-BD59-ACF62D14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6809A-F5E1-41C3-ACF3-B6A15535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6738C-1A01-464D-B70A-EDD0AB8B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AD3C1-C027-4E9D-ACB9-6EB34BF2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A62-EF4B-4BED-967D-6B22628A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F1B-AF9A-455B-89A2-590CBC90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327-E10C-46CE-ADDA-B3A829B0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F9C-878B-4AE4-AF39-ED366CD6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4A3-DA4A-4B2A-89BA-F8D0E9A3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5FBB-C3EB-4616-AC0A-E195C7E0BE14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4562-E910-42CE-8C18-38AD75C1647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5B52-4080-4363-B7B4-AE38A03920A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4AEE-8636-4568-A94C-E13EDAC3BE0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CDFF-0A26-4C6D-9E5F-4EC464B8682E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791C-FB8E-4F8A-BFD6-08DAFEB6616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C2DC-A351-46E7-8CBE-B7E419E94AAC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44C0-24DA-45F3-B51D-DFC11A74D17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    </a:t>
            </a:r>
            <a:r>
              <a:rPr b="0" lang="en-US" sz="4400" spc="-1" strike="noStrike">
                <a:solidFill>
                  <a:srgbClr val="00ff00"/>
                </a:solidFill>
                <a:latin typeface="Gill Sans Ultra Bold"/>
              </a:rPr>
              <a:t>Introduc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04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Name Eleph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It is an Endangered speci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</a:t>
            </a:r>
            <a:r>
              <a:rPr b="0" lang="en-US" sz="5000" spc="-1" strike="noStrike">
                <a:solidFill>
                  <a:srgbClr val="00ff00"/>
                </a:solidFill>
                <a:latin typeface="Tekton Pro Ext"/>
              </a:rPr>
              <a:t>Physical Adapt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295280"/>
            <a:ext cx="5638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Long trunks help it them eat or take a ba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Sharp tusks help it scare away preda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Big ears can be used to fan itself to bring it’s temperature d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Also it’s ears help  it hear any danger co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http://t1.gstatic.com/images?q=tbn:ANd9GcSnCvpAnYC8ANTUNdgk1y1O5AMfUSFaqgt2rwXHHP4cBKahtcfH0g&amp;t=1"/>
          <p:cNvPicPr/>
          <p:nvPr/>
        </p:nvPicPr>
        <p:blipFill>
          <a:blip r:embed="rId1"/>
          <a:stretch/>
        </p:blipFill>
        <p:spPr>
          <a:xfrm>
            <a:off x="2362320" y="3733920"/>
            <a:ext cx="3809880" cy="287964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Behavioral Adapta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0663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Elephants say hi by hitting their tusks together which helps them live in grou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Fanning itself with it’s big ears keeps the elephant cool on the hot day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Picking food up with it’s trunk and putting it in it’s mouth helps it reach food in difficult to get pla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They use their trunks to spray water on themselves to keep c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ts2.mm.bing.net/images/thumbnail.aspx?q=966427084773&amp;id=a7f73abd01bcf63bde5ff66ea6a04992&amp;url=http%3a%2f%2fwww.flixya.com%2ffiles-photo%2fj%2fi%2fb%2fjibsanthony1954216.jpg"/>
          <p:cNvPicPr/>
          <p:nvPr/>
        </p:nvPicPr>
        <p:blipFill>
          <a:blip r:embed="rId1"/>
          <a:stretch/>
        </p:blipFill>
        <p:spPr>
          <a:xfrm>
            <a:off x="685800" y="3429000"/>
            <a:ext cx="2554200" cy="3225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www.elephants.com/tarra/photos/tarrabio2.jpg"/>
          <p:cNvPicPr/>
          <p:nvPr/>
        </p:nvPicPr>
        <p:blipFill>
          <a:blip r:embed="rId2"/>
          <a:stretch/>
        </p:blipFill>
        <p:spPr>
          <a:xfrm>
            <a:off x="4038480" y="3276720"/>
            <a:ext cx="4267440" cy="3328920"/>
          </a:xfrm>
          <a:prstGeom prst="rect">
            <a:avLst/>
          </a:prstGeom>
          <a:ln w="0">
            <a:noFill/>
          </a:ln>
        </p:spPr>
      </p:pic>
      <p:sp>
        <p:nvSpPr>
          <p:cNvPr id="244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0000ff"/>
                </a:solidFill>
                <a:latin typeface="Magneto"/>
              </a:rPr>
              <a:t>Physiological Adapt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are warm blooded and that helps because they can adjust their body temperature so they are not to hot or to cold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have massive bones, this allows them to have a maximum amount of support for their big weigh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The blood vessels in their ears are used as cooling systems because the weather is so ho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An Elephants heartbeat goes 28 beats a minute while the Elephant is resting to help it survive it’s big body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http://afflictor.com/wp-content/uploads/2010/10/800px-Elephant_skeleton.jpg"/>
          <p:cNvPicPr/>
          <p:nvPr/>
        </p:nvPicPr>
        <p:blipFill>
          <a:blip r:embed="rId1"/>
          <a:stretch/>
        </p:blipFill>
        <p:spPr>
          <a:xfrm>
            <a:off x="5538960" y="4267080"/>
            <a:ext cx="3605040" cy="259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www.africansafarilady.com/Movies/movieimages/_MG_4275.jpg"/>
          <p:cNvPicPr/>
          <p:nvPr/>
        </p:nvPicPr>
        <p:blipFill>
          <a:blip r:embed="rId2"/>
          <a:stretch/>
        </p:blipFill>
        <p:spPr>
          <a:xfrm>
            <a:off x="762120" y="4440240"/>
            <a:ext cx="3619440" cy="241776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0" lang="en-US" sz="4500" spc="-1" strike="noStrike">
                <a:solidFill>
                  <a:srgbClr val="00b0f0"/>
                </a:solidFill>
                <a:latin typeface="Showcard Gothic"/>
              </a:rPr>
              <a:t>FUN Fac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love water and are great swimm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big feet help them from sinking into the grou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walk on their tippy toes and they have a sack that supports their foo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are very sm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omic"/>
              </a:rPr>
              <a:t>        </a:t>
            </a:r>
            <a:r>
              <a:rPr b="0" lang="en-US" sz="4000" spc="-1" strike="noStrike">
                <a:solidFill>
                  <a:srgbClr val="00ff00"/>
                </a:solidFill>
                <a:latin typeface="comic"/>
              </a:rPr>
              <a:t>What They Look Lik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560" y="1142640"/>
            <a:ext cx="2514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ong Trunk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y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10,000 Pou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u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ittle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oe Na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5400" spc="-1" strike="noStrike">
                <a:solidFill>
                  <a:srgbClr val="00ff00"/>
                </a:solidFill>
                <a:latin typeface="Bauhaus 93"/>
              </a:rPr>
              <a:t>Lifespan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sian Elephants can live to be 8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frican Elephants can live to be 6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Elephants are endange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http://photography.nationalgeographic.com/staticfiles/NGS/Shared/StaticFiles/Photography/Images/POD/b/baby-elephant-504777-lw.jpg"/>
          <p:cNvPicPr/>
          <p:nvPr/>
        </p:nvPicPr>
        <p:blipFill>
          <a:blip r:embed="rId1"/>
          <a:stretch/>
        </p:blipFill>
        <p:spPr>
          <a:xfrm>
            <a:off x="457200" y="3429000"/>
            <a:ext cx="3759120" cy="2819520"/>
          </a:xfrm>
          <a:prstGeom prst="rect">
            <a:avLst/>
          </a:prstGeom>
          <a:ln w="0">
            <a:noFill/>
          </a:ln>
        </p:spPr>
      </p:pic>
      <p:sp>
        <p:nvSpPr>
          <p:cNvPr id="21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en-US" sz="2900" spc="-1" strike="noStrike">
                <a:solidFill>
                  <a:srgbClr val="04617b"/>
                </a:solidFill>
                <a:latin typeface="Wide Latin"/>
              </a:rPr>
              <a:t> </a:t>
            </a:r>
            <a:r>
              <a:rPr b="0" lang="en-US" sz="5400" spc="-1" strike="noStrike">
                <a:solidFill>
                  <a:srgbClr val="00ff00"/>
                </a:solidFill>
                <a:latin typeface="Wide Latin"/>
              </a:rPr>
              <a:t>Habitat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Asian and African Elephants Habitat are Forests, Woodlands, Grassy Plains, Swamps, and Deser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http://upload.wikimedia.org/wikipedia/commons/4/4b/Mudumalai_forest_elephant.jpg"/>
          <p:cNvPicPr/>
          <p:nvPr/>
        </p:nvPicPr>
        <p:blipFill>
          <a:blip r:embed="rId1"/>
          <a:stretch/>
        </p:blipFill>
        <p:spPr>
          <a:xfrm>
            <a:off x="1752480" y="2209680"/>
            <a:ext cx="5740560" cy="4305600"/>
          </a:xfrm>
          <a:prstGeom prst="rect">
            <a:avLst/>
          </a:prstGeom>
          <a:ln w="0">
            <a:noFill/>
          </a:ln>
        </p:spPr>
      </p:pic>
      <p:sp>
        <p:nvSpPr>
          <p:cNvPr id="21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00ff00"/>
                </a:solidFill>
                <a:latin typeface="Goudy Stout"/>
              </a:rPr>
              <a:t>Clima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frican Elephants Climate is in the Desert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it is hot and dry and it rarely 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sian Elephants climate is also hot and d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http://elephantivoryproject.org/wp-content/uploads/2010/10/RangeMap_elephant_550x400.jpg"/>
          <p:cNvPicPr/>
          <p:nvPr/>
        </p:nvPicPr>
        <p:blipFill>
          <a:blip r:embed="rId1"/>
          <a:stretch/>
        </p:blipFill>
        <p:spPr>
          <a:xfrm>
            <a:off x="4876920" y="3581280"/>
            <a:ext cx="4111560" cy="2990880"/>
          </a:xfrm>
          <a:prstGeom prst="rect">
            <a:avLst/>
          </a:prstGeom>
          <a:ln w="0">
            <a:noFill/>
          </a:ln>
        </p:spPr>
      </p:pic>
      <p:sp>
        <p:nvSpPr>
          <p:cNvPr id="21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6600" spc="-1" strike="noStrike">
                <a:solidFill>
                  <a:srgbClr val="ff0000"/>
                </a:solidFill>
                <a:latin typeface="Mesquite Std"/>
              </a:rPr>
              <a:t>Landform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onstantia"/>
              </a:rPr>
              <a:t>The landforms near Elephants are Rivers, Grasslands, and Dese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http://www.thehoneymoonproject.com/wp-content/uploads/2010/01/elephant-2.jpg"/>
          <p:cNvPicPr/>
          <p:nvPr/>
        </p:nvPicPr>
        <p:blipFill>
          <a:blip r:embed="rId1"/>
          <a:stretch/>
        </p:blipFill>
        <p:spPr>
          <a:xfrm>
            <a:off x="2666880" y="25146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23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aaf2"/>
                </a:solidFill>
                <a:latin typeface="Calibri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MV Boli"/>
                <a:ea typeface="MV Boli"/>
              </a:rPr>
              <a:t>What They Ea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990720"/>
            <a:ext cx="868680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re hebavo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ood is mostly leaves and bush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Zoo Elephants eat 660 pounds of veggies a 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African and Asian Elephants eat roots, grass, fruit, and bark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eed themselves by sucking up food in there trunks and putting it in there mou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lso love peanu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http://4.bp.blogspot.com/_TUmrEJJqV_Q/SdVjVZdnu8I/AAAAAAAALOA/a5cBgdzwl28/s400/Mother+Elephant+Eating+Grass.jpg"/>
          <p:cNvPicPr/>
          <p:nvPr/>
        </p:nvPicPr>
        <p:blipFill>
          <a:blip r:embed="rId1"/>
          <a:stretch/>
        </p:blipFill>
        <p:spPr>
          <a:xfrm>
            <a:off x="4876920" y="2895480"/>
            <a:ext cx="3581280" cy="32148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0" lang="en-US" sz="5000" spc="-1" strike="noStrike">
                <a:solidFill>
                  <a:srgbClr val="00b0f0"/>
                </a:solidFill>
                <a:latin typeface="Snap ITC"/>
              </a:rPr>
              <a:t>Behavi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160" y="1218960"/>
            <a:ext cx="7467480" cy="28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Elephants stay in groups called “Herds” that helps them defend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social behavior is that a male and female are very differ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female spend there lives in a family of Daughters, Sisters, Mothers, Aun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When the group gets too big the older daughters will break off and form a new grou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males fight each other to determine who is the lea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o keep cool they suck up water in their trunk and spray it on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y are not territorial…they travel a lot to find foo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http://www.africaguide.com/photolibrary/images/uploads/30/stand_1222870036.jpg"/>
          <p:cNvPicPr/>
          <p:nvPr/>
        </p:nvPicPr>
        <p:blipFill>
          <a:blip r:embed="rId1"/>
          <a:stretch/>
        </p:blipFill>
        <p:spPr>
          <a:xfrm>
            <a:off x="4800600" y="4038480"/>
            <a:ext cx="3451320" cy="24386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         </a:t>
            </a: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Babie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The babies are called “Calve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15 minutes after the baby is born it st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At birth the Elephant weighs about 200 pounds and stands 3 feet t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http://bilia.files.wordpress.com/2009/08/baby-elephant-2.jpg"/>
          <p:cNvPicPr/>
          <p:nvPr/>
        </p:nvPicPr>
        <p:blipFill>
          <a:blip r:embed="rId1"/>
          <a:stretch/>
        </p:blipFill>
        <p:spPr>
          <a:xfrm>
            <a:off x="0" y="3733920"/>
            <a:ext cx="3619440" cy="2412720"/>
          </a:xfrm>
          <a:prstGeom prst="rect">
            <a:avLst/>
          </a:prstGeom>
          <a:ln w="0">
            <a:noFill/>
          </a:ln>
        </p:spPr>
      </p:pic>
      <p:sp>
        <p:nvSpPr>
          <p:cNvPr id="23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5:56:08Z</dcterms:created>
  <dc:creator>coupe</dc:creator>
  <dc:description/>
  <dc:language>en-US</dc:language>
  <cp:lastModifiedBy>LEGION</cp:lastModifiedBy>
  <dcterms:modified xsi:type="dcterms:W3CDTF">2018-03-12T08:00:55Z</dcterms:modified>
  <cp:revision>109</cp:revision>
  <dc:subject/>
  <dc:title>Neil Armstrong</dc:title>
</cp:coreProperties>
</file>