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382B-0FEA-4A18-B850-C5AC7CACD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3E1-EE59-4F3C-8382-B2CE1BE6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011-2343-4A8E-B8DB-BC121E06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473-6A66-4425-BF87-9237FA85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4C9-D27B-408A-BBF1-E0027B5C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B289-4867-480C-A205-8BB8AEB0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8783-4C7D-44C4-B0B2-B06E6290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19A3-C11C-4C1A-A6A2-DC75EC48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2D50-13D9-41FE-A058-C4BD5A38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BDF7-F00D-4D26-BBD2-543BE036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115E-6E35-4E42-B996-6708C1F8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FC96-752D-49FC-B9D8-80F8E245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047-1B2F-405C-A943-05C76D19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D642-7075-4522-94E1-4C63605C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4DA4-0ECD-4BD5-9190-4B3B963C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FEA0-FC64-4D7E-8E72-5C818A3C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A6B5-41A6-4B30-88EE-E1F665CF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F9BC-333A-469B-83B6-B0366B75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3EC3-E7D3-4D0B-99A6-C56C0DE7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5F9D8-F3BF-4035-A0C4-6E6A796D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D5C18-B3A7-4658-BC92-8EA054C9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F0552-75DA-465A-AB39-0A2AAA2A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D9E2F-CC0D-425A-AFC6-EB2AC05A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2B9-2E2F-4D9B-83BE-55E795EB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4A6F-B22C-411F-8262-F5F72542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D6C01-E2C2-417C-BFD1-8DEA19A9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4A1A-3380-4049-93D9-88DD6416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A9989-1C60-4390-95FA-1BA724C2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AE1E1-E204-4F2A-BC81-2922462E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FA501-259D-45D7-8EB5-873A357B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E36FA-6E58-45AF-B49D-86226A39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5BDED-4411-453C-852C-6832084C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0D143-D299-4E8D-8746-FA932DC6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AF672-5CCB-4F37-A72C-6F2F81D6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95A-AE39-49D1-A567-1B984D0B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80BEF-3403-4A0D-A2F0-CC511F10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F3055-D5A7-43D2-A312-39BA707C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0DDFD-D18C-4CFE-AE49-A0D1D51D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11F39-515D-41AC-9491-3EF54550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46FE3-2027-47BC-887B-6C0C6EDE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C1CF6-0222-4B06-A3FF-18C8F3DB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83A15-A232-4E85-A5F1-892C2213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20DAA-B11F-4E45-AD19-2643C6EC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17853-9C8E-4A84-87D1-F8C945AB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14A-F233-4AAE-87FC-88BA9181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411-5A73-47D6-B73D-738D0C38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6203-F83E-47EF-8AA3-9299828C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100-0DF4-4411-A7A5-74295E8F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8D8-3E6A-4FE6-A1A9-7FC2E04B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8BBD-F945-40C7-BCB6-BDBD529FF98C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A27E-75D3-4DA0-9BD5-207BAFE1153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0110-2A77-4E18-852F-9F919AB5FEF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0EF0-6F15-4703-B515-53150547CC4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4D5E-DDEF-467D-87E3-DE6A9395DDB0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D859-730B-40EC-BD95-AD185FCD031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B7E8-7F70-49A2-90DE-E35CD9424924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EB40-9133-4326-960C-2DAECD87338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    </a:t>
            </a:r>
            <a:r>
              <a:rPr b="0" lang="en-US" sz="4400" spc="-1" strike="noStrike">
                <a:solidFill>
                  <a:srgbClr val="00ff00"/>
                </a:solidFill>
                <a:latin typeface="Gill Sans Ultra Bold"/>
              </a:rPr>
              <a:t>Introduc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04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Name Eleph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It is an Endangered speci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</a:t>
            </a:r>
            <a:r>
              <a:rPr b="0" lang="en-US" sz="5000" spc="-1" strike="noStrike">
                <a:solidFill>
                  <a:srgbClr val="00ff00"/>
                </a:solidFill>
                <a:latin typeface="Tekton Pro Ext"/>
              </a:rPr>
              <a:t>Physical Adapt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295280"/>
            <a:ext cx="5638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Long trunks help it them eat or take a ba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Sharp tusks help it scare away preda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Big ears can be used to fan itself to bring it’s temperature d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Also it’s ears help  it hear any danger co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http://t1.gstatic.com/images?q=tbn:ANd9GcSnCvpAnYC8ANTUNdgk1y1O5AMfUSFaqgt2rwXHHP4cBKahtcfH0g&amp;t=1"/>
          <p:cNvPicPr/>
          <p:nvPr/>
        </p:nvPicPr>
        <p:blipFill>
          <a:blip r:embed="rId1"/>
          <a:stretch/>
        </p:blipFill>
        <p:spPr>
          <a:xfrm>
            <a:off x="2362320" y="3733920"/>
            <a:ext cx="3809880" cy="287964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Behavioral Adapta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0663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Elephants say hi by hitting their tusks together which helps them live in grou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Fanning itself with it’s big ears keeps the elephant cool on the hot day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Picking food up with it’s trunk and putting it in it’s mouth helps it reach food in difficult to get pla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They use their trunks to spray water on themselves to keep c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ts2.mm.bing.net/images/thumbnail.aspx?q=966427084773&amp;id=a7f73abd01bcf63bde5ff66ea6a04992&amp;url=http%3a%2f%2fwww.flixya.com%2ffiles-photo%2fj%2fi%2fb%2fjibsanthony1954216.jpg"/>
          <p:cNvPicPr/>
          <p:nvPr/>
        </p:nvPicPr>
        <p:blipFill>
          <a:blip r:embed="rId1"/>
          <a:stretch/>
        </p:blipFill>
        <p:spPr>
          <a:xfrm>
            <a:off x="685800" y="3429000"/>
            <a:ext cx="2554200" cy="3225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www.elephants.com/tarra/photos/tarrabio2.jpg"/>
          <p:cNvPicPr/>
          <p:nvPr/>
        </p:nvPicPr>
        <p:blipFill>
          <a:blip r:embed="rId2"/>
          <a:stretch/>
        </p:blipFill>
        <p:spPr>
          <a:xfrm>
            <a:off x="4038480" y="3276720"/>
            <a:ext cx="4267440" cy="3328920"/>
          </a:xfrm>
          <a:prstGeom prst="rect">
            <a:avLst/>
          </a:prstGeom>
          <a:ln w="0">
            <a:noFill/>
          </a:ln>
        </p:spPr>
      </p:pic>
      <p:sp>
        <p:nvSpPr>
          <p:cNvPr id="244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0000ff"/>
                </a:solidFill>
                <a:latin typeface="Magneto"/>
              </a:rPr>
              <a:t>Physiological Adapt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are warm blooded and that helps because they can adjust their body temperature so they are not to hot or to cold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have massive bones, this allows them to have a maximum amount of support for their big weigh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The blood vessels in their ears are used as cooling systems because the weather is so ho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An Elephants heartbeat goes 28 beats a minute while the Elephant is resting to help it survive it’s big body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http://afflictor.com/wp-content/uploads/2010/10/800px-Elephant_skeleton.jpg"/>
          <p:cNvPicPr/>
          <p:nvPr/>
        </p:nvPicPr>
        <p:blipFill>
          <a:blip r:embed="rId1"/>
          <a:stretch/>
        </p:blipFill>
        <p:spPr>
          <a:xfrm>
            <a:off x="5538960" y="4267080"/>
            <a:ext cx="3605040" cy="259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www.africansafarilady.com/Movies/movieimages/_MG_4275.jpg"/>
          <p:cNvPicPr/>
          <p:nvPr/>
        </p:nvPicPr>
        <p:blipFill>
          <a:blip r:embed="rId2"/>
          <a:stretch/>
        </p:blipFill>
        <p:spPr>
          <a:xfrm>
            <a:off x="762120" y="4440240"/>
            <a:ext cx="3619440" cy="241776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0" lang="en-US" sz="4500" spc="-1" strike="noStrike">
                <a:solidFill>
                  <a:srgbClr val="00b0f0"/>
                </a:solidFill>
                <a:latin typeface="Showcard Gothic"/>
              </a:rPr>
              <a:t>FUN Fac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love water and are great swimm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big feet help them from sinking into the grou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walk on their tippy toes and they have a sack that supports their foo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are very sm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omic"/>
              </a:rPr>
              <a:t>        </a:t>
            </a:r>
            <a:r>
              <a:rPr b="0" lang="en-US" sz="4000" spc="-1" strike="noStrike">
                <a:solidFill>
                  <a:srgbClr val="00ff00"/>
                </a:solidFill>
                <a:latin typeface="comic"/>
              </a:rPr>
              <a:t>What They Look Lik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560" y="1142640"/>
            <a:ext cx="2514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ong Trunk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y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10,000 Pou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u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ittle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oe Na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5400" spc="-1" strike="noStrike">
                <a:solidFill>
                  <a:srgbClr val="00ff00"/>
                </a:solidFill>
                <a:latin typeface="Bauhaus 93"/>
              </a:rPr>
              <a:t>Lifespan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sian Elephants can live to be 8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frican Elephants can live to be 6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Elephants are endange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http://photography.nationalgeographic.com/staticfiles/NGS/Shared/StaticFiles/Photography/Images/POD/b/baby-elephant-504777-lw.jpg"/>
          <p:cNvPicPr/>
          <p:nvPr/>
        </p:nvPicPr>
        <p:blipFill>
          <a:blip r:embed="rId1"/>
          <a:stretch/>
        </p:blipFill>
        <p:spPr>
          <a:xfrm>
            <a:off x="457200" y="3429000"/>
            <a:ext cx="3759120" cy="2819520"/>
          </a:xfrm>
          <a:prstGeom prst="rect">
            <a:avLst/>
          </a:prstGeom>
          <a:ln w="0">
            <a:noFill/>
          </a:ln>
        </p:spPr>
      </p:pic>
      <p:sp>
        <p:nvSpPr>
          <p:cNvPr id="21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en-US" sz="2900" spc="-1" strike="noStrike">
                <a:solidFill>
                  <a:srgbClr val="04617b"/>
                </a:solidFill>
                <a:latin typeface="Wide Latin"/>
              </a:rPr>
              <a:t> </a:t>
            </a:r>
            <a:r>
              <a:rPr b="0" lang="en-US" sz="5400" spc="-1" strike="noStrike">
                <a:solidFill>
                  <a:srgbClr val="00ff00"/>
                </a:solidFill>
                <a:latin typeface="Wide Latin"/>
              </a:rPr>
              <a:t>Habitat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Asian and African Elephants Habitat are Forests, Woodlands, Grassy Plains, Swamps, and Deser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http://upload.wikimedia.org/wikipedia/commons/4/4b/Mudumalai_forest_elephant.jpg"/>
          <p:cNvPicPr/>
          <p:nvPr/>
        </p:nvPicPr>
        <p:blipFill>
          <a:blip r:embed="rId1"/>
          <a:stretch/>
        </p:blipFill>
        <p:spPr>
          <a:xfrm>
            <a:off x="1752480" y="2209680"/>
            <a:ext cx="5740560" cy="4305600"/>
          </a:xfrm>
          <a:prstGeom prst="rect">
            <a:avLst/>
          </a:prstGeom>
          <a:ln w="0">
            <a:noFill/>
          </a:ln>
        </p:spPr>
      </p:pic>
      <p:sp>
        <p:nvSpPr>
          <p:cNvPr id="21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00ff00"/>
                </a:solidFill>
                <a:latin typeface="Goudy Stout"/>
              </a:rPr>
              <a:t>Clima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frican Elephants Climate is in the Desert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it is hot and dry and it rarely 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sian Elephants climate is also hot and d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http://elephantivoryproject.org/wp-content/uploads/2010/10/RangeMap_elephant_550x400.jpg"/>
          <p:cNvPicPr/>
          <p:nvPr/>
        </p:nvPicPr>
        <p:blipFill>
          <a:blip r:embed="rId1"/>
          <a:stretch/>
        </p:blipFill>
        <p:spPr>
          <a:xfrm>
            <a:off x="4876920" y="3581280"/>
            <a:ext cx="4111560" cy="2990880"/>
          </a:xfrm>
          <a:prstGeom prst="rect">
            <a:avLst/>
          </a:prstGeom>
          <a:ln w="0">
            <a:noFill/>
          </a:ln>
        </p:spPr>
      </p:pic>
      <p:sp>
        <p:nvSpPr>
          <p:cNvPr id="21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6600" spc="-1" strike="noStrike">
                <a:solidFill>
                  <a:srgbClr val="ff0000"/>
                </a:solidFill>
                <a:latin typeface="Mesquite Std"/>
              </a:rPr>
              <a:t>Landform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onstantia"/>
              </a:rPr>
              <a:t>The landforms near Elephants are Rivers, Grasslands, and Dese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http://www.thehoneymoonproject.com/wp-content/uploads/2010/01/elephant-2.jpg"/>
          <p:cNvPicPr/>
          <p:nvPr/>
        </p:nvPicPr>
        <p:blipFill>
          <a:blip r:embed="rId1"/>
          <a:stretch/>
        </p:blipFill>
        <p:spPr>
          <a:xfrm>
            <a:off x="2666880" y="25146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23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aaf2"/>
                </a:solidFill>
                <a:latin typeface="Calibri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MV Boli"/>
                <a:ea typeface="MV Boli"/>
              </a:rPr>
              <a:t>What They Ea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990720"/>
            <a:ext cx="868680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re hebavo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ood is mostly leaves and bush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Zoo Elephants eat 660 pounds of veggies a 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African and Asian Elephants eat roots, grass, fruit, and bark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eed themselves by sucking up food in there trunks and putting it in there mou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lso love peanu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http://4.bp.blogspot.com/_TUmrEJJqV_Q/SdVjVZdnu8I/AAAAAAAALOA/a5cBgdzwl28/s400/Mother+Elephant+Eating+Grass.jpg"/>
          <p:cNvPicPr/>
          <p:nvPr/>
        </p:nvPicPr>
        <p:blipFill>
          <a:blip r:embed="rId1"/>
          <a:stretch/>
        </p:blipFill>
        <p:spPr>
          <a:xfrm>
            <a:off x="4876920" y="2895480"/>
            <a:ext cx="3581280" cy="32148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0" lang="en-US" sz="5000" spc="-1" strike="noStrike">
                <a:solidFill>
                  <a:srgbClr val="00b0f0"/>
                </a:solidFill>
                <a:latin typeface="Snap ITC"/>
              </a:rPr>
              <a:t>Behavi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160" y="1218960"/>
            <a:ext cx="7467480" cy="28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Elephants stay in groups called “Herds” that helps them defend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social behavior is that a male and female are very differ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female spend there lives in a family of Daughters, Sisters, Mothers, Aun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When the group gets too big the older daughters will break off and form a new grou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males fight each other to determine who is the lea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o keep cool they suck up water in their trunk and spray it on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y are not territorial…they travel a lot to find foo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http://www.africaguide.com/photolibrary/images/uploads/30/stand_1222870036.jpg"/>
          <p:cNvPicPr/>
          <p:nvPr/>
        </p:nvPicPr>
        <p:blipFill>
          <a:blip r:embed="rId1"/>
          <a:stretch/>
        </p:blipFill>
        <p:spPr>
          <a:xfrm>
            <a:off x="4800600" y="4038480"/>
            <a:ext cx="3451320" cy="24386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         </a:t>
            </a: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Babie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The babies are called “Calve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15 minutes after the baby is born it st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At birth the Elephant weighs about 200 pounds and stands 3 feet t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http://bilia.files.wordpress.com/2009/08/baby-elephant-2.jpg"/>
          <p:cNvPicPr/>
          <p:nvPr/>
        </p:nvPicPr>
        <p:blipFill>
          <a:blip r:embed="rId1"/>
          <a:stretch/>
        </p:blipFill>
        <p:spPr>
          <a:xfrm>
            <a:off x="0" y="3733920"/>
            <a:ext cx="3619440" cy="2412720"/>
          </a:xfrm>
          <a:prstGeom prst="rect">
            <a:avLst/>
          </a:prstGeom>
          <a:ln w="0">
            <a:noFill/>
          </a:ln>
        </p:spPr>
      </p:pic>
      <p:sp>
        <p:nvSpPr>
          <p:cNvPr id="23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5:56:08Z</dcterms:created>
  <dc:creator>coupe</dc:creator>
  <dc:description/>
  <dc:language>en-US</dc:language>
  <cp:lastModifiedBy>LEGION</cp:lastModifiedBy>
  <dcterms:modified xsi:type="dcterms:W3CDTF">2018-03-12T08:00:55Z</dcterms:modified>
  <cp:revision>109</cp:revision>
  <dc:subject/>
  <dc:title>Neil Armstrong</dc:title>
</cp:coreProperties>
</file>