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14CC-C7F2-4D01-B48A-5A17E4724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Eleph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n Endangered spec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Eleph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n Endangered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al Adapt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trunks help it them eat or take a b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rp tusks help it scare away pred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ears can be used to fan itself to bring it’s temperature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it’s ears help  it hear any danger co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Adap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trunks help it them eat or take a b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p tusks help it scare away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ars can be used to fan itself to bring it’s temperature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it’s ears help  it hear any danger co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avioral Adap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say hi by hitting their tusks together which helps them live in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nning itself with it’s big ears keeps the elephant cool on the hot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ing food up with it’s trunk and putting it in it’s mouth helps it reach food in difficult to get 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use their trunks to spray water on themselves to keep c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say hi by hitting their tusks together which helps them live in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nning itself with it’s big ears keeps the elephant cool on the hot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ing food up with it’s trunk and putting it in it’s mouth helps it reach food in difficult to get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use their trunks to spray water on themselves to keep c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ological Adap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re warm blooded and that helps because they can adjust their body temperature so they are not to hot or to c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have massive bones, this allows them to have a maximum amount of support for their big w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lood vessels in their ears are used as cooling systems because the weather is so 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lephants heartbeat goes 28 beats a minute while the Elephant is resting to help it survive it’s big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ologic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re warm blooded and that helps because they can adjust their body temperature so they are not to hot or to c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have massive bones, this allows them to have a maximum amount of support for their big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od vessels in their ears are used as cooling systems because the weather is so 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phants heartbeat goes 28 beats a minute while the Elephant is resting to help it survive it’s big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love water and are great swim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big feet help them from sinking into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walk on their tippy toes and they have a sack that supports their foo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re very sm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love water and are great swim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big feet help them from sinking into th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walk on their tippy toes and they have a sack that supports their fo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re very s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Look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Trunks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E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,000 P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Tus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tle 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Toe Na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y Look 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Trunks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,000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Tu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Toe N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sp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ian Elephants can live to be 80 years 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rican Elephants can live to be 60 years 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re endange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s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ian Elephants can live to be 80 years 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Elephants can live to be 60 years 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re endang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sian and African Elephants Habitat are Forests, Woodlands, Grassy Plains, Swamps, and Dese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sian and African Elephants Habitat are Forests, Woodlands, Grassy Plains, Swamps, and Des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frican Elephants Climate is in the Deser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hot and dry and it rarely 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sian Elephants climate is also hot and d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frican Elephants Climate is in the Deser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hot and dry and it rarely 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sian Elephants climate is also hot and d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ndforms near Elephants are Rivers, Grasslands, and Dese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forms near Elephants are Rivers, Grasslands, and 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re hebav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food is mostly leaves and bu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oo Elephants eat 660 pounds of veggies a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rican and Asian Elephants eat roots, grass, fruit, and bar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feed themselves by sucking up food in there trunks and putting it in there mou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lso love peanu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y 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re hebav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food is mostly leaves and bu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oo Elephants eat 660 pounds of veggies a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and Asian Elephants eat roots, grass, fruit, and ba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feed themselves by sucking up food in there trunks and putting it in there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lso love pean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av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stay in groups called “Herds” that helps them defend themse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cial behavior is that a male and female are very differ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emale spend there lives in a family of Daughters, Sisters, Mothers, Au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group gets too big the older daughters will break off and form a new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les fight each other to determine who is the l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cool they suck up water in their trunk and spray it on themse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not territorial…they travel a lot to find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stay in groups called “Herds” that helps them defend themse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cial behavior is that a male and female are very diffe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male spend there lives in a family of Daughters, Sisters, Mothers, A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group gets too big the older daughters will break off and form a new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les fight each other to determine who is the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cool they suck up water in their trunk and spray it on themse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not territorial…they travel a lot to fin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b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bies are called “Calve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minutes after the baby is born it st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birth the Elephant weighs about 200 pounds and stands 3 feet t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bies are called “Calv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inutes after the baby is born it st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birth the Elephant weighs about 200 pounds and stands 3 feet 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4B48-2309-4C62-A05B-B50FFDF5D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3026-C56A-4722-B154-51455180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1A3D-A8EA-42E2-850B-8EB614B0A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6165-E7CE-4EDD-9C95-33789338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D3BD-927B-40BA-A081-927071460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E1DA-DFC3-4E00-BB09-F96BF3AD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35BD-5F2B-455A-9D5F-4C058C9D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043A-7A75-4E33-8369-10B68BF1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A468-F36A-4119-8367-0D02FD3C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829F-59F5-47DA-A2DB-E46F8CCC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1DAD-FB5F-4D5A-B1DA-6C674863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8C5A-4077-4868-8C15-6073569D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3DC8-621D-4809-A902-24B6F84B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F55E-F554-400D-B748-D9ABC81B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E492-7624-4714-A1BE-CAA510B3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205A-8906-485E-9152-77B7AC34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2E6F-C0D6-467D-B429-50EED881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3AF08-437B-4B69-B88F-92D60F20C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20BFE-442F-46F3-BC32-7318E902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3FD04-D2D6-4598-95C7-3AF85C44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5D349-46D2-4FC8-877D-CE4F0D1A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3D6ED-CE39-4130-8876-A8A2B799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6902-515D-4060-8646-5D41A8A9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93136-09EA-4841-9B73-2F9D666A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B42B1-8700-463E-90C9-95F31B04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5FEDA-D66F-415D-8F2F-8D9B7B5F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34D0B-2B17-4145-A92D-63BFBB0B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3D0F0-ADAA-4715-9D22-27EB8060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45B0A-02CC-4903-BC48-15CDE0009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A5E2E-79D6-4A55-8F69-1AD51567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456E4-9F19-43AC-A216-385ACC58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88CCE-FA69-4F33-9904-C3DB9E49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32510-C059-481E-9655-802F5E8B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6943-22C5-4136-9FFE-FD6F24B8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801D7-D197-4F8C-A78F-05D587F3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910EB-C628-4094-8A51-081FA47B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E0E6E-6853-42E2-8207-AC2FB118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4E13F-E40D-47A0-87D5-38633A4D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C5543-CEFE-49AB-8815-2733E07A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69279-FE06-4CF1-8028-331B50F4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7F99A-23F1-4370-A114-02937A77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E20F3-D929-4335-8008-73CE0041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A4DFD-B40C-4FA9-A1CF-9F0C46F3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0433-8C7F-4E53-9D0C-5061360D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5446-06EB-4A12-BDE6-2E40019B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51F2-07E3-4C13-ACE7-06E21BB4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961C-AAC1-4D92-986A-80F8E683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F9A4-A573-4EAD-BCF8-1C717C78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2BFA-6604-4B8D-B467-0D420A918FB7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BA95-1227-4D6A-8305-6A6725E0D05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43ED-4728-4185-B711-F5156FFCA069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A408-7079-4DB8-BB11-53729776B73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12CB-874A-43B1-BE93-94147AB75EC3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AB09-BF4E-4DB9-907C-9046C3A9ED5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5C5C-05CB-4735-A3C8-321B8F8BAB63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CBFA-434C-43FE-AA18-91562FDEF16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ff00"/>
                </a:solidFill>
                <a:latin typeface="Calibri"/>
              </a:rPr>
              <a:t>           </a:t>
            </a:r>
            <a:r>
              <a:rPr b="0" lang="en-US" sz="4400" spc="-1" strike="noStrike">
                <a:solidFill>
                  <a:srgbClr val="00ff00"/>
                </a:solidFill>
                <a:latin typeface="Gill Sans Ultra Bold"/>
              </a:rPr>
              <a:t>Introductio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047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92d050"/>
                </a:solidFill>
                <a:latin typeface="Constantia"/>
              </a:rPr>
              <a:t>Name Elepha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onstantia"/>
              </a:rPr>
              <a:t>It is an Endangered specie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ff00"/>
                </a:solidFill>
                <a:latin typeface="Calibri"/>
              </a:rPr>
              <a:t>       </a:t>
            </a:r>
            <a:r>
              <a:rPr b="0" lang="en-US" sz="5000" spc="-1" strike="noStrike">
                <a:solidFill>
                  <a:srgbClr val="00ff00"/>
                </a:solidFill>
                <a:latin typeface="Tekton Pro Ext"/>
              </a:rPr>
              <a:t>Physical Adaptation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6840" y="1295280"/>
            <a:ext cx="56386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d9e8"/>
                </a:solidFill>
                <a:latin typeface="Constantia"/>
              </a:rPr>
              <a:t>Long trunks help it them eat or take a bat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d9e8"/>
                </a:solidFill>
                <a:latin typeface="Constantia"/>
              </a:rPr>
              <a:t>Sharp tusks help it scare away preda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d9e8"/>
                </a:solidFill>
                <a:latin typeface="Constantia"/>
              </a:rPr>
              <a:t>Big ears can be used to fan itself to bring it’s temperature dow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d9e8"/>
                </a:solidFill>
                <a:latin typeface="Constantia"/>
              </a:rPr>
              <a:t>Also it’s ears help  it hear any danger com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2" descr="http://t1.gstatic.com/images?q=tbn:ANd9GcSnCvpAnYC8ANTUNdgk1y1O5AMfUSFaqgt2rwXHHP4cBKahtcfH0g&amp;t=1"/>
          <p:cNvPicPr/>
          <p:nvPr/>
        </p:nvPicPr>
        <p:blipFill>
          <a:blip r:embed="rId1"/>
          <a:stretch/>
        </p:blipFill>
        <p:spPr>
          <a:xfrm>
            <a:off x="2362320" y="3733920"/>
            <a:ext cx="3809880" cy="2879640"/>
          </a:xfrm>
          <a:prstGeom prst="rect">
            <a:avLst/>
          </a:prstGeom>
          <a:ln w="0">
            <a:noFill/>
          </a:ln>
        </p:spPr>
      </p:pic>
      <p:sp>
        <p:nvSpPr>
          <p:cNvPr id="239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Behavioral Adaptation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3520" y="106632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ceff"/>
                </a:solidFill>
                <a:latin typeface="Constantia"/>
              </a:rPr>
              <a:t>Elephants say hi by hitting their tusks together which helps them live in group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ceff"/>
                </a:solidFill>
                <a:latin typeface="Constantia"/>
              </a:rPr>
              <a:t>Fanning itself with it’s big ears keeps the elephant cool on the hot day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ceff"/>
                </a:solidFill>
                <a:latin typeface="Constantia"/>
              </a:rPr>
              <a:t>Picking food up with it’s trunk and putting it in it’s mouth helps it reach food in difficult to get plac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ceff"/>
                </a:solidFill>
                <a:latin typeface="Constantia"/>
              </a:rPr>
              <a:t>They use their trunks to spray water on themselves to keep coo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2" descr="http://ts2.mm.bing.net/images/thumbnail.aspx?q=966427084773&amp;id=a7f73abd01bcf63bde5ff66ea6a04992&amp;url=http%3a%2f%2fwww.flixya.com%2ffiles-photo%2fj%2fi%2fb%2fjibsanthony1954216.jpg"/>
          <p:cNvPicPr/>
          <p:nvPr/>
        </p:nvPicPr>
        <p:blipFill>
          <a:blip r:embed="rId1"/>
          <a:stretch/>
        </p:blipFill>
        <p:spPr>
          <a:xfrm>
            <a:off x="685800" y="3429000"/>
            <a:ext cx="2554200" cy="3225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http://www.elephants.com/tarra/photos/tarrabio2.jpg"/>
          <p:cNvPicPr/>
          <p:nvPr/>
        </p:nvPicPr>
        <p:blipFill>
          <a:blip r:embed="rId2"/>
          <a:stretch/>
        </p:blipFill>
        <p:spPr>
          <a:xfrm>
            <a:off x="4038480" y="3276720"/>
            <a:ext cx="4267440" cy="3328920"/>
          </a:xfrm>
          <a:prstGeom prst="rect">
            <a:avLst/>
          </a:prstGeom>
          <a:ln w="0">
            <a:noFill/>
          </a:ln>
        </p:spPr>
      </p:pic>
      <p:sp>
        <p:nvSpPr>
          <p:cNvPr id="244" name="Нижний колонтитул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   </a:t>
            </a:r>
            <a:r>
              <a:rPr b="0" lang="en-US" sz="4000" spc="-1" strike="noStrike">
                <a:solidFill>
                  <a:srgbClr val="0000ff"/>
                </a:solidFill>
                <a:latin typeface="Magneto"/>
              </a:rPr>
              <a:t>Physiological Adaptati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114300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Constantia"/>
              </a:rPr>
              <a:t>Elephants are warm blooded and that helps because they can adjust their body temperature so they are not to hot or to cold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Constantia"/>
              </a:rPr>
              <a:t>Elephants have massive bones, this allows them to have a maximum amount of support for their big weigh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Constantia"/>
              </a:rPr>
              <a:t>The blood vessels in their ears are used as cooling systems because the weather is so ho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Constantia"/>
              </a:rPr>
              <a:t>An Elephants heartbeat goes 28 beats a minute while the Elephant is resting to help it survive it’s big body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2" descr="http://afflictor.com/wp-content/uploads/2010/10/800px-Elephant_skeleton.jpg"/>
          <p:cNvPicPr/>
          <p:nvPr/>
        </p:nvPicPr>
        <p:blipFill>
          <a:blip r:embed="rId1"/>
          <a:stretch/>
        </p:blipFill>
        <p:spPr>
          <a:xfrm>
            <a:off x="5538960" y="4267080"/>
            <a:ext cx="3605040" cy="2590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http://www.africansafarilady.com/Movies/movieimages/_MG_4275.jpg"/>
          <p:cNvPicPr/>
          <p:nvPr/>
        </p:nvPicPr>
        <p:blipFill>
          <a:blip r:embed="rId2"/>
          <a:stretch/>
        </p:blipFill>
        <p:spPr>
          <a:xfrm>
            <a:off x="762120" y="4440240"/>
            <a:ext cx="3619440" cy="2417760"/>
          </a:xfrm>
          <a:prstGeom prst="rect">
            <a:avLst/>
          </a:prstGeom>
          <a:ln w="0">
            <a:noFill/>
          </a:ln>
        </p:spPr>
      </p:pic>
      <p:sp>
        <p:nvSpPr>
          <p:cNvPr id="249" name="Нижний колонтитул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b0f0"/>
                </a:solidFill>
                <a:latin typeface="Calibri"/>
              </a:rPr>
              <a:t>     </a:t>
            </a:r>
            <a:r>
              <a:rPr b="0" lang="en-US" sz="4500" spc="-1" strike="noStrike">
                <a:solidFill>
                  <a:srgbClr val="00b0f0"/>
                </a:solidFill>
                <a:latin typeface="Showcard Gothic"/>
              </a:rPr>
              <a:t>FUN Fac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2949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ephants love water and are great swimm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big feet help them from sinking into the grou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ephants walk on their tippy toes and they have a sack that supports their foot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ephants are very sm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omic"/>
              </a:rPr>
              <a:t>        </a:t>
            </a:r>
            <a:r>
              <a:rPr b="0" lang="en-US" sz="4000" spc="-1" strike="noStrike">
                <a:solidFill>
                  <a:srgbClr val="00ff00"/>
                </a:solidFill>
                <a:latin typeface="comic"/>
              </a:rPr>
              <a:t>What They Look Lik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560" y="1142640"/>
            <a:ext cx="2514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Long Trunk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Big Ea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Fat Bod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Big Ey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10,000 Poun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Big Tusk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Little Hai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Big Toe Nai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            </a:t>
            </a:r>
            <a:r>
              <a:rPr b="0" lang="en-US" sz="5400" spc="-1" strike="noStrike">
                <a:solidFill>
                  <a:srgbClr val="00ff00"/>
                </a:solidFill>
                <a:latin typeface="Bauhaus 93"/>
              </a:rPr>
              <a:t>Lifespan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16002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47dd"/>
                </a:solidFill>
                <a:latin typeface="Constantia"/>
              </a:rPr>
              <a:t>Asian Elephants can live to be 80 years ol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47dd"/>
                </a:solidFill>
                <a:latin typeface="Constantia"/>
              </a:rPr>
              <a:t>African Elephants can live to be 60 years ol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47dd"/>
                </a:solidFill>
                <a:latin typeface="Constantia"/>
              </a:rPr>
              <a:t>Elephants are endanger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http://photography.nationalgeographic.com/staticfiles/NGS/Shared/StaticFiles/Photography/Images/POD/b/baby-elephant-504777-lw.jpg"/>
          <p:cNvPicPr/>
          <p:nvPr/>
        </p:nvPicPr>
        <p:blipFill>
          <a:blip r:embed="rId1"/>
          <a:stretch/>
        </p:blipFill>
        <p:spPr>
          <a:xfrm>
            <a:off x="457200" y="3429000"/>
            <a:ext cx="3759120" cy="2819520"/>
          </a:xfrm>
          <a:prstGeom prst="rect">
            <a:avLst/>
          </a:prstGeom>
          <a:ln w="0">
            <a:noFill/>
          </a:ln>
        </p:spPr>
      </p:pic>
      <p:sp>
        <p:nvSpPr>
          <p:cNvPr id="211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      </a:t>
            </a:r>
            <a:r>
              <a:rPr b="0" lang="en-US" sz="2900" spc="-1" strike="noStrike">
                <a:solidFill>
                  <a:srgbClr val="04617b"/>
                </a:solidFill>
                <a:latin typeface="Wide Latin"/>
              </a:rPr>
              <a:t> </a:t>
            </a:r>
            <a:r>
              <a:rPr b="0" lang="en-US" sz="5400" spc="-1" strike="noStrike">
                <a:solidFill>
                  <a:srgbClr val="00ff00"/>
                </a:solidFill>
                <a:latin typeface="Wide Latin"/>
              </a:rPr>
              <a:t>Habitat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Asian and African Elephants Habitat are Forests, Woodlands, Grassy Plains, Swamps, and Deser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2" descr="http://upload.wikimedia.org/wikipedia/commons/4/4b/Mudumalai_forest_elephant.jpg"/>
          <p:cNvPicPr/>
          <p:nvPr/>
        </p:nvPicPr>
        <p:blipFill>
          <a:blip r:embed="rId1"/>
          <a:stretch/>
        </p:blipFill>
        <p:spPr>
          <a:xfrm>
            <a:off x="1752480" y="2209680"/>
            <a:ext cx="5740560" cy="4305600"/>
          </a:xfrm>
          <a:prstGeom prst="rect">
            <a:avLst/>
          </a:prstGeom>
          <a:ln w="0">
            <a:noFill/>
          </a:ln>
        </p:spPr>
      </p:pic>
      <p:sp>
        <p:nvSpPr>
          <p:cNvPr id="215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 </a:t>
            </a:r>
            <a:r>
              <a:rPr b="0" lang="en-US" sz="5000" spc="-1" strike="noStrike">
                <a:solidFill>
                  <a:srgbClr val="00ff00"/>
                </a:solidFill>
                <a:latin typeface="Goudy Stout"/>
              </a:rPr>
              <a:t>Climat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c10d2"/>
                </a:solidFill>
                <a:latin typeface="Constantia"/>
              </a:rPr>
              <a:t>An African Elephants Climate is in the Desert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c10d2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dc10d2"/>
                </a:solidFill>
                <a:latin typeface="Constantia"/>
              </a:rPr>
              <a:t>it is hot and dry and it rarely ra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c10d2"/>
                </a:solidFill>
                <a:latin typeface="Constantia"/>
              </a:rPr>
              <a:t>An Asian Elephants climate is also hot and dr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" descr="http://elephantivoryproject.org/wp-content/uploads/2010/10/RangeMap_elephant_550x400.jpg"/>
          <p:cNvPicPr/>
          <p:nvPr/>
        </p:nvPicPr>
        <p:blipFill>
          <a:blip r:embed="rId1"/>
          <a:stretch/>
        </p:blipFill>
        <p:spPr>
          <a:xfrm>
            <a:off x="4876920" y="3581280"/>
            <a:ext cx="4111560" cy="2990880"/>
          </a:xfrm>
          <a:prstGeom prst="rect">
            <a:avLst/>
          </a:prstGeom>
          <a:ln w="0">
            <a:noFill/>
          </a:ln>
        </p:spPr>
      </p:pic>
      <p:sp>
        <p:nvSpPr>
          <p:cNvPr id="219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      </a:t>
            </a:r>
            <a:r>
              <a:rPr b="0" lang="en-US" sz="6600" spc="-1" strike="noStrike">
                <a:solidFill>
                  <a:srgbClr val="ff0000"/>
                </a:solidFill>
                <a:latin typeface="Mesquite Std"/>
              </a:rPr>
              <a:t>Landforms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Constantia"/>
              </a:rPr>
              <a:t>The landforms near Elephants are Rivers, Grasslands, and Deser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2" descr="http://www.thehoneymoonproject.com/wp-content/uploads/2010/01/elephant-2.jpg"/>
          <p:cNvPicPr/>
          <p:nvPr/>
        </p:nvPicPr>
        <p:blipFill>
          <a:blip r:embed="rId1"/>
          <a:stretch/>
        </p:blipFill>
        <p:spPr>
          <a:xfrm>
            <a:off x="2666880" y="2514600"/>
            <a:ext cx="6096240" cy="4067280"/>
          </a:xfrm>
          <a:prstGeom prst="rect">
            <a:avLst/>
          </a:prstGeom>
          <a:ln w="0">
            <a:noFill/>
          </a:ln>
        </p:spPr>
      </p:pic>
      <p:sp>
        <p:nvSpPr>
          <p:cNvPr id="223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aaf2"/>
                </a:solidFill>
                <a:latin typeface="Calibri"/>
              </a:rPr>
              <a:t>          </a:t>
            </a:r>
            <a:r>
              <a:rPr b="0" lang="en-US" sz="4800" spc="-1" strike="noStrike">
                <a:solidFill>
                  <a:srgbClr val="ff0000"/>
                </a:solidFill>
                <a:latin typeface="MV Boli"/>
                <a:ea typeface="MV Boli"/>
              </a:rPr>
              <a:t>What They Eat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990720"/>
            <a:ext cx="8686800" cy="27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Elephants are hebavo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Elephants food is mostly leaves and bush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Zoo Elephants eat 660 pounds of veggies a da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African and Asian Elephants eat roots, grass, fruit, and bark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Elephants feed themselves by sucking up food in there trunks and putting it in there mout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Elephants also love peanu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http://4.bp.blogspot.com/_TUmrEJJqV_Q/SdVjVZdnu8I/AAAAAAAALOA/a5cBgdzwl28/s400/Mother+Elephant+Eating+Grass.jpg"/>
          <p:cNvPicPr/>
          <p:nvPr/>
        </p:nvPicPr>
        <p:blipFill>
          <a:blip r:embed="rId1"/>
          <a:stretch/>
        </p:blipFill>
        <p:spPr>
          <a:xfrm>
            <a:off x="4876920" y="2895480"/>
            <a:ext cx="3581280" cy="3214800"/>
          </a:xfrm>
          <a:prstGeom prst="rect">
            <a:avLst/>
          </a:prstGeom>
          <a:ln w="0">
            <a:noFill/>
          </a:ln>
        </p:spPr>
      </p:pic>
      <p:sp>
        <p:nvSpPr>
          <p:cNvPr id="227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    </a:t>
            </a:r>
            <a:r>
              <a:rPr b="0" lang="en-US" sz="5000" spc="-1" strike="noStrike">
                <a:solidFill>
                  <a:srgbClr val="00b0f0"/>
                </a:solidFill>
                <a:latin typeface="Snap ITC"/>
              </a:rPr>
              <a:t>Behavi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160" y="1218960"/>
            <a:ext cx="7467480" cy="28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Elephants stay in groups called “Herds” that helps them defend themselv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he social behavior is that a male and female are very differen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he female spend there lives in a family of Daughters, Sisters, Mothers, Aunt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When the group gets too big the older daughters will break off and form a new grou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he males fight each other to determine who is the lead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o keep cool they suck up water in their trunk and spray it on themselv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hey are not territorial…they travel a lot to find foo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2" descr="http://www.africaguide.com/photolibrary/images/uploads/30/stand_1222870036.jpg"/>
          <p:cNvPicPr/>
          <p:nvPr/>
        </p:nvPicPr>
        <p:blipFill>
          <a:blip r:embed="rId1"/>
          <a:stretch/>
        </p:blipFill>
        <p:spPr>
          <a:xfrm>
            <a:off x="4800600" y="4038480"/>
            <a:ext cx="3451320" cy="2438640"/>
          </a:xfrm>
          <a:prstGeom prst="rect">
            <a:avLst/>
          </a:prstGeom>
          <a:ln w="0">
            <a:noFill/>
          </a:ln>
        </p:spPr>
      </p:pic>
      <p:sp>
        <p:nvSpPr>
          <p:cNvPr id="231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Matura MT Script Capitals"/>
              </a:rPr>
              <a:t>         </a:t>
            </a:r>
            <a:r>
              <a:rPr b="0" lang="en-US" sz="6000" spc="-1" strike="noStrike">
                <a:solidFill>
                  <a:srgbClr val="0000ff"/>
                </a:solidFill>
                <a:latin typeface="Matura MT Script Capitals"/>
              </a:rPr>
              <a:t>Babie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294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The babies are called “Calves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15 minutes after the baby is born it stan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At birth the Elephant weighs about 200 pounds and stands 3 feet t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Picture 2" descr="http://bilia.files.wordpress.com/2009/08/baby-elephant-2.jpg"/>
          <p:cNvPicPr/>
          <p:nvPr/>
        </p:nvPicPr>
        <p:blipFill>
          <a:blip r:embed="rId1"/>
          <a:stretch/>
        </p:blipFill>
        <p:spPr>
          <a:xfrm>
            <a:off x="0" y="3733920"/>
            <a:ext cx="3619440" cy="2412720"/>
          </a:xfrm>
          <a:prstGeom prst="rect">
            <a:avLst/>
          </a:prstGeom>
          <a:ln w="0">
            <a:noFill/>
          </a:ln>
        </p:spPr>
      </p:pic>
      <p:sp>
        <p:nvSpPr>
          <p:cNvPr id="235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5:56:08Z</dcterms:created>
  <dc:creator>coupe</dc:creator>
  <dc:description/>
  <dc:language>en-US</dc:language>
  <cp:lastModifiedBy>LEGION</cp:lastModifiedBy>
  <dcterms:modified xsi:type="dcterms:W3CDTF">2018-03-12T08:00:55Z</dcterms:modified>
  <cp:revision>109</cp:revision>
  <dc:subject/>
  <dc:title>Neil Armstrong</dc:title>
</cp:coreProperties>
</file>