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4708-54B9-4465-8265-A20D24A1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060-0985-438F-BBEA-C4B99E10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693-FAE1-4040-A96B-04DBD22A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2CD-84F8-401E-8DE6-6F4714C1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E6D-83DC-4A3C-B573-B8DB5B1B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D469-ABC2-49B3-9312-A15BB8A2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B937-E2E3-4C63-91F5-2E0EFE58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3D99-AE61-4F88-9F05-CAAE3E50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BBE5-FE43-44DC-9E42-18524E88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79A2-D7CF-4999-964B-1AE6B922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F9CD-77FC-4C44-AB7F-65D42FBC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4891-BA55-4D67-9F2E-03ADB948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BC2-FD08-4B9E-A0AC-AA3A9136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73CA-A347-4180-83FF-81BAFA55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E44F-AD2C-4084-A751-E34DC6AB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F467-4ED3-41A0-A524-E7AD24D7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C656-A5C3-41E0-A111-E73E983E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900D-4748-477A-9B23-F2859F02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83794-8140-49E1-A240-18C4F6F0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2911-BE1D-4C0B-AF12-ACEE7CCD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D41D-8129-46B4-8608-D95E3666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2BA0-E979-41AD-9650-EE817FC1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222E-20E3-497C-8356-6C16C8E7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341-FFED-4753-892D-1C86AB79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CF352-556F-40BD-AE95-165A7DC6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87143-01C7-41EF-83C4-78D8CB5B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A6F8-3298-42D7-B12C-2B136A79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CE563-8A5F-4A51-A94F-B68CDC04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DA6D-D644-4337-835D-E2B34CC3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761CA-BE30-453D-B8A6-8B201E27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6A39-03D5-443D-845C-525AE371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0E2E9-2769-4CC3-A251-63989D91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EEDF-502A-4D24-83C0-4FE46AAE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A8CDD-6EC9-437D-AAC2-063419FB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504-0C48-4680-B0F1-98D2ED59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5F611-033B-41FF-93F3-CDAE0A6A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4F836-64E4-443B-B172-6DF74606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AF0D-86E5-482C-9F16-CB9C7B42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ACFFE-7B9B-46B9-A54C-0F6A5FBE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C04C-8C73-4B8D-BB8B-57407405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76B2C-7AA4-4EA2-9AD4-E4F95F9C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C59DD-E4B7-4368-8AD6-BC15E9F9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9802-1560-4730-8350-0DEC9A6C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BF8FE-01E0-4106-A784-F40A9374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0F4-1557-4F9E-B6C1-C716158B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1CB-78BA-4B97-AE96-4AD4BF29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700-9DAB-417A-9BDA-A68CB3F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386-4635-4A72-A010-B4802E58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95E-5C18-4099-9EB7-63885902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CE6E-E55B-4958-81A3-10EFD957DB9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3DD0-3B54-4356-B374-B9B9A9C3CC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5F6B-5E0F-457D-AA06-67B13DC3DEE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2160-E0C5-43F8-95A5-FD5DBDAC7A4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9679-1E7C-42E2-BA25-1B745B1B0A9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870E-428A-4F9B-9254-EBCA8BF598E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AEAB-80D1-4301-9343-F5E2293527ED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39B7-DD38-4057-8191-0F5713FE828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ff00"/>
                </a:solidFill>
                <a:latin typeface="Gill Sans Ultra Bold"/>
              </a:rPr>
              <a:t>Introduc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Name Eleph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It is an Endangered spec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</a:t>
            </a:r>
            <a:r>
              <a:rPr b="0" lang="en-US" sz="5000" spc="-1" strike="noStrike">
                <a:solidFill>
                  <a:srgbClr val="00ff00"/>
                </a:solidFill>
                <a:latin typeface="Tekton Pro Ext"/>
              </a:rPr>
              <a:t>Physical Adap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2952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Long trunks help it them eat or take a b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Sharp tusks help it scare away pred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Big ears can be used to fan itself to bring it’s temperature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Also it’s ears help  it hear any danger co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t1.gstatic.com/images?q=tbn:ANd9GcSnCvpAnYC8ANTUNdgk1y1O5AMfUSFaqgt2rwXHHP4cBKahtcfH0g&amp;t=1"/>
          <p:cNvPicPr/>
          <p:nvPr/>
        </p:nvPicPr>
        <p:blipFill>
          <a:blip r:embed="rId1"/>
          <a:stretch/>
        </p:blipFill>
        <p:spPr>
          <a:xfrm>
            <a:off x="2362320" y="3733920"/>
            <a:ext cx="3809880" cy="287964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Behavioral Adap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0663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Elephants say hi by hitting their tusks together which helps them live in gro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Fanning itself with it’s big ears keeps the elephant cool on the hot day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Picking food up with it’s trunk and putting it in it’s mouth helps it reach food in difficult to get pla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They use their trunks to spray water on themselves to keep c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ts2.mm.bing.net/images/thumbnail.aspx?q=966427084773&amp;id=a7f73abd01bcf63bde5ff66ea6a04992&amp;url=http%3a%2f%2fwww.flixya.com%2ffiles-photo%2fj%2fi%2fb%2fjibsanthony1954216.jpg"/>
          <p:cNvPicPr/>
          <p:nvPr/>
        </p:nvPicPr>
        <p:blipFill>
          <a:blip r:embed="rId1"/>
          <a:stretch/>
        </p:blipFill>
        <p:spPr>
          <a:xfrm>
            <a:off x="685800" y="3429000"/>
            <a:ext cx="2554200" cy="322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www.elephants.com/tarra/photos/tarrabio2.jpg"/>
          <p:cNvPicPr/>
          <p:nvPr/>
        </p:nvPicPr>
        <p:blipFill>
          <a:blip r:embed="rId2"/>
          <a:stretch/>
        </p:blipFill>
        <p:spPr>
          <a:xfrm>
            <a:off x="4038480" y="3276720"/>
            <a:ext cx="4267440" cy="3328920"/>
          </a:xfrm>
          <a:prstGeom prst="rect">
            <a:avLst/>
          </a:prstGeom>
          <a:ln w="0">
            <a:noFill/>
          </a:ln>
        </p:spPr>
      </p:pic>
      <p:sp>
        <p:nvSpPr>
          <p:cNvPr id="244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Physiological Adapt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are warm blooded and that helps because they can adjust their body temperature so they are not to hot or to cold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have massive bones, this allows them to have a maximum amount of support for their big weigh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The blood vessels in their ears are used as cooling systems because the weather is so ho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An Elephants heartbeat goes 28 beats a minute while the Elephant is resting to help it survive it’s big body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afflictor.com/wp-content/uploads/2010/10/800px-Elephant_skeleton.jpg"/>
          <p:cNvPicPr/>
          <p:nvPr/>
        </p:nvPicPr>
        <p:blipFill>
          <a:blip r:embed="rId1"/>
          <a:stretch/>
        </p:blipFill>
        <p:spPr>
          <a:xfrm>
            <a:off x="5538960" y="4267080"/>
            <a:ext cx="3605040" cy="259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africansafarilady.com/Movies/movieimages/_MG_4275.jpg"/>
          <p:cNvPicPr/>
          <p:nvPr/>
        </p:nvPicPr>
        <p:blipFill>
          <a:blip r:embed="rId2"/>
          <a:stretch/>
        </p:blipFill>
        <p:spPr>
          <a:xfrm>
            <a:off x="762120" y="4440240"/>
            <a:ext cx="3619440" cy="241776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en-US" sz="4500" spc="-1" strike="noStrike">
                <a:solidFill>
                  <a:srgbClr val="00b0f0"/>
                </a:solidFill>
                <a:latin typeface="Showcard Gothic"/>
              </a:rPr>
              <a:t>FUN Fa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love water and are great swi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big feet help them from sinking into the gr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walk on their tippy toes and they have a sack that supports their foo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are very sm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omic"/>
              </a:rPr>
              <a:t>        </a:t>
            </a:r>
            <a:r>
              <a:rPr b="0" lang="en-US" sz="4000" spc="-1" strike="noStrike">
                <a:solidFill>
                  <a:srgbClr val="00ff00"/>
                </a:solidFill>
                <a:latin typeface="comic"/>
              </a:rPr>
              <a:t>What They Look Lik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142640"/>
            <a:ext cx="2514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ong Trunk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y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10,000 Pou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u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ittle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oe 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5400" spc="-1" strike="noStrike">
                <a:solidFill>
                  <a:srgbClr val="00ff00"/>
                </a:solidFill>
                <a:latin typeface="Bauhaus 93"/>
              </a:rPr>
              <a:t>Lifespa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sian Elephants can live to be 8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frican Elephants can live to be 6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Elephants are endang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photography.nationalgeographic.com/staticfiles/NGS/Shared/StaticFiles/Photography/Images/POD/b/baby-elephant-504777-lw.jpg"/>
          <p:cNvPicPr/>
          <p:nvPr/>
        </p:nvPicPr>
        <p:blipFill>
          <a:blip r:embed="rId1"/>
          <a:stretch/>
        </p:blipFill>
        <p:spPr>
          <a:xfrm>
            <a:off x="457200" y="3429000"/>
            <a:ext cx="375912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2900" spc="-1" strike="noStrike">
                <a:solidFill>
                  <a:srgbClr val="04617b"/>
                </a:solidFill>
                <a:latin typeface="Wide Latin"/>
              </a:rPr>
              <a:t> </a:t>
            </a:r>
            <a:r>
              <a:rPr b="0" lang="en-US" sz="5400" spc="-1" strike="noStrike">
                <a:solidFill>
                  <a:srgbClr val="00ff00"/>
                </a:solidFill>
                <a:latin typeface="Wide Latin"/>
              </a:rPr>
              <a:t>Habita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sian and African Elephants Habitat are Forests, Woodlands, Grassy Plains, Swamps, and Dese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upload.wikimedia.org/wikipedia/commons/4/4b/Mudumalai_forest_elephant.jpg"/>
          <p:cNvPicPr/>
          <p:nvPr/>
        </p:nvPicPr>
        <p:blipFill>
          <a:blip r:embed="rId1"/>
          <a:stretch/>
        </p:blipFill>
        <p:spPr>
          <a:xfrm>
            <a:off x="1752480" y="2209680"/>
            <a:ext cx="5740560" cy="4305600"/>
          </a:xfrm>
          <a:prstGeom prst="rect">
            <a:avLst/>
          </a:prstGeom>
          <a:ln w="0">
            <a:noFill/>
          </a:ln>
        </p:spPr>
      </p:pic>
      <p:sp>
        <p:nvSpPr>
          <p:cNvPr id="21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0ff00"/>
                </a:solidFill>
                <a:latin typeface="Goudy Stout"/>
              </a:rPr>
              <a:t>Clim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frican Elephants Climate is in the Dese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it is hot and dry and it rarely 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sian Elephants climate is also hot and d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elephantivoryproject.org/wp-content/uploads/2010/10/RangeMap_elephant_550x400.jpg"/>
          <p:cNvPicPr/>
          <p:nvPr/>
        </p:nvPicPr>
        <p:blipFill>
          <a:blip r:embed="rId1"/>
          <a:stretch/>
        </p:blipFill>
        <p:spPr>
          <a:xfrm>
            <a:off x="4876920" y="3581280"/>
            <a:ext cx="4111560" cy="29908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Mesquite Std"/>
              </a:rPr>
              <a:t>Landform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The landforms near Elephants are Rivers, Grasslands, and Dese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www.thehoneymoonproject.com/wp-content/uploads/2010/01/elephant-2.jpg"/>
          <p:cNvPicPr/>
          <p:nvPr/>
        </p:nvPicPr>
        <p:blipFill>
          <a:blip r:embed="rId1"/>
          <a:stretch/>
        </p:blipFill>
        <p:spPr>
          <a:xfrm>
            <a:off x="2666880" y="25146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2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MV Boli"/>
                <a:ea typeface="MV Boli"/>
              </a:rPr>
              <a:t>What They Ea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990720"/>
            <a:ext cx="868680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re hebav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ood is mostly leaves and bu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Zoo Elephants eat 660 pounds of veggies a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African and Asian Elephants eat roots, grass, fruit, and ba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eed themselves by sucking up food in there trunks and putting it in ther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lso love peanu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http://4.bp.blogspot.com/_TUmrEJJqV_Q/SdVjVZdnu8I/AAAAAAAALOA/a5cBgdzwl28/s400/Mother+Elephant+Eating+Grass.jpg"/>
          <p:cNvPicPr/>
          <p:nvPr/>
        </p:nvPicPr>
        <p:blipFill>
          <a:blip r:embed="rId1"/>
          <a:stretch/>
        </p:blipFill>
        <p:spPr>
          <a:xfrm>
            <a:off x="4876920" y="2895480"/>
            <a:ext cx="358128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00b0f0"/>
                </a:solidFill>
                <a:latin typeface="Snap ITC"/>
              </a:rPr>
              <a:t>Behavi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218960"/>
            <a:ext cx="746748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Elephants stay in groups called “Herds” that helps them defend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social behavior is that a male and female are very differ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female spend there lives in a family of Daughters, Sisters, Mothers, Au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When the group gets too big the older daughters will break off and form a new gro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males fight each other to determine who is the lea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o keep cool they suck up water in their trunk and spray it on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y are not territorial…they travel a lot to find foo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http://www.africaguide.com/photolibrary/images/uploads/30/stand_1222870036.jpg"/>
          <p:cNvPicPr/>
          <p:nvPr/>
        </p:nvPicPr>
        <p:blipFill>
          <a:blip r:embed="rId1"/>
          <a:stretch/>
        </p:blipFill>
        <p:spPr>
          <a:xfrm>
            <a:off x="4800600" y="4038480"/>
            <a:ext cx="3451320" cy="24386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         </a:t>
            </a: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Babie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The babies are called “Calv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15 minutes after the baby is born it st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t birth the Elephant weighs about 200 pounds and stands 3 feet t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bilia.files.wordpress.com/2009/08/baby-elephant-2.jpg"/>
          <p:cNvPicPr/>
          <p:nvPr/>
        </p:nvPicPr>
        <p:blipFill>
          <a:blip r:embed="rId1"/>
          <a:stretch/>
        </p:blipFill>
        <p:spPr>
          <a:xfrm>
            <a:off x="0" y="3733920"/>
            <a:ext cx="3619440" cy="2412720"/>
          </a:xfrm>
          <a:prstGeom prst="rect">
            <a:avLst/>
          </a:prstGeom>
          <a:ln w="0">
            <a:noFill/>
          </a:ln>
        </p:spPr>
      </p:pic>
      <p:sp>
        <p:nvSpPr>
          <p:cNvPr id="23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56:08Z</dcterms:created>
  <dc:creator>coupe</dc:creator>
  <dc:description/>
  <dc:language>en-US</dc:language>
  <cp:lastModifiedBy>LEGION</cp:lastModifiedBy>
  <dcterms:modified xsi:type="dcterms:W3CDTF">2018-03-12T08:00:55Z</dcterms:modified>
  <cp:revision>109</cp:revision>
  <dc:subject/>
  <dc:title>Neil Armstrong</dc:title>
</cp:coreProperties>
</file>