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22.png" ContentType="image/png"/>
  <Override PartName="/ppt/media/cashreg.wav" ContentType="audio/x-wav"/>
  <Override PartName="/ppt/media/image4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1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5DD1-3A87-4E82-A076-370EBE93DD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at , they must come up to sea -surface for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 !! You are correc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out for BREA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lu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hat , they must come up to sea -surface for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 !! You are correct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come out for BREATH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ind their way with s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keep in touch by clicks, barks and sc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ind their way with soun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keep in touch by clicks, barks and sc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Dolphins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live in saltwater oceans and seas all over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ives in 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 in big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of Dolphin is called Schoo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o Dolphins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live in saltwater oceans and seas all over the wor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lives in oce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live in big grou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p of Dolphin is called School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Dolphins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eat all kinds of sea cr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lions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Dolphins 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eat all kinds of sea cr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 lions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Dolphin a Fis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Dolphin a Fish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ps…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 and try second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ps…try ag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 and try second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are CORRECT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, you are CORRECT!!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have live yo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eed their young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warm-bloo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…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have live you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eed their young mi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warm-bloo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…………………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brea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feed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Ga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breath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feed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Gam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ops!!! Wrong  answer, try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ops!!! Wrong  answer, try agai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0A2-B5CC-492D-A749-11E6994D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3FC-479B-48E9-A65A-95665FF3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FDF-73AB-4099-BA26-F2969953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978-8982-4C40-901B-748F28EF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D7F2-6543-4601-9F72-2A6515AD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0EA0-6B4D-44B0-AF1E-4FF7A139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29AD-2721-4365-9A4A-98241D22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29F3-8030-4D97-8336-DE74E9DE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CB43-5E01-4327-AD52-FD58742D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763F-4B4B-435F-B5F9-A876E637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EC73-205C-4F89-9817-C10E14B8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464-5452-4BC1-A63F-589C15F7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FAC4-E8B5-4F91-BE06-D3217E56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A03B-C11D-4880-9BFC-35B5877D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13F5-8E36-4DAF-B9DC-635E7907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1674-5EA4-4B5A-80FE-A151CF3A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8BFA-6904-4DA2-A7BB-1521CC8D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2DAE0-D927-4BFF-85FD-509DFE26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0431-6BCB-4437-A724-A2A5B144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1CC97-6B88-413F-A76A-4D33955F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A86A9-5B24-4FDF-A80A-56211CB3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BA21-D994-44DB-B892-B47F2D2C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E3A-2730-4755-9B9F-31D6D663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B3661-76A0-445C-99F1-81C212C4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3062E-B7C7-4C2B-B6D0-BF0F2E2B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29353-BDB7-436C-8882-8533F187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2E69C-C3F0-470C-9D3A-D1BABC15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266EA-9240-4ED8-8625-1B56F6D6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D627-C9AA-405B-B86B-6A7E5456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2432-F0F4-4276-962E-FD066D5A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C5700-8F1A-4AD0-8632-CA2E6B07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A4E4-33A9-4DC6-8FEA-9B9FF636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F1FF1-3F67-46D9-8EC1-95CA4CE9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7B0-3710-4E17-AEF7-1C2B630E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C06F9-EF34-4BBC-A26F-9DFF6E18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37C02-D2D6-43E7-BE35-54B33686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1B35C-E073-444C-A245-58421A4B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8FD0C-FF5D-475D-A945-300B44B4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4EB37-EFD3-4C6B-88C6-8AEA0791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4BCF3-76E2-412B-BFE9-B714D54E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CE853-10FA-4C23-A426-FA3E8F73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0363E-7995-400C-B1D6-80F9888D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B736D-4E5F-418C-8BD2-81151800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98231-E6A3-46DA-AFFA-2A4F51BB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72D-29C2-429C-96A0-E2E2D5E5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7C954-12F2-41BA-B750-A24CEF0C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97685-2C32-4BDD-9724-B2EB6747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F8569-6B8E-46C9-9043-B1A7057D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0BD7F-FD4E-4FF9-9754-E4020A79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35279-8674-46D7-B9B3-AE069D0C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D77BC-14F3-4EDF-A9A8-0CF66A50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48117-8A4F-4E85-8EDD-00961BE1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F9E12-0F3E-4398-BD2D-B2DC7BB4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737E4-26C4-4719-B94E-CF8EE3F3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C0ED7-B640-4CA8-AC4B-B3F94500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16E-D7EB-4747-AACF-F7D74D27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A5239-C4D8-44A9-87FE-CE1E89DC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85E11-7F4D-45D3-8728-D40E6E1C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3BB14-5459-4CA9-97E1-2DB78484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F6375-5AA4-4408-A6E9-FEF3D920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E218B-806D-42ED-BFC4-EA168696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91FCB-54A5-46B2-876A-AB888211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8019E-50E8-426A-BD8C-DE58ACD9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BA050-C6EC-471F-8017-B570237A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4DF4F-59D6-4303-B8EF-3A3090C6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F9489-6E67-4E1B-B274-AA2EF32D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5BE-D2CD-4ED6-983F-87A47E4D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56F8E-34B6-4960-86A6-610735D8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DF6A7-E102-4BC0-9B93-0BB2D331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779D6-B7B5-4AC6-8319-98AC3445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DC487-D991-4951-AC57-8AFAC0FD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134C1-BF47-4F28-A93A-E4872E51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E52F8-D34D-4E83-85BB-B28DF5AC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17B8F-AEC4-48C5-BDAD-31660C73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90A20-25E1-4075-8B76-ECA48396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8C72E-DB72-4F95-87EF-ABDEF9B6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318E3-BB0F-4E58-9E70-D112D3C9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0D3-AF41-4932-A5E4-20FCB65D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80537-32D9-4DAF-A5A2-47290C40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DCD46-4479-4A7C-B1D4-F16261DB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13103-1D01-4A0B-A91A-9BBADA44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A8981-7570-420C-B838-0D8EF258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D6173-EB96-41BD-ACAE-F3AAD274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741-55DC-4120-B080-856686C7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E748-A4CC-4AE0-A34E-DE3CCA92CD6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Равнобедренный треугольник 12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5A38-3888-4742-B1AB-4F41AFD4948A}" type="slidenum">
              <a: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758C-5A14-4740-9506-C63DB6832DE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ый треугольник 12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Равнобедренный треугольник 15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16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ая соединительная линия 17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ADE8-B5CC-44F9-BD3D-D15FF22B1DC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F2E3-25CB-46B1-B6C1-140B933D534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DEFB-DB80-4074-B9F0-CE83A001A19F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EA93-1930-4D95-B38A-8AA1A374DDB6}" type="slidenum">
              <a:rPr b="0" lang="zh-CN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aua.am/web/group15/pic/Dolphins.jpg&amp;imgrefurl=http://www.aua.am/web/group15/&amp;h=291&amp;w=400&amp;sz=75&amp;tbnid=KN1-1IP5O2IJ:&amp;tbnh=87&amp;tbnw=120&amp;start=20&amp;prev=/images%3Fq%3DDolphins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s.google.com/imgres?imgurl=http://www.marcellas-montages.com/montage_site/images/non_tv/dolphin.jpg&amp;imgrefurl=http://www.promotega.org/msc30037/dolp.%2520eat.htm&amp;h=600&amp;w=821&amp;sz=125&amp;tbnid=TiS_miP9nCwJ:&amp;tbnh=104&amp;tbnw=142&amp;start=12&amp;prev=/images%3Fq%3DDolphins%2Beating%26hl%3Den%26lr%3D%26sa%3DG" TargetMode="External"/><Relationship Id="rId3" Type="http://schemas.openxmlformats.org/officeDocument/2006/relationships/hyperlink" Target="http://www.spiralandcircle.com/fish%20bag.jpg" TargetMode="External"/><Relationship Id="rId4" Type="http://schemas.openxmlformats.org/officeDocument/2006/relationships/hyperlink" Target="http://www.spiralandcircle.com/fish%20bag.jpg" TargetMode="External"/><Relationship Id="rId5" Type="http://schemas.openxmlformats.org/officeDocument/2006/relationships/hyperlink" Target="http://images.google.com/imgres?imgurl=http://www.yoto98.noaa.gov/sc1j.jpg&amp;imgrefurl=http://www.yoto98.noaa.gov/links01.htm&amp;h=400&amp;w=400&amp;sz=106&amp;tbnid=rPUkrkhkATAJ:&amp;tbnh=120&amp;tbnw=120&amp;start=1&amp;prev=/images%3Fq%3DOcean%2BFish%26hl%3Den%26lr%3D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m/imgres?imgurl=http://www.rossanthony.com/D/images/dolphins.jpg&amp;imgrefurl=http://www.rossanthony.com/D/dolphins.shtml&amp;h=236&amp;w=400&amp;sz=25&amp;tbnid=8Hy7eB9rD0IJ:&amp;tbnh=70&amp;tbnw=119&amp;start=2&amp;prev=/images%3Fq%3DDolphins%26hl%3Den%26lr%3D%26sa%3DG" TargetMode="External"/><Relationship Id="rId3" Type="http://schemas.openxmlformats.org/officeDocument/2006/relationships/image" Target="../media/image8.jpe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0.png"/><Relationship Id="rId8" Type="http://schemas.openxmlformats.org/officeDocument/2006/relationships/slide" Target="slide6.xm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hyperlink" Target="http://images.google.com/imgres?imgurl=http://www.wildaboutdolphins.com/jumpdolp2.jpg&amp;imgrefurl=http://www.wildaboutdolphins.com/&amp;h=212&amp;w=201&amp;sz=15&amp;tbnid=1j1OfhwTPOsJ:&amp;tbnh=100&amp;tbnw=95&amp;start=18&amp;prev=/images%3Fq%3DDolphins%26hl%3Den%26lr%3D" TargetMode="External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huang.ca/home/photos/home-dolphin-large.jpg&amp;imgrefurl=http://chuang.ca/&amp;h=349&amp;w=524&amp;sz=25&amp;tbnid=tXr627NzwZIJ:&amp;tbnh=85&amp;tbnw=128&amp;start=49&amp;prev=/images%3Fq%3DLarge%2BDolphin%2B%26start%3D4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" Target="slide7.xm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3"/>
          <p:cNvSpPr txBox="1"/>
          <p:nvPr/>
        </p:nvSpPr>
        <p:spPr>
          <a:xfrm>
            <a:off x="3809880" y="15228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latin typeface="Arial Black"/>
              </a:rPr>
              <a:t>Dolphins</a:t>
            </a:r>
            <a:endParaRPr b="1" lang="en-US" sz="1800" spc="1" strike="noStrike">
              <a:ln w="0">
                <a:noFill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3276720" y="2819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6" descr="C:\Documents and Settings\shmustic\Application Data\Microsoft\Media Catalog\Downloaded Clips\cl47\j0178773.jpg"/>
          <p:cNvPicPr/>
          <p:nvPr/>
        </p:nvPicPr>
        <p:blipFill>
          <a:blip r:embed="rId1"/>
          <a:stretch/>
        </p:blipFill>
        <p:spPr>
          <a:xfrm>
            <a:off x="2971800" y="2057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228600" y="1905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For that , they must come up to sea -surface for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3908880" y="38088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Yes !! You are correct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2980800" y="12193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They come out for BREA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Picture 9" descr="lordrings1"/>
          <p:cNvPicPr/>
          <p:nvPr/>
        </p:nvPicPr>
        <p:blipFill>
          <a:blip r:embed="rId1"/>
          <a:stretch/>
        </p:blipFill>
        <p:spPr>
          <a:xfrm>
            <a:off x="3581280" y="3581280"/>
            <a:ext cx="3276720" cy="266724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applause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371600" y="20160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find their way with sound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keep in touch by clicks, barks and screa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C:\WINDOWS\Desktop\Dolphin_color.gif"/>
          <p:cNvPicPr/>
          <p:nvPr/>
        </p:nvPicPr>
        <p:blipFill>
          <a:blip r:embed="rId1"/>
          <a:stretch/>
        </p:blipFill>
        <p:spPr>
          <a:xfrm>
            <a:off x="990720" y="990720"/>
            <a:ext cx="7781760" cy="462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79" name="Нижний колонтитул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live in saltwater oceans and seas all over the world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It lives in ocea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They live in big group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Group of Dolphin is called School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Mos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幼圆"/>
              </a:rPr>
              <a:t>intelligen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animal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657600"/>
            <a:ext cx="2819160" cy="22892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7"/>
          <p:cNvSpPr/>
          <p:nvPr/>
        </p:nvSpPr>
        <p:spPr>
          <a:xfrm>
            <a:off x="0" y="3298680"/>
            <a:ext cx="9144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16765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Dolphins eat all kinds of sea cr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Fis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Crab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 lions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2"/>
              </a:rPr>
              <a:t>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3"/>
              </a:rPr>
              <a:t>  </a:t>
            </a: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     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4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ls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5" descr="sc1j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289548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329" name="Нижний колонтитул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981080"/>
            <a:ext cx="3189240" cy="255276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762120" y="2494080"/>
            <a:ext cx="1042920" cy="798480"/>
            <a:chOff x="762120" y="2494080"/>
            <a:chExt cx="1042920" cy="798480"/>
          </a:xfrm>
        </p:grpSpPr>
        <p:pic>
          <p:nvPicPr>
            <p:cNvPr id="333" name="Rectangl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62120" y="2494080"/>
              <a:ext cx="1042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38080" y="259092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6" action="ppaction://hlinksldjump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Rectangle 4"/>
          <p:cNvGrpSpPr/>
          <p:nvPr/>
        </p:nvGrpSpPr>
        <p:grpSpPr>
          <a:xfrm>
            <a:off x="7162920" y="2571840"/>
            <a:ext cx="1042920" cy="799920"/>
            <a:chOff x="7162920" y="2571840"/>
            <a:chExt cx="1042920" cy="799920"/>
          </a:xfrm>
        </p:grpSpPr>
        <p:pic>
          <p:nvPicPr>
            <p:cNvPr id="336" name="Rectangle 4" descr=""/>
            <p:cNvPicPr/>
            <p:nvPr/>
          </p:nvPicPr>
          <p:blipFill>
            <a:blip r:embed="rId7"/>
            <a:stretch/>
          </p:blipFill>
          <p:spPr>
            <a:xfrm>
              <a:off x="7162920" y="2571840"/>
              <a:ext cx="104292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238880" y="266688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8" action="ppaction://hlinksldjump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TextBox 5"/>
          <p:cNvSpPr/>
          <p:nvPr/>
        </p:nvSpPr>
        <p:spPr>
          <a:xfrm>
            <a:off x="2908440" y="1295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Нижний колонтитул 6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Go back and try second answ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5559480" y="3943440"/>
            <a:ext cx="1427040" cy="811080"/>
            <a:chOff x="5559480" y="3943440"/>
            <a:chExt cx="1427040" cy="811080"/>
          </a:xfrm>
        </p:grpSpPr>
        <p:pic>
          <p:nvPicPr>
            <p:cNvPr id="343" name="AutoShape 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5559480" y="3943440"/>
              <a:ext cx="14270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638680" y="4038480"/>
              <a:ext cx="1295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entury Gothic"/>
                  <a:ea typeface="幼圆"/>
                  <a:hlinkClick r:id="rId3" action="ppaction://hlinksldjump"/>
                </a:rPr>
                <a:t>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5" name="Picture 7" descr="jumpdolp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342900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346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8088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幼圆"/>
              </a:rPr>
              <a:t>Dolphins are not Fish , they are..</a:t>
            </a:r>
            <a:br>
              <a:rPr sz="3600"/>
            </a:br>
            <a:r>
              <a:rPr b="1" lang="en-US" sz="3600" spc="-1" strike="noStrike">
                <a:solidFill>
                  <a:srgbClr val="00b0f0"/>
                </a:solidFill>
                <a:latin typeface="Century Gothic"/>
                <a:ea typeface="幼圆"/>
              </a:rPr>
              <a:t>Mam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5" descr="home-dolphin-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124080"/>
            <a:ext cx="3657600" cy="269892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3482640" y="152280"/>
            <a:ext cx="49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 Black"/>
                <a:ea typeface="幼圆"/>
              </a:rPr>
              <a:t>Yes, you are CORRECT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Rectangle 6"/>
          <p:cNvGrpSpPr/>
          <p:nvPr/>
        </p:nvGrpSpPr>
        <p:grpSpPr>
          <a:xfrm>
            <a:off x="2882880" y="4627440"/>
            <a:ext cx="1060560" cy="1041480"/>
            <a:chOff x="2882880" y="4627440"/>
            <a:chExt cx="1060560" cy="1041480"/>
          </a:xfrm>
        </p:grpSpPr>
        <p:pic>
          <p:nvPicPr>
            <p:cNvPr id="351" name="Rectangle 6" descr=""/>
            <p:cNvPicPr/>
            <p:nvPr/>
          </p:nvPicPr>
          <p:blipFill>
            <a:blip r:embed="rId3"/>
            <a:stretch/>
          </p:blipFill>
          <p:spPr>
            <a:xfrm>
              <a:off x="2882880" y="4627440"/>
              <a:ext cx="10605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971800" y="47242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e2d700"/>
                  </a:solidFill>
                  <a:uFillTx/>
                  <a:latin typeface="Century Gothic"/>
                  <a:hlinkClick r:id="rId4" action="ppaction://hlinksldjump"/>
                </a:rPr>
                <a:t>HOW</a:t>
              </a:r>
              <a:r>
                <a:rPr b="1" lang="en-US" sz="2000" spc="-1" strike="noStrike">
                  <a:solidFill>
                    <a:srgbClr val="ffffff"/>
                  </a:solidFill>
                  <a:latin typeface="Century Gothic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have live you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feed their young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are warm-blood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5" descr="dolphin_and_baby"/>
          <p:cNvPicPr/>
          <p:nvPr/>
        </p:nvPicPr>
        <p:blipFill>
          <a:blip r:embed="rId2"/>
          <a:stretch/>
        </p:blipFill>
        <p:spPr>
          <a:xfrm>
            <a:off x="1600200" y="396252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/>
          <p:cNvSpPr/>
          <p:nvPr/>
        </p:nvSpPr>
        <p:spPr>
          <a:xfrm>
            <a:off x="3175560" y="99072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Because……………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371600" y="-42840"/>
            <a:ext cx="8229600" cy="1579680"/>
          </a:xfrm>
          <a:prstGeom prst="rect">
            <a:avLst/>
          </a:prstGeom>
          <a:ln w="0">
            <a:noFill/>
          </a:ln>
        </p:spPr>
      </p:pic>
      <p:sp>
        <p:nvSpPr>
          <p:cNvPr id="360" name="Cloud 4"/>
          <p:cNvSpPr/>
          <p:nvPr/>
        </p:nvSpPr>
        <p:spPr>
          <a:xfrm>
            <a:off x="152280" y="1905120"/>
            <a:ext cx="312444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breath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Cloud 5"/>
          <p:cNvSpPr/>
          <p:nvPr/>
        </p:nvSpPr>
        <p:spPr>
          <a:xfrm>
            <a:off x="5029200" y="18288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feed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Cloud 6"/>
          <p:cNvSpPr/>
          <p:nvPr/>
        </p:nvSpPr>
        <p:spPr>
          <a:xfrm>
            <a:off x="3429000" y="43434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3289320" y="304812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Нижний колонтитул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3"/>
          <p:cNvSpPr/>
          <p:nvPr/>
        </p:nvSpPr>
        <p:spPr>
          <a:xfrm>
            <a:off x="3398400" y="30492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Ooops!!! Wrong  answer, try agai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Rectangle 4"/>
          <p:cNvGrpSpPr/>
          <p:nvPr/>
        </p:nvGrpSpPr>
        <p:grpSpPr>
          <a:xfrm>
            <a:off x="3352680" y="2724120"/>
            <a:ext cx="2567160" cy="1042920"/>
            <a:chOff x="3352680" y="2724120"/>
            <a:chExt cx="2567160" cy="1042920"/>
          </a:xfrm>
        </p:grpSpPr>
        <p:pic>
          <p:nvPicPr>
            <p:cNvPr id="367" name="Rectangle 4" descr=""/>
            <p:cNvPicPr/>
            <p:nvPr/>
          </p:nvPicPr>
          <p:blipFill>
            <a:blip r:embed="rId1"/>
            <a:stretch/>
          </p:blipFill>
          <p:spPr>
            <a:xfrm>
              <a:off x="3352680" y="2724120"/>
              <a:ext cx="2567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429000" y="281952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entury Gothic"/>
                </a:rPr>
                <a:t>Go bac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1:19:11Z</dcterms:created>
  <dc:creator>Erin</dc:creator>
  <dc:description/>
  <dc:language>en-US</dc:language>
  <cp:lastModifiedBy>LEGION</cp:lastModifiedBy>
  <dcterms:modified xsi:type="dcterms:W3CDTF">2018-03-12T08:00:00Z</dcterms:modified>
  <cp:revision>21</cp:revision>
  <dc:subject/>
  <dc:title>PowerPoint Presentation</dc:title>
</cp:coreProperties>
</file>