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applause.wav" ContentType="audio/x-wav"/>
  <Override PartName="/ppt/media/image22.png" ContentType="image/png"/>
  <Override PartName="/ppt/media/cashreg.wav" ContentType="audio/x-wav"/>
  <Override PartName="/ppt/media/image4.jpeg" ContentType="image/jpeg"/>
  <Override PartName="/ppt/media/image21.png" ContentType="image/png"/>
  <Override PartName="/ppt/media/image19.png" ContentType="image/png"/>
  <Override PartName="/ppt/media/image18.png" ContentType="image/png"/>
  <Override PartName="/ppt/media/image15.png" ContentType="image/png"/>
  <Override PartName="/ppt/media/image14.jpeg" ContentType="image/jpeg"/>
  <Override PartName="/ppt/media/image16.png" ContentType="image/png"/>
  <Override PartName="/ppt/media/chimes.wav" ContentType="audio/x-wav"/>
  <Override PartName="/ppt/media/image2.jpeg" ContentType="image/jpeg"/>
  <Override PartName="/ppt/media/image3.png" ContentType="image/png"/>
  <Override PartName="/ppt/media/image1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0986-7D7B-4120-B669-A6FAE9EFA47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lph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Dolphi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breathe through lu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at , they must come up to sea -surface for 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breathe through the holes on top of their heads called blow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 !! You are correct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me out for BREA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breathe through lung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that , they must come up to sea -surface for a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breathe through the holes on top of their heads called blowho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es !! You are correct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come out for BREATH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y  Dolphins talk also!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find their way with sou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keep in touch by clicks, barks and scre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breathe through the holes on top of their heads called blow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y  Dolphins talk also!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find their way with sound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keep in touch by clicks, barks and screa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breathe through the holes on top of their heads called blowho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 Dolphins L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live in saltwater oceans and seas all over the wor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lives in oc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ive in big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of Dolphin is called School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telligent animal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do Dolphins Liv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live in saltwater oceans and seas all over the worl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lives in oce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live in big group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oup of Dolphin is called School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intelligent animal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Dolphins 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eat all kinds of sea crea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a lions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al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Do Dolphins Ea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eat all kinds of sea creat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a lions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als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Dolphin a Fis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your 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a Dolphin a Fish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ick on your ans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ops…try ag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back and try second 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ops…try agai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 back and try second ans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are not Fish , they are.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, you are CORRECT!!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are not Fish , they are.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mm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es, you are CORRECT!!!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are mam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have live yo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feed their young mi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are warm-bloo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…………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are mamm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have live you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feed their young mil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are warm-bloo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cause…………………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lphins come up?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related to their breath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related to their feed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related to their Gam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your 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Dolphins come up?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’s related to their breathing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’s related to their feeding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’s related to their Gam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ick on your ans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oops!!! Wrong  answer, try agai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b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oops!!! Wrong  answer, try again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 b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E4ED-9703-44E7-A64A-B352F6F5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5CA2-BB17-447E-9440-89DEC13C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D3E6-6F10-4EBE-BCD1-98E9EA020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1598-CFB5-406B-BD0C-D29F7A80B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31D3-4462-43BE-A53F-F61703A19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5304-2C99-498D-9CF7-FFBBF1A6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B769-7FE6-4D3C-BC09-D74A6681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2EE2-5615-4A41-88DD-4535D839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DDEB-4F24-41C8-B27D-1AEED141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1B6E-6C6A-4B7D-AC83-9F56B66F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61F1-E1A0-4968-B54B-E8191649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717A-51F1-4FEE-88BD-BEC00C3A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F382-4723-465C-B9FF-FF8FFE8C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7917-98FC-44FD-A8BC-F9A062A5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3D6A-5993-4FA6-A603-80025D7D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C6F2-9747-4287-8B8F-56B661DED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AAA3-59C5-475F-A2F9-71F6B010A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04C68-AC9D-4F56-8076-9401270DF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47BF2-23E1-447C-839F-44C1DBA9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91744-DFDA-4033-8EEB-5EE37EE3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63DF4-3BC6-43C3-8381-8A4947A0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73708-53F6-4A85-89EF-B828CA29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E378-B4EC-497F-9EA9-3DC73F46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0B207-7866-4713-8ADC-3400E0E9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63DCF-FB16-416E-964E-89738FD0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23811-6B3F-438A-B65E-B002D3B5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4118B-D847-440F-AE88-6DB0DB96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EC761-F0CF-4EEE-853D-23606C66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CAD8C-B327-421D-BA9D-C927F64EA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4124D-3CF7-4591-BB0B-0449A7C17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6A0D1-B1BC-4A25-AAB7-43916B07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B3C53-CDD1-4662-AAE8-2AB6D939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32536-725E-46AE-906F-58F52EAF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FC65-2D38-421A-8459-1EF84EFC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B865B-A760-4E77-91D0-260FD641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50F32-1504-40AC-963E-591A3C0F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534C4-B1F1-429C-9F08-11EA8B52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F1BBA-2531-4950-B1D3-E4E9AAFE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2DC12-E3CD-428D-B8BF-0401186A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441A3-E407-4719-8B42-B8233D10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791AF-C25D-4CE7-9559-259B7ACB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C77E9-3DDC-4E97-9A83-83F4A3AE5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A20CA-4BE2-4EFC-91D5-B863148A1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13A63-85DA-4C69-A6EC-6DCE01C14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1C8D-3781-4EFF-AD4F-45E7B19B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FA9C4-6C7C-43BA-91DF-25DBD7FD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5976F-1DE6-43B7-B953-A9408C66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024AE-506A-4461-9559-4DF19343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48A00-8547-434B-B0B0-02D2AFB8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FD4BC-1214-41B2-8455-01A12BE4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4EC5F-A52F-40FD-9B0C-86833C48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68CAE-097E-4E9D-8416-A97A83CF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8636A-970A-4C7D-B870-028B1FE0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A563A-021F-42BB-9AC6-3791AF74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DDCF9-4995-4E9E-BE89-087C9D841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12AA-C91E-4F71-BA39-3AA43DA8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7B3E0-F062-487D-A37D-9F6F79C8E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E616D-41EB-4226-B3F8-7D0727095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C0919-AB85-4688-AFF4-423A9288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7BFE3-9F5F-4D09-8075-8321BC99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8A42C-2692-4F9A-BC55-CE480481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67232-4CE9-4A4A-A6B6-8277E696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93ACE-0211-4247-AD0F-C11A8A23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BDDC4-EC6C-4725-BB09-0F97B8C9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68AB7-0B9F-47E7-89C2-EBD664F5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15EB2-27CA-4476-8334-0A055244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28F1-DDB9-4024-968F-464C6D6E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E5839-4A85-4EA6-8068-A0BC61F9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5F490-EAF8-480A-BC28-C967D8D0F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2748B-1A7A-42B7-896D-046B4A984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E5807-58FB-4BAD-969D-16E5E36CB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1378D-99A0-45CB-B86D-528B3150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68EB3-DF24-4FF5-A295-B612F956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E0203-AD21-44D8-8A66-DBE5611E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B5B13-EA50-4470-8C91-91E70169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F32CA-C6B0-4FC4-AA6E-F93F084E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CDEDC-8E37-4BA6-8B35-8A5D1E03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F849-0EB3-4CC4-B783-CD902D57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2DB6F-BC03-4133-B6BA-889D1606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54270-7D21-4FED-98A8-A76708E9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13069-DF42-49D2-A52F-9A29B8EF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04070-602A-43C6-9422-3758C4A3D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4F35F-96C8-4C3F-AF12-57B50D5F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2C2A-6597-4CC9-80A9-BC814356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A371-DDC9-494D-BB9A-AB7DFC40557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0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52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Равнобедренный треугольник 12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ffffff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EAF1-E235-466D-A48A-67AAB39FB3ED}" type="slidenum">
              <a:rPr b="0" lang="zh-CN" sz="1300" spc="-1" strike="noStrike">
                <a:solidFill>
                  <a:srgbClr val="ffffff"/>
                </a:solidFill>
                <a:latin typeface="Times New Roman"/>
                <a:ea typeface="幼圆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00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0AF6-AFDA-4CE4-9963-68FDB46684D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ый треугольник 12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Равнобедренный треугольник 15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Прямая соединительная линия 16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Прямая соединительная линия 17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34BA-698B-4B2D-8448-35F3802FA0F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E09F-8055-4B97-9B26-BB80C914CEF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1339-F2DB-46ED-95B5-79F5153D4262}" type="slidenum">
              <a:rPr b="0" lang="zh-CN" sz="9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A3B7-2D0F-4824-8E03-100A499E2494}" type="slidenum">
              <a:rPr b="0" lang="zh-CN" sz="900" spc="-1" strike="noStrike">
                <a:solidFill>
                  <a:srgbClr val="ffffff"/>
                </a:solidFill>
                <a:latin typeface="Times New Roman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google.com/imgres?imgurl=http://www.aua.am/web/group15/pic/Dolphins.jpg&amp;imgrefurl=http://www.aua.am/web/group15/&amp;h=291&amp;w=400&amp;sz=75&amp;tbnid=KN1-1IP5O2IJ:&amp;tbnh=87&amp;tbnw=120&amp;start=20&amp;prev=/images%3Fq%3DDolphins%26hl%3Den%26lr%3D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images.google.com/imgres?imgurl=http://www.marcellas-montages.com/montage_site/images/non_tv/dolphin.jpg&amp;imgrefurl=http://www.promotega.org/msc30037/dolp.%2520eat.htm&amp;h=600&amp;w=821&amp;sz=125&amp;tbnid=TiS_miP9nCwJ:&amp;tbnh=104&amp;tbnw=142&amp;start=12&amp;prev=/images%3Fq%3DDolphins%2Beating%26hl%3Den%26lr%3D%26sa%3DG" TargetMode="External"/><Relationship Id="rId3" Type="http://schemas.openxmlformats.org/officeDocument/2006/relationships/hyperlink" Target="http://www.spiralandcircle.com/fish%20bag.jpg" TargetMode="External"/><Relationship Id="rId4" Type="http://schemas.openxmlformats.org/officeDocument/2006/relationships/hyperlink" Target="http://www.spiralandcircle.com/fish%20bag.jpg" TargetMode="External"/><Relationship Id="rId5" Type="http://schemas.openxmlformats.org/officeDocument/2006/relationships/hyperlink" Target="http://images.google.com/imgres?imgurl=http://www.yoto98.noaa.gov/sc1j.jpg&amp;imgrefurl=http://www.yoto98.noaa.gov/links01.htm&amp;h=400&amp;w=400&amp;sz=106&amp;tbnid=rPUkrkhkATAJ:&amp;tbnh=120&amp;tbnw=120&amp;start=1&amp;prev=/images%3Fq%3DOcean%2BFish%26hl%3Den%26lr%3D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images.google.com/imgres?imgurl=http://www.rossanthony.com/D/images/dolphins.jpg&amp;imgrefurl=http://www.rossanthony.com/D/dolphins.shtml&amp;h=236&amp;w=400&amp;sz=25&amp;tbnid=8Hy7eB9rD0IJ:&amp;tbnh=70&amp;tbnw=119&amp;start=2&amp;prev=/images%3Fq%3DDolphins%26hl%3Den%26lr%3D%26sa%3DG" TargetMode="External"/><Relationship Id="rId3" Type="http://schemas.openxmlformats.org/officeDocument/2006/relationships/image" Target="../media/image8.jpeg"/><Relationship Id="rId4" Type="http://schemas.openxmlformats.org/officeDocument/2006/relationships/slide" Target="slide5.xml"/><Relationship Id="rId5" Type="http://schemas.openxmlformats.org/officeDocument/2006/relationships/image" Target="../media/image9.png"/><Relationship Id="rId6" Type="http://schemas.openxmlformats.org/officeDocument/2006/relationships/slide" Target="slide5.xml"/><Relationship Id="rId7" Type="http://schemas.openxmlformats.org/officeDocument/2006/relationships/image" Target="../media/image10.png"/><Relationship Id="rId8" Type="http://schemas.openxmlformats.org/officeDocument/2006/relationships/slide" Target="slide6.xml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" Target="slide4.xml"/><Relationship Id="rId4" Type="http://schemas.openxmlformats.org/officeDocument/2006/relationships/hyperlink" Target="http://images.google.com/imgres?imgurl=http://www.wildaboutdolphins.com/jumpdolp2.jpg&amp;imgrefurl=http://www.wildaboutdolphins.com/&amp;h=212&amp;w=201&amp;sz=15&amp;tbnid=1j1OfhwTPOsJ:&amp;tbnh=100&amp;tbnw=95&amp;start=18&amp;prev=/images%3Fq%3DDolphins%26hl%3Den%26lr%3D" TargetMode="External"/><Relationship Id="rId5" Type="http://schemas.openxmlformats.org/officeDocument/2006/relationships/image" Target="../media/image13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huang.ca/home/photos/home-dolphin-large.jpg&amp;imgrefurl=http://chuang.ca/&amp;h=349&amp;w=524&amp;sz=25&amp;tbnid=tXr627NzwZIJ:&amp;tbnh=85&amp;tbnw=128&amp;start=49&amp;prev=/images%3Fq%3DLarge%2BDolphin%2B%26start%3D40%26hl%3Den%26lr%3D%26sa%3DN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" Target="slide7.xml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WordArt 3"/>
          <p:cNvSpPr txBox="1"/>
          <p:nvPr/>
        </p:nvSpPr>
        <p:spPr>
          <a:xfrm>
            <a:off x="3809880" y="152280"/>
            <a:ext cx="3200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00000"/>
                </a:solidFill>
                <a:latin typeface="Arial Black"/>
              </a:rPr>
              <a:t>Dolphins</a:t>
            </a:r>
            <a:endParaRPr b="1" lang="en-US" sz="1800" spc="1" strike="noStrike">
              <a:ln w="0">
                <a:noFill/>
              </a:ln>
              <a:solidFill>
                <a:srgbClr val="c00000"/>
              </a:solidFill>
              <a:latin typeface="Arial Black"/>
              <a:ea typeface="Arial Black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3276720" y="28195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9" name="Picture 6" descr="C:\Documents and Settings\shmustic\Application Data\Microsoft\Media Catalog\Downloaded Clips\cl47\j0178773.jpg"/>
          <p:cNvPicPr/>
          <p:nvPr/>
        </p:nvPicPr>
        <p:blipFill>
          <a:blip r:embed="rId1"/>
          <a:stretch/>
        </p:blipFill>
        <p:spPr>
          <a:xfrm>
            <a:off x="2971800" y="2057400"/>
            <a:ext cx="3809880" cy="2540160"/>
          </a:xfrm>
          <a:prstGeom prst="rect">
            <a:avLst/>
          </a:prstGeom>
          <a:ln w="0">
            <a:noFill/>
          </a:ln>
        </p:spPr>
      </p:pic>
      <p:sp>
        <p:nvSpPr>
          <p:cNvPr id="320" name="Нижний колонтитул 4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3"/>
          <p:cNvSpPr/>
          <p:nvPr/>
        </p:nvSpPr>
        <p:spPr>
          <a:xfrm>
            <a:off x="228600" y="1905120"/>
            <a:ext cx="8686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breathe through lu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For that , they must come up to sea -surface for 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breathe through the holes on top of their heads called blowh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Box 4"/>
          <p:cNvSpPr/>
          <p:nvPr/>
        </p:nvSpPr>
        <p:spPr>
          <a:xfrm>
            <a:off x="3908880" y="380880"/>
            <a:ext cx="38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 Black"/>
              </a:rPr>
              <a:t>Yes !! You are correct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TextBox 5"/>
          <p:cNvSpPr/>
          <p:nvPr/>
        </p:nvSpPr>
        <p:spPr>
          <a:xfrm>
            <a:off x="2980800" y="121932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</a:rPr>
              <a:t>They come out for BREAT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3" name="Picture 9" descr="lordrings1"/>
          <p:cNvPicPr/>
          <p:nvPr/>
        </p:nvPicPr>
        <p:blipFill>
          <a:blip r:embed="rId1"/>
          <a:stretch/>
        </p:blipFill>
        <p:spPr>
          <a:xfrm>
            <a:off x="3581280" y="3581280"/>
            <a:ext cx="3276720" cy="2667240"/>
          </a:xfrm>
          <a:prstGeom prst="rect">
            <a:avLst/>
          </a:prstGeom>
          <a:ln w="0">
            <a:noFill/>
          </a:ln>
        </p:spPr>
      </p:pic>
      <p:sp>
        <p:nvSpPr>
          <p:cNvPr id="374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2" name="applause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1371600" y="201600"/>
            <a:ext cx="8229600" cy="14875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5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find their way with sounds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keep in touch by clicks, barks and scream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breathe through the holes on top of their heads called blowhol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Нижний колонтитул 3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3" descr="C:\WINDOWS\Desktop\Dolphin_color.gif"/>
          <p:cNvPicPr/>
          <p:nvPr/>
        </p:nvPicPr>
        <p:blipFill>
          <a:blip r:embed="rId1"/>
          <a:stretch/>
        </p:blipFill>
        <p:spPr>
          <a:xfrm>
            <a:off x="990720" y="990720"/>
            <a:ext cx="7781760" cy="4626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79" name="Нижний колонтитул 2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Rectangl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7772400" cy="11462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0" y="9903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live in saltwater oceans and seas all over the world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It lives in ocean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They live in big group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Group of Dolphin is called School 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Most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Times New Roman"/>
                <a:ea typeface="幼圆"/>
              </a:rPr>
              <a:t>intelligent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幼圆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animal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3" name="Picture 5" descr="Dolphin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91120" y="3657600"/>
            <a:ext cx="2819160" cy="228924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7"/>
          <p:cNvSpPr/>
          <p:nvPr/>
        </p:nvSpPr>
        <p:spPr>
          <a:xfrm>
            <a:off x="0" y="3298680"/>
            <a:ext cx="91440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Rectangle 2" descr=""/>
          <p:cNvPicPr/>
          <p:nvPr/>
        </p:nvPicPr>
        <p:blipFill>
          <a:blip r:embed="rId1"/>
          <a:stretch/>
        </p:blipFill>
        <p:spPr>
          <a:xfrm>
            <a:off x="16765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Dolphins eat all kinds of sea cr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Fis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Crab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Sea lions</a:t>
            </a:r>
            <a:r>
              <a:rPr b="0" lang="en-US" sz="3000" spc="-1" strike="noStrike" u="sng">
                <a:solidFill>
                  <a:srgbClr val="e2d700"/>
                </a:solidFill>
                <a:uFillTx/>
                <a:latin typeface="Times New Roman"/>
                <a:ea typeface="幼圆"/>
                <a:hlinkClick r:id="rId2"/>
              </a:rPr>
              <a:t> </a:t>
            </a:r>
            <a:r>
              <a:rPr b="0" lang="en-US" sz="3000" spc="-1" strike="noStrike" u="sng">
                <a:solidFill>
                  <a:srgbClr val="e2d700"/>
                </a:solidFill>
                <a:uFillTx/>
                <a:latin typeface="Times New Roman"/>
                <a:ea typeface="幼圆"/>
                <a:hlinkClick r:id="rId3"/>
              </a:rPr>
              <a:t>  </a:t>
            </a: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      </a:t>
            </a:r>
            <a:r>
              <a:rPr b="0" lang="en-US" sz="3000" spc="-1" strike="noStrike" u="sng">
                <a:solidFill>
                  <a:srgbClr val="e2d700"/>
                </a:solidFill>
                <a:uFillTx/>
                <a:latin typeface="Times New Roman"/>
                <a:ea typeface="幼圆"/>
                <a:hlinkClick r:id="rId4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Seals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8" name="Picture 5" descr="sc1j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191120" y="2895480"/>
            <a:ext cx="2895480" cy="2286000"/>
          </a:xfrm>
          <a:prstGeom prst="rect">
            <a:avLst/>
          </a:prstGeom>
          <a:ln w="0">
            <a:noFill/>
          </a:ln>
        </p:spPr>
      </p:pic>
      <p:sp>
        <p:nvSpPr>
          <p:cNvPr id="329" name="Нижний колонтитул 4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8" descr="dolphin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19520" y="1981080"/>
            <a:ext cx="3189240" cy="2552760"/>
          </a:xfrm>
          <a:prstGeom prst="rect">
            <a:avLst/>
          </a:prstGeom>
          <a:ln w="0">
            <a:noFill/>
          </a:ln>
        </p:spPr>
      </p:pic>
      <p:grpSp>
        <p:nvGrpSpPr>
          <p:cNvPr id="332" name="Rectangle 3"/>
          <p:cNvGrpSpPr/>
          <p:nvPr/>
        </p:nvGrpSpPr>
        <p:grpSpPr>
          <a:xfrm>
            <a:off x="762120" y="2494080"/>
            <a:ext cx="1042920" cy="798480"/>
            <a:chOff x="762120" y="2494080"/>
            <a:chExt cx="1042920" cy="798480"/>
          </a:xfrm>
        </p:grpSpPr>
        <p:pic>
          <p:nvPicPr>
            <p:cNvPr id="333" name="Rectangle 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62120" y="2494080"/>
              <a:ext cx="10429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838080" y="2590920"/>
              <a:ext cx="9144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e2d700"/>
                  </a:solidFill>
                  <a:uFillTx/>
                  <a:latin typeface="Century Gothic"/>
                  <a:hlinkClick r:id="rId6" action="ppaction://hlinksldjump"/>
                </a:rPr>
                <a:t>Y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" name="Rectangle 4"/>
          <p:cNvGrpSpPr/>
          <p:nvPr/>
        </p:nvGrpSpPr>
        <p:grpSpPr>
          <a:xfrm>
            <a:off x="7162920" y="2571840"/>
            <a:ext cx="1042920" cy="799920"/>
            <a:chOff x="7162920" y="2571840"/>
            <a:chExt cx="1042920" cy="799920"/>
          </a:xfrm>
        </p:grpSpPr>
        <p:pic>
          <p:nvPicPr>
            <p:cNvPr id="336" name="Rectangle 4" descr=""/>
            <p:cNvPicPr/>
            <p:nvPr/>
          </p:nvPicPr>
          <p:blipFill>
            <a:blip r:embed="rId7"/>
            <a:stretch/>
          </p:blipFill>
          <p:spPr>
            <a:xfrm>
              <a:off x="7162920" y="2571840"/>
              <a:ext cx="1042920" cy="79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238880" y="2666880"/>
              <a:ext cx="9144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e2d700"/>
                  </a:solidFill>
                  <a:uFillTx/>
                  <a:latin typeface="Century Gothic"/>
                  <a:hlinkClick r:id="rId8" action="ppaction://hlinksldjump"/>
                </a:rPr>
                <a:t>N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TextBox 5"/>
          <p:cNvSpPr/>
          <p:nvPr/>
        </p:nvSpPr>
        <p:spPr>
          <a:xfrm>
            <a:off x="2908440" y="1295280"/>
            <a:ext cx="29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ck on your ans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Нижний колонтитул 6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Rectangle 2" descr="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Gothic"/>
                <a:ea typeface="幼圆"/>
              </a:rPr>
              <a:t>Go back and try second answ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42" name="AutoShape 4"/>
          <p:cNvGrpSpPr/>
          <p:nvPr/>
        </p:nvGrpSpPr>
        <p:grpSpPr>
          <a:xfrm>
            <a:off x="5559480" y="3943440"/>
            <a:ext cx="1427040" cy="811080"/>
            <a:chOff x="5559480" y="3943440"/>
            <a:chExt cx="1427040" cy="811080"/>
          </a:xfrm>
        </p:grpSpPr>
        <p:pic>
          <p:nvPicPr>
            <p:cNvPr id="343" name="AutoShape 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5559480" y="3943440"/>
              <a:ext cx="142704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5638680" y="4038480"/>
              <a:ext cx="1295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2d700"/>
                  </a:solidFill>
                  <a:uFillTx/>
                  <a:latin typeface="Century Gothic"/>
                  <a:ea typeface="幼圆"/>
                  <a:hlinkClick r:id="rId3" action="ppaction://hlinksldjump"/>
                </a:rPr>
                <a:t>Bac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45" name="Picture 7" descr="jumpdolp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33720" y="3429000"/>
            <a:ext cx="2743200" cy="2666880"/>
          </a:xfrm>
          <a:prstGeom prst="rect">
            <a:avLst/>
          </a:prstGeom>
          <a:ln w="0">
            <a:noFill/>
          </a:ln>
        </p:spPr>
      </p:pic>
      <p:sp>
        <p:nvSpPr>
          <p:cNvPr id="346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  <p:sndAc>
      <p:stSnd>
        <p:snd r:embed="rId6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380880" y="1447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幼圆"/>
              </a:rPr>
              <a:t>Dolphins are not Fish , they are..</a:t>
            </a:r>
            <a:br>
              <a:rPr sz="3600"/>
            </a:br>
            <a:r>
              <a:rPr b="1" lang="en-US" sz="3600" spc="-1" strike="noStrike">
                <a:solidFill>
                  <a:srgbClr val="00b0f0"/>
                </a:solidFill>
                <a:latin typeface="Century Gothic"/>
                <a:ea typeface="幼圆"/>
              </a:rPr>
              <a:t>Mamm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Picture 5" descr="home-dolphin-lar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3124080"/>
            <a:ext cx="3657600" cy="2698920"/>
          </a:xfrm>
          <a:prstGeom prst="rect">
            <a:avLst/>
          </a:prstGeom>
          <a:ln w="0">
            <a:noFill/>
          </a:ln>
        </p:spPr>
      </p:pic>
      <p:sp>
        <p:nvSpPr>
          <p:cNvPr id="349" name="TextBox 5"/>
          <p:cNvSpPr/>
          <p:nvPr/>
        </p:nvSpPr>
        <p:spPr>
          <a:xfrm>
            <a:off x="3482640" y="152280"/>
            <a:ext cx="49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 Black"/>
                <a:ea typeface="幼圆"/>
              </a:rPr>
              <a:t>Yes, you are CORRECT!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0" name="Rectangle 6"/>
          <p:cNvGrpSpPr/>
          <p:nvPr/>
        </p:nvGrpSpPr>
        <p:grpSpPr>
          <a:xfrm>
            <a:off x="2882880" y="4627440"/>
            <a:ext cx="1060560" cy="1041480"/>
            <a:chOff x="2882880" y="4627440"/>
            <a:chExt cx="1060560" cy="1041480"/>
          </a:xfrm>
        </p:grpSpPr>
        <p:pic>
          <p:nvPicPr>
            <p:cNvPr id="351" name="Rectangle 6" descr=""/>
            <p:cNvPicPr/>
            <p:nvPr/>
          </p:nvPicPr>
          <p:blipFill>
            <a:blip r:embed="rId3"/>
            <a:stretch/>
          </p:blipFill>
          <p:spPr>
            <a:xfrm>
              <a:off x="2882880" y="4627440"/>
              <a:ext cx="106056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2971800" y="472428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e2d700"/>
                  </a:solidFill>
                  <a:uFillTx/>
                  <a:latin typeface="Century Gothic"/>
                  <a:hlinkClick r:id="rId4" action="ppaction://hlinksldjump"/>
                </a:rPr>
                <a:t>HOW</a:t>
              </a:r>
              <a:r>
                <a:rPr b="1" lang="en-US" sz="2000" spc="-1" strike="noStrike">
                  <a:solidFill>
                    <a:srgbClr val="ffffff"/>
                  </a:solidFill>
                  <a:latin typeface="Century Gothic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3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5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Rectangl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Gothic"/>
                <a:ea typeface="幼圆"/>
              </a:rPr>
              <a:t>Dolphins have live you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Gothic"/>
                <a:ea typeface="幼圆"/>
              </a:rPr>
              <a:t>Dolphins feed their young mil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Gothic"/>
                <a:ea typeface="幼圆"/>
              </a:rPr>
              <a:t>Dolphins are warm-blood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6" name="Picture 5" descr="dolphin_and_baby"/>
          <p:cNvPicPr/>
          <p:nvPr/>
        </p:nvPicPr>
        <p:blipFill>
          <a:blip r:embed="rId2"/>
          <a:stretch/>
        </p:blipFill>
        <p:spPr>
          <a:xfrm>
            <a:off x="1600200" y="3962520"/>
            <a:ext cx="2286000" cy="2057400"/>
          </a:xfrm>
          <a:prstGeom prst="rect">
            <a:avLst/>
          </a:prstGeom>
          <a:ln w="0">
            <a:noFill/>
          </a:ln>
        </p:spPr>
      </p:pic>
      <p:sp>
        <p:nvSpPr>
          <p:cNvPr id="357" name="TextBox 4"/>
          <p:cNvSpPr/>
          <p:nvPr/>
        </p:nvSpPr>
        <p:spPr>
          <a:xfrm>
            <a:off x="3175560" y="990720"/>
            <a:ext cx="452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orte"/>
              </a:rPr>
              <a:t>Because…………………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Rectangle 2" descr=""/>
          <p:cNvPicPr/>
          <p:nvPr/>
        </p:nvPicPr>
        <p:blipFill>
          <a:blip r:embed="rId1"/>
          <a:stretch/>
        </p:blipFill>
        <p:spPr>
          <a:xfrm>
            <a:off x="1371600" y="-42840"/>
            <a:ext cx="8229600" cy="1579680"/>
          </a:xfrm>
          <a:prstGeom prst="rect">
            <a:avLst/>
          </a:prstGeom>
          <a:ln w="0">
            <a:noFill/>
          </a:ln>
        </p:spPr>
      </p:pic>
      <p:sp>
        <p:nvSpPr>
          <p:cNvPr id="360" name="Cloud 4"/>
          <p:cNvSpPr/>
          <p:nvPr/>
        </p:nvSpPr>
        <p:spPr>
          <a:xfrm>
            <a:off x="152280" y="1905120"/>
            <a:ext cx="3124440" cy="91440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It’s related to their breathing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Cloud 5"/>
          <p:cNvSpPr/>
          <p:nvPr/>
        </p:nvSpPr>
        <p:spPr>
          <a:xfrm>
            <a:off x="5029200" y="1828800"/>
            <a:ext cx="3124080" cy="91440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It’s related to their feeding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Cloud 6"/>
          <p:cNvSpPr/>
          <p:nvPr/>
        </p:nvSpPr>
        <p:spPr>
          <a:xfrm>
            <a:off x="3429000" y="4343400"/>
            <a:ext cx="3124080" cy="91440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It’s related to their Gam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Box 8"/>
          <p:cNvSpPr/>
          <p:nvPr/>
        </p:nvSpPr>
        <p:spPr>
          <a:xfrm>
            <a:off x="3289320" y="3048120"/>
            <a:ext cx="29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ick on your ans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Нижний колонтитул 7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3"/>
          <p:cNvSpPr/>
          <p:nvPr/>
        </p:nvSpPr>
        <p:spPr>
          <a:xfrm>
            <a:off x="3398400" y="304920"/>
            <a:ext cx="52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Ooops!!! Wrong  answer, try again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Rectangle 4"/>
          <p:cNvGrpSpPr/>
          <p:nvPr/>
        </p:nvGrpSpPr>
        <p:grpSpPr>
          <a:xfrm>
            <a:off x="3352680" y="2724120"/>
            <a:ext cx="2567160" cy="1042920"/>
            <a:chOff x="3352680" y="2724120"/>
            <a:chExt cx="2567160" cy="1042920"/>
          </a:xfrm>
        </p:grpSpPr>
        <p:pic>
          <p:nvPicPr>
            <p:cNvPr id="367" name="Rectangle 4" descr=""/>
            <p:cNvPicPr/>
            <p:nvPr/>
          </p:nvPicPr>
          <p:blipFill>
            <a:blip r:embed="rId1"/>
            <a:stretch/>
          </p:blipFill>
          <p:spPr>
            <a:xfrm>
              <a:off x="3352680" y="2724120"/>
              <a:ext cx="256716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3429000" y="2819520"/>
              <a:ext cx="2438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entury Gothic"/>
                </a:rPr>
                <a:t>Go back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9" name="Нижний колонтитул 3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2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1:19:11Z</dcterms:created>
  <dc:creator>Erin</dc:creator>
  <dc:description/>
  <dc:language>en-US</dc:language>
  <cp:lastModifiedBy>LEGION</cp:lastModifiedBy>
  <dcterms:modified xsi:type="dcterms:W3CDTF">2018-03-12T08:00:00Z</dcterms:modified>
  <cp:revision>21</cp:revision>
  <dc:subject/>
  <dc:title>PowerPoint Presentation</dc:title>
</cp:coreProperties>
</file>