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applause.wav" ContentType="audio/x-wav"/>
  <Override PartName="/ppt/media/image22.png" ContentType="image/png"/>
  <Override PartName="/ppt/media/cashreg.wav" ContentType="audio/x-wav"/>
  <Override PartName="/ppt/media/image4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5.png" ContentType="image/png"/>
  <Override PartName="/ppt/media/image14.jpeg" ContentType="image/jpeg"/>
  <Override PartName="/ppt/media/image16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BF1C-CD75-47C7-816F-2C7B18228D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at , they must come up to sea -surface for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 !! You are correc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out for BREA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lu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hat , they must come up to sea -surface for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 !! You are correct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come out for BREATH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 Dolphins talk also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find their way with sou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keep in touch by clicks, barks and sc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y  Dolphins talk also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find their way with soun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keep in touch by clicks, barks and scr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Dolphins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live in saltwater oceans and seas all over the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ives in 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 in big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of Dolphin is called School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telligent 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o Dolphins Liv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live in saltwater oceans and seas all over the wor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lives in oce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live in big grou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p of Dolphin is called School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intelligent animal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Dolphins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eat all kinds of sea cre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lions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 Dolphins 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eat all kinds of sea cr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 lions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ls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Dolphin a Fis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your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Dolphin a Fish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ck on your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ps…try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back and try second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ops…try agai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 back and try second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not Fish , they are.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you are CORRECT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not Fish , they are.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, you are CORRECT!!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have live yo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feed their young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warm-bloo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……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mam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have live you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feed their young mi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warm-bloo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…………………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lphins come up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brea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feed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Ga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your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Dolphins come up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breath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feed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Gam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ck on your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ops!!! Wrong  answer, try aga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oops!!! Wrong  answer, try again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 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D4F-AA1A-4FBD-84EC-78117BBF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90B-7159-495A-9874-2D4F6209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34A-5FF9-4C0E-AC5A-475C0B15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5DB-DE0F-4A08-9470-D8547742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9304-D70C-4430-9D78-93933AA0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ED7C-131C-431C-9D22-2BFB26E5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5D10-6A6B-41DE-8252-8EE4E123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44AB-24C9-4ED0-B912-43B75FF3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61CF-C400-4B6E-BE0B-B8CD4DAE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EA19-293D-48E7-A010-47F9234B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C5DD-62BA-4666-AA7C-33A9DDC3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F82-C63A-4DC3-84D3-EA6228C7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89EC-E0D5-409C-AF13-56E31EF4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EEBC-466E-43E8-9700-331663BA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700E-B314-45A9-ABCD-B2411D9C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B6D9-FA91-40DF-931A-00DDE205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5E93-19E4-4D28-A06C-D89924A6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B3DE-88F0-4B05-81CC-62BE52B0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4080D-47C3-4839-A05B-FC346D9F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059C-7A16-4C18-88D2-49E54676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5B3A4-118D-41C7-87DD-8A9A9331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BC673-35F2-4D64-A442-ED437F75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86E4-E296-4FE1-BDEC-D254833A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EE4AA-18B8-4CB0-AF9E-FEDEC14B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8DA40-2A83-4676-86A2-4EFD8B9D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6E50A-0CB9-4001-B1FD-F6047186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0DC70-BC9E-4732-B73E-22A41D0B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71DE9-A2AA-4877-868F-A7BA91D7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455C8-3C9F-4C66-B828-6DEB8C28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E8586-2D68-4232-AC6F-8A974FF3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F525B-D47B-4A57-A5E4-4149F882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C05E4-2C93-4FCF-AAED-0D5F3F3D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90C58-A3AE-453A-AEB6-79AB3425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7F81-4121-4DC2-BBF1-DD4BEBB9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143E7-6F87-4E1A-B41B-07D9637E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931CC-FCFB-4B95-9757-D53D527A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A66AB-9306-4F4F-9240-945DF3BE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44829-095F-4160-9EA1-A6143C82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482AD-039E-46C0-A8D3-AD15D60A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763E8-6500-4F73-9A65-D8FEDB04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1586E-81B1-4ED5-A841-ABBEFF3F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53CBF-7B55-43BB-8010-C368AA92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D3DB8-EBB8-452B-BDF6-BE72CF80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ED4D9-7EFC-4FC3-B99D-80D0E5AF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9437-C679-4031-A376-077FD620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5169B-C24E-493E-BDA5-84E9A0F4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567FF-C31C-4801-9BE3-E2248D0F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54D28-444C-410C-9791-76C12B58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1513F-DF7A-4ED5-98B5-657A80D3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12145-E6DC-455E-B878-0CC57CDC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80A5E-CABD-495F-9257-8D15FB70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12F28-2897-4CF1-AB41-2AC90F88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3B818-46B3-47D4-9A00-EF0F132E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E46BB-0728-4F2A-86B3-AEA0DA1C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81B15-DF75-4049-958D-2EE1D177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97D-9E03-41EF-926B-7C654FF1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9BD82-73FA-4AFD-989C-A337456C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A91AF-42A6-4CE1-BFE0-349EA902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AA742-14C8-493A-A216-7FA2418D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D981B-DB65-4E97-B26B-F9E5EE26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64D36-FE93-4CDC-82BE-0E0C0E26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3A85F-29AC-4B71-AD96-C9945D93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B2A0A-7532-4A86-961D-6B265159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60989-08B6-450D-9592-313E227C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5706C-70E3-4FAD-89D8-B673976E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4DAA9-8C36-447A-92FD-E8D61196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888-85B4-4AAC-A789-384F3CFD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A9B3C-2FAA-47AF-AC2C-C7038D6B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4A1FD-0F7D-4148-9022-A9A3CACD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1FB05-7474-4E7B-934B-1C5BDEA0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19338-751F-40A7-BA54-353527AD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98F8A-972E-4C5A-BDA1-1BF7615F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CC920-AA5C-4CA9-9951-21D509E1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CB61F-D34F-464C-A492-FE2BD6A4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6A523-D248-46D7-85C0-24ECD9FF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AE93B-E479-4910-9FF1-31546231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CE708-028B-4B04-A207-61ED9C68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AFF-BBEE-464F-BB4E-4CD5C1E8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D1797-7463-43B1-9846-9ACFE898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BA5AD-283C-464B-92B8-002C2DA8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2C276-C5AA-4F41-BCB3-DB2AB5A2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A8AB8-E816-4645-BA20-686FCCA6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D7A04-4DF8-47EF-B273-348AE60C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C373-27BB-4960-AE07-1D012C43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332C-66F6-4C10-A3EC-18A66423420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Равнобедренный треугольник 12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5FC2-0BBE-45C8-ACF5-81770BB1332B}" type="slidenum">
              <a:rPr b="0" lang="zh-CN" sz="13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266F-3C38-4CE7-9EA7-05269CFF9AF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ый треугольник 12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Равнобедренный треугольник 15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Прямая соединительная линия 16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ая соединительная линия 17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72A9-A5D2-41D6-B815-DA3446E0C94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5896-8855-4818-9DA6-F317C52F4A4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8ED7-3BEE-4992-A76E-2CC74B9D725B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CAAB-EC76-455D-90F0-886DE5F8507A}" type="slidenum">
              <a:rPr b="0" lang="zh-CN" sz="9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aua.am/web/group15/pic/Dolphins.jpg&amp;imgrefurl=http://www.aua.am/web/group15/&amp;h=291&amp;w=400&amp;sz=75&amp;tbnid=KN1-1IP5O2IJ:&amp;tbnh=87&amp;tbnw=120&amp;start=20&amp;prev=/images%3Fq%3DDolphins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s.google.com/imgres?imgurl=http://www.marcellas-montages.com/montage_site/images/non_tv/dolphin.jpg&amp;imgrefurl=http://www.promotega.org/msc30037/dolp.%2520eat.htm&amp;h=600&amp;w=821&amp;sz=125&amp;tbnid=TiS_miP9nCwJ:&amp;tbnh=104&amp;tbnw=142&amp;start=12&amp;prev=/images%3Fq%3DDolphins%2Beating%26hl%3Den%26lr%3D%26sa%3DG" TargetMode="External"/><Relationship Id="rId3" Type="http://schemas.openxmlformats.org/officeDocument/2006/relationships/hyperlink" Target="http://www.spiralandcircle.com/fish%20bag.jpg" TargetMode="External"/><Relationship Id="rId4" Type="http://schemas.openxmlformats.org/officeDocument/2006/relationships/hyperlink" Target="http://www.spiralandcircle.com/fish%20bag.jpg" TargetMode="External"/><Relationship Id="rId5" Type="http://schemas.openxmlformats.org/officeDocument/2006/relationships/hyperlink" Target="http://images.google.com/imgres?imgurl=http://www.yoto98.noaa.gov/sc1j.jpg&amp;imgrefurl=http://www.yoto98.noaa.gov/links01.htm&amp;h=400&amp;w=400&amp;sz=106&amp;tbnid=rPUkrkhkATAJ:&amp;tbnh=120&amp;tbnw=120&amp;start=1&amp;prev=/images%3Fq%3DOcean%2BFish%26hl%3Den%26lr%3D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com/imgres?imgurl=http://www.rossanthony.com/D/images/dolphins.jpg&amp;imgrefurl=http://www.rossanthony.com/D/dolphins.shtml&amp;h=236&amp;w=400&amp;sz=25&amp;tbnid=8Hy7eB9rD0IJ:&amp;tbnh=70&amp;tbnw=119&amp;start=2&amp;prev=/images%3Fq%3DDolphins%26hl%3Den%26lr%3D%26sa%3DG" TargetMode="External"/><Relationship Id="rId3" Type="http://schemas.openxmlformats.org/officeDocument/2006/relationships/image" Target="../media/image8.jpeg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image" Target="../media/image10.png"/><Relationship Id="rId8" Type="http://schemas.openxmlformats.org/officeDocument/2006/relationships/slide" Target="slide6.xm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slide4.xml"/><Relationship Id="rId4" Type="http://schemas.openxmlformats.org/officeDocument/2006/relationships/hyperlink" Target="http://images.google.com/imgres?imgurl=http://www.wildaboutdolphins.com/jumpdolp2.jpg&amp;imgrefurl=http://www.wildaboutdolphins.com/&amp;h=212&amp;w=201&amp;sz=15&amp;tbnid=1j1OfhwTPOsJ:&amp;tbnh=100&amp;tbnw=95&amp;start=18&amp;prev=/images%3Fq%3DDolphins%26hl%3Den%26lr%3D" TargetMode="External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huang.ca/home/photos/home-dolphin-large.jpg&amp;imgrefurl=http://chuang.ca/&amp;h=349&amp;w=524&amp;sz=25&amp;tbnid=tXr627NzwZIJ:&amp;tbnh=85&amp;tbnw=128&amp;start=49&amp;prev=/images%3Fq%3DLarge%2BDolphin%2B%26start%3D4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" Target="slide7.xml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3"/>
          <p:cNvSpPr txBox="1"/>
          <p:nvPr/>
        </p:nvSpPr>
        <p:spPr>
          <a:xfrm>
            <a:off x="3809880" y="15228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0000"/>
                </a:solidFill>
                <a:latin typeface="Arial Black"/>
              </a:rPr>
              <a:t>Dolphins</a:t>
            </a:r>
            <a:endParaRPr b="1" lang="en-US" sz="1800" spc="1" strike="noStrike">
              <a:ln w="0">
                <a:noFill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3276720" y="2819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6" descr="C:\Documents and Settings\shmustic\Application Data\Microsoft\Media Catalog\Downloaded Clips\cl47\j0178773.jpg"/>
          <p:cNvPicPr/>
          <p:nvPr/>
        </p:nvPicPr>
        <p:blipFill>
          <a:blip r:embed="rId1"/>
          <a:stretch/>
        </p:blipFill>
        <p:spPr>
          <a:xfrm>
            <a:off x="2971800" y="20574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228600" y="1905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lu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For that , they must come up to sea -surface for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the holes on top of their heads called blow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3908880" y="380880"/>
            <a:ext cx="38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Yes !! You are correct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2980800" y="12193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They come out for BREA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Picture 9" descr="lordrings1"/>
          <p:cNvPicPr/>
          <p:nvPr/>
        </p:nvPicPr>
        <p:blipFill>
          <a:blip r:embed="rId1"/>
          <a:stretch/>
        </p:blipFill>
        <p:spPr>
          <a:xfrm>
            <a:off x="3581280" y="3581280"/>
            <a:ext cx="3276720" cy="266724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applause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371600" y="201600"/>
            <a:ext cx="8229600" cy="14875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find their way with sound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keep in touch by clicks, barks and scream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the holes on top of their heads called blowhol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Нижний колонтитул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C:\WINDOWS\Desktop\Dolphin_color.gif"/>
          <p:cNvPicPr/>
          <p:nvPr/>
        </p:nvPicPr>
        <p:blipFill>
          <a:blip r:embed="rId1"/>
          <a:stretch/>
        </p:blipFill>
        <p:spPr>
          <a:xfrm>
            <a:off x="990720" y="990720"/>
            <a:ext cx="7781760" cy="462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79" name="Нижний колонтитул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7772400" cy="1146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0" y="990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live in saltwater oceans and seas all over the world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It lives in ocea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They live in big group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Group of Dolphin is called School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Most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幼圆"/>
              </a:rPr>
              <a:t>intelligen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幼圆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animal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5" descr="Dolph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3657600"/>
            <a:ext cx="2819160" cy="22892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7"/>
          <p:cNvSpPr/>
          <p:nvPr/>
        </p:nvSpPr>
        <p:spPr>
          <a:xfrm>
            <a:off x="0" y="3298680"/>
            <a:ext cx="9144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16765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Dolphins eat all kinds of sea cr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Fis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Crab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Sea lions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2"/>
              </a:rPr>
              <a:t> 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3"/>
              </a:rPr>
              <a:t>  </a:t>
            </a: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      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4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Seals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5" descr="sc1j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91120" y="289548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329" name="Нижний колонтитул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dolph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1981080"/>
            <a:ext cx="3189240" cy="2552760"/>
          </a:xfrm>
          <a:prstGeom prst="rect">
            <a:avLst/>
          </a:prstGeom>
          <a:ln w="0">
            <a:noFill/>
          </a:ln>
        </p:spPr>
      </p:pic>
      <p:grpSp>
        <p:nvGrpSpPr>
          <p:cNvPr id="332" name="Rectangle 3"/>
          <p:cNvGrpSpPr/>
          <p:nvPr/>
        </p:nvGrpSpPr>
        <p:grpSpPr>
          <a:xfrm>
            <a:off x="762120" y="2494080"/>
            <a:ext cx="1042920" cy="798480"/>
            <a:chOff x="762120" y="2494080"/>
            <a:chExt cx="1042920" cy="798480"/>
          </a:xfrm>
        </p:grpSpPr>
        <p:pic>
          <p:nvPicPr>
            <p:cNvPr id="333" name="Rectangle 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62120" y="2494080"/>
              <a:ext cx="1042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38080" y="2590920"/>
              <a:ext cx="914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2d700"/>
                  </a:solidFill>
                  <a:uFillTx/>
                  <a:latin typeface="Century Gothic"/>
                  <a:hlinkClick r:id="rId6" action="ppaction://hlinksldjump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Rectangle 4"/>
          <p:cNvGrpSpPr/>
          <p:nvPr/>
        </p:nvGrpSpPr>
        <p:grpSpPr>
          <a:xfrm>
            <a:off x="7162920" y="2571840"/>
            <a:ext cx="1042920" cy="799920"/>
            <a:chOff x="7162920" y="2571840"/>
            <a:chExt cx="1042920" cy="799920"/>
          </a:xfrm>
        </p:grpSpPr>
        <p:pic>
          <p:nvPicPr>
            <p:cNvPr id="336" name="Rectangle 4" descr=""/>
            <p:cNvPicPr/>
            <p:nvPr/>
          </p:nvPicPr>
          <p:blipFill>
            <a:blip r:embed="rId7"/>
            <a:stretch/>
          </p:blipFill>
          <p:spPr>
            <a:xfrm>
              <a:off x="7162920" y="2571840"/>
              <a:ext cx="104292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238880" y="266688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2d700"/>
                  </a:solidFill>
                  <a:uFillTx/>
                  <a:latin typeface="Century Gothic"/>
                  <a:hlinkClick r:id="rId8" action="ppaction://hlinksldjump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TextBox 5"/>
          <p:cNvSpPr/>
          <p:nvPr/>
        </p:nvSpPr>
        <p:spPr>
          <a:xfrm>
            <a:off x="2908440" y="129528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ck on your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Нижний колонтитул 6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Go back and try second answ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2" name="AutoShape 4"/>
          <p:cNvGrpSpPr/>
          <p:nvPr/>
        </p:nvGrpSpPr>
        <p:grpSpPr>
          <a:xfrm>
            <a:off x="5559480" y="3943440"/>
            <a:ext cx="1427040" cy="811080"/>
            <a:chOff x="5559480" y="3943440"/>
            <a:chExt cx="1427040" cy="811080"/>
          </a:xfrm>
        </p:grpSpPr>
        <p:pic>
          <p:nvPicPr>
            <p:cNvPr id="343" name="AutoShape 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5559480" y="3943440"/>
              <a:ext cx="14270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638680" y="4038480"/>
              <a:ext cx="1295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entury Gothic"/>
                  <a:ea typeface="幼圆"/>
                  <a:hlinkClick r:id="rId3" action="ppaction://hlinksldjump"/>
                </a:rPr>
                <a:t>Ba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5" name="Picture 7" descr="jumpdolp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33720" y="3429000"/>
            <a:ext cx="2743200" cy="2666880"/>
          </a:xfrm>
          <a:prstGeom prst="rect">
            <a:avLst/>
          </a:prstGeom>
          <a:ln w="0">
            <a:noFill/>
          </a:ln>
        </p:spPr>
      </p:pic>
      <p:sp>
        <p:nvSpPr>
          <p:cNvPr id="346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  <p:sndAc>
      <p:stSnd>
        <p:snd r:embed="rId6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80880" y="1447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幼圆"/>
              </a:rPr>
              <a:t>Dolphins are not Fish , they are..</a:t>
            </a:r>
            <a:br>
              <a:rPr sz="3600"/>
            </a:br>
            <a:r>
              <a:rPr b="1" lang="en-US" sz="3600" spc="-1" strike="noStrike">
                <a:solidFill>
                  <a:srgbClr val="00b0f0"/>
                </a:solidFill>
                <a:latin typeface="Century Gothic"/>
                <a:ea typeface="幼圆"/>
              </a:rPr>
              <a:t>Mam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5" descr="home-dolphin-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124080"/>
            <a:ext cx="3657600" cy="2698920"/>
          </a:xfrm>
          <a:prstGeom prst="rect">
            <a:avLst/>
          </a:prstGeom>
          <a:ln w="0">
            <a:noFill/>
          </a:ln>
        </p:spPr>
      </p:pic>
      <p:sp>
        <p:nvSpPr>
          <p:cNvPr id="349" name="TextBox 5"/>
          <p:cNvSpPr/>
          <p:nvPr/>
        </p:nvSpPr>
        <p:spPr>
          <a:xfrm>
            <a:off x="3482640" y="152280"/>
            <a:ext cx="49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 Black"/>
                <a:ea typeface="幼圆"/>
              </a:rPr>
              <a:t>Yes, you are CORRECT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Rectangle 6"/>
          <p:cNvGrpSpPr/>
          <p:nvPr/>
        </p:nvGrpSpPr>
        <p:grpSpPr>
          <a:xfrm>
            <a:off x="2882880" y="4627440"/>
            <a:ext cx="1060560" cy="1041480"/>
            <a:chOff x="2882880" y="4627440"/>
            <a:chExt cx="1060560" cy="1041480"/>
          </a:xfrm>
        </p:grpSpPr>
        <p:pic>
          <p:nvPicPr>
            <p:cNvPr id="351" name="Rectangle 6" descr=""/>
            <p:cNvPicPr/>
            <p:nvPr/>
          </p:nvPicPr>
          <p:blipFill>
            <a:blip r:embed="rId3"/>
            <a:stretch/>
          </p:blipFill>
          <p:spPr>
            <a:xfrm>
              <a:off x="2882880" y="4627440"/>
              <a:ext cx="106056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971800" y="47242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e2d700"/>
                  </a:solidFill>
                  <a:uFillTx/>
                  <a:latin typeface="Century Gothic"/>
                  <a:hlinkClick r:id="rId4" action="ppaction://hlinksldjump"/>
                </a:rPr>
                <a:t>HOW</a:t>
              </a:r>
              <a:r>
                <a:rPr b="1" lang="en-US" sz="2000" spc="-1" strike="noStrike">
                  <a:solidFill>
                    <a:srgbClr val="ffffff"/>
                  </a:solidFill>
                  <a:latin typeface="Century Gothic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5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have live you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feed their young mil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are warm-blood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5" descr="dolphin_and_baby"/>
          <p:cNvPicPr/>
          <p:nvPr/>
        </p:nvPicPr>
        <p:blipFill>
          <a:blip r:embed="rId2"/>
          <a:stretch/>
        </p:blipFill>
        <p:spPr>
          <a:xfrm>
            <a:off x="1600200" y="3962520"/>
            <a:ext cx="2286000" cy="20574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"/>
          <p:cNvSpPr/>
          <p:nvPr/>
        </p:nvSpPr>
        <p:spPr>
          <a:xfrm>
            <a:off x="3175560" y="990720"/>
            <a:ext cx="45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rte"/>
              </a:rPr>
              <a:t>Because……………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1371600" y="-42840"/>
            <a:ext cx="8229600" cy="1579680"/>
          </a:xfrm>
          <a:prstGeom prst="rect">
            <a:avLst/>
          </a:prstGeom>
          <a:ln w="0">
            <a:noFill/>
          </a:ln>
        </p:spPr>
      </p:pic>
      <p:sp>
        <p:nvSpPr>
          <p:cNvPr id="360" name="Cloud 4"/>
          <p:cNvSpPr/>
          <p:nvPr/>
        </p:nvSpPr>
        <p:spPr>
          <a:xfrm>
            <a:off x="152280" y="1905120"/>
            <a:ext cx="312444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breath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Cloud 5"/>
          <p:cNvSpPr/>
          <p:nvPr/>
        </p:nvSpPr>
        <p:spPr>
          <a:xfrm>
            <a:off x="5029200" y="1828800"/>
            <a:ext cx="312408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feed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Cloud 6"/>
          <p:cNvSpPr/>
          <p:nvPr/>
        </p:nvSpPr>
        <p:spPr>
          <a:xfrm>
            <a:off x="3429000" y="4343400"/>
            <a:ext cx="312408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Ga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3289320" y="304812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on your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Нижний колонтитул 7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3"/>
          <p:cNvSpPr/>
          <p:nvPr/>
        </p:nvSpPr>
        <p:spPr>
          <a:xfrm>
            <a:off x="3398400" y="30492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Ooops!!! Wrong  answer, try agai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Rectangle 4"/>
          <p:cNvGrpSpPr/>
          <p:nvPr/>
        </p:nvGrpSpPr>
        <p:grpSpPr>
          <a:xfrm>
            <a:off x="3352680" y="2724120"/>
            <a:ext cx="2567160" cy="1042920"/>
            <a:chOff x="3352680" y="2724120"/>
            <a:chExt cx="2567160" cy="1042920"/>
          </a:xfrm>
        </p:grpSpPr>
        <p:pic>
          <p:nvPicPr>
            <p:cNvPr id="367" name="Rectangle 4" descr=""/>
            <p:cNvPicPr/>
            <p:nvPr/>
          </p:nvPicPr>
          <p:blipFill>
            <a:blip r:embed="rId1"/>
            <a:stretch/>
          </p:blipFill>
          <p:spPr>
            <a:xfrm>
              <a:off x="3352680" y="2724120"/>
              <a:ext cx="2567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429000" y="2819520"/>
              <a:ext cx="2438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entury Gothic"/>
                </a:rPr>
                <a:t>Go bac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Нижний колонтитул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1:19:11Z</dcterms:created>
  <dc:creator>Erin</dc:creator>
  <dc:description/>
  <dc:language>en-US</dc:language>
  <cp:lastModifiedBy>LEGION</cp:lastModifiedBy>
  <dcterms:modified xsi:type="dcterms:W3CDTF">2018-03-12T08:00:00Z</dcterms:modified>
  <cp:revision>21</cp:revision>
  <dc:subject/>
  <dc:title>PowerPoint Presentation</dc:title>
</cp:coreProperties>
</file>