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2DFF1-1FBC-4CAE-8353-09F8C47E3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 of Vertebr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with many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terotroph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thermic or ectother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 of Vertebr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with many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terotroph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thermic or ectother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back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m blooded (endother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the with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babies that are born al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fur or h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milk to feed their yo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back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m blooded (endother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the with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babies that are born al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fur or h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milk to feed their yo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 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mmals 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warm blooded (ectother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the with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fea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beak, two wings and two f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warm blooded (ectother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the with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fea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beak, two wings and two f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 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 are classified into three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ng birds           Flightless         Bird of Pre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 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 are classified into three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ng birds           Flightless         Bird of Pre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is Which?  Classify the Vertebr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is Which?  Classify the Vertebr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Vertebrat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ctive skin cov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ide or outside skele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that circulates  through blood vessels or lungs for brea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Vertebrat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ctive skin cov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ide or outside skele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that circulates  through blood vessels or lungs for brea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have legs or fins for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rain that processes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sense organs ( ears or tong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specialized organ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have legs or fins for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rain that processes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sense organs ( ears or tong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specialized organ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tebrates are Classified into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ve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ib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tebrates are Classified into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ve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ib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backb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d Blooded (ectother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water through g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lay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f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backb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d Blooded (ectother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water through g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lay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f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 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y fish =are fish with 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wless Fish=are fish without jaw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tilaginous Fish=are fish without bones, but have cartil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 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y fish =are fish with 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wless Fish=are fish without jaw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tilaginous Fish=are fish without bones, but have cartil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 Anat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sh Anat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ib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backb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cold bloo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reathe with gills in early life:breathe with lungs as ad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hru Metamorph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 jelly like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ib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backb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cold bloo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reathe with gills in early life:breathe with lungs as ad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hru Metamorph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 jelly like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backb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cold blooded (ectother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the with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have fangs that inject venom into pr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on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f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no 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backb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cold blooded (ectother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the with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have fangs that inject venom into pr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on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f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no 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B0EF-736B-4D0A-A92C-D91A43DF7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AC1D-D577-46E7-BCB8-AF3E0E514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E874-48B4-4DBE-B878-635E11096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490E-E27C-4FC3-A5CC-4ECCFC990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5140A-30A0-4504-BFBB-A0B5CCE97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D473A-4308-4012-8B2A-5C80AE13C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D1151-3FE6-4F5F-AD67-AD23C5586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882E4-0C2C-4B19-A7B7-E50898E08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19202-9752-4228-A334-9ED1EDE14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0474E-BEE9-409C-A7AF-ED0D993C2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3F198-FDF5-468A-A054-3C98DB116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0B30-177E-42D2-B0CB-C332D1712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4817A-EE53-46FA-8B60-094BFF05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1806A-53A0-4310-BED6-DC637955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FBEC9-2EFE-4ADE-8A6C-21DB58505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346D7-37C8-4C0D-997B-E604C42AB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46D3C-D9B2-48BB-B1C9-4146873C1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260BE-BED5-45E5-8F94-C1FFA0BB7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C8C9C-D18D-4616-A9B4-395C6F10B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D981C-F1D9-4507-97B1-D1D326D34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FEB4E-F44C-4C00-9351-9DCEBFEDB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1978C-BCB3-45E8-A508-1C9DD1E35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9947-996F-4C87-B4BE-8E2F9421C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D49DC-9615-43B6-9BA9-654FE80F4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10C40-8BD7-4588-9537-00726BA6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3A193-072F-4721-8132-278C5B1A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3ACFD-9660-46FD-8169-8C1867C35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35C42-7AE1-4B08-A350-E2A1E7EFB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A9291-0DB5-4ECF-B41E-0B8A6F3C8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A2C40-C451-49E1-8CE7-7D2D2542B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20495-37CB-4850-83D2-B63891AF8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5C529-B639-4B0C-8786-C165B9C45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F94DB-21DE-440A-9EE0-6B9827698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3930-7FE5-4728-919E-DD354581A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4803F-4587-401D-B004-A6703A863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AB176-FED3-441B-A66E-5D92EA298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04F20-C788-4A79-84E6-3BCBA0D4C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BC617-8D5A-477E-8D6E-A96F54679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ECC5D-41E7-44FB-B5A7-95B018BCE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604E6-6A38-4BBF-9D9E-77FF49E5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9468C-8DE2-4062-9E16-548883FD6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578A0-FAB4-41B8-A600-92877FE0D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825F6-9A26-4078-91B6-D5CF6E913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AA9686-B1A6-4F6C-9EEB-6C5112D5C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548C-EC56-4E57-85D8-F7F0F0989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A770D-333A-4842-B201-969B81EE5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9C5D34-A6D4-4E28-BEBD-F662A24AC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49AE7D-FE2C-4C68-A288-59396D9D8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54FB26-6767-4644-B8A5-AC2251993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05C4F-82D9-45F1-BCAA-8128C7548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D8AAF-1133-421C-96B2-0C9709B98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663BBC-D42B-474B-A46E-C2D9198A2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762161-4849-4DD7-8562-2EC3BBCC0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C9F05E-B4FC-4FAA-9A83-B3397D55E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44E87E-0615-4AC4-88AF-E892F2EC8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AC40-581E-44F1-BAAD-4B0AD2BC7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9CFCF-2938-4F2B-A9FC-DDF51DB44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956E-0363-4C57-BBFE-98B76F75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16C9-35BF-4CB6-B0E6-53DBDCD4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AC96-ADE0-4A5A-89C0-2567CEFE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D029C-8C01-490E-8F42-87242A4F4FBA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9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40ABC-D4AB-4E1E-A501-3FB95DFD42DD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ight Triangle 9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8F8C5-96AC-4F56-A90A-EC99C3E5EAA6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ight Triangle 9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3434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2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34342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424E8-90E1-4C5E-BF2B-98077FA51F70}" type="slidenum">
              <a:rPr b="0" lang="en-US" sz="1600" spc="-1" strike="noStrike">
                <a:solidFill>
                  <a:srgbClr val="434342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C2F07-0DC6-4F7D-A9B0-6B554724A2D8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lasthope.org/Twins1.JPG&amp;imgrefurl=http://www.lasthope.org/&amp;usg=__3ZE7DJjsuvzM1Qgly9ats1yIXic=&amp;h=480&amp;w=530&amp;sz=67&amp;hl=en&amp;start=8&amp;tbnid=BGWlEMCWGNB4MM:&amp;tbnh=120&amp;tbnw=132&amp;prev=/images%3Fq%3Danimals%26gbv%3D2%26hl%3Den%26safe%3Dactive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com/imgres?imgurl=http://animals.nationalgeographic.com/staticfiles/NGS/Shared/StaticFiles/animals/images/primary/black-spider-monkey.jpg&amp;imgrefurl=http://animals.nationalgeographic.com/animals/mammals/spider-monkey.html&amp;usg=__n6Yv8Za-hjIpAuxwh8lPCkdHcOY=&amp;h=324&amp;w=470&amp;sz=29&amp;hl=en&amp;start=3&amp;tbnid=b61MH5BWNmOEhM:&amp;tbnh=89&amp;tbnw=129&amp;prev=/images%3Fq%3DMonkey%26gbv%3D2%26hl%3Den%26safe%3Dactive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images.google.com/imgres?imgurl=http://store.got3d.com/images/animated-3d-people-models-casual-revolution-series.jpg&amp;imgrefurl=http://store.got3d.com/products/animated-3d-models-people-casual-rs1/index.html&amp;usg=__9hSGmND_h2AP7XoIu-NjPgY-JMQ=&amp;h=314&amp;w=400&amp;sz=66&amp;hl=en&amp;start=5&amp;tbnid=P8Lnu9FI5B7sLM:&amp;tbnh=97&amp;tbnw=124&amp;prev=/images%3Fq%3Danimated%2Bpeople%26gbv%3D2%26hl%3Den%26safe%3Dactive" TargetMode="Externa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whozoo.org/students/raymur/eagle52.jp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rayrolston.com/prints/dec07/pink_flamingos.jpg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images.google.com/imgres?imgurl=http://images.digitalmedianet.com/2007/Week_14/xjzmgakv/story/sb7.jpg&amp;imgrefurl=http://photoshop.digitalmedianet.com/articles/viewarticle.jsp%3Fid%3D124958-1&amp;usg=__pYUVBOi2I_3OHlodZq87HdqsTU0=&amp;h=405&amp;w=543&amp;sz=160&amp;hl=en&amp;start=48&amp;tbnid=AlPJ7So6Zi-GqM:&amp;tbnh=98&amp;tbnw=132&amp;prev=/images%3Fq%3Dsong%2Bbirds%26start%3D40%26ndsp%3D20%26hl%3Den%26safe%3Dactive%26sa%3DN" TargetMode="External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volunteersforwildlife.org/i/VW-snakes11.jpg&amp;imgrefurl=http://www.volunteersforwildlife.org/about/permanent_animals/&amp;usg=__l5fXPnfZG_7v15Agxl4DwHsBVHc=&amp;h=1818&amp;w=2728&amp;sz=349&amp;hl=en&amp;start=5&amp;tbnid=5TEf0MBlTjt1vM:&amp;tbnh=100&amp;tbnw=150&amp;prev=/images%3Fq%3Dsnakes%26gbv%3D2%26hl%3Den%26safe%3Dactive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s.google.com/imgres?imgurl=http://www.science.smith.edu/stopoverbirds/birdpixs/images/American%2520Goldfinch.jpg&amp;imgrefurl=http://www.science.smith.edu/stopoverbirds/birdpixs/pages/American%2520Goldfinch.html&amp;usg=__ERdw-t1sKjpPmWClEupnI4OZ_iA=&amp;h=405&amp;w=600&amp;sz=19&amp;hl=en&amp;start=5&amp;tbnid=HJMoe5o8aF_HiM:&amp;tbnh=91&amp;tbnw=135&amp;prev=/images%3Fq%3DGoldfinch%26gbv%3D2%26hl%3Den%26safe%3Dactive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images.google.com/imgres?imgurl=http://pond.dnr.cornell.edu/nyfish/centrarchidae/smallmouth_bass.jpg&amp;imgrefurl=http://pond.dnr.cornell.edu/nyfish/centrarchidae/smallmouth_bass.html&amp;usg=__m3AUHxEVwIbI_elfRBN2STXC6yA=&amp;h=455&amp;w=1020&amp;sz=110&amp;hl=en&amp;start=1&amp;tbnid=svY_lwOgNuK5IM:&amp;tbnh=67&amp;tbnw=150&amp;prev=/images%3Fq%3DBass%26gbv%3D2%26hl%3Den%26safe%3Dactive" TargetMode="External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DEFINITION OF VERTEBRATES 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organisms with many cell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eterotrophic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endothermic or ectothermic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4" name="Нижний колонтитул 3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2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MAMMAL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ave backbone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Warm blooded (endothermic)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Breathe with lung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ave babies that are born aliv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ave fur or hair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Produce milk to feed their young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2" name="Нижний колонтитул 3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0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768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8" dur="768" fill="hold"/>
                                        <p:tgtEl>
                                          <p:spTgt spid="2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0" dur="768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2" dur="768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MAMMALS (CONTINUED)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54" name="Picture 7" descr="Twins1">
            <a:hlinkClick r:id="rId1"/>
          </p:cNvPr>
          <p:cNvPicPr/>
          <p:nvPr/>
        </p:nvPicPr>
        <p:blipFill>
          <a:blip r:embed="rId2"/>
          <a:stretch/>
        </p:blipFill>
        <p:spPr>
          <a:xfrm rot="20115600">
            <a:off x="906480" y="1790280"/>
            <a:ext cx="1523880" cy="13860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3" descr="black-spider-monkey">
            <a:hlinkClick r:id="rId3"/>
          </p:cNvPr>
          <p:cNvPicPr/>
          <p:nvPr/>
        </p:nvPicPr>
        <p:blipFill>
          <a:blip r:embed="rId4"/>
          <a:stretch/>
        </p:blipFill>
        <p:spPr>
          <a:xfrm rot="894000">
            <a:off x="6629040" y="2209680"/>
            <a:ext cx="1981080" cy="13687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5" descr="animated-3d-people-models-casual-revolution-series">
            <a:hlinkClick r:id="rId5"/>
          </p:cNvPr>
          <p:cNvPicPr/>
          <p:nvPr/>
        </p:nvPicPr>
        <p:blipFill>
          <a:blip r:embed="rId6"/>
          <a:stretch/>
        </p:blipFill>
        <p:spPr>
          <a:xfrm rot="20985600">
            <a:off x="3412800" y="1901880"/>
            <a:ext cx="2209680" cy="1728720"/>
          </a:xfrm>
          <a:prstGeom prst="rect">
            <a:avLst/>
          </a:prstGeom>
          <a:ln w="0">
            <a:noFill/>
          </a:ln>
        </p:spPr>
      </p:pic>
      <p:sp>
        <p:nvSpPr>
          <p:cNvPr id="257" name="Нижний колонтитул 5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0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411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BIRD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Are warm blooded (ectothermic)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Breathe with lung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Lay egg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ave feather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ave a beak, two wings and two fee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60" name="Picture 4" descr="MPj04387650000[1]"/>
          <p:cNvPicPr/>
          <p:nvPr/>
        </p:nvPicPr>
        <p:blipFill>
          <a:blip r:embed="rId1"/>
          <a:stretch/>
        </p:blipFill>
        <p:spPr>
          <a:xfrm>
            <a:off x="5867280" y="2819520"/>
            <a:ext cx="3081600" cy="2290680"/>
          </a:xfrm>
          <a:prstGeom prst="rect">
            <a:avLst/>
          </a:prstGeom>
          <a:ln w="0">
            <a:noFill/>
          </a:ln>
        </p:spPr>
      </p:pic>
      <p:sp>
        <p:nvSpPr>
          <p:cNvPr id="261" name="Нижний колонтитул 4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BIRD CLASSIFICATION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Birds are classified into three group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ong birds           Flightless         Bird of Prey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64" name="Picture 5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24480" y="2657520"/>
            <a:ext cx="2362320" cy="20541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7" descr="See full 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86200" y="2590920"/>
            <a:ext cx="1598760" cy="22860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9" descr="sb7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7200" y="2744640"/>
            <a:ext cx="2666880" cy="1979640"/>
          </a:xfrm>
          <a:prstGeom prst="rect">
            <a:avLst/>
          </a:prstGeom>
          <a:ln w="0">
            <a:noFill/>
          </a:ln>
        </p:spPr>
      </p:pic>
      <p:sp>
        <p:nvSpPr>
          <p:cNvPr id="267" name="Нижний колонтитул 6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0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ASSIFICATION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Which is Which?  Classify the Vertebrates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70" name="Picture 5" descr="VW-snakes11">
            <a:hlinkClick r:id="rId1"/>
          </p:cNvPr>
          <p:cNvPicPr/>
          <p:nvPr/>
        </p:nvPicPr>
        <p:blipFill>
          <a:blip r:embed="rId2"/>
          <a:stretch/>
        </p:blipFill>
        <p:spPr>
          <a:xfrm rot="475200">
            <a:off x="610920" y="1572840"/>
            <a:ext cx="1904760" cy="12700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9" descr="American%2520Goldfinch">
            <a:hlinkClick r:id="rId3"/>
          </p:cNvPr>
          <p:cNvPicPr/>
          <p:nvPr/>
        </p:nvPicPr>
        <p:blipFill>
          <a:blip r:embed="rId4"/>
          <a:stretch/>
        </p:blipFill>
        <p:spPr>
          <a:xfrm rot="20929200">
            <a:off x="5037120" y="1571400"/>
            <a:ext cx="1600200" cy="10778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1" descr="smallmouth_bass">
            <a:hlinkClick r:id="rId5"/>
          </p:cNvPr>
          <p:cNvPicPr/>
          <p:nvPr/>
        </p:nvPicPr>
        <p:blipFill>
          <a:blip r:embed="rId6"/>
          <a:stretch/>
        </p:blipFill>
        <p:spPr>
          <a:xfrm rot="514200">
            <a:off x="6167160" y="2925360"/>
            <a:ext cx="1828800" cy="8175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5" descr="Eastern_Mud_Salamander_Pseudotriton_mlr"/>
          <p:cNvPicPr/>
          <p:nvPr/>
        </p:nvPicPr>
        <p:blipFill>
          <a:blip r:embed="rId7"/>
          <a:stretch/>
        </p:blipFill>
        <p:spPr>
          <a:xfrm rot="21196200">
            <a:off x="3438360" y="3254400"/>
            <a:ext cx="1676520" cy="1243080"/>
          </a:xfrm>
          <a:prstGeom prst="rect">
            <a:avLst/>
          </a:prstGeom>
          <a:ln w="0">
            <a:noFill/>
          </a:ln>
        </p:spPr>
      </p:pic>
      <p:sp>
        <p:nvSpPr>
          <p:cNvPr id="274" name="Нижний колонтитул 7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0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CHARACTERISTICS OF VERTEBRATE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Backbone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Protective skin covering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Inside or outside skeleton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Muscle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Blood that circulates  through blood vessels or lungs for breathing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7" name="Нижний колонтитул 3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Most have legs or fins for movemen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ave a nervous system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A brain that processes information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ave sense organs ( ears or tongue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ave specialized organ system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9" name="Text Box 8"/>
          <p:cNvSpPr/>
          <p:nvPr/>
        </p:nvSpPr>
        <p:spPr>
          <a:xfrm>
            <a:off x="12193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Нижний колонтитул 3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VERTEBRATES ARE CLASSIFIED INTO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FIVE GROUPS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sh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Amphibian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Reptile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Mammal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Bird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3" name="Нижний колонтитул 3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FISH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ave a backbon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old Blooded (ectothermic)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Obtain water through gill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Most lay egg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ave fin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Live in water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Нижний колонтитул 3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FISH CLASSIFICATION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Bony fish =are fish with bone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Jawless Fish=are fish without jaws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artilaginous Fish=are fish without bones, but have cartilag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9" name="Нижний колонтитул 3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FISH ANATOMY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41" name="Picture 4" descr="Fish-Anatomy"/>
          <p:cNvPicPr/>
          <p:nvPr/>
        </p:nvPicPr>
        <p:blipFill>
          <a:blip r:embed="rId1"/>
          <a:stretch/>
        </p:blipFill>
        <p:spPr>
          <a:xfrm>
            <a:off x="1851120" y="1100160"/>
            <a:ext cx="5464080" cy="3579840"/>
          </a:xfrm>
          <a:prstGeom prst="rect">
            <a:avLst/>
          </a:prstGeom>
          <a:ln w="0">
            <a:noFill/>
          </a:ln>
        </p:spPr>
      </p:pic>
      <p:sp>
        <p:nvSpPr>
          <p:cNvPr id="242" name="Нижний колонтитул 3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8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AMPHIBIAN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ave a backbon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Are cold blooded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an breathe with gills in early life:breathe with lungs as adult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Go thru Metamorphosi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Lay jelly like egg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5" name="Нижний колонтитул 3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8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REPTILE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Franklin Gothic Book"/>
              </a:rPr>
              <a:t>Have a backbone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Franklin Gothic Book"/>
              </a:rPr>
              <a:t>Are cold blooded (ectothermic)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Franklin Gothic Book"/>
              </a:rPr>
              <a:t>Breathe with lungs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Franklin Gothic Book"/>
              </a:rPr>
              <a:t>Lay eggs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Franklin Gothic Book"/>
              </a:rPr>
              <a:t>Some have fangs that inject venom into prey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Franklin Gothic Book"/>
              </a:rPr>
              <a:t>Have one lung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Franklin Gothic Book"/>
              </a:rPr>
              <a:t>No feet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Franklin Gothic Book"/>
              </a:rPr>
              <a:t>Have no ears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48" name="Picture 4" descr="MPj03142820000[1]"/>
          <p:cNvPicPr/>
          <p:nvPr/>
        </p:nvPicPr>
        <p:blipFill>
          <a:blip r:embed="rId1"/>
          <a:stretch/>
        </p:blipFill>
        <p:spPr>
          <a:xfrm>
            <a:off x="5410080" y="4971960"/>
            <a:ext cx="3733920" cy="1886040"/>
          </a:xfrm>
          <a:prstGeom prst="rect">
            <a:avLst/>
          </a:prstGeom>
          <a:ln w="0">
            <a:noFill/>
          </a:ln>
        </p:spPr>
      </p:pic>
      <p:sp>
        <p:nvSpPr>
          <p:cNvPr id="249" name="Нижний колонтитул 4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8:47:58Z</dcterms:created>
  <dc:creator>WEHS</dc:creator>
  <dc:description/>
  <dc:language>en-US</dc:language>
  <cp:lastModifiedBy>LEGION</cp:lastModifiedBy>
  <dcterms:modified xsi:type="dcterms:W3CDTF">2018-03-12T07:56:07Z</dcterms:modified>
  <cp:revision>12</cp:revision>
  <dc:subject/>
  <dc:title>Invertebrates and vertebrates</dc:title>
</cp:coreProperties>
</file>