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F2A1-4E83-4E50-AEC3-F752CDB73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Verteb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with many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hermic or ectother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Verteb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with many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hermic or ectother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ack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blooded (end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abies that are born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r or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ilk to feed their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ack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blooded (end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abies that are born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r or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ilk to feed their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mmal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arm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ea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eak, two wings and two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arm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ea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eak, two wings and two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 are classified into thre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g birds           Flightless         Bird of P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 are classified into thre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g birds           Flightless         Bird of P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hich?  Classify the Vertebr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hich?  Classify the Vertebr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Vertebrat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skin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or outside 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that circulates  through blood vessels or lungs for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Vertebrat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skin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or outside 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that circulates  through blood vessels or lungs for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ave legs or fins fo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ain that processes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ense organs ( ears or tong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pecialized orga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ave legs or fins fo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ain that processes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ense organs ( ears or tong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pecialized orga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ebrates are Classified into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ebrates are Classified into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water through g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water through g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y fish =are fish with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wless Fish=are fish without jaw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ilaginous Fish=are fish without bones, but have carti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y fish =are fish with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wless Fish=are fish without jaw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ilaginous Fish=are fish without bones, but have carti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sh 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 blo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reathe with gills in early life:breathe with lungs as ad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u Metamorph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jelly like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 blo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reathe with gills in early life:breathe with lungs as ad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u Metamorph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jelly like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have fangs that inject venom into p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on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no 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have fangs that inject venom into p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on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no 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9B8E-E239-42E3-BEB0-217EA87F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0A4D-A1A7-4961-A3E0-A2B3E69F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3895-2644-4860-8B43-E607E5B8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D3C5-4F64-4A83-BBA3-B4A746CBC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373A-10BB-4D16-B72D-6D89E4EBD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3684-C4D2-4E5F-8873-E6EA19CD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7421-4F8D-499E-9485-22A58AAC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92A2-FB43-4FAA-93CA-1221CA14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BD6E-9ADD-4A5C-9FAF-5BFDA1B6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28F0-C79A-4840-B7F8-D8919A9D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FDF4-A601-4334-A5ED-FA2A2D28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A212-16F7-4B08-8FF3-DB5001C9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3918-6F70-413D-861C-6DCC7C5E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F0AB-11F1-464F-BFA8-559E281F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2ADE-B7D4-4D85-B614-4FFDE9E6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095C-DD63-4EEA-8295-60104E245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2068-17B8-4DDE-AD25-27F20F45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4E99D-FF94-4575-86AC-228E511D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9EF50-A062-4FC4-9435-26656C64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027E6-130A-49A6-AAB2-3043CEA7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EFFDE-F0B5-4565-8FC0-5BC583E3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57D21-2183-4F32-898C-D2DE5192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1927-2A48-459E-9663-F11B1FE3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379FE-8517-4D1E-BB55-0B64DEF2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6063C-6269-4B16-B259-AEA1EE9E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BE80B-DBF4-44FA-9644-7E6D561B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B014F-A8FE-4486-A3A9-4716790B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24661-4EE7-4D58-BA71-16957AB4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8B9C7-B43B-4E3D-AB85-9C86C71E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FD0B8-B996-4ACF-BF01-29E84EE9F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3D340-2161-4612-8A49-1D247962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079F4-89F0-4D35-8329-6C775FF1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A61AD-8DBF-4FFE-9087-D9AAC750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B094-8453-452E-8EA9-D63970E8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8812E-7BE4-4B4F-8331-ED273A93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65B02-BD15-4DF6-AED2-35B6E69E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16E95-1D1C-4C9F-AFB4-6240D1DC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990AC-8C3D-4350-8041-F6A81A48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67F24-FDE7-42AA-B72A-9C3E2066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D90DF-5831-4B29-868E-11B01042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09918-9F88-486E-ADCF-A4D028CC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FFE9E-AE19-4BAB-805A-4BDE31B8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BA0BD-68F5-4A8E-A963-B49D053A1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98A05-0640-4686-B888-D7339712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CD4B-9BF0-4905-993A-32061462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E6C77-9C45-4F82-AF01-B0005665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260C9-86F8-4A3C-966B-C55F218A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5A14F-2F5A-48B0-A902-77927378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3E97A-8B99-4D66-AD44-758FC48C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681C2-B32A-4D0C-B95A-AC3804D6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92A94-32DD-48DB-BA59-316846F4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9A822-EC59-40A0-8DA7-A771E4FA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C70AD-6746-456A-854B-EE3439D1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94B77-7116-47A1-9984-E148112E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259E6-F74B-4728-B2AA-1902BD574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7F3A-A691-4000-A1FA-716EA32B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B97C5-62DB-474A-BDF9-4014A31F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68AF-1C18-4A4C-9F2F-01A72DFA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A873-8E1C-4656-AC3D-765D366B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6826-A7DA-4055-9761-824F2C06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9E8E-61CB-4FA1-B380-57B408BCC7DE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4338-F783-48EE-B005-5D3AE2C21CA8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C884-FAD5-4C11-9FBA-42CF8881AB13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D9D4-526A-4542-86CA-33EA5AEA2D91}" type="slidenum">
              <a:rPr b="0" lang="en-US" sz="1600" spc="-1" strike="noStrike">
                <a:solidFill>
                  <a:srgbClr val="434342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7AD1-AFBB-4BF9-A7AE-A22520D1D18C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asthope.org/Twins1.JPG&amp;imgrefurl=http://www.lasthope.org/&amp;usg=__3ZE7DJjsuvzM1Qgly9ats1yIXic=&amp;h=480&amp;w=530&amp;sz=67&amp;hl=en&amp;start=8&amp;tbnid=BGWlEMCWGNB4MM:&amp;tbnh=120&amp;tbnw=132&amp;prev=/images%3Fq%3Danimals%26gbv%3D2%26hl%3Den%26safe%3Dactive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animals.nationalgeographic.com/staticfiles/NGS/Shared/StaticFiles/animals/images/primary/black-spider-monkey.jpg&amp;imgrefurl=http://animals.nationalgeographic.com/animals/mammals/spider-monkey.html&amp;usg=__n6Yv8Za-hjIpAuxwh8lPCkdHcOY=&amp;h=324&amp;w=470&amp;sz=29&amp;hl=en&amp;start=3&amp;tbnid=b61MH5BWNmOEhM:&amp;tbnh=89&amp;tbnw=129&amp;prev=/images%3Fq%3DMonkey%26gbv%3D2%26hl%3Den%26safe%3Dactive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m/imgres?imgurl=http://store.got3d.com/images/animated-3d-people-models-casual-revolution-series.jpg&amp;imgrefurl=http://store.got3d.com/products/animated-3d-models-people-casual-rs1/index.html&amp;usg=__9hSGmND_h2AP7XoIu-NjPgY-JMQ=&amp;h=314&amp;w=400&amp;sz=66&amp;hl=en&amp;start=5&amp;tbnid=P8Lnu9FI5B7sLM:&amp;tbnh=97&amp;tbnw=124&amp;prev=/images%3Fq%3Danimated%2Bpeople%26gbv%3D2%26hl%3Den%26safe%3Dactive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whozoo.org/students/raymur/eagle52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rayrolston.com/prints/dec07/pink_flamingos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images.digitalmedianet.com/2007/Week_14/xjzmgakv/story/sb7.jpg&amp;imgrefurl=http://photoshop.digitalmedianet.com/articles/viewarticle.jsp%3Fid%3D124958-1&amp;usg=__pYUVBOi2I_3OHlodZq87HdqsTU0=&amp;h=405&amp;w=543&amp;sz=160&amp;hl=en&amp;start=48&amp;tbnid=AlPJ7So6Zi-GqM:&amp;tbnh=98&amp;tbnw=132&amp;prev=/images%3Fq%3Dsong%2Bbirds%26start%3D40%26ndsp%3D20%26hl%3Den%26safe%3Dactive%26sa%3DN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volunteersforwildlife.org/i/VW-snakes11.jpg&amp;imgrefurl=http://www.volunteersforwildlife.org/about/permanent_animals/&amp;usg=__l5fXPnfZG_7v15Agxl4DwHsBVHc=&amp;h=1818&amp;w=2728&amp;sz=349&amp;hl=en&amp;start=5&amp;tbnid=5TEf0MBlTjt1vM:&amp;tbnh=100&amp;tbnw=150&amp;prev=/images%3Fq%3Dsnakes%26gbv%3D2%26hl%3Den%26safe%3Dactive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science.smith.edu/stopoverbirds/birdpixs/images/American%2520Goldfinch.jpg&amp;imgrefurl=http://www.science.smith.edu/stopoverbirds/birdpixs/pages/American%2520Goldfinch.html&amp;usg=__ERdw-t1sKjpPmWClEupnI4OZ_iA=&amp;h=405&amp;w=600&amp;sz=19&amp;hl=en&amp;start=5&amp;tbnid=HJMoe5o8aF_HiM:&amp;tbnh=91&amp;tbnw=135&amp;prev=/images%3Fq%3DGoldfinch%26gbv%3D2%26hl%3Den%26safe%3Dactive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m/imgres?imgurl=http://pond.dnr.cornell.edu/nyfish/centrarchidae/smallmouth_bass.jpg&amp;imgrefurl=http://pond.dnr.cornell.edu/nyfish/centrarchidae/smallmouth_bass.html&amp;usg=__m3AUHxEVwIbI_elfRBN2STXC6yA=&amp;h=455&amp;w=1020&amp;sz=110&amp;hl=en&amp;start=1&amp;tbnid=svY_lwOgNuK5IM:&amp;tbnh=67&amp;tbnw=150&amp;prev=/images%3Fq%3DBass%26gbv%3D2%26hl%3Den%26safe%3Dactive" TargetMode="External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DEFINITION OF VERTEBRATES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organisms with many cell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eterotrophic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ndothermic or ectothermic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MAMMAL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backbon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arm blooded (endothermic)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reathe with lun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babies that are born aliv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fur or hair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roduce milk to feed their you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768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768" fill="hold"/>
                                        <p:tgtEl>
                                          <p:spTgt spid="2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0" dur="768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2" dur="768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MAMMALS (CONTINUED)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54" name="Picture 7" descr="Twins1">
            <a:hlinkClick r:id="rId1"/>
          </p:cNvPr>
          <p:cNvPicPr/>
          <p:nvPr/>
        </p:nvPicPr>
        <p:blipFill>
          <a:blip r:embed="rId2"/>
          <a:stretch/>
        </p:blipFill>
        <p:spPr>
          <a:xfrm rot="20115600">
            <a:off x="906480" y="1790280"/>
            <a:ext cx="1523880" cy="1386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3" descr="black-spider-monkey">
            <a:hlinkClick r:id="rId3"/>
          </p:cNvPr>
          <p:cNvPicPr/>
          <p:nvPr/>
        </p:nvPicPr>
        <p:blipFill>
          <a:blip r:embed="rId4"/>
          <a:stretch/>
        </p:blipFill>
        <p:spPr>
          <a:xfrm rot="894000">
            <a:off x="6629040" y="2209680"/>
            <a:ext cx="1981080" cy="1368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5" descr="animated-3d-people-models-casual-revolution-series">
            <a:hlinkClick r:id="rId5"/>
          </p:cNvPr>
          <p:cNvPicPr/>
          <p:nvPr/>
        </p:nvPicPr>
        <p:blipFill>
          <a:blip r:embed="rId6"/>
          <a:stretch/>
        </p:blipFill>
        <p:spPr>
          <a:xfrm rot="20985600">
            <a:off x="3412800" y="1901880"/>
            <a:ext cx="2209680" cy="1728720"/>
          </a:xfrm>
          <a:prstGeom prst="rect">
            <a:avLst/>
          </a:prstGeom>
          <a:ln w="0">
            <a:noFill/>
          </a:ln>
        </p:spPr>
      </p:pic>
      <p:sp>
        <p:nvSpPr>
          <p:cNvPr id="257" name="Нижний колонтитул 5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1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BIRD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re warm blooded (ectothermic)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reathe with lun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ay eg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feather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a beak, two wings and two fee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0" name="Picture 4" descr="MPj04387650000[1]"/>
          <p:cNvPicPr/>
          <p:nvPr/>
        </p:nvPicPr>
        <p:blipFill>
          <a:blip r:embed="rId1"/>
          <a:stretch/>
        </p:blipFill>
        <p:spPr>
          <a:xfrm>
            <a:off x="5867280" y="2819520"/>
            <a:ext cx="3081600" cy="2290680"/>
          </a:xfrm>
          <a:prstGeom prst="rect">
            <a:avLst/>
          </a:prstGeom>
          <a:ln w="0">
            <a:noFill/>
          </a:ln>
        </p:spPr>
      </p:pic>
      <p:sp>
        <p:nvSpPr>
          <p:cNvPr id="261" name="Нижний колонтитул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BIRD CLASSIFICA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irds are classified into three group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ong birds           Flightless         Bird of Prey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4" name="Picture 5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2657520"/>
            <a:ext cx="2362320" cy="20541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86200" y="2590920"/>
            <a:ext cx="1598760" cy="2286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sb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2744640"/>
            <a:ext cx="2666880" cy="1979640"/>
          </a:xfrm>
          <a:prstGeom prst="rect">
            <a:avLst/>
          </a:prstGeom>
          <a:ln w="0">
            <a:noFill/>
          </a:ln>
        </p:spPr>
      </p:pic>
      <p:sp>
        <p:nvSpPr>
          <p:cNvPr id="267" name="Нижний колонтитул 6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hich is Which?  Classify the Vertebrates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0" name="Picture 5" descr="VW-snakes11">
            <a:hlinkClick r:id="rId1"/>
          </p:cNvPr>
          <p:cNvPicPr/>
          <p:nvPr/>
        </p:nvPicPr>
        <p:blipFill>
          <a:blip r:embed="rId2"/>
          <a:stretch/>
        </p:blipFill>
        <p:spPr>
          <a:xfrm rot="475200">
            <a:off x="610920" y="1572840"/>
            <a:ext cx="1904760" cy="1270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American%2520Goldfinch">
            <a:hlinkClick r:id="rId3"/>
          </p:cNvPr>
          <p:cNvPicPr/>
          <p:nvPr/>
        </p:nvPicPr>
        <p:blipFill>
          <a:blip r:embed="rId4"/>
          <a:stretch/>
        </p:blipFill>
        <p:spPr>
          <a:xfrm rot="20929200">
            <a:off x="5037120" y="1571400"/>
            <a:ext cx="1600200" cy="10778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1" descr="smallmouth_bass">
            <a:hlinkClick r:id="rId5"/>
          </p:cNvPr>
          <p:cNvPicPr/>
          <p:nvPr/>
        </p:nvPicPr>
        <p:blipFill>
          <a:blip r:embed="rId6"/>
          <a:stretch/>
        </p:blipFill>
        <p:spPr>
          <a:xfrm rot="514200">
            <a:off x="6167160" y="2925360"/>
            <a:ext cx="1828800" cy="8175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5" descr="Eastern_Mud_Salamander_Pseudotriton_mlr"/>
          <p:cNvPicPr/>
          <p:nvPr/>
        </p:nvPicPr>
        <p:blipFill>
          <a:blip r:embed="rId7"/>
          <a:stretch/>
        </p:blipFill>
        <p:spPr>
          <a:xfrm rot="21196200">
            <a:off x="3438360" y="3254400"/>
            <a:ext cx="1676520" cy="1243080"/>
          </a:xfrm>
          <a:prstGeom prst="rect">
            <a:avLst/>
          </a:prstGeom>
          <a:ln w="0">
            <a:noFill/>
          </a:ln>
        </p:spPr>
      </p:pic>
      <p:sp>
        <p:nvSpPr>
          <p:cNvPr id="274" name="Нижний колонтитул 7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HARACTERISTICS OF VERTEBRAT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ackbon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rotective skin coveri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nside or outside skelet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uscl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lood that circulates  through blood vessels or lungs for breathi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ost have legs or fins for movemen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a nervous system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 brain that processes information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sense organs ( ears or tongu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specialized organ system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12193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VERTEBRATES ARE CLASSIFIED INTO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FIVE GROUP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sh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mphibian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eptil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ammal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ird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FISH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a backbon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old Blooded (ectothermic)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Obtain water through gill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ost lay eg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fin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ive in water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FISH CLASSIFICA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ony fish =are fish with bon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Jawless Fish=are fish without jaws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artilaginous Fish=are fish without bones, but have cartilag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FISH ANATOMY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1" name="Picture 4" descr="Fish-Anatomy"/>
          <p:cNvPicPr/>
          <p:nvPr/>
        </p:nvPicPr>
        <p:blipFill>
          <a:blip r:embed="rId1"/>
          <a:stretch/>
        </p:blipFill>
        <p:spPr>
          <a:xfrm>
            <a:off x="1851120" y="1100160"/>
            <a:ext cx="5464080" cy="3579840"/>
          </a:xfrm>
          <a:prstGeom prst="rect">
            <a:avLst/>
          </a:prstGeom>
          <a:ln w="0">
            <a:noFill/>
          </a:ln>
        </p:spPr>
      </p:pic>
      <p:sp>
        <p:nvSpPr>
          <p:cNvPr id="242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MPHIBIAN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a backbon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re cold blooded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an breathe with gills in early life:breathe with lungs as adult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Go thru Metamorphosi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ay jelly like eg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REPTIL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Have a backbon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Are cold blooded (ectothermic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Breathe with lung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Lay egg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Some have fangs that inject venom into prey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Have one lung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No feet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Have no ear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8" name="Picture 4" descr="MPj03142820000[1]"/>
          <p:cNvPicPr/>
          <p:nvPr/>
        </p:nvPicPr>
        <p:blipFill>
          <a:blip r:embed="rId1"/>
          <a:stretch/>
        </p:blipFill>
        <p:spPr>
          <a:xfrm>
            <a:off x="5410080" y="4971960"/>
            <a:ext cx="3733920" cy="1886040"/>
          </a:xfrm>
          <a:prstGeom prst="rect">
            <a:avLst/>
          </a:prstGeom>
          <a:ln w="0">
            <a:noFill/>
          </a:ln>
        </p:spPr>
      </p:pic>
      <p:sp>
        <p:nvSpPr>
          <p:cNvPr id="249" name="Нижний колонтитул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8:47:58Z</dcterms:created>
  <dc:creator>WEHS</dc:creator>
  <dc:description/>
  <dc:language>en-US</dc:language>
  <cp:lastModifiedBy>LEGION</cp:lastModifiedBy>
  <dcterms:modified xsi:type="dcterms:W3CDTF">2018-03-12T07:56:07Z</dcterms:modified>
  <cp:revision>12</cp:revision>
  <dc:subject/>
  <dc:title>Invertebrates and vertebrates</dc:title>
</cp:coreProperties>
</file>