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061D-DDC2-465F-9100-212565476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397-9F3B-45E4-BD24-E7EE674B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55A-B8EA-4F08-BA5C-3E5B52B2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588-0FAA-41B4-91DB-1C68766E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F04-33DA-4D44-93A7-9A67CBEB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45B-41C2-4091-B210-C63F6396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ABA-3D00-4AA8-9652-E9833915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2E6-6F95-4326-9720-A5950938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E7F-DF62-4060-AD4B-672458A3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FB0-C1C4-409C-B0EB-7BA3D5F2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D34-7941-468C-9B79-E2F1DCCD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1B8-1B1C-4108-AA99-0CDAABA4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3A5-B15B-4D9F-A9DD-8396C88A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B377-3B72-4423-85AC-F91CFC3C17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8BE0-9623-468E-B19C-7A5EFB695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aks ,feet &amp;claws of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beak:-  A  Parrot  hav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 curved   beak  t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ack  fruits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uts  and 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ods . such beak  i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alled   curved 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toes :-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   have  two  t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ward   and  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ackwards  for  climb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HP\Local Settings\Temporary Internet Files\Content.IE5\KFCR29GV\MP900442406[1].jpg"/>
          <p:cNvPicPr/>
          <p:nvPr/>
        </p:nvPicPr>
        <p:blipFill>
          <a:blip r:embed="rId1"/>
          <a:stretch/>
        </p:blipFill>
        <p:spPr>
          <a:xfrm>
            <a:off x="685800" y="167652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534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beak:-    A  Sparrow  have  a  short  and  hard   beak 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ushing   seeds   and  grains before  swallowing  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uch  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eak  is  called   crushing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Documents and Settings\HP\Local Settings\Temporary Internet Files\Content.IE5\MH2TGD0N\MP900448388[1].jpg"/>
          <p:cNvPicPr/>
          <p:nvPr/>
        </p:nvPicPr>
        <p:blipFill>
          <a:blip r:embed="rId1"/>
          <a:stretch/>
        </p:blipFill>
        <p:spPr>
          <a:xfrm>
            <a:off x="2819520" y="2743200"/>
            <a:ext cx="373356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ile  fly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HP\Local Settings\Temporary Internet Files\Content.IE5\KFCR29GV\MP900441095[1].jpg"/>
          <p:cNvPicPr/>
          <p:nvPr/>
        </p:nvPicPr>
        <p:blipFill>
          <a:blip r:embed="rId1"/>
          <a:stretch/>
        </p:blipFill>
        <p:spPr>
          <a:xfrm>
            <a:off x="0" y="121932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 feet :-  A  Duck  have  webbed  feet  for  swimming  in 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Documents and Settings\HP\Local Settings\Temporary Internet Files\Content.IE5\YBI1W3MN\MP900431832[1].jpg"/>
          <p:cNvPicPr/>
          <p:nvPr/>
        </p:nvPicPr>
        <p:blipFill>
          <a:blip r:embed="rId1"/>
          <a:stretch/>
        </p:blipFill>
        <p:spPr>
          <a:xfrm>
            <a:off x="0" y="228600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umitomo</dc:creator>
  <dc:description/>
  <dc:language>en-US</dc:language>
  <cp:lastModifiedBy>LEGION</cp:lastModifiedBy>
  <dcterms:modified xsi:type="dcterms:W3CDTF">2018-03-12T07:46:40Z</dcterms:modified>
  <cp:revision>16</cp:revision>
  <dc:subject/>
  <dc:title>Beaks and claws of Birds</dc:title>
</cp:coreProperties>
</file>