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464E-AB3D-4E9A-9614-E1FE7BB6E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F0B-34CC-44B2-832A-50D40C9C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932-1C0D-4A86-812E-D38F6131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3B4-0996-4A65-9725-1EF16CEB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0F6-30C8-4385-A74C-D58EAC30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925-7848-4775-AFFD-BECBA17B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00B-F79A-45DE-8F9D-1418BE19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0A5-26FF-4A3B-99A1-42317DCE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C11-F85C-42DB-97DC-7160F057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06F-17D7-491E-9EE4-D477D0E0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3BD-B7AA-45D4-9A5B-928C8571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FC8-B398-4634-A085-1ECEB5AB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0C5-13DD-4CBC-8933-A4F72708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0218-C4AF-48BE-91D7-4E2A886E3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ions and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9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4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541008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96" name="Text Box 7"/>
            <p:cNvSpPr/>
            <p:nvPr/>
          </p:nvSpPr>
          <p:spPr>
            <a:xfrm>
              <a:off x="380880" y="3962520"/>
              <a:ext cx="5334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chlorine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oxygen +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095880" y="3962520"/>
              <a:ext cx="2514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g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533520" y="990720"/>
            <a:ext cx="3276360" cy="459720"/>
          </a:xfrm>
          <a:prstGeom prst="rect">
            <a:avLst/>
          </a:prstGeom>
          <a:noFill/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valent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05520" y="990720"/>
            <a:ext cx="3352680" cy="45972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onic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1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P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ydrogen 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2H3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Sulf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g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2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2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a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2O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3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1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533520" y="2201760"/>
            <a:ext cx="8229600" cy="3442320"/>
            <a:chOff x="533520" y="2201760"/>
            <a:chExt cx="8229600" cy="3442320"/>
          </a:xfrm>
        </p:grpSpPr>
        <p:sp>
          <p:nvSpPr>
            <p:cNvPr id="74" name="Text Box 5"/>
            <p:cNvSpPr/>
            <p:nvPr/>
          </p:nvSpPr>
          <p:spPr>
            <a:xfrm>
              <a:off x="533520" y="2201760"/>
              <a:ext cx="822960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5105520" y="3276720"/>
              <a:ext cx="3657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77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79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8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2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wo elements join and one is a halogen, oxygen or sulphur the name ends with ____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Magnesium + oxygen 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magnesium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>
              <a:off x="502920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86" name="Text Box 7"/>
            <p:cNvSpPr/>
            <p:nvPr/>
          </p:nvSpPr>
          <p:spPr>
            <a:xfrm>
              <a:off x="380880" y="3962520"/>
              <a:ext cx="4191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thium + iod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+ cop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 + i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6095880" y="3962520"/>
              <a:ext cx="25146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228600" y="1066680"/>
            <a:ext cx="8686800" cy="2303640"/>
            <a:chOff x="228600" y="1066680"/>
            <a:chExt cx="8686800" cy="2303640"/>
          </a:xfrm>
        </p:grpSpPr>
        <p:sp>
          <p:nvSpPr>
            <p:cNvPr id="89" name="Text Box 4"/>
            <p:cNvSpPr/>
            <p:nvPr/>
          </p:nvSpPr>
          <p:spPr>
            <a:xfrm>
              <a:off x="228600" y="1066680"/>
              <a:ext cx="868680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3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two of them are hydrogen and oxygen the name ends with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Sodium + hydrogen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  Sodium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486400" y="3048120"/>
              <a:ext cx="568440" cy="152280"/>
            </a:xfrm>
            <a:prstGeom prst="rightArrow">
              <a:avLst>
                <a:gd name="adj1" fmla="val 50000"/>
                <a:gd name="adj2" fmla="val 933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1981080" y="4114800"/>
            <a:ext cx="53341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tass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h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8:16Z</dcterms:modified>
  <cp:revision>9</cp:revision>
  <dc:subject/>
  <dc:title>Naming Compounds cations and anions</dc:title>
</cp:coreProperties>
</file>