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F837-C95B-4B43-A156-6A9FA9123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arn about habit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arn about habit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area ,San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areas,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, on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est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o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ural home or environment of an animal  or a 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area ,San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areas,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, on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est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o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ural home or environment of an animal  or a 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learn about adapta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learn about adapta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s are body features and habits that enable a living thing to live comfortably in its natural surroundings (habit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s are body features and habits that enable a living thing to live comfortably in its natural surroundings (habit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oring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ed F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 Sinking into the s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rotect from ground-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top the s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ing the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l –Lives in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oring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ed F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 Sinking into the s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rotect from ground-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top the s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ing the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l –Lives in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rms and le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elp them s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swing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ir bodies. It al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pick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s to locate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t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rms and le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elp them s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swing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ir bodies. It al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pick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s to locate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t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absor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omes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pecial gills to take oxygen from water for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absor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omes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pecial gills to take oxygen from water for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0C3E-6364-4AF5-8B93-B68E3D54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CEF6-0D76-4DA2-9363-CAE56214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3208-F231-4D81-B101-08FA659C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595D-07D5-4F65-8973-D1A96CEA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154-BDEE-49B9-950A-7054D0A8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44A-BF37-4880-84BB-BD0D4E94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6E40-AE32-424B-9855-832026B5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76D-099F-4877-8636-39D888F5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D6B-D73B-467D-9D38-4FC0F599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A992-5A60-4B07-BE4C-E4212FB1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2443-C203-482A-9C36-601949C6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CE99-78FB-45CA-9F29-9B1DF8AC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A83A-6867-426D-A571-942FEF6209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A5A9-F852-4B34-B48E-B27C4EB10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LEARN ABOUT 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HABITA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722600" y="555480"/>
            <a:ext cx="1674720" cy="214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858000" y="571680"/>
            <a:ext cx="1914480" cy="1747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152280" y="27226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1773360" y="289548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ry area ,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353560" y="28954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ld areas, P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7456680" y="27669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n tr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3692520" y="684360"/>
            <a:ext cx="1486080" cy="200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5105520" y="861840"/>
            <a:ext cx="175248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5"/>
          <a:stretch/>
        </p:blipFill>
        <p:spPr>
          <a:xfrm>
            <a:off x="-30240" y="555480"/>
            <a:ext cx="1752840" cy="2143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14"/>
          <p:cNvSpPr/>
          <p:nvPr/>
        </p:nvSpPr>
        <p:spPr>
          <a:xfrm>
            <a:off x="3624840" y="290664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est, on 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08880" y="39625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qua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2212920" y="39625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se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4030560" y="396252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erre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5983200" y="39625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7818480" y="39736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bore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1366920" y="5391000"/>
            <a:ext cx="6080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Habita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natural home or environment of an animal  or a  pla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-30240" y="22320"/>
            <a:ext cx="909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Arial"/>
              </a:rPr>
              <a:t>What is a Habit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ижний колонтитул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W LEARN ABOUT 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ADAPTA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aptations are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ody featur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and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abi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that enable a living thing to live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mfortab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in it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atural surrounding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habita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81080" y="1000080"/>
            <a:ext cx="2190600" cy="219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3005280" y="1407960"/>
            <a:ext cx="2828880" cy="3619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22880" y="34210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wo Eyelash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6178320" y="1819440"/>
            <a:ext cx="19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um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 storing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6576840" y="4343400"/>
            <a:ext cx="2559240" cy="2370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3562560" y="5527800"/>
            <a:ext cx="30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added Fe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top Sinking into the s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nd protect from ground-he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7"/>
          <p:cNvCxnSpPr/>
          <p:nvPr/>
        </p:nvCxnSpPr>
        <p:spPr>
          <a:xfrm>
            <a:off x="2133360" y="2743200"/>
            <a:ext cx="1291320" cy="2404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12"/>
          <p:cNvCxnSpPr/>
          <p:nvPr/>
        </p:nvCxnSpPr>
        <p:spPr>
          <a:xfrm flipV="1">
            <a:off x="1275840" y="3006360"/>
            <a:ext cx="1080" cy="488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Straight Arrow Connector 16"/>
          <p:cNvCxnSpPr/>
          <p:nvPr/>
        </p:nvCxnSpPr>
        <p:spPr>
          <a:xfrm flipH="1" flipV="1">
            <a:off x="5409360" y="1726560"/>
            <a:ext cx="762840" cy="369000"/>
          </a:xfrm>
          <a:prstGeom prst="straightConnector1">
            <a:avLst/>
          </a:prstGeom>
          <a:ln w="4140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Straight Arrow Connector 17"/>
          <p:cNvCxnSpPr/>
          <p:nvPr/>
        </p:nvCxnSpPr>
        <p:spPr>
          <a:xfrm flipV="1">
            <a:off x="4856040" y="4952160"/>
            <a:ext cx="210240" cy="57564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3" name="Straight Arrow Connector 20"/>
          <p:cNvCxnSpPr/>
          <p:nvPr/>
        </p:nvCxnSpPr>
        <p:spPr>
          <a:xfrm>
            <a:off x="5218200" y="4952520"/>
            <a:ext cx="1488240" cy="756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4" name="TextBox 24"/>
          <p:cNvSpPr/>
          <p:nvPr/>
        </p:nvSpPr>
        <p:spPr>
          <a:xfrm>
            <a:off x="539640" y="403848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top the s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tering the 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61920" y="7632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Camel –Lives in Deser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4419360" cy="480348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4"/>
          <p:cNvCxnSpPr/>
          <p:nvPr/>
        </p:nvCxnSpPr>
        <p:spPr>
          <a:xfrm flipV="1">
            <a:off x="1447920" y="5355360"/>
            <a:ext cx="1087920" cy="74052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9" name="Straight Arrow Connector 5"/>
          <p:cNvCxnSpPr/>
          <p:nvPr/>
        </p:nvCxnSpPr>
        <p:spPr>
          <a:xfrm flipV="1">
            <a:off x="1676520" y="5344560"/>
            <a:ext cx="2015280" cy="9039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0" name="TextBox 6"/>
          <p:cNvSpPr/>
          <p:nvPr/>
        </p:nvSpPr>
        <p:spPr>
          <a:xfrm>
            <a:off x="626760" y="6248520"/>
            <a:ext cx="26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ong arms and le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help them sw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6111720" y="2514600"/>
            <a:ext cx="273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t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lps them to swing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alance their bodies. It al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lps them to pick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Straight Arrow Connector 9"/>
          <p:cNvCxnSpPr/>
          <p:nvPr/>
        </p:nvCxnSpPr>
        <p:spPr>
          <a:xfrm flipH="1">
            <a:off x="4571280" y="2742840"/>
            <a:ext cx="1586520" cy="972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3" name="Straight Arrow Connector 12"/>
          <p:cNvCxnSpPr/>
          <p:nvPr/>
        </p:nvCxnSpPr>
        <p:spPr>
          <a:xfrm>
            <a:off x="1066320" y="3962160"/>
            <a:ext cx="2194920" cy="10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4" name="TextBox 13"/>
          <p:cNvSpPr/>
          <p:nvPr/>
        </p:nvSpPr>
        <p:spPr>
          <a:xfrm>
            <a:off x="0" y="312264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y make differ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unds to locate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reet each 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4400" y="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Monke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23880" y="1657440"/>
            <a:ext cx="4996080" cy="3543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519280" y="1295280"/>
            <a:ext cx="20354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Oxygen is absorb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Straight Arrow Connector 8"/>
          <p:cNvCxnSpPr/>
          <p:nvPr/>
        </p:nvCxnSpPr>
        <p:spPr>
          <a:xfrm>
            <a:off x="3335040" y="1581120"/>
            <a:ext cx="856440" cy="15436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9"/>
          <p:cNvSpPr/>
          <p:nvPr/>
        </p:nvSpPr>
        <p:spPr>
          <a:xfrm>
            <a:off x="6424560" y="4822920"/>
            <a:ext cx="2655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Carbon dioxide comes 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" name="Straight Arrow Connector 12"/>
          <p:cNvCxnSpPr/>
          <p:nvPr/>
        </p:nvCxnSpPr>
        <p:spPr>
          <a:xfrm flipH="1" flipV="1">
            <a:off x="4876560" y="3885840"/>
            <a:ext cx="1542240" cy="129600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TextBox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Fis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1910160" y="5446800"/>
            <a:ext cx="564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ave special gills to take oxygen from water for respi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52280" y="1147680"/>
            <a:ext cx="8839440" cy="56660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exploringnature.org/graphics/adaptation_jpgs/polar%20bear.jpg"/>
          <p:cNvPicPr/>
          <p:nvPr/>
        </p:nvPicPr>
        <p:blipFill>
          <a:blip r:embed="rId1"/>
          <a:stretch/>
        </p:blipFill>
        <p:spPr>
          <a:xfrm>
            <a:off x="0" y="1143000"/>
            <a:ext cx="9067680" cy="5029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0:47:27Z</dcterms:created>
  <dc:creator>makemegenius</dc:creator>
  <dc:description/>
  <dc:language>en-US</dc:language>
  <cp:lastModifiedBy>LEGION</cp:lastModifiedBy>
  <dcterms:modified xsi:type="dcterms:W3CDTF">2018-03-12T07:40:07Z</dcterms:modified>
  <cp:revision>30</cp:revision>
  <dc:subject/>
  <dc:title>PowerPoint Presentation</dc:title>
</cp:coreProperties>
</file>