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FE44-AD55-42D9-B45D-0493F2338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re multicellular, heterotrophic eukaryotes with tissues that develop from embryonic lay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exceptions to nearly every criterion for distinguishing animals from other life-fo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3 million living species of animals have been ident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re multicellular, heterotrophic eukaryotes with tissues that develop from embryonic lay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exceptions to nearly every criterion for distinguishing animals from other life-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3 million living species of animals have been ident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eozoic Era (542–251 Million Years A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mbrian explosion (535 to 525 million years ago) marks the earliest fossil appearance of many major groups of living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everal hypotheses regarding the cause of the Cambrian expl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predator-prey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se in atmospheric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volution of the Hox gene comple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eozoic Era (542–251 Million Years Ag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mbrian explosion (535 to 525 million years ago) marks the earliest fossil appearance of many major groups of living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everal hypotheses regarding the cause of the Cambrian expl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predator-prey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se in atmospheric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volution of the Hox gene compl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mbrian seasc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mbrian seasc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zoic Era (251–65.5 Million Years A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diversity continued to increase through the Paleozoic, but was punctuated by mass exti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began to make an impact on land by 460 million years ag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brates made the transition to land around 360 million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al reefs emerged, becoming important marine ecological niches for other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Mesozoic era, dinosaurs were the dominant terrestrial vertebr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mammals emerg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zoic Era (251–65.5 Million Years Ag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diversity continued to increase through the Paleozoic, but was punctuated by mass extin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began to make an impact on land by 460 million years ag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brates made the transition to land around 360 million years a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al reefs emerged, becoming important marine ecological niches for other org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Mesozoic era, dinosaurs were the dominant terrestrial vertebr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mammals emer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ozoic Era (65.5 Million Years Ago to the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ginning of the Cenozoic era followed mass extinctions of both terrestrial and marine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extinctions included the large, nonflying dinosaurs and the marine rept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ammal orders and insects diversified during the Cenozo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ozoic Era (65.5 Million Years Ago to the Pres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ginning of the Cenozoic era followed mass extinctions of both terrestrial and marine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extinctions included the large, nonflying dinosaurs and the marine repti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ammal orders and insects diversified during the Cenozo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can be characterized by “body plan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ologists sometimes categorize animals according to a body plan, a set of morphological and developmental tra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ade is a group whose members share key biological fea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ade is not necessarily a clade, or monophyletic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can be characterized by “body plan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ologists sometimes categorize animals according to a body plan, a set of morphological and developmental trai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ade is a group whose members share key biological fea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ade is not necessarily a clade, or monophyletic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Plan -- Sym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can be categorized according to the symmetry of their bodies, or lack of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nimals have radial symme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-sided symmetry is called bilateral symme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with bilateral symmetry ha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orsal (top) side and a ventral (bottom)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ght and left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rior (head) and posterior (tail) 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phalization, the development of a head. (Brain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Plan --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can be categorized according to the symmetry of their bodies, or lack of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nimals have radial 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-sided symmetry is called bilateral 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with bilateral symmetry h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orsal (top) side and a ventral (bottom)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ght and lef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rior (head) and posterior (tail) 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phalization, the development of a head. (Brain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Body Sym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Radial sym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Bilateral sym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Body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Radial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Bilateral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Plan --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body plans also vary according to the organization of the animal’s t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s are collections of specialized cells isolated from other tissues by membranous lay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development, three germ layers give rise to the tissues and organs of the animal embry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Plan -- 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body plans also vary according to the organization of the animal’s t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s are collections of specialized cells isolated from other tissues by membranous lay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development, three germ layers give rise to the tissues and organs of the animal embry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is the germ layer covering the embryo’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 is the innermost germ layer and lines the developing digestive tube, called the archente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loblastic animals have ectoderm and  endode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also have a middle mesoderm layer; these include all bilateri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Germ Lay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is the germ layer covering the embryo’s su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 is the innermost germ layer and lines the developing digestive tube, called the archente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loblastic animals have ectoderm and  endod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also have a middle mesoderm layer; these include all bilateri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Germ Lay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aviti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ost triploblastic animals possess a body cav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ue body cavity is called a coelom and is derived from mesoderm.  Coelomates are animals that possess a true coel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seudocoelom is a body cavity derived from the mesoderm and endoderm.  Triploblastic animals that possess a pseudocoelom are called pseudocoelom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that lack a body cavity are called acoelom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aviti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ost triploblastic animals possess a body cavit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ue body cavity is called a coelom and is derived from mesoderm.  Coelomates are animals that possess a true coel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seudocoelom is a body cavity derived from the mesoderm and endoderm.  Triploblastic animals that possess a pseudocoelom are called pseudocoelom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that lack a body cavity are called acoeloma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of these organisms are anim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of these organisms are anim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Body Ca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 layer lining 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uspending internal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oelomate - true body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seudo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Pseudocoel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ed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 of digestive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Acoelomate - lack a body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Body Cav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 layer lining coel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uspending internal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mes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oelomate - true body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seudocoel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Pseudocoelo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ed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 of digestive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Acoelomate - lack a body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protostome or deuterostome developme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rotostome development, cleavage is spiral and determin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euterostome development, cleavage is radial and indetermin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indeterminate cleavage, each cell in the early stages of cleavage retains the capacity to develop into a complete embry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terminate cleavage makes possible identical twins, and embryonic stem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protostome or deuterostome developme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rotostome development, cleavage is spiral and determin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euterostome development, cleavage is radial and indetermin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indeterminate cleavage, each cell in the early stages of cleavage retains the capacity to develop into a complete embry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terminate cleavage makes possible identical twins, and embryonic stem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st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s, annel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, chor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and de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l and inde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hente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Coelom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masses of 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lit and form coel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s of archente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coel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 develops from blastop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 develops from blastop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Fate of the blasto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sto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s, annel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, chord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and determi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l and indetermi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hente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Coelom 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masses of 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lit and form coel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s of archente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coel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 develops from blastop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 develops from blastop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Fate of the blastop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views of animal phylogeny are emerging from molecula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ologists recognize about three dozen animal phy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debate in animal systematics has led to the development of two phylogenetic hypotheses, but others exist as w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hypothesis of animal phylogeny is based mainly on morphological and developmental comparis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hypothesis is based mainly on molecular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views of animal phylogeny are emerging from molecular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ologists recognize about three dozen animal phy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debate in animal systematics has led to the development of two phylogenetic hypotheses, but others exist as we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hypothesis of animal phylogeny is based mainly on morphological and developmental comparis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hypothesis is based mainly on molecular 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iew of animal phylogeny based mainly on morphological and developmental compari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ES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N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GEL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ifer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sto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pro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chiop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yhelmint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if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el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rop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mat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iew of animal phylogeny based mainly on morphological and developmental comparis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ES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N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GEL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ifer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sto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proc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chiop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yhelmin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if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el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rop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mat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iew of animal phylogeny based mainly on molecular dat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ES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N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GEL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ifer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troch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o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yhelmint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if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pro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chiop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el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mat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rop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iew of animal phylogeny based mainly on molecular dat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ES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N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GEL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ifer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trocho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o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o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yhelmin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if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proc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chiop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el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mat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rop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of Agre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nimals share a common ances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ges are basal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 is a clade of animals - eumetazoans  with true t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nimal phyla belong to the clade Bilateria, and are called bilateri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es and some other phyla belong to the clade Deuterostom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of Agre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nimals share a common ances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ges are basal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 is a clade of animals - eumetazoans  with true t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nimal phyla belong to the clade Bilateria, and are called bilateri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es and some other phyla belong to the clade Deuterostom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ress in Resolving Bilaterian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phology-based tree divides bilaterians into two clades: deuterostomes and protost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ntrast, recent molecular studies indicate three bilaterian clades: Deuterostomia, Ecdysozoa, and Lophotrochozo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ozoans shed their exoskeletons through a process called ecd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gress in Resolving Bilaterian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morphology-based tree divides bilaterians into two clades: deuterostomes and protost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 contrast, recent molecular studies indicate three bilaterian clades: Deuterostomia, Ecdysozoa, and Lophotrochozo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cdysozoans shed their exoskeletons through a process called ecd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is - Shedding of Exoskele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is - Shedding of Exo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lophotrochozoans have a feeding structure called a lophoph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hyla go through a distinct developmental stage called the trochophore lar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lophotrochozoans have a feeding structure called a lophoph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hyla go through a distinct developmental stage called the trochophore larv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Structure and Speci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tritional Mode:  Animals are heterotrophs that ingest their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re multicellular eukary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cells lack cell w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bodies are held together by structural proteins such as colla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ous tissue and muscle tissue are unique to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Structure and Speci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tritional Mode:  Animals are heterotrophs that ingest their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re multicellular eukary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cells lack cell wa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bodies are held together by structural proteins such as colla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ous tissue and muscle tissue are unique to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trochozoans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p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ical tu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ci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An ectopro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tructure of a trochop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µ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trochozoans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ph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ical tu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c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An ectopr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tructure of a trochoph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µ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Phyloge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ance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ll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asal anima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oela (ba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troch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 (most anima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g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imal Phyloge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mon ances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f all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po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basal anim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oela (ba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lateria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ophotrocho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cdyso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lateria (most anim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la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ree g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y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the characteristics that combine to define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ize key events of the Paleozoic, Mesozoic, and Cenozoic e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between the following pairs or sets of term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l and bilateral symmetry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loblastic and triploblastic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and radial cleavage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ate and indeterminate cleavage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oelomate, pseudocoelomate, and coel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the developmental differences between protostomes and deuterost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the characteristics that combine to define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ize key events of the Paleozoic, Mesozoic, and Cenozoic er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between the following pairs or sets of term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l and bilateral symmetry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loblastic and triploblastic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and radial cleavage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ate and indeterminate cleavage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oelomate, pseudocoelomate, and coelo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the developmental differences between protostomes and deuterost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on and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nimals reproduce sexually, with the diploid stage usually dominating the life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fertilization, the zygote undergoes rapid cell division called cleav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leads to formation of a blast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ula undergoes gastrulation, forming a gastrula with different layers of embryonic t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on and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nimals reproduce sexually, with the diploid stage usually dominating the life cy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fertilization, the zygote undergoes rapid cell division called cleav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leads to formation of a blastu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ula undergoes gastrulation, forming a gastrula with different layers of embryonic t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Early Embryonic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co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hente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co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Early Embryonic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co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hente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co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nimals have at least one larval s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va is sexually immature and morphologically distinct from the adult; it eventually undergoes metamorph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nimals, and only animals, have Hox genes that regulate the development of body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the Hox family of genes has been highly conserved, it can produce a wide diversity of animal morpholo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nimals have at least one larval st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va is sexually immature and morphologically distinct from the adult; it eventually undergoes metamorph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nimals, and only animals, have Hox genes that regulate the development of body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the Hox family of genes has been highly conserved, it can produce a wide diversity of animal morpholo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istory of animals spans more than half a billion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mal kingdom includes a great diversity of living species and an even greater diversity of extinct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on ancestor of living animals may have lived between 675 and 875 million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cestor may have resembled modern choanoflagellates, protists that are the closest living relatives of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istory of animals spans more than half a billion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mal kingdom includes a great diversity of living species and an even greater diversity of extinct 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on ancestor of living animals may have lived between 675 and 875 million years a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cestor may have resembled modern choanoflagellates, protists that are the closest living relatives of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lines of evidence that choanoflagellates protists are closely related to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anoflagel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anoflagel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ar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hoanocy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lines of evidence that choanoflagellates protists are closely related to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anoflagel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anoflagel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ar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hoanocy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embers of the animal fossil record include the Ediacaran biota, which dates from 565 to 550 million years ago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Mawsonites sprigg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priggina flounder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4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embers of the animal fossil record include the Ediacaran biota, which dates from 565 to 550 million years ago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Mawsonites sprig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priggina flounder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4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906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60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492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906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760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06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0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06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0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6"/>
          <p:cNvSpPr/>
          <p:nvPr/>
        </p:nvSpPr>
        <p:spPr>
          <a:xfrm>
            <a:off x="29376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20304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28600" y="5791320"/>
            <a:ext cx="8610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88920" indent="-34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37160" indent="-27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91880" indent="-27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46600" indent="-27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46600" indent="-27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46600" indent="-27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2" descr="art"/>
          <p:cNvPicPr/>
          <p:nvPr/>
        </p:nvPicPr>
        <p:blipFill>
          <a:blip r:embed="rId2"/>
          <a:srcRect l="0" t="53715" r="0" b="2773"/>
          <a:stretch/>
        </p:blipFill>
        <p:spPr>
          <a:xfrm>
            <a:off x="0" y="0"/>
            <a:ext cx="9147240" cy="62485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3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0" y="6019920"/>
            <a:ext cx="9144000" cy="533160"/>
          </a:xfrm>
          <a:prstGeom prst="rect">
            <a:avLst/>
          </a:prstGeom>
          <a:solidFill>
            <a:srgbClr val="584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57b2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6"/>
          <p:cNvSpPr/>
          <p:nvPr/>
        </p:nvSpPr>
        <p:spPr>
          <a:xfrm>
            <a:off x="14760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7"/>
          <p:cNvSpPr/>
          <p:nvPr/>
        </p:nvSpPr>
        <p:spPr>
          <a:xfrm>
            <a:off x="76320" y="4254480"/>
            <a:ext cx="369576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 Narrow"/>
              </a:rPr>
              <a:t>®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Lecture Presentations for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ighth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il Campbell and Jane Re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8"/>
          <p:cNvSpPr/>
          <p:nvPr/>
        </p:nvSpPr>
        <p:spPr>
          <a:xfrm>
            <a:off x="0" y="6172200"/>
            <a:ext cx="914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ectures by Chris Romero, updated by Erin Barley with contributions from Joan Shar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076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nimals Overview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85400" y="1189080"/>
            <a:ext cx="853452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ls are </a:t>
            </a:r>
            <a:r>
              <a:rPr b="0" lang="en-US" sz="2800" spc="-1" strike="noStrike">
                <a:solidFill>
                  <a:srgbClr val="d61715"/>
                </a:solidFill>
                <a:latin typeface="Arial"/>
              </a:rPr>
              <a:t>multicellul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d61715"/>
                </a:solidFill>
                <a:latin typeface="Arial"/>
              </a:rPr>
              <a:t>heterotrophic eukaryo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800" spc="-1" strike="noStrike">
                <a:solidFill>
                  <a:srgbClr val="d61715"/>
                </a:solidFill>
                <a:latin typeface="Arial"/>
              </a:rPr>
              <a:t>t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develop </a:t>
            </a:r>
            <a:r>
              <a:rPr b="0" lang="en-US" sz="2800" spc="-1" strike="noStrike">
                <a:solidFill>
                  <a:srgbClr val="d61715"/>
                </a:solidFill>
                <a:latin typeface="Arial"/>
              </a:rPr>
              <a:t>from embryonic lay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exceptions to nearly every criterion for distinguishing animals from other life-form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3 million living species of animals have been identifi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Paleozoic Era (542–251 Million Years Ago)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85400" y="1190160"/>
            <a:ext cx="8534520" cy="488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Cambrian explos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535 to 525 million years ago) marks the earliest fossil appearance of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any major groups of living anim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several hypotheses regarding the cause of the Cambrian explo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New predator-prey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rise in atmospheric 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e </a:t>
            </a: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Hox </a:t>
            </a:r>
            <a:r>
              <a:rPr b="0" lang="en-US" sz="2800" spc="-1" strike="noStrike">
                <a:solidFill>
                  <a:srgbClr val="d61715"/>
                </a:solidFill>
                <a:latin typeface="Arial"/>
              </a:rPr>
              <a:t>ge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le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7" descr="32_05CambrianSeascape-U"/>
          <p:cNvPicPr/>
          <p:nvPr/>
        </p:nvPicPr>
        <p:blipFill>
          <a:blip r:embed="rId1"/>
          <a:stretch/>
        </p:blipFill>
        <p:spPr>
          <a:xfrm>
            <a:off x="1133640" y="457200"/>
            <a:ext cx="6876720" cy="628956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8"/>
          <p:cNvSpPr/>
          <p:nvPr/>
        </p:nvSpPr>
        <p:spPr>
          <a:xfrm>
            <a:off x="152280" y="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A Cambrian sea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Mesozoic Era (251–65.5 Million Years Ago)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84320" y="990720"/>
            <a:ext cx="8534160" cy="55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l diversity continued to increase through the Paleozoic, but was punctuated by mass exti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61715"/>
                </a:solidFill>
                <a:latin typeface="Arial"/>
              </a:rPr>
              <a:t>Anim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gan to make an </a:t>
            </a:r>
            <a:r>
              <a:rPr b="0" i="1" lang="en-US" sz="2400" spc="-1" strike="noStrike">
                <a:solidFill>
                  <a:srgbClr val="d61715"/>
                </a:solidFill>
                <a:latin typeface="Arial"/>
              </a:rPr>
              <a:t>impact on l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460 million years ag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ebrates made the transition to land around 360 million years a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61715"/>
                </a:solidFill>
                <a:latin typeface="Arial"/>
              </a:rPr>
              <a:t>Coral reef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merged, becoming important marine ecological niches for other 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Mesozoic er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dinosaur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were the </a:t>
            </a: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dominan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terrestrial vertebr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d61715"/>
                </a:solidFill>
                <a:latin typeface="Arial"/>
              </a:rPr>
              <a:t>first mamm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mer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enozoic Era (65.5 Million Years Ago to the Present)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53452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eginning of the Cenozoic era followed mass extinctions of both terrestrial and marine anim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se extinctions included the large, nonflying dinosaurs and the marine repti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odern mammal orders and insects diversified during the Cenozoi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nimals can be characterized by “body plans”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94760" y="1188720"/>
            <a:ext cx="8534520" cy="39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oologists sometimes categorize animals according to a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body pla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 set of morphological and developmental trai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grade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s a group whose members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share key biological featur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grade is not necessarily a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lad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or monophyletic grou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Body Plan -- Symmetr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84320" y="990360"/>
            <a:ext cx="85341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imals can be categorized according to the symmetry of their bodies, or lack of 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animals have </a:t>
            </a:r>
            <a:r>
              <a:rPr b="1" i="1" lang="en-US" sz="2600" spc="-1" strike="noStrike">
                <a:solidFill>
                  <a:srgbClr val="d61715"/>
                </a:solidFill>
                <a:latin typeface="Arial"/>
              </a:rPr>
              <a:t>radial symmetr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-sided symmetry is called bilateral symmetr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imals with </a:t>
            </a:r>
            <a:r>
              <a:rPr b="1" i="1" lang="en-US" sz="2600" spc="-1" strike="noStrike">
                <a:solidFill>
                  <a:srgbClr val="d61715"/>
                </a:solidFill>
                <a:latin typeface="Arial"/>
              </a:rPr>
              <a:t>bilateral symmetr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av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rs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op) side and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r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ottom)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ight and left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eri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ead)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eri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ail) 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61715"/>
                </a:solidFill>
                <a:latin typeface="Arial"/>
              </a:rPr>
              <a:t>Cephal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development of a head. (</a:t>
            </a:r>
            <a:r>
              <a:rPr b="0" i="1" lang="en-US" sz="2400" spc="-1" strike="noStrike">
                <a:solidFill>
                  <a:srgbClr val="d61715"/>
                </a:solidFill>
                <a:latin typeface="Arial"/>
              </a:rPr>
              <a:t>Br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7" descr="32_07BodySymmetry-U"/>
          <p:cNvPicPr/>
          <p:nvPr/>
        </p:nvPicPr>
        <p:blipFill>
          <a:blip r:embed="rId1"/>
          <a:stretch/>
        </p:blipFill>
        <p:spPr>
          <a:xfrm>
            <a:off x="1471680" y="380880"/>
            <a:ext cx="6200640" cy="638172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8"/>
          <p:cNvSpPr/>
          <p:nvPr/>
        </p:nvSpPr>
        <p:spPr>
          <a:xfrm>
            <a:off x="152280" y="0"/>
            <a:ext cx="5410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Animal Body Sym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1509840" y="2798640"/>
            <a:ext cx="22050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Radi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1509840" y="6278400"/>
            <a:ext cx="2408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Bilater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Body Plan -- Tissu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84320" y="1185480"/>
            <a:ext cx="853416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imal body plans also vary according to the organization of the animal’s tissu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ssues are collections of specialized cells isolated from other tissues by membranous lay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uring development,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three germ layers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give rise to the tissues and organs of the animal embry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84320" y="1066320"/>
            <a:ext cx="853416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Ectoderm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germ layer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cover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embryo’s surfa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Endoderm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innermo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erm layer and lines th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developing digestive tub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called the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archenter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ploblastic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imals have ectoderm and  endoder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riploblastic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imals also have a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iddle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mesoderm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yer; these include all bilateria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685800" y="202680"/>
            <a:ext cx="487692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d61715"/>
                </a:solidFill>
                <a:latin typeface="Arial"/>
              </a:rPr>
              <a:t>Embryonic Germ Layers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3080" y="0"/>
            <a:ext cx="853452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d61715"/>
                </a:solidFill>
                <a:latin typeface="Helvetica CE"/>
              </a:rPr>
              <a:t>Body Cavities</a:t>
            </a:r>
            <a:br>
              <a:rPr sz="3000"/>
            </a:b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Most triploblastic animals possess a body cavity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true body cavity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s called a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coelom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nd is derived from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mesoder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en-US" sz="3000" spc="-1" strike="noStrike">
                <a:solidFill>
                  <a:srgbClr val="d61715"/>
                </a:solidFill>
                <a:latin typeface="Arial"/>
              </a:rPr>
              <a:t>Coelomat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animals that possess a true coelo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seudocoelom i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a body cavity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erived from the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esoderm and endoder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 Triploblastic animals that possess a pseudocoelom are called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pseudocoelomat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iploblastic animals that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lack a body cavit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re called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acoelomat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9" descr="32_01CoralReefDivers-U"/>
          <p:cNvPicPr/>
          <p:nvPr/>
        </p:nvPicPr>
        <p:blipFill>
          <a:blip r:embed="rId1"/>
          <a:stretch/>
        </p:blipFill>
        <p:spPr>
          <a:xfrm>
            <a:off x="306360" y="457200"/>
            <a:ext cx="8529840" cy="62006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0"/>
          <p:cNvSpPr/>
          <p:nvPr/>
        </p:nvSpPr>
        <p:spPr>
          <a:xfrm>
            <a:off x="152280" y="0"/>
            <a:ext cx="784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Which of these organisms are anima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32_08-BodyCavities-U"/>
          <p:cNvPicPr/>
          <p:nvPr/>
        </p:nvPicPr>
        <p:blipFill>
          <a:blip r:embed="rId1"/>
          <a:stretch/>
        </p:blipFill>
        <p:spPr>
          <a:xfrm>
            <a:off x="2486160" y="171360"/>
            <a:ext cx="4170240" cy="65912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8"/>
          <p:cNvSpPr/>
          <p:nvPr/>
        </p:nvSpPr>
        <p:spPr>
          <a:xfrm>
            <a:off x="152280" y="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ploblastic Animals</a:t>
            </a: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 Body Ca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4038480" y="0"/>
            <a:ext cx="1219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1715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d61715"/>
                </a:solidFill>
                <a:latin typeface="Arial"/>
              </a:rPr>
              <a:t>Coe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5319720" y="316080"/>
            <a:ext cx="1170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3516480" y="1344600"/>
            <a:ext cx="1170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5338800" y="1001880"/>
            <a:ext cx="258588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ssue layer lining 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suspending internal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3"/>
          <p:cNvSpPr/>
          <p:nvPr/>
        </p:nvSpPr>
        <p:spPr>
          <a:xfrm>
            <a:off x="4495680" y="304920"/>
            <a:ext cx="1368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 flipV="1">
            <a:off x="5105520" y="604800"/>
            <a:ext cx="195120" cy="106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 flipH="1">
            <a:off x="4579920" y="1041480"/>
            <a:ext cx="169920" cy="41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4970520" y="934920"/>
            <a:ext cx="338040" cy="27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5097600" y="1135080"/>
            <a:ext cx="21564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2540160" y="1752480"/>
            <a:ext cx="10191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Coelomate - true body ca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5467320" y="2579760"/>
            <a:ext cx="11667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359160" y="3132000"/>
            <a:ext cx="11066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eudo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1"/>
          <p:cNvSpPr/>
          <p:nvPr/>
        </p:nvSpPr>
        <p:spPr>
          <a:xfrm>
            <a:off x="3611520" y="3672000"/>
            <a:ext cx="121464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2"/>
          <p:cNvSpPr/>
          <p:nvPr/>
        </p:nvSpPr>
        <p:spPr>
          <a:xfrm>
            <a:off x="5680080" y="3143160"/>
            <a:ext cx="9288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scl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3"/>
          <p:cNvSpPr/>
          <p:nvPr/>
        </p:nvSpPr>
        <p:spPr>
          <a:xfrm flipV="1">
            <a:off x="4457880" y="3207960"/>
            <a:ext cx="414000" cy="25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4"/>
          <p:cNvSpPr/>
          <p:nvPr/>
        </p:nvSpPr>
        <p:spPr>
          <a:xfrm flipH="1">
            <a:off x="5207040" y="2814480"/>
            <a:ext cx="24912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5"/>
          <p:cNvSpPr/>
          <p:nvPr/>
        </p:nvSpPr>
        <p:spPr>
          <a:xfrm>
            <a:off x="5262480" y="3238560"/>
            <a:ext cx="406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6"/>
          <p:cNvSpPr/>
          <p:nvPr/>
        </p:nvSpPr>
        <p:spPr>
          <a:xfrm flipH="1">
            <a:off x="4668840" y="3449520"/>
            <a:ext cx="254160" cy="262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7"/>
          <p:cNvSpPr/>
          <p:nvPr/>
        </p:nvSpPr>
        <p:spPr>
          <a:xfrm>
            <a:off x="2533680" y="4116240"/>
            <a:ext cx="153972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Pseudocoelo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8"/>
          <p:cNvSpPr/>
          <p:nvPr/>
        </p:nvSpPr>
        <p:spPr>
          <a:xfrm>
            <a:off x="4260960" y="4681440"/>
            <a:ext cx="115884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9"/>
          <p:cNvSpPr/>
          <p:nvPr/>
        </p:nvSpPr>
        <p:spPr>
          <a:xfrm>
            <a:off x="5683320" y="4795920"/>
            <a:ext cx="84780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ssu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led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0"/>
          <p:cNvSpPr/>
          <p:nvPr/>
        </p:nvSpPr>
        <p:spPr>
          <a:xfrm>
            <a:off x="4172040" y="5875200"/>
            <a:ext cx="1679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ll of digestive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1"/>
          <p:cNvSpPr/>
          <p:nvPr/>
        </p:nvSpPr>
        <p:spPr>
          <a:xfrm>
            <a:off x="4616280" y="5067360"/>
            <a:ext cx="0" cy="39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32"/>
          <p:cNvSpPr/>
          <p:nvPr/>
        </p:nvSpPr>
        <p:spPr>
          <a:xfrm flipV="1">
            <a:off x="5187960" y="5283000"/>
            <a:ext cx="450720" cy="285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3"/>
          <p:cNvSpPr/>
          <p:nvPr/>
        </p:nvSpPr>
        <p:spPr>
          <a:xfrm flipV="1">
            <a:off x="4629240" y="5651640"/>
            <a:ext cx="291960" cy="203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4"/>
          <p:cNvSpPr/>
          <p:nvPr/>
        </p:nvSpPr>
        <p:spPr>
          <a:xfrm>
            <a:off x="2540160" y="6248520"/>
            <a:ext cx="1101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Acoelomate - lack a body ca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34520" cy="14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Cleavage:</a:t>
            </a: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br>
              <a:rPr sz="3000"/>
            </a:b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d61715"/>
                </a:solidFill>
                <a:latin typeface="Times New Roman"/>
              </a:rPr>
              <a:t>protostome </a:t>
            </a:r>
            <a:r>
              <a:rPr b="1" i="1" lang="en-US" sz="3200" spc="-1" strike="noStrike">
                <a:solidFill>
                  <a:srgbClr val="034694"/>
                </a:solidFill>
                <a:latin typeface="Times New Roman"/>
              </a:rPr>
              <a:t>or</a:t>
            </a:r>
            <a:r>
              <a:rPr b="1" i="1" lang="en-US" sz="3200" spc="-1" strike="noStrike">
                <a:solidFill>
                  <a:srgbClr val="d61715"/>
                </a:solidFill>
                <a:latin typeface="Times New Roman"/>
              </a:rPr>
              <a:t> deuterostome development</a:t>
            </a:r>
            <a:br>
              <a:rPr sz="3200"/>
            </a:b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84320" y="1195560"/>
            <a:ext cx="853416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protostome development, cleavage i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piral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termina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deuterostome development, cleavage i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adial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determina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indeterminate cleavage,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each cell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in the early stages of cleavage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retains the capacity to develop into a complete embry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eterminate cleavage makes possible identical twins, and embryonic stem cel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7" descr="32_09-ProtoDeuteroDevel-U"/>
          <p:cNvPicPr/>
          <p:nvPr/>
        </p:nvPicPr>
        <p:blipFill>
          <a:blip r:embed="rId1"/>
          <a:stretch/>
        </p:blipFill>
        <p:spPr>
          <a:xfrm>
            <a:off x="304920" y="279360"/>
            <a:ext cx="8486640" cy="657864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8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1827360" y="0"/>
            <a:ext cx="2173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Protostom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velop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olluscs, annel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4227480" y="0"/>
            <a:ext cx="2287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Deuterost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chinoderm, chord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2284560" y="932040"/>
            <a:ext cx="133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ight-cell s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2"/>
          <p:cNvSpPr/>
          <p:nvPr/>
        </p:nvSpPr>
        <p:spPr>
          <a:xfrm>
            <a:off x="4792680" y="932040"/>
            <a:ext cx="133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ight-cell s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3"/>
          <p:cNvSpPr/>
          <p:nvPr/>
        </p:nvSpPr>
        <p:spPr>
          <a:xfrm>
            <a:off x="1676520" y="2133720"/>
            <a:ext cx="20653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Spiral and determin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4"/>
          <p:cNvSpPr/>
          <p:nvPr/>
        </p:nvSpPr>
        <p:spPr>
          <a:xfrm>
            <a:off x="4648320" y="2125800"/>
            <a:ext cx="19047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Radial and indetermin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5"/>
          <p:cNvSpPr/>
          <p:nvPr/>
        </p:nvSpPr>
        <p:spPr>
          <a:xfrm>
            <a:off x="4240080" y="2614680"/>
            <a:ext cx="6811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el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6"/>
          <p:cNvSpPr/>
          <p:nvPr/>
        </p:nvSpPr>
        <p:spPr>
          <a:xfrm>
            <a:off x="3618000" y="3103560"/>
            <a:ext cx="10810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chente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7"/>
          <p:cNvSpPr/>
          <p:nvPr/>
        </p:nvSpPr>
        <p:spPr>
          <a:xfrm>
            <a:off x="6699240" y="800280"/>
            <a:ext cx="1093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Cleav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8"/>
          <p:cNvSpPr/>
          <p:nvPr/>
        </p:nvSpPr>
        <p:spPr>
          <a:xfrm>
            <a:off x="6553080" y="2819520"/>
            <a:ext cx="196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Coelom 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9"/>
          <p:cNvSpPr/>
          <p:nvPr/>
        </p:nvSpPr>
        <p:spPr>
          <a:xfrm>
            <a:off x="3452760" y="3622680"/>
            <a:ext cx="6811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el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0"/>
          <p:cNvSpPr/>
          <p:nvPr/>
        </p:nvSpPr>
        <p:spPr>
          <a:xfrm>
            <a:off x="371520" y="2481120"/>
            <a:ext cx="3585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1"/>
          <p:cNvSpPr/>
          <p:nvPr/>
        </p:nvSpPr>
        <p:spPr>
          <a:xfrm>
            <a:off x="735120" y="2727360"/>
            <a:ext cx="8334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t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2"/>
          <p:cNvSpPr/>
          <p:nvPr/>
        </p:nvSpPr>
        <p:spPr>
          <a:xfrm>
            <a:off x="744480" y="2955960"/>
            <a:ext cx="8920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s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3"/>
          <p:cNvSpPr/>
          <p:nvPr/>
        </p:nvSpPr>
        <p:spPr>
          <a:xfrm>
            <a:off x="743040" y="3201840"/>
            <a:ext cx="8920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4"/>
          <p:cNvSpPr/>
          <p:nvPr/>
        </p:nvSpPr>
        <p:spPr>
          <a:xfrm>
            <a:off x="1852560" y="3898800"/>
            <a:ext cx="8920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s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5"/>
          <p:cNvSpPr/>
          <p:nvPr/>
        </p:nvSpPr>
        <p:spPr>
          <a:xfrm>
            <a:off x="5668920" y="3897360"/>
            <a:ext cx="8920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s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6"/>
          <p:cNvSpPr/>
          <p:nvPr/>
        </p:nvSpPr>
        <p:spPr>
          <a:xfrm>
            <a:off x="3130560" y="3902040"/>
            <a:ext cx="93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stop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7"/>
          <p:cNvSpPr/>
          <p:nvPr/>
        </p:nvSpPr>
        <p:spPr>
          <a:xfrm>
            <a:off x="4316400" y="3897360"/>
            <a:ext cx="93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stop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8"/>
          <p:cNvSpPr/>
          <p:nvPr/>
        </p:nvSpPr>
        <p:spPr>
          <a:xfrm>
            <a:off x="2927520" y="3213000"/>
            <a:ext cx="672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9"/>
          <p:cNvSpPr/>
          <p:nvPr/>
        </p:nvSpPr>
        <p:spPr>
          <a:xfrm>
            <a:off x="4692600" y="321948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30"/>
          <p:cNvSpPr/>
          <p:nvPr/>
        </p:nvSpPr>
        <p:spPr>
          <a:xfrm>
            <a:off x="2914560" y="3701880"/>
            <a:ext cx="190440" cy="317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1"/>
          <p:cNvSpPr/>
          <p:nvPr/>
        </p:nvSpPr>
        <p:spPr>
          <a:xfrm flipH="1">
            <a:off x="5206680" y="3664080"/>
            <a:ext cx="158760" cy="266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2"/>
          <p:cNvSpPr/>
          <p:nvPr/>
        </p:nvSpPr>
        <p:spPr>
          <a:xfrm>
            <a:off x="4915080" y="2762280"/>
            <a:ext cx="285480" cy="17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33"/>
          <p:cNvSpPr/>
          <p:nvPr/>
        </p:nvSpPr>
        <p:spPr>
          <a:xfrm>
            <a:off x="5442120" y="2959200"/>
            <a:ext cx="603000" cy="97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4"/>
          <p:cNvSpPr/>
          <p:nvPr/>
        </p:nvSpPr>
        <p:spPr>
          <a:xfrm flipV="1">
            <a:off x="2184480" y="3498480"/>
            <a:ext cx="457200" cy="444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5"/>
          <p:cNvSpPr/>
          <p:nvPr/>
        </p:nvSpPr>
        <p:spPr>
          <a:xfrm>
            <a:off x="3149640" y="3460680"/>
            <a:ext cx="266760" cy="27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6"/>
          <p:cNvSpPr/>
          <p:nvPr/>
        </p:nvSpPr>
        <p:spPr>
          <a:xfrm>
            <a:off x="2095560" y="4175280"/>
            <a:ext cx="23065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lid masses of mes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lit and form coelo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7"/>
          <p:cNvSpPr/>
          <p:nvPr/>
        </p:nvSpPr>
        <p:spPr>
          <a:xfrm>
            <a:off x="4730760" y="4114800"/>
            <a:ext cx="18111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d61715"/>
                </a:solidFill>
                <a:latin typeface="Arial"/>
              </a:rPr>
              <a:t>Folds of archente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d61715"/>
                </a:solidFill>
                <a:latin typeface="Arial"/>
              </a:rPr>
              <a:t>form coelo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8"/>
          <p:cNvSpPr/>
          <p:nvPr/>
        </p:nvSpPr>
        <p:spPr>
          <a:xfrm>
            <a:off x="3147840" y="4778280"/>
            <a:ext cx="4654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9"/>
          <p:cNvSpPr/>
          <p:nvPr/>
        </p:nvSpPr>
        <p:spPr>
          <a:xfrm>
            <a:off x="5567400" y="4778280"/>
            <a:ext cx="5414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40"/>
          <p:cNvSpPr/>
          <p:nvPr/>
        </p:nvSpPr>
        <p:spPr>
          <a:xfrm flipV="1">
            <a:off x="2908440" y="4895640"/>
            <a:ext cx="196560" cy="18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41"/>
          <p:cNvSpPr/>
          <p:nvPr/>
        </p:nvSpPr>
        <p:spPr>
          <a:xfrm flipV="1">
            <a:off x="5340240" y="4889160"/>
            <a:ext cx="203400" cy="19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2"/>
          <p:cNvSpPr/>
          <p:nvPr/>
        </p:nvSpPr>
        <p:spPr>
          <a:xfrm>
            <a:off x="3503520" y="5489640"/>
            <a:ext cx="12081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gestive tu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43"/>
          <p:cNvSpPr/>
          <p:nvPr/>
        </p:nvSpPr>
        <p:spPr>
          <a:xfrm>
            <a:off x="2921040" y="5594400"/>
            <a:ext cx="552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4743360" y="5594400"/>
            <a:ext cx="577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3151080" y="6156360"/>
            <a:ext cx="5414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6"/>
          <p:cNvSpPr/>
          <p:nvPr/>
        </p:nvSpPr>
        <p:spPr>
          <a:xfrm>
            <a:off x="5567400" y="6156360"/>
            <a:ext cx="4651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7"/>
          <p:cNvSpPr/>
          <p:nvPr/>
        </p:nvSpPr>
        <p:spPr>
          <a:xfrm>
            <a:off x="2895480" y="6159600"/>
            <a:ext cx="20952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48"/>
          <p:cNvSpPr/>
          <p:nvPr/>
        </p:nvSpPr>
        <p:spPr>
          <a:xfrm>
            <a:off x="5327640" y="6159600"/>
            <a:ext cx="21600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9"/>
          <p:cNvSpPr/>
          <p:nvPr/>
        </p:nvSpPr>
        <p:spPr>
          <a:xfrm>
            <a:off x="1295280" y="6351480"/>
            <a:ext cx="2818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Mou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develops from blastop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0"/>
          <p:cNvSpPr/>
          <p:nvPr/>
        </p:nvSpPr>
        <p:spPr>
          <a:xfrm>
            <a:off x="5105520" y="6400800"/>
            <a:ext cx="21333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An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develops from blastop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1"/>
          <p:cNvSpPr/>
          <p:nvPr/>
        </p:nvSpPr>
        <p:spPr>
          <a:xfrm>
            <a:off x="6553080" y="4800600"/>
            <a:ext cx="229104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Fate of the blastop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New views of animal phylogeny are emerging from molecular data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84320" y="1188720"/>
            <a:ext cx="853416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oologists recognize about three dozen animal phy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debate in animal systematics has led to the development of two phylogenetic hypotheses, but others exist as we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hypothesis of animal phylogeny is based mainly on morphological and developmental comparis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other hypothesis is based mainly on molecular da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7" descr="32_10MorphDevAnimalPhylo-U"/>
          <p:cNvPicPr/>
          <p:nvPr/>
        </p:nvPicPr>
        <p:blipFill>
          <a:blip r:embed="rId1"/>
          <a:stretch/>
        </p:blipFill>
        <p:spPr>
          <a:xfrm>
            <a:off x="1065240" y="177840"/>
            <a:ext cx="7012080" cy="657864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8"/>
          <p:cNvSpPr/>
          <p:nvPr/>
        </p:nvSpPr>
        <p:spPr>
          <a:xfrm>
            <a:off x="152280" y="4800600"/>
            <a:ext cx="4114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1715"/>
                </a:solidFill>
                <a:latin typeface="Arial"/>
              </a:rPr>
              <a:t>A view of animal phylogeny based mainly on morphological and developmental compari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1117440" y="887400"/>
            <a:ext cx="129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CESTR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LONI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LAGELL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 rot="5400000">
            <a:off x="2239920" y="892080"/>
            <a:ext cx="7761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etazo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 rot="5400000">
            <a:off x="2643120" y="1535040"/>
            <a:ext cx="10047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umetazo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6638760" y="162000"/>
            <a:ext cx="9129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orifera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3"/>
          <p:cNvSpPr/>
          <p:nvPr/>
        </p:nvSpPr>
        <p:spPr>
          <a:xfrm rot="5400000">
            <a:off x="3790440" y="3516480"/>
            <a:ext cx="776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ilate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4"/>
          <p:cNvSpPr/>
          <p:nvPr/>
        </p:nvSpPr>
        <p:spPr>
          <a:xfrm rot="5400000">
            <a:off x="4020480" y="2415240"/>
            <a:ext cx="13348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euterostom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5"/>
          <p:cNvSpPr/>
          <p:nvPr/>
        </p:nvSpPr>
        <p:spPr>
          <a:xfrm rot="5400000">
            <a:off x="4103640" y="4616640"/>
            <a:ext cx="1123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otostom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6637320" y="685800"/>
            <a:ext cx="7938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nida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6635880" y="1201680"/>
            <a:ext cx="10652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tenophor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6638760" y="1728720"/>
            <a:ext cx="10224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ctoproc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6638760" y="2235240"/>
            <a:ext cx="11671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rachiopo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6629400" y="2762280"/>
            <a:ext cx="13795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chinoderma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1"/>
          <p:cNvSpPr/>
          <p:nvPr/>
        </p:nvSpPr>
        <p:spPr>
          <a:xfrm>
            <a:off x="6638760" y="3276720"/>
            <a:ext cx="8524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horda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2"/>
          <p:cNvSpPr/>
          <p:nvPr/>
        </p:nvSpPr>
        <p:spPr>
          <a:xfrm>
            <a:off x="6637320" y="3792600"/>
            <a:ext cx="1463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latyhelminth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3"/>
          <p:cNvSpPr/>
          <p:nvPr/>
        </p:nvSpPr>
        <p:spPr>
          <a:xfrm>
            <a:off x="6634080" y="4300560"/>
            <a:ext cx="7351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otifer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4"/>
          <p:cNvSpPr/>
          <p:nvPr/>
        </p:nvSpPr>
        <p:spPr>
          <a:xfrm>
            <a:off x="6640560" y="4816440"/>
            <a:ext cx="8445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ollus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6642000" y="5334120"/>
            <a:ext cx="80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neli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6643800" y="5859360"/>
            <a:ext cx="103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rthropo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6635880" y="6372360"/>
            <a:ext cx="9460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emato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7" descr="32_11MolecAnimalPhylo-U"/>
          <p:cNvPicPr/>
          <p:nvPr/>
        </p:nvPicPr>
        <p:blipFill>
          <a:blip r:embed="rId1"/>
          <a:stretch/>
        </p:blipFill>
        <p:spPr>
          <a:xfrm>
            <a:off x="1581120" y="177840"/>
            <a:ext cx="5969160" cy="657864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8"/>
          <p:cNvSpPr/>
          <p:nvPr/>
        </p:nvSpPr>
        <p:spPr>
          <a:xfrm>
            <a:off x="380880" y="4648320"/>
            <a:ext cx="31244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1715"/>
                </a:solidFill>
                <a:latin typeface="Arial"/>
              </a:rPr>
              <a:t>A view of animal phylogeny based mainly on molecular data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9"/>
          <p:cNvSpPr/>
          <p:nvPr/>
        </p:nvSpPr>
        <p:spPr>
          <a:xfrm>
            <a:off x="6224760" y="287280"/>
            <a:ext cx="6062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lic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0"/>
          <p:cNvSpPr/>
          <p:nvPr/>
        </p:nvSpPr>
        <p:spPr>
          <a:xfrm>
            <a:off x="1646280" y="789120"/>
            <a:ext cx="11811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CEST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ON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AGEL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1"/>
          <p:cNvSpPr/>
          <p:nvPr/>
        </p:nvSpPr>
        <p:spPr>
          <a:xfrm rot="5400000">
            <a:off x="2632680" y="792720"/>
            <a:ext cx="7081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taz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2"/>
          <p:cNvSpPr/>
          <p:nvPr/>
        </p:nvSpPr>
        <p:spPr>
          <a:xfrm rot="5400000">
            <a:off x="3248280" y="1701000"/>
            <a:ext cx="94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metaz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3"/>
          <p:cNvSpPr/>
          <p:nvPr/>
        </p:nvSpPr>
        <p:spPr>
          <a:xfrm rot="5400000">
            <a:off x="4367520" y="532440"/>
            <a:ext cx="8683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ifera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4"/>
          <p:cNvSpPr/>
          <p:nvPr/>
        </p:nvSpPr>
        <p:spPr>
          <a:xfrm rot="5400000">
            <a:off x="4063680" y="2962440"/>
            <a:ext cx="749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lat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5"/>
          <p:cNvSpPr/>
          <p:nvPr/>
        </p:nvSpPr>
        <p:spPr>
          <a:xfrm rot="5400000">
            <a:off x="4539960" y="2752560"/>
            <a:ext cx="12574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uterostom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 rot="5400000">
            <a:off x="4850640" y="4291920"/>
            <a:ext cx="140184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photrochoz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7"/>
          <p:cNvSpPr/>
          <p:nvPr/>
        </p:nvSpPr>
        <p:spPr>
          <a:xfrm rot="5400000">
            <a:off x="5089680" y="5979240"/>
            <a:ext cx="944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dysoz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8"/>
          <p:cNvSpPr/>
          <p:nvPr/>
        </p:nvSpPr>
        <p:spPr>
          <a:xfrm>
            <a:off x="6224760" y="696960"/>
            <a:ext cx="7412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c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9"/>
          <p:cNvSpPr/>
          <p:nvPr/>
        </p:nvSpPr>
        <p:spPr>
          <a:xfrm>
            <a:off x="6224760" y="1117440"/>
            <a:ext cx="10126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tenoph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0"/>
          <p:cNvSpPr/>
          <p:nvPr/>
        </p:nvSpPr>
        <p:spPr>
          <a:xfrm>
            <a:off x="6222960" y="1539720"/>
            <a:ext cx="7254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id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1"/>
          <p:cNvSpPr/>
          <p:nvPr/>
        </p:nvSpPr>
        <p:spPr>
          <a:xfrm>
            <a:off x="6230880" y="1954080"/>
            <a:ext cx="631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oe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2"/>
          <p:cNvSpPr/>
          <p:nvPr/>
        </p:nvSpPr>
        <p:spPr>
          <a:xfrm>
            <a:off x="6219720" y="2370240"/>
            <a:ext cx="12844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hinoderm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3"/>
          <p:cNvSpPr/>
          <p:nvPr/>
        </p:nvSpPr>
        <p:spPr>
          <a:xfrm>
            <a:off x="6224760" y="2784600"/>
            <a:ext cx="79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r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4"/>
          <p:cNvSpPr/>
          <p:nvPr/>
        </p:nvSpPr>
        <p:spPr>
          <a:xfrm>
            <a:off x="6222960" y="3200400"/>
            <a:ext cx="1359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tyhelmint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5"/>
          <p:cNvSpPr/>
          <p:nvPr/>
        </p:nvSpPr>
        <p:spPr>
          <a:xfrm>
            <a:off x="6222960" y="3630600"/>
            <a:ext cx="70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tif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6"/>
          <p:cNvSpPr/>
          <p:nvPr/>
        </p:nvSpPr>
        <p:spPr>
          <a:xfrm>
            <a:off x="6219720" y="4037040"/>
            <a:ext cx="1013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toproc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7"/>
          <p:cNvSpPr/>
          <p:nvPr/>
        </p:nvSpPr>
        <p:spPr>
          <a:xfrm>
            <a:off x="6215040" y="4456080"/>
            <a:ext cx="1101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achiop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8"/>
          <p:cNvSpPr/>
          <p:nvPr/>
        </p:nvSpPr>
        <p:spPr>
          <a:xfrm>
            <a:off x="6219720" y="4875120"/>
            <a:ext cx="8096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llus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9"/>
          <p:cNvSpPr/>
          <p:nvPr/>
        </p:nvSpPr>
        <p:spPr>
          <a:xfrm>
            <a:off x="6227640" y="5281560"/>
            <a:ext cx="8096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nel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0"/>
          <p:cNvSpPr/>
          <p:nvPr/>
        </p:nvSpPr>
        <p:spPr>
          <a:xfrm>
            <a:off x="6215040" y="5700600"/>
            <a:ext cx="885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mat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1"/>
          <p:cNvSpPr/>
          <p:nvPr/>
        </p:nvSpPr>
        <p:spPr>
          <a:xfrm>
            <a:off x="6232680" y="6132600"/>
            <a:ext cx="9745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hrop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Points of Agreemen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84320" y="1190520"/>
            <a:ext cx="853416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animals share a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common ancesto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onges are basal anim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umetazoa is a clade of animals -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eumetazoa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with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true tissu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animal phyla belong to the clade Bilateria, and are called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bilaterian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rdates and some other phyla belong to the clade Deuterostom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Progress in Resolving Bilaterian Relationship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84320" y="1186920"/>
            <a:ext cx="853416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orphology-based tree divides bilaterians into two clades: deuterostomes and protostom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contrast, recent molecular studies indicate three bilaterian clades: Deuterostomia, Ecdysozoa, and Lophotrochozo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Ecdysozoans</a:t>
            </a:r>
            <a:r>
              <a:rPr b="1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she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heir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exoskeletons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hrough a process called</a:t>
            </a:r>
            <a:r>
              <a:rPr b="0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ecdysis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7" descr="32_12Ecdysis-U"/>
          <p:cNvPicPr/>
          <p:nvPr/>
        </p:nvPicPr>
        <p:blipFill>
          <a:blip r:embed="rId1"/>
          <a:stretch/>
        </p:blipFill>
        <p:spPr>
          <a:xfrm>
            <a:off x="1217520" y="533520"/>
            <a:ext cx="6707160" cy="617220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8"/>
          <p:cNvSpPr/>
          <p:nvPr/>
        </p:nvSpPr>
        <p:spPr>
          <a:xfrm>
            <a:off x="152280" y="0"/>
            <a:ext cx="6019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Ecdysis - Shedding of Exoskele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184320" y="1197000"/>
            <a:ext cx="853416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ophotrochozoa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 a feeding structure called 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ophopho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her phyla go through a distinct developmental stage called 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rochophore larv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nimal Structure and Specializ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96920" y="1190520"/>
            <a:ext cx="853416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Nutritional Mod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 Animals ar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heterotroph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at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inge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ir foo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imals ar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ulticellula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eukaryot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ir cell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lack cell wall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ir bodies are held together by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structural protei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uch a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collag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Nervous tissu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uscle tissu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re unique to anim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7" descr="32_13Lophotrochozoan-U"/>
          <p:cNvPicPr/>
          <p:nvPr/>
        </p:nvPicPr>
        <p:blipFill>
          <a:blip r:embed="rId1"/>
          <a:stretch/>
        </p:blipFill>
        <p:spPr>
          <a:xfrm>
            <a:off x="290520" y="399960"/>
            <a:ext cx="8561520" cy="613404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8"/>
          <p:cNvSpPr/>
          <p:nvPr/>
        </p:nvSpPr>
        <p:spPr>
          <a:xfrm>
            <a:off x="1981080" y="0"/>
            <a:ext cx="6782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Lophotrochozoans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9"/>
          <p:cNvSpPr/>
          <p:nvPr/>
        </p:nvSpPr>
        <p:spPr>
          <a:xfrm>
            <a:off x="363600" y="433440"/>
            <a:ext cx="1660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phoph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0"/>
          <p:cNvSpPr/>
          <p:nvPr/>
        </p:nvSpPr>
        <p:spPr>
          <a:xfrm>
            <a:off x="4751280" y="871560"/>
            <a:ext cx="13939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ical tuf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 cil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1"/>
          <p:cNvSpPr/>
          <p:nvPr/>
        </p:nvSpPr>
        <p:spPr>
          <a:xfrm>
            <a:off x="4827600" y="3913200"/>
            <a:ext cx="87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2"/>
          <p:cNvSpPr/>
          <p:nvPr/>
        </p:nvSpPr>
        <p:spPr>
          <a:xfrm>
            <a:off x="344520" y="5748480"/>
            <a:ext cx="2244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a) An ectopro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3"/>
          <p:cNvSpPr/>
          <p:nvPr/>
        </p:nvSpPr>
        <p:spPr>
          <a:xfrm>
            <a:off x="4840200" y="5761080"/>
            <a:ext cx="4022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b) Structure of a trochoph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r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4"/>
          <p:cNvSpPr/>
          <p:nvPr/>
        </p:nvSpPr>
        <p:spPr>
          <a:xfrm rot="16200000">
            <a:off x="63360" y="4825440"/>
            <a:ext cx="98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100 µ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5"/>
          <p:cNvSpPr/>
          <p:nvPr/>
        </p:nvSpPr>
        <p:spPr>
          <a:xfrm>
            <a:off x="817560" y="4668840"/>
            <a:ext cx="0" cy="63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6"/>
          <p:cNvSpPr/>
          <p:nvPr/>
        </p:nvSpPr>
        <p:spPr>
          <a:xfrm>
            <a:off x="763560" y="4660920"/>
            <a:ext cx="117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7"/>
          <p:cNvSpPr/>
          <p:nvPr/>
        </p:nvSpPr>
        <p:spPr>
          <a:xfrm>
            <a:off x="762120" y="5303880"/>
            <a:ext cx="125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8"/>
          <p:cNvSpPr/>
          <p:nvPr/>
        </p:nvSpPr>
        <p:spPr>
          <a:xfrm>
            <a:off x="8097840" y="4986360"/>
            <a:ext cx="7081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9"/>
          <p:cNvSpPr/>
          <p:nvPr/>
        </p:nvSpPr>
        <p:spPr>
          <a:xfrm>
            <a:off x="1841400" y="730080"/>
            <a:ext cx="730440" cy="14734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0"/>
          <p:cNvSpPr/>
          <p:nvPr/>
        </p:nvSpPr>
        <p:spPr>
          <a:xfrm>
            <a:off x="1841400" y="730080"/>
            <a:ext cx="730440" cy="147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1"/>
          <p:cNvSpPr/>
          <p:nvPr/>
        </p:nvSpPr>
        <p:spPr>
          <a:xfrm>
            <a:off x="6134040" y="1041480"/>
            <a:ext cx="95256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2"/>
          <p:cNvSpPr/>
          <p:nvPr/>
        </p:nvSpPr>
        <p:spPr>
          <a:xfrm>
            <a:off x="7296120" y="4921200"/>
            <a:ext cx="736560" cy="24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3"/>
          <p:cNvSpPr/>
          <p:nvPr/>
        </p:nvSpPr>
        <p:spPr>
          <a:xfrm flipV="1">
            <a:off x="5308560" y="3385800"/>
            <a:ext cx="546120" cy="601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6" descr="32_UN01Summary-U"/>
          <p:cNvPicPr/>
          <p:nvPr/>
        </p:nvPicPr>
        <p:blipFill>
          <a:blip r:embed="rId1"/>
          <a:stretch/>
        </p:blipFill>
        <p:spPr>
          <a:xfrm>
            <a:off x="290520" y="351000"/>
            <a:ext cx="8561520" cy="623088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7"/>
          <p:cNvSpPr/>
          <p:nvPr/>
        </p:nvSpPr>
        <p:spPr>
          <a:xfrm>
            <a:off x="3429000" y="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Animal Phyloge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365040" y="352440"/>
            <a:ext cx="24829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on ances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 all anim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9"/>
          <p:cNvSpPr/>
          <p:nvPr/>
        </p:nvSpPr>
        <p:spPr>
          <a:xfrm>
            <a:off x="431640" y="3452760"/>
            <a:ext cx="9842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"/>
          <p:cNvSpPr/>
          <p:nvPr/>
        </p:nvSpPr>
        <p:spPr>
          <a:xfrm>
            <a:off x="5173560" y="1130400"/>
            <a:ext cx="205128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o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basal animal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1"/>
          <p:cNvSpPr/>
          <p:nvPr/>
        </p:nvSpPr>
        <p:spPr>
          <a:xfrm>
            <a:off x="5189400" y="1943280"/>
            <a:ext cx="1594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tenoph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2"/>
          <p:cNvSpPr/>
          <p:nvPr/>
        </p:nvSpPr>
        <p:spPr>
          <a:xfrm>
            <a:off x="5181480" y="2746440"/>
            <a:ext cx="11620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nida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3"/>
          <p:cNvSpPr/>
          <p:nvPr/>
        </p:nvSpPr>
        <p:spPr>
          <a:xfrm>
            <a:off x="5181480" y="3578400"/>
            <a:ext cx="183204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oela (bas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ilateria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4"/>
          <p:cNvSpPr/>
          <p:nvPr/>
        </p:nvSpPr>
        <p:spPr>
          <a:xfrm>
            <a:off x="5172120" y="4406760"/>
            <a:ext cx="19652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uterostom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5"/>
          <p:cNvSpPr/>
          <p:nvPr/>
        </p:nvSpPr>
        <p:spPr>
          <a:xfrm>
            <a:off x="677880" y="977760"/>
            <a:ext cx="322200" cy="97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6"/>
          <p:cNvSpPr/>
          <p:nvPr/>
        </p:nvSpPr>
        <p:spPr>
          <a:xfrm flipV="1">
            <a:off x="1176480" y="3135240"/>
            <a:ext cx="268200" cy="3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7"/>
          <p:cNvSpPr/>
          <p:nvPr/>
        </p:nvSpPr>
        <p:spPr>
          <a:xfrm flipV="1">
            <a:off x="2354400" y="4689000"/>
            <a:ext cx="326880" cy="33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8"/>
          <p:cNvSpPr/>
          <p:nvPr/>
        </p:nvSpPr>
        <p:spPr>
          <a:xfrm>
            <a:off x="2862360" y="4691160"/>
            <a:ext cx="109440" cy="10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9"/>
          <p:cNvSpPr/>
          <p:nvPr/>
        </p:nvSpPr>
        <p:spPr>
          <a:xfrm>
            <a:off x="5121360" y="5207040"/>
            <a:ext cx="216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photrochozo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0"/>
          <p:cNvSpPr/>
          <p:nvPr/>
        </p:nvSpPr>
        <p:spPr>
          <a:xfrm>
            <a:off x="5184720" y="6045120"/>
            <a:ext cx="14954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cdysozo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1"/>
          <p:cNvSpPr/>
          <p:nvPr/>
        </p:nvSpPr>
        <p:spPr>
          <a:xfrm rot="5400000">
            <a:off x="8105760" y="1441440"/>
            <a:ext cx="9367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2"/>
          <p:cNvSpPr/>
          <p:nvPr/>
        </p:nvSpPr>
        <p:spPr>
          <a:xfrm rot="5400000">
            <a:off x="7435440" y="2536560"/>
            <a:ext cx="12096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meta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3"/>
          <p:cNvSpPr/>
          <p:nvPr/>
        </p:nvSpPr>
        <p:spPr>
          <a:xfrm rot="5400000">
            <a:off x="6216480" y="4784400"/>
            <a:ext cx="26002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lateria (most anima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4"/>
          <p:cNvSpPr/>
          <p:nvPr/>
        </p:nvSpPr>
        <p:spPr>
          <a:xfrm>
            <a:off x="1422360" y="5002200"/>
            <a:ext cx="131436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ilat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e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5"/>
          <p:cNvSpPr/>
          <p:nvPr/>
        </p:nvSpPr>
        <p:spPr>
          <a:xfrm>
            <a:off x="1994040" y="5713560"/>
            <a:ext cx="15555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ree ge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You should now be able to: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84320" y="990360"/>
            <a:ext cx="853416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st the characteristics that combine to define anima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mmarize key events of the Paleozoic, Mesozoic, and Cenozoic er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tinguish between the following pairs or sets of terms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dial and bilateral symmetry;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ploblastic and triploblastic;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iral and radial cleavage;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ate and indeterminate cleavage;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oelomate, pseudocoelomate, and coelom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re the developmental differences between protostomes and deuterostom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Reproduction and Developmen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85400" y="1186920"/>
            <a:ext cx="853452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animal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reproduce sexual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with th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diploid sta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usually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dominat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life cyc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After fertiliz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zygo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undergoes rapid cell division called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cleavag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eavage lead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t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mation of a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blastula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lastula undergoes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gastrul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forming a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gastrula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different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laye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embryonic tissu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32_02AnimalEmbryoDev_3-U"/>
          <p:cNvPicPr/>
          <p:nvPr/>
        </p:nvPicPr>
        <p:blipFill>
          <a:blip r:embed="rId1"/>
          <a:stretch/>
        </p:blipFill>
        <p:spPr>
          <a:xfrm>
            <a:off x="297000" y="1857240"/>
            <a:ext cx="8548560" cy="32194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"/>
          <p:cNvSpPr/>
          <p:nvPr/>
        </p:nvSpPr>
        <p:spPr>
          <a:xfrm>
            <a:off x="228600" y="30492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Animal Early Embryonic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538200" y="3922560"/>
            <a:ext cx="6048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1219320" y="2438280"/>
            <a:ext cx="2209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Cleav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1795320" y="3921120"/>
            <a:ext cx="13543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ight-cell s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3789360" y="2949480"/>
            <a:ext cx="71424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1715"/>
                </a:solidFill>
                <a:latin typeface="Arial"/>
              </a:rPr>
              <a:t>Blast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3568680" y="4530600"/>
            <a:ext cx="1197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oss 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 blastu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4646520" y="4343400"/>
            <a:ext cx="917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stoco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4191120" y="3873600"/>
            <a:ext cx="428400" cy="46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5105520" y="3962520"/>
            <a:ext cx="125244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Gastr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6170760" y="4343400"/>
            <a:ext cx="9302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stop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 flipV="1">
            <a:off x="6705720" y="3809880"/>
            <a:ext cx="66672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7085160" y="4041720"/>
            <a:ext cx="7459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1715"/>
                </a:solidFill>
                <a:latin typeface="Arial"/>
              </a:rPr>
              <a:t>Gastr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7821720" y="3800520"/>
            <a:ext cx="10573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chente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8024760" y="3362400"/>
            <a:ext cx="8352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t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8"/>
          <p:cNvSpPr/>
          <p:nvPr/>
        </p:nvSpPr>
        <p:spPr>
          <a:xfrm>
            <a:off x="7391520" y="3486240"/>
            <a:ext cx="39996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9"/>
          <p:cNvSpPr/>
          <p:nvPr/>
        </p:nvSpPr>
        <p:spPr>
          <a:xfrm>
            <a:off x="7829640" y="3460680"/>
            <a:ext cx="190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0"/>
          <p:cNvSpPr/>
          <p:nvPr/>
        </p:nvSpPr>
        <p:spPr>
          <a:xfrm>
            <a:off x="7923240" y="2778120"/>
            <a:ext cx="8794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1"/>
          <p:cNvSpPr/>
          <p:nvPr/>
        </p:nvSpPr>
        <p:spPr>
          <a:xfrm>
            <a:off x="7866000" y="2422440"/>
            <a:ext cx="911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stoco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2"/>
          <p:cNvSpPr/>
          <p:nvPr/>
        </p:nvSpPr>
        <p:spPr>
          <a:xfrm flipV="1">
            <a:off x="7493040" y="2565360"/>
            <a:ext cx="342720" cy="495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3"/>
          <p:cNvSpPr/>
          <p:nvPr/>
        </p:nvSpPr>
        <p:spPr>
          <a:xfrm flipV="1">
            <a:off x="7569360" y="2901600"/>
            <a:ext cx="32364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93320" y="990720"/>
            <a:ext cx="8534520" cy="54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animals have at least one larval sta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larva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sexually immature and morphologically distinct from the adult; it eventually undergoe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etamorphosi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All animal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nd only animals, have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Hox </a:t>
            </a:r>
            <a:r>
              <a:rPr b="1" lang="en-US" sz="3000" spc="-1" strike="noStrike">
                <a:solidFill>
                  <a:srgbClr val="d61715"/>
                </a:solidFill>
                <a:latin typeface="Arial"/>
              </a:rPr>
              <a:t>gen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t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regul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development of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body for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hough th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Ho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amily of genes has been highly conserved, it can produce a wide diversity of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animal morpholog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history of animals spans more than half a billion year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84320" y="1185840"/>
            <a:ext cx="8534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animal kingdom includes a great diversity of living species and an even greater diversity of extinct on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common ancesto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living animals may have lived between 675 and 875 million years ag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ancestor may have resembled moder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hoanoflagellates,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protis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at are the closest living relatives of anim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7" descr="32_03ChoanoAnimalPhylo-U"/>
          <p:cNvPicPr/>
          <p:nvPr/>
        </p:nvPicPr>
        <p:blipFill>
          <a:blip r:embed="rId1"/>
          <a:stretch/>
        </p:blipFill>
        <p:spPr>
          <a:xfrm>
            <a:off x="306360" y="1314360"/>
            <a:ext cx="8529840" cy="43038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8"/>
          <p:cNvSpPr/>
          <p:nvPr/>
        </p:nvSpPr>
        <p:spPr>
          <a:xfrm>
            <a:off x="152280" y="152280"/>
            <a:ext cx="822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694"/>
                </a:solidFill>
                <a:latin typeface="Arial"/>
              </a:rPr>
              <a:t>Three lines of evidence that choanoflagellates </a:t>
            </a: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protists</a:t>
            </a:r>
            <a:r>
              <a:rPr b="1" lang="en-US" sz="2400" spc="-1" strike="noStrike">
                <a:solidFill>
                  <a:srgbClr val="034694"/>
                </a:solidFill>
                <a:latin typeface="Arial"/>
              </a:rPr>
              <a:t> are </a:t>
            </a: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closely related to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322200" y="3484440"/>
            <a:ext cx="12272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KARY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135240" y="2538360"/>
            <a:ext cx="15699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anoflagel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3135240" y="3776760"/>
            <a:ext cx="782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o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3116160" y="5046840"/>
            <a:ext cx="12081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anim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 rot="5400000">
            <a:off x="1592640" y="4435920"/>
            <a:ext cx="7063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5637240" y="1839960"/>
            <a:ext cx="14238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anoflagel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5"/>
          <p:cNvSpPr/>
          <p:nvPr/>
        </p:nvSpPr>
        <p:spPr>
          <a:xfrm>
            <a:off x="6381720" y="2228760"/>
            <a:ext cx="120600" cy="419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7364520" y="4589640"/>
            <a:ext cx="1112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hoanocy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7"/>
          <p:cNvSpPr/>
          <p:nvPr/>
        </p:nvSpPr>
        <p:spPr>
          <a:xfrm>
            <a:off x="7035840" y="4381560"/>
            <a:ext cx="298440" cy="3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32_04-EdiacaranFossils-U"/>
          <p:cNvPicPr/>
          <p:nvPr/>
        </p:nvPicPr>
        <p:blipFill>
          <a:blip r:embed="rId1"/>
          <a:stretch/>
        </p:blipFill>
        <p:spPr>
          <a:xfrm>
            <a:off x="304920" y="838080"/>
            <a:ext cx="8529480" cy="53722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8"/>
          <p:cNvSpPr/>
          <p:nvPr/>
        </p:nvSpPr>
        <p:spPr>
          <a:xfrm>
            <a:off x="228600" y="152280"/>
            <a:ext cx="800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694"/>
                </a:solidFill>
                <a:latin typeface="Arial"/>
              </a:rPr>
              <a:t>Early members of the animal fossil record include the Ediacaran biota, which dates from 565 to 550 million years ago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353880" y="5611680"/>
            <a:ext cx="32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Mawsonites sprigg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5541840" y="5611680"/>
            <a:ext cx="32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riggina flounder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4075200" y="914400"/>
            <a:ext cx="877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.5 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5592600" y="849240"/>
            <a:ext cx="878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0.4 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3"/>
          <p:cNvSpPr/>
          <p:nvPr/>
        </p:nvSpPr>
        <p:spPr>
          <a:xfrm>
            <a:off x="3886200" y="1219320"/>
            <a:ext cx="120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4"/>
          <p:cNvSpPr/>
          <p:nvPr/>
        </p:nvSpPr>
        <p:spPr>
          <a:xfrm>
            <a:off x="3917880" y="1079640"/>
            <a:ext cx="0" cy="177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>
            <a:off x="5124600" y="1085760"/>
            <a:ext cx="0" cy="177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6"/>
          <p:cNvSpPr/>
          <p:nvPr/>
        </p:nvSpPr>
        <p:spPr>
          <a:xfrm>
            <a:off x="5645160" y="1276200"/>
            <a:ext cx="673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7"/>
          <p:cNvSpPr/>
          <p:nvPr/>
        </p:nvSpPr>
        <p:spPr>
          <a:xfrm>
            <a:off x="5645160" y="1200240"/>
            <a:ext cx="0" cy="164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6318360" y="1206360"/>
            <a:ext cx="0" cy="165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LEGION</cp:lastModifiedBy>
  <cp:lastPrinted>2004-12-01T12:05:25Z</cp:lastPrinted>
  <dcterms:modified xsi:type="dcterms:W3CDTF">2018-03-12T07:35:12Z</dcterms:modified>
  <cp:revision>1739</cp:revision>
  <dc:subject/>
  <dc:title>video slide</dc:title>
</cp:coreProperties>
</file>