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FF7C-C355-475F-B396-308CB605A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B721-151E-4DE1-A504-A6DDE75B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347-C998-41B7-97E8-741CC06D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1F6-7739-41D1-BF9A-B9D19A08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797-A519-4F24-804E-F605EEAF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EC4F-F8AC-4C77-B9E6-98F99E87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1250-3EF6-4451-85E8-BB068657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65A0-27FF-41E4-B7E5-1763C4A0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54D5-EEB0-428E-B754-F0ECE0CC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9D56-F7D6-4985-BAF3-4A3A0F5E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B3BA-AD68-4071-8621-08C2C8B2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EAFD-FD00-4A89-83FD-71FFCA0B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CF05-6547-42D8-AC78-FF0AB6EA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BDC0-D7F8-4E72-BBE6-F7776120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8AFD-D515-40DB-9316-D2359A79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12E2-228C-4798-AF99-51E57A2A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CBF2-572E-4521-927D-05FA1713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2E53-DF6F-4405-8A61-5A0174DA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3B4-51C3-4261-9348-1A7A1466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CCF-1DDA-4DA5-9087-0D225CC1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6F5-C8A8-4292-B6C7-1E256367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B23-3D96-4557-A4C9-FCC6EFAF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5D6-19C5-4F5D-AE5E-A41DF74D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806-5025-4FA1-8A44-2C45A319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B86-9989-42EF-9CEA-EAA43ADF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50F0-4E49-429A-B015-4A5D5AA27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1D2C-B23E-4915-AF65-348BD65C5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733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d35"/>
                </a:solidFill>
                <a:latin typeface="Arial"/>
              </a:rPr>
              <a:t>The Remainder and Factor Theor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57200" y="4876920"/>
            <a:ext cx="801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564480" y="1447920"/>
            <a:ext cx="677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24080" y="1371600"/>
            <a:ext cx="8530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5105520" y="3124080"/>
            <a:ext cx="3733560" cy="1099440"/>
          </a:xfrm>
          <a:prstGeom prst="rect">
            <a:avLst/>
          </a:prstGeom>
          <a:noFill/>
          <a:ln w="2844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472320" y="5127480"/>
            <a:ext cx="807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1304640" y="4800600"/>
            <a:ext cx="207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+ 7x +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5496840" y="1905120"/>
            <a:ext cx="2881080" cy="277524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871240" y="1905120"/>
            <a:ext cx="3029040" cy="396468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127080" y="388620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3581280" y="4191120"/>
            <a:ext cx="2140200" cy="1447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115920" y="129528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5"/>
          <a:stretch/>
        </p:blipFill>
        <p:spPr>
          <a:xfrm>
            <a:off x="3581280" y="1600200"/>
            <a:ext cx="2140200" cy="14479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245160" y="1219320"/>
            <a:ext cx="858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234000" y="2666880"/>
            <a:ext cx="413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1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14x +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7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33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4583160" y="2819520"/>
            <a:ext cx="29649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– 8)(x – 5)(x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+ 6)(2x + 1)(x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59080" y="1447920"/>
            <a:ext cx="8111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97160" y="1371600"/>
            <a:ext cx="83476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493200" y="1371600"/>
            <a:ext cx="79243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4"/>
          <p:cNvSpPr/>
          <p:nvPr/>
        </p:nvSpPr>
        <p:spPr>
          <a:xfrm flipH="1">
            <a:off x="912960" y="3201840"/>
            <a:ext cx="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"/>
          <p:cNvSpPr/>
          <p:nvPr/>
        </p:nvSpPr>
        <p:spPr>
          <a:xfrm flipH="1" flipV="1">
            <a:off x="457200" y="37339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 flipH="1">
            <a:off x="2362320" y="4191120"/>
            <a:ext cx="144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069920" y="419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5185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16653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2518560" y="36831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680480" y="36576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739400" y="1066680"/>
            <a:ext cx="2923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5    3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4"/>
          <p:cNvSpPr/>
          <p:nvPr/>
        </p:nvSpPr>
        <p:spPr>
          <a:xfrm flipH="1">
            <a:off x="5027760" y="2211480"/>
            <a:ext cx="2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57200" y="1266840"/>
            <a:ext cx="4572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"/>
          <p:cNvSpPr/>
          <p:nvPr/>
        </p:nvSpPr>
        <p:spPr>
          <a:xfrm flipH="1" flipV="1">
            <a:off x="4648320" y="2590920"/>
            <a:ext cx="380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428040" y="4495680"/>
            <a:ext cx="83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5"/>
          <p:cNvSpPr/>
          <p:nvPr/>
        </p:nvSpPr>
        <p:spPr>
          <a:xfrm flipH="1">
            <a:off x="3960360" y="1297080"/>
            <a:ext cx="324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73040" y="5459400"/>
            <a:ext cx="62812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 = (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11x) ∙ (x – 3) +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7"/>
          <p:cNvSpPr/>
          <p:nvPr/>
        </p:nvSpPr>
        <p:spPr>
          <a:xfrm flipH="1">
            <a:off x="6246360" y="2895480"/>
            <a:ext cx="1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93560" y="1371600"/>
            <a:ext cx="8218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     28      5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3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3"/>
          <p:cNvSpPr/>
          <p:nvPr/>
        </p:nvSpPr>
        <p:spPr>
          <a:xfrm flipH="1">
            <a:off x="91440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4"/>
          <p:cNvSpPr/>
          <p:nvPr/>
        </p:nvSpPr>
        <p:spPr>
          <a:xfrm flipH="1" flipV="1">
            <a:off x="45720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7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95720" y="1371600"/>
            <a:ext cx="823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51520" y="1371600"/>
            <a:ext cx="84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–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46     –64    22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"/>
          <p:cNvSpPr/>
          <p:nvPr/>
        </p:nvSpPr>
        <p:spPr>
          <a:xfrm flipH="1">
            <a:off x="533412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93200" y="1371600"/>
            <a:ext cx="8196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     16     36    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0:08:45Z</dcterms:created>
  <dc:creator>Teresa</dc:creator>
  <dc:description/>
  <dc:language>en-US</dc:language>
  <cp:lastModifiedBy>LEGION</cp:lastModifiedBy>
  <dcterms:modified xsi:type="dcterms:W3CDTF">2017-07-06T06:40:51Z</dcterms:modified>
  <cp:revision>16</cp:revision>
  <dc:subject/>
  <dc:title>The Remainder and Factor Theorems</dc:title>
</cp:coreProperties>
</file>