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FB9A-D2A2-47FC-A5AA-880DF8F4E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and Factor Theor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for Understanding 3103.3.21 – Factor polynomials using a variety of methods including the factor theorem, synthetic division, long division, sums and differences of cubes, and group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and Factor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eck for Understanding 3103.3.21 – Factor polynomials using a variety of methods including the factor theorem, synthetic division, long division, sums and differences of cubes, and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nomial (x – a) is a factor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 f(x) if and only if f(a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binomial (x – a) is a factor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ynomial f(x) if and only if f(a) =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olynomial is divided by one of 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 factors, the quotient is called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ressed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remainder (last number in a de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) is zero, that means f(#) = 0. 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means that the divisor resulting in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 of zero is a factor of th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en a polynomial is divided by one of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nomial factors, the quotient is calle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pressed polynom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the remainder (last number in a de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ynomial) is zero, that means f(#) = 0. 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so means that the divisor resulting i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mainder of zero is a factor of the polynom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remainder is zero, (x – 3) is a facto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also allows us to find the remaining factor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ynomial by factoring the depressed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nce the remainder is zero, (x – 3) is a facto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also allows us to find the remaining factor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polynomial by factoring the depressed polynom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6)(x +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2 + 7x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+ 6)(x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e the fac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he zeros as s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graph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are the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f th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the zeros as s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the grap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a polynomial and one of its factors, find the rem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 of the polynomial.  Some factors may not be bi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– 11x2 + 14x + 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2x3 + 7x2 – 33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– 8)(x – 5)(x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6)(2x + 1)(x –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iven a polynomial and one of its factors, find the rem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s of the polynomial.  Some factors may not be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– 11x2 + 14x +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–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2x3 + 7x2 – 33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– 8)(x – 5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+ 6)(2x + 1)(x –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olynomial f(x) is divided by (x – a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the constant f(a)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q(x) ∙ (x – a) + f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q(x) is a polynomial with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less than the degree of f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a polynomial f(x) is divided by (x – a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is the constant f(a)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q(x) ∙ (x – a) + f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ere q(x) is a polynomial with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e less than the degree of f(x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f(3) for the following polynomial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d f(3) for the following polynomial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divide the same polynomial by (x – 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w divide the same polynomial by (x –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   3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11    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the value obtained when evaluating the function at f(3) and the valu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remainder when dividing the polynomial by x – 3 are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– 4x + 3 = (5x2 + 11x) ∙ (x – 3) +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    3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  11    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ce that the value obtained when evaluating the function at f(3) and the va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f the remainder when dividing the polynomial by x – 3 ar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x2 – 4x + 3 = (5x2 + 11x) ∙ (x – 3) +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nthetic substitution to find g(4) fo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    5    –13   –14    –47 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    28      5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   7      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9      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4)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     5    –13   –14    –47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     28      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3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     7      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9      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thetic Substitution – using synth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 to evaluate a fun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especially helpful for polynomials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greater than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nthetic Substitution – using 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sion to evaluate a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especially helpful for polynomial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gree greater tha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nthetic substitution to find g(–2) fo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  5    –13   –14    –47  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6     –64    22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 –23    3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111    2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–2)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     5    –13   –14    –47 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46     –64    22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   –23    3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–111    2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nthetic substitution to find c(4) fo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(x) = 2x4 – 4x3 – 7x2 – 13x –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     2   –4     –7   –13   –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    16     36     9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  4      9      23     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c(4)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(x) = 2x4 – 4x3 – 7x2 – 13x –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      2   –4     –7   –13  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     16     36     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     4      9      23     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79FE-C16B-4B97-8C4F-26CD9665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71E8-7065-48AC-B4E1-C2906A70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A97F-903B-49F6-A646-3426DD76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08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08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CDB6-FE6D-40FB-95D1-3E50BFDD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23D5-06BD-43A6-92FF-E9059385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F717-30BB-46F0-91B3-9C21871D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6AC6-A173-4876-9177-DBD8A10A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3F16-B97D-45E7-AE93-3CC8E813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B0DE-353F-41BA-9276-93DAA7EF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3D1D-518C-4E91-8F50-32A65659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D322-4D93-44B8-A9E9-35208615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88F7-5ED7-4014-A306-2377692A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261F-BF20-426D-A5B8-942B11FE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3ADE-5915-4C57-A224-49C71F36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732A-5379-4257-989E-19C25C35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02AC-F309-40B9-84A9-BD78A466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08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08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7AC0-D649-4C8B-8FF9-0FB183E0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5CCE-D827-4A5E-987B-85003718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91E7-954B-4F52-97DB-EAD72226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E3B1-3FC1-4FF5-A001-18981BC6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06C0-B8F9-4BCF-9234-05914230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8C83-6B54-4F74-85A5-44EDF452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9175-7A77-47F6-AAD7-7788E468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6F79-AAF8-4332-984A-8BD9C361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E467-EA54-4D33-AD93-82145BE0F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05F8-1845-4E81-9330-0ED8EAC44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733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d35"/>
                </a:solidFill>
                <a:latin typeface="Arial"/>
              </a:rPr>
              <a:t>The Remainder and Factor Theore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57200" y="4876920"/>
            <a:ext cx="8016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eck for Understanding 3103.3.21 – Factor polynomials using a variety of methods including the factor theorem, synthetic division, long division, sums and differences of cubes, and group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564480" y="1447920"/>
            <a:ext cx="677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binomial (x – a) is a factor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lynomial f(x) if and only if f(a) =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424080" y="1371600"/>
            <a:ext cx="8530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n a polynomial is divided by one of 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nomial factors, the quotient is called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pressed polynom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the remainder (last number in a dep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lynomial) is zero, that means f(#) = 0. 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so means that the divisor resulting in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mainder of zero is a factor of the polynom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244440" y="1220760"/>
            <a:ext cx="4478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4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15x –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      21    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3"/>
          <p:cNvSpPr/>
          <p:nvPr/>
        </p:nvSpPr>
        <p:spPr>
          <a:xfrm flipH="1">
            <a:off x="837720" y="2666880"/>
            <a:ext cx="18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4"/>
          <p:cNvSpPr/>
          <p:nvPr/>
        </p:nvSpPr>
        <p:spPr>
          <a:xfrm flipH="1" flipV="1">
            <a:off x="380880" y="3200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5"/>
          <p:cNvSpPr/>
          <p:nvPr/>
        </p:nvSpPr>
        <p:spPr>
          <a:xfrm flipH="1">
            <a:off x="3962520" y="3657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5105520" y="3124080"/>
            <a:ext cx="3733560" cy="1099440"/>
          </a:xfrm>
          <a:prstGeom prst="rect">
            <a:avLst/>
          </a:prstGeom>
          <a:noFill/>
          <a:ln w="28440">
            <a:solidFill>
              <a:srgbClr val="566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ince the remainder is zero, (x – 3) is a factor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+ 4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– 15x – 1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472320" y="5127480"/>
            <a:ext cx="807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is also allows us to find the remaining factors o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polynomial by factoring the depressed polynom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44440" y="1220760"/>
            <a:ext cx="4478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4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15x –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      21    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3"/>
          <p:cNvSpPr/>
          <p:nvPr/>
        </p:nvSpPr>
        <p:spPr>
          <a:xfrm flipH="1">
            <a:off x="837720" y="2666880"/>
            <a:ext cx="18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4"/>
          <p:cNvSpPr/>
          <p:nvPr/>
        </p:nvSpPr>
        <p:spPr>
          <a:xfrm flipH="1" flipV="1">
            <a:off x="380880" y="3200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5"/>
          <p:cNvSpPr/>
          <p:nvPr/>
        </p:nvSpPr>
        <p:spPr>
          <a:xfrm flipH="1">
            <a:off x="3962520" y="3657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1304640" y="4800600"/>
            <a:ext cx="2073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+ 7x +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x + 6)(x +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5496840" y="1905120"/>
            <a:ext cx="2881080" cy="2775240"/>
          </a:xfrm>
          <a:prstGeom prst="rect">
            <a:avLst/>
          </a:prstGeom>
          <a:noFill/>
          <a:ln w="76320">
            <a:solidFill>
              <a:srgbClr val="566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actor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15x –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5871240" y="1905120"/>
            <a:ext cx="3029040" cy="3964680"/>
          </a:xfrm>
          <a:prstGeom prst="rect">
            <a:avLst/>
          </a:prstGeom>
          <a:noFill/>
          <a:ln w="76320">
            <a:solidFill>
              <a:srgbClr val="566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re the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he polynom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the zeros as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the graph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15x – 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127080" y="3886200"/>
            <a:ext cx="337824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3581280" y="4191120"/>
            <a:ext cx="2140200" cy="1447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4"/>
          <a:stretch/>
        </p:blipFill>
        <p:spPr>
          <a:xfrm>
            <a:off x="115920" y="1295280"/>
            <a:ext cx="3378240" cy="2286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"/>
          <p:cNvPicPr/>
          <p:nvPr/>
        </p:nvPicPr>
        <p:blipFill>
          <a:blip r:embed="rId5"/>
          <a:stretch/>
        </p:blipFill>
        <p:spPr>
          <a:xfrm>
            <a:off x="3581280" y="1600200"/>
            <a:ext cx="2140200" cy="14479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245160" y="1219320"/>
            <a:ext cx="858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 a polynomial and one of its factors, find the rem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ors of the polynomial.  Some factors may not be binom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234000" y="2666880"/>
            <a:ext cx="413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11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14x +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– 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7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33x –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4583160" y="2819520"/>
            <a:ext cx="29649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x – 8)(x – 5)(x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x + 6)(2x + 1)(x –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559080" y="1447920"/>
            <a:ext cx="81115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a polynomial f(x) is divided by (x – a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remainder is the constant f(a)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q(x) ∙ (x – a) + f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re q(x) is a polynomial with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e less than the degree of f(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97160" y="1371600"/>
            <a:ext cx="83476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d f(3) for the following polynomial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5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(3)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493200" y="1371600"/>
            <a:ext cx="792432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w divide the same polynomial by (x –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4"/>
          <p:cNvSpPr/>
          <p:nvPr/>
        </p:nvSpPr>
        <p:spPr>
          <a:xfrm flipH="1">
            <a:off x="912960" y="3201840"/>
            <a:ext cx="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"/>
          <p:cNvSpPr/>
          <p:nvPr/>
        </p:nvSpPr>
        <p:spPr>
          <a:xfrm flipH="1" flipV="1">
            <a:off x="457200" y="37339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8"/>
          <p:cNvSpPr/>
          <p:nvPr/>
        </p:nvSpPr>
        <p:spPr>
          <a:xfrm flipH="1">
            <a:off x="2362320" y="4191120"/>
            <a:ext cx="144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069920" y="4191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2518560" y="4191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1665360" y="4191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2518560" y="36831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1680480" y="36576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739400" y="1066680"/>
            <a:ext cx="29239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5    3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   11    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4"/>
          <p:cNvSpPr/>
          <p:nvPr/>
        </p:nvSpPr>
        <p:spPr>
          <a:xfrm flipH="1">
            <a:off x="5027760" y="2211480"/>
            <a:ext cx="2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57200" y="1266840"/>
            <a:ext cx="457200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5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(3)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1"/>
          <p:cNvSpPr/>
          <p:nvPr/>
        </p:nvSpPr>
        <p:spPr>
          <a:xfrm flipH="1" flipV="1">
            <a:off x="4648320" y="2590920"/>
            <a:ext cx="380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428040" y="4495680"/>
            <a:ext cx="83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ice that the value obtained when evaluating the function at f(3) and the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remainder when dividing the polynomial by x – 3 are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15"/>
          <p:cNvSpPr/>
          <p:nvPr/>
        </p:nvSpPr>
        <p:spPr>
          <a:xfrm flipH="1">
            <a:off x="3960360" y="1297080"/>
            <a:ext cx="324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473040" y="5459400"/>
            <a:ext cx="62812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x + 3 = (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11x) ∙ (x – 3) +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7"/>
          <p:cNvSpPr/>
          <p:nvPr/>
        </p:nvSpPr>
        <p:spPr>
          <a:xfrm flipH="1">
            <a:off x="6246360" y="2895480"/>
            <a:ext cx="18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493560" y="1371600"/>
            <a:ext cx="8218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4)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7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    5    –13   –14    –47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0     28      56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36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     7      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9      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3"/>
          <p:cNvSpPr/>
          <p:nvPr/>
        </p:nvSpPr>
        <p:spPr>
          <a:xfrm flipH="1">
            <a:off x="914400" y="38098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4"/>
          <p:cNvSpPr/>
          <p:nvPr/>
        </p:nvSpPr>
        <p:spPr>
          <a:xfrm flipH="1" flipV="1">
            <a:off x="457200" y="4343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7"/>
          <p:cNvSpPr/>
          <p:nvPr/>
        </p:nvSpPr>
        <p:spPr>
          <a:xfrm flipH="1">
            <a:off x="5029200" y="4800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95720" y="1371600"/>
            <a:ext cx="823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nthetic Substitution – using syn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vision to evaluate a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especially helpful for polynomial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gree greater than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551520" y="1371600"/>
            <a:ext cx="844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–2)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7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    5    –13   –14    –47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–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46     –64    22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   –23    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111    2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3"/>
          <p:cNvSpPr/>
          <p:nvPr/>
        </p:nvSpPr>
        <p:spPr>
          <a:xfrm flipH="1">
            <a:off x="1065240" y="38098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4"/>
          <p:cNvSpPr/>
          <p:nvPr/>
        </p:nvSpPr>
        <p:spPr>
          <a:xfrm flipH="1" flipV="1">
            <a:off x="609480" y="4343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5"/>
          <p:cNvSpPr/>
          <p:nvPr/>
        </p:nvSpPr>
        <p:spPr>
          <a:xfrm flipH="1">
            <a:off x="5334120" y="4800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493200" y="1371600"/>
            <a:ext cx="8196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c(4)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(x) 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3x –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     2   –4     –7   –13   –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     16     36     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    4      9      23     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3"/>
          <p:cNvSpPr/>
          <p:nvPr/>
        </p:nvSpPr>
        <p:spPr>
          <a:xfrm flipH="1">
            <a:off x="1065240" y="38098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4"/>
          <p:cNvSpPr/>
          <p:nvPr/>
        </p:nvSpPr>
        <p:spPr>
          <a:xfrm flipH="1" flipV="1">
            <a:off x="609480" y="4343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5"/>
          <p:cNvSpPr/>
          <p:nvPr/>
        </p:nvSpPr>
        <p:spPr>
          <a:xfrm flipH="1">
            <a:off x="5029200" y="4800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00:08:45Z</dcterms:created>
  <dc:creator>Teresa</dc:creator>
  <dc:description/>
  <dc:language>en-US</dc:language>
  <cp:lastModifiedBy>LEGION</cp:lastModifiedBy>
  <dcterms:modified xsi:type="dcterms:W3CDTF">2017-07-06T06:40:51Z</dcterms:modified>
  <cp:revision>16</cp:revision>
  <dc:subject/>
  <dc:title>The Remainder and Factor Theorems</dc:title>
</cp:coreProperties>
</file>