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0D57-ABCA-46DA-9B43-0D83BB03A5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luation           is a function from a field to the nonnegative real numbers with properties analogous to a norm or absolut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a and b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e topology on Q  (with the trivial valu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 (with absolute va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 (the p-adic reals, with the p-adic valu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closure by adjoining i, where i2 =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ive two examples: the bounding number b, and the dominating number 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, g: N  N.  We say f dominates g iff f(n)≥g(n) for sufficiently large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unding number b: the minimum number of functions f such that no g dominates every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inating number d: the minimum number of functions f such that every g is dominated by a function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then α is transcend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-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+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jodi.ecs.soton.ac.uk/Articles/v05/i01/Mayans/jod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38F3-D18E-4335-BF45-26181BC9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E1B-913C-4398-9DB0-D05C0D20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FFD-F1D7-43B6-9ADF-80022E46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2426-04F7-456C-A2A2-204290DF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572-5D16-4449-A26C-65A529B6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AD3-730B-4190-A021-F8F4B96B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FB3-6934-45AA-AA45-FEC41044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A77-39F0-4643-B461-3ADC7C95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8419-24B6-42C1-A5C0-56CE0C6F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6D3-4F85-4847-AE56-7FF5B904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524-6FC1-46D5-9C01-779F6764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7D82-7E0C-4F40-AEC0-E730DEA4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86DA-0588-4E80-B069-2A7347802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odi.ecs.soton.ac.uk/Articles/v05/i01/Mayans/jodi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 Ways of Looking a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May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Math/CSci/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leigh Dickinso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the unique linear order tha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-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ble (countable dense sub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lin Problem: Replace separability with the countable chain cond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ollection of disjoint nontrivial closed intervals is at most coun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is characterize the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erexample is called a Suslin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istence of Suslin lines are independent of the axioms of ZFC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 Real Numbers as a Linear Or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may be viewed as a space of branches of an infinite tr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 are partial orders whose initial segments {x : X&lt;p} are well-ordered.  The branches are the maximal chains in the parti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infinite trees (Aronzsajn tree, Kurepa tree) give rise to different linear orders (Aronszajn line, Kurepa 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racterization of the usual topology of the real l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 is a regular, separable, connected, locally connected space, in which every point is a cut point, then X is homeomorphic to the real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p in a connected space X is a cut-point if X\{p} is disconn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characterization:  Replace “regular” with “metrizabl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complete separable metric space, a “Polish space”.  Also, it is per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xamples of perfect Polish spa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pace: all sequences of 0’s and 1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ire space: all sequences of natur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e/countable products of perfect Polish 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erfect Polish space is Borel-isomorphic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 Real Numbers as a Topological 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 is a one-dimensional topological manif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fication of connected Hausdorff one-dimensional mani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en long 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is a function from a field to the nonnegative real numbers with properties analogous to a norm or absolute val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2819520" y="1600200"/>
                <a:ext cx="838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1219320" y="3352680"/>
                <a:ext cx="38862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f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r>
                              <m:t xml:space="preserve">ϕ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valuations are equivalent if one is a power of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valuation is equivalent to one which satisf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valuation defines a metric on a field: the distance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2438280" y="3581280"/>
                <a:ext cx="2590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≤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5486400" y="4952880"/>
                <a:ext cx="2971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trowski’s theorem:  The inequivalent valuations on the rational numbers are absolute value, the trivial valuation, and the p-adic valuations for every prime 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 Real Numbers as a Completion of the Ration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ric completions of the rationals defined by a valuation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e topology 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the trivial valu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with absolute v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he p-adic reals, with the p-adic valua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cture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books and encyclope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fields of the real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algebraic number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bl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ebraic completion of the real numbers is the field of complex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eld of real numbers is the prototypical real-closed field: its algebraic closure is a finite exten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tin-Schreier theorem characterizes a real-closed fie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characteristic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ebraic closure by adjoining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a linea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ositive number has a squar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is not a sum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 The Real Numbers as a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field is a vector space over a sub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form a vector space over the ration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sis for this vector space is called a Hamel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what extent can the operations on the reals extend to finite-dimensional algebras over the re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list a few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 The Real Numbers as an Alge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associative real division algebras are the real numbers, complex numbers, and the quaternions. (Frobeni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commutative division algebras with unit are the real numbers and the complex numbers. (Ho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nite-dimensional real division algebras have dimension 1, 2, 4, or 8.  (Kervaire, Miln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tor showed that the real numbers are not equinumerous with the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     as the cardinal of the set of real numbers, the cardinal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Hypothesis:  Does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6458040" y="3429000"/>
                <a:ext cx="11620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1828800" y="2590920"/>
                <a:ext cx="5335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inuum must satisf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cond condition guarantees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much else restricts the possible values of the contin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666880" y="2057400"/>
                <a:ext cx="289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cf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8"/>
              <p:cNvSpPr txBox="1"/>
              <p:nvPr/>
            </p:nvSpPr>
            <p:spPr>
              <a:xfrm>
                <a:off x="7010280" y="2895480"/>
                <a:ext cx="990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ω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ton’s theorem:  Let     be any regular cardinal in the ground model of ZFC with cofi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re is a generic extension which preserves cardinalities, in whi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the continuum could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6019920" y="2895480"/>
                <a:ext cx="990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7467480" y="1905120"/>
                <a:ext cx="1067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914400" y="3809880"/>
                <a:ext cx="4800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but not </m:t>
                    </m:r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ω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4495680" y="16002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ariety of “cardinal invariants” of the continuum: cardinals between      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ive two examples: 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, 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.  We sa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in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(n)≥g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sufficiently large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1"/>
              <p:cNvSpPr txBox="1"/>
              <p:nvPr/>
            </p:nvSpPr>
            <p:spPr>
              <a:xfrm>
                <a:off x="5715000" y="2057400"/>
                <a:ext cx="1447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7.  The Cardinal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und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that n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minates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inating numb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minimum number of function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ch that e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inated by a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914400" y="5029200"/>
                <a:ext cx="2819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≤</m:t>
                    </m:r>
                    <m:r>
                      <m:t xml:space="preserve">d</m:t>
                    </m:r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eties of Mathematical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Sc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numbers, algebraic numbers, transcendent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ouville’s theorem: numbers that can be very well approximated by rationals must be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, for infinitely many n, there is a rational 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the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anscenden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752480" y="4952880"/>
                <a:ext cx="2362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α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8.  Number Theoretic Classification of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hler's classifica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algebraic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 T, U: classes of transcendent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speaking, it measures how well can a number be approximated by algebraic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, y are algebraically dependent, then x and y belong to the same Mahler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real numbers are S-numbers by measure, U-numbers by categ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ski's decidability theorem:  The first-order theory of real-closed fields is decid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algorithmic procedure to determine if a first-order sentence about the real numbers in the language of ordered fields is true or fal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.  The Real Numbers as a First-Order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standard real numbers extend the real number system with infinitesi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nstruction is with an ultrapower of an first-order model of the real numbers, with all possible constants, predicates, and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nonstandard real number may be written uniquely as a sum of a standard real number and an infinites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 numbers are a subclass of a class of finitely-move two-person g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development: a surreal is an ordinal-length sequence of +’s and –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are lexicographically ordered by -, (empty), +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rreal numbers, as a proper class, form an ordered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l numbers are a subfield of the surreals of order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4"/>
              <p:cNvSpPr txBox="1"/>
              <p:nvPr/>
            </p:nvSpPr>
            <p:spPr>
              <a:xfrm>
                <a:off x="2133720" y="5486400"/>
                <a:ext cx="609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urreal numbers in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-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-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-+</a:t>
            </a:r>
            <a:r>
              <a:rPr b="0" lang="en-US" sz="2800" spc="-1" strike="noStrike">
                <a:solidFill>
                  <a:srgbClr val="000000"/>
                </a:solidFill>
                <a:latin typeface="r_ans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r_ans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_ansi"/>
              </a:rPr>
              <a:t>+++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.  Sur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als of order  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yadic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3276720" y="1676520"/>
                <a:ext cx="68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6"/>
              <p:cNvSpPr txBox="1"/>
              <p:nvPr/>
            </p:nvSpPr>
            <p:spPr>
              <a:xfrm>
                <a:off x="3276720" y="2971800"/>
                <a:ext cx="6094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8"/>
              <p:cNvSpPr txBox="1"/>
              <p:nvPr/>
            </p:nvSpPr>
            <p:spPr>
              <a:xfrm>
                <a:off x="4495680" y="3886200"/>
                <a:ext cx="990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9"/>
              <p:cNvSpPr txBox="1"/>
              <p:nvPr/>
            </p:nvSpPr>
            <p:spPr>
              <a:xfrm>
                <a:off x="1447920" y="4495680"/>
                <a:ext cx="533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metry axioms for the r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infinite continued 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ation schemes for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foundations: constructivism, intuitionism, nonstandard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 approximations to real numbers: floating point numbers, interval arithmetic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and randomness measures on real numbers (for example, Turing degr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al and philosophical perspectives: the real numbers as an idealization of a measurement, the meaning and use of infinitesimals, and so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a representation of an infinite sequence of Bernoulli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generated by formal lang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ny more view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 patterns in real numbers, such as norm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s set-theoretic codes.  A real number may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ardinal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rel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ntable model of set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y for an infinite two-person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thematics Hypertext Project  (MH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285640"/>
            <a:ext cx="83818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eb-based hypertext of mathe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sign paper describes goals, organization, technology issu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odi.ecs.soton.ac.uk/Articles/v05/i01/Mayans/jodi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lease in June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discusses some of the pages on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the hypertext on real numbers be organiz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a grand all-encompass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t a simple listing of topics in unrelated slo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is a readable, searchable, general introduction to the real number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ing Multiple The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also show relationships across catego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lead to more in-depth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be in a form that is easy to update and ext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ust help readers searching for a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xt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ext in this system is in one of two forms: “book text” and “core text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 text gives an orderly development of mathematical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and more narrowly focused than most math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rems, proof, definitions,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books attached in a tree-like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, highly-linked texts, organized around a concept o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rsive, condensed discussions of a mathematical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s, surveys, summaries, leading to other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the user navigate to other top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topic may reappear in several core 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3581280" y="2286000"/>
            <a:ext cx="914400" cy="3809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429000" y="152388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2819520" y="28954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7"/>
          <p:cNvSpPr/>
          <p:nvPr/>
        </p:nvSpPr>
        <p:spPr>
          <a:xfrm>
            <a:off x="1371600" y="1371600"/>
            <a:ext cx="5715000" cy="5334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8"/>
          <p:cNvSpPr/>
          <p:nvPr/>
        </p:nvSpPr>
        <p:spPr>
          <a:xfrm>
            <a:off x="3352680" y="3124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2743200" y="37339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0"/>
          <p:cNvSpPr/>
          <p:nvPr/>
        </p:nvSpPr>
        <p:spPr>
          <a:xfrm>
            <a:off x="3276720" y="3962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1"/>
          <p:cNvSpPr/>
          <p:nvPr/>
        </p:nvSpPr>
        <p:spPr>
          <a:xfrm>
            <a:off x="2743200" y="4724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2"/>
          <p:cNvSpPr/>
          <p:nvPr/>
        </p:nvSpPr>
        <p:spPr>
          <a:xfrm>
            <a:off x="3276720" y="4952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"/>
          <p:cNvSpPr/>
          <p:nvPr/>
        </p:nvSpPr>
        <p:spPr>
          <a:xfrm>
            <a:off x="1905120" y="3352680"/>
            <a:ext cx="53316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4"/>
          <p:cNvSpPr/>
          <p:nvPr/>
        </p:nvSpPr>
        <p:spPr>
          <a:xfrm>
            <a:off x="2438280" y="35812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5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6"/>
          <p:cNvSpPr/>
          <p:nvPr/>
        </p:nvSpPr>
        <p:spPr>
          <a:xfrm flipV="1">
            <a:off x="2362320" y="411444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7"/>
          <p:cNvSpPr/>
          <p:nvPr/>
        </p:nvSpPr>
        <p:spPr>
          <a:xfrm>
            <a:off x="4724280" y="2438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 flipH="1">
            <a:off x="4419720" y="28195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9"/>
          <p:cNvSpPr/>
          <p:nvPr/>
        </p:nvSpPr>
        <p:spPr>
          <a:xfrm>
            <a:off x="58672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0"/>
          <p:cNvSpPr/>
          <p:nvPr/>
        </p:nvSpPr>
        <p:spPr>
          <a:xfrm>
            <a:off x="54864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1"/>
          <p:cNvSpPr/>
          <p:nvPr/>
        </p:nvSpPr>
        <p:spPr>
          <a:xfrm>
            <a:off x="5486400" y="4419720"/>
            <a:ext cx="53352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2"/>
          <p:cNvSpPr/>
          <p:nvPr/>
        </p:nvSpPr>
        <p:spPr>
          <a:xfrm flipH="1" flipV="1">
            <a:off x="5333760" y="41148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23"/>
          <p:cNvSpPr/>
          <p:nvPr/>
        </p:nvSpPr>
        <p:spPr>
          <a:xfrm>
            <a:off x="4952880" y="3581280"/>
            <a:ext cx="53352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4"/>
          <p:cNvSpPr/>
          <p:nvPr/>
        </p:nvSpPr>
        <p:spPr>
          <a:xfrm>
            <a:off x="44956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5"/>
          <p:cNvSpPr/>
          <p:nvPr/>
        </p:nvSpPr>
        <p:spPr>
          <a:xfrm flipH="1">
            <a:off x="1676160" y="51055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6"/>
          <p:cNvSpPr/>
          <p:nvPr/>
        </p:nvSpPr>
        <p:spPr>
          <a:xfrm flipH="1" flipV="1">
            <a:off x="1218960" y="30481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7"/>
          <p:cNvSpPr/>
          <p:nvPr/>
        </p:nvSpPr>
        <p:spPr>
          <a:xfrm>
            <a:off x="640080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8"/>
          <p:cNvSpPr/>
          <p:nvPr/>
        </p:nvSpPr>
        <p:spPr>
          <a:xfrm>
            <a:off x="5867280" y="49528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>
            <a:off x="5029200" y="29718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>
            <a:off x="2286000" y="46483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2"/>
          <p:cNvSpPr/>
          <p:nvPr/>
        </p:nvSpPr>
        <p:spPr>
          <a:xfrm>
            <a:off x="3505320" y="5943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e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4191120" y="21337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3962520" y="1676520"/>
            <a:ext cx="190476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0"/>
          <p:cNvSpPr/>
          <p:nvPr/>
        </p:nvSpPr>
        <p:spPr>
          <a:xfrm>
            <a:off x="4114800" y="510552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31"/>
          <p:cNvSpPr/>
          <p:nvPr/>
        </p:nvSpPr>
        <p:spPr>
          <a:xfrm>
            <a:off x="685800" y="40384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2"/>
          <p:cNvSpPr/>
          <p:nvPr/>
        </p:nvSpPr>
        <p:spPr>
          <a:xfrm>
            <a:off x="6019920" y="3429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1295280" y="1981080"/>
            <a:ext cx="1600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s of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4"/>
          <p:cNvSpPr/>
          <p:nvPr/>
        </p:nvSpPr>
        <p:spPr>
          <a:xfrm>
            <a:off x="457200" y="449568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s of 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5"/>
          <p:cNvSpPr/>
          <p:nvPr/>
        </p:nvSpPr>
        <p:spPr>
          <a:xfrm>
            <a:off x="5715000" y="297180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6"/>
          <p:cNvSpPr/>
          <p:nvPr/>
        </p:nvSpPr>
        <p:spPr>
          <a:xfrm>
            <a:off x="3886200" y="4648320"/>
            <a:ext cx="1905120" cy="17524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37"/>
          <p:cNvSpPr/>
          <p:nvPr/>
        </p:nvSpPr>
        <p:spPr>
          <a:xfrm>
            <a:off x="1143000" y="1523880"/>
            <a:ext cx="1905120" cy="17528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8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9"/>
          <p:cNvSpPr/>
          <p:nvPr/>
        </p:nvSpPr>
        <p:spPr>
          <a:xfrm>
            <a:off x="42670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40"/>
          <p:cNvSpPr/>
          <p:nvPr/>
        </p:nvSpPr>
        <p:spPr>
          <a:xfrm>
            <a:off x="548640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4419720" y="2971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5943600" y="3657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62485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723888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5"/>
          <p:cNvSpPr/>
          <p:nvPr/>
        </p:nvSpPr>
        <p:spPr>
          <a:xfrm>
            <a:off x="670572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6"/>
          <p:cNvSpPr/>
          <p:nvPr/>
        </p:nvSpPr>
        <p:spPr>
          <a:xfrm>
            <a:off x="26668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47"/>
          <p:cNvSpPr/>
          <p:nvPr/>
        </p:nvSpPr>
        <p:spPr>
          <a:xfrm>
            <a:off x="144792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8"/>
          <p:cNvSpPr/>
          <p:nvPr/>
        </p:nvSpPr>
        <p:spPr>
          <a:xfrm>
            <a:off x="198108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9"/>
          <p:cNvSpPr/>
          <p:nvPr/>
        </p:nvSpPr>
        <p:spPr>
          <a:xfrm>
            <a:off x="4267080" y="4876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0"/>
          <p:cNvSpPr/>
          <p:nvPr/>
        </p:nvSpPr>
        <p:spPr>
          <a:xfrm>
            <a:off x="4114800" y="5334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1"/>
          <p:cNvSpPr/>
          <p:nvPr/>
        </p:nvSpPr>
        <p:spPr>
          <a:xfrm>
            <a:off x="525780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2"/>
          <p:cNvSpPr/>
          <p:nvPr/>
        </p:nvSpPr>
        <p:spPr>
          <a:xfrm>
            <a:off x="4876920" y="601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3"/>
          <p:cNvSpPr/>
          <p:nvPr/>
        </p:nvSpPr>
        <p:spPr>
          <a:xfrm>
            <a:off x="182880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54"/>
          <p:cNvSpPr/>
          <p:nvPr/>
        </p:nvSpPr>
        <p:spPr>
          <a:xfrm>
            <a:off x="1981080" y="3048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5"/>
          <p:cNvSpPr/>
          <p:nvPr/>
        </p:nvSpPr>
        <p:spPr>
          <a:xfrm>
            <a:off x="28195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Text and Book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209680" y="1905120"/>
            <a:ext cx="53352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 rot="1200000">
            <a:off x="1904760" y="3352320"/>
            <a:ext cx="53316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 rot="19800000">
            <a:off x="3200040" y="31240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 rot="20700000">
            <a:off x="5851080" y="1885680"/>
            <a:ext cx="533520" cy="3733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 rot="1200000">
            <a:off x="5562360" y="5105520"/>
            <a:ext cx="533160" cy="1447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 rot="18900000">
            <a:off x="7010280" y="2438280"/>
            <a:ext cx="533520" cy="26672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7772400" y="4800600"/>
            <a:ext cx="533520" cy="1447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175248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2057400" y="1447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7"/>
          <p:cNvSpPr/>
          <p:nvPr/>
        </p:nvSpPr>
        <p:spPr>
          <a:xfrm>
            <a:off x="304812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990720" y="2514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2895480" y="23623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20"/>
          <p:cNvSpPr/>
          <p:nvPr/>
        </p:nvSpPr>
        <p:spPr>
          <a:xfrm>
            <a:off x="64771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21"/>
          <p:cNvSpPr/>
          <p:nvPr/>
        </p:nvSpPr>
        <p:spPr>
          <a:xfrm>
            <a:off x="4191120" y="41911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22"/>
          <p:cNvSpPr/>
          <p:nvPr/>
        </p:nvSpPr>
        <p:spPr>
          <a:xfrm>
            <a:off x="37339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3"/>
          <p:cNvSpPr/>
          <p:nvPr/>
        </p:nvSpPr>
        <p:spPr>
          <a:xfrm>
            <a:off x="50292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4"/>
          <p:cNvSpPr/>
          <p:nvPr/>
        </p:nvSpPr>
        <p:spPr>
          <a:xfrm>
            <a:off x="335268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5"/>
          <p:cNvSpPr/>
          <p:nvPr/>
        </p:nvSpPr>
        <p:spPr>
          <a:xfrm>
            <a:off x="525780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6"/>
          <p:cNvSpPr/>
          <p:nvPr/>
        </p:nvSpPr>
        <p:spPr>
          <a:xfrm>
            <a:off x="5410080" y="4343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7"/>
          <p:cNvSpPr/>
          <p:nvPr/>
        </p:nvSpPr>
        <p:spPr>
          <a:xfrm>
            <a:off x="167652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8"/>
          <p:cNvSpPr/>
          <p:nvPr/>
        </p:nvSpPr>
        <p:spPr>
          <a:xfrm>
            <a:off x="160020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"/>
          <p:cNvSpPr/>
          <p:nvPr/>
        </p:nvSpPr>
        <p:spPr>
          <a:xfrm>
            <a:off x="4267080" y="1523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30"/>
          <p:cNvSpPr/>
          <p:nvPr/>
        </p:nvSpPr>
        <p:spPr>
          <a:xfrm>
            <a:off x="3429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31"/>
          <p:cNvSpPr/>
          <p:nvPr/>
        </p:nvSpPr>
        <p:spPr>
          <a:xfrm>
            <a:off x="8458200" y="3581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2"/>
          <p:cNvSpPr/>
          <p:nvPr/>
        </p:nvSpPr>
        <p:spPr>
          <a:xfrm>
            <a:off x="7848720" y="32004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3"/>
          <p:cNvSpPr/>
          <p:nvPr/>
        </p:nvSpPr>
        <p:spPr>
          <a:xfrm>
            <a:off x="4267080" y="2743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34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5"/>
          <p:cNvSpPr/>
          <p:nvPr/>
        </p:nvSpPr>
        <p:spPr>
          <a:xfrm>
            <a:off x="7391520" y="16765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"/>
          <p:cNvSpPr/>
          <p:nvPr/>
        </p:nvSpPr>
        <p:spPr>
          <a:xfrm>
            <a:off x="6934320" y="2438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7"/>
          <p:cNvSpPr/>
          <p:nvPr/>
        </p:nvSpPr>
        <p:spPr>
          <a:xfrm>
            <a:off x="30492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8"/>
          <p:cNvSpPr/>
          <p:nvPr/>
        </p:nvSpPr>
        <p:spPr>
          <a:xfrm>
            <a:off x="1143000" y="1981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9"/>
          <p:cNvSpPr/>
          <p:nvPr/>
        </p:nvSpPr>
        <p:spPr>
          <a:xfrm>
            <a:off x="8305920" y="2209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0"/>
          <p:cNvSpPr/>
          <p:nvPr/>
        </p:nvSpPr>
        <p:spPr>
          <a:xfrm>
            <a:off x="8229600" y="1828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41"/>
          <p:cNvSpPr/>
          <p:nvPr/>
        </p:nvSpPr>
        <p:spPr>
          <a:xfrm>
            <a:off x="746748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2"/>
          <p:cNvSpPr/>
          <p:nvPr/>
        </p:nvSpPr>
        <p:spPr>
          <a:xfrm>
            <a:off x="7162920" y="48006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3"/>
          <p:cNvSpPr/>
          <p:nvPr/>
        </p:nvSpPr>
        <p:spPr>
          <a:xfrm>
            <a:off x="4724280" y="6400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44"/>
          <p:cNvSpPr/>
          <p:nvPr/>
        </p:nvSpPr>
        <p:spPr>
          <a:xfrm>
            <a:off x="4038480" y="58672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5"/>
          <p:cNvSpPr/>
          <p:nvPr/>
        </p:nvSpPr>
        <p:spPr>
          <a:xfrm>
            <a:off x="4419720" y="5638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6"/>
          <p:cNvSpPr/>
          <p:nvPr/>
        </p:nvSpPr>
        <p:spPr>
          <a:xfrm>
            <a:off x="7543800" y="6324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7"/>
          <p:cNvSpPr/>
          <p:nvPr/>
        </p:nvSpPr>
        <p:spPr>
          <a:xfrm>
            <a:off x="1447920" y="50292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8"/>
          <p:cNvSpPr/>
          <p:nvPr/>
        </p:nvSpPr>
        <p:spPr>
          <a:xfrm>
            <a:off x="1828800" y="5410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ematics Hypertext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tep of a very long term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ontributors and collabo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he building of large-scale structures of mathematical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itle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im for a “comprehensive introduction" to the real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everywhere dense in mathema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have different meanings in different contex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n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o include on a text on real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ations and construction of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ations of the real numbers by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and substructures of the re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classified in different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numbers are a system related to other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fine real numbers and their basic operations from rationals or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f thre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ekind cut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 classes of Cauchy sequences of rational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-10 digit 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 Foundations of the Real Nu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foundations from John Conway, "On Numbers and Gam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8120" y="5105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267080" y="4648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14600" y="4343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733920" y="3886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057400" y="3657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276720" y="3200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 flipV="1">
            <a:off x="3429000" y="4876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819520" y="472392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H="1" flipV="1">
            <a:off x="4038120" y="42667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3"/>
          <p:cNvSpPr/>
          <p:nvPr/>
        </p:nvSpPr>
        <p:spPr>
          <a:xfrm flipV="1">
            <a:off x="2895480" y="41148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4"/>
          <p:cNvSpPr/>
          <p:nvPr/>
        </p:nvSpPr>
        <p:spPr>
          <a:xfrm flipH="1" flipV="1">
            <a:off x="2361960" y="403812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2438280" y="3429000"/>
            <a:ext cx="83844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H="1" flipV="1">
            <a:off x="358092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7-07-06T06:40:41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