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A4B2-3588-4FAB-AD39-1FB18E3072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71F-EDC6-4D8D-8AA6-49C888A5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DFB-8C64-4A5E-A81F-9A258C50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C9D-2432-4447-B53B-D650E94D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690-0989-4DF7-8FA5-F79038E2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30D-F0E8-4DA0-9A1D-174AF1EC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AC5-6C0F-40B8-B387-9488DC83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31D-339D-4FCB-AB65-B81908E9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C23-5805-4FD8-A44C-23BAED9C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703-B01E-4A7B-880B-9BB1C057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E42-A9A3-4B4C-8E17-59471507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247-0B09-4E9A-A727-BB4CD471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620-48C9-4FA2-914E-FA621F8E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A6C8-5E27-45B2-B804-1004C6D03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odi.ecs.soton.ac.uk/Articles/v05/i01/Mayans/jodi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is a function from a field to the nonnegative real numbers with properties analogous to a norm or absolute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819520" y="1600200"/>
                <a:ext cx="838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1219320" y="3352680"/>
                <a:ext cx="38862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f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2438280" y="3581280"/>
                <a:ext cx="2590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≤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5486400" y="4952880"/>
                <a:ext cx="297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topology 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the trivial 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absolute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p-adic reals, with the p-adic valu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closure by adjoin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6458040" y="3429000"/>
                <a:ext cx="1162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1828800" y="2590920"/>
                <a:ext cx="533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666880" y="205740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cf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7010280" y="2895480"/>
                <a:ext cx="990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ω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6019920" y="2895480"/>
                <a:ext cx="990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7467480" y="1905120"/>
                <a:ext cx="106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914400" y="3809880"/>
                <a:ext cx="4800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but not 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4495680" y="16002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ive two examples: 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,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.  We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n)≥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ufficiently large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5715000" y="2057400"/>
                <a:ext cx="1447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n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minates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inated by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914400" y="50292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the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752480" y="4952880"/>
                <a:ext cx="2362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133720" y="5486400"/>
                <a:ext cx="609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-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-+</a:t>
            </a:r>
            <a:r>
              <a:rPr b="0" lang="en-US" sz="2800" spc="-1" strike="noStrike">
                <a:solidFill>
                  <a:srgbClr val="00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++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2767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3276720" y="2971800"/>
                <a:ext cx="60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4495680" y="3886200"/>
                <a:ext cx="99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1447920" y="4495680"/>
                <a:ext cx="533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odi.ecs.soton.ac.uk/Articles/v05/i01/Mayans/jod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81280" y="2286000"/>
            <a:ext cx="914400" cy="3809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429000" y="15238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819520" y="28954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371600" y="1371600"/>
            <a:ext cx="5715000" cy="5334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3526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2743200" y="37339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276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2743200" y="4724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3276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905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438280" y="35812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5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236232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 flipH="1">
            <a:off x="4419720" y="2819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9"/>
          <p:cNvSpPr/>
          <p:nvPr/>
        </p:nvSpPr>
        <p:spPr>
          <a:xfrm>
            <a:off x="58672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54864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1"/>
          <p:cNvSpPr/>
          <p:nvPr/>
        </p:nvSpPr>
        <p:spPr>
          <a:xfrm>
            <a:off x="5486400" y="44197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 flipH="1" flipV="1">
            <a:off x="533376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3"/>
          <p:cNvSpPr/>
          <p:nvPr/>
        </p:nvSpPr>
        <p:spPr>
          <a:xfrm>
            <a:off x="49528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4495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 flipH="1">
            <a:off x="167616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6"/>
          <p:cNvSpPr/>
          <p:nvPr/>
        </p:nvSpPr>
        <p:spPr>
          <a:xfrm flipH="1" flipV="1">
            <a:off x="1218960" y="3048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7"/>
          <p:cNvSpPr/>
          <p:nvPr/>
        </p:nvSpPr>
        <p:spPr>
          <a:xfrm>
            <a:off x="640080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8"/>
          <p:cNvSpPr/>
          <p:nvPr/>
        </p:nvSpPr>
        <p:spPr>
          <a:xfrm>
            <a:off x="5867280" y="4952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>
            <a:off x="5029200" y="29718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>
            <a:off x="2286000" y="46483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3505320" y="5943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191120" y="21337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3962520" y="1676520"/>
            <a:ext cx="190476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4114800" y="5105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1"/>
          <p:cNvSpPr/>
          <p:nvPr/>
        </p:nvSpPr>
        <p:spPr>
          <a:xfrm>
            <a:off x="685800" y="40384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6019920" y="3429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1295280" y="198108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457200" y="449568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5"/>
          <p:cNvSpPr/>
          <p:nvPr/>
        </p:nvSpPr>
        <p:spPr>
          <a:xfrm>
            <a:off x="5715000" y="297180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6"/>
          <p:cNvSpPr/>
          <p:nvPr/>
        </p:nvSpPr>
        <p:spPr>
          <a:xfrm>
            <a:off x="3886200" y="464832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7"/>
          <p:cNvSpPr/>
          <p:nvPr/>
        </p:nvSpPr>
        <p:spPr>
          <a:xfrm>
            <a:off x="1143000" y="15238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9"/>
          <p:cNvSpPr/>
          <p:nvPr/>
        </p:nvSpPr>
        <p:spPr>
          <a:xfrm>
            <a:off x="42670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0"/>
          <p:cNvSpPr/>
          <p:nvPr/>
        </p:nvSpPr>
        <p:spPr>
          <a:xfrm>
            <a:off x="548640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4419720" y="2971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59436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62485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723888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5"/>
          <p:cNvSpPr/>
          <p:nvPr/>
        </p:nvSpPr>
        <p:spPr>
          <a:xfrm>
            <a:off x="670572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6"/>
          <p:cNvSpPr/>
          <p:nvPr/>
        </p:nvSpPr>
        <p:spPr>
          <a:xfrm>
            <a:off x="26668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14479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198108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9"/>
          <p:cNvSpPr/>
          <p:nvPr/>
        </p:nvSpPr>
        <p:spPr>
          <a:xfrm>
            <a:off x="4267080" y="4876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0"/>
          <p:cNvSpPr/>
          <p:nvPr/>
        </p:nvSpPr>
        <p:spPr>
          <a:xfrm>
            <a:off x="411480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1"/>
          <p:cNvSpPr/>
          <p:nvPr/>
        </p:nvSpPr>
        <p:spPr>
          <a:xfrm>
            <a:off x="525780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2"/>
          <p:cNvSpPr/>
          <p:nvPr/>
        </p:nvSpPr>
        <p:spPr>
          <a:xfrm>
            <a:off x="4876920" y="601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3"/>
          <p:cNvSpPr/>
          <p:nvPr/>
        </p:nvSpPr>
        <p:spPr>
          <a:xfrm>
            <a:off x="182880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19810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5"/>
          <p:cNvSpPr/>
          <p:nvPr/>
        </p:nvSpPr>
        <p:spPr>
          <a:xfrm>
            <a:off x="28195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209680" y="1905120"/>
            <a:ext cx="53352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 rot="1200000">
            <a:off x="1904760" y="3352320"/>
            <a:ext cx="53316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 rot="19800000">
            <a:off x="3200040" y="31240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 rot="20700000">
            <a:off x="5851080" y="1885680"/>
            <a:ext cx="533520" cy="3733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 rot="1200000">
            <a:off x="5562360" y="5105520"/>
            <a:ext cx="53316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 rot="18900000">
            <a:off x="7010280" y="24382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7772400" y="4800600"/>
            <a:ext cx="53352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7524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2057400" y="1447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304812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99072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0"/>
          <p:cNvSpPr/>
          <p:nvPr/>
        </p:nvSpPr>
        <p:spPr>
          <a:xfrm>
            <a:off x="64771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1"/>
          <p:cNvSpPr/>
          <p:nvPr/>
        </p:nvSpPr>
        <p:spPr>
          <a:xfrm>
            <a:off x="419112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2"/>
          <p:cNvSpPr/>
          <p:nvPr/>
        </p:nvSpPr>
        <p:spPr>
          <a:xfrm>
            <a:off x="37339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3"/>
          <p:cNvSpPr/>
          <p:nvPr/>
        </p:nvSpPr>
        <p:spPr>
          <a:xfrm>
            <a:off x="50292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335268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5"/>
          <p:cNvSpPr/>
          <p:nvPr/>
        </p:nvSpPr>
        <p:spPr>
          <a:xfrm>
            <a:off x="525780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6"/>
          <p:cNvSpPr/>
          <p:nvPr/>
        </p:nvSpPr>
        <p:spPr>
          <a:xfrm>
            <a:off x="541008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7"/>
          <p:cNvSpPr/>
          <p:nvPr/>
        </p:nvSpPr>
        <p:spPr>
          <a:xfrm>
            <a:off x="16765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8"/>
          <p:cNvSpPr/>
          <p:nvPr/>
        </p:nvSpPr>
        <p:spPr>
          <a:xfrm>
            <a:off x="160020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"/>
          <p:cNvSpPr/>
          <p:nvPr/>
        </p:nvSpPr>
        <p:spPr>
          <a:xfrm>
            <a:off x="426708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0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1"/>
          <p:cNvSpPr/>
          <p:nvPr/>
        </p:nvSpPr>
        <p:spPr>
          <a:xfrm>
            <a:off x="845820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2"/>
          <p:cNvSpPr/>
          <p:nvPr/>
        </p:nvSpPr>
        <p:spPr>
          <a:xfrm>
            <a:off x="784872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3"/>
          <p:cNvSpPr/>
          <p:nvPr/>
        </p:nvSpPr>
        <p:spPr>
          <a:xfrm>
            <a:off x="42670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4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5"/>
          <p:cNvSpPr/>
          <p:nvPr/>
        </p:nvSpPr>
        <p:spPr>
          <a:xfrm>
            <a:off x="7391520" y="1676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"/>
          <p:cNvSpPr/>
          <p:nvPr/>
        </p:nvSpPr>
        <p:spPr>
          <a:xfrm>
            <a:off x="6934320" y="2438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7"/>
          <p:cNvSpPr/>
          <p:nvPr/>
        </p:nvSpPr>
        <p:spPr>
          <a:xfrm>
            <a:off x="3049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8"/>
          <p:cNvSpPr/>
          <p:nvPr/>
        </p:nvSpPr>
        <p:spPr>
          <a:xfrm>
            <a:off x="1143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9"/>
          <p:cNvSpPr/>
          <p:nvPr/>
        </p:nvSpPr>
        <p:spPr>
          <a:xfrm>
            <a:off x="83059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0"/>
          <p:cNvSpPr/>
          <p:nvPr/>
        </p:nvSpPr>
        <p:spPr>
          <a:xfrm>
            <a:off x="82296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1"/>
          <p:cNvSpPr/>
          <p:nvPr/>
        </p:nvSpPr>
        <p:spPr>
          <a:xfrm>
            <a:off x="746748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2"/>
          <p:cNvSpPr/>
          <p:nvPr/>
        </p:nvSpPr>
        <p:spPr>
          <a:xfrm>
            <a:off x="716292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3"/>
          <p:cNvSpPr/>
          <p:nvPr/>
        </p:nvSpPr>
        <p:spPr>
          <a:xfrm>
            <a:off x="4724280" y="6400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4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5"/>
          <p:cNvSpPr/>
          <p:nvPr/>
        </p:nvSpPr>
        <p:spPr>
          <a:xfrm>
            <a:off x="4419720" y="5638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6"/>
          <p:cNvSpPr/>
          <p:nvPr/>
        </p:nvSpPr>
        <p:spPr>
          <a:xfrm>
            <a:off x="7543800" y="6324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7"/>
          <p:cNvSpPr/>
          <p:nvPr/>
        </p:nvSpPr>
        <p:spPr>
          <a:xfrm>
            <a:off x="14479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8"/>
          <p:cNvSpPr/>
          <p:nvPr/>
        </p:nvSpPr>
        <p:spPr>
          <a:xfrm>
            <a:off x="1828800" y="5410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itl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670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14600" y="4343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7339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057400" y="36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767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 flipV="1">
            <a:off x="3429000" y="487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819520" y="472392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 flipV="1">
            <a:off x="4038120" y="4266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V="1">
            <a:off x="2895480" y="4114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 flipV="1">
            <a:off x="2361960" y="403812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2438280" y="3429000"/>
            <a:ext cx="83844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H="1" flipV="1">
            <a:off x="358092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7-07-06T06:40:4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