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0200" y="8832960"/>
            <a:ext cx="800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10A1-30D8-4A3F-9E95-49B8A0E9E4A3}" type="slidenum">
              <a:rPr b="0" lang="en-US" sz="1000" spc="-1" strike="noStrike">
                <a:solidFill>
                  <a:srgbClr val="000000"/>
                </a:solidFill>
                <a:latin typeface="Chicag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1.6  Solving Inequalities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 follows the same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procedures as solving equations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are a few special things to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onsider with inequalities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need to look carefully at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also need to graph the solution se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iew of Inequality Sig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 greater than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less than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eater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less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How to graph the solutio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Graph any number greater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righ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Graph any number less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greater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righ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less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lef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 the inequality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+ 4 &lt; 7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4    -4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  &lt;   3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4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Keep the sam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is one special cas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metimes you may have to reverse the direction of the inequality sign!!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at only happens when you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multiply or divide both sides of the inequality by a negative number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Example: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: -3y + 5 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5   -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y &gt; 18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      -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y &lt;  -6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5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Divide each side by negative 3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erse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2x+3&gt;x+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- c - 11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3(r-2)&lt;2r+4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04A-27C5-423D-8F29-2C06A50F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566-4492-4215-9AF3-E20DBD40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2E0-2418-4186-B4EE-DFF833D6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7A2-9BD8-42F3-B4A7-7568B8E7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26EB-34B5-48D8-A795-04285B70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7BE5-07D9-489B-8684-CD81516E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7998-4CFD-4B8B-A5D7-82250BED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7238-0C90-494E-A82F-4F43E11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BE18-0C06-4F9D-ACE9-58BDF9E5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72D0-A6BE-44C9-8149-C26EF8E7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774E-4D7C-43C7-81A1-0031B11F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886-D9A4-4D1F-87C7-9B3DC96D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A13D-FED6-442A-9517-7EA31881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63A2-F678-4A0A-9631-8F84CC16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E249-B6AB-4DA3-BC76-B67E58BB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4773-7EC1-4DEA-9615-3DF82C3C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BE04-88AF-480F-8149-E77DAE05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90D-37F7-4578-9A92-9C62C85D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840-CFC3-44A3-8F3C-91D7473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22BA-3357-4DE1-A982-98E7A6D0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ABA-E911-418C-8644-6D17B7D1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8C8-1F8F-40CE-AE55-77D2D6A2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A53-B691-4FC8-94DA-4DACC4F1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191-7FD8-4C1E-8EFF-D469B6B3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DDBB-A206-48A2-B55D-9E64ABA50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5000" y="609480"/>
            <a:ext cx="9009000" cy="1052640"/>
            <a:chOff x="135000" y="6094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425520" y="717480"/>
              <a:ext cx="711360" cy="474840"/>
              <a:chOff x="425520" y="7174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425520" y="717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808560" y="717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549360" y="1139760"/>
              <a:ext cx="737640" cy="474840"/>
              <a:chOff x="549360" y="11397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549360" y="1139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918000" y="1139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135000" y="1066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770040" y="609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451080" y="1431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DEB2-F4CF-4C41-9D77-97B97C406D0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1.6  Solving Inequal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ing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inequalities follows the same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s solving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fe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th inequal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look carefully at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need to graph the solution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Review of Inequality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26668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2616120" y="18795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9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99072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990720" y="39765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52"/>
          <p:cNvGraphicFramePr/>
          <p:nvPr/>
        </p:nvGraphicFramePr>
        <p:xfrm>
          <a:off x="717480" y="40672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480" y="40672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6"/>
          <p:cNvGraphicFramePr/>
          <p:nvPr/>
        </p:nvGraphicFramePr>
        <p:xfrm>
          <a:off x="727200" y="33526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33526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How to graph the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r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25"/>
          <p:cNvGraphicFramePr/>
          <p:nvPr/>
        </p:nvGraphicFramePr>
        <p:xfrm>
          <a:off x="838080" y="3809880"/>
          <a:ext cx="349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Group 19"/>
          <p:cNvGrpSpPr/>
          <p:nvPr/>
        </p:nvGrpSpPr>
        <p:grpSpPr>
          <a:xfrm>
            <a:off x="5791320" y="5486400"/>
            <a:ext cx="818640" cy="228600"/>
            <a:chOff x="5791320" y="5486400"/>
            <a:chExt cx="818640" cy="228600"/>
          </a:xfrm>
        </p:grpSpPr>
        <p:sp>
          <p:nvSpPr>
            <p:cNvPr id="129" name="AutoShape 14"/>
            <p:cNvSpPr/>
            <p:nvPr/>
          </p:nvSpPr>
          <p:spPr>
            <a:xfrm>
              <a:off x="5791320" y="552924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>
              <a:off x="6381720" y="548640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5867280" y="2362320"/>
            <a:ext cx="838080" cy="228600"/>
            <a:chOff x="5867280" y="2362320"/>
            <a:chExt cx="838080" cy="228600"/>
          </a:xfrm>
        </p:grpSpPr>
        <p:sp>
          <p:nvSpPr>
            <p:cNvPr id="132" name="AutoShape 7"/>
            <p:cNvSpPr/>
            <p:nvPr/>
          </p:nvSpPr>
          <p:spPr>
            <a:xfrm>
              <a:off x="5867280" y="236232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095880" y="23907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5943600" y="4419720"/>
            <a:ext cx="837720" cy="228600"/>
            <a:chOff x="5943600" y="4419720"/>
            <a:chExt cx="837720" cy="228600"/>
          </a:xfrm>
        </p:grpSpPr>
        <p:sp>
          <p:nvSpPr>
            <p:cNvPr id="135" name="AutoShape 9"/>
            <p:cNvSpPr/>
            <p:nvPr/>
          </p:nvSpPr>
          <p:spPr>
            <a:xfrm>
              <a:off x="5943600" y="441972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171840" y="444816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5562720" y="3352680"/>
            <a:ext cx="838080" cy="228600"/>
            <a:chOff x="5562720" y="3352680"/>
            <a:chExt cx="838080" cy="228600"/>
          </a:xfrm>
        </p:grpSpPr>
        <p:sp>
          <p:nvSpPr>
            <p:cNvPr id="138" name="AutoShape 8"/>
            <p:cNvSpPr/>
            <p:nvPr/>
          </p:nvSpPr>
          <p:spPr>
            <a:xfrm>
              <a:off x="6172200" y="33526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>
              <a:off x="5562720" y="33955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40" name="Object 28"/>
          <p:cNvGraphicFramePr/>
          <p:nvPr/>
        </p:nvGraphicFramePr>
        <p:xfrm>
          <a:off x="838080" y="4876920"/>
          <a:ext cx="2793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76920"/>
                    <a:ext cx="279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e the inequalit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124080" y="2514600"/>
            <a:ext cx="651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4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sam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47" name="AutoShape 12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9" name="Line 6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8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Text Box 14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Text Box 15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AutoShape 11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9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here is one special cas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you may have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of the inequality sign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nly happens when yo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y or div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sides of the inequality by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829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imes New Roman"/>
              </a:rPr>
              <a:t>Example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43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y + 5 &gt;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      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352680" y="190512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5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each side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ga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28"/>
          <p:cNvGrpSpPr/>
          <p:nvPr/>
        </p:nvGrpSpPr>
        <p:grpSpPr>
          <a:xfrm>
            <a:off x="914400" y="6148440"/>
            <a:ext cx="5153040" cy="711360"/>
            <a:chOff x="914400" y="6148440"/>
            <a:chExt cx="5153040" cy="711360"/>
          </a:xfrm>
        </p:grpSpPr>
        <p:grpSp>
          <p:nvGrpSpPr>
            <p:cNvPr id="166" name="Group 25"/>
            <p:cNvGrpSpPr/>
            <p:nvPr/>
          </p:nvGrpSpPr>
          <p:grpSpPr>
            <a:xfrm>
              <a:off x="914400" y="6148440"/>
              <a:ext cx="5153040" cy="399960"/>
              <a:chOff x="914400" y="6148440"/>
              <a:chExt cx="5153040" cy="399960"/>
            </a:xfrm>
          </p:grpSpPr>
          <p:sp>
            <p:nvSpPr>
              <p:cNvPr id="167" name="Line 8"/>
              <p:cNvSpPr/>
              <p:nvPr/>
            </p:nvSpPr>
            <p:spPr>
              <a:xfrm>
                <a:off x="3933720" y="615780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41623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43909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AutoShape 13"/>
              <p:cNvSpPr/>
              <p:nvPr/>
            </p:nvSpPr>
            <p:spPr>
              <a:xfrm>
                <a:off x="914400" y="6224760"/>
                <a:ext cx="2743200" cy="228600"/>
              </a:xfrm>
              <a:prstGeom prst="leftArrow">
                <a:avLst>
                  <a:gd name="adj1" fmla="val 50000"/>
                  <a:gd name="adj2" fmla="val 300000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AutoShape 12"/>
              <p:cNvSpPr/>
              <p:nvPr/>
            </p:nvSpPr>
            <p:spPr>
              <a:xfrm>
                <a:off x="3629160" y="6272280"/>
                <a:ext cx="152280" cy="15228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3705120" y="614844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1800360" y="63435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22"/>
              <p:cNvSpPr/>
              <p:nvPr/>
            </p:nvSpPr>
            <p:spPr>
              <a:xfrm>
                <a:off x="50767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23"/>
              <p:cNvSpPr/>
              <p:nvPr/>
            </p:nvSpPr>
            <p:spPr>
              <a:xfrm>
                <a:off x="48481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24"/>
              <p:cNvSpPr/>
              <p:nvPr/>
            </p:nvSpPr>
            <p:spPr>
              <a:xfrm>
                <a:off x="46195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" name="Text Box 26"/>
            <p:cNvSpPr/>
            <p:nvPr/>
          </p:nvSpPr>
          <p:spPr>
            <a:xfrm>
              <a:off x="4924440" y="6491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3476520" y="6491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x+3&gt;x+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 - 11&gt;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(r-2)&lt;2r+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LEGION</cp:lastModifiedBy>
  <cp:lastPrinted>2014-02-11T06:44:45Z</cp:lastPrinted>
  <dcterms:modified xsi:type="dcterms:W3CDTF">2017-07-06T06:40:22Z</dcterms:modified>
  <cp:revision>55</cp:revision>
  <dc:subject/>
  <dc:title>1.6 </dc:title>
</cp:coreProperties>
</file>