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5B11C-B1B9-4187-B0AB-E8D10C02EED3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Ō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1.  Simplify:  -2(x + 3)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2.  Simplify:  3[(5 + 72) – 20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= -2x - 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= 3[(5 + 49) – 20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= 3[(54) – 20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= 3[34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= 10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SŌP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1.  Simplify:  -2(x + 3)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2.  Simplify:  3[(5 + 72) – 20]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= -2x - 6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= 3[(5 + 49) – 20]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= 3[(54) – 20]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= 3[34]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= 10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ving Equations by Adding and Subtract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lving Equations by Adding and Subtractin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t + 5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+ 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Exampl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t + 5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t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+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w you try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 + 3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+ 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w you try…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 + 3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+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a - 4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-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+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+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a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-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+ 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Exampl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a - 4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-1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+4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+4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a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-6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+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w you try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 - 6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+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+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+ 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w you try…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x - 6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6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+6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+6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x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+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xample 4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-4 + x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-3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+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+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x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-2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0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xample 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-4 + x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-3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+4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+4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x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-26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0+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Example 5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w you try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6 + 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4.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4.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4.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w you try…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.6 + m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4.6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 4.6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4.6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 +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xample 6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+ 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w try a more challenging problem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  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+ b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 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xample 7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w try a more challenging problem…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   +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 +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CD9F4-DC45-4E09-8634-BE043804F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387D1-D11B-4C62-AD6C-52C23382F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570C8-9824-48DE-B546-9B7195DA6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90401-F45D-4E41-9DFC-419CABA6C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5B3148-C2CA-4C60-8FE2-5B4AEDF89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3FD226-DF1A-412A-8DEE-9C7ACC92D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2A2769-ED9D-49A9-BD4A-9DE6F157E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F6E348-2264-4C1D-8D95-F57861E83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6D6AFE-22A5-448C-A563-7B483FCE6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C6A5F3-87E0-4B15-965D-38F906654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E74079-5F12-4BD9-AAD9-66E7289D2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02FD8-8DEC-4F31-B3C4-B033185F8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8DE0D1-3FE3-44E7-AFB0-804AE5E5F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5B5C52-DFA3-4531-8CF4-FA90B444C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45CA12-5A13-499F-8537-0B6A0562C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05EE3D-4198-4B5A-A3B4-854273D79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E4452D-2CF6-432E-B657-868F0C186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6418DA-28B7-4CCC-86FB-2BA14D585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B4C070-FE5F-4BE8-86F1-6AB5778EC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79F8D3-41F3-45BD-BC69-1798DE3A1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4CD708-08E9-4699-BA57-599373576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D8D5D4-AEB0-4F8A-ABF5-655AD5278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5A2A1-D90A-4090-86B4-9C312F8AF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BDFA6F-5CDB-432B-88C0-427CFFFDD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E1B690-D864-42E2-893C-0FD3F53A3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A39D40-FCC5-4AD2-B489-E6ADE3680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5B19F1-8CBE-43EC-851A-9724838BC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4BB77E-8F92-4C27-B2F8-C00793ED8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8B255B-C015-46A1-9A59-CAA9418D2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D26CBA-2237-41DD-B13B-DCF94EB22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E21484-70AC-4698-B721-7CD8FF05C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B6158A-6871-4FC5-B51D-46061288F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22BFB8-D3E3-4FD7-BDB1-F499983DA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A0108-13D8-4160-890A-40CA92672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155FBC-1B93-4EE2-995D-162AFDBE2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4DA4AE-829E-477B-9B25-575E4097C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2EDB5A-86DD-492B-9E11-520547ADA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48AAAB-54DC-4FE8-B758-49E58E909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8D6629-EFB1-49F4-A96A-815176CA6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950910-7C96-4017-812A-12A5AB4B7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87B190-5DEA-4185-B75A-5E8867C9A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DAA63E-2E20-432F-B6B8-E1AD7532E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A7A5F9-CF55-4577-ABAA-61CD75D8E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F86A80-3B29-48AF-8C0F-6B2EF2D68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B14E3-33FA-409F-840D-BFFDC0853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7D4E8D-3A71-438F-AAAE-EC401ED75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5FF585-D95B-4DBA-8E97-CD64A9713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70A4DF-CD07-497F-8748-D242C7D92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D35E68-B0B6-44E7-ADA6-A4FD33B2C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1B4D02-AC8C-4A5A-89F1-08C9BBEDC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00C2FC-F23C-4F64-A299-040BE0D6C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EC6A9B-1A25-4185-B7CF-CBE89C9D6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118AD9-FF49-4596-8883-A59EBEC9D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A4CB1A-8714-4D75-86F6-D4E562365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FA8174-46FA-45D8-BCEB-A9C433EED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F7AB5-8404-4061-A4A1-4892659C3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7CAA76-10D2-4972-9A8B-BDB92D99D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C5DAD-4AB3-4061-9B00-CE1CA7D50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BE895-86C0-4EB6-B2D3-3BB6348F2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2D180-ABF7-42E1-9925-24F8D910F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7DC52-C7C9-4A7D-BDAA-B9615DA094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2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sldNum" idx="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BA139-293B-41B4-8605-B5CC01B27863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dt" idx="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5B4A0-23B4-431F-B59B-D3B082431F08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48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164FA-E527-4BC2-9912-6F311AB05097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7A85A-209B-43DA-9D8B-180A4EFAA87A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e11803"/>
                </a:solidFill>
                <a:latin typeface="Garamond"/>
              </a:rPr>
              <a:t>SŌP</a:t>
            </a:r>
            <a:endParaRPr b="0" lang="en-US" sz="8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0292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.  Simplify:  -2(x + 3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.  Simplify:  3[(5 + 7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) – 20]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4"/>
          <p:cNvSpPr/>
          <p:nvPr/>
        </p:nvSpPr>
        <p:spPr>
          <a:xfrm>
            <a:off x="3124080" y="365760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5"/>
          <p:cNvSpPr/>
          <p:nvPr/>
        </p:nvSpPr>
        <p:spPr>
          <a:xfrm>
            <a:off x="3276720" y="3809880"/>
            <a:ext cx="38862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6"/>
          <p:cNvSpPr/>
          <p:nvPr/>
        </p:nvSpPr>
        <p:spPr>
          <a:xfrm>
            <a:off x="3429000" y="3962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7"/>
          <p:cNvSpPr/>
          <p:nvPr/>
        </p:nvSpPr>
        <p:spPr>
          <a:xfrm>
            <a:off x="4419720" y="1600200"/>
            <a:ext cx="1981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cc"/>
                </a:solidFill>
                <a:latin typeface="Arial"/>
              </a:rPr>
              <a:t>= -2x - 6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8"/>
          <p:cNvSpPr/>
          <p:nvPr/>
        </p:nvSpPr>
        <p:spPr>
          <a:xfrm>
            <a:off x="5257800" y="2743200"/>
            <a:ext cx="3352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cc"/>
                </a:solidFill>
                <a:latin typeface="Arial"/>
              </a:rPr>
              <a:t>= 3[(5 + 49) – 20]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9"/>
          <p:cNvSpPr/>
          <p:nvPr/>
        </p:nvSpPr>
        <p:spPr>
          <a:xfrm>
            <a:off x="5257800" y="3429000"/>
            <a:ext cx="2590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cc"/>
                </a:solidFill>
                <a:latin typeface="Arial"/>
              </a:rPr>
              <a:t>= 3[(54) – 20]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10"/>
          <p:cNvSpPr/>
          <p:nvPr/>
        </p:nvSpPr>
        <p:spPr>
          <a:xfrm>
            <a:off x="5257800" y="4191120"/>
            <a:ext cx="2590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cc"/>
                </a:solidFill>
                <a:latin typeface="Arial"/>
              </a:rPr>
              <a:t>= 3[34]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11"/>
          <p:cNvSpPr/>
          <p:nvPr/>
        </p:nvSpPr>
        <p:spPr>
          <a:xfrm>
            <a:off x="5257800" y="4876920"/>
            <a:ext cx="2590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cc"/>
                </a:solidFill>
                <a:latin typeface="Arial"/>
              </a:rPr>
              <a:t>= 102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13"/>
          <p:cNvSpPr/>
          <p:nvPr/>
        </p:nvSpPr>
        <p:spPr>
          <a:xfrm flipV="1">
            <a:off x="2895480" y="1523880"/>
            <a:ext cx="22860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14"/>
          <p:cNvSpPr/>
          <p:nvPr/>
        </p:nvSpPr>
        <p:spPr>
          <a:xfrm flipV="1">
            <a:off x="2895480" y="1523880"/>
            <a:ext cx="76212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15"/>
          <p:cNvSpPr/>
          <p:nvPr/>
        </p:nvSpPr>
        <p:spPr>
          <a:xfrm>
            <a:off x="3124080" y="1523880"/>
            <a:ext cx="1526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16"/>
          <p:cNvSpPr/>
          <p:nvPr/>
        </p:nvSpPr>
        <p:spPr>
          <a:xfrm>
            <a:off x="3657600" y="1523880"/>
            <a:ext cx="2286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762120" y="1522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cc"/>
                </a:solidFill>
                <a:latin typeface="Tahoma"/>
              </a:rPr>
              <a:t>3.1</a:t>
            </a:r>
            <a:endParaRPr b="0" lang="en-US" sz="9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1447920" y="1981080"/>
            <a:ext cx="640080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Solving Equations by Adding and Subtracting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77" name="Picture 8" descr="AG00293_"/>
          <p:cNvPicPr/>
          <p:nvPr/>
        </p:nvPicPr>
        <p:blipFill>
          <a:blip r:embed="rId1"/>
          <a:stretch/>
        </p:blipFill>
        <p:spPr>
          <a:xfrm>
            <a:off x="3886200" y="4724280"/>
            <a:ext cx="1657440" cy="1819440"/>
          </a:xfrm>
          <a:prstGeom prst="rect">
            <a:avLst/>
          </a:prstGeom>
          <a:ln w="0">
            <a:noFill/>
          </a:ln>
        </p:spPr>
      </p:pic>
      <p:sp>
        <p:nvSpPr>
          <p:cNvPr id="2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liderbase.com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xit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heel(4)" transition="out">
                                      <p:cBhvr additive="repl">
                                        <p:cTn id="90" dur="2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93" dur="200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96" dur="2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Oval 2"/>
          <p:cNvSpPr/>
          <p:nvPr/>
        </p:nvSpPr>
        <p:spPr>
          <a:xfrm>
            <a:off x="2971800" y="3733920"/>
            <a:ext cx="3962520" cy="16002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/>
          </p:nvPr>
        </p:nvSpPr>
        <p:spPr>
          <a:xfrm>
            <a:off x="2362320" y="2514240"/>
            <a:ext cx="213336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t + 5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4"/>
          <p:cNvSpPr/>
          <p:nvPr/>
        </p:nvSpPr>
        <p:spPr>
          <a:xfrm>
            <a:off x="4495680" y="2514600"/>
            <a:ext cx="7621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5"/>
          <p:cNvSpPr/>
          <p:nvPr/>
        </p:nvSpPr>
        <p:spPr>
          <a:xfrm>
            <a:off x="5257800" y="2514600"/>
            <a:ext cx="1600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6"/>
          <p:cNvSpPr/>
          <p:nvPr/>
        </p:nvSpPr>
        <p:spPr>
          <a:xfrm>
            <a:off x="3505320" y="2514600"/>
            <a:ext cx="10666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cc"/>
                </a:solidFill>
                <a:latin typeface="Arial"/>
              </a:rPr>
              <a:t>-5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7"/>
          <p:cNvSpPr/>
          <p:nvPr/>
        </p:nvSpPr>
        <p:spPr>
          <a:xfrm>
            <a:off x="6324480" y="2514600"/>
            <a:ext cx="10670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cc"/>
                </a:solidFill>
                <a:latin typeface="Arial"/>
              </a:rPr>
              <a:t>-5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8"/>
          <p:cNvSpPr/>
          <p:nvPr/>
        </p:nvSpPr>
        <p:spPr>
          <a:xfrm>
            <a:off x="2209680" y="3809880"/>
            <a:ext cx="60984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t 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9"/>
          <p:cNvSpPr/>
          <p:nvPr/>
        </p:nvSpPr>
        <p:spPr>
          <a:xfrm>
            <a:off x="4495680" y="3809880"/>
            <a:ext cx="7621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10"/>
          <p:cNvSpPr/>
          <p:nvPr/>
        </p:nvSpPr>
        <p:spPr>
          <a:xfrm>
            <a:off x="5410080" y="3809880"/>
            <a:ext cx="7621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11"/>
          <p:cNvSpPr/>
          <p:nvPr/>
        </p:nvSpPr>
        <p:spPr>
          <a:xfrm>
            <a:off x="2743200" y="3809880"/>
            <a:ext cx="15238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Arial"/>
              </a:rPr>
              <a:t>+ 0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WordArt 12"/>
          <p:cNvSpPr txBox="1"/>
          <p:nvPr/>
        </p:nvSpPr>
        <p:spPr>
          <a:xfrm>
            <a:off x="2438280" y="152280"/>
            <a:ext cx="4572000" cy="1155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Bookman Old Style"/>
              </a:rPr>
              <a:t>Example 1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Bookman Old Style"/>
              <a:ea typeface="Bookman Old Style"/>
            </a:endParaRPr>
          </a:p>
        </p:txBody>
      </p:sp>
      <p:sp>
        <p:nvSpPr>
          <p:cNvPr id="2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6667 0 E">
                                      <p:cBhvr>
                                        <p:cTn id="103" dur="20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3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3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3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3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3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3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33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1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2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6666 0 E">
                                      <p:cBhvr>
                                        <p:cTn id="153" dur="2000" fill="hold"/>
                                        <p:tgtEl>
                                          <p:spTgt spid="2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Oval 2"/>
          <p:cNvSpPr/>
          <p:nvPr/>
        </p:nvSpPr>
        <p:spPr>
          <a:xfrm>
            <a:off x="2971800" y="3733920"/>
            <a:ext cx="3962520" cy="1600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5486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w you try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2209320" y="2514240"/>
            <a:ext cx="221004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y + 3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5"/>
          <p:cNvSpPr/>
          <p:nvPr/>
        </p:nvSpPr>
        <p:spPr>
          <a:xfrm>
            <a:off x="4495680" y="2514600"/>
            <a:ext cx="7621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6"/>
          <p:cNvSpPr/>
          <p:nvPr/>
        </p:nvSpPr>
        <p:spPr>
          <a:xfrm>
            <a:off x="5257800" y="2514600"/>
            <a:ext cx="1600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7"/>
          <p:cNvSpPr/>
          <p:nvPr/>
        </p:nvSpPr>
        <p:spPr>
          <a:xfrm>
            <a:off x="3505320" y="2514600"/>
            <a:ext cx="10666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cc"/>
                </a:solidFill>
                <a:latin typeface="Arial"/>
              </a:rPr>
              <a:t>-3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8"/>
          <p:cNvSpPr/>
          <p:nvPr/>
        </p:nvSpPr>
        <p:spPr>
          <a:xfrm>
            <a:off x="6324480" y="2514600"/>
            <a:ext cx="10670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cc"/>
                </a:solidFill>
                <a:latin typeface="Arial"/>
              </a:rPr>
              <a:t>-3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9"/>
          <p:cNvSpPr/>
          <p:nvPr/>
        </p:nvSpPr>
        <p:spPr>
          <a:xfrm>
            <a:off x="2209680" y="3809880"/>
            <a:ext cx="60984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y 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10"/>
          <p:cNvSpPr/>
          <p:nvPr/>
        </p:nvSpPr>
        <p:spPr>
          <a:xfrm>
            <a:off x="4495680" y="3809880"/>
            <a:ext cx="7621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11"/>
          <p:cNvSpPr/>
          <p:nvPr/>
        </p:nvSpPr>
        <p:spPr>
          <a:xfrm>
            <a:off x="5410080" y="3809880"/>
            <a:ext cx="12193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12"/>
          <p:cNvSpPr/>
          <p:nvPr/>
        </p:nvSpPr>
        <p:spPr>
          <a:xfrm>
            <a:off x="2743200" y="3809880"/>
            <a:ext cx="15238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Arial"/>
              </a:rPr>
              <a:t>+ 0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WordArt 14"/>
          <p:cNvSpPr txBox="1"/>
          <p:nvPr/>
        </p:nvSpPr>
        <p:spPr>
          <a:xfrm rot="5400000">
            <a:off x="-1981080" y="2590560"/>
            <a:ext cx="5257800" cy="5335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Bookman Old Style"/>
              </a:rPr>
              <a:t>Example 2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Bookman Old Style"/>
              <a:ea typeface="Bookman Old Style"/>
            </a:endParaRPr>
          </a:p>
        </p:txBody>
      </p:sp>
      <p:sp>
        <p:nvSpPr>
          <p:cNvPr id="3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0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29002E-006 L -0.09479 0.00231 E">
                                      <p:cBhvr>
                                        <p:cTn id="180" dur="20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3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3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3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3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3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3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10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8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9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6666 0 E">
                                      <p:cBhvr>
                                        <p:cTn id="230" dur="2000" fill="hold"/>
                                        <p:tgtEl>
                                          <p:spTgt spid="2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Oval 2"/>
          <p:cNvSpPr/>
          <p:nvPr/>
        </p:nvSpPr>
        <p:spPr>
          <a:xfrm>
            <a:off x="2971800" y="3733920"/>
            <a:ext cx="3962520" cy="1600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/>
          </p:nvPr>
        </p:nvSpPr>
        <p:spPr>
          <a:xfrm>
            <a:off x="2285640" y="2514240"/>
            <a:ext cx="21337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a - 4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4"/>
          <p:cNvSpPr/>
          <p:nvPr/>
        </p:nvSpPr>
        <p:spPr>
          <a:xfrm>
            <a:off x="4495680" y="2514600"/>
            <a:ext cx="7621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5"/>
          <p:cNvSpPr/>
          <p:nvPr/>
        </p:nvSpPr>
        <p:spPr>
          <a:xfrm>
            <a:off x="5257800" y="2514600"/>
            <a:ext cx="1600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-10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6"/>
          <p:cNvSpPr/>
          <p:nvPr/>
        </p:nvSpPr>
        <p:spPr>
          <a:xfrm>
            <a:off x="3505320" y="2514600"/>
            <a:ext cx="12952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cc"/>
                </a:solidFill>
                <a:latin typeface="Arial"/>
              </a:rPr>
              <a:t>+4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7"/>
          <p:cNvSpPr/>
          <p:nvPr/>
        </p:nvSpPr>
        <p:spPr>
          <a:xfrm>
            <a:off x="6781680" y="2514600"/>
            <a:ext cx="1295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cc"/>
                </a:solidFill>
                <a:latin typeface="Arial"/>
              </a:rPr>
              <a:t>+4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8"/>
          <p:cNvSpPr/>
          <p:nvPr/>
        </p:nvSpPr>
        <p:spPr>
          <a:xfrm>
            <a:off x="2209680" y="3809880"/>
            <a:ext cx="60984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a 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9"/>
          <p:cNvSpPr/>
          <p:nvPr/>
        </p:nvSpPr>
        <p:spPr>
          <a:xfrm>
            <a:off x="4495680" y="3809880"/>
            <a:ext cx="7621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10"/>
          <p:cNvSpPr/>
          <p:nvPr/>
        </p:nvSpPr>
        <p:spPr>
          <a:xfrm>
            <a:off x="5410080" y="3809880"/>
            <a:ext cx="106704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-6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11"/>
          <p:cNvSpPr/>
          <p:nvPr/>
        </p:nvSpPr>
        <p:spPr>
          <a:xfrm>
            <a:off x="2743200" y="3809880"/>
            <a:ext cx="15238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Arial"/>
              </a:rPr>
              <a:t>+ 0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WordArt 12"/>
          <p:cNvSpPr txBox="1"/>
          <p:nvPr/>
        </p:nvSpPr>
        <p:spPr>
          <a:xfrm>
            <a:off x="2438280" y="152280"/>
            <a:ext cx="4572000" cy="1155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Bookman Old Style"/>
              </a:rPr>
              <a:t>Example 3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Bookman Old Style"/>
              <a:ea typeface="Bookman Old Style"/>
            </a:endParaRPr>
          </a:p>
        </p:txBody>
      </p:sp>
      <p:sp>
        <p:nvSpPr>
          <p:cNvPr id="3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6667 0 E">
                                      <p:cBhvr>
                                        <p:cTn id="244" dur="2000" fill="hold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3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3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3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3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3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3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74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2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3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6666 0 E">
                                      <p:cBhvr>
                                        <p:cTn id="294" dur="2000" fill="hold"/>
                                        <p:tgtEl>
                                          <p:spTgt spid="3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Oval 2"/>
          <p:cNvSpPr/>
          <p:nvPr/>
        </p:nvSpPr>
        <p:spPr>
          <a:xfrm>
            <a:off x="2971800" y="3733920"/>
            <a:ext cx="3962520" cy="1600200"/>
          </a:xfrm>
          <a:prstGeom prst="ellipse">
            <a:avLst/>
          </a:prstGeom>
          <a:solidFill>
            <a:srgbClr val="93d60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5486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w you try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209320" y="2514240"/>
            <a:ext cx="221004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x - 6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5"/>
          <p:cNvSpPr/>
          <p:nvPr/>
        </p:nvSpPr>
        <p:spPr>
          <a:xfrm>
            <a:off x="4495680" y="2514600"/>
            <a:ext cx="7621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6"/>
          <p:cNvSpPr/>
          <p:nvPr/>
        </p:nvSpPr>
        <p:spPr>
          <a:xfrm>
            <a:off x="5257800" y="2514600"/>
            <a:ext cx="1600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-6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7"/>
          <p:cNvSpPr/>
          <p:nvPr/>
        </p:nvSpPr>
        <p:spPr>
          <a:xfrm>
            <a:off x="3505320" y="2514600"/>
            <a:ext cx="12952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cc"/>
                </a:solidFill>
                <a:latin typeface="Arial"/>
              </a:rPr>
              <a:t>+6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8"/>
          <p:cNvSpPr/>
          <p:nvPr/>
        </p:nvSpPr>
        <p:spPr>
          <a:xfrm>
            <a:off x="6324480" y="2514600"/>
            <a:ext cx="1371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cc"/>
                </a:solidFill>
                <a:latin typeface="Arial"/>
              </a:rPr>
              <a:t>+6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9"/>
          <p:cNvSpPr/>
          <p:nvPr/>
        </p:nvSpPr>
        <p:spPr>
          <a:xfrm>
            <a:off x="2209680" y="3809880"/>
            <a:ext cx="60984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x 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10"/>
          <p:cNvSpPr/>
          <p:nvPr/>
        </p:nvSpPr>
        <p:spPr>
          <a:xfrm>
            <a:off x="4495680" y="3809880"/>
            <a:ext cx="7621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11"/>
          <p:cNvSpPr/>
          <p:nvPr/>
        </p:nvSpPr>
        <p:spPr>
          <a:xfrm>
            <a:off x="5410080" y="3809880"/>
            <a:ext cx="12193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12"/>
          <p:cNvSpPr/>
          <p:nvPr/>
        </p:nvSpPr>
        <p:spPr>
          <a:xfrm>
            <a:off x="2743200" y="3809880"/>
            <a:ext cx="15238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Arial"/>
              </a:rPr>
              <a:t>+ 0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WordArt 13"/>
          <p:cNvSpPr txBox="1"/>
          <p:nvPr/>
        </p:nvSpPr>
        <p:spPr>
          <a:xfrm rot="5400000">
            <a:off x="-1981080" y="2590560"/>
            <a:ext cx="5257800" cy="5335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Bookman Old Style"/>
              </a:rPr>
              <a:t>Example 4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Bookman Old Style"/>
              <a:ea typeface="Bookman Old Style"/>
            </a:endParaRPr>
          </a:p>
        </p:txBody>
      </p:sp>
      <p:sp>
        <p:nvSpPr>
          <p:cNvPr id="32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nodeType="clickEffect" fill="hold">
                      <p:stCondLst>
                        <p:cond delay="0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6666 0 E">
                                      <p:cBhvr>
                                        <p:cTn id="321" dur="20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3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3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3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3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3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3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351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9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0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6666 0 E">
                                      <p:cBhvr>
                                        <p:cTn id="371" dur="2000" fill="hold"/>
                                        <p:tgtEl>
                                          <p:spTgt spid="3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Oval 2"/>
          <p:cNvSpPr/>
          <p:nvPr/>
        </p:nvSpPr>
        <p:spPr>
          <a:xfrm>
            <a:off x="2971800" y="3733920"/>
            <a:ext cx="3962520" cy="16002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/>
          </p:nvPr>
        </p:nvSpPr>
        <p:spPr>
          <a:xfrm>
            <a:off x="1904760" y="2514240"/>
            <a:ext cx="25146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-4 + x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4"/>
          <p:cNvSpPr/>
          <p:nvPr/>
        </p:nvSpPr>
        <p:spPr>
          <a:xfrm>
            <a:off x="4495680" y="2514600"/>
            <a:ext cx="7621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5"/>
          <p:cNvSpPr/>
          <p:nvPr/>
        </p:nvSpPr>
        <p:spPr>
          <a:xfrm>
            <a:off x="5257800" y="2514600"/>
            <a:ext cx="1600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-30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6"/>
          <p:cNvSpPr/>
          <p:nvPr/>
        </p:nvSpPr>
        <p:spPr>
          <a:xfrm>
            <a:off x="3352680" y="2514600"/>
            <a:ext cx="1295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cc"/>
                </a:solidFill>
                <a:latin typeface="Arial"/>
              </a:rPr>
              <a:t>+4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7"/>
          <p:cNvSpPr/>
          <p:nvPr/>
        </p:nvSpPr>
        <p:spPr>
          <a:xfrm>
            <a:off x="6705720" y="2514600"/>
            <a:ext cx="12952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cc"/>
                </a:solidFill>
                <a:latin typeface="Arial"/>
              </a:rPr>
              <a:t>+4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8"/>
          <p:cNvSpPr/>
          <p:nvPr/>
        </p:nvSpPr>
        <p:spPr>
          <a:xfrm>
            <a:off x="3733920" y="3733920"/>
            <a:ext cx="6094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x 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9"/>
          <p:cNvSpPr/>
          <p:nvPr/>
        </p:nvSpPr>
        <p:spPr>
          <a:xfrm>
            <a:off x="4343400" y="3809880"/>
            <a:ext cx="7621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10"/>
          <p:cNvSpPr/>
          <p:nvPr/>
        </p:nvSpPr>
        <p:spPr>
          <a:xfrm>
            <a:off x="4952880" y="3733920"/>
            <a:ext cx="17528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-26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11"/>
          <p:cNvSpPr/>
          <p:nvPr/>
        </p:nvSpPr>
        <p:spPr>
          <a:xfrm>
            <a:off x="2514600" y="3809880"/>
            <a:ext cx="15238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Arial"/>
              </a:rPr>
              <a:t>0+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WordArt 12"/>
          <p:cNvSpPr txBox="1"/>
          <p:nvPr/>
        </p:nvSpPr>
        <p:spPr>
          <a:xfrm>
            <a:off x="2438280" y="152280"/>
            <a:ext cx="4572000" cy="1155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Bookman Old Style"/>
              </a:rPr>
              <a:t>Example 5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Bookman Old Style"/>
              <a:ea typeface="Bookman Old Style"/>
            </a:endParaRPr>
          </a:p>
        </p:txBody>
      </p:sp>
      <p:sp>
        <p:nvSpPr>
          <p:cNvPr id="34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2.13343E-006 L -0.10834 -2.13343E-006 E">
                                      <p:cBhvr>
                                        <p:cTn id="385" dur="20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3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9" dur="3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3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3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4" dur="3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3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415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23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24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2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Oval 2"/>
          <p:cNvSpPr/>
          <p:nvPr/>
        </p:nvSpPr>
        <p:spPr>
          <a:xfrm>
            <a:off x="2971800" y="3733920"/>
            <a:ext cx="3962520" cy="1600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5486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w you try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523520" y="2361960"/>
            <a:ext cx="35053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4.6 + m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5"/>
          <p:cNvSpPr/>
          <p:nvPr/>
        </p:nvSpPr>
        <p:spPr>
          <a:xfrm>
            <a:off x="4876920" y="2514600"/>
            <a:ext cx="7617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6"/>
          <p:cNvSpPr/>
          <p:nvPr/>
        </p:nvSpPr>
        <p:spPr>
          <a:xfrm>
            <a:off x="5638680" y="2514600"/>
            <a:ext cx="1600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7"/>
          <p:cNvSpPr/>
          <p:nvPr/>
        </p:nvSpPr>
        <p:spPr>
          <a:xfrm>
            <a:off x="3429000" y="2514600"/>
            <a:ext cx="18288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cc"/>
                </a:solidFill>
                <a:latin typeface="Arial"/>
              </a:rPr>
              <a:t>-4.6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8"/>
          <p:cNvSpPr/>
          <p:nvPr/>
        </p:nvSpPr>
        <p:spPr>
          <a:xfrm>
            <a:off x="6248520" y="2438280"/>
            <a:ext cx="19047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cc"/>
                </a:solidFill>
                <a:latin typeface="Arial"/>
              </a:rPr>
              <a:t>- 4.6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9"/>
          <p:cNvSpPr/>
          <p:nvPr/>
        </p:nvSpPr>
        <p:spPr>
          <a:xfrm>
            <a:off x="3276720" y="3733920"/>
            <a:ext cx="7617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marL="260640" indent="-26064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m 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10"/>
          <p:cNvSpPr/>
          <p:nvPr/>
        </p:nvSpPr>
        <p:spPr>
          <a:xfrm>
            <a:off x="4267080" y="3809880"/>
            <a:ext cx="7621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11"/>
          <p:cNvSpPr/>
          <p:nvPr/>
        </p:nvSpPr>
        <p:spPr>
          <a:xfrm>
            <a:off x="4876920" y="3809880"/>
            <a:ext cx="19810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-4.6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12"/>
          <p:cNvSpPr/>
          <p:nvPr/>
        </p:nvSpPr>
        <p:spPr>
          <a:xfrm>
            <a:off x="1905120" y="3809880"/>
            <a:ext cx="15238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Arial"/>
              </a:rPr>
              <a:t>0 +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WordArt 13"/>
          <p:cNvSpPr txBox="1"/>
          <p:nvPr/>
        </p:nvSpPr>
        <p:spPr>
          <a:xfrm rot="5400000">
            <a:off x="-1981080" y="2590560"/>
            <a:ext cx="5257800" cy="5335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Bookman Old Style"/>
              </a:rPr>
              <a:t>Example 6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Bookman Old Style"/>
              <a:ea typeface="Bookman Old Style"/>
            </a:endParaRPr>
          </a:p>
        </p:txBody>
      </p:sp>
      <p:sp>
        <p:nvSpPr>
          <p:cNvPr id="3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nodeType="clickEffect" fill="hold">
                      <p:stCondLst>
                        <p:cond delay="0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75 0 E">
                                      <p:cBhvr>
                                        <p:cTn id="458" dur="2000" fill="hold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3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2" dur="3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3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3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7" dur="3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3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488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6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97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9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0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0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9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Oval 75"/>
          <p:cNvSpPr/>
          <p:nvPr/>
        </p:nvSpPr>
        <p:spPr>
          <a:xfrm>
            <a:off x="2133720" y="3200400"/>
            <a:ext cx="3962160" cy="1600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59"/>
          <p:cNvSpPr/>
          <p:nvPr/>
        </p:nvSpPr>
        <p:spPr>
          <a:xfrm>
            <a:off x="6248520" y="1447920"/>
            <a:ext cx="1218960" cy="1828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58"/>
          <p:cNvSpPr/>
          <p:nvPr/>
        </p:nvSpPr>
        <p:spPr>
          <a:xfrm>
            <a:off x="1600200" y="1371600"/>
            <a:ext cx="1523880" cy="1828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5029200" y="1904760"/>
            <a:ext cx="13716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+ 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4"/>
          <p:cNvSpPr/>
          <p:nvPr/>
        </p:nvSpPr>
        <p:spPr>
          <a:xfrm>
            <a:off x="3733920" y="1752480"/>
            <a:ext cx="7617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6"/>
          <p:cNvSpPr/>
          <p:nvPr/>
        </p:nvSpPr>
        <p:spPr>
          <a:xfrm>
            <a:off x="6705720" y="2895480"/>
            <a:ext cx="10666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0" name="Object 25"/>
              <p:cNvSpPr txBox="1"/>
              <p:nvPr/>
            </p:nvSpPr>
            <p:spPr>
              <a:xfrm>
                <a:off x="3200400" y="1828800"/>
                <a:ext cx="41760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1" name="Object 28"/>
              <p:cNvSpPr txBox="1"/>
              <p:nvPr/>
            </p:nvSpPr>
            <p:spPr>
              <a:xfrm>
                <a:off x="2133720" y="1863720"/>
                <a:ext cx="403200" cy="110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62" name="Rectangle 29"/>
          <p:cNvSpPr/>
          <p:nvPr/>
        </p:nvSpPr>
        <p:spPr>
          <a:xfrm>
            <a:off x="6248520" y="1828800"/>
            <a:ext cx="1600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-   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3" name="Object 30"/>
              <p:cNvSpPr txBox="1"/>
              <p:nvPr/>
            </p:nvSpPr>
            <p:spPr>
              <a:xfrm>
                <a:off x="6705720" y="1711440"/>
                <a:ext cx="457200" cy="12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4" name="Object 52"/>
              <p:cNvSpPr txBox="1"/>
              <p:nvPr/>
            </p:nvSpPr>
            <p:spPr>
              <a:xfrm>
                <a:off x="4433760" y="1590840"/>
                <a:ext cx="595440" cy="153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65" name="WordArt 55"/>
          <p:cNvSpPr txBox="1"/>
          <p:nvPr/>
        </p:nvSpPr>
        <p:spPr>
          <a:xfrm rot="5400000">
            <a:off x="-1981080" y="3504960"/>
            <a:ext cx="5257800" cy="5335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Bookman Old Style"/>
              </a:rPr>
              <a:t>Example 7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Bookman Old Style"/>
              <a:ea typeface="Bookman Old Style"/>
            </a:endParaRPr>
          </a:p>
        </p:txBody>
      </p:sp>
      <p:sp>
        <p:nvSpPr>
          <p:cNvPr id="366" name="Rectangle 56"/>
          <p:cNvSpPr/>
          <p:nvPr/>
        </p:nvSpPr>
        <p:spPr>
          <a:xfrm>
            <a:off x="304920" y="304920"/>
            <a:ext cx="8610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ow try a more challenging problem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57"/>
          <p:cNvSpPr/>
          <p:nvPr/>
        </p:nvSpPr>
        <p:spPr>
          <a:xfrm>
            <a:off x="1600200" y="1828800"/>
            <a:ext cx="1600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-   +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64"/>
          <p:cNvSpPr/>
          <p:nvPr/>
        </p:nvSpPr>
        <p:spPr>
          <a:xfrm>
            <a:off x="4343400" y="3457440"/>
            <a:ext cx="15238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0 +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65"/>
          <p:cNvSpPr/>
          <p:nvPr/>
        </p:nvSpPr>
        <p:spPr>
          <a:xfrm>
            <a:off x="5638680" y="3381480"/>
            <a:ext cx="53352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0" name="Object 66"/>
              <p:cNvSpPr txBox="1"/>
              <p:nvPr/>
            </p:nvSpPr>
            <p:spPr>
              <a:xfrm>
                <a:off x="3016080" y="3276720"/>
                <a:ext cx="489240" cy="134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71" name="Rectangle 67"/>
          <p:cNvSpPr/>
          <p:nvPr/>
        </p:nvSpPr>
        <p:spPr>
          <a:xfrm>
            <a:off x="3657600" y="3381480"/>
            <a:ext cx="7621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71"/>
          <p:cNvSpPr/>
          <p:nvPr/>
        </p:nvSpPr>
        <p:spPr>
          <a:xfrm>
            <a:off x="2971800" y="3429000"/>
            <a:ext cx="762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nodeType="clickEffect" fill="hold">
                      <p:stCondLst>
                        <p:cond delay="0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9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9" dur="8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0" dur="8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8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8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7" dur="8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8" dur="8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8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8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5" dur="8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6" dur="8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8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8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8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4" dur="8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8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8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10834 0 E">
                                      <p:cBhvr>
                                        <p:cTn id="612" dur="2000" fill="hold"/>
                                        <p:tgtEl>
                                          <p:spTgt spid="3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10834 0 E">
                                      <p:cBhvr>
                                        <p:cTn id="614" dur="2000" fill="hold"/>
                                        <p:tgtEl>
                                          <p:spTgt spid="3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10834 0 E">
                                      <p:cBhvr>
                                        <p:cTn id="616" dur="2000" fill="hold"/>
                                        <p:tgtEl>
                                          <p:spTgt spid="3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5834 0 E">
                                      <p:cBhvr>
                                        <p:cTn id="618" dur="2000" fill="hold"/>
                                        <p:tgtEl>
                                          <p:spTgt spid="3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40" dur="500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0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2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nodeType="clickEffect" fill="hold">
                      <p:stCondLst>
                        <p:cond delay="indefinite"/>
                      </p:stCondLst>
                      <p:childTnLst>
                        <p:par>
                          <p:cTn id="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649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57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58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6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6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6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nodeType="clickEffect" fill="hold">
                      <p:stCondLst>
                        <p:cond delay="indefinite"/>
                      </p:stCondLst>
                      <p:childTnLst>
                        <p:par>
                          <p:cTn id="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125 0 E">
                                      <p:cBhvr>
                                        <p:cTn id="669" dur="2000" fill="hold"/>
                                        <p:tgtEl>
                                          <p:spTgt spid="3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nodeType="clickEffect" fill="hold">
                      <p:stCondLst>
                        <p:cond delay="indefinite"/>
                      </p:stCondLst>
                      <p:childTnLst>
                        <p:par>
                          <p:cTn id="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nodeType="clickEffect" fill="hold">
                      <p:stCondLst>
                        <p:cond delay="indefinite"/>
                      </p:stCondLst>
                      <p:childTnLst>
                        <p:par>
                          <p:cTn id="6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2" dur="2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19T01:03:01Z</dcterms:created>
  <dc:creator>User</dc:creator>
  <dc:description/>
  <dc:language>en-US</dc:language>
  <cp:lastModifiedBy>LEGION</cp:lastModifiedBy>
  <dcterms:modified xsi:type="dcterms:W3CDTF">2017-07-06T06:40:12Z</dcterms:modified>
  <cp:revision>25</cp:revision>
  <dc:subject/>
  <dc:title>3.1-Solving Equations by Adding and Subtracting</dc:title>
</cp:coreProperties>
</file>