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9741-B5BB-4979-A54D-AD0402C8DB0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Ō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 Simplify:  -2(x + 3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 Simplify:  3[(5 + 72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-2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 + 49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4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3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Ō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  Simplify:  3[(5 + 72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-2x -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 + 49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4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34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Adding and Sub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ing Equations by Adding and Subtra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+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4 +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0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6 +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 + 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ry a more challenging proble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27A-BF7A-4C6F-8378-E14C8726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33D5-5601-42C2-A8A6-6D7677C2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E6F-1CB1-4CA4-A844-BA2965BD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642-4F27-4D76-AC7E-FF96E944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C691A-951F-46F9-BA25-F8CC250F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8E6F2-09CC-4048-AFFF-0150CCB4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A605A-7233-45A2-9388-265B9587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2D93E-92EF-4F67-B2BC-08CC31FB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009CA-F567-4E0D-9672-B735517D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790D6-7D7A-4123-86CE-6616AF4A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46803-0447-44D3-8B30-E9E5F3B4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D3E-3231-410D-8D43-410882E2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14005-14BF-4026-9EC2-56AC7B4B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EF3A3-50C3-4926-8816-07DBAD72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E6FD2-21FD-42EB-8819-4BF1BF1C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57DE9-729D-4815-9042-1CFA4C5F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DD99C-EEAA-4DC7-AFDC-1E90AF59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DBB81-C21F-42D3-9388-6048C5C9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ED212-5E48-46A2-BECC-27FFD432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B667-0855-4549-8328-8180F9D7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F8967-A590-4490-B34A-CEFD6467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8C26-737F-4CF8-8BCA-C9E32658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D49-6487-4E73-935E-FE06D051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F94C4-C39A-43CC-9D13-CD5356DF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842D-40DF-4AD7-B1E8-18E5726F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75865-2C5C-43F2-8B25-A8F841C7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02E6A-436E-4463-8F5C-2FFD7921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15F53-5876-4780-A467-89680F0A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889D3-42E9-4FBF-91A5-BB7152EB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2AE7D-945A-493D-9E7F-B4C7F508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4C52E-2029-421D-BA69-42E2850A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55E8C-094B-4991-A25A-7F40F15B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C1E90-2BBE-45AF-89F8-F2BAA410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608-6AAA-4268-BD22-C4B392BB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7B328-A891-48B5-B460-604AF05D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AF47D-DA33-4356-BBDD-7D4E5640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104C1-7855-4E14-9C89-D4FABA4F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4657B-F1E5-4C79-954B-5B45ECAE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A8705-BA74-4A4A-8DCD-913ABF95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80F88-8809-4A1C-8267-766A425E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FA4DF-5B44-4324-906E-EA5EF748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26519-EE85-47F1-8CAA-18B61E0D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C819A-D91A-4689-AB0F-610DCEC4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5F485-253A-4C37-8E0D-AB2E8B77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ECC-B378-4641-B9DE-C81FBD13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EB208-F04F-4933-A141-9CC02880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9AAFF-BA2B-4D28-9B37-BD691E62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DE59A-54A7-4945-82E6-9C4B8E53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D1797-6816-479D-8F1D-C81CD1BB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5BF37-DA32-425E-AC24-CB23F8E6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515C1-D446-42B0-BBF4-92023E06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2E21F-8F8A-40B4-94B5-C1DDF448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16743-A58A-4BF0-B1E7-E620BA55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2C5CB-63CB-4423-8BD3-050ADBBD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091D0-BD56-46AB-B6A4-FFC287E7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993-D944-46DA-9686-803F9A12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BAAC2-74A0-48B9-B7B4-293260F4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48B-030D-4446-AF22-2E4AB3CB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9BE-1F55-4EB7-B223-ED21BF61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1271-7A1D-4ADC-9AE9-D452E0AA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9A9B-4047-47B3-A1EE-2F69F5D38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1B18-3209-400D-887E-E8F500A1811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E890-341F-46C1-8BA0-56D648789A8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1071-AC4A-4B90-8771-674FEECF3B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0EC8-AED9-4962-B0E7-EA6ABA4A62D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11803"/>
                </a:solidFill>
                <a:latin typeface="Garamond"/>
              </a:rPr>
              <a:t>SŌP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Simplify:  3[(5 + 7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2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124080" y="3657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76720" y="38098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3962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419720" y="1600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-2x - 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257800" y="2743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 + 49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57800" y="3429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4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5257800" y="4191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34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5257800" y="4876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1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89548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89548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3124080" y="1523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365760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3.1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ving Equations by Adding and Subtrac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8" descr="AG00293_"/>
          <p:cNvPicPr/>
          <p:nvPr/>
        </p:nvPicPr>
        <p:blipFill>
          <a:blip r:embed="rId1"/>
          <a:stretch/>
        </p:blipFill>
        <p:spPr>
          <a:xfrm>
            <a:off x="3886200" y="4724280"/>
            <a:ext cx="1657440" cy="1819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362320" y="2514240"/>
            <a:ext cx="2133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5410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03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153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14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9002E-006 L -0.09479 0.00231 E">
                                      <p:cBhvr>
                                        <p:cTn id="180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3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5640" y="251424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6781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44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94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93d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6324480" y="2514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E">
                                      <p:cBhvr>
                                        <p:cTn id="321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37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904760" y="2514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352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67057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3733920" y="37339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34340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952880" y="373392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25146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13343E-006 L -0.10834 -2.13343E-006 E">
                                      <p:cBhvr>
                                        <p:cTn id="385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6 + 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4876920" y="251460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563868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4290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6248520" y="2438280"/>
            <a:ext cx="1904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 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3276720" y="37339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267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4876920" y="38098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190512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 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458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Oval 75"/>
          <p:cNvSpPr/>
          <p:nvPr/>
        </p:nvSpPr>
        <p:spPr>
          <a:xfrm>
            <a:off x="2133720" y="3200400"/>
            <a:ext cx="3962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9"/>
          <p:cNvSpPr/>
          <p:nvPr/>
        </p:nvSpPr>
        <p:spPr>
          <a:xfrm>
            <a:off x="6248520" y="1447920"/>
            <a:ext cx="12189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8"/>
          <p:cNvSpPr/>
          <p:nvPr/>
        </p:nvSpPr>
        <p:spPr>
          <a:xfrm>
            <a:off x="1600200" y="1371600"/>
            <a:ext cx="1523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29200" y="190476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733920" y="17524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705720" y="28954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5"/>
              <p:cNvSpPr txBox="1"/>
              <p:nvPr/>
            </p:nvSpPr>
            <p:spPr>
              <a:xfrm>
                <a:off x="3200400" y="182880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28"/>
              <p:cNvSpPr txBox="1"/>
              <p:nvPr/>
            </p:nvSpPr>
            <p:spPr>
              <a:xfrm>
                <a:off x="2133720" y="1863720"/>
                <a:ext cx="403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Rectangle 29"/>
          <p:cNvSpPr/>
          <p:nvPr/>
        </p:nvSpPr>
        <p:spPr>
          <a:xfrm>
            <a:off x="624852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30"/>
              <p:cNvSpPr txBox="1"/>
              <p:nvPr/>
            </p:nvSpPr>
            <p:spPr>
              <a:xfrm>
                <a:off x="6705720" y="1711440"/>
                <a:ext cx="4572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2"/>
              <p:cNvSpPr txBox="1"/>
              <p:nvPr/>
            </p:nvSpPr>
            <p:spPr>
              <a:xfrm>
                <a:off x="4433760" y="1590840"/>
                <a:ext cx="5954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WordArt 55"/>
          <p:cNvSpPr txBox="1"/>
          <p:nvPr/>
        </p:nvSpPr>
        <p:spPr>
          <a:xfrm rot="5400000">
            <a:off x="-1981080" y="35049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160020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4"/>
          <p:cNvSpPr/>
          <p:nvPr/>
        </p:nvSpPr>
        <p:spPr>
          <a:xfrm>
            <a:off x="4343400" y="345744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5"/>
          <p:cNvSpPr/>
          <p:nvPr/>
        </p:nvSpPr>
        <p:spPr>
          <a:xfrm>
            <a:off x="5638680" y="3381480"/>
            <a:ext cx="533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66"/>
              <p:cNvSpPr txBox="1"/>
              <p:nvPr/>
            </p:nvSpPr>
            <p:spPr>
              <a:xfrm>
                <a:off x="3016080" y="3276720"/>
                <a:ext cx="4892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Rectangle 67"/>
          <p:cNvSpPr/>
          <p:nvPr/>
        </p:nvSpPr>
        <p:spPr>
          <a:xfrm>
            <a:off x="3657600" y="338148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1"/>
          <p:cNvSpPr/>
          <p:nvPr/>
        </p:nvSpPr>
        <p:spPr>
          <a:xfrm>
            <a:off x="29718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2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4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834 0 E">
                                      <p:cBhvr>
                                        <p:cTn id="61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5 0 E">
                                      <p:cBhvr>
                                        <p:cTn id="669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03:01Z</dcterms:created>
  <dc:creator>User</dc:creator>
  <dc:description/>
  <dc:language>en-US</dc:language>
  <cp:lastModifiedBy>LEGION</cp:lastModifiedBy>
  <dcterms:modified xsi:type="dcterms:W3CDTF">2017-07-06T06:40:12Z</dcterms:modified>
  <cp:revision>25</cp:revision>
  <dc:subject/>
  <dc:title>3.1-Solving Equations by Adding and Subtracting</dc:title>
</cp:coreProperties>
</file>