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E332-D1B7-4D08-AA00-7A28D67379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Ō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 Simplify:  -2(x + 3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 Simplify:  3[(5 + 72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-2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 + 49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(54) – 2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3[3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Ō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  Simplify:  3[(5 + 72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-2x -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 + 49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(54) – 20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3[34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 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Adding and Subtrac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ing Equations by Adding and Subtrac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+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4 +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0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t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6 + 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 + 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ry a more challenging proble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FCB-F82A-4467-9570-58EDA485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227-46B7-4E6E-877D-F4D423D3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035-B4EE-4B14-8231-6BBEE2D7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1F6-5A87-4CD5-9892-F0509E89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E2E15-7EC9-4C39-811E-8F4043A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9BDF1-17EC-4B26-B131-CDC4CA2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3A3D9-9365-4AE0-BD3C-A5F0412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FFFE4-51D7-4B92-93CF-EE9BEF9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13495-5936-4A66-A6B1-CBA6C344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52DB-A620-4C97-A113-8EF206AB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67B0D-C3D6-4627-97DF-0E670A4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309-086B-4645-8051-7135918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6B4EB-97C3-4E12-9441-B8489FE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EAD4-77FA-49CB-BB20-9D3D45C0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26A4F-D3D3-4A0A-9B8D-7E00E662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A5F3B-478B-41E9-8561-18CF684A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AA4BB-7FF2-43D0-B238-2D0147B8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916F-AA6D-434C-946A-2D5B79F2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DB90-F1DE-4462-B3CA-BDCC209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B1A5-0D12-4E67-A13B-F28418DD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70CE-4289-4003-BC5F-00299DA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01DD-9481-4436-9AC1-24BF621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7F6-D898-4BA6-B279-EE8F8A41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1FA6-6E75-41EB-A182-1224C17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5FF0-C870-4D88-9F36-5BC8583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00AC-62BE-4702-A12D-37F36CC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662A-EA2E-436D-88D3-6BC9FA6A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3FEA-C5D8-47C7-B3FB-D3710C7D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66FF2-9CC2-43BD-9E1B-D50DDB39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B9A7-3683-4B1C-9AD5-9ADF6D5C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58C4-1B43-412B-8044-CCDF05B3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198A-4710-4B9C-90B1-A6DA2A37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5B5F-D081-4BCC-8C8D-420FD764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A15-57CD-4A90-9DC2-3A0308DC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DFC0-20D0-4415-A495-FF9767C6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08CB-76E3-4991-969C-51A19C3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4FC7-0A73-4C52-978B-E48F411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5A0D6-8B4F-4C6B-A7EB-73E80D9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B26B-3A6A-4B5E-A3DD-41B3B0CA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FA0E4-27E3-4109-AB84-EA0AB9E3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37E7-524A-4CDA-95EE-4E275EB1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75550-FED7-46E4-BBDC-ADFD060A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EA5D9-FC3E-4E08-8A8B-16527AFC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237CA-7BD3-4AC1-A1B1-2E670863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7BF-487A-4FC4-B67A-7EFFC6B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31C2A-B6F8-4F3E-ABE5-EE172AB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F67D1-62A2-4CFC-9462-5610C09A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A077D-D6C5-40C1-AFD5-C2C84FB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F01A-375D-4D93-85F9-EE16023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6E15-731A-486B-9E72-72ABC8BD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DC03-3CBF-4C9E-BD0E-A828B6E8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CDE4-0139-497A-86DF-DC49824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205A-3BB3-4A63-B7D4-4760A93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7D2E-5E71-4E4B-B30A-3924D4AB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84F3-3AA7-4202-9C2C-DFFC0D3F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20A-9CFE-4744-B8C6-33A691D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85AC-0E38-4530-A94B-27E5E5FE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4EE5-7C97-46FD-A028-BB05410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AE0-7DCE-46D8-AEEF-0CBD589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98F-1DC6-4B68-9309-57EDC97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A7A-6A7B-4C70-AE30-BA575079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FE56-F38F-41B9-AAF1-A1AE34A7B0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F794-50B7-47E9-8851-0D1CD51ABF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D2CD-381A-4FEC-BAF4-48F872B956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848-140C-471B-9986-15D2E06CF9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11803"/>
                </a:solidFill>
                <a:latin typeface="Garamond"/>
              </a:rPr>
              <a:t>SŌP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 Simplify:  -2(x + 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 Simplify:  3[(5 + 7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20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3124080" y="3657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276720" y="3809880"/>
            <a:ext cx="388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3962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4419720" y="160020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-2x - 6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257800" y="2743200"/>
            <a:ext cx="3352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 + 49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57800" y="3429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(54) – 20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5257800" y="41911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3[34]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5257800" y="487692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= 10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89548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2895480" y="15238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3124080" y="1523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3657600" y="1523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3.1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olving Equations by Adding and Subtrac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8" descr="AG00293_"/>
          <p:cNvPicPr/>
          <p:nvPr/>
        </p:nvPicPr>
        <p:blipFill>
          <a:blip r:embed="rId1"/>
          <a:stretch/>
        </p:blipFill>
        <p:spPr>
          <a:xfrm>
            <a:off x="3886200" y="4724280"/>
            <a:ext cx="1657440" cy="1819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362320" y="2514240"/>
            <a:ext cx="2133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+ 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5410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03" dur="2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15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+ 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505320" y="25146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324480" y="2514600"/>
            <a:ext cx="1067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-3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14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29002E-006 L -0.09479 0.00231 E">
                                      <p:cBhvr>
                                        <p:cTn id="180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3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5640" y="251424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- 4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6781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5410080" y="3809880"/>
            <a:ext cx="106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244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29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93d6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2210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- 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5053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6324480" y="2514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209680" y="3809880"/>
            <a:ext cx="609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4956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5410080" y="38098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27432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+ 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6 0 E">
                                      <p:cBhvr>
                                        <p:cTn id="32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3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666 0 E">
                                      <p:cBhvr>
                                        <p:cTn id="371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904760" y="251424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 + x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495680" y="251460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25780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352680" y="251460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6705720" y="251460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Arial"/>
              </a:rPr>
              <a:t>+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3733920" y="3733920"/>
            <a:ext cx="60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34340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52880" y="373392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2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51460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12"/>
          <p:cNvSpPr txBox="1"/>
          <p:nvPr/>
        </p:nvSpPr>
        <p:spPr>
          <a:xfrm>
            <a:off x="2438280" y="152280"/>
            <a:ext cx="457200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man Old Style"/>
              </a:rPr>
              <a:t>Example 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man Old Style"/>
              <a:ea typeface="Bookman Old Style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13343E-006 L -0.10834 -2.13343E-006 E">
                                      <p:cBhvr>
                                        <p:cTn id="385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Oval 2"/>
          <p:cNvSpPr/>
          <p:nvPr/>
        </p:nvSpPr>
        <p:spPr>
          <a:xfrm>
            <a:off x="2971800" y="3733920"/>
            <a:ext cx="396252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3520" y="2361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6 + 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876920" y="251460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5638680" y="25146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4290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6248520" y="2438280"/>
            <a:ext cx="1904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Arial"/>
              </a:rPr>
              <a:t>- 4.6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276720" y="3733920"/>
            <a:ext cx="761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267080" y="38098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4876920" y="3809880"/>
            <a:ext cx="1981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05120" y="380988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"/>
              </a:rPr>
              <a:t>0 +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3"/>
          <p:cNvSpPr txBox="1"/>
          <p:nvPr/>
        </p:nvSpPr>
        <p:spPr>
          <a:xfrm rot="5400000">
            <a:off x="-1981080" y="25905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 E">
                                      <p:cBhvr>
                                        <p:cTn id="458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Oval 75"/>
          <p:cNvSpPr/>
          <p:nvPr/>
        </p:nvSpPr>
        <p:spPr>
          <a:xfrm>
            <a:off x="2133720" y="3200400"/>
            <a:ext cx="396216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9"/>
          <p:cNvSpPr/>
          <p:nvPr/>
        </p:nvSpPr>
        <p:spPr>
          <a:xfrm>
            <a:off x="6248520" y="1447920"/>
            <a:ext cx="12189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8"/>
          <p:cNvSpPr/>
          <p:nvPr/>
        </p:nvSpPr>
        <p:spPr>
          <a:xfrm>
            <a:off x="1600200" y="1371600"/>
            <a:ext cx="1523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029200" y="190476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+ 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733920" y="1752480"/>
            <a:ext cx="761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705720" y="2895480"/>
            <a:ext cx="1066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5"/>
              <p:cNvSpPr txBox="1"/>
              <p:nvPr/>
            </p:nvSpPr>
            <p:spPr>
              <a:xfrm>
                <a:off x="3200400" y="1828800"/>
                <a:ext cx="417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8"/>
              <p:cNvSpPr txBox="1"/>
              <p:nvPr/>
            </p:nvSpPr>
            <p:spPr>
              <a:xfrm>
                <a:off x="2133720" y="1863720"/>
                <a:ext cx="403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Rectangle 29"/>
          <p:cNvSpPr/>
          <p:nvPr/>
        </p:nvSpPr>
        <p:spPr>
          <a:xfrm>
            <a:off x="624852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0"/>
              <p:cNvSpPr txBox="1"/>
              <p:nvPr/>
            </p:nvSpPr>
            <p:spPr>
              <a:xfrm>
                <a:off x="6705720" y="1711440"/>
                <a:ext cx="4572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2"/>
              <p:cNvSpPr txBox="1"/>
              <p:nvPr/>
            </p:nvSpPr>
            <p:spPr>
              <a:xfrm>
                <a:off x="4433760" y="1590840"/>
                <a:ext cx="59544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WordArt 55"/>
          <p:cNvSpPr txBox="1"/>
          <p:nvPr/>
        </p:nvSpPr>
        <p:spPr>
          <a:xfrm rot="5400000">
            <a:off x="-1981080" y="3504960"/>
            <a:ext cx="52578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ookman Old Style"/>
              </a:rPr>
              <a:t>Example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ookman Old Style"/>
              <a:ea typeface="Bookman Old Style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304920" y="304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try a more challenging proble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1600200" y="1828800"/>
            <a:ext cx="160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  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4"/>
          <p:cNvSpPr/>
          <p:nvPr/>
        </p:nvSpPr>
        <p:spPr>
          <a:xfrm>
            <a:off x="4343400" y="3457440"/>
            <a:ext cx="1523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 +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5"/>
          <p:cNvSpPr/>
          <p:nvPr/>
        </p:nvSpPr>
        <p:spPr>
          <a:xfrm>
            <a:off x="5638680" y="3381480"/>
            <a:ext cx="533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6"/>
              <p:cNvSpPr txBox="1"/>
              <p:nvPr/>
            </p:nvSpPr>
            <p:spPr>
              <a:xfrm>
                <a:off x="3016080" y="3276720"/>
                <a:ext cx="4892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Rectangle 67"/>
          <p:cNvSpPr/>
          <p:nvPr/>
        </p:nvSpPr>
        <p:spPr>
          <a:xfrm>
            <a:off x="3657600" y="338148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2971800" y="3429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2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834 0 E">
                                      <p:cBhvr>
                                        <p:cTn id="616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834 0 E">
                                      <p:cBhvr>
                                        <p:cTn id="61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5 0 E">
                                      <p:cBhvr>
                                        <p:cTn id="669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01:03:01Z</dcterms:created>
  <dc:creator>User</dc:creator>
  <dc:description/>
  <dc:language>en-US</dc:language>
  <cp:lastModifiedBy>LEGION</cp:lastModifiedBy>
  <dcterms:modified xsi:type="dcterms:W3CDTF">2017-07-06T06:40:12Z</dcterms:modified>
  <cp:revision>25</cp:revision>
  <dc:subject/>
  <dc:title>3.1-Solving Equations by Adding and Subtracting</dc:title>
</cp:coreProperties>
</file>