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6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101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BDA1-33AC-41F2-A7B2-8D4239BDEB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mplifying Radic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implifying Radical Expression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st Radic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perfect nth power factors other than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fractions in the radic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adicals in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implest Radical For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perfect nth power factors other than 1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fractions in the radicand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radicals in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nly combine terms with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have like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e of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dding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e can only combine terms with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f we have like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everse of the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radicals -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ultiplying radicals -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plying radicals -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Multiplying radicals - FOIL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g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Conjugat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Exampl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Quotien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implif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x: Simplify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28A-7C0E-478D-8702-0014B73F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946-F384-4C3B-B9C1-C36E1A7F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34C-7968-4250-8D26-11C64705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DE4B-D60B-4A5E-A494-9F9F5CD3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FF6F-BBE8-4F34-B7D2-03AD1EF1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3E05-BDD7-48E4-AA85-5DCACC21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B1BA-FAD4-4166-946D-4C86FEB5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0798-10A7-4F10-B59D-DED8EC70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1B7D-FCFC-4AF1-A542-E435E19C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B47A-6B2A-4B2D-A4FA-BB51BA6F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2E7F-006C-4707-A709-ECDFE859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38D-D5EB-4724-ACD1-20A68D45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F158-6694-4D76-9F4A-AF3EBF05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C14B-9C58-434D-AE7F-BC624491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F20B-03FD-4708-97E1-7C53FA5A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8B43-5DCC-4940-810E-0B9FB2FC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4D90-2C71-4B4A-A648-8007833C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1B94-D842-4146-B873-1B22AEE9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E7A-11A1-4AA4-B133-3F0E2B0E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F39-08E5-4CBA-8CFB-7D9CF3BD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56D-7E4C-4E73-8D9F-914DD593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C8BE-429B-4C5E-B37D-A1B9C460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ACC-6DB4-421C-AD71-405182F6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186-F456-4A8C-8655-0954DDA4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65ED-E10E-4B6E-B603-FA2AAF1F9D4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5889-0C8D-4EB8-92BD-27CEFD41F08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05740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4c2b"/>
                </a:solidFill>
                <a:latin typeface="Arial"/>
              </a:rPr>
              <a:t>Simplifying Radical Expressions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Simplest Radical Form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52280" y="1981080"/>
            <a:ext cx="891540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perfect nth power factors other than 1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fractions in the radicand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radicals in the denominator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457200" y="1905120"/>
          <a:ext cx="21780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2178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4"/>
          <p:cNvGraphicFramePr/>
          <p:nvPr/>
        </p:nvGraphicFramePr>
        <p:xfrm>
          <a:off x="2133720" y="1905120"/>
          <a:ext cx="1307880" cy="15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905120"/>
                    <a:ext cx="130788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6"/>
          <p:cNvGraphicFramePr/>
          <p:nvPr/>
        </p:nvGraphicFramePr>
        <p:xfrm>
          <a:off x="3429000" y="1938240"/>
          <a:ext cx="124632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1938240"/>
                    <a:ext cx="1246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8"/>
          <p:cNvGraphicFramePr/>
          <p:nvPr/>
        </p:nvGraphicFramePr>
        <p:xfrm>
          <a:off x="2666880" y="4343400"/>
          <a:ext cx="1828800" cy="15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4343400"/>
                    <a:ext cx="182880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9"/>
          <p:cNvSpPr/>
          <p:nvPr/>
        </p:nvSpPr>
        <p:spPr>
          <a:xfrm>
            <a:off x="3803760" y="1857240"/>
            <a:ext cx="920520" cy="1495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7" name="Object 10"/>
          <p:cNvGraphicFramePr/>
          <p:nvPr/>
        </p:nvGraphicFramePr>
        <p:xfrm>
          <a:off x="4419720" y="4648320"/>
          <a:ext cx="19047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4648320"/>
                    <a:ext cx="19047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2"/>
          <p:cNvGraphicFramePr/>
          <p:nvPr/>
        </p:nvGraphicFramePr>
        <p:xfrm>
          <a:off x="6248520" y="4821120"/>
          <a:ext cx="1676160" cy="51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4821120"/>
                    <a:ext cx="167616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3"/>
          <p:cNvGraphicFramePr/>
          <p:nvPr/>
        </p:nvGraphicFramePr>
        <p:xfrm>
          <a:off x="6248520" y="5483160"/>
          <a:ext cx="1218960" cy="53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5483160"/>
                    <a:ext cx="121896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4"/>
          <p:cNvSpPr/>
          <p:nvPr/>
        </p:nvSpPr>
        <p:spPr>
          <a:xfrm>
            <a:off x="6705720" y="5410080"/>
            <a:ext cx="761760" cy="609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36" name="Object 1028"/>
          <p:cNvGraphicFramePr/>
          <p:nvPr/>
        </p:nvGraphicFramePr>
        <p:xfrm>
          <a:off x="112680" y="1143000"/>
          <a:ext cx="209700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1143000"/>
                    <a:ext cx="20970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32"/>
          <p:cNvGraphicFramePr/>
          <p:nvPr/>
        </p:nvGraphicFramePr>
        <p:xfrm>
          <a:off x="2133720" y="1066680"/>
          <a:ext cx="107136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066680"/>
                    <a:ext cx="1071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033"/>
          <p:cNvGraphicFramePr/>
          <p:nvPr/>
        </p:nvGraphicFramePr>
        <p:xfrm>
          <a:off x="5105520" y="1081080"/>
          <a:ext cx="1828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0810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034"/>
          <p:cNvGraphicFramePr/>
          <p:nvPr/>
        </p:nvGraphicFramePr>
        <p:xfrm>
          <a:off x="5486400" y="3505320"/>
          <a:ext cx="2239920" cy="16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505320"/>
                    <a:ext cx="223992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035"/>
          <p:cNvGraphicFramePr/>
          <p:nvPr/>
        </p:nvGraphicFramePr>
        <p:xfrm>
          <a:off x="2438280" y="3519360"/>
          <a:ext cx="1629000" cy="1586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519360"/>
                    <a:ext cx="16290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1036"/>
          <p:cNvSpPr/>
          <p:nvPr/>
        </p:nvSpPr>
        <p:spPr>
          <a:xfrm>
            <a:off x="7408800" y="990720"/>
            <a:ext cx="1201680" cy="1778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7" name="Object 1037"/>
          <p:cNvGraphicFramePr/>
          <p:nvPr/>
        </p:nvGraphicFramePr>
        <p:xfrm>
          <a:off x="6858000" y="1066680"/>
          <a:ext cx="1828800" cy="16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10666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038"/>
          <p:cNvGraphicFramePr/>
          <p:nvPr/>
        </p:nvGraphicFramePr>
        <p:xfrm>
          <a:off x="3276720" y="1096920"/>
          <a:ext cx="1828800" cy="17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0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1096920"/>
                    <a:ext cx="18288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039"/>
          <p:cNvGraphicFramePr/>
          <p:nvPr/>
        </p:nvGraphicFramePr>
        <p:xfrm>
          <a:off x="4114800" y="3519360"/>
          <a:ext cx="1276200" cy="1586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2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3519360"/>
                    <a:ext cx="12762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040"/>
          <p:cNvGraphicFramePr/>
          <p:nvPr/>
        </p:nvGraphicFramePr>
        <p:xfrm>
          <a:off x="5486400" y="5257800"/>
          <a:ext cx="2239920" cy="150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4" name="Object 104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86400" y="5257800"/>
                    <a:ext cx="2239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1041"/>
          <p:cNvGraphicFramePr/>
          <p:nvPr/>
        </p:nvGraphicFramePr>
        <p:xfrm>
          <a:off x="114480" y="3429000"/>
          <a:ext cx="3085920" cy="158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6" name="Object 104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480" y="3429000"/>
                    <a:ext cx="30859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1042"/>
          <p:cNvSpPr/>
          <p:nvPr/>
        </p:nvSpPr>
        <p:spPr>
          <a:xfrm>
            <a:off x="6019920" y="5181480"/>
            <a:ext cx="1676160" cy="16002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Adding radical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295280" y="2395440"/>
          <a:ext cx="632484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95440"/>
                    <a:ext cx="632484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4"/>
          <p:cNvGraphicFramePr/>
          <p:nvPr/>
        </p:nvGraphicFramePr>
        <p:xfrm>
          <a:off x="844560" y="3962520"/>
          <a:ext cx="5022720" cy="13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4560" y="3962520"/>
                    <a:ext cx="502272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5"/>
          <p:cNvSpPr/>
          <p:nvPr/>
        </p:nvSpPr>
        <p:spPr>
          <a:xfrm>
            <a:off x="76320" y="1143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We can only combine terms with radicals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if we have like radical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5791320" y="3962520"/>
          <a:ext cx="2209680" cy="10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962520"/>
                    <a:ext cx="22096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7"/>
          <p:cNvSpPr/>
          <p:nvPr/>
        </p:nvSpPr>
        <p:spPr>
          <a:xfrm>
            <a:off x="76320" y="5683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everse of the Distributive Proper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6400800" y="3886200"/>
            <a:ext cx="167652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304920" y="1523880"/>
          <a:ext cx="6414840" cy="9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641484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4"/>
          <p:cNvGraphicFramePr/>
          <p:nvPr/>
        </p:nvGraphicFramePr>
        <p:xfrm>
          <a:off x="1011240" y="2889360"/>
          <a:ext cx="6227640" cy="9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889360"/>
                    <a:ext cx="622764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6"/>
          <p:cNvGraphicFramePr/>
          <p:nvPr/>
        </p:nvGraphicFramePr>
        <p:xfrm>
          <a:off x="1042920" y="4191120"/>
          <a:ext cx="3300480" cy="99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191120"/>
                    <a:ext cx="330048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7"/>
          <p:cNvSpPr/>
          <p:nvPr/>
        </p:nvSpPr>
        <p:spPr>
          <a:xfrm>
            <a:off x="1752480" y="4191120"/>
            <a:ext cx="251460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80" name="Object 1028"/>
          <p:cNvGraphicFramePr/>
          <p:nvPr/>
        </p:nvGraphicFramePr>
        <p:xfrm>
          <a:off x="152280" y="1447920"/>
          <a:ext cx="769644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76964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029"/>
          <p:cNvGraphicFramePr/>
          <p:nvPr/>
        </p:nvGraphicFramePr>
        <p:xfrm>
          <a:off x="152280" y="2819520"/>
          <a:ext cx="869976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819520"/>
                    <a:ext cx="86997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030"/>
          <p:cNvGraphicFramePr/>
          <p:nvPr/>
        </p:nvGraphicFramePr>
        <p:xfrm>
          <a:off x="228600" y="3960720"/>
          <a:ext cx="662472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960720"/>
                    <a:ext cx="66247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1031"/>
          <p:cNvGraphicFramePr/>
          <p:nvPr/>
        </p:nvGraphicFramePr>
        <p:xfrm>
          <a:off x="228600" y="5105520"/>
          <a:ext cx="2409840" cy="106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Object 10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105520"/>
                    <a:ext cx="24098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1032"/>
          <p:cNvSpPr/>
          <p:nvPr/>
        </p:nvSpPr>
        <p:spPr>
          <a:xfrm>
            <a:off x="990720" y="5029200"/>
            <a:ext cx="167616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Multiplying radicals - Distributive Property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1752480" y="2057400"/>
          <a:ext cx="3975120" cy="12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397512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"/>
          <p:cNvGraphicFramePr/>
          <p:nvPr/>
        </p:nvGraphicFramePr>
        <p:xfrm>
          <a:off x="1771560" y="3505320"/>
          <a:ext cx="577224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3505320"/>
                    <a:ext cx="57722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1752480" y="4800600"/>
          <a:ext cx="297180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800600"/>
                    <a:ext cx="29718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6"/>
          <p:cNvSpPr/>
          <p:nvPr/>
        </p:nvSpPr>
        <p:spPr>
          <a:xfrm>
            <a:off x="2362320" y="4724280"/>
            <a:ext cx="243828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4c2b"/>
                </a:solidFill>
                <a:latin typeface="Arial"/>
              </a:rPr>
              <a:t>Multiplying radicals - FOIL</a:t>
            </a:r>
            <a:endParaRPr b="0" lang="en-US" sz="5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523880" y="5638680"/>
            <a:ext cx="6629400" cy="1067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1" name="Object 7"/>
          <p:cNvGraphicFramePr/>
          <p:nvPr/>
        </p:nvGraphicFramePr>
        <p:xfrm>
          <a:off x="228600" y="1066680"/>
          <a:ext cx="655308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655308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9"/>
          <p:cNvGraphicFramePr/>
          <p:nvPr/>
        </p:nvGraphicFramePr>
        <p:xfrm>
          <a:off x="838080" y="5680080"/>
          <a:ext cx="739152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680080"/>
                    <a:ext cx="73915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15"/>
          <p:cNvGrpSpPr/>
          <p:nvPr/>
        </p:nvGrpSpPr>
        <p:grpSpPr>
          <a:xfrm>
            <a:off x="304920" y="2133720"/>
            <a:ext cx="8489880" cy="3276000"/>
            <a:chOff x="304920" y="2133720"/>
            <a:chExt cx="8489880" cy="3276000"/>
          </a:xfrm>
        </p:grpSpPr>
        <p:graphicFrame>
          <p:nvGraphicFramePr>
            <p:cNvPr id="306" name="Object 8"/>
            <p:cNvGraphicFramePr/>
            <p:nvPr/>
          </p:nvGraphicFramePr>
          <p:xfrm>
            <a:off x="304920" y="2971800"/>
            <a:ext cx="6170400" cy="94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920" y="2971800"/>
                      <a:ext cx="6170400" cy="94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Object 10"/>
            <p:cNvGraphicFramePr/>
            <p:nvPr/>
          </p:nvGraphicFramePr>
          <p:xfrm>
            <a:off x="2895480" y="4476600"/>
            <a:ext cx="5899320" cy="93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9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95480" y="4476600"/>
                      <a:ext cx="5899320" cy="93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0" name="Text Box 11"/>
            <p:cNvSpPr/>
            <p:nvPr/>
          </p:nvSpPr>
          <p:spPr>
            <a:xfrm>
              <a:off x="1905120" y="220968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Text Box 12"/>
            <p:cNvSpPr/>
            <p:nvPr/>
          </p:nvSpPr>
          <p:spPr>
            <a:xfrm>
              <a:off x="4876920" y="213372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Text Box 13"/>
            <p:cNvSpPr/>
            <p:nvPr/>
          </p:nvSpPr>
          <p:spPr>
            <a:xfrm>
              <a:off x="4343400" y="382428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Text Box 14"/>
            <p:cNvSpPr/>
            <p:nvPr/>
          </p:nvSpPr>
          <p:spPr>
            <a:xfrm>
              <a:off x="7315200" y="36576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228600" y="1066680"/>
          <a:ext cx="7162920" cy="12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716292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4"/>
          <p:cNvSpPr/>
          <p:nvPr/>
        </p:nvSpPr>
        <p:spPr>
          <a:xfrm>
            <a:off x="1523880" y="5715000"/>
            <a:ext cx="358164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9" name="Object 5"/>
          <p:cNvGraphicFramePr/>
          <p:nvPr/>
        </p:nvGraphicFramePr>
        <p:xfrm>
          <a:off x="852480" y="4724280"/>
          <a:ext cx="74563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2480" y="4724280"/>
                    <a:ext cx="74563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1" name="Group 13"/>
          <p:cNvGrpSpPr/>
          <p:nvPr/>
        </p:nvGrpSpPr>
        <p:grpSpPr>
          <a:xfrm>
            <a:off x="339840" y="1828800"/>
            <a:ext cx="8118000" cy="2895120"/>
            <a:chOff x="339840" y="1828800"/>
            <a:chExt cx="8118000" cy="2895120"/>
          </a:xfrm>
        </p:grpSpPr>
        <p:graphicFrame>
          <p:nvGraphicFramePr>
            <p:cNvPr id="322" name="Object 7"/>
            <p:cNvGraphicFramePr/>
            <p:nvPr/>
          </p:nvGraphicFramePr>
          <p:xfrm>
            <a:off x="339840" y="2508120"/>
            <a:ext cx="6424560" cy="86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9840" y="2508120"/>
                      <a:ext cx="6424560" cy="86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8"/>
            <p:cNvGraphicFramePr/>
            <p:nvPr/>
          </p:nvGraphicFramePr>
          <p:xfrm>
            <a:off x="2244240" y="3875760"/>
            <a:ext cx="6213600" cy="84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44240" y="3875760"/>
                      <a:ext cx="6213600" cy="84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2244240" y="1897560"/>
              <a:ext cx="717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Text Box 10"/>
            <p:cNvSpPr/>
            <p:nvPr/>
          </p:nvSpPr>
          <p:spPr>
            <a:xfrm>
              <a:off x="5185800" y="182880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3894120" y="328284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6909120" y="313128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30" name="Object 14"/>
          <p:cNvGraphicFramePr/>
          <p:nvPr/>
        </p:nvGraphicFramePr>
        <p:xfrm>
          <a:off x="863640" y="5775480"/>
          <a:ext cx="4192560" cy="93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3640" y="5775480"/>
                    <a:ext cx="41925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34" name="Object 4"/>
          <p:cNvGraphicFramePr/>
          <p:nvPr/>
        </p:nvGraphicFramePr>
        <p:xfrm>
          <a:off x="304920" y="1143000"/>
          <a:ext cx="65721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6572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12"/>
          <p:cNvGrpSpPr/>
          <p:nvPr/>
        </p:nvGrpSpPr>
        <p:grpSpPr>
          <a:xfrm>
            <a:off x="1143000" y="2819520"/>
            <a:ext cx="6552720" cy="2361600"/>
            <a:chOff x="1143000" y="2819520"/>
            <a:chExt cx="6552720" cy="2361600"/>
          </a:xfrm>
        </p:grpSpPr>
        <p:graphicFrame>
          <p:nvGraphicFramePr>
            <p:cNvPr id="337" name="Object 6"/>
            <p:cNvGraphicFramePr/>
            <p:nvPr/>
          </p:nvGraphicFramePr>
          <p:xfrm>
            <a:off x="1143000" y="3373560"/>
            <a:ext cx="4572720" cy="70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3000" y="3373560"/>
                      <a:ext cx="4572720" cy="70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9" name="Object 7"/>
            <p:cNvGraphicFramePr/>
            <p:nvPr/>
          </p:nvGraphicFramePr>
          <p:xfrm>
            <a:off x="2401200" y="4489560"/>
            <a:ext cx="5294520" cy="69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0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01200" y="4489560"/>
                      <a:ext cx="5294520" cy="69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Text Box 8"/>
            <p:cNvSpPr/>
            <p:nvPr/>
          </p:nvSpPr>
          <p:spPr>
            <a:xfrm>
              <a:off x="2252520" y="28756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Text Box 9"/>
            <p:cNvSpPr/>
            <p:nvPr/>
          </p:nvSpPr>
          <p:spPr>
            <a:xfrm>
              <a:off x="4899240" y="281952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Text Box 10"/>
            <p:cNvSpPr/>
            <p:nvPr/>
          </p:nvSpPr>
          <p:spPr>
            <a:xfrm>
              <a:off x="3737520" y="40060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Text Box 11"/>
            <p:cNvSpPr/>
            <p:nvPr/>
          </p:nvSpPr>
          <p:spPr>
            <a:xfrm>
              <a:off x="6451200" y="388044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45" name="Object 27"/>
          <p:cNvGraphicFramePr/>
          <p:nvPr/>
        </p:nvGraphicFramePr>
        <p:xfrm>
          <a:off x="1066680" y="2133720"/>
          <a:ext cx="6400800" cy="111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33720"/>
                    <a:ext cx="64008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28"/>
          <p:cNvGraphicFramePr/>
          <p:nvPr/>
        </p:nvGraphicFramePr>
        <p:xfrm>
          <a:off x="1219320" y="5257800"/>
          <a:ext cx="652752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8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5257800"/>
                    <a:ext cx="65275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9" name="Group 31"/>
          <p:cNvGrpSpPr/>
          <p:nvPr/>
        </p:nvGrpSpPr>
        <p:grpSpPr>
          <a:xfrm>
            <a:off x="3200040" y="5181480"/>
            <a:ext cx="2743200" cy="838080"/>
            <a:chOff x="3200040" y="5181480"/>
            <a:chExt cx="2743200" cy="838080"/>
          </a:xfrm>
        </p:grpSpPr>
        <p:sp>
          <p:nvSpPr>
            <p:cNvPr id="350" name="Line 29"/>
            <p:cNvSpPr/>
            <p:nvPr/>
          </p:nvSpPr>
          <p:spPr>
            <a:xfrm flipH="1">
              <a:off x="320004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Line 30"/>
            <p:cNvSpPr/>
            <p:nvPr/>
          </p:nvSpPr>
          <p:spPr>
            <a:xfrm flipH="1">
              <a:off x="487656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52" name="Object 32"/>
          <p:cNvGraphicFramePr/>
          <p:nvPr/>
        </p:nvGraphicFramePr>
        <p:xfrm>
          <a:off x="1330200" y="6172200"/>
          <a:ext cx="3845160" cy="49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0200" y="6172200"/>
                    <a:ext cx="38451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33"/>
          <p:cNvSpPr/>
          <p:nvPr/>
        </p:nvSpPr>
        <p:spPr>
          <a:xfrm>
            <a:off x="4419720" y="6172200"/>
            <a:ext cx="838080" cy="5335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304920" y="2514600"/>
            <a:ext cx="8381880" cy="3429000"/>
            <a:chOff x="304920" y="2514600"/>
            <a:chExt cx="8381880" cy="3429000"/>
          </a:xfrm>
        </p:grpSpPr>
        <p:sp>
          <p:nvSpPr>
            <p:cNvPr id="94" name="Text Box 3"/>
            <p:cNvSpPr/>
            <p:nvPr/>
          </p:nvSpPr>
          <p:spPr>
            <a:xfrm>
              <a:off x="304920" y="251460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95" name="Object 4"/>
            <p:cNvGraphicFramePr/>
            <p:nvPr/>
          </p:nvGraphicFramePr>
          <p:xfrm>
            <a:off x="3124080" y="353052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353052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Object 5"/>
            <p:cNvGraphicFramePr/>
            <p:nvPr/>
          </p:nvGraphicFramePr>
          <p:xfrm>
            <a:off x="1676520" y="4791240"/>
            <a:ext cx="5257800" cy="1152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791240"/>
                      <a:ext cx="5257800" cy="11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6"/>
            <p:cNvGraphicFramePr/>
            <p:nvPr/>
          </p:nvGraphicFramePr>
          <p:xfrm>
            <a:off x="6248520" y="3567240"/>
            <a:ext cx="1904760" cy="776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8520" y="356724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  <a:ea typeface="Times New Roman"/>
              </a:rPr>
              <a:t>Conjugat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357" name="Group 6"/>
          <p:cNvGrpSpPr/>
          <p:nvPr/>
        </p:nvGrpSpPr>
        <p:grpSpPr>
          <a:xfrm>
            <a:off x="304920" y="1905120"/>
            <a:ext cx="8229600" cy="3628440"/>
            <a:chOff x="304920" y="1905120"/>
            <a:chExt cx="8229600" cy="3628440"/>
          </a:xfrm>
        </p:grpSpPr>
        <p:sp>
          <p:nvSpPr>
            <p:cNvPr id="358" name="Text Box 3"/>
            <p:cNvSpPr/>
            <p:nvPr/>
          </p:nvSpPr>
          <p:spPr>
            <a:xfrm>
              <a:off x="304920" y="1905120"/>
              <a:ext cx="8229600" cy="36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Binomials of the form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where a, b, c, d are rational numbers.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359" name="Object 4"/>
            <p:cNvGraphicFramePr/>
            <p:nvPr/>
          </p:nvGraphicFramePr>
          <p:xfrm>
            <a:off x="533520" y="2895840"/>
            <a:ext cx="7620120" cy="92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895840"/>
                      <a:ext cx="7620120" cy="92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52280" y="378144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304920" y="228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4"/>
          <p:cNvGraphicFramePr/>
          <p:nvPr/>
        </p:nvGraphicFramePr>
        <p:xfrm>
          <a:off x="914400" y="1981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81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5"/>
          <p:cNvGraphicFramePr/>
          <p:nvPr/>
        </p:nvGraphicFramePr>
        <p:xfrm>
          <a:off x="2971800" y="2813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13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85840" y="1066680"/>
          <a:ext cx="283824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066680"/>
                    <a:ext cx="283824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4"/>
          <p:cNvGraphicFramePr/>
          <p:nvPr/>
        </p:nvGraphicFramePr>
        <p:xfrm>
          <a:off x="2971800" y="1066680"/>
          <a:ext cx="2143080" cy="192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066680"/>
                    <a:ext cx="214308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5"/>
          <p:cNvGraphicFramePr/>
          <p:nvPr/>
        </p:nvGraphicFramePr>
        <p:xfrm>
          <a:off x="304920" y="2971800"/>
          <a:ext cx="8143920" cy="25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971800"/>
                    <a:ext cx="814392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6"/>
          <p:cNvGraphicFramePr/>
          <p:nvPr/>
        </p:nvGraphicFramePr>
        <p:xfrm>
          <a:off x="380880" y="5029200"/>
          <a:ext cx="407196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5029200"/>
                    <a:ext cx="407196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7"/>
          <p:cNvGraphicFramePr/>
          <p:nvPr/>
        </p:nvGraphicFramePr>
        <p:xfrm>
          <a:off x="4572000" y="4952880"/>
          <a:ext cx="310680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952880"/>
                    <a:ext cx="31068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Rectangle 8"/>
          <p:cNvSpPr/>
          <p:nvPr/>
        </p:nvSpPr>
        <p:spPr>
          <a:xfrm>
            <a:off x="5105520" y="4952880"/>
            <a:ext cx="2743200" cy="1752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3267000" y="1447920"/>
          <a:ext cx="2143080" cy="19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7000" y="1447920"/>
                    <a:ext cx="214308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5"/>
          <p:cNvGraphicFramePr/>
          <p:nvPr/>
        </p:nvGraphicFramePr>
        <p:xfrm>
          <a:off x="228600" y="1447920"/>
          <a:ext cx="311148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447920"/>
                    <a:ext cx="311148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533520" y="3581280"/>
          <a:ext cx="5732280" cy="251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581280"/>
                    <a:ext cx="573228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5562720" y="4724280"/>
          <a:ext cx="337500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4724280"/>
                    <a:ext cx="33750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8"/>
          <p:cNvSpPr/>
          <p:nvPr/>
        </p:nvSpPr>
        <p:spPr>
          <a:xfrm>
            <a:off x="6172200" y="4648320"/>
            <a:ext cx="274320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Exampl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3" name="Object 1030"/>
          <p:cNvGraphicFramePr/>
          <p:nvPr/>
        </p:nvGraphicFramePr>
        <p:xfrm>
          <a:off x="76320" y="1981080"/>
          <a:ext cx="172872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81080"/>
                    <a:ext cx="172872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32"/>
          <p:cNvGraphicFramePr/>
          <p:nvPr/>
        </p:nvGraphicFramePr>
        <p:xfrm>
          <a:off x="1752480" y="1994040"/>
          <a:ext cx="3276720" cy="11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994040"/>
                    <a:ext cx="327672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33"/>
          <p:cNvGraphicFramePr/>
          <p:nvPr/>
        </p:nvGraphicFramePr>
        <p:xfrm>
          <a:off x="4952880" y="1981080"/>
          <a:ext cx="3981600" cy="11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981080"/>
                    <a:ext cx="398160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34"/>
          <p:cNvGraphicFramePr/>
          <p:nvPr/>
        </p:nvGraphicFramePr>
        <p:xfrm>
          <a:off x="4956120" y="3124080"/>
          <a:ext cx="2435400" cy="114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6120" y="3124080"/>
                    <a:ext cx="24354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035"/>
          <p:cNvGraphicFramePr/>
          <p:nvPr/>
        </p:nvGraphicFramePr>
        <p:xfrm>
          <a:off x="1787400" y="4530600"/>
          <a:ext cx="3205440" cy="114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7400" y="4530600"/>
                    <a:ext cx="320544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036"/>
          <p:cNvGraphicFramePr/>
          <p:nvPr/>
        </p:nvGraphicFramePr>
        <p:xfrm>
          <a:off x="4987800" y="4518000"/>
          <a:ext cx="3909960" cy="115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Object 10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87800" y="4518000"/>
                    <a:ext cx="390996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038"/>
          <p:cNvGraphicFramePr/>
          <p:nvPr/>
        </p:nvGraphicFramePr>
        <p:xfrm>
          <a:off x="76320" y="4562640"/>
          <a:ext cx="1728720" cy="115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320" y="4562640"/>
                    <a:ext cx="1728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39"/>
          <p:cNvGraphicFramePr/>
          <p:nvPr/>
        </p:nvGraphicFramePr>
        <p:xfrm>
          <a:off x="4917960" y="5634000"/>
          <a:ext cx="2506680" cy="114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17960" y="5634000"/>
                    <a:ext cx="25066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040"/>
          <p:cNvSpPr/>
          <p:nvPr/>
        </p:nvSpPr>
        <p:spPr>
          <a:xfrm>
            <a:off x="5638680" y="31240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Rectangle 1041"/>
          <p:cNvSpPr/>
          <p:nvPr/>
        </p:nvSpPr>
        <p:spPr>
          <a:xfrm>
            <a:off x="5638680" y="56386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68120" y="1447920"/>
          <a:ext cx="31845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447920"/>
                    <a:ext cx="31845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3197160" y="1457280"/>
          <a:ext cx="36608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97160" y="1457280"/>
                    <a:ext cx="36608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8"/>
          <p:cNvSpPr/>
          <p:nvPr/>
        </p:nvSpPr>
        <p:spPr>
          <a:xfrm>
            <a:off x="3809880" y="2438280"/>
            <a:ext cx="22860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8" name="Object 9"/>
          <p:cNvGraphicFramePr/>
          <p:nvPr/>
        </p:nvGraphicFramePr>
        <p:xfrm>
          <a:off x="3276720" y="2514600"/>
          <a:ext cx="2809800" cy="121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514600"/>
                    <a:ext cx="280980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0"/>
          <p:cNvGraphicFramePr/>
          <p:nvPr/>
        </p:nvGraphicFramePr>
        <p:xfrm>
          <a:off x="152280" y="4114800"/>
          <a:ext cx="411480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114800"/>
                    <a:ext cx="41148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1"/>
          <p:cNvGraphicFramePr/>
          <p:nvPr/>
        </p:nvGraphicFramePr>
        <p:xfrm>
          <a:off x="4191120" y="4114800"/>
          <a:ext cx="4647960" cy="101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4114800"/>
                    <a:ext cx="46479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2"/>
          <p:cNvGraphicFramePr/>
          <p:nvPr/>
        </p:nvGraphicFramePr>
        <p:xfrm>
          <a:off x="4367160" y="5283360"/>
          <a:ext cx="4143600" cy="111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67160" y="5283360"/>
                    <a:ext cx="41436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3"/>
          <p:cNvSpPr/>
          <p:nvPr/>
        </p:nvSpPr>
        <p:spPr>
          <a:xfrm>
            <a:off x="4876920" y="5181480"/>
            <a:ext cx="36576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39" name="Object 1028"/>
          <p:cNvGraphicFramePr/>
          <p:nvPr/>
        </p:nvGraphicFramePr>
        <p:xfrm>
          <a:off x="3843360" y="1541520"/>
          <a:ext cx="4691160" cy="9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3360" y="1541520"/>
                    <a:ext cx="469116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1029"/>
          <p:cNvSpPr/>
          <p:nvPr/>
        </p:nvSpPr>
        <p:spPr>
          <a:xfrm>
            <a:off x="4495680" y="2666880"/>
            <a:ext cx="304812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2" name="Object 1032"/>
          <p:cNvGraphicFramePr/>
          <p:nvPr/>
        </p:nvGraphicFramePr>
        <p:xfrm>
          <a:off x="3429000" y="4170240"/>
          <a:ext cx="3889440" cy="10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170240"/>
                    <a:ext cx="38894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33"/>
          <p:cNvGraphicFramePr/>
          <p:nvPr/>
        </p:nvGraphicFramePr>
        <p:xfrm>
          <a:off x="3444840" y="5257800"/>
          <a:ext cx="303228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5257800"/>
                    <a:ext cx="30322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1034"/>
          <p:cNvSpPr/>
          <p:nvPr/>
        </p:nvSpPr>
        <p:spPr>
          <a:xfrm>
            <a:off x="3886200" y="5181480"/>
            <a:ext cx="266688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7" name="Object 1035"/>
          <p:cNvGraphicFramePr/>
          <p:nvPr/>
        </p:nvGraphicFramePr>
        <p:xfrm>
          <a:off x="228600" y="1523880"/>
          <a:ext cx="434988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Object 10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1523880"/>
                    <a:ext cx="434988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036"/>
          <p:cNvGraphicFramePr/>
          <p:nvPr/>
        </p:nvGraphicFramePr>
        <p:xfrm>
          <a:off x="228600" y="4164120"/>
          <a:ext cx="3505320" cy="114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0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164120"/>
                    <a:ext cx="35053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037"/>
          <p:cNvGraphicFramePr/>
          <p:nvPr/>
        </p:nvGraphicFramePr>
        <p:xfrm>
          <a:off x="3886200" y="2741760"/>
          <a:ext cx="3603600" cy="91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2741760"/>
                    <a:ext cx="36036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Quotien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920" y="1981080"/>
            <a:ext cx="8381880" cy="4419720"/>
            <a:chOff x="304920" y="1981080"/>
            <a:chExt cx="8381880" cy="4419720"/>
          </a:xfrm>
        </p:grpSpPr>
        <p:sp>
          <p:nvSpPr>
            <p:cNvPr id="156" name="Text Box 4"/>
            <p:cNvSpPr/>
            <p:nvPr/>
          </p:nvSpPr>
          <p:spPr>
            <a:xfrm>
              <a:off x="304920" y="198108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57" name="Object 5"/>
            <p:cNvGraphicFramePr/>
            <p:nvPr/>
          </p:nvGraphicFramePr>
          <p:xfrm>
            <a:off x="3124080" y="299736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299736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7"/>
            <p:cNvGraphicFramePr/>
            <p:nvPr/>
          </p:nvGraphicFramePr>
          <p:xfrm>
            <a:off x="6248520" y="3033720"/>
            <a:ext cx="1904760" cy="77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48520" y="303372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8"/>
            <p:cNvGraphicFramePr/>
            <p:nvPr/>
          </p:nvGraphicFramePr>
          <p:xfrm>
            <a:off x="2590920" y="3986280"/>
            <a:ext cx="3352680" cy="2414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0920" y="3986280"/>
                      <a:ext cx="3352680" cy="241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01520" y="1523880"/>
          <a:ext cx="26701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523880"/>
                    <a:ext cx="2670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2362320" y="1523880"/>
          <a:ext cx="2023920" cy="20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523880"/>
                    <a:ext cx="202392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7"/>
          <p:cNvGraphicFramePr/>
          <p:nvPr/>
        </p:nvGraphicFramePr>
        <p:xfrm>
          <a:off x="4413240" y="1523880"/>
          <a:ext cx="1820880" cy="200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3240" y="1523880"/>
                    <a:ext cx="182088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13"/>
          <p:cNvSpPr/>
          <p:nvPr/>
        </p:nvSpPr>
        <p:spPr>
          <a:xfrm>
            <a:off x="4952880" y="1447920"/>
            <a:ext cx="1219320" cy="20574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6858000" y="4572000"/>
            <a:ext cx="152388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3" name="Object 15"/>
          <p:cNvGraphicFramePr/>
          <p:nvPr/>
        </p:nvGraphicFramePr>
        <p:xfrm>
          <a:off x="2333520" y="4624560"/>
          <a:ext cx="2081160" cy="20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33520" y="462456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6"/>
          <p:cNvGraphicFramePr/>
          <p:nvPr/>
        </p:nvGraphicFramePr>
        <p:xfrm>
          <a:off x="4319640" y="4648320"/>
          <a:ext cx="208116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19640" y="464832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7"/>
          <p:cNvGraphicFramePr/>
          <p:nvPr/>
        </p:nvGraphicFramePr>
        <p:xfrm>
          <a:off x="6272280" y="4648320"/>
          <a:ext cx="2139840" cy="19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72280" y="4648320"/>
                    <a:ext cx="213984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2443320" y="1581120"/>
          <a:ext cx="208260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3320" y="1581120"/>
                    <a:ext cx="20826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5"/>
          <p:cNvGraphicFramePr/>
          <p:nvPr/>
        </p:nvGraphicFramePr>
        <p:xfrm>
          <a:off x="4549680" y="2038320"/>
          <a:ext cx="20034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9680" y="2038320"/>
                    <a:ext cx="20034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6"/>
          <p:cNvSpPr/>
          <p:nvPr/>
        </p:nvSpPr>
        <p:spPr>
          <a:xfrm>
            <a:off x="7162920" y="2209680"/>
            <a:ext cx="68580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38880" y="4495680"/>
            <a:ext cx="1447920" cy="1981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Object 8"/>
          <p:cNvGraphicFramePr/>
          <p:nvPr/>
        </p:nvGraphicFramePr>
        <p:xfrm>
          <a:off x="2490840" y="4572000"/>
          <a:ext cx="2081160" cy="20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0840" y="457200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9"/>
          <p:cNvGraphicFramePr/>
          <p:nvPr/>
        </p:nvGraphicFramePr>
        <p:xfrm>
          <a:off x="4471920" y="4572000"/>
          <a:ext cx="2081160" cy="19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71920" y="457200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6651720" y="4572000"/>
          <a:ext cx="208260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51720" y="4572000"/>
                    <a:ext cx="20826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1"/>
          <p:cNvGraphicFramePr/>
          <p:nvPr/>
        </p:nvGraphicFramePr>
        <p:xfrm>
          <a:off x="50760" y="1523880"/>
          <a:ext cx="3327480" cy="499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0" y="1523880"/>
                    <a:ext cx="33274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2"/>
          <p:cNvGraphicFramePr/>
          <p:nvPr/>
        </p:nvGraphicFramePr>
        <p:xfrm>
          <a:off x="6620040" y="2208240"/>
          <a:ext cx="12142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0040" y="2208240"/>
                    <a:ext cx="1214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Rationalizing the denominator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304920" y="4800600"/>
          <a:ext cx="985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800600"/>
                    <a:ext cx="985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4"/>
          <p:cNvSpPr/>
          <p:nvPr/>
        </p:nvSpPr>
        <p:spPr>
          <a:xfrm>
            <a:off x="609480" y="1981080"/>
            <a:ext cx="8001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ationalizing the denominator means to remove any radicals from the denominator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: Simplify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Object 5"/>
          <p:cNvGraphicFramePr/>
          <p:nvPr/>
        </p:nvGraphicFramePr>
        <p:xfrm>
          <a:off x="1143000" y="4876920"/>
          <a:ext cx="139716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76920"/>
                    <a:ext cx="13971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"/>
          <p:cNvGraphicFramePr/>
          <p:nvPr/>
        </p:nvGraphicFramePr>
        <p:xfrm>
          <a:off x="2438280" y="4876920"/>
          <a:ext cx="1071720" cy="16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876920"/>
                    <a:ext cx="10717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7"/>
          <p:cNvGraphicFramePr/>
          <p:nvPr/>
        </p:nvGraphicFramePr>
        <p:xfrm>
          <a:off x="3505320" y="4906800"/>
          <a:ext cx="2057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906800"/>
                    <a:ext cx="2057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8"/>
          <p:cNvGraphicFramePr/>
          <p:nvPr/>
        </p:nvGraphicFramePr>
        <p:xfrm>
          <a:off x="7391520" y="4892760"/>
          <a:ext cx="160020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4892760"/>
                    <a:ext cx="1600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9"/>
          <p:cNvGraphicFramePr/>
          <p:nvPr/>
        </p:nvGraphicFramePr>
        <p:xfrm>
          <a:off x="5486400" y="4948200"/>
          <a:ext cx="1981080" cy="14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4948200"/>
                    <a:ext cx="198108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10"/>
          <p:cNvSpPr/>
          <p:nvPr/>
        </p:nvSpPr>
        <p:spPr>
          <a:xfrm>
            <a:off x="7848720" y="4800600"/>
            <a:ext cx="1143000" cy="18288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1:58:41Z</dcterms:created>
  <dc:creator>HCPS</dc:creator>
  <dc:description/>
  <dc:language>en-US</dc:language>
  <cp:lastModifiedBy>LEGION</cp:lastModifiedBy>
  <cp:lastPrinted>2003-01-07T17:02:41Z</cp:lastPrinted>
  <dcterms:modified xsi:type="dcterms:W3CDTF">2017-07-06T06:39:52Z</dcterms:modified>
  <cp:revision>40</cp:revision>
  <dc:subject/>
  <dc:title>Roots of Real Numbers and Radical Expressions Part 2</dc:title>
</cp:coreProperties>
</file>