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82FB-E957-4952-82D7-88D9C89A1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58B-76F2-474F-8029-B3F06C3D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C12-E4C0-491D-B42A-0C3B23F8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D084-D936-4DBA-B95D-468D8E7D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DB9-2BF6-4523-B7C3-DFFD61B1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C57F-499D-42D6-ACA0-5DD3C7EE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A600-73A5-4F84-AC9A-B0433E52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A4BF-A502-4B4C-925C-5195F06B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8093-EC6B-4696-9E93-F3319FD4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E61A-384F-4436-A147-7EA882C1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2015-BE2A-4C53-9FEF-A1E653A8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B53A-F7EE-499F-983F-FFEDE8CF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175-4C01-4DCF-A1C8-767898C9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C22F-6EA9-4AB8-85BB-1A53E91F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9458-D0C4-4176-B398-123079DB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CBAC-8996-490A-94B8-82CE02DC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5F62-FF00-4C4F-BE8B-02E2B596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8AFC-16A2-4FC5-8754-4D5E59AB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BA4-A6C5-4822-9280-BAD6AD1E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BE5A-FFAA-4B1A-A374-F7B5840C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AE13-8E5F-4AA3-8571-0B8ED78E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615-ACE6-40C1-AC1E-5618D720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E12-6D8D-4A8E-97F3-E303D73D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864-14A8-4CA0-9C9A-E699F20F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42E-B1E5-4D72-BD1A-CFAB7285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CC51-D632-44B4-B60D-2C3BC2BE5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3191-79BC-4C1F-BB05-DD81C1011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erms with the same variables raised to the same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5943600" y="3276720"/>
                <a:ext cx="1905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bining 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5 +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llecting Like Terms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905120"/>
                <a:ext cx="6629400" cy="39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ord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bi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k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oth Skil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c:\Program Files\Microsoft Office\Clipart\standard\stddir1\bd05053_.wmf"/>
          <p:cNvPicPr/>
          <p:nvPr/>
        </p:nvPicPr>
        <p:blipFill>
          <a:blip r:embed="rId1"/>
          <a:stretch/>
        </p:blipFill>
        <p:spPr>
          <a:xfrm>
            <a:off x="3429000" y="3962520"/>
            <a:ext cx="3083040" cy="211428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3505320" y="51055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4952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523880" y="1828800"/>
            <a:ext cx="6570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523880" y="3352680"/>
            <a:ext cx="7162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2x–3xy +4y  when x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y =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4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143000" y="19810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028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3733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1295280" y="182880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7"/>
          <p:cNvSpPr/>
          <p:nvPr/>
        </p:nvSpPr>
        <p:spPr>
          <a:xfrm>
            <a:off x="1219320" y="2362320"/>
            <a:ext cx="389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3505320" y="4419720"/>
                <a:ext cx="24382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3733920" y="51814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0"/>
              <p:cNvSpPr txBox="1"/>
              <p:nvPr/>
            </p:nvSpPr>
            <p:spPr>
              <a:xfrm>
                <a:off x="4419720" y="5715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mon Mistak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5"/>
          <p:cNvGraphicFramePr/>
          <p:nvPr/>
        </p:nvGraphicFramePr>
        <p:xfrm>
          <a:off x="5029200" y="3962520"/>
          <a:ext cx="3429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962520"/>
                    <a:ext cx="3429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029200" y="2438280"/>
          <a:ext cx="342900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438280"/>
                    <a:ext cx="34290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1219320" y="3962520"/>
          <a:ext cx="3514680" cy="13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962520"/>
                    <a:ext cx="35146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8"/>
          <p:cNvGraphicFramePr/>
          <p:nvPr/>
        </p:nvGraphicFramePr>
        <p:xfrm>
          <a:off x="1219320" y="2438280"/>
          <a:ext cx="3504960" cy="143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2438280"/>
                    <a:ext cx="350496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lgebraic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gebraic 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 of real numbers, variables, grouping symbols and operation symbo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1295280" y="4495680"/>
                <a:ext cx="70675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Consider the example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ms of the 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eparated by addition. There are 3 terms in this example and they a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effic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variable term is the real number factor. The first term has coefficient of 5. The second term has an unwritten coefficient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term , -7,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there is no variable in th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4952880" y="685800"/>
                <a:ext cx="1486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"/>
              <p:cNvSpPr txBox="1"/>
              <p:nvPr/>
            </p:nvSpPr>
            <p:spPr>
              <a:xfrm>
                <a:off x="1523880" y="2514600"/>
                <a:ext cx="1524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stributive Proper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7040" y="464832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143000" y="190512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295280" y="3048120"/>
            <a:ext cx="364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664360" y="4267080"/>
            <a:ext cx="39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6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+ 2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2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-4(x –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– 3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3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actice Probl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x – 2 )  = x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Examples with 1 and –1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(x –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x – 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-(4x –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x –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8:30:02Z</dcterms:created>
  <dc:creator>TCC</dc:creator>
  <dc:description/>
  <dc:language>en-US</dc:language>
  <cp:lastModifiedBy>LEGION</cp:lastModifiedBy>
  <dcterms:modified xsi:type="dcterms:W3CDTF">2017-07-06T06:39:42Z</dcterms:modified>
  <cp:revision>31</cp:revision>
  <dc:subject/>
  <dc:title>Simplifying Expressions</dc:title>
</cp:coreProperties>
</file>