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whoosh.wav" ContentType="audio/x-wav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FE9E-E82D-4EE4-9182-77353CBF8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Karen Ove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Karen Ove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 are terms with the same variables raised to the same p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: The idea is that the variable part of the terms must be identical for them to be like term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 are terms with the same variables raised to the same p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: The idea is that the variable part of the terms must be identical for them to be like term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, -14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.7xy , 02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factor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, 8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factor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dentica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, -14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.7xy , 02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factor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, 8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factor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dentica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ing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all the 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(b + c) = b(a) +c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how like terms are combined us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 in re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+ 7x = x (5 +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 (1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ing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all the 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(b + c) = b(a) +c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how like terms are combined us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 in re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+ 7x = x (5 +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 (1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at work is not necessary every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 identify the like terms and add the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 7y – x + 5y   =   4x – x + 7y +5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3x + 12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at work is not necessary every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 identify the like terms and add the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 7y – x + 5y   =   4x – x + 7y +5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3x + 12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Like Terms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Like Terms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xample requires both the Distribu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y and combining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(x – 2) –3(2x –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5 and the –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(5) - 2(5) + 2x(-3) - 7(-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– 10 – 6x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x+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xample requires both the Distribu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y and combining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(x – 2) –3(2x –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5 and the –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(5) - 2(5) + 2x(-3) - 7(-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– 10 – 6x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x+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is designed to give a brief review of simplifying algebraic expressions and evaluating algebraic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is designed to give a brief review of simplifying algebraic expressions and evaluating algebraic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o use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the expression  2x – 3xy +4y 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 and y = -5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find the numerical value of the expression, simply replace the variables in the expression with the appropriat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o use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the expression  2x – 3xy +4y 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 and y = -5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find the numerical value of the expression, simply replace the variables in the expression with the appropriat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2x–3xy +4y  when x = 3 and y = -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(3) – 3(3)(-5) + 4(-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+ 45 – 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1 –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2x–3xy +4y  when x = 3 and y = -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(3) – 3(3)(-5) + 4(-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+ 45 – 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1 –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Mist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Mist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gebraic expression is a collection of real numbers, variables, grouping symbols and operation symb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 of algebraic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gebraic expression is a collection of real numbers, variables, grouping symbols and operation symb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 of algebraic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the examp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s of the expression are separated by addition. There are 3 terms in this example and they are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a variable term is the real number factor. The first term has coefficient of 5. The second term has an unwritten coefficient of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term , -7, is called a constant since there is no variable in th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the examp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s of the expression are separated by addition. There are 3 terms in this example and they are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a variable term is the real number factor. The first term has coefficient of 5. The second term has an unwritten coefficient of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term , -7, is called a constant since there is no variable in th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begin with a review of two important skills for simplifying expression, using the Distributive Property and combining like terms. Then we will use both skills in the same simplifying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begin with a review of two important skills for simplifying expression, using the Distributive Property and combining like terms. Then we will use both skills in the same simplifying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( b + c ) = ba + 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implify some expressions we may need to use the 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remember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( b + c ) = ba + 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implify some expressions we may need to use the 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remember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:  6(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(x + 2) =  x(6) + 2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6x  +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:  -4(x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–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 (x – 3) =  x(-4) –3(-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-4x   +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:  6(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(x + 2) =  x(6) + 2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6x  +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:  -4(x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–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 (x – 3) =  x(-4) –3(-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-4x   +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e Distributive Property on -7 ( x – 2 )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to multiply each term by a –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 ( x – 2 )  = x(-7) – 2(-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-7x  + 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when a negative is distributed all the signs of the terms in the ( )’s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e Distributive Property on -7 ( x – 2 )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to multiply each term by a –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 ( x – 2 )  = x(-7) – 2(-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-7x  + 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when a negative is distributed all the signs of the terms in the ( )’s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with 1 and –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:   (x –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( x – 2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(1) – 2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  -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multiplying by a 1 does nothing to the expression in the ( )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: -(4x – 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-1(4x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4x(-1) – 3(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-4x +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multiplying by a –1 changes the signs of each term in the ( )’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with 1 and –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:   (x –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( x – 2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(1) – 2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  -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multiplying by a 1 does nothing to the expression in the ( )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: -(4x – 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-1(4x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4x(-1) – 3(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-4x +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multiplying by a –1 changes the signs of each term in the ( )’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3B40-962C-4AFF-9C98-F2642CA94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77D5-7942-42A3-B89E-2231C5D0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E20B-964E-4175-A327-B3D0F45F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3F00-5DDC-4CDA-AFA2-34BC4847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6FF5-FEAF-48FB-B252-7F25AE9A4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4F79-0FBB-4DA3-BCB6-A04D798D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BC9D-965A-49F2-B701-BF147044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30B8-4FC1-4CCA-815C-B3115677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44CF-9C26-40E5-A752-241DA1B8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D9EF-CA2C-49CB-B141-404F4228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57FB-1D46-4B30-9E0F-143E9559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704E-E9E7-4D72-97C2-1E1B7415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95AA-E504-4BE0-88FF-FCC11C3A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1CE7-9508-4DD5-BD3D-34CCE0C7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7B2D-BF3D-4D76-8D49-8D8C44BA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AD63-BA86-4D45-9DD4-898E49978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F961-6A90-49B9-950F-70ECB8067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1A64-7968-4E3E-A193-AEBC704C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E33E-A59A-43CE-A98E-0AAD27B0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E6BB-6CBF-4573-99A2-6613318B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0702-4E4A-4C1F-8AD7-DDEE8C03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4A5A-CE14-44E6-B2BC-AFB1C1DF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E498-1A9F-40E3-896F-95486861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4F9A-F5E4-49E7-9DA0-17CD89DD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4F58-38B5-4728-A984-F3C984FB1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61D3-BC79-4273-81B6-74EED5F61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press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: Karen Over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ike Ter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ike te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terms with the same variables raised to the same po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nt: The idea is that the variable part of the terms must be identical for them to be like ter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ke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x , -14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6.7xy , 02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ble factor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nlike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x , 8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ble factors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identical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5"/>
              <p:cNvSpPr txBox="1"/>
              <p:nvPr/>
            </p:nvSpPr>
            <p:spPr>
              <a:xfrm>
                <a:off x="5943600" y="3276720"/>
                <a:ext cx="19051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8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mbining Like Ter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the Distributive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(b + c) = b(a) +c(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ee how like terms are combined us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ive Property in rever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7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5 + 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2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at work is not necessary every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y identify the like terms and add thei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effici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x + 7y – x + 5y   =   4x – x + 7y +5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 3x + 12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llecting Like Terms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1371600" y="1905120"/>
                <a:ext cx="6629400" cy="39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ord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rm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bin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k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rm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oth Skill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example requires both the Distribu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y and combining lik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(x – 2) –3(2x – 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 the 5 and the –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(5) - 2(5) + 2x(-3) - 7(-3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x – 10 – 6x + 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x+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5"/>
              <p:cNvSpPr txBox="1"/>
              <p:nvPr/>
            </p:nvSpPr>
            <p:spPr>
              <a:xfrm>
                <a:off x="2666880" y="2971800"/>
                <a:ext cx="403884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5"/>
              <p:cNvSpPr txBox="1"/>
              <p:nvPr/>
            </p:nvSpPr>
            <p:spPr>
              <a:xfrm>
                <a:off x="2666880" y="2971800"/>
                <a:ext cx="403884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bjectiv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resentation is designed to give a brief review of simplifying algebraic expressions and evaluating algebraic expre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c:\Program Files\Microsoft Office\Clipart\standard\stddir1\bd05053_.wmf"/>
          <p:cNvPicPr/>
          <p:nvPr/>
        </p:nvPicPr>
        <p:blipFill>
          <a:blip r:embed="rId1"/>
          <a:stretch/>
        </p:blipFill>
        <p:spPr>
          <a:xfrm>
            <a:off x="3429000" y="3962520"/>
            <a:ext cx="3083040" cy="211428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5"/>
              <p:cNvSpPr txBox="1"/>
              <p:nvPr/>
            </p:nvSpPr>
            <p:spPr>
              <a:xfrm>
                <a:off x="2666880" y="2971800"/>
                <a:ext cx="403884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6"/>
              <p:cNvSpPr txBox="1"/>
              <p:nvPr/>
            </p:nvSpPr>
            <p:spPr>
              <a:xfrm>
                <a:off x="3505320" y="5105520"/>
                <a:ext cx="1143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press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4952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 to use correct order of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523880" y="1828800"/>
            <a:ext cx="65707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 expression  2x – 3xy +4y 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3 and y = -5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1523880" y="3352680"/>
            <a:ext cx="7162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the numerical value of the expression, simply replace the variables in the expression with the appropriate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2x–3xy +4y  when x 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y =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-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(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3(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-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4(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-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orrect order of op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 + 45 – 2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1 –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4"/>
              <p:cNvSpPr txBox="1"/>
              <p:nvPr/>
            </p:nvSpPr>
            <p:spPr>
              <a:xfrm>
                <a:off x="1143000" y="1981080"/>
                <a:ext cx="7086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aluate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en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1028"/>
              <p:cNvSpPr txBox="1"/>
              <p:nvPr/>
            </p:nvSpPr>
            <p:spPr>
              <a:xfrm>
                <a:off x="1066680" y="1752480"/>
                <a:ext cx="7086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aluate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en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1066680" y="1752480"/>
                <a:ext cx="7086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aluate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en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5"/>
              <p:cNvSpPr txBox="1"/>
              <p:nvPr/>
            </p:nvSpPr>
            <p:spPr>
              <a:xfrm>
                <a:off x="2895480" y="3048120"/>
                <a:ext cx="34290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37339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 correct order of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1295280" y="1828800"/>
                <a:ext cx="7086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aluate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en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5"/>
              <p:cNvSpPr txBox="1"/>
              <p:nvPr/>
            </p:nvSpPr>
            <p:spPr>
              <a:xfrm>
                <a:off x="2895480" y="3048120"/>
                <a:ext cx="34290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3" name="Text Box 7"/>
          <p:cNvSpPr/>
          <p:nvPr/>
        </p:nvSpPr>
        <p:spPr>
          <a:xfrm>
            <a:off x="1219320" y="2362320"/>
            <a:ext cx="3894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8"/>
              <p:cNvSpPr txBox="1"/>
              <p:nvPr/>
            </p:nvSpPr>
            <p:spPr>
              <a:xfrm>
                <a:off x="3505320" y="4419720"/>
                <a:ext cx="24382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9"/>
              <p:cNvSpPr txBox="1"/>
              <p:nvPr/>
            </p:nvSpPr>
            <p:spPr>
              <a:xfrm>
                <a:off x="3733920" y="5181480"/>
                <a:ext cx="1828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0"/>
              <p:cNvSpPr txBox="1"/>
              <p:nvPr/>
            </p:nvSpPr>
            <p:spPr>
              <a:xfrm>
                <a:off x="4419720" y="571500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mmon Mistak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Object 5"/>
          <p:cNvGraphicFramePr/>
          <p:nvPr/>
        </p:nvGraphicFramePr>
        <p:xfrm>
          <a:off x="5029200" y="3962520"/>
          <a:ext cx="342900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962520"/>
                    <a:ext cx="34290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6"/>
          <p:cNvGraphicFramePr/>
          <p:nvPr/>
        </p:nvGraphicFramePr>
        <p:xfrm>
          <a:off x="5029200" y="2438280"/>
          <a:ext cx="3429000" cy="140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2438280"/>
                    <a:ext cx="342900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7"/>
          <p:cNvGraphicFramePr/>
          <p:nvPr/>
        </p:nvGraphicFramePr>
        <p:xfrm>
          <a:off x="1219320" y="3962520"/>
          <a:ext cx="3514680" cy="131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3962520"/>
                    <a:ext cx="351468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8"/>
          <p:cNvGraphicFramePr/>
          <p:nvPr/>
        </p:nvGraphicFramePr>
        <p:xfrm>
          <a:off x="1219320" y="2438280"/>
          <a:ext cx="3504960" cy="1438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8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2438280"/>
                    <a:ext cx="3504960" cy="14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lgebraic Express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lgebraic exp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llection of real numbers, variables, grouping symbols and operation symbo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are some examples of algebraic expr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1295280" y="4495680"/>
                <a:ext cx="70675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Consider the example: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ms of the ex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separated by addition. There are 3 terms in this example and they a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effici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a variable term is the real number factor. The first term has coefficient of 5. The second term has an unwritten coefficient of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st term , -7, is called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t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nce there is no variable in the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4952880" y="685800"/>
                <a:ext cx="1486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7"/>
              <p:cNvSpPr txBox="1"/>
              <p:nvPr/>
            </p:nvSpPr>
            <p:spPr>
              <a:xfrm>
                <a:off x="1523880" y="2514600"/>
                <a:ext cx="15242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begin with a review of two important skills for simplifying expression, using the Distributive Property and combining like terms. Then we will use both skills in the same simplifying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istributive Propert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057040" y="4648320"/>
            <a:ext cx="47242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( b + c ) = ba + 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143000" y="1905120"/>
            <a:ext cx="7238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implify some expressions we may need to use the Distributive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295280" y="3048120"/>
            <a:ext cx="364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remember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664360" y="4267080"/>
            <a:ext cx="39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tributive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6(x +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 the 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x + 2) =  x(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2(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 6x  + 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-4(x –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 the –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x – 3) =  x(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–3(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  -4x   + 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actice Proble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he Distributive Property on -7 ( x – 2 )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sure to multiply each term by a –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 x – 2 )  = x(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2(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-7x  +  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when a negative is distributed all the signs of the terms in the ( )’s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Examples with 1 and –1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(x –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x – 2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x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2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x  -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ce multiplying by a 1 does nothing to the expression in the ( )’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-(4x – 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x –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x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3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-4x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ce that multiplying by a –1 changes the signs of each term in the ( )’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18:30:02Z</dcterms:created>
  <dc:creator>TCC</dc:creator>
  <dc:description/>
  <dc:language>en-US</dc:language>
  <cp:lastModifiedBy>LEGION</cp:lastModifiedBy>
  <dcterms:modified xsi:type="dcterms:W3CDTF">2017-07-06T06:39:42Z</dcterms:modified>
  <cp:revision>31</cp:revision>
  <dc:subject/>
  <dc:title>Simplifying Expressions</dc:title>
</cp:coreProperties>
</file>