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90678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068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9290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35040" y="-360"/>
            <a:ext cx="39308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1916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513120"/>
            <a:ext cx="39290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35040" y="6513120"/>
            <a:ext cx="39308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E831-5142-4E2E-9FA2-135268A09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defining Developmental Math for Non-Algebra Core Math  Cour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r. Daryl Steph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stephen@etsu.edu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urray But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utlern@etsu.ed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ast Tennessee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edefining Developmental Math for Non-Algebra Core Math  Courses 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r. Daryl Stephe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stephen@etsu.edu) 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urray Butler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butlern@etsu.edu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ast Tennessee State University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Proposal –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My Math Lab, Hawkes Learning, or similar programs with both cour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days between lecture classroom and computer lab as is done with statistics cou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spreadsheet activities in elementary algebra to prepare students for Mini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graphing calculator in elementary algebra to prepare for stat and in intermediate algebra to prepare students for precalcu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Our Proposal – Technology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Use My Math Lab, Hawkes Learning, or similar programs with both cours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lternate days between lecture classroom and computer lab as is done with statistics cours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o spreadsheet activities in elementary algebra to prepare students for Minitab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Use graphing calculator in elementary algebra to prepare for stat and in intermediate algebra to prepare students for precalculu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sioned 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savings: Cut back on sections of 0850 from ~12 each semester to ~3 or 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 students for courses they would actually t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individualized help with computer programs and developmental math tu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nvisioned Advantag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st savings: Cut back on sections of 0850 from ~12 each semester to ~3 or 4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repare students for courses they would actually tak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ore individualized help with computer programs and developmental math tuto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ration would be diffic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students who placed in 0850? Move them on in to 1530 or put them in 080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students who change to science major after finishing 0800→153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isadvantag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dministration would be difficult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t about students who placed in 0850? Move them on in to 1530 or put them in 0800?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t about students who change to science major after finishing 0800→1530?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BR DSP Re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committees working in all areas including m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gn with HS exit 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year’s 7th graders (Class of 2013) will have to take math all 4 years of high schoo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math curriculum standards based on NCTM, ADP, ACT, NAEP, 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BR DSP Redesign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ubcommittees working in all areas including math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lign with HS exit standard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is year’s 7th graders (Class of 2013) will have to take math all 4 years of high school!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ew math curriculum standards based on NCTM, ADP, ACT, NAEP, . . 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Redesign Sub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committee includes university, community college, and high school facu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 surveying math and other faculty across TBR to see what math is actually needed in intro and gen-ed cour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thought given to multiple exi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 than answers at this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ath Redesign Subcommitte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ubcommittee includes university, community college, and high school faculty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urrently surveying math and other faculty across TBR to see what math is actually needed in intro and gen-ed cours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ome thought given to multiple exit poin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ore questions than answers at this point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tee’s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 what should be taught, when, and w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ot programs help decide who, how, and w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mmittee’s Charg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xamine what should be taught, when, and why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ilot programs help decide who, how, and where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bcommittee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ris Knight (Walters SCC) Co-c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ohn Kendall (SW TN) Co-c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rva Lucas (MTS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elen Darcey (Cleveland SC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ry Monroe-Ellis (PSTC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haron Lee (Wilson County Schoo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aryl Stephens (ETS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ubcommittee Me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hris Knight (Walters SCC) Co-chair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John Kendall (SW TN) Co-chair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arva Lucas (MTSU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Helen Darcey (Cleveland SCC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ary Monroe-Ellis (PSTCC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haron Lee (Wilson County Schools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aryl Stephens (ETSU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Surv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xt few slides show a version of some questions that may be on the questionnaire to ask what math is needed in TBR core math classes with a prerequisite below the level of MATH 1xy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1010, 1110, 1130, 1410, 1420, 1530, 1630, 1710, 1720, 17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ATH Survey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e next few slides show a version of some questions that may be on the questionnaire to ask what math is needed in TBR core math classes with a prerequisite below the level of MATH 1xyz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ATH 1010, 1110, 1130, 1410, 1420, 1530, 1630, 1710, 1720, 1730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egrated Conce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Concep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lai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’t have all the answ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’t even have all the question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mileage may vary. (It may be that nothing in this presentation will apply to your institution’s situation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isclaim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e don’t have all the answers. 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e don’t even have all the questions!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Your mileage may vary. (It may be that nothing in this presentation will apply to your institution’s situation.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MATH 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MATH continued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MATH 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MATH continued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estionnaire for Non-Ma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Questionnaire for Non-Math 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o do 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money and/or share computer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forward with the changes we can m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the important topics that prepare students for statistics in our DSPM 0800 then move students straight to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needing Precalculus take DSPM 08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t to do now?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ind money and/or share computer spac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ove forward with the changes we can mak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each the important topics that prepare students for statistics in our DSPM 0800 then move students straight to Statistic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tudents needing Precalculus take DSPM 0850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oposed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roposed Sequenc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PM 0800 Cont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oposed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ased on Martin-Gay combined 4th edition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Review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2 Symbols and Sets of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3 F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4 Introduction to Variable Expressions and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Adding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6 Subtracting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SPM 0800 Content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proposed)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Based on Martin-Gay combined 4th edition)</a:t>
            </a: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 Review of Real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2 Symbols and Sets of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3 Fra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4 Introduction to Variable Expressions and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5 Adding Real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6 Subtracting Real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7  Multiplying and Dividing Real Numbers--Operations on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8 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1  Simplifying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2 The Addition and Multiplication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3  Solving Linear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7  Multiplying and Dividing Real Numbers--Operations on Real Numbers 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8  Properties of Real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 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1  Simplifying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2 The Addition and Multiplication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roperties of Equality 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3  Solving Linear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4 An Introduction to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Formu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6 Per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8 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Grap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1 Reading Graphs &amp; The Rectangul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inat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2 Graphing Linear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4 An Introduction to Problem Solv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5 Formula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6 Percent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8 Linear Inequaliti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 Graph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1 Reading Graphs &amp; The Rectangular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ordinate Syste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2 Graphing Linear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3 Interce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4 Slope and Rate of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5 Slope-Intercept Form: y = mx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The Point-Slope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7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Systems of Linear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1 Solving Systems of Linear Equations by Grap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Review - Solving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s of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3 Intercep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4 Slope and Rate of Chang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5 Slope-Intercept Form: y = mx + b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6 The Point-Slope For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7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. Systems of Linear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.1 Solving Systems of Linear Equations by Graph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Review - Solving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ystems of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Exponents and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Inequalities and Absolute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1 Compound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4 Linear Inequalities in Two Variab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ystems of 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 Radicals, Rational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 Radicals and Radic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 Exponents and Poly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1 Exponen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9. Inequalities and Absolute Valu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9.1 Compound Inequaliti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9.4 Linear Inequalities in Two Variables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nd Systems of Linear Inequaliti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 Radicals, Rational Exponen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1 Radicals and Radical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SU’s 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ere’s where your mileage may vary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90% of our students do NOT take an algebra-based course (such as college algebra, precalculus, calculus) for graduation. These students take MATH 1530, Probability and Statistics, as their core math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little intermediate algebra is used in this 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TSU’s Situation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Here’s where your mileage may vary.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bout 90% of our students do NOT take an algebra-based course (such as college algebra, precalculus, calculus) for graduation. These students take MATH 1530, Probability and Statistics, as their core math class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Very little intermediate algebra is used in this course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nd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An Introduction to Using a Graphing Ut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 Mean, Median, and 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ppendic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. An Introduction to Using a Graphing Utility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. Mean, Median, and Mod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w DSPM 08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. Exponents and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.1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.2 Polynomial Functions and Adding and Subtracting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.3 Multiplying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.4 Special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egrated Review - Exponents and Operations on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ew DSPM 0850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 Exponents and Poly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1 Exponen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2 Polynomial Functions and Adding and Subtracting Poly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3 Multiplying Poly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4 Special Produc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Review - Exponents and Operations on Poly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5 Negative Exponents and Scientific 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6 Dividing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7 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Factoring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The Greatest Common Factor and Factoring by Grou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Factoring Trinomials of the Form x2 + bx +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5 Negative Exponents and Scientific Notation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6 Dividing Poly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7 The Remainder Theore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 Factoring Poly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1 The Greatest Common Factor and Factoring by Group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2 Factoring Trinomials of the Form x2 + bx + c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Factoring Trinomials of the Form ax2 + bx + c and Perfect Square Tri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Factoring Trinomials of the Form ax2 + bx + c by Grou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 Factoring Bi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Review-Choosing a Factoring Strate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Solving Quadratic Equations by Fac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Quadratic Equations and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3 Factoring Trinomials of the Form ax2 + bx + c and Perfect Square Tri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4 Factoring Trinomials of the Form ax2 + bx + c by Group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5 Factoring Bi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Review-Choosing a Factoring Strategy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6 Solving Quadratic Equations by Factor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7 Quadratic Equations and Problem Solv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Ration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Rational Functions and Simplifying Ration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Multiplying and Dividing Ration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3 Adding and Subtracting Rational Expressions with Common Denominators and Least Common Denomin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4 Adding and Subtracting Rational Expressions with Unlike  Denomi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 Ration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1 Rational Functions and Simplifying Ration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2 Multiplying and Dividing Ration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3 Adding and Subtracting Rational Expressions with Common Denominators and Least Common Denominator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4 Adding and Subtracting Rational Expressions with Unlike  Denominato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5 Solving Equations Containing Ration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Review-Summary on Ration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6 Proportion and Problem Solving with Rational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7 Simplifying Complex F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 Radicals, Rational Exponents, and Complex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 Rational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5 Solving Equations Containing Ration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Review-Summary on Ration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6 Proportion and Problem Solving with Rational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7 Simplifying Complex Fra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 Radicals, Rational Exponents, and Complex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2 Rational Exponen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3 Simplifying Radic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4 Adding and Subtracting and Multiplying Radic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5 Rationalizing Denominators and Numerators of Radic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Review - Radicals and Rational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6 Radical Equations and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7 Complex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3 Simplifying Radic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4 Adding and Subtracting and Multiplying Radic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5 Rationalizing Denominators and Numerators of Radic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Review - Radicals and Rational Exponen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6 Radical Equations and Problem Solv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7 Complex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 Quadratic Equations and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1 Solving Quadratic Equations by Completing the 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2 Solving Quadratic Equations by the Quadratic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3 Solving Equations by Using Quadratic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Review-Summary on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Quadratic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. Quadratic Equations and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.1 Solving Quadratic Equations by Completing the Squar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.2 Solving Quadratic Equations by the Quadratic Formula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.3 Solving Equations by Using Quadratic Method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     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Review-Summary on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olving Quadratic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5 Quadratic Functions and Their 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6 Further Graphing of Quadratic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Systems of Linear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 Solving Systems of Linear Equations by Sub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 Solving Systems of Linear Equations by Ad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.5 Quadratic Functions and Their Graph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.6 Further Graphing of Quadratic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. Systems of Linear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.2 Solving Systems of Linear Equations by Substitution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.3 Solving Systems of Linear Equations by Addition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Review - Solv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s of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5 Systems of Linear Equations and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12. Exponential and Logarithmic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1 The Algebra of Functions: Composit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2 Invers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      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Review - Solving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ystems of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.5 Systems of Linear Equations and Problem Solv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*12. Exponential and Logarithmic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.1 The Algebra of Functions: Composite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.2 Inverse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SU’s 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ly majors in math and the sciences take something other than prob &amp; stat for graduation, and they are required to take one semester of calculus. (Digital media majors take both P&amp;S and trig.) These students benefit from intermediate algeb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STCC and WSCC are affected by ETSU’s deci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TSU’s Situation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ostly majors in math and the sciences take something other than prob &amp; stat for graduation, and they are required to take one semester of calculus. (Digital media majors take both P&amp;S and trig.) These students benefit from intermediate algebra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STCC and WSCC are affected by ETSU’s decisions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12. Exponential and Logarithmic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1 The Algebra of Functions: Composit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2 Invers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3 Exponent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4 Logarithmic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7 Exponential and Logarithmic Equations and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Op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*12. Exponential and Logarithmic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.1 The Algebra of Functions: Composite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.2 Inverse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.3 Exponential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.4 Logarithmic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.7 Exponential and Logarithmic Equations and Applic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*Optional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estions?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swers?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mments?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ggestions?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mplai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Questions? 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nswers?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mments?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uggestions?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mplaints?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Redesign Propo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we think we would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Our Redesign Proposal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t did we think we would do?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Redesign Proposal (Brief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vamp DSPM 0800 to make it a better preparation for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e DSPM 0850 requirement for students not taking precalculus or other algebra-based cour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Our Redesign Proposal (Briefly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e-vamp DSPM 0800 to make it a better preparation for statistic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elete DSPM 0850 requirement for students not taking precalculus or other algebra-based cours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Topics, New 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ncepts do the statisticians think the incoming student ne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ame Topics, New Sequenc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t concepts do the statisticians think the incoming student need?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hasiz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of operation, especiall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property, even when us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lcul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ng (order) fractions, decimals,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s, and signed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ret numerical answer—(wha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it mean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mphasize: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Order of operation, especially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istributive property, even when using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 calculator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mparing (order) fractions, decimals,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ercents, and signed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rpret numerical answer—(what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oes it mean?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imation: does the answer make sen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, proportions, dec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and graphing linear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guage of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stimation: does the answer make sense?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ercent, proportions, decim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olving and graphing linear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e language of inequaliti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DD3E-428C-483F-89BD-288C0ECFD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54F1-2C8E-41B8-8287-DF29BEF8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5D6D-A2E8-4C20-BA59-9E2D646AC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D2DB-EAE6-421C-AACA-771D81472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4EC8-FAC8-4D77-B50F-B0544FDF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D6D0-A077-4F01-B210-CD5A309B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77A4-4294-4ACE-BE8A-A4345FBF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E40B-66C0-454E-A90D-2D33B337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43BC-4EF2-4CA8-A018-4A3C080A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F40E-FB49-4088-9641-2CCC4C9B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4463-5236-47AC-9F0A-95AF835E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8F90-02DB-4EBC-9F6A-F02F8972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9F30-B957-49D0-824E-04FD10C2C7DF}" type="slidenum">
              <a:rPr b="0" lang="en-US" sz="14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Redefining Developmental Math for Non-Algebra Core Math  Courses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. Daryl Stephe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(stephen@etsu.edu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rray Butler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(butlern@etsu.edu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st Tennessee State University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0" name="Picture 7" descr="ETSUlogo_blue_150"/>
          <p:cNvPicPr/>
          <p:nvPr/>
        </p:nvPicPr>
        <p:blipFill>
          <a:blip r:embed="rId1"/>
          <a:stretch/>
        </p:blipFill>
        <p:spPr>
          <a:xfrm>
            <a:off x="3657600" y="5486400"/>
            <a:ext cx="1428840" cy="9334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ur Proposal – Technolog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cc00"/>
                </a:solidFill>
                <a:latin typeface="Tahoma"/>
              </a:rPr>
              <a:t>Use My Math Lab, Hawkes Learning, or similar programs with both courses</a:t>
            </a:r>
            <a:endParaRPr b="0" lang="en-US" sz="31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cc00"/>
                </a:solidFill>
                <a:latin typeface="Tahoma"/>
              </a:rPr>
              <a:t>Alternate days between lecture classroom and computer lab as is done with statistics course</a:t>
            </a:r>
            <a:endParaRPr b="0" lang="en-US" sz="31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cc00"/>
                </a:solidFill>
                <a:latin typeface="Tahoma"/>
              </a:rPr>
              <a:t>Do spreadsheet activities in elementary algebra to prepare students for Minitab</a:t>
            </a:r>
            <a:endParaRPr b="0" lang="en-US" sz="31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cc00"/>
                </a:solidFill>
                <a:latin typeface="Tahoma"/>
              </a:rPr>
              <a:t>Use graphing calculator in elementary algebra to prepare for stat and in intermediate algebra to prepare students for precalculus</a:t>
            </a:r>
            <a:endParaRPr b="0" lang="en-US" sz="31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nvisioned Advantag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ost savings: Cut back on sections of 0850 from ~12 each semester to ~3 or 4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repare students for courses they would actually tak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ore individualized help with computer programs and developmental math tuto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sadvantag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dministration would be difficul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hat about students who placed in 0850? Move them on in to 1530 or put them in 0800?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hat about students who change to science major after finishing 0800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→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530?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BR DSP Redesig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ubcommittees working in all areas including math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lign with HS exit standard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his year’s 7</a:t>
            </a:r>
            <a:r>
              <a:rPr b="0" lang="en-US" sz="2800" spc="-1" strike="noStrike" baseline="30000">
                <a:solidFill>
                  <a:srgbClr val="ffcc00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graders (Class of 2013) will have to take math all 4 years of high school!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New math curriculum standards based on NCTM, ADP, ACT, NAEP, . . 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th Redesign Subcommitte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ubcommittee includes university, community college, and high school faculty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urrently surveying math and other faculty across TBR to see what math is actually needed in intro and gen-ed cours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ome thought given to multiple exit poin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ore questions than answers at this poin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mmittee’s Charg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Examine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what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should be taught,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when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, and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why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ilot programs help decide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who, how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, and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where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bcommittee Memb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hris Knight (Walters SCC) Co-chair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John Kendall (SW TN) Co-chair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arva Lucas (MTSU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Helen Darcey (Cleveland SCC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ary Monroe-Ellis (PSTCC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haron Lee (Wilson County Schools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aryl Stephens (ETSU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TH Surve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The next few slides show a version of some questions that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may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be on the questionnaire to ask what math is needed in TBR core math classes with a prerequisite below the level of MATH 1xyz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ATH 1010, 1110, 1130, 1410, 1420, 1530, 1630, 1710, 1720, 1730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tegrated Concep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371600"/>
          <a:ext cx="8229600" cy="52117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822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onnecting mathematics to other disciplines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(real world applications) 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9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onnecting mathematics symbolically, numerically, graphically and verbally 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(Reading and interpreting graphs and tables, communicating mathematics, modeling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Integrating technology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(as a tool for problem solving and discovery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Developing study skills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(problem solving strategies, managing math anxiety, time management, feasibleness of solutions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nalyze characteristics of functions 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(including domain, range, increasing, decreasing, and continuity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457200" y="533520"/>
          <a:ext cx="8229600" cy="63244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54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lgebra  and  Number Sense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erform operations on real number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Perform operations on complex number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erform operations on polynomials 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(including factoring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Analysis of linear functions and graphs </a:t>
                      </a:r>
                      <a:r>
                        <a:rPr b="0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(including inequalities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olve linear equations/inequalitie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8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Analysis of quadratic functions and graphs </a:t>
                      </a:r>
                      <a:r>
                        <a:rPr b="0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(including inequalities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olve quadratic equations/inequalitie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8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Analysis of rational functions and graphs </a:t>
                      </a:r>
                      <a:r>
                        <a:rPr b="0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(including inequalities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sclaim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e don’t have all the answers. 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e don’t even have all the questions!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Your mileage may vary. (It may be that nothing in this presentation will apply to your institution’s situation.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5ffff"/>
                </a:solidFill>
                <a:latin typeface="Tahoma"/>
              </a:rPr>
              <a:t>(MATH continued)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600200"/>
          <a:ext cx="8229600" cy="466884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446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olve rational equations/inequalitie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Analysis of radical functions and graphs </a:t>
                      </a:r>
                      <a:r>
                        <a:rPr b="0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(including inequalities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443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olve equations/inequalities with radical expression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Analysis of exponential and logarithmic functions and graph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443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olve  exponential and logarithmic equation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Unit conversions </a:t>
                      </a:r>
                      <a:r>
                        <a:rPr b="0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(mass, weight and volume in both standard and metric systems) 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446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olve systems of equations and inequalitie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5ffff"/>
                </a:solidFill>
                <a:latin typeface="Tahoma"/>
              </a:rPr>
              <a:t>(MATH continued)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981080"/>
          <a:ext cx="8229600" cy="41277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223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Introductory Probability and Statistic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223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Basic probability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Applying descriptive statistics</a:t>
                      </a:r>
                      <a:r>
                        <a:rPr b="0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 ( of center and variation) 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49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Organize and display data</a:t>
                      </a:r>
                      <a:r>
                        <a:rPr b="0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 ( histograms, stems and leaf, pie charts, scatter plots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Geometry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Geometric principles 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( parallel line and transversals, sum of angles in plane figures, distance formula, midpoint formula, volume, and surface area) 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Questionnaire for Non-Math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981080"/>
          <a:ext cx="8229600" cy="4427640"/>
        </p:xfrm>
        <a:graphic>
          <a:graphicData uri="http://schemas.openxmlformats.org/drawingml/2006/table">
            <a:tbl>
              <a:tblPr/>
              <a:tblGrid>
                <a:gridCol w="1498680"/>
                <a:gridCol w="6730920"/>
              </a:tblGrid>
              <a:tr h="7599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Division/Department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5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lease list the top prerequisite math skills needed in your program or course. Only include those courses that do not already have a math prerequisite/corequisite. In other words, what math skills do your students </a:t>
                      </a:r>
                      <a:r>
                        <a:rPr b="1" lang="en-US" sz="2400" spc="-1" strike="noStrike" u="sng">
                          <a:solidFill>
                            <a:srgbClr val="ffcc00"/>
                          </a:solidFill>
                          <a:uFillTx/>
                          <a:latin typeface="Arial"/>
                        </a:rPr>
                        <a:t>need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to have before they enter your class to have a reasonable chance at success?</a:t>
                      </a: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Program name or course rubric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Math Skills List 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 . . .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nter skills here . . . .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to do now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Find money and/or share computer spac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ove forward with the changes we can mak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Teach the important topics that prepare students for statistics in our DSPM 0800 then move students straight to Statistics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tudents needing Precalculus take DSPM 0850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posed Sequenc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9" name="Content Placeholder 8" descr=""/>
          <p:cNvPicPr/>
          <p:nvPr/>
        </p:nvPicPr>
        <p:blipFill>
          <a:blip r:embed="rId1"/>
          <a:stretch/>
        </p:blipFill>
        <p:spPr>
          <a:xfrm>
            <a:off x="444600" y="1603440"/>
            <a:ext cx="8285040" cy="452268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SPM 0800 Content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(proposed)</a:t>
            </a:r>
            <a:br>
              <a:rPr sz="4400"/>
            </a:b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(Based on Martin-Gay combined 4</a:t>
            </a:r>
            <a:r>
              <a:rPr b="0" i="1" lang="en-US" sz="2800" spc="-1" strike="noStrike" baseline="30000">
                <a:solidFill>
                  <a:srgbClr val="ffcc00"/>
                </a:solidFill>
                <a:latin typeface="Tahoma"/>
              </a:rPr>
              <a:t>th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 edition)</a:t>
            </a:r>
            <a:br>
              <a:rPr sz="36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1. Review of Real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2 Symbols and Sets of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3 Fra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4 Introduction to Variable Expressions and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5 Adding Real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6 Subtracting Real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3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80880" y="7621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7  Multiplying and Dividing Real Numbers--Operations on Real Numbers 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8  Properties of Real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2.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1  Simplifying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2 The Addition and Multiplication  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roperties of Equality 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3  Solving Linear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4 An Introduction to Problem Solv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5 Formula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6 Percen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8 Linear Inequaliti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3. Graph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1 Reading Graphs &amp; The Rectangular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oordinate System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2 Graphing Linear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3 Intercep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4 Slope and Rate of Chang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5 Slope-Intercept Form: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y = mx + b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6 The Point-Slope Form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7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4. Systems of Linear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4.1 Solving Systems of Linear Equations by Graph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         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grated Review - Solving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ystems of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5. Exponents and Poly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1 Exponen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9. Inequalities and Absolute Valu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9.1 Compound Inequaliti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9.4 Linear Inequalities in Two Variables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nd Systems of Linear Inequaliti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10. Radicals, Rational Exponen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0.1 Radicals and Radical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TSU’s Situ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(Here’s where your mileage may vary.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bout 90% of our students do NOT take an algebra-based course (such as college algebra, precalculus, calculus) for graduation. These students take MATH 1530, Probability and Statistics, as their core math class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Very little intermediate algebra is used in this course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ppendic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. An Introduction to Using a Graphing Utility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G. Mean, Median, and Mod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New DSPM 085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5. Exponents and Poly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1 Exponen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2 Polynomial Functions and Adding and Subtracting Poly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3 Multiplying Poly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4 Special Produc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         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grated Review - Exponents and Operations on Poly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5 Negative Exponents and Scientific Notation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6 Dividing Poly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7 The Remainder Theorem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6. Factoring Poly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1 The Greatest Common Factor and Factoring by Group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2 Factoring Trinomials of the Form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x</a:t>
            </a:r>
            <a:r>
              <a:rPr b="0" lang="en-US" sz="3200" spc="-1" strike="noStrike" baseline="30000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bx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6094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3 Factoring Trinomials of the Form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ax</a:t>
            </a:r>
            <a:r>
              <a:rPr b="0" lang="en-US" sz="3200" spc="-1" strike="noStrike" baseline="30000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bx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and Perfect Square Tri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4 Factoring Trinomials of the Form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ax</a:t>
            </a:r>
            <a:r>
              <a:rPr b="0" lang="en-US" sz="3200" spc="-1" strike="noStrike" baseline="30000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bx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by Group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5 Factoring Bi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         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grated Review-Choosing a Factoring Strategy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6 Solving Quadratic Equations by Factor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7 Quadratic Equations and Problem Solv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720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7. Ration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1 Rational Functions and Simplifying Ration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2 Multiplying and Dividing Ration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3 Adding and Subtracting Rational Expressions with Common Denominators and Least Common Denominator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4 Adding and Subtracting Rational Expressions with Unlike  Denominato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57200" y="3808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5 Solving Equations Containing Ration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         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grated Review-Summary on Ration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6 Proportion and Problem Solving with Rational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7 Simplifying Complex Fra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10. Radicals, Rational Exponents, and Complex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0.2 Rational Exponen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0.3 Simplifying Radic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0.4 Adding and Subtracting and Multiplying Radic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0.5 Rationalizing Denominators and Numerators of Radic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         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grated Review - Radicals and Rational Exponen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0.6 Radical Equations and Problem Solv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0.7 Complex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7617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11. Quadratic Equations and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1.1 Solving Quadratic Equations by Completing the Squar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1.2 Solving Quadratic Equations by the Quadratic Formula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1.3 Solving Equations by Using Quadratic Method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     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grated Review-Summary on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olving Quadratic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1.5 Quadratic Functions and Their Graph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1.6 Further Graphing of Quadratic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4. Systems of Linear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4.2 Solving Systems of Linear Equations by Substitution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4.3 Solving Systems of Linear Equations by Addition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      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grated Review - Solving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ystems of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4.5 Systems of Linear Equations and Problem Solv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*12. Exponential and Logarithmic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2.1 The Algebra of Functions: Composite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2.2 Inverse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TSU’s Situ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ostly majors in math and the sciences take something other than prob &amp; stat for graduation, and they are required to take one semester of calculus. (Digital media majors take both P&amp;S and trig.) These students benefit from intermediate algebra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STCC and WSCC are affected by ETSU’s decisions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*12. Exponential and Logarithmic   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2.1 The Algebra of Functions: Composite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2.2 Inverse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2.3 Exponential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2.4 Logarithmic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2.7 Exponential and Logarithmic Equations and Applic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*Optiona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Questions?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swers?</a:t>
            </a:r>
            <a:br>
              <a:rPr sz="4400"/>
            </a:br>
            <a:r>
              <a:rPr b="0" lang="en-US" sz="4400" spc="-1" strike="noStrike">
                <a:solidFill>
                  <a:srgbClr val="00ccff"/>
                </a:solidFill>
                <a:latin typeface="Tahoma"/>
              </a:rPr>
              <a:t>Comments?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ggestions?</a:t>
            </a:r>
            <a:br>
              <a:rPr sz="4400"/>
            </a:br>
            <a:r>
              <a:rPr b="0" lang="en-US" sz="4400" spc="-1" strike="noStrike">
                <a:solidFill>
                  <a:srgbClr val="ad5d6a"/>
                </a:solidFill>
                <a:latin typeface="Tahoma"/>
              </a:rPr>
              <a:t>Complaint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ur Redesign Propos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hat did we think we would do?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3" name="Picture 9" descr="Tower-Dosset"/>
          <p:cNvPicPr/>
          <p:nvPr/>
        </p:nvPicPr>
        <p:blipFill>
          <a:blip r:embed="rId1"/>
          <a:stretch/>
        </p:blipFill>
        <p:spPr>
          <a:xfrm>
            <a:off x="2971800" y="3505320"/>
            <a:ext cx="3610080" cy="29397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ur Redesign Proposal (Briefly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Re-vamp DSPM 0800 to make it a better preparation for statistic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elete DSPM 0850 requirement for students not taking precalculus or other algebra-based cours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ame Topics, New Sequen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hat concepts do the statisticians think the incoming student need?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mphasize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Order of operation, especially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istributive property, even when using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 calculator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omparing (order) fractions, decimals,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ercents, and signed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rpret numerical answer—(what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oes it mean?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3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tinue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Estimation: does the answer make sense?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ercent, proportions, decim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olving and graphing linear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The language of inequaliti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6:10:19Z</dcterms:created>
  <dc:creator>Daryl Stephens</dc:creator>
  <dc:description/>
  <dc:language>en-US</dc:language>
  <cp:lastModifiedBy>LEGION</cp:lastModifiedBy>
  <dcterms:modified xsi:type="dcterms:W3CDTF">2017-07-06T06:39:31Z</dcterms:modified>
  <cp:revision>111</cp:revision>
  <dc:subject/>
  <dc:title>Slide 1</dc:title>
</cp:coreProperties>
</file>