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90678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06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35040" y="-36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1916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513120"/>
            <a:ext cx="39290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35040" y="6513120"/>
            <a:ext cx="393084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BDE3-4B68-4C85-B00F-87A3A7748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defining Developmental Math for Non-Algebra Core Math  Course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r. Daryl Stephe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stephen@etsu.edu)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rray Butle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utlern@etsu.ed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t Tennessee State Univers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Proposal – Technolo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My Math Lab, Hawkes Learning, or similar programs with both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ternate days between lecture classroom and computer lab as is done with statistics cours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spreadsheet activities in elementary algebra to prepare students for Minita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Use graphing calculator in elementary algebra to prepare for stat and in intermediate algebra to prepare students for precalculu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nvisioned 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st savings: Cut back on sections of 0850 from ~12 each semester to ~3 or 4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epare students for courses they would actually t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individualized help with computer programs and developmental math tu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advantag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dministration would be difficul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placed in 0850? Move them on in to 1530 or put them in 080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about students who change to science major after finishing 0800→1530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BR DSP Redesig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s working in all areas including math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lign with HS exit standar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year’s 7th graders (Class of 2013) will have to take math all 4 years of high school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math curriculum standards based on NCTM, ADP, ACT, NAEP, . . 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Redesign Subcommitte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includes university, community college, and high school facul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urrently surveying math and other faculty across TBR to see what math is actually needed in intro and gen-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me thought given to multiple exit poi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re questions than answers at this poi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ittee’s Char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xamine what should be taught, when, and why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ilot programs help decide who, how, and wher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bcommittee Me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hris Knight (Walters SCC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John Kendall (SW TN) Co-chai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va Lucas (M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Helen Darcey (Cleveland S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ry Monroe-Ellis (PSTCC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haron Lee (Wilson County Schools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aryl Stephens (ETSU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Surve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next few slides show a version of some questions that may be on the questionnaire to ask what math is needed in TBR core math classes with a prerequisite below the level of MATH 1xyz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ATH 1010, 1110, 1130, 1410, 1420, 1530, 1630, 1710, 1720, 173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Con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claim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have all the answers.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 don’t even have all the questions!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r mileage may vary. (It may be that nothing in this presentation will apply to your institution’s situation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MATH continued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naire for Non-Math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to do now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nd money and/or share computer spa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ve forward with the changes we can mak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each the important topics that prepare students for statistics in our DSPM 0800 then move students straight to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udents needing Precalculus take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osed Sequen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SPM 0800 Content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proposed)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Based on Martin-Gay combined 4th edition)</a:t>
            </a:r>
            <a:br>
              <a:rPr sz="1200"/>
            </a:b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 Review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2 Symbols and Sets of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3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4 Introduction to Variable Expressions and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5 Add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6 Subtracting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7  Multiplying and Dividing Real Numbers--Operations on Real Numbers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.8  Properties of Real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 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1  Simplifying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2 The Addition and Multiplication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roperties of Equality 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3  Solv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4 An Introduction to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5 Formula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6 Percent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.8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1 Reading Graphs &amp; The Rectangular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ordinate Syst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2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3 Intercep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4 Slope and Rate of Chang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5 Slope-Intercept Form: y = mx + b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6 The Point-Slope For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.7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1 Solving Systems of Linear Equations by Graph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 Inequalities and Absolute Valu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1 Compound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.4 Linear Inequalities in Two Variables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d Systems of Linear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1 Radicals and Radic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Here’s where your mileage may vary.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Very little intermediate algebra is used in this course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ppendic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. An Introduction to Using a Graphing Utilit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. Mean, Median, and Mod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w DSPM 0850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 Exponents and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1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2 Polynomial Functions and Adding and Subtract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3 Multiply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4 Special Produc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Exponents and Operations on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5 Negative Exponents and Scientific Not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6 Divid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.7 The Remainder Theore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 Factoring Poly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1 The Greatest Common Factor and Factoring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2 Factoring Trinomials of the Form x2 + bx + c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3 Factoring Trinomials of the Form ax2 + bx + c and Perfect Square Tr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4 Factoring Trinomials of the Form ax2 + bx + c by Group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5 Factoring Binomi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Choosing a Factoring Strategy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6 Solving Quadratic Equations by Factor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.7 Quadratic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1 Rational Functions and Simplify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2 Multiplying and Divid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3 Adding and Subtracting Rational Expressions with Common Denominators and Least Common Denomin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4 Adding and Subtracting Rational Expressions with Unlike  Denominato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5 Solving Equations Containing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Ration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6 Proportion and Problem Solving with Rational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.7 Simplifying Complex Fra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 Radicals, Rational Exponents, and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2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3 Simplif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4 Adding and Subtracting and Multiplying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5 Rationalizing Denominators and Numerators of Radical Express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Radicals and Rational Exponent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6 Radical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.7 Complex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 Quadratic Equations and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1 Solving Quadratic Equations by Completing the Squar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2 Solving Quadratic Equations by the Quadratic Formula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3 Solving Equations by Using Quadratic Method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-Summary on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Quadratic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5 Quadratic Functions and Their Graph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.6 Further Graphing of Quadrat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 Systems of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2 Solving Systems of Linear Equations by Substitu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3 Solving Systems of Linear Equations by Addi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        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grated Review - Solv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ystems of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.5 Systems of Linear Equations and Problem Solving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TSU’s Situation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STCC and WSCC are affected by ETSU’s decisions.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12. Exponential and Logarithmic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1 The Algebra of Functions: Composit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2 Inverse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3 Exponential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4 Logarithmic Func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.7 Exponential and Logarithmic Equations and Applic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*Option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Questions?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swer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ment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uggestions?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laints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did we think we would do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ur Redesign Proposal (Briefly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-vamp DSPM 0800 to make it a better preparation for statistic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elete DSPM 0850 requirement for students not taking precalculus or other algebra-based cours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me Topics, New Sequence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t concepts do the statisticians think the incoming student need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mphasize: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rder of operation, especially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istributive property, even when using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 calculator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paring (order) fractions, decimals,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s, and signed number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Interpret numerical answer—(what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es it mean?)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281952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06480" y="3257640"/>
            <a:ext cx="72547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5135400" y="6513480"/>
            <a:ext cx="39308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ntinued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stimation: does the answer make sense?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ercent, proportions, decimal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olving and graphing linear equation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e language of inequalities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F14-599D-4515-9030-EFE527319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E63-2DCB-443E-804F-F2A64C09D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2EF-DBDA-4211-9E36-A0E51CB5B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E62C-11EA-4796-94E5-F5A26A49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4AAF-2018-493E-8E88-F3CC2463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DDD1-73C8-423E-A151-15F0CFDD6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E892-9625-44C9-A51B-A02F966F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35F3-AC22-4DFA-AF59-0B51486AC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235-BF68-475B-AA11-D07A9550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4C0-EEE4-4415-B9B6-389CC2D7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F9CE-9D83-4B2E-9BB7-658D9EE1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CE84-D1AE-4950-82D4-F8273FD9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CDFB-512D-41D7-859F-A497887F5B80}" type="slidenum">
              <a:rPr b="0" lang="en-US" sz="14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ffff"/>
                </a:solidFill>
                <a:latin typeface="Tahoma"/>
              </a:rPr>
              <a:t>Redefining Developmental Math for Non-Algebra Core Math  Courses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. Daryl Stephe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stephen@etsu.edu)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rray Butle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butlern@etsu.ed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st Tennessee State Univers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0" name="Picture 7" descr="ETSUlogo_blue_150"/>
          <p:cNvPicPr/>
          <p:nvPr/>
        </p:nvPicPr>
        <p:blipFill>
          <a:blip r:embed="rId1"/>
          <a:stretch/>
        </p:blipFill>
        <p:spPr>
          <a:xfrm>
            <a:off x="3657600" y="5486400"/>
            <a:ext cx="1428840" cy="93348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Proposal – Technolog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My Math Lab, Hawkes Learning, or similar programs with both course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Alternate days between lecture classroom and computer lab as is done with statistics course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Do spreadsheet activities in elementary algebra to prepare students for Minitab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cc00"/>
                </a:solidFill>
                <a:latin typeface="Tahoma"/>
              </a:rPr>
              <a:t>Use graphing calculator in elementary algebra to prepare for stat and in intermediate algebra to prepare students for precalculus</a:t>
            </a:r>
            <a:endParaRPr b="0" lang="en-US" sz="31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nvisioned 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st savings: Cut back on sections of 0850 from ~12 each semester to ~3 or 4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epare students for courses they would actually t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individualized help with computer programs and developmental math tu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advantag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dministration would be difficul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placed in 0850? Move them on in to 1530 or put them in 080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about students who change to science major after finishing 0800</a:t>
            </a:r>
            <a:r>
              <a:rPr b="0" lang="en-US" sz="3200" spc="-1" strike="noStrike">
                <a:solidFill>
                  <a:srgbClr val="ffcc00"/>
                </a:solidFill>
                <a:latin typeface="Times New Roman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530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TBR DSP Redesig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s working in all areas including math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lign with HS exit standar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is year’s 7</a:t>
            </a:r>
            <a:r>
              <a:rPr b="0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graders (Class of 2013) will have to take math all 4 years of high school!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New math curriculum standards based on NCTM, ADP, ACT, NAEP, . . .</a:t>
            </a:r>
            <a:endParaRPr b="0" lang="en-US" sz="28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Redesign Subcommitt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ubcommittee includes university, community college, and high school facul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urrently surveying math and other faculty across TBR to see what math is actually needed in intro and gen-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me thought given to multiple exit poi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re questions than answers at this poi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mmittee’s Charg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xamin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at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should be taught,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n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ilot programs help decide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o, how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, and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where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bcommittee Memb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hris Knight (Walters SCC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John Kendall (SW TN) Co-chai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va Lucas (M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elen Darcey (Cleveland S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ry Monroe-Ellis (PSTCC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haron Lee (Wilson County Schools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aryl Stephens (ETSU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MATH Survey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next few slides show a version of some questions that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may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e on the questionnaire to ask what math is needed in TBR core math classes with a prerequisite below the level of MATH 1xyz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ATH 1010, 1110, 1130, 1410, 1420, 1530, 1630, 1710, 1720, 1730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egrated Concep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371600"/>
          <a:ext cx="8229600" cy="52117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to other discipline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real world application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59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nnecting mathematics symbolically, numerically, graphically and verbally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Reading and interpreting graphs and tables, communicating mathematics, model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egrating technology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as a tool for problem solving and discover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eveloping study skills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(problem solving strategies, managing math anxiety, time management, feasibleness of solution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alyze characteristics of function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domain, range, increasing, decreasing, and continuity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533520"/>
          <a:ext cx="8229600" cy="63244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54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lgebra  and  Number Sens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real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erform operations on complex number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erform operations on polynomial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including factoring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linear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linear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quadratic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5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quadratic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8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tion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isclaimer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have all the answers.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e don’t even have all the questions!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Your mileage may vary. (It may be that nothing in this presentation will apply to your institution’s situation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57200" y="1600200"/>
          <a:ext cx="8229600" cy="466884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rational equations/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radical functions and graph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including inequalitie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equations/inequalities with radical express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nalysis of exponential and logarithmic functions and graph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3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 exponential and logarithmic equation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Unit conversions 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(mass, weight and volume in both standard and metric systems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5446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olve systems of equations and inequalitie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e5ffff"/>
                </a:solidFill>
                <a:latin typeface="Tahoma"/>
              </a:rPr>
              <a:t>(MATH continued)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981080"/>
          <a:ext cx="8229600" cy="41277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ntroductory Probability and Statistics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sic probabilit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Applying descriptive statistics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of center and variation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84924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Organize and display data</a:t>
                      </a:r>
                      <a:r>
                        <a:rPr b="0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 ( histograms, stems and leaf, pie charts, scatter plots)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y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Geometric principles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( parallel line and transversals, sum of angles in plane figures, distance formula, midpoint formula, volume, and surface area)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Questionnaire for Non-Math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1981080"/>
          <a:ext cx="8229600" cy="4427640"/>
        </p:xfrm>
        <a:graphic>
          <a:graphicData uri="http://schemas.openxmlformats.org/drawingml/2006/table">
            <a:tbl>
              <a:tblPr/>
              <a:tblGrid>
                <a:gridCol w="1498680"/>
                <a:gridCol w="6730920"/>
              </a:tblGrid>
              <a:tr h="759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Division/Department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557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lease list the top prerequisite math skills needed in your program or course. Only include those courses that do not already have a math prerequisite/corequisite. In other words, what math skills do your students </a:t>
                      </a:r>
                      <a:r>
                        <a:rPr b="1" lang="en-US" sz="2400" spc="-1" strike="noStrike" u="sng">
                          <a:solidFill>
                            <a:srgbClr val="ffcc00"/>
                          </a:solidFill>
                          <a:uFillTx/>
                          <a:latin typeface="Arial"/>
                        </a:rPr>
                        <a:t>need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to have before they enter your class to have a reasonable chance at success?</a:t>
                      </a:r>
                      <a:r>
                        <a:rPr b="0" lang="en-US" sz="1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 </a:t>
                      </a:r>
                      <a:endParaRPr b="0" lang="en-US" sz="10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144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b5481"/>
                          </a:solidFill>
                          <a:latin typeface="Arial"/>
                        </a:rPr>
                        <a:t>Program name or course rubri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th Skills List 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1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nter skills here . . . .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ahoma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What to do now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Find money and/or share computer spac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ve forward with the changes we can mak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each the important topics that prepare students for statistics in our DSPM 0800 then move students straight to Statistics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tudents needing Precalculus take DSPM 0850</a:t>
            </a: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Proposed Sequenc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Content Placeholder 8" descr=""/>
          <p:cNvPicPr/>
          <p:nvPr/>
        </p:nvPicPr>
        <p:blipFill>
          <a:blip r:embed="rId1"/>
          <a:stretch/>
        </p:blipFill>
        <p:spPr>
          <a:xfrm>
            <a:off x="444600" y="1603440"/>
            <a:ext cx="8285040" cy="45226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DSPM 0800 Content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(proposed)</a:t>
            </a:r>
            <a:br>
              <a:rPr sz="4400"/>
            </a:b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(Based on Martin-Gay combined 4</a:t>
            </a:r>
            <a:r>
              <a:rPr b="0" i="1" lang="en-US" sz="2800" spc="-1" strike="noStrike" baseline="30000">
                <a:solidFill>
                  <a:srgbClr val="ffcc00"/>
                </a:solidFill>
                <a:latin typeface="Tahoma"/>
              </a:rPr>
              <a:t>th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 edition)</a:t>
            </a:r>
            <a:br>
              <a:rPr sz="36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. Review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2 Symbols and Sets of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3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4 Introduction to Variable Expressions and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5 Add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6 Subtracting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7621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7  Multiplying and Dividing Real Numbers--Operations on Real Numbers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.8  Properties of Real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1  Simplifying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2 The Addition and Multiplication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roperties of Equality 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3  Solv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4 An Introduction to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5 Formula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6 Percent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.8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3.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1 Reading Graphs &amp; The Rectangular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ordinate Syst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2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304920"/>
            <a:ext cx="82296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3 Intercep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4 Slope and Rate of Chang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5 Slope-Intercept Form: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y = mx + b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6 The Point-Slope For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1 Solving Systems of Linear Equations by Graph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9. Inequalities and Absolute Valu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1 Compound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9.4 Linear Inequalities in Two Variables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nd Systems of Linear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1 Radicals and Radic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(Here’s where your mileage may vary.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bout 90% of our students do NOT take an algebra-based course (such as college algebra, precalculus, calculus) for graduation. These students take MATH 1530, Probability and Statistics, as their core math clas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Very little intermediate algebra is used in this course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ppendic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. An Introduction to Using a Graphing Utilit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G. Mean, Median, and Mod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New DSPM 0850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5. Exponents and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1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2 Polynomial Functions and Adding and Subtract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3 Multiply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4 Special Produc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Exponents and Operations on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457200" y="9140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5 Negative Exponents and Scientific Nota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6 Divid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5.7 The Remainder Theorem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6. Factoring Poly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1 The Greatest Common Factor and Factoring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2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094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3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and Perfect Square Tr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4 Factoring Trinomials of the Form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ax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bx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</a:t>
            </a:r>
            <a:r>
              <a:rPr b="0" i="1" lang="en-US" sz="3200" spc="-1" strike="noStrike">
                <a:solidFill>
                  <a:srgbClr val="ffcc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by Group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5 Factoring Binomi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Choosing a Factoring Strategy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6 Solving Quadratic Equations by Factor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6.7 Quadratic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7.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1 Rational Functions and Simplify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2 Multiplying and Divid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3 Adding and Subtracting Rational Expressions with Common Denominators and Least Common Denomin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4 Adding and Subtracting Rational Expressions with Unlike  Denominato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380880"/>
            <a:ext cx="82296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5 Solving Equations Containing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Ration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6 Proportion and Problem Solving with Rational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7.7 Simplifying Complex Fra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0. Radicals, Rational Exponents, and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2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5335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3 Simplif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4 Adding and Subtracting and Multiplying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5 Rationalizing Denominators and Numerators of Radical Express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Radicals and Rational Exponent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6 Radical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0.7 Complex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7617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11. Quadratic Equations and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1 Solving Quadratic Equations by Completing the Square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2 Solving Quadratic Equations by the Quadratic Formula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3 Solving Equations by Using Quadratic Method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-Summary on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Quadratic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5 Quadratic Functions and Their Graph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1.6 Further Graphing of Quadrat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4. Systems of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2 Solving Systems of Linear Equations by Substitu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3 Solving Systems of Linear Equations by Addition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       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grated Review - Solv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ystems of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.5 Systems of Linear Equations and Problem Solving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TSU’s Situatio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Mostly majors in math and the sciences take something other than prob &amp; stat for graduation, and they are required to take one semester of calculus. (Digital media majors take both P&amp;S and trig.) These students benefit from intermediate algebra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NSTCC and WSCC are affected by ETSU’s decisions.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457200" y="6858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*12. Exponential and Logarithmic    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</a:rPr>
              <a:t>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1 The Algebra of Functions: Composit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2 Inverse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3 Exponential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4 Logarithmic Func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12.7 Exponential and Logarithmic Equations and Applic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*Optional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Questions?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nswers?</a:t>
            </a:r>
            <a:br>
              <a:rPr sz="4400"/>
            </a:br>
            <a:r>
              <a:rPr b="0" lang="en-US" sz="4400" spc="-1" strike="noStrike">
                <a:solidFill>
                  <a:srgbClr val="00ccff"/>
                </a:solidFill>
                <a:latin typeface="Tahoma"/>
              </a:rPr>
              <a:t>Comments?</a:t>
            </a:r>
            <a:br>
              <a:rPr sz="4400"/>
            </a:b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uggestions?</a:t>
            </a:r>
            <a:br>
              <a:rPr sz="4400"/>
            </a:br>
            <a:r>
              <a:rPr b="0" lang="en-US" sz="4400" spc="-1" strike="noStrike">
                <a:solidFill>
                  <a:srgbClr val="ad5d6a"/>
                </a:solidFill>
                <a:latin typeface="Tahoma"/>
              </a:rPr>
              <a:t>Complaints?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did we think we would do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" name="Picture 9" descr="Tower-Dosset"/>
          <p:cNvPicPr/>
          <p:nvPr/>
        </p:nvPicPr>
        <p:blipFill>
          <a:blip r:embed="rId1"/>
          <a:stretch/>
        </p:blipFill>
        <p:spPr>
          <a:xfrm>
            <a:off x="2971800" y="3505320"/>
            <a:ext cx="3610080" cy="29397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Our Redesign Proposal (Briefly)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Re-vamp DSPM 0800 to make it a better preparation for statistic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elete DSPM 0850 requirement for students not taking precalculus or other algebra-based cours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ame Topics, New Sequenc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What concepts do the statisticians think the incoming student need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Emphasize: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rder of operation, especially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istributive property, even when using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 calculator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Comparing (order) fractions, decimals,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s, and signed number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Interpret numerical answer—(what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does it mean?)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3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ontinued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Estimation: does the answer make sense?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ercent, proportions, decimal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Solving and graphing linear equation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The language of inequalities</a:t>
            </a:r>
            <a:endParaRPr b="0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6:10:19Z</dcterms:created>
  <dc:creator>Daryl Stephens</dc:creator>
  <dc:description/>
  <dc:language>en-US</dc:language>
  <cp:lastModifiedBy>LEGION</cp:lastModifiedBy>
  <dcterms:modified xsi:type="dcterms:W3CDTF">2017-07-06T06:39:31Z</dcterms:modified>
  <cp:revision>111</cp:revision>
  <dc:subject/>
  <dc:title>Slide 1</dc:title>
</cp:coreProperties>
</file>