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5ED3-BD7A-4AC9-AA6A-00A28A229F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peration of multiplication distributes over add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stributive property also holds for a factor that is multiplied on the le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peration of multiplication distributes over ad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stributive property also holds for a factor that is multiplied on the le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les of Sig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sitive times a negativ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gative times a positiv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gative of a neg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TION:  Remember that the value for a and/or b could also be positive or negativ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sitive divided by a negative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gative divided by a positiv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gative divided by a negativ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 of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sitive times a negativ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gative times a positiv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gative of a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TION:  Remember that the value for a and/or b could also be positive or negativ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sitive divided by a negative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gative divided by a positiv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gative divided by a negativ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knowledg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ish to thank Shawna Haider from Salt Lake Community College, Utah USA for her hard work in creating this PowerPo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cc.ed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wna has kindly given permission for this resource to be downloaded from www.mathxtc.com and for it to be modified to suit the Western Australian Mathematics Curriculu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hen Corcor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d of Mathem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 Stephen’s School – Carram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tstephens.wa.edu.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sh to thank Shawna Haider from Salt Lake Community College, Utah USA for her hard work in creating this PowerPo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cc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wna has kindly given permission for this resource to be downloaded from www.mathxtc.com and for it to be modified to suit the Western Australian Mathematics Curricul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hen Corco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of Mathe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 Stephen’s School – Carra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tstephens.wa.edu.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1, 2, 3, 4, . . . 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were asked to count, the numbers you’d say are called counting numbers.  These numbers can be expressed using set no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also called the natur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0, 1, 2, 3, 4, . . . 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include 0 we have the set of whole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 …, -3, -2, -1, 0,1, 2, 3, . . . 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 the opposites of the whole numbers and you have the set of integ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1, 2, 3, 4, . . .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ere asked to count, the numbers you’d say are called counting numbers.  These numbers can be expressed using set n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also called the natur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0, 1, 2, 3, 4, . . .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include 0 we have the set of whole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 …, -3, -2, -1, 0,1, 2, 3, . . .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 the opposites of the whole numbers and you have the set of inte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 numbers are a subset of integers and counting numbers are a subset of whole number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express a new set of numbers as the quotient of two integers, we have the set of rational numb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ans to divide one integer by another or “make a fraction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numbers are a subset of integers and counting numbers are a subset of whole number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express a new set of numbers as the quotient of two integers, we have the set of ration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o divide one integer by another or “make a fracti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umbers that cannot be expressed as the quotient of two integers.  These are called irration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tional numbers combined with the irrational numbers make up the set of real numb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numbers that cannot be expressed as the quotient of two integers.  These are called irration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nal numbers combined with the irrational numbers make up the set of real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lating English to Ma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-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+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lating English to Ma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-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DER OF OPE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re is more than one symbol of operation in an expression, it is agreed to complete the operations in a certain order.  A mnemonic to help you remember this order is bel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I M D A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ck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d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ipl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d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b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any simplifying possible inside of brackets starting with innermost brackets and working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y Ind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multiplication and division from left to 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addition and subtraction from left to 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OF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re is more than one symbol of operation in an expression, it is agreed to complete the operations in a certain order.  A mnemonic to help you remember this order is be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I M D A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d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b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ny simplifying possible inside of brackets starting with innermost brackets and working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y Ind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multiplication and division from left to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addition and subtraction from left to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ckets – combine these fir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ces – apply the indice n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multiplication and division, left to 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addition and subtraction, left to 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ckets – combine these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es – apply the indice 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multiplication and division, left to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addition and subtraction, left to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TA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perations of both addition and multiplication are commutati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dding, you can “commute” or trade the terms pl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multiplying, you can “commute” or trade the factors pl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perations of both addition and multiplication are commut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dding, you can “commute” or trade the terms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ultiplying, you can “commute” or trade the factors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OCIA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dding, you can “associate” and add any terms first and then add the other ter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multiplying, you can “associate” and multiply any factors first and then multiply the other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perations of both addition and multiplication are associ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dding, you can “associate” and add any terms first and then add the other ter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ultiplying, you can “associate” and multiply any factors first and then multiply the other fa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perations of both addition and multiplication are associ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5804-C9EB-4CC1-8AFA-7F7DF41E9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DE9C-B5C0-4D53-9A5E-014B2818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37D2-0B52-4E17-A5F6-EAD0797A6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05F4-1E80-4FE8-AA94-0E9E9BE24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B909-DC25-4D64-B225-627FB47C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56D6-7B24-41C9-8C91-CCD9E900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80FA-C9F5-4D9D-9979-3C82C43F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8D3F-58A0-4121-BFC7-693EEF0F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2C49-F7CA-4F83-A122-449B8573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0AC5-2681-4C30-9ACD-63595280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F184-F712-4195-865E-D8DAE37A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F07D-18D7-4F61-A965-F75D1CC9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A387-6F96-4E30-990E-71BD98171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lcc.edu/" TargetMode="External"/><Relationship Id="rId2" Type="http://schemas.openxmlformats.org/officeDocument/2006/relationships/hyperlink" Target="http://www.mathxtc.com/" TargetMode="External"/><Relationship Id="rId3" Type="http://schemas.openxmlformats.org/officeDocument/2006/relationships/hyperlink" Target="http://www.ststephens.wa.edu.au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609480" y="152388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 Black"/>
              </a:rPr>
              <a:t>Real number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295280" y="45720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ISTRIBUTIVE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457200" y="1295280"/>
            <a:ext cx="822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The operation of multiplication distributes over ad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754200" y="1905120"/>
                <a:ext cx="381456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5"/>
              <p:cNvSpPr txBox="1"/>
              <p:nvPr/>
            </p:nvSpPr>
            <p:spPr>
              <a:xfrm>
                <a:off x="4462560" y="2590920"/>
                <a:ext cx="451620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Text Box 6"/>
          <p:cNvSpPr/>
          <p:nvPr/>
        </p:nvSpPr>
        <p:spPr>
          <a:xfrm>
            <a:off x="533520" y="335268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e distributive property also holds for a factor that is multiplied on the lef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7"/>
              <p:cNvSpPr txBox="1"/>
              <p:nvPr/>
            </p:nvSpPr>
            <p:spPr>
              <a:xfrm>
                <a:off x="195120" y="4495680"/>
                <a:ext cx="460224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×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×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8"/>
              <p:cNvSpPr txBox="1"/>
              <p:nvPr/>
            </p:nvSpPr>
            <p:spPr>
              <a:xfrm>
                <a:off x="4233960" y="5486400"/>
                <a:ext cx="455904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Freeform 10"/>
          <p:cNvSpPr/>
          <p:nvPr/>
        </p:nvSpPr>
        <p:spPr>
          <a:xfrm>
            <a:off x="4724280" y="2425680"/>
            <a:ext cx="457200" cy="241200"/>
          </a:xfrm>
          <a:custGeom>
            <a:avLst/>
            <a:gdLst>
              <a:gd name="textAreaLeft" fmla="*/ 0 w 457200"/>
              <a:gd name="textAreaRight" fmla="*/ 457560 w 4572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288" h="152">
                <a:moveTo>
                  <a:pt x="0" y="104"/>
                </a:moveTo>
                <a:cubicBezTo>
                  <a:pt x="48" y="52"/>
                  <a:pt x="96" y="0"/>
                  <a:pt x="144" y="8"/>
                </a:cubicBezTo>
                <a:cubicBezTo>
                  <a:pt x="192" y="16"/>
                  <a:pt x="272" y="128"/>
                  <a:pt x="288" y="15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1"/>
          <p:cNvSpPr/>
          <p:nvPr/>
        </p:nvSpPr>
        <p:spPr>
          <a:xfrm>
            <a:off x="4800600" y="2197080"/>
            <a:ext cx="1143000" cy="4698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720" h="296">
                <a:moveTo>
                  <a:pt x="0" y="248"/>
                </a:moveTo>
                <a:cubicBezTo>
                  <a:pt x="108" y="124"/>
                  <a:pt x="216" y="0"/>
                  <a:pt x="336" y="8"/>
                </a:cubicBezTo>
                <a:cubicBezTo>
                  <a:pt x="456" y="16"/>
                  <a:pt x="588" y="156"/>
                  <a:pt x="720" y="29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12"/>
          <p:cNvSpPr/>
          <p:nvPr/>
        </p:nvSpPr>
        <p:spPr>
          <a:xfrm>
            <a:off x="4724280" y="5092560"/>
            <a:ext cx="1067040" cy="47016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470160"/>
              <a:gd name="textAreaBottom" fmla="*/ 470520 h 470160"/>
            </a:gdLst>
            <a:ahLst/>
            <a:rect l="textAreaLeft" t="textAreaTop" r="textAreaRight" b="textAreaBottom"/>
            <a:pathLst>
              <a:path w="672" h="296">
                <a:moveTo>
                  <a:pt x="672" y="248"/>
                </a:moveTo>
                <a:cubicBezTo>
                  <a:pt x="536" y="124"/>
                  <a:pt x="400" y="0"/>
                  <a:pt x="288" y="8"/>
                </a:cubicBezTo>
                <a:cubicBezTo>
                  <a:pt x="176" y="16"/>
                  <a:pt x="88" y="156"/>
                  <a:pt x="0" y="29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3"/>
          <p:cNvSpPr/>
          <p:nvPr/>
        </p:nvSpPr>
        <p:spPr>
          <a:xfrm>
            <a:off x="5410080" y="5257800"/>
            <a:ext cx="381240" cy="228600"/>
          </a:xfrm>
          <a:custGeom>
            <a:avLst/>
            <a:gdLst>
              <a:gd name="textAreaLeft" fmla="*/ 0 w 381240"/>
              <a:gd name="textAreaRight" fmla="*/ 381600 w 3812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40" h="144">
                <a:moveTo>
                  <a:pt x="240" y="144"/>
                </a:moveTo>
                <a:cubicBezTo>
                  <a:pt x="188" y="72"/>
                  <a:pt x="136" y="0"/>
                  <a:pt x="96" y="0"/>
                </a:cubicBezTo>
                <a:cubicBezTo>
                  <a:pt x="56" y="0"/>
                  <a:pt x="28" y="72"/>
                  <a:pt x="0" y="14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4"/>
          <p:cNvSpPr txBox="1"/>
          <p:nvPr/>
        </p:nvSpPr>
        <p:spPr>
          <a:xfrm>
            <a:off x="266688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ules of Signs</a:t>
            </a:r>
            <a:endParaRPr b="0" lang="en-US" sz="2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5"/>
              <p:cNvSpPr txBox="1"/>
              <p:nvPr/>
            </p:nvSpPr>
            <p:spPr>
              <a:xfrm>
                <a:off x="457200" y="1371600"/>
                <a:ext cx="29653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6" name="Text Box 6"/>
          <p:cNvSpPr/>
          <p:nvPr/>
        </p:nvSpPr>
        <p:spPr>
          <a:xfrm>
            <a:off x="152280" y="2057400"/>
            <a:ext cx="198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 positive times a negative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2133720" y="2362320"/>
            <a:ext cx="213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NEG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8"/>
              <p:cNvSpPr txBox="1"/>
              <p:nvPr/>
            </p:nvSpPr>
            <p:spPr>
              <a:xfrm>
                <a:off x="4876920" y="1447920"/>
                <a:ext cx="29653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9" name="Text Box 9"/>
          <p:cNvSpPr/>
          <p:nvPr/>
        </p:nvSpPr>
        <p:spPr>
          <a:xfrm>
            <a:off x="4572000" y="2133720"/>
            <a:ext cx="19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 negative times a positive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6629400" y="2362320"/>
            <a:ext cx="213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NEG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11"/>
              <p:cNvSpPr txBox="1"/>
              <p:nvPr/>
            </p:nvSpPr>
            <p:spPr>
              <a:xfrm>
                <a:off x="533520" y="3505320"/>
                <a:ext cx="22557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Text Box 12"/>
          <p:cNvSpPr/>
          <p:nvPr/>
        </p:nvSpPr>
        <p:spPr>
          <a:xfrm>
            <a:off x="228600" y="419112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e negative of a neg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2209680" y="4343400"/>
            <a:ext cx="213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OSI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228600" y="228600"/>
            <a:ext cx="8458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5"/>
          <p:cNvSpPr/>
          <p:nvPr/>
        </p:nvSpPr>
        <p:spPr>
          <a:xfrm>
            <a:off x="457200" y="228600"/>
            <a:ext cx="830592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UTION:  Remember that the value for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and/or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could also be positive or negative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16"/>
              <p:cNvSpPr txBox="1"/>
              <p:nvPr/>
            </p:nvSpPr>
            <p:spPr>
              <a:xfrm>
                <a:off x="4495680" y="3352680"/>
                <a:ext cx="392616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7" name="Text Box 17"/>
          <p:cNvSpPr/>
          <p:nvPr/>
        </p:nvSpPr>
        <p:spPr>
          <a:xfrm>
            <a:off x="3962520" y="4724280"/>
            <a:ext cx="19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 positive divided by a negative 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8"/>
          <p:cNvSpPr/>
          <p:nvPr/>
        </p:nvSpPr>
        <p:spPr>
          <a:xfrm>
            <a:off x="5638680" y="4648320"/>
            <a:ext cx="198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 negative divided by a positive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9"/>
          <p:cNvSpPr/>
          <p:nvPr/>
        </p:nvSpPr>
        <p:spPr>
          <a:xfrm>
            <a:off x="7467480" y="4648320"/>
            <a:ext cx="213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NEG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20"/>
              <p:cNvSpPr txBox="1"/>
              <p:nvPr/>
            </p:nvSpPr>
            <p:spPr>
              <a:xfrm>
                <a:off x="380880" y="5334120"/>
                <a:ext cx="175428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Text Box 21"/>
          <p:cNvSpPr/>
          <p:nvPr/>
        </p:nvSpPr>
        <p:spPr>
          <a:xfrm>
            <a:off x="2209680" y="5562720"/>
            <a:ext cx="198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 negative divided by a negative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4267080" y="6172200"/>
            <a:ext cx="213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OSI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4"/>
          <p:cNvSpPr/>
          <p:nvPr/>
        </p:nvSpPr>
        <p:spPr>
          <a:xfrm>
            <a:off x="609480" y="914400"/>
            <a:ext cx="7925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Acknowled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 wish to thank Shawna Haider from Salt Lake Community College, Utah USA for her hard work in creating this Power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www.slcc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hawna has kindly given permission for this resource to be downloaded from </a:t>
            </a:r>
            <a:r>
              <a:rPr b="0" lang="en-AU" sz="18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www.mathxtc.com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and for it to be modified to suit the Western Australian Mathematics Curricul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ephen Corco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ad of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 Stephen’s School – Carra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www.ststephens.wa.edu.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MathXTCSignature"/>
          <p:cNvPicPr/>
          <p:nvPr/>
        </p:nvPicPr>
        <p:blipFill>
          <a:blip r:embed="rId4"/>
          <a:stretch/>
        </p:blipFill>
        <p:spPr>
          <a:xfrm>
            <a:off x="762120" y="3962520"/>
            <a:ext cx="1371600" cy="39528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371600" y="21337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1, 2, 3, 4, . . .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33520" y="38088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 you were asked to count, the numbers you’d say are calle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unting number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  These numbers can be expressed using set no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4800600" y="205740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se are also called the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atural number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5334120" y="36576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0, 1, 2, 3, 4, . . .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533520" y="342900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 we include 0 we have the set o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ole number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1295280" y="47242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 …, -3, -2, -1, 0,1, 2, 3, . . .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380880" y="563868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clude the opposites of the whole numbers and you have the set of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nte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0"/>
          <p:cNvGrpSpPr/>
          <p:nvPr/>
        </p:nvGrpSpPr>
        <p:grpSpPr>
          <a:xfrm>
            <a:off x="304920" y="1600200"/>
            <a:ext cx="6248160" cy="3886200"/>
            <a:chOff x="304920" y="1600200"/>
            <a:chExt cx="6248160" cy="3886200"/>
          </a:xfrm>
        </p:grpSpPr>
        <p:sp>
          <p:nvSpPr>
            <p:cNvPr id="59" name="Oval 15"/>
            <p:cNvSpPr/>
            <p:nvPr/>
          </p:nvSpPr>
          <p:spPr>
            <a:xfrm>
              <a:off x="304920" y="1600200"/>
              <a:ext cx="6248160" cy="3886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6"/>
            <p:cNvSpPr/>
            <p:nvPr/>
          </p:nvSpPr>
          <p:spPr>
            <a:xfrm>
              <a:off x="2133720" y="16765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ational numb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Text Box 4"/>
          <p:cNvSpPr/>
          <p:nvPr/>
        </p:nvSpPr>
        <p:spPr>
          <a:xfrm>
            <a:off x="685800" y="22860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ole numbers are a subset of integers and counting numbers are a subset of whole number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19"/>
          <p:cNvGrpSpPr/>
          <p:nvPr/>
        </p:nvGrpSpPr>
        <p:grpSpPr>
          <a:xfrm>
            <a:off x="685800" y="2209680"/>
            <a:ext cx="5410080" cy="2819520"/>
            <a:chOff x="685800" y="2209680"/>
            <a:chExt cx="5410080" cy="2819520"/>
          </a:xfrm>
        </p:grpSpPr>
        <p:sp>
          <p:nvSpPr>
            <p:cNvPr id="63" name="Oval 5"/>
            <p:cNvSpPr/>
            <p:nvPr/>
          </p:nvSpPr>
          <p:spPr>
            <a:xfrm>
              <a:off x="685800" y="2209680"/>
              <a:ext cx="5410080" cy="281952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6"/>
            <p:cNvSpPr/>
            <p:nvPr/>
          </p:nvSpPr>
          <p:spPr>
            <a:xfrm>
              <a:off x="2590920" y="23623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g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1143000" y="3048120"/>
            <a:ext cx="4419720" cy="1676160"/>
            <a:chOff x="1143000" y="3048120"/>
            <a:chExt cx="4419720" cy="1676160"/>
          </a:xfrm>
        </p:grpSpPr>
        <p:sp>
          <p:nvSpPr>
            <p:cNvPr id="66" name="Oval 7"/>
            <p:cNvSpPr/>
            <p:nvPr/>
          </p:nvSpPr>
          <p:spPr>
            <a:xfrm>
              <a:off x="1143000" y="3048120"/>
              <a:ext cx="4419720" cy="167616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8"/>
            <p:cNvSpPr/>
            <p:nvPr/>
          </p:nvSpPr>
          <p:spPr>
            <a:xfrm>
              <a:off x="2209680" y="312408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ole numb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17"/>
          <p:cNvGrpSpPr/>
          <p:nvPr/>
        </p:nvGrpSpPr>
        <p:grpSpPr>
          <a:xfrm>
            <a:off x="1523880" y="3581280"/>
            <a:ext cx="3810240" cy="990720"/>
            <a:chOff x="1523880" y="3581280"/>
            <a:chExt cx="3810240" cy="990720"/>
          </a:xfrm>
        </p:grpSpPr>
        <p:sp>
          <p:nvSpPr>
            <p:cNvPr id="69" name="Oval 9"/>
            <p:cNvSpPr/>
            <p:nvPr/>
          </p:nvSpPr>
          <p:spPr>
            <a:xfrm>
              <a:off x="1523880" y="3581280"/>
              <a:ext cx="3581640" cy="99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0"/>
            <p:cNvSpPr/>
            <p:nvPr/>
          </p:nvSpPr>
          <p:spPr>
            <a:xfrm>
              <a:off x="2590920" y="3657600"/>
              <a:ext cx="274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unting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numb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Text Box 11"/>
          <p:cNvSpPr/>
          <p:nvPr/>
        </p:nvSpPr>
        <p:spPr>
          <a:xfrm>
            <a:off x="228600" y="55627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 we express a new set of numbers as the quotient of two integers, we have the set of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ational number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6705720" y="3657600"/>
            <a:ext cx="2438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Arial"/>
              </a:rPr>
              <a:t>This means to divide one integer by another or “make a fraction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3"/>
          <p:cNvSpPr/>
          <p:nvPr/>
        </p:nvSpPr>
        <p:spPr>
          <a:xfrm>
            <a:off x="7010280" y="5638680"/>
            <a:ext cx="1371600" cy="457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>
            <a:off x="7467480" y="5105520"/>
            <a:ext cx="76320" cy="4572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4"/>
          <p:cNvSpPr/>
          <p:nvPr/>
        </p:nvSpPr>
        <p:spPr>
          <a:xfrm>
            <a:off x="6019920" y="1523880"/>
            <a:ext cx="2590560" cy="3886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3"/>
          <p:cNvSpPr/>
          <p:nvPr/>
        </p:nvSpPr>
        <p:spPr>
          <a:xfrm>
            <a:off x="457200" y="1523880"/>
            <a:ext cx="5562720" cy="3886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981080" y="1676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457200" y="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re are numbers that cannot be expressed as the quotient of two integers.  These are calle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rrational number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6"/>
          <p:cNvGrpSpPr/>
          <p:nvPr/>
        </p:nvGrpSpPr>
        <p:grpSpPr>
          <a:xfrm>
            <a:off x="533520" y="2209680"/>
            <a:ext cx="5410080" cy="2819520"/>
            <a:chOff x="533520" y="2209680"/>
            <a:chExt cx="5410080" cy="2819520"/>
          </a:xfrm>
        </p:grpSpPr>
        <p:sp>
          <p:nvSpPr>
            <p:cNvPr id="81" name="Oval 7"/>
            <p:cNvSpPr/>
            <p:nvPr/>
          </p:nvSpPr>
          <p:spPr>
            <a:xfrm>
              <a:off x="533520" y="2209680"/>
              <a:ext cx="5410080" cy="281952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8"/>
            <p:cNvSpPr/>
            <p:nvPr/>
          </p:nvSpPr>
          <p:spPr>
            <a:xfrm>
              <a:off x="2438640" y="23623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g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9"/>
          <p:cNvGrpSpPr/>
          <p:nvPr/>
        </p:nvGrpSpPr>
        <p:grpSpPr>
          <a:xfrm>
            <a:off x="990720" y="3048120"/>
            <a:ext cx="4419360" cy="1676160"/>
            <a:chOff x="990720" y="3048120"/>
            <a:chExt cx="4419360" cy="1676160"/>
          </a:xfrm>
        </p:grpSpPr>
        <p:sp>
          <p:nvSpPr>
            <p:cNvPr id="84" name="Oval 10"/>
            <p:cNvSpPr/>
            <p:nvPr/>
          </p:nvSpPr>
          <p:spPr>
            <a:xfrm>
              <a:off x="990720" y="3048120"/>
              <a:ext cx="4419360" cy="167616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1"/>
            <p:cNvSpPr/>
            <p:nvPr/>
          </p:nvSpPr>
          <p:spPr>
            <a:xfrm>
              <a:off x="2057040" y="3124080"/>
              <a:ext cx="27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ole numb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12"/>
          <p:cNvGrpSpPr/>
          <p:nvPr/>
        </p:nvGrpSpPr>
        <p:grpSpPr>
          <a:xfrm>
            <a:off x="1371600" y="3581280"/>
            <a:ext cx="3809520" cy="990720"/>
            <a:chOff x="1371600" y="3581280"/>
            <a:chExt cx="3809520" cy="990720"/>
          </a:xfrm>
        </p:grpSpPr>
        <p:sp>
          <p:nvSpPr>
            <p:cNvPr id="87" name="Oval 13"/>
            <p:cNvSpPr/>
            <p:nvPr/>
          </p:nvSpPr>
          <p:spPr>
            <a:xfrm>
              <a:off x="1371600" y="3581280"/>
              <a:ext cx="3581280" cy="99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4"/>
            <p:cNvSpPr/>
            <p:nvPr/>
          </p:nvSpPr>
          <p:spPr>
            <a:xfrm>
              <a:off x="2438280" y="3657600"/>
              <a:ext cx="274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unting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numb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9" name="Object 19"/>
              <p:cNvSpPr txBox="1"/>
              <p:nvPr/>
            </p:nvSpPr>
            <p:spPr>
              <a:xfrm>
                <a:off x="6324480" y="4114800"/>
                <a:ext cx="7304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20"/>
              <p:cNvSpPr txBox="1"/>
              <p:nvPr/>
            </p:nvSpPr>
            <p:spPr>
              <a:xfrm>
                <a:off x="7772400" y="2133720"/>
                <a:ext cx="5634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Text Box 25"/>
          <p:cNvSpPr/>
          <p:nvPr/>
        </p:nvSpPr>
        <p:spPr>
          <a:xfrm>
            <a:off x="6324480" y="274320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6"/>
          <p:cNvSpPr/>
          <p:nvPr/>
        </p:nvSpPr>
        <p:spPr>
          <a:xfrm>
            <a:off x="533520" y="57150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rational numbers combined with the irrational numbers make up the set of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eal number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457200" y="1523880"/>
            <a:ext cx="8153280" cy="388620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9"/>
          <p:cNvSpPr/>
          <p:nvPr/>
        </p:nvSpPr>
        <p:spPr>
          <a:xfrm>
            <a:off x="4267080" y="1143000"/>
            <a:ext cx="3505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REAL NUM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1219320" y="9907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ng English to M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80880" y="1828800"/>
          <a:ext cx="6019920" cy="3746520"/>
        </p:xfrm>
        <a:graphic>
          <a:graphicData uri="http://schemas.openxmlformats.org/drawingml/2006/table">
            <a:tbl>
              <a:tblPr/>
              <a:tblGrid>
                <a:gridCol w="6019920"/>
              </a:tblGrid>
              <a:tr h="685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 of two numb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 between two numb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676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roduct of two numb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quotient of two numb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67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98" name="Rectangle 96"/>
          <p:cNvSpPr/>
          <p:nvPr/>
        </p:nvSpPr>
        <p:spPr>
          <a:xfrm>
            <a:off x="6400800" y="4908600"/>
            <a:ext cx="1600200" cy="663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2"/>
          <p:cNvSpPr/>
          <p:nvPr/>
        </p:nvSpPr>
        <p:spPr>
          <a:xfrm>
            <a:off x="6400800" y="3200400"/>
            <a:ext cx="1600200" cy="67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0"/>
          <p:cNvSpPr/>
          <p:nvPr/>
        </p:nvSpPr>
        <p:spPr>
          <a:xfrm>
            <a:off x="6400800" y="2514600"/>
            <a:ext cx="1600200" cy="6858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-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8"/>
          <p:cNvSpPr/>
          <p:nvPr/>
        </p:nvSpPr>
        <p:spPr>
          <a:xfrm>
            <a:off x="6400800" y="1828800"/>
            <a:ext cx="16002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+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78"/>
          <p:cNvSpPr/>
          <p:nvPr/>
        </p:nvSpPr>
        <p:spPr>
          <a:xfrm>
            <a:off x="6400800" y="1828800"/>
            <a:ext cx="16002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9"/>
          <p:cNvSpPr/>
          <p:nvPr/>
        </p:nvSpPr>
        <p:spPr>
          <a:xfrm>
            <a:off x="6400800" y="2514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80"/>
          <p:cNvSpPr/>
          <p:nvPr/>
        </p:nvSpPr>
        <p:spPr>
          <a:xfrm>
            <a:off x="6400800" y="32004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1"/>
          <p:cNvSpPr/>
          <p:nvPr/>
        </p:nvSpPr>
        <p:spPr>
          <a:xfrm>
            <a:off x="6400800" y="38718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2"/>
          <p:cNvSpPr/>
          <p:nvPr/>
        </p:nvSpPr>
        <p:spPr>
          <a:xfrm>
            <a:off x="6400800" y="4908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83"/>
          <p:cNvSpPr/>
          <p:nvPr/>
        </p:nvSpPr>
        <p:spPr>
          <a:xfrm flipV="1">
            <a:off x="6400800" y="5590800"/>
            <a:ext cx="1596960" cy="32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4"/>
          <p:cNvSpPr/>
          <p:nvPr/>
        </p:nvSpPr>
        <p:spPr>
          <a:xfrm>
            <a:off x="6400800" y="1828800"/>
            <a:ext cx="0" cy="37656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85"/>
          <p:cNvSpPr/>
          <p:nvPr/>
        </p:nvSpPr>
        <p:spPr>
          <a:xfrm>
            <a:off x="8001000" y="1828800"/>
            <a:ext cx="0" cy="37656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35"/>
          <p:cNvGrpSpPr/>
          <p:nvPr/>
        </p:nvGrpSpPr>
        <p:grpSpPr>
          <a:xfrm>
            <a:off x="6427800" y="3830760"/>
            <a:ext cx="1562040" cy="1080720"/>
            <a:chOff x="6427800" y="3830760"/>
            <a:chExt cx="1562040" cy="1080720"/>
          </a:xfrm>
        </p:grpSpPr>
        <p:grpSp>
          <p:nvGrpSpPr>
            <p:cNvPr id="111" name="Group 134"/>
            <p:cNvGrpSpPr/>
            <p:nvPr/>
          </p:nvGrpSpPr>
          <p:grpSpPr>
            <a:xfrm>
              <a:off x="6427800" y="3830760"/>
              <a:ext cx="1562040" cy="1080720"/>
              <a:chOff x="6427800" y="3830760"/>
              <a:chExt cx="1562040" cy="1080720"/>
            </a:xfrm>
          </p:grpSpPr>
          <p:grpSp>
            <p:nvGrpSpPr>
              <p:cNvPr id="112" name="Group 133"/>
              <p:cNvGrpSpPr/>
              <p:nvPr/>
            </p:nvGrpSpPr>
            <p:grpSpPr>
              <a:xfrm>
                <a:off x="6427800" y="3830760"/>
                <a:ext cx="1562040" cy="1080720"/>
                <a:chOff x="6427800" y="3830760"/>
                <a:chExt cx="1562040" cy="1080720"/>
              </a:xfrm>
            </p:grpSpPr>
            <p:sp>
              <p:nvSpPr>
                <p:cNvPr id="113" name="Rectangle 94"/>
                <p:cNvSpPr/>
                <p:nvPr/>
              </p:nvSpPr>
              <p:spPr>
                <a:xfrm>
                  <a:off x="6427800" y="3891600"/>
                  <a:ext cx="1562040" cy="1019880"/>
                </a:xfrm>
                <a:prstGeom prst="rect">
                  <a:avLst/>
                </a:prstGeom>
                <a:solidFill>
                  <a:srgbClr val="ff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AutoShape 128"/>
                <p:cNvSpPr/>
                <p:nvPr/>
              </p:nvSpPr>
              <p:spPr>
                <a:xfrm>
                  <a:off x="7022520" y="3830760"/>
                  <a:ext cx="392040" cy="101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Rectangle 131"/>
              <p:cNvSpPr/>
              <p:nvPr/>
            </p:nvSpPr>
            <p:spPr>
              <a:xfrm>
                <a:off x="7115040" y="440856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32"/>
              <p:cNvSpPr/>
              <p:nvPr/>
            </p:nvSpPr>
            <p:spPr>
              <a:xfrm>
                <a:off x="7111800" y="385704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Line 130"/>
            <p:cNvSpPr/>
            <p:nvPr/>
          </p:nvSpPr>
          <p:spPr>
            <a:xfrm>
              <a:off x="7088040" y="4357080"/>
              <a:ext cx="250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380880" y="4572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ORDER OF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380880" y="1295280"/>
            <a:ext cx="8305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When there is more than one symbol of operation in an expression, it is agreed to complete the operations in a certain order.  A mnemonic to help you remember this order is belo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752480" y="4648320"/>
            <a:ext cx="54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99"/>
                </a:solidFill>
                <a:latin typeface="Arial"/>
              </a:rPr>
              <a:t>B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9900cc"/>
                </a:solidFill>
                <a:latin typeface="Arial"/>
              </a:rPr>
              <a:t>I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339933"/>
                </a:solidFill>
                <a:latin typeface="Arial"/>
              </a:rPr>
              <a:t>M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339933"/>
                </a:solidFill>
                <a:latin typeface="Arial"/>
              </a:rPr>
              <a:t>D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33cc"/>
                </a:solidFill>
                <a:latin typeface="Arial"/>
              </a:rPr>
              <a:t>A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33cc"/>
                </a:solidFill>
                <a:latin typeface="Arial"/>
              </a:rPr>
              <a:t>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 rot="19734600">
            <a:off x="1905480" y="33523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 rot="19734600">
            <a:off x="2591280" y="342864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nd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 rot="19734600">
            <a:off x="3505680" y="33523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ulti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 rot="19734600">
            <a:off x="4420080" y="342864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 rot="19734600">
            <a:off x="5181840" y="342864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d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2"/>
          <p:cNvSpPr/>
          <p:nvPr/>
        </p:nvSpPr>
        <p:spPr>
          <a:xfrm rot="19734600">
            <a:off x="6172560" y="350496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ub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1066680" y="2666880"/>
            <a:ext cx="670572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o any simplifying possible inside of brackets starting with innermost brackets and working 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1143000" y="2514600"/>
            <a:ext cx="6400800" cy="93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cc"/>
                </a:solidFill>
                <a:latin typeface="Arial"/>
              </a:rPr>
              <a:t>Apply Ind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1066680" y="2514600"/>
            <a:ext cx="6705720" cy="93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9933"/>
                </a:solidFill>
                <a:latin typeface="Arial"/>
              </a:rPr>
              <a:t>Complete multiplication and division from left to r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1066680" y="2590920"/>
            <a:ext cx="6705720" cy="93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cc"/>
                </a:solidFill>
                <a:latin typeface="Arial"/>
              </a:rPr>
              <a:t>Complete addition and subtraction from left to r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1447920" y="2133720"/>
                <a:ext cx="618624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Text Box 5"/>
          <p:cNvSpPr/>
          <p:nvPr/>
        </p:nvSpPr>
        <p:spPr>
          <a:xfrm>
            <a:off x="3352680" y="57150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M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276720" y="5715000"/>
            <a:ext cx="23619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95280" y="304920"/>
            <a:ext cx="693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brackets – combine these fir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8"/>
          <p:cNvSpPr/>
          <p:nvPr/>
        </p:nvSpPr>
        <p:spPr>
          <a:xfrm>
            <a:off x="2362320" y="762120"/>
            <a:ext cx="60948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9"/>
              <p:cNvSpPr txBox="1"/>
              <p:nvPr/>
            </p:nvSpPr>
            <p:spPr>
              <a:xfrm>
                <a:off x="1523880" y="2286000"/>
                <a:ext cx="608652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Text Box 10"/>
          <p:cNvSpPr/>
          <p:nvPr/>
        </p:nvSpPr>
        <p:spPr>
          <a:xfrm>
            <a:off x="3276720" y="5715000"/>
            <a:ext cx="23619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1219320" y="304920"/>
            <a:ext cx="6933960" cy="1958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ndices – apply the indice n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2"/>
          <p:cNvSpPr/>
          <p:nvPr/>
        </p:nvSpPr>
        <p:spPr>
          <a:xfrm>
            <a:off x="2362320" y="762120"/>
            <a:ext cx="609480" cy="1371600"/>
          </a:xfrm>
          <a:prstGeom prst="line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3"/>
          <p:cNvSpPr/>
          <p:nvPr/>
        </p:nvSpPr>
        <p:spPr>
          <a:xfrm>
            <a:off x="3048120" y="838080"/>
            <a:ext cx="609480" cy="1219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4"/>
              <p:cNvSpPr txBox="1"/>
              <p:nvPr/>
            </p:nvSpPr>
            <p:spPr>
              <a:xfrm>
                <a:off x="1219320" y="2438280"/>
                <a:ext cx="645948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Text Box 15"/>
          <p:cNvSpPr/>
          <p:nvPr/>
        </p:nvSpPr>
        <p:spPr>
          <a:xfrm>
            <a:off x="3276720" y="5715000"/>
            <a:ext cx="23619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914400" y="304920"/>
            <a:ext cx="6934320" cy="1958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omplete multiplication and division, left to r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7"/>
          <p:cNvSpPr/>
          <p:nvPr/>
        </p:nvSpPr>
        <p:spPr>
          <a:xfrm flipH="1">
            <a:off x="2819160" y="838080"/>
            <a:ext cx="685800" cy="1219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8"/>
          <p:cNvSpPr/>
          <p:nvPr/>
        </p:nvSpPr>
        <p:spPr>
          <a:xfrm>
            <a:off x="3809880" y="762120"/>
            <a:ext cx="914400" cy="1447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9"/>
              <p:cNvSpPr txBox="1"/>
              <p:nvPr/>
            </p:nvSpPr>
            <p:spPr>
              <a:xfrm>
                <a:off x="1066680" y="2514600"/>
                <a:ext cx="625644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Text Box 20"/>
          <p:cNvSpPr/>
          <p:nvPr/>
        </p:nvSpPr>
        <p:spPr>
          <a:xfrm>
            <a:off x="3352680" y="5715000"/>
            <a:ext cx="236232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MD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990720" y="228600"/>
            <a:ext cx="6933960" cy="1958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omplete addition and subtraction, left to r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22"/>
              <p:cNvSpPr txBox="1"/>
              <p:nvPr/>
            </p:nvSpPr>
            <p:spPr>
              <a:xfrm>
                <a:off x="2209680" y="2438280"/>
                <a:ext cx="428472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23"/>
              <p:cNvSpPr txBox="1"/>
              <p:nvPr/>
            </p:nvSpPr>
            <p:spPr>
              <a:xfrm>
                <a:off x="1379520" y="3962520"/>
                <a:ext cx="618804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838080" y="53352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MMUTATIVE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228600" y="1447920"/>
            <a:ext cx="8458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The operations of both addition and multiplication are commutativ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6"/>
              <p:cNvSpPr txBox="1"/>
              <p:nvPr/>
            </p:nvSpPr>
            <p:spPr>
              <a:xfrm>
                <a:off x="838080" y="2286000"/>
                <a:ext cx="27622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7"/>
              <p:cNvSpPr txBox="1"/>
              <p:nvPr/>
            </p:nvSpPr>
            <p:spPr>
              <a:xfrm>
                <a:off x="5029200" y="2362320"/>
                <a:ext cx="26748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Text Box 8"/>
          <p:cNvSpPr/>
          <p:nvPr/>
        </p:nvSpPr>
        <p:spPr>
          <a:xfrm>
            <a:off x="533520" y="3276720"/>
            <a:ext cx="822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When adding, you can “commute” or trade the terms pl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9"/>
              <p:cNvSpPr txBox="1"/>
              <p:nvPr/>
            </p:nvSpPr>
            <p:spPr>
              <a:xfrm>
                <a:off x="925560" y="4343400"/>
                <a:ext cx="25876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×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×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10"/>
              <p:cNvSpPr txBox="1"/>
              <p:nvPr/>
            </p:nvSpPr>
            <p:spPr>
              <a:xfrm>
                <a:off x="5040360" y="4343400"/>
                <a:ext cx="24987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Text Box 11"/>
          <p:cNvSpPr/>
          <p:nvPr/>
        </p:nvSpPr>
        <p:spPr>
          <a:xfrm>
            <a:off x="533520" y="5334120"/>
            <a:ext cx="822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When multiplying, you can “commute” or trade the factors pl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838080" y="53352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SSOCIATIVE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380880" y="1905120"/>
                <a:ext cx="486756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5"/>
              <p:cNvSpPr txBox="1"/>
              <p:nvPr/>
            </p:nvSpPr>
            <p:spPr>
              <a:xfrm>
                <a:off x="4267080" y="2590920"/>
                <a:ext cx="464832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6" name="Text Box 6"/>
          <p:cNvSpPr/>
          <p:nvPr/>
        </p:nvSpPr>
        <p:spPr>
          <a:xfrm>
            <a:off x="533520" y="32767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When adding, you can “associate” and add any terms first and then add the other term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7"/>
              <p:cNvSpPr txBox="1"/>
              <p:nvPr/>
            </p:nvSpPr>
            <p:spPr>
              <a:xfrm>
                <a:off x="380880" y="4114800"/>
                <a:ext cx="451656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×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×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×</m:t>
                        </m:r>
                        <m:r>
                          <m:t xml:space="preserve">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8"/>
              <p:cNvSpPr txBox="1"/>
              <p:nvPr/>
            </p:nvSpPr>
            <p:spPr>
              <a:xfrm>
                <a:off x="4114800" y="4800600"/>
                <a:ext cx="447048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9" name="Text Box 9"/>
          <p:cNvSpPr/>
          <p:nvPr/>
        </p:nvSpPr>
        <p:spPr>
          <a:xfrm>
            <a:off x="533520" y="57150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When multiplying, you can “associate” and multiply any factors first and then multiply the other fact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228600" y="1447920"/>
            <a:ext cx="8458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The operations of both addition and multiplication are associ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3:01:19Z</dcterms:created>
  <dc:creator>haidersh</dc:creator>
  <dc:description/>
  <dc:language>en-US</dc:language>
  <cp:lastModifiedBy>LEGION</cp:lastModifiedBy>
  <dcterms:modified xsi:type="dcterms:W3CDTF">2017-07-06T06:39:13Z</dcterms:modified>
  <cp:revision>68</cp:revision>
  <dc:subject/>
  <dc:title>Slide 1</dc:title>
</cp:coreProperties>
</file>