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whoosh.wav" ContentType="audio/x-wav"/>
  <Override PartName="/ppt/media/image5.png" ContentType="image/png"/>
  <Override PartName="/ppt/media/image6.png" ContentType="image/png"/>
  <Override PartName="/ppt/media/delcious2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DEA9-B394-4033-85F4-A97753CBF60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Kinds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Two Kinds of 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are rational numbers because they can be written as fraction with 1 as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 are rational numbers because they can be written as fraction with 1 as the denominator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s opposed to fake number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(as opposed to fake numbers?)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Kinds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Two Kinds of 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tional number is a real number that can be written as a ratio of two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tional number written in decimal form is terminating or rep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 rational number is a real number that can be written as a ratio of two integer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 rational number written in decimal form is terminating or repeating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3333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/2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3.5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8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.3333…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 3/4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rrational number is a number that cannot be written as a ratio of two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written as decimals are non-terminating and non-rep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n irrational number is a number that cannot be written as a ratio of two integer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 written as decimals are non-terminating and non-repeating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roots of non-perfect “square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quare roots of non-perfect “squares” 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Pi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7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subse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One of the subsets of 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integ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are the whole numbers and their oppo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9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What are integers?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 are the whole numbers and their opposite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integers are 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8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934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E9D-A5CD-448B-9DD7-1EA53D8B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092-4AE3-4A0E-8470-ED57AD84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5B8-FCE2-4BDF-A866-4804A81B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2E70-AC2E-4556-8EA9-2875BF54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D632-ED99-4DB3-9B04-A0C9D8AC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0019-F295-45B6-9DCD-2DE12BEE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A30F-CC94-4BF9-9D6F-0C21CDA7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0FD7-D37D-4170-BB99-8B6165DD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3A38-C297-46DA-B81E-6D62EC38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C22F-7234-4463-846B-120CBEBF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B962-AD09-4146-89F5-CC3EE276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4769-6701-458A-B003-0493A347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BC3B-6B38-453C-BA05-6B8E0967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3879-0FBF-41EF-8A20-CDCC69C2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7C58-C10F-494F-8B68-F350A2CE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2307-21B1-4797-A283-AD9AB630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D107-5F98-4216-A99F-13F379EF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EDB-4EE4-4846-9F36-7A8D84E2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D14E-5E9C-42AB-986D-EFE1BF71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92A3-CEC7-4B49-8564-6A8F4FE3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04F7-66CB-4D04-87D9-D1E0FA07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65A-FCA6-4F5C-8E26-C4DE2E6F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7B2-EEBB-43CC-A5FE-D2F995D2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0D4F-25A2-4899-A03F-A13CCAA2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5C24-E824-48DB-8AD7-458654A5EB4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D615-AD39-4C2D-9DFE-F01A0BA3312E}" type="slidenum">
              <a:rPr b="0" lang="en-US" sz="1400" spc="-1" strike="noStrike">
                <a:solidFill>
                  <a:srgbClr val="6699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delcious2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Two Kinds of 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99" name="Picture 4" descr="numbers-cup"/>
          <p:cNvPicPr/>
          <p:nvPr/>
        </p:nvPicPr>
        <p:blipFill>
          <a:blip r:embed="rId1"/>
          <a:stretch/>
        </p:blipFill>
        <p:spPr>
          <a:xfrm>
            <a:off x="6477120" y="1981080"/>
            <a:ext cx="1985760" cy="35053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Integers are rational numbers because they can be written as fraction with 1 as the denominator.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62576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(as opposed to fake numbers?)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03" name="Picture 4" descr="8"/>
          <p:cNvPicPr/>
          <p:nvPr/>
        </p:nvPicPr>
        <p:blipFill>
          <a:blip r:embed="rId1"/>
          <a:stretch/>
        </p:blipFill>
        <p:spPr>
          <a:xfrm>
            <a:off x="3809880" y="297180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Two Kinds of 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07" name="Picture 4" descr="numbers-cup"/>
          <p:cNvPicPr/>
          <p:nvPr/>
        </p:nvPicPr>
        <p:blipFill>
          <a:blip r:embed="rId1"/>
          <a:stretch/>
        </p:blipFill>
        <p:spPr>
          <a:xfrm>
            <a:off x="6477120" y="1981080"/>
            <a:ext cx="1985760" cy="35053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 rational number is a real number that can be written as a ratio of two integers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 rational number written in decimal form is terminating or repeating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amples of 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/2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3.56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-8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.3333…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- 3/4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Ir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n irrational number is a number that cannot be written as a ratio of two integers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rrational numbers written as decimals are non-terminating and non-repeating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amples of Ir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Square roots of non-perfect “squares” 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Pi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22" name="Picture 11" descr="sq-root"/>
          <p:cNvPicPr/>
          <p:nvPr/>
        </p:nvPicPr>
        <p:blipFill>
          <a:blip r:embed="rId1"/>
          <a:stretch/>
        </p:blipFill>
        <p:spPr>
          <a:xfrm>
            <a:off x="1905120" y="4038480"/>
            <a:ext cx="479160" cy="708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3"/>
          <p:cNvSpPr/>
          <p:nvPr/>
        </p:nvSpPr>
        <p:spPr>
          <a:xfrm>
            <a:off x="2275200" y="4095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Comic Sans MS"/>
              </a:rPr>
              <a:t>17</a:t>
            </a: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24" name="Picture 24" descr="pieslice"/>
          <p:cNvPicPr/>
          <p:nvPr/>
        </p:nvPicPr>
        <p:blipFill>
          <a:blip r:embed="rId2"/>
          <a:stretch/>
        </p:blipFill>
        <p:spPr>
          <a:xfrm>
            <a:off x="6095880" y="25909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3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elciou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One of the subsets of rational numbers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What are integers?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Integers are the whole numbers and their opposites.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Examples of integers are 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12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186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934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14:58:46Z</dcterms:created>
  <dc:creator>Jefferson County Schools </dc:creator>
  <dc:description/>
  <dc:language>en-US</dc:language>
  <cp:lastModifiedBy>LEGION</cp:lastModifiedBy>
  <dcterms:modified xsi:type="dcterms:W3CDTF">2017-07-06T06:39:00Z</dcterms:modified>
  <cp:revision>4</cp:revision>
  <dc:subject/>
  <dc:title>PowerPoint Presentation</dc:title>
</cp:coreProperties>
</file>