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D93-6171-45F3-8073-F0B0C1A74F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ev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 a and polynomial function f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x = a is root or zero of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x = a is solution of f (x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(x - a) is factor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(a, 0) is x-intercept of graph of f 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a polynomial function contains a factor (x - a)k, then x = a is a repeated root of multiplicity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k is even, the graph touches (not crosses)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f k is odd, the graph crosses the x-axis at x =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&lt; b are two re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 f (x)is a 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 (a)  f (b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takes on every 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a) and f (b) for a  x 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f (x) be a polynomial function and a &lt; b be two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 f (a) and f (b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opposite sig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f (x) = 0 for a &lt; x &lt;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 (x) and d(x) are polynomi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(x)  0 and the degree of d(x)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or equal to the degree of f(x)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q(x) and r (x) are uni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(x) = d(x) ·q(x) + r (x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(x) = 0 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degree less than 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3 + bx2 + cx + d divided by x -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fficients of quotient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mainder is  r = f (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n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a’s are real number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’s are nonnegative integ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 f 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 f (k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Number of positive real zeros of f  equals number of variations in sign of f(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umber of negative real zeros of f equals number of variations in sign of f(-x), or less than that number by an even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’s are real numbers, an  0, and a0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-x) = -4x3 - 5x2 + 6 has one change-of-signs; thus, f(x) has one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out x; f(x) = x(4x2 - 5x + 6) = xg(x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(-x) = 4x2 + 5x + 6 has zero change-of-signs; thus, g(x) has no negative real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’s are integers, every rational zero of f  has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=  p/q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duced form, and p and q are factors of a0 and an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(x) = 4x3 - 5x2 + 6 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  {1, 2, 3, 6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  {1, 2, 4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/q  {1, 2, 3, 6,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1/2, 1/4, 3/2, 3/4}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3 - 5x2 + 6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is a polynomial with real coefficients and an &gt; 0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 (x - c), using synthetic div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f c &gt; 0 and each # in last row is either positive or zero, c is an upp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f c &lt; 0 and the #’s in the last row alternate positive and negative, c is an lower b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3x2 - 12x + 8 divided by 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6             27         -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nomial function of degree 2 is called a quadratic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b, and c are rea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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function of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standar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polynomial func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as smooth, rounded tu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r n even, both sides go sam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or n odd, sides go opposit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or a &gt; 0, right side go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For a &lt; 0, right side goe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l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 of a polynomial function for n o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Coefficient Test: n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41F-92FC-43EF-B1E6-6180B2A7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73F-6462-4677-B93F-4A7D97D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149-EE64-40B2-98AD-A51398BF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AA1-5665-4E05-9B4F-4ED8223B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512-AC64-4DBC-B868-BF316727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D89-6516-4A5B-B727-2D3036CE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B52-A85C-4D21-BA9D-AD685CA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5CB-4EBA-447F-96FC-9684ED2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A17-ADD1-46E8-915A-C8438FCA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BC9-0F3E-4DBF-8D81-F08C1FF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AD6-FAAF-46C5-84AC-80D0D8E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A84-C9FE-45AE-A7C8-C242515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6E2B-011C-4FE9-98FB-2998395DA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20" y="2133720"/>
            <a:ext cx="441936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Quadrat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2133720"/>
            <a:ext cx="4114800" cy="2819160"/>
          </a:xfrm>
          <a:prstGeom prst="rect">
            <a:avLst/>
          </a:prstGeom>
          <a:solidFill>
            <a:srgbClr val="ffddbb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5181480" y="2514600"/>
            <a:ext cx="3124440" cy="2095560"/>
          </a:xfrm>
          <a:custGeom>
            <a:avLst/>
            <a:gdLst/>
            <a:ahLst/>
            <a:rect l="l" t="t" r="r" b="b"/>
            <a:pathLst>
              <a:path w="1968" h="1320">
                <a:moveTo>
                  <a:pt x="0" y="0"/>
                </a:moveTo>
                <a:cubicBezTo>
                  <a:pt x="364" y="636"/>
                  <a:pt x="728" y="1272"/>
                  <a:pt x="1056" y="1296"/>
                </a:cubicBezTo>
                <a:cubicBezTo>
                  <a:pt x="1384" y="1320"/>
                  <a:pt x="1676" y="732"/>
                  <a:pt x="1968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010280" y="2743200"/>
            <a:ext cx="121932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68580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4876920" y="3429000"/>
            <a:ext cx="3657600" cy="2819520"/>
            <a:chOff x="4876920" y="3429000"/>
            <a:chExt cx="3657600" cy="2819520"/>
          </a:xfrm>
        </p:grpSpPr>
        <mc:AlternateContent>
          <mc:Choice xmlns:a14="http://schemas.microsoft.com/office/drawing/2010/main" Requires="a14">
            <p:sp>
              <p:nvSpPr>
                <p:cNvPr id="123" name="Object 8"/>
                <p:cNvSpPr txBox="1"/>
                <p:nvPr/>
              </p:nvSpPr>
              <p:spPr>
                <a:xfrm>
                  <a:off x="7010280" y="5373720"/>
                  <a:ext cx="152424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4" name="Group 9"/>
            <p:cNvGrpSpPr/>
            <p:nvPr/>
          </p:nvGrpSpPr>
          <p:grpSpPr>
            <a:xfrm>
              <a:off x="5943240" y="3429000"/>
              <a:ext cx="1448280" cy="1562040"/>
              <a:chOff x="5943240" y="3429000"/>
              <a:chExt cx="1448280" cy="1562040"/>
            </a:xfrm>
          </p:grpSpPr>
          <p:sp>
            <p:nvSpPr>
              <p:cNvPr id="125" name="Freeform 10"/>
              <p:cNvSpPr/>
              <p:nvPr/>
            </p:nvSpPr>
            <p:spPr>
              <a:xfrm flipV="1">
                <a:off x="6019920" y="342900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1"/>
              <p:cNvSpPr/>
              <p:nvPr/>
            </p:nvSpPr>
            <p:spPr>
              <a:xfrm>
                <a:off x="7238880" y="453420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2"/>
              <p:cNvSpPr/>
              <p:nvPr/>
            </p:nvSpPr>
            <p:spPr>
              <a:xfrm flipH="1">
                <a:off x="5943240" y="44578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13"/>
                <p:cNvSpPr txBox="1"/>
                <p:nvPr/>
              </p:nvSpPr>
              <p:spPr>
                <a:xfrm>
                  <a:off x="4876920" y="5376960"/>
                  <a:ext cx="15174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14"/>
          <p:cNvGrpSpPr/>
          <p:nvPr/>
        </p:nvGrpSpPr>
        <p:grpSpPr>
          <a:xfrm>
            <a:off x="380880" y="3733920"/>
            <a:ext cx="3530880" cy="2590200"/>
            <a:chOff x="380880" y="3733920"/>
            <a:chExt cx="3530880" cy="2590200"/>
          </a:xfrm>
        </p:grpSpPr>
        <mc:AlternateContent>
          <mc:Choice xmlns:a14="http://schemas.microsoft.com/office/drawing/2010/main" Requires="a14">
            <p:sp>
              <p:nvSpPr>
                <p:cNvPr id="130" name="Object 15"/>
                <p:cNvSpPr txBox="1"/>
                <p:nvPr/>
              </p:nvSpPr>
              <p:spPr>
                <a:xfrm>
                  <a:off x="2514600" y="3733920"/>
                  <a:ext cx="13971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Group 16"/>
            <p:cNvGrpSpPr/>
            <p:nvPr/>
          </p:nvGrpSpPr>
          <p:grpSpPr>
            <a:xfrm>
              <a:off x="1371240" y="4762080"/>
              <a:ext cx="1448280" cy="1562040"/>
              <a:chOff x="1371240" y="4762080"/>
              <a:chExt cx="1448280" cy="1562040"/>
            </a:xfrm>
          </p:grpSpPr>
          <p:sp>
            <p:nvSpPr>
              <p:cNvPr id="132" name="Freeform 17"/>
              <p:cNvSpPr/>
              <p:nvPr/>
            </p:nvSpPr>
            <p:spPr>
              <a:xfrm>
                <a:off x="1447920" y="4990680"/>
                <a:ext cx="1295280" cy="1333440"/>
              </a:xfrm>
              <a:custGeom>
                <a:avLst/>
                <a:gdLst/>
                <a:ahLst/>
                <a:rect l="l" t="t" r="r" b="b"/>
                <a:pathLst>
                  <a:path w="816" h="840">
                    <a:moveTo>
                      <a:pt x="0" y="0"/>
                    </a:moveTo>
                    <a:cubicBezTo>
                      <a:pt x="84" y="348"/>
                      <a:pt x="168" y="696"/>
                      <a:pt x="240" y="768"/>
                    </a:cubicBezTo>
                    <a:cubicBezTo>
                      <a:pt x="312" y="840"/>
                      <a:pt x="376" y="432"/>
                      <a:pt x="432" y="432"/>
                    </a:cubicBezTo>
                    <a:cubicBezTo>
                      <a:pt x="488" y="432"/>
                      <a:pt x="512" y="840"/>
                      <a:pt x="576" y="768"/>
                    </a:cubicBezTo>
                    <a:cubicBezTo>
                      <a:pt x="640" y="696"/>
                      <a:pt x="728" y="348"/>
                      <a:pt x="816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2666880" y="4762080"/>
                <a:ext cx="15264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H="1" flipV="1">
                <a:off x="1371240" y="4762080"/>
                <a:ext cx="1522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Object 20"/>
                <p:cNvSpPr txBox="1"/>
                <p:nvPr/>
              </p:nvSpPr>
              <p:spPr>
                <a:xfrm>
                  <a:off x="380880" y="3733920"/>
                  <a:ext cx="1600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llowing statements are equivalent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l numbe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polynomial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o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- 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0) i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graph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oots, Zeros, Solu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a polynomial function contains a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actor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 - 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a repeated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ot of multiplicity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eve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ouch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not crosses)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k is od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the grap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ross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x-axis a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= 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peated Roots (Zeros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two real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is a polynomial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takes on every re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value betw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termediate Value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 be a polynomial function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two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and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have opposite sig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ne positive and one negative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) = 0 for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&lt;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NOTE to Intermediate Val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a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066680" y="54864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polynomia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0 and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or equal to the degree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ar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s such that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ull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·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divis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0 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s a degree less th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hort Division Algorith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362320" y="2514240"/>
            <a:ext cx="4572000" cy="1523880"/>
            <a:chOff x="2362320" y="2514240"/>
            <a:chExt cx="4572000" cy="1523880"/>
          </a:xfrm>
        </p:grpSpPr>
        <p:sp>
          <p:nvSpPr>
            <p:cNvPr id="162" name="Line 5"/>
            <p:cNvSpPr/>
            <p:nvPr/>
          </p:nvSpPr>
          <p:spPr>
            <a:xfrm flipV="1">
              <a:off x="2362320" y="25146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3962520" y="2514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5334120" y="25146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 flipV="1">
              <a:off x="6934320" y="25142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b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x + d divided by x -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efficients of quotien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rema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opy leading coeffici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ultiply diagonally.  3. Add vertic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ynthetic Divi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54100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752480" y="20574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7238880" y="2743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429000" y="274320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7524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3505320" y="38862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410080" y="3886200"/>
            <a:ext cx="6098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1447920" y="2057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1447920" y="3505320"/>
            <a:ext cx="678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057400" y="2743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5715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75438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7"/>
          <p:cNvSpPr/>
          <p:nvPr/>
        </p:nvSpPr>
        <p:spPr>
          <a:xfrm>
            <a:off x="38098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2286000" y="32763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38480" y="32000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5943600" y="32000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1600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6172200" y="396252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s divided by x - k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emainder is  r 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emainde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 of degree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real numb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s are nonnegative integ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228600" y="2209680"/>
                <a:ext cx="8610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polynomial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 a factor (x - k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and only if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k) = 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93a5d7"/>
              </a:gs>
              <a:gs pos="50000">
                <a:srgbClr val="eeb5aa"/>
              </a:gs>
              <a:gs pos="100000">
                <a:srgbClr val="93a5d7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Factor Theore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Real Zeros of 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Number of posi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Number of negative real zero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quals number of variations in sign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(-x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or less than that number by an even inte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Descartes’s Rule of Sig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" y="105876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are real numbers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f(x) has two change-of-signs; thus, f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(-x) = -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 has one change-of-signs; thus, f(x) has one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1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1905120" y="1143000"/>
                <a:ext cx="5638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 out x; f(x) = x(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5x + 6) = xg(x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g(x) has two change-of-signs; thus, g(x) has two or zero positive real roo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(-x) = 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5x + 6 has zero change-of-signs; thus, g(x) has no negative real ro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2: Descartes’s Rule of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1523880" y="1422360"/>
                <a:ext cx="610236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’s are intege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every rational zero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s the f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tional zero =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/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reduced form,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re factors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Rational Zero Tes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28600" y="990720"/>
                <a:ext cx="86868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91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(x) = 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/q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4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2,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4}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s all possible rational roots of f(x) =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5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ample 3:  Rational Zero 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is a polynomial wit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al coeffici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x - c), us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ynthetic divis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g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each # in last row is eith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 or zer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upp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I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&lt;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 #’s in the last row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positive and 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c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ower bou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Upper and Lower Bou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2x + 8 divided by 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12          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             27         -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1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-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= -3 &lt; 0 and #’s in last row alternate positive/negative.  Thus, x = -3 is a lower bound to real roo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447920" y="2057400"/>
            <a:ext cx="6781680" cy="1447920"/>
            <a:chOff x="1447920" y="2057400"/>
            <a:chExt cx="6781680" cy="1447920"/>
          </a:xfrm>
        </p:grpSpPr>
        <p:sp>
          <p:nvSpPr>
            <p:cNvPr id="227" name="Line 4"/>
            <p:cNvSpPr/>
            <p:nvPr/>
          </p:nvSpPr>
          <p:spPr>
            <a:xfrm>
              <a:off x="144792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447920" y="350532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6"/>
          <p:cNvSpPr/>
          <p:nvPr/>
        </p:nvSpPr>
        <p:spPr>
          <a:xfrm>
            <a:off x="205740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15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209680" y="3200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3962520" y="31237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6095880" y="3200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xample 4: Upper and 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polynomial function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gree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1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re real numb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23880" y="3276720"/>
                <a:ext cx="5861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s the axis of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ymmet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530360" y="2209680"/>
                <a:ext cx="60134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055520" y="3886200"/>
                <a:ext cx="183996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8991360" cy="5638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andard for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xis of symmetry:  x = 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tex:  (h, k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7200" y="1905120"/>
                <a:ext cx="822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066680"/>
          </a:xfrm>
          <a:prstGeom prst="rect">
            <a:avLst/>
          </a:prstGeom>
          <a:gradFill rotWithShape="0">
            <a:gsLst>
              <a:gs pos="0">
                <a:srgbClr val="c29b74"/>
              </a:gs>
              <a:gs pos="50000">
                <a:srgbClr val="ffcc99"/>
              </a:gs>
              <a:gs pos="100000">
                <a:srgbClr val="c29b7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Characteristics of Parabo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5638320" y="1523880"/>
            <a:ext cx="2667240" cy="4876920"/>
            <a:chOff x="5638320" y="1523880"/>
            <a:chExt cx="2667240" cy="4876920"/>
          </a:xfrm>
        </p:grpSpPr>
        <p:sp>
          <p:nvSpPr>
            <p:cNvPr id="75" name="Freeform 4"/>
            <p:cNvSpPr/>
            <p:nvPr/>
          </p:nvSpPr>
          <p:spPr>
            <a:xfrm rot="10800000">
              <a:off x="5638320" y="3352320"/>
              <a:ext cx="2667240" cy="259092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70102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914400" y="1523880"/>
            <a:ext cx="2666880" cy="4876920"/>
            <a:chOff x="914400" y="1523880"/>
            <a:chExt cx="2666880" cy="4876920"/>
          </a:xfrm>
        </p:grpSpPr>
        <p:sp>
          <p:nvSpPr>
            <p:cNvPr id="78" name="Freeform 7"/>
            <p:cNvSpPr/>
            <p:nvPr/>
          </p:nvSpPr>
          <p:spPr>
            <a:xfrm>
              <a:off x="914400" y="1676520"/>
              <a:ext cx="2666880" cy="2590560"/>
            </a:xfrm>
            <a:custGeom>
              <a:avLst/>
              <a:gdLst/>
              <a:ahLst/>
              <a:rect l="l" t="t" r="r" b="b"/>
              <a:pathLst>
                <a:path w="1680" h="1632">
                  <a:moveTo>
                    <a:pt x="0" y="0"/>
                  </a:moveTo>
                  <a:cubicBezTo>
                    <a:pt x="268" y="816"/>
                    <a:pt x="536" y="1632"/>
                    <a:pt x="816" y="1632"/>
                  </a:cubicBezTo>
                  <a:cubicBezTo>
                    <a:pt x="1096" y="1632"/>
                    <a:pt x="1388" y="816"/>
                    <a:pt x="168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2209680" y="1523880"/>
              <a:ext cx="0" cy="4876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685800" y="5800680"/>
                <a:ext cx="35812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5486400" y="1447920"/>
                <a:ext cx="3581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ymmet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11"/>
          <p:cNvSpPr/>
          <p:nvPr/>
        </p:nvSpPr>
        <p:spPr>
          <a:xfrm>
            <a:off x="15238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g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324480" y="5759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&lt;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838080" y="4159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in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562720" y="2787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tex: maxim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2133720"/>
            <a:ext cx="8915400" cy="2819160"/>
          </a:xfrm>
          <a:prstGeom prst="rect">
            <a:avLst/>
          </a:prstGeom>
          <a:solidFill>
            <a:srgbClr val="ffcc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igher Degree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003320" y="5270400"/>
            <a:ext cx="7454880" cy="158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1143000" y="5499000"/>
            <a:ext cx="7058160" cy="1282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c29b4e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676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PRECALCULUS 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of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nomial func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Ha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mooth, rounded tur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ev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both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e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od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sides go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posite 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g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F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&lt; 0, 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de goe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3005280"/>
            <a:ext cx="2997360" cy="3471840"/>
            <a:chOff x="609480" y="3005280"/>
            <a:chExt cx="2997360" cy="3471840"/>
          </a:xfrm>
        </p:grpSpPr>
        <mc:AlternateContent>
          <mc:Choice xmlns:a14="http://schemas.microsoft.com/office/drawing/2010/main" Requires="a14">
            <p:sp>
              <p:nvSpPr>
                <p:cNvPr id="97" name="Object 4"/>
                <p:cNvSpPr txBox="1"/>
                <p:nvPr/>
              </p:nvSpPr>
              <p:spPr>
                <a:xfrm>
                  <a:off x="2209680" y="3005280"/>
                  <a:ext cx="139716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Group 5"/>
            <p:cNvGrpSpPr/>
            <p:nvPr/>
          </p:nvGrpSpPr>
          <p:grpSpPr>
            <a:xfrm>
              <a:off x="1599840" y="3915000"/>
              <a:ext cx="1371960" cy="1600200"/>
              <a:chOff x="1599840" y="3915000"/>
              <a:chExt cx="1371960" cy="160020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1676160" y="414360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7"/>
              <p:cNvSpPr/>
              <p:nvPr/>
            </p:nvSpPr>
            <p:spPr>
              <a:xfrm flipV="1">
                <a:off x="2895480" y="391500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8"/>
              <p:cNvSpPr/>
              <p:nvPr/>
            </p:nvSpPr>
            <p:spPr>
              <a:xfrm flipH="1">
                <a:off x="1599840" y="521028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2" name="Object 9"/>
                <p:cNvSpPr txBox="1"/>
                <p:nvPr/>
              </p:nvSpPr>
              <p:spPr>
                <a:xfrm>
                  <a:off x="609480" y="5515200"/>
                  <a:ext cx="167652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10"/>
          <p:cNvSpPr/>
          <p:nvPr/>
        </p:nvSpPr>
        <p:spPr>
          <a:xfrm>
            <a:off x="7391520" y="2743200"/>
            <a:ext cx="121896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5562720" y="2954160"/>
            <a:ext cx="2819160" cy="3435480"/>
            <a:chOff x="5562720" y="2954160"/>
            <a:chExt cx="2819160" cy="3435480"/>
          </a:xfrm>
        </p:grpSpPr>
        <p:grpSp>
          <p:nvGrpSpPr>
            <p:cNvPr id="105" name="Group 12"/>
            <p:cNvGrpSpPr/>
            <p:nvPr/>
          </p:nvGrpSpPr>
          <p:grpSpPr>
            <a:xfrm>
              <a:off x="6400800" y="3833640"/>
              <a:ext cx="1371960" cy="1600200"/>
              <a:chOff x="6400800" y="3833640"/>
              <a:chExt cx="1371960" cy="1600200"/>
            </a:xfrm>
          </p:grpSpPr>
          <p:sp>
            <p:nvSpPr>
              <p:cNvPr id="106" name="Freeform 13"/>
              <p:cNvSpPr/>
              <p:nvPr/>
            </p:nvSpPr>
            <p:spPr>
              <a:xfrm flipH="1">
                <a:off x="6476760" y="406224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768" h="720">
                    <a:moveTo>
                      <a:pt x="0" y="720"/>
                    </a:moveTo>
                    <a:cubicBezTo>
                      <a:pt x="72" y="424"/>
                      <a:pt x="144" y="128"/>
                      <a:pt x="240" y="96"/>
                    </a:cubicBezTo>
                    <a:cubicBezTo>
                      <a:pt x="336" y="64"/>
                      <a:pt x="488" y="544"/>
                      <a:pt x="576" y="528"/>
                    </a:cubicBezTo>
                    <a:cubicBezTo>
                      <a:pt x="664" y="512"/>
                      <a:pt x="716" y="256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4"/>
              <p:cNvSpPr/>
              <p:nvPr/>
            </p:nvSpPr>
            <p:spPr>
              <a:xfrm flipH="1" flipV="1">
                <a:off x="6400800" y="3833640"/>
                <a:ext cx="76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5"/>
              <p:cNvSpPr/>
              <p:nvPr/>
            </p:nvSpPr>
            <p:spPr>
              <a:xfrm>
                <a:off x="7696800" y="5128920"/>
                <a:ext cx="759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9" name="Object 16"/>
                <p:cNvSpPr txBox="1"/>
                <p:nvPr/>
              </p:nvSpPr>
              <p:spPr>
                <a:xfrm>
                  <a:off x="5562720" y="2954160"/>
                  <a:ext cx="152388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17"/>
                <p:cNvSpPr txBox="1"/>
                <p:nvPr/>
              </p:nvSpPr>
              <p:spPr>
                <a:xfrm>
                  <a:off x="6858000" y="5514840"/>
                  <a:ext cx="15238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s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Rectangle 18"/>
          <p:cNvSpPr/>
          <p:nvPr/>
        </p:nvSpPr>
        <p:spPr>
          <a:xfrm>
            <a:off x="0" y="762120"/>
            <a:ext cx="9144000" cy="16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s of a polynomial function 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609480" y="685800"/>
                <a:ext cx="7772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⋅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7621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9876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ading Coefficient Test: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n o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33520" y="2773440"/>
            <a:ext cx="1295280" cy="64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4495680" y="2666880"/>
            <a:ext cx="0" cy="381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7T03:32:58Z</dcterms:created>
  <dc:creator>Dr. Claude S. Moore</dc:creator>
  <dc:description/>
  <dc:language>en-US</dc:language>
  <cp:lastModifiedBy>LEGION</cp:lastModifiedBy>
  <dcterms:modified xsi:type="dcterms:W3CDTF">2017-07-06T06:38:51Z</dcterms:modified>
  <cp:revision>8</cp:revision>
  <dc:subject/>
  <dc:title> </dc:title>
</cp:coreProperties>
</file>