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EE92-06DB-4AE2-9F54-905C7B188EE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0EA7-408A-40B8-A17D-0DE54866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7E7-2FFA-4A32-B694-CB0D5425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1FBB-76A9-40CC-8111-C01C715F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CA91-C406-4FE8-AC99-A0E982CA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525-533C-4B55-9410-7E73CD47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999-ABF3-427E-950B-8250E9F7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306B-533A-4698-8B66-DE6B293E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B057-BA6C-40C5-86FF-11C43086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2A87-8A91-4219-BFE1-E025B8D8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C1B-C7E0-449C-86A0-B38D204B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64E7-86E2-4052-85B1-6944D11E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7686-1840-48E4-B028-807C4BDE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EDCF-BE1E-447F-A49C-063F08027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6320" y="2133720"/>
            <a:ext cx="441936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800600" y="2133720"/>
            <a:ext cx="4114800" cy="2819160"/>
          </a:xfrm>
          <a:prstGeom prst="rect">
            <a:avLst/>
          </a:prstGeom>
          <a:solidFill>
            <a:srgbClr val="ffddbb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5181480" y="2514600"/>
            <a:ext cx="3124440" cy="2095560"/>
          </a:xfrm>
          <a:custGeom>
            <a:avLst/>
            <a:gdLst/>
            <a:ahLst/>
            <a:rect l="l" t="t" r="r" b="b"/>
            <a:pathLst>
              <a:path w="1968" h="1320">
                <a:moveTo>
                  <a:pt x="0" y="0"/>
                </a:moveTo>
                <a:cubicBezTo>
                  <a:pt x="364" y="636"/>
                  <a:pt x="728" y="1272"/>
                  <a:pt x="1056" y="1296"/>
                </a:cubicBezTo>
                <a:cubicBezTo>
                  <a:pt x="1384" y="1320"/>
                  <a:pt x="1676" y="732"/>
                  <a:pt x="1968" y="144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7010280" y="2743200"/>
            <a:ext cx="121932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5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Text Box 6"/>
          <p:cNvSpPr/>
          <p:nvPr/>
        </p:nvSpPr>
        <p:spPr>
          <a:xfrm>
            <a:off x="68580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7"/>
          <p:cNvGrpSpPr/>
          <p:nvPr/>
        </p:nvGrpSpPr>
        <p:grpSpPr>
          <a:xfrm>
            <a:off x="4876920" y="3429000"/>
            <a:ext cx="3657600" cy="2819520"/>
            <a:chOff x="4876920" y="3429000"/>
            <a:chExt cx="3657600" cy="2819520"/>
          </a:xfrm>
        </p:grpSpPr>
        <mc:AlternateContent>
          <mc:Choice xmlns:a14="http://schemas.microsoft.com/office/drawing/2010/main" Requires="a14">
            <p:sp>
              <p:nvSpPr>
                <p:cNvPr id="123" name="Object 8"/>
                <p:cNvSpPr txBox="1"/>
                <p:nvPr/>
              </p:nvSpPr>
              <p:spPr>
                <a:xfrm>
                  <a:off x="7010280" y="5373720"/>
                  <a:ext cx="152424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4" name="Group 9"/>
            <p:cNvGrpSpPr/>
            <p:nvPr/>
          </p:nvGrpSpPr>
          <p:grpSpPr>
            <a:xfrm>
              <a:off x="5943240" y="3429000"/>
              <a:ext cx="1448280" cy="1562040"/>
              <a:chOff x="5943240" y="3429000"/>
              <a:chExt cx="1448280" cy="1562040"/>
            </a:xfrm>
          </p:grpSpPr>
          <p:sp>
            <p:nvSpPr>
              <p:cNvPr id="125" name="Freeform 10"/>
              <p:cNvSpPr/>
              <p:nvPr/>
            </p:nvSpPr>
            <p:spPr>
              <a:xfrm flipV="1">
                <a:off x="6019920" y="342900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1"/>
              <p:cNvSpPr/>
              <p:nvPr/>
            </p:nvSpPr>
            <p:spPr>
              <a:xfrm>
                <a:off x="7238880" y="453420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2"/>
              <p:cNvSpPr/>
              <p:nvPr/>
            </p:nvSpPr>
            <p:spPr>
              <a:xfrm flipH="1">
                <a:off x="5943240" y="44578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8" name="Object 13"/>
                <p:cNvSpPr txBox="1"/>
                <p:nvPr/>
              </p:nvSpPr>
              <p:spPr>
                <a:xfrm>
                  <a:off x="4876920" y="5376960"/>
                  <a:ext cx="151740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Group 14"/>
          <p:cNvGrpSpPr/>
          <p:nvPr/>
        </p:nvGrpSpPr>
        <p:grpSpPr>
          <a:xfrm>
            <a:off x="380880" y="3733920"/>
            <a:ext cx="3530880" cy="2590200"/>
            <a:chOff x="380880" y="3733920"/>
            <a:chExt cx="3530880" cy="2590200"/>
          </a:xfrm>
        </p:grpSpPr>
        <mc:AlternateContent>
          <mc:Choice xmlns:a14="http://schemas.microsoft.com/office/drawing/2010/main" Requires="a14">
            <p:sp>
              <p:nvSpPr>
                <p:cNvPr id="130" name="Object 15"/>
                <p:cNvSpPr txBox="1"/>
                <p:nvPr/>
              </p:nvSpPr>
              <p:spPr>
                <a:xfrm>
                  <a:off x="2514600" y="3733920"/>
                  <a:ext cx="139716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31" name="Group 16"/>
            <p:cNvGrpSpPr/>
            <p:nvPr/>
          </p:nvGrpSpPr>
          <p:grpSpPr>
            <a:xfrm>
              <a:off x="1371240" y="4762080"/>
              <a:ext cx="1448280" cy="1562040"/>
              <a:chOff x="1371240" y="4762080"/>
              <a:chExt cx="1448280" cy="1562040"/>
            </a:xfrm>
          </p:grpSpPr>
          <p:sp>
            <p:nvSpPr>
              <p:cNvPr id="132" name="Freeform 17"/>
              <p:cNvSpPr/>
              <p:nvPr/>
            </p:nvSpPr>
            <p:spPr>
              <a:xfrm>
                <a:off x="1447920" y="499068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18"/>
              <p:cNvSpPr/>
              <p:nvPr/>
            </p:nvSpPr>
            <p:spPr>
              <a:xfrm flipV="1">
                <a:off x="2666880" y="476208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19"/>
              <p:cNvSpPr/>
              <p:nvPr/>
            </p:nvSpPr>
            <p:spPr>
              <a:xfrm flipH="1" flipV="1">
                <a:off x="1371240" y="47620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5" name="Object 20"/>
                <p:cNvSpPr txBox="1"/>
                <p:nvPr/>
              </p:nvSpPr>
              <p:spPr>
                <a:xfrm>
                  <a:off x="380880" y="3733920"/>
                  <a:ext cx="16002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ev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l numbe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polynomial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oo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= 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-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act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0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x-intercep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graph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If a polynomial function contains a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actor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 - 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a repeated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root of multiplicity 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eve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ouch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not crosses)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od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ross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two real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is a polynomial f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takes on every re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be a polynomial function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 two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and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have opposite sign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= 0 for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1066680" y="54864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polynomia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0 and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 than or equal to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uniqu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2362320" y="2514240"/>
            <a:ext cx="4572000" cy="1523880"/>
            <a:chOff x="2362320" y="2514240"/>
            <a:chExt cx="4572000" cy="1523880"/>
          </a:xfrm>
        </p:grpSpPr>
        <p:sp>
          <p:nvSpPr>
            <p:cNvPr id="162" name="Line 5"/>
            <p:cNvSpPr/>
            <p:nvPr/>
          </p:nvSpPr>
          <p:spPr>
            <a:xfrm flipV="1">
              <a:off x="2362320" y="25146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 flipV="1">
              <a:off x="3962520" y="25146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 flipV="1">
              <a:off x="5334120" y="251460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 flipV="1">
              <a:off x="6934320" y="251424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cx + d divided by x - 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efficients of quotien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remai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54100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752480" y="20574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72388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429000" y="274320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72388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17524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3505320" y="3886200"/>
            <a:ext cx="6094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4100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1447920" y="20574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1447920" y="3505320"/>
            <a:ext cx="678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2057400" y="2743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57150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75438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7"/>
          <p:cNvSpPr/>
          <p:nvPr/>
        </p:nvSpPr>
        <p:spPr>
          <a:xfrm>
            <a:off x="38098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8"/>
          <p:cNvSpPr/>
          <p:nvPr/>
        </p:nvSpPr>
        <p:spPr>
          <a:xfrm flipV="1">
            <a:off x="2286000" y="327636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 flipV="1">
            <a:off x="4038480" y="32000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5943600" y="320004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1"/>
          <p:cNvSpPr/>
          <p:nvPr/>
        </p:nvSpPr>
        <p:spPr>
          <a:xfrm>
            <a:off x="1600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2"/>
          <p:cNvSpPr/>
          <p:nvPr/>
        </p:nvSpPr>
        <p:spPr>
          <a:xfrm>
            <a:off x="6172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remainder is  r =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 of degree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real numb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nonnegative integ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228600" y="2209680"/>
                <a:ext cx="86104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nd only if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 = 0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52280" y="2133720"/>
            <a:ext cx="883944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Number of posi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Number of nega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-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228600" y="105876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f(-x) = -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6 has one change-of-signs; thus, f(x) has one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1905120" y="1143000"/>
                <a:ext cx="5638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tor out x; f(x) = x(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 + 6) = xg(x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g(-x) = 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5x + 6 has zero change-of-signs; thus, g(x) has no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5"/>
              <p:cNvSpPr txBox="1"/>
              <p:nvPr/>
            </p:nvSpPr>
            <p:spPr>
              <a:xfrm>
                <a:off x="1523880" y="1422360"/>
                <a:ext cx="610236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’s are integer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every rational zero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s the for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ational zero =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/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duced form,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re factors o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228600" y="99072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(x) = 4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/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4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4}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is a polynomial wit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al coefficient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x - c), usin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ynthetic divis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each # in last row is eithe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sitive or zer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upp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l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the #’s in the last row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lternate positive and nega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ow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2x + 8 divided by x 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             27         -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447920" y="2057400"/>
            <a:ext cx="6781680" cy="1447920"/>
            <a:chOff x="1447920" y="2057400"/>
            <a:chExt cx="6781680" cy="1447920"/>
          </a:xfrm>
        </p:grpSpPr>
        <p:sp>
          <p:nvSpPr>
            <p:cNvPr id="227" name="Line 4"/>
            <p:cNvSpPr/>
            <p:nvPr/>
          </p:nvSpPr>
          <p:spPr>
            <a:xfrm>
              <a:off x="1447920" y="20574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447920" y="350532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Line 6"/>
          <p:cNvSpPr/>
          <p:nvPr/>
        </p:nvSpPr>
        <p:spPr>
          <a:xfrm>
            <a:off x="2057400" y="2590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57150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75438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2209680" y="32004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1"/>
          <p:cNvSpPr/>
          <p:nvPr/>
        </p:nvSpPr>
        <p:spPr>
          <a:xfrm flipV="1">
            <a:off x="3962520" y="31237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 flipV="1">
            <a:off x="6095880" y="32004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143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9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polynomial function of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gree 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real number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1523880" y="3276720"/>
                <a:ext cx="5861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530360" y="2209680"/>
                <a:ext cx="601344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1055520" y="3886200"/>
                <a:ext cx="183996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andard for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457200" y="1905120"/>
                <a:ext cx="82296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h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c29b74"/>
              </a:gs>
              <a:gs pos="50000">
                <a:srgbClr val="ffcc99"/>
              </a:gs>
              <a:gs pos="100000">
                <a:srgbClr val="c29b7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5638320" y="1523880"/>
            <a:ext cx="2667240" cy="4876920"/>
            <a:chOff x="5638320" y="1523880"/>
            <a:chExt cx="2667240" cy="4876920"/>
          </a:xfrm>
        </p:grpSpPr>
        <p:sp>
          <p:nvSpPr>
            <p:cNvPr id="75" name="Freeform 4"/>
            <p:cNvSpPr/>
            <p:nvPr/>
          </p:nvSpPr>
          <p:spPr>
            <a:xfrm rot="10800000">
              <a:off x="5638320" y="3352320"/>
              <a:ext cx="2667240" cy="259092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5"/>
            <p:cNvSpPr/>
            <p:nvPr/>
          </p:nvSpPr>
          <p:spPr>
            <a:xfrm>
              <a:off x="70102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6"/>
          <p:cNvGrpSpPr/>
          <p:nvPr/>
        </p:nvGrpSpPr>
        <p:grpSpPr>
          <a:xfrm>
            <a:off x="914400" y="1523880"/>
            <a:ext cx="2666880" cy="4876920"/>
            <a:chOff x="914400" y="1523880"/>
            <a:chExt cx="2666880" cy="4876920"/>
          </a:xfrm>
        </p:grpSpPr>
        <p:sp>
          <p:nvSpPr>
            <p:cNvPr id="78" name="Freeform 7"/>
            <p:cNvSpPr/>
            <p:nvPr/>
          </p:nvSpPr>
          <p:spPr>
            <a:xfrm>
              <a:off x="914400" y="1676520"/>
              <a:ext cx="2666880" cy="259056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22096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685800" y="5800680"/>
                <a:ext cx="35812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5486400" y="1447920"/>
                <a:ext cx="35812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 Box 11"/>
          <p:cNvSpPr/>
          <p:nvPr/>
        </p:nvSpPr>
        <p:spPr>
          <a:xfrm>
            <a:off x="1523880" y="1295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324480" y="5759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838080" y="4159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562720" y="2787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of 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Ha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mooth, rounded tur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ev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both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e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od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posite wa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g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l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609480" y="3005280"/>
            <a:ext cx="2997360" cy="3471840"/>
            <a:chOff x="609480" y="3005280"/>
            <a:chExt cx="2997360" cy="3471840"/>
          </a:xfrm>
        </p:grpSpPr>
        <mc:AlternateContent>
          <mc:Choice xmlns:a14="http://schemas.microsoft.com/office/drawing/2010/main" Requires="a14">
            <p:sp>
              <p:nvSpPr>
                <p:cNvPr id="97" name="Object 4"/>
                <p:cNvSpPr txBox="1"/>
                <p:nvPr/>
              </p:nvSpPr>
              <p:spPr>
                <a:xfrm>
                  <a:off x="2209680" y="3005280"/>
                  <a:ext cx="1397160" cy="90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98" name="Group 5"/>
            <p:cNvGrpSpPr/>
            <p:nvPr/>
          </p:nvGrpSpPr>
          <p:grpSpPr>
            <a:xfrm>
              <a:off x="1599840" y="3915000"/>
              <a:ext cx="1371960" cy="1600200"/>
              <a:chOff x="1599840" y="3915000"/>
              <a:chExt cx="1371960" cy="1600200"/>
            </a:xfrm>
          </p:grpSpPr>
          <p:sp>
            <p:nvSpPr>
              <p:cNvPr id="99" name="Freeform 6"/>
              <p:cNvSpPr/>
              <p:nvPr/>
            </p:nvSpPr>
            <p:spPr>
              <a:xfrm>
                <a:off x="1676160" y="414360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7"/>
              <p:cNvSpPr/>
              <p:nvPr/>
            </p:nvSpPr>
            <p:spPr>
              <a:xfrm flipV="1">
                <a:off x="2895480" y="391500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8"/>
              <p:cNvSpPr/>
              <p:nvPr/>
            </p:nvSpPr>
            <p:spPr>
              <a:xfrm flipH="1">
                <a:off x="1599840" y="521028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2" name="Object 9"/>
                <p:cNvSpPr txBox="1"/>
                <p:nvPr/>
              </p:nvSpPr>
              <p:spPr>
                <a:xfrm>
                  <a:off x="609480" y="5515200"/>
                  <a:ext cx="167652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10"/>
          <p:cNvSpPr/>
          <p:nvPr/>
        </p:nvSpPr>
        <p:spPr>
          <a:xfrm>
            <a:off x="7391520" y="2743200"/>
            <a:ext cx="121896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5562720" y="2954160"/>
            <a:ext cx="2819160" cy="3435480"/>
            <a:chOff x="5562720" y="2954160"/>
            <a:chExt cx="2819160" cy="3435480"/>
          </a:xfrm>
        </p:grpSpPr>
        <p:grpSp>
          <p:nvGrpSpPr>
            <p:cNvPr id="105" name="Group 12"/>
            <p:cNvGrpSpPr/>
            <p:nvPr/>
          </p:nvGrpSpPr>
          <p:grpSpPr>
            <a:xfrm>
              <a:off x="6400800" y="3833640"/>
              <a:ext cx="1371960" cy="1600200"/>
              <a:chOff x="6400800" y="3833640"/>
              <a:chExt cx="1371960" cy="1600200"/>
            </a:xfrm>
          </p:grpSpPr>
          <p:sp>
            <p:nvSpPr>
              <p:cNvPr id="106" name="Freeform 13"/>
              <p:cNvSpPr/>
              <p:nvPr/>
            </p:nvSpPr>
            <p:spPr>
              <a:xfrm flipH="1">
                <a:off x="6476760" y="406224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4"/>
              <p:cNvSpPr/>
              <p:nvPr/>
            </p:nvSpPr>
            <p:spPr>
              <a:xfrm flipH="1" flipV="1">
                <a:off x="6400800" y="383364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5"/>
              <p:cNvSpPr/>
              <p:nvPr/>
            </p:nvSpPr>
            <p:spPr>
              <a:xfrm>
                <a:off x="7696800" y="512892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9" name="Object 16"/>
                <p:cNvSpPr txBox="1"/>
                <p:nvPr/>
              </p:nvSpPr>
              <p:spPr>
                <a:xfrm>
                  <a:off x="5562720" y="2954160"/>
                  <a:ext cx="1523880" cy="90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Object 17"/>
                <p:cNvSpPr txBox="1"/>
                <p:nvPr/>
              </p:nvSpPr>
              <p:spPr>
                <a:xfrm>
                  <a:off x="6858000" y="5514840"/>
                  <a:ext cx="152388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" name="Rectangle 18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od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9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od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3352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7T03:32:58Z</dcterms:created>
  <dc:creator>Dr. Claude S. Moore</dc:creator>
  <dc:description/>
  <dc:language>en-US</dc:language>
  <cp:lastModifiedBy>LEGION</cp:lastModifiedBy>
  <dcterms:modified xsi:type="dcterms:W3CDTF">2017-07-06T06:38:51Z</dcterms:modified>
  <cp:revision>8</cp:revision>
  <dc:subject/>
  <dc:title> </dc:title>
</cp:coreProperties>
</file>