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9DFB-5726-4ED1-B370-99B056635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27B-168C-4C79-B951-A095CFB8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493B-D741-45D0-A330-EBC3ABA2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29A-4E64-42BD-BAFA-3C90DCB7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A213-73CE-4721-A0C6-990CFD8F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EBF3-467A-4453-9590-169C0746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CF5F-4B0F-4055-9674-1F73FA8B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FF52-8ECE-40D3-9436-94ADF9F1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27BD-C241-4E83-BDF6-9088A79A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9CD7-762F-491B-8B56-2E75E6A2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D4BB-6A18-49DF-9B2A-EDF98DF9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BEBF-CC9F-483E-A057-07A886ED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F5A4-D32F-49A0-88BD-2375AC09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BC2B-5F2D-46F0-A169-784F9734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C199-1DCC-4CEE-8D6E-DFFE0852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F817-5DC6-4FBC-B4DA-5B60AD2A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CED0-B43A-407E-9474-F2301F54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8C9A-2EA4-4645-AA80-F1BBBE00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AFA-E6AE-4D34-8D7C-05B65BE3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2E7-69A9-4B92-A63E-CDC12E4A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8B9-F86A-4ADA-A97B-E55FDE49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432-F88C-4E58-9F26-96A7E6DA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D1F6-D013-4C98-A654-85EA855E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CF14-0F7C-44FE-8B10-C2361FEA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64C-D2CB-46EE-BF18-0FE17FE9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2C98-F133-479B-BC98-BA69928E6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F0A8-C889-4BCF-8A87-AC6E171E201E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c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roperties of Function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600" y="47239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45" name="Group 93"/>
          <p:cNvGrpSpPr/>
          <p:nvPr/>
        </p:nvGrpSpPr>
        <p:grpSpPr>
          <a:xfrm>
            <a:off x="1219320" y="1447920"/>
            <a:ext cx="6248160" cy="3504960"/>
            <a:chOff x="1219320" y="1447920"/>
            <a:chExt cx="6248160" cy="3504960"/>
          </a:xfrm>
        </p:grpSpPr>
        <p:sp>
          <p:nvSpPr>
            <p:cNvPr id="146" name="Line 10"/>
            <p:cNvSpPr/>
            <p:nvPr/>
          </p:nvSpPr>
          <p:spPr>
            <a:xfrm>
              <a:off x="1219320" y="3124080"/>
              <a:ext cx="624816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4267080" y="1447920"/>
              <a:ext cx="0" cy="3504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114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3962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Line 15"/>
            <p:cNvSpPr/>
            <p:nvPr/>
          </p:nvSpPr>
          <p:spPr>
            <a:xfrm>
              <a:off x="3809880" y="3124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>
              <a:off x="3809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>
              <a:off x="3657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>
              <a:off x="3505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Line 28"/>
            <p:cNvSpPr/>
            <p:nvPr/>
          </p:nvSpPr>
          <p:spPr>
            <a:xfrm>
              <a:off x="335268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Line 29"/>
            <p:cNvSpPr/>
            <p:nvPr/>
          </p:nvSpPr>
          <p:spPr>
            <a:xfrm>
              <a:off x="3352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Line 30"/>
            <p:cNvSpPr/>
            <p:nvPr/>
          </p:nvSpPr>
          <p:spPr>
            <a:xfrm>
              <a:off x="3200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Line 31"/>
            <p:cNvSpPr/>
            <p:nvPr/>
          </p:nvSpPr>
          <p:spPr>
            <a:xfrm>
              <a:off x="30481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Line 33"/>
            <p:cNvSpPr/>
            <p:nvPr/>
          </p:nvSpPr>
          <p:spPr>
            <a:xfrm>
              <a:off x="30481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Line 34"/>
            <p:cNvSpPr/>
            <p:nvPr/>
          </p:nvSpPr>
          <p:spPr>
            <a:xfrm>
              <a:off x="28954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>
              <a:off x="27432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Line 36"/>
            <p:cNvSpPr/>
            <p:nvPr/>
          </p:nvSpPr>
          <p:spPr>
            <a:xfrm>
              <a:off x="25909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>
              <a:off x="2590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Text Box 38"/>
            <p:cNvSpPr/>
            <p:nvPr/>
          </p:nvSpPr>
          <p:spPr>
            <a:xfrm>
              <a:off x="2590920" y="3124080"/>
              <a:ext cx="64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Text Box 39"/>
            <p:cNvSpPr/>
            <p:nvPr/>
          </p:nvSpPr>
          <p:spPr>
            <a:xfrm>
              <a:off x="3375000" y="3124080"/>
              <a:ext cx="51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5" name="Text Box 40"/>
            <p:cNvSpPr/>
            <p:nvPr/>
          </p:nvSpPr>
          <p:spPr>
            <a:xfrm>
              <a:off x="4191120" y="3124080"/>
              <a:ext cx="609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(0,0)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Line 42"/>
            <p:cNvSpPr/>
            <p:nvPr/>
          </p:nvSpPr>
          <p:spPr>
            <a:xfrm>
              <a:off x="4343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Line 43"/>
            <p:cNvSpPr/>
            <p:nvPr/>
          </p:nvSpPr>
          <p:spPr>
            <a:xfrm>
              <a:off x="4495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4648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4800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4952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5105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Line 51"/>
            <p:cNvSpPr/>
            <p:nvPr/>
          </p:nvSpPr>
          <p:spPr>
            <a:xfrm>
              <a:off x="5257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Line 54"/>
            <p:cNvSpPr/>
            <p:nvPr/>
          </p:nvSpPr>
          <p:spPr>
            <a:xfrm>
              <a:off x="54100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55627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Line 57"/>
            <p:cNvSpPr/>
            <p:nvPr/>
          </p:nvSpPr>
          <p:spPr>
            <a:xfrm>
              <a:off x="57150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Text Box 58"/>
            <p:cNvSpPr/>
            <p:nvPr/>
          </p:nvSpPr>
          <p:spPr>
            <a:xfrm>
              <a:off x="4952880" y="3124080"/>
              <a:ext cx="412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Line 60"/>
            <p:cNvSpPr/>
            <p:nvPr/>
          </p:nvSpPr>
          <p:spPr>
            <a:xfrm>
              <a:off x="58672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Line 61"/>
            <p:cNvSpPr/>
            <p:nvPr/>
          </p:nvSpPr>
          <p:spPr>
            <a:xfrm>
              <a:off x="6019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Text Box 62"/>
            <p:cNvSpPr/>
            <p:nvPr/>
          </p:nvSpPr>
          <p:spPr>
            <a:xfrm>
              <a:off x="5715000" y="3124080"/>
              <a:ext cx="663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Line 63"/>
            <p:cNvSpPr/>
            <p:nvPr/>
          </p:nvSpPr>
          <p:spPr>
            <a:xfrm flipH="1">
              <a:off x="4267080" y="2971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Line 64"/>
            <p:cNvSpPr/>
            <p:nvPr/>
          </p:nvSpPr>
          <p:spPr>
            <a:xfrm flipH="1">
              <a:off x="4267080" y="2819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Line 65"/>
            <p:cNvSpPr/>
            <p:nvPr/>
          </p:nvSpPr>
          <p:spPr>
            <a:xfrm flipH="1">
              <a:off x="4267080" y="2666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Line 66"/>
            <p:cNvSpPr/>
            <p:nvPr/>
          </p:nvSpPr>
          <p:spPr>
            <a:xfrm flipH="1">
              <a:off x="4267080" y="2514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Line 67"/>
            <p:cNvSpPr/>
            <p:nvPr/>
          </p:nvSpPr>
          <p:spPr>
            <a:xfrm flipH="1">
              <a:off x="4267080" y="2362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Line 69"/>
            <p:cNvSpPr/>
            <p:nvPr/>
          </p:nvSpPr>
          <p:spPr>
            <a:xfrm>
              <a:off x="4267080" y="3200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Line 70"/>
            <p:cNvSpPr/>
            <p:nvPr/>
          </p:nvSpPr>
          <p:spPr>
            <a:xfrm>
              <a:off x="4267080" y="3352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Line 71"/>
            <p:cNvSpPr/>
            <p:nvPr/>
          </p:nvSpPr>
          <p:spPr>
            <a:xfrm flipH="1">
              <a:off x="4267080" y="3505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Line 72"/>
            <p:cNvSpPr/>
            <p:nvPr/>
          </p:nvSpPr>
          <p:spPr>
            <a:xfrm>
              <a:off x="4343400" y="36576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9" name="Line 73"/>
            <p:cNvSpPr/>
            <p:nvPr/>
          </p:nvSpPr>
          <p:spPr>
            <a:xfrm flipH="1">
              <a:off x="4267080" y="3657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0" name="Line 76"/>
            <p:cNvSpPr/>
            <p:nvPr/>
          </p:nvSpPr>
          <p:spPr>
            <a:xfrm flipH="1">
              <a:off x="4267080" y="3809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1" name="Line 79"/>
            <p:cNvSpPr/>
            <p:nvPr/>
          </p:nvSpPr>
          <p:spPr>
            <a:xfrm flipH="1">
              <a:off x="4267080" y="3962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2" name="Line 80"/>
            <p:cNvSpPr/>
            <p:nvPr/>
          </p:nvSpPr>
          <p:spPr>
            <a:xfrm flipH="1">
              <a:off x="4267080" y="4114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3" name="Line 81"/>
            <p:cNvSpPr/>
            <p:nvPr/>
          </p:nvSpPr>
          <p:spPr>
            <a:xfrm flipH="1">
              <a:off x="4267080" y="4267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4" name="Line 83"/>
            <p:cNvSpPr/>
            <p:nvPr/>
          </p:nvSpPr>
          <p:spPr>
            <a:xfrm flipH="1">
              <a:off x="4267080" y="44197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5" name="Line 84"/>
            <p:cNvSpPr/>
            <p:nvPr/>
          </p:nvSpPr>
          <p:spPr>
            <a:xfrm>
              <a:off x="4343400" y="45720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6" name="Line 85"/>
            <p:cNvSpPr/>
            <p:nvPr/>
          </p:nvSpPr>
          <p:spPr>
            <a:xfrm flipH="1">
              <a:off x="4267080" y="45720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7" name="Line 86"/>
            <p:cNvSpPr/>
            <p:nvPr/>
          </p:nvSpPr>
          <p:spPr>
            <a:xfrm flipH="1">
              <a:off x="4267080" y="2209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8" name="Line 88"/>
            <p:cNvSpPr/>
            <p:nvPr/>
          </p:nvSpPr>
          <p:spPr>
            <a:xfrm flipH="1">
              <a:off x="4267080" y="2057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9" name="Line 89"/>
            <p:cNvSpPr/>
            <p:nvPr/>
          </p:nvSpPr>
          <p:spPr>
            <a:xfrm flipH="1">
              <a:off x="4267080" y="19051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0" name="Line 90"/>
            <p:cNvSpPr/>
            <p:nvPr/>
          </p:nvSpPr>
          <p:spPr>
            <a:xfrm flipH="1">
              <a:off x="4267080" y="17524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01" name="Text Box 105"/>
          <p:cNvSpPr/>
          <p:nvPr/>
        </p:nvSpPr>
        <p:spPr>
          <a:xfrm>
            <a:off x="2819520" y="3505320"/>
            <a:ext cx="66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8,-4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Text Box 106"/>
          <p:cNvSpPr/>
          <p:nvPr/>
        </p:nvSpPr>
        <p:spPr>
          <a:xfrm>
            <a:off x="3733920" y="198108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2 6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Text Box 107"/>
          <p:cNvSpPr/>
          <p:nvPr/>
        </p:nvSpPr>
        <p:spPr>
          <a:xfrm>
            <a:off x="4419720" y="1447920"/>
            <a:ext cx="85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2,1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Text Box 108"/>
          <p:cNvSpPr/>
          <p:nvPr/>
        </p:nvSpPr>
        <p:spPr>
          <a:xfrm>
            <a:off x="4952880" y="2666880"/>
            <a:ext cx="10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5,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Text Box 109"/>
          <p:cNvSpPr/>
          <p:nvPr/>
        </p:nvSpPr>
        <p:spPr>
          <a:xfrm>
            <a:off x="152280" y="38862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14"/>
              <p:cNvSpPr txBox="1"/>
              <p:nvPr/>
            </p:nvSpPr>
            <p:spPr>
              <a:xfrm>
                <a:off x="3276720" y="3962520"/>
                <a:ext cx="393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Text Box 116"/>
          <p:cNvSpPr/>
          <p:nvPr/>
        </p:nvSpPr>
        <p:spPr>
          <a:xfrm>
            <a:off x="152280" y="4267080"/>
            <a:ext cx="38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Rectangle 1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Rectangle 1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19"/>
              <p:cNvSpPr txBox="1"/>
              <p:nvPr/>
            </p:nvSpPr>
            <p:spPr>
              <a:xfrm>
                <a:off x="704880" y="-6480"/>
                <a:ext cx="1141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1" name="Rectangle 1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Rectangle 1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Freeform 127"/>
          <p:cNvSpPr/>
          <p:nvPr/>
        </p:nvSpPr>
        <p:spPr>
          <a:xfrm>
            <a:off x="2514600" y="1600200"/>
            <a:ext cx="3581280" cy="1981080"/>
          </a:xfrm>
          <a:custGeom>
            <a:avLst/>
            <a:gdLst/>
            <a:ahLst/>
            <a:rect l="l" t="t" r="r" b="b"/>
            <a:pathLst>
              <a:path w="2256" h="1248">
                <a:moveTo>
                  <a:pt x="0" y="624"/>
                </a:moveTo>
                <a:cubicBezTo>
                  <a:pt x="40" y="740"/>
                  <a:pt x="80" y="856"/>
                  <a:pt x="144" y="960"/>
                </a:cubicBezTo>
                <a:cubicBezTo>
                  <a:pt x="208" y="1064"/>
                  <a:pt x="304" y="1248"/>
                  <a:pt x="384" y="1248"/>
                </a:cubicBezTo>
                <a:cubicBezTo>
                  <a:pt x="464" y="1248"/>
                  <a:pt x="536" y="1104"/>
                  <a:pt x="624" y="960"/>
                </a:cubicBezTo>
                <a:cubicBezTo>
                  <a:pt x="712" y="816"/>
                  <a:pt x="832" y="384"/>
                  <a:pt x="912" y="384"/>
                </a:cubicBezTo>
                <a:cubicBezTo>
                  <a:pt x="992" y="384"/>
                  <a:pt x="1032" y="1024"/>
                  <a:pt x="1104" y="960"/>
                </a:cubicBezTo>
                <a:cubicBezTo>
                  <a:pt x="1176" y="896"/>
                  <a:pt x="1256" y="0"/>
                  <a:pt x="1344" y="0"/>
                </a:cubicBezTo>
                <a:cubicBezTo>
                  <a:pt x="1432" y="0"/>
                  <a:pt x="1480" y="928"/>
                  <a:pt x="1632" y="960"/>
                </a:cubicBezTo>
                <a:cubicBezTo>
                  <a:pt x="1784" y="992"/>
                  <a:pt x="2152" y="320"/>
                  <a:pt x="2256" y="192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Text Box 142"/>
          <p:cNvSpPr/>
          <p:nvPr/>
        </p:nvSpPr>
        <p:spPr>
          <a:xfrm flipH="1">
            <a:off x="6248520" y="1676520"/>
            <a:ext cx="27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Text Box 154"/>
          <p:cNvSpPr/>
          <p:nvPr/>
        </p:nvSpPr>
        <p:spPr>
          <a:xfrm>
            <a:off x="2514600" y="426708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55"/>
              <p:cNvSpPr txBox="1"/>
              <p:nvPr/>
            </p:nvSpPr>
            <p:spPr>
              <a:xfrm>
                <a:off x="2362320" y="4343400"/>
                <a:ext cx="5461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809880" y="838080"/>
                <a:ext cx="1067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6" name="Text Box 9"/>
          <p:cNvSpPr/>
          <p:nvPr/>
        </p:nvSpPr>
        <p:spPr>
          <a:xfrm>
            <a:off x="1600200" y="1447920"/>
            <a:ext cx="6324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Arial"/>
              </a:rPr>
              <a:t>The cube root function is an odd function and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The Absolute Value Functio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of the absolute value function  is all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non negative number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absolute value function  is even and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4"/>
          <a:stretch/>
        </p:blipFill>
        <p:spPr>
          <a:xfrm>
            <a:off x="2819520" y="3048120"/>
            <a:ext cx="3429000" cy="2361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Reciprocal Fun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is all real numbers except x 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real numbers except y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eciprocal function is an odd function  and 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is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114800" y="1752480"/>
                <a:ext cx="1066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7" name="Picture 6" descr=""/>
          <p:cNvPicPr/>
          <p:nvPr/>
        </p:nvPicPr>
        <p:blipFill>
          <a:blip r:embed="rId4"/>
          <a:stretch/>
        </p:blipFill>
        <p:spPr>
          <a:xfrm>
            <a:off x="2666880" y="3363840"/>
            <a:ext cx="4038840" cy="2503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Library of Fun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Linear Func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graph of a linear function is a non-vertical line.  A linear function is of the form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y = f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)  =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m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wher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b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re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Here     m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slope  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  b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- intercept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o find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- intercept let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= 0 and solve for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domain and range of a linear function are all real numbers.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Graph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1" name="Picture 11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4724280" cy="2667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2743200" y="2286000"/>
                <a:ext cx="26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Rectangle 6"/>
          <p:cNvSpPr/>
          <p:nvPr/>
        </p:nvSpPr>
        <p:spPr>
          <a:xfrm>
            <a:off x="457200" y="228600"/>
            <a:ext cx="33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33520" y="838080"/>
            <a:ext cx="624816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+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3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–3/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Since the slope is positive, </a:t>
            </a:r>
            <a:r>
              <a:rPr b="0" i="1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 is an in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The domain and the range are the set of real numbers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267080" cy="289548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914400" y="68580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4 - 7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m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-7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y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 7/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Since the slope is negative,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is an de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08120" y="304920"/>
            <a:ext cx="32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295960" cy="32763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146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The constant func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33520" y="685800"/>
            <a:ext cx="8381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 =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 constant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the constant C. In this function is equal to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graph is a horizontal line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 intercept  is (0, 3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4" name="Picture 7" descr=""/>
          <p:cNvPicPr/>
          <p:nvPr/>
        </p:nvPicPr>
        <p:blipFill>
          <a:blip r:embed="rId1"/>
          <a:stretch/>
        </p:blipFill>
        <p:spPr>
          <a:xfrm>
            <a:off x="2209680" y="3157560"/>
            <a:ext cx="3733920" cy="2023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048120" y="380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Identity Function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28600" y="1066680"/>
            <a:ext cx="8686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(x)  = 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called the identity function because the value of y is always identical to that of x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a linear function because its graph is a straight line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 are both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identity function divides the first and third quadrants into 45 degree angl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38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362320" y="3808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200400" cy="2173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2895480" y="914400"/>
                <a:ext cx="1092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Text Box 8"/>
          <p:cNvSpPr/>
          <p:nvPr/>
        </p:nvSpPr>
        <p:spPr>
          <a:xfrm>
            <a:off x="762120" y="358128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square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of f(x) 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57200" y="36576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1"/>
              <p:cNvSpPr txBox="1"/>
              <p:nvPr/>
            </p:nvSpPr>
            <p:spPr>
              <a:xfrm>
                <a:off x="0" y="0"/>
                <a:ext cx="561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23"/>
              <p:cNvSpPr txBox="1"/>
              <p:nvPr/>
            </p:nvSpPr>
            <p:spPr>
              <a:xfrm>
                <a:off x="2895480" y="4038480"/>
                <a:ext cx="914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8" name="Text Box 24"/>
          <p:cNvSpPr/>
          <p:nvPr/>
        </p:nvSpPr>
        <p:spPr>
          <a:xfrm>
            <a:off x="838080" y="4495680"/>
            <a:ext cx="7696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 is even. Thus it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3962520" y="914400"/>
                <a:ext cx="106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Text Box 11"/>
          <p:cNvSpPr/>
          <p:nvPr/>
        </p:nvSpPr>
        <p:spPr>
          <a:xfrm>
            <a:off x="762120" y="152388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at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cube function is an odd function and thus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3" name="Picture 12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276720" cy="24386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squar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3809880" y="838080"/>
                <a:ext cx="838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3924360" y="2027160"/>
                <a:ext cx="7189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4"/>
          <p:cNvSpPr/>
          <p:nvPr/>
        </p:nvSpPr>
        <p:spPr>
          <a:xfrm>
            <a:off x="3429000" y="8380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057400" y="1676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2209680" y="2666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3995640" y="2881440"/>
                <a:ext cx="72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2438280" cy="16858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22:19:45Z</dcterms:created>
  <dc:creator>Yvonne Powell</dc:creator>
  <dc:description/>
  <dc:language>en-US</dc:language>
  <cp:lastModifiedBy>LEGION</cp:lastModifiedBy>
  <dcterms:modified xsi:type="dcterms:W3CDTF">2017-07-06T06:38:26Z</dcterms:modified>
  <cp:revision>21</cp:revision>
  <dc:subject/>
  <dc:title>Homework</dc:title>
</cp:coreProperties>
</file>