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137120" y="0"/>
            <a:ext cx="31636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9107280"/>
            <a:ext cx="316404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4137120" y="9107280"/>
            <a:ext cx="31636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B97D-45A6-49F9-8724-859E4DA8A7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pecial name that scientists give to homogenous mixtu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s may be gases, liquids or soli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xample: solution of sugar i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pecial name that scientists give to homogenous mix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may be gases, liquids or sol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: solution of sugar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art of a system with uniform composition and properties is called a pha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homogenous mixture you have “one phase” onl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a heterogenous mixture you have “two or more phases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 of a system with uniform composition and properties is called a ph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homogenous mixture you have “one phase” o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heterogenous mixture you have “two or more phas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 in a heter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in a heter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s in a hom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in a hom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se you had a mixture of iron nails, salt and wat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separate this mixture completely?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you had a mixture of iron nails, salt and wa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eparate this mixture completely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separate the components in tap wat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il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quid is boiled to produce vapor that is then condensed again to a liquid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separate the components in tap wa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quid is boiled to produce vapor that is then condensed again to a liqui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parating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ple prob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a mixture of iron fillings and aluminum fillings be separa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Analyze: Plan a problem solving strate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pl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a mixture of iron fillings and aluminum fillings be separ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Analyze: Plan a problem solv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racted to a mag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um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attracted to mag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ve: Apply the problem-solving strateg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ed to a mag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y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solubl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ttracted to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ve: Apply the problem-solving strate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mixtu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it be separa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provide another example?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mix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it be separ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provide another example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Evaluate: Does the result make sen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Evaluate: Does the result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ctice Probl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physical properties could be used to separate iron filings from sal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 following are homogenous? heterogen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Spaghetti sauce  4.-Cough syru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Glass                   5.-Mixture of nitrogen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Muddy Water           and helium 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physical properties could be used to separate iron filings from sal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are homogenous? heterogen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Spaghetti sauce  4.-Cough syr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Glass                   5.-Mixture of nitrogen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Muddy Water           and helium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ixture is a physical blend of two or         more substan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ir composition varies (Ai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mixtures: homogenous and heterogeno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ixture is a physical blend of two or         more substan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mposition varies (Ai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mixtures: homogenous and heterogen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terogenous 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type of mixture that is not uniform in composi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genous 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ype of mixture that is not uniform in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genous mix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type of mixture that has a completely uniform composition throughout it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’s components are evenly distributed throughout the sampl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genous mi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ype of mixture that has a completely uniform composition throughout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components are evenly distributed throughout the samp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37120" y="9107640"/>
            <a:ext cx="316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mogenous or Heterogen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t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ydrogen perox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lad dress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ni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undry deterg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0080" y="4554360"/>
            <a:ext cx="584208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mogenous or Heterogenou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t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neg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gen per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ad dr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undry deter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C224-652C-475B-BE74-1FB28E597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EB00-8A0C-48D7-9550-D04159B1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C66-CB9E-42F0-B8C8-89076CE2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0B2-81EA-480B-9439-ADFD48C2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9623-3636-469C-9545-638D9517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5E04-E5C0-4F5A-8CBF-AB3E7B19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53DC-73DA-43E3-A44F-FA696F1D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3757-BEC2-441F-BCE4-C83B3463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AF69-CA43-4B2B-BD19-E2BC40AF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0CD7-7D4E-41B5-A6D6-24E82F00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6F83-0E7F-4637-9D2A-AA656E38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6025-3DF1-471A-AD6A-89336C92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D635-3046-4F5C-B6A6-4512BA36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7616-0E52-49B7-9172-3CB920DD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ACF7-6AD3-4700-A65D-DCA8EE96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99507-8371-4410-AFD5-0A9A2F87E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F040-4717-454C-96FC-1FA0CB93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BF0-F968-438E-AEA6-30B02B5B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700E-8D1F-49C5-A45D-3FF8FB9D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FD81-3F91-4198-B8D0-39C4A075A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7FE-A73F-42D7-A65B-6C4CC03C2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BC2-E47E-4F84-8741-44646ACD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7F21-539C-4AB4-8FA2-B8E50BA6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26B-D87C-4583-AEA3-B8559043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A628-A0D8-49B0-9BBD-E4D60B46CFAE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6745-49F0-4C85-8E4F-FECDB8CBB652}" type="slidenum">
              <a:rPr b="0" lang="es-ES_trad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special name that scientists give to homogenous mixtu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olutions may be gases, liquids or soli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 example: solution of sugar i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1981080"/>
          <a:ext cx="8291520" cy="4145040"/>
        </p:xfrm>
        <a:graphic>
          <a:graphicData uri="http://schemas.openxmlformats.org/drawingml/2006/table">
            <a:tbl>
              <a:tblPr/>
              <a:tblGrid>
                <a:gridCol w="4146480"/>
                <a:gridCol w="4145040"/>
              </a:tblGrid>
              <a:tr h="500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Some common types of solutions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ystem                           Examples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-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GB" sz="2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nd O in N (ai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-ga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ter vapor in ai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GB" sz="27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GB" sz="2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n </a:t>
                      </a:r>
                      <a:r>
                        <a:rPr b="0" lang="es-ES_tradnl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s-ES_tradnl" sz="27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Soda water)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quid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etic acid in H</a:t>
                      </a:r>
                      <a:r>
                        <a:rPr b="0" lang="es-ES_tradnl" sz="25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vinegar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-liqu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Cl in 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s-ES_tradnl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 (brine)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id-sol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 in Ag (Sterling silv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Picture 52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Phas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ny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art of a system with uniform composition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nd properties is called a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has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n a homogenous mixture you have “one phase” on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On a heterogenous mixture you have “two or more phases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Phases in a heterogenous mix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5" descr="6a00cdf3a364f7cb8f00e398b5ba7b0004-500pi"/>
          <p:cNvPicPr/>
          <p:nvPr/>
        </p:nvPicPr>
        <p:blipFill>
          <a:blip r:embed="rId1"/>
          <a:stretch/>
        </p:blipFill>
        <p:spPr>
          <a:xfrm>
            <a:off x="1116000" y="1258920"/>
            <a:ext cx="6846840" cy="4762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b2b2b2"/>
                </a:solidFill>
                <a:latin typeface="Arial"/>
              </a:rPr>
              <a:t>Phases in a homogenous mixture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4" name="Picture 6" descr="chocolate-milk"/>
          <p:cNvPicPr/>
          <p:nvPr/>
        </p:nvPicPr>
        <p:blipFill>
          <a:blip r:embed="rId1"/>
          <a:stretch/>
        </p:blipFill>
        <p:spPr>
          <a:xfrm>
            <a:off x="1835280" y="1197000"/>
            <a:ext cx="5688000" cy="518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uppose you had a mixture of iron nails, salt and water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would you separate this mixture completely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Based on which physical properties would you base your method on?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would you separate the components in tap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til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A liquid is boiled to produce vapor that is then condensed again to a liqui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Separating 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5" descr="image"/>
          <p:cNvPicPr/>
          <p:nvPr/>
        </p:nvPicPr>
        <p:blipFill>
          <a:blip r:embed="rId1"/>
          <a:stretch/>
        </p:blipFill>
        <p:spPr>
          <a:xfrm>
            <a:off x="971640" y="1303200"/>
            <a:ext cx="6626160" cy="4862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Arial"/>
              </a:rPr>
              <a:t>Sampl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ow can a mixture of iron fillings and aluminum fillings be separat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1.-Analyze: Plan a problem solving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ist the properties of iron and aluminum and look for something that would be useful in separating the mix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064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r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ttracted to a mag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2206440"/>
            <a:ext cx="417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luminu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y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soluble in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Not attracted to magn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68360" y="1628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2.- Solve: Apply the problem-solving strate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468360" y="499752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ake use of a property that differentiates the metals; use a magnet to attract the iron filling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is a mixtu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How can it be separat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an you provide another example?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3.-Evaluate: Does the result make sen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ecause the magnet attracts iron but not aluminum filings, the iron would be removed while the aluminum would be left behin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10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Practice Problem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at physical properties could be used to separate iron filings from sal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Which of the following are homogenous? heterogenou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1.-Spaghetti sauce  4.-Cough syr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2.-Glass                   5.-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xture of nitrogen g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3000" spc="-1" strike="noStrike">
                <a:solidFill>
                  <a:srgbClr val="ffffff"/>
                </a:solidFill>
                <a:latin typeface="Arial"/>
              </a:rPr>
              <a:t>3.-Muddy Water           and helium g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BELLWORK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2" name="Picture 6" descr="Gold_nuggets_istock"/>
          <p:cNvPicPr/>
          <p:nvPr/>
        </p:nvPicPr>
        <p:blipFill>
          <a:blip r:embed="rId1"/>
          <a:stretch/>
        </p:blipFill>
        <p:spPr>
          <a:xfrm>
            <a:off x="539640" y="1197000"/>
            <a:ext cx="7920000" cy="489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 mixture is a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hysical blend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of two or         more substan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heir composition varies (Air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here are two types of mixtures: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omogenous and heterogen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eterogenous 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type of mixture that is not uniform in composi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f you were to sample one portion of such a mixture, it’s composition would be different from that of another por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Reiki%20Salad"/>
          <p:cNvPicPr/>
          <p:nvPr/>
        </p:nvPicPr>
        <p:blipFill>
          <a:blip r:embed="rId1"/>
          <a:stretch/>
        </p:blipFill>
        <p:spPr>
          <a:xfrm>
            <a:off x="1123920" y="692280"/>
            <a:ext cx="6977160" cy="5392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Mixtur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Homogenous mix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s the type of mixture that has a completely uniform composition throughout itsel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t’s components are evenly distributed throughout the samp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glass2"/>
          <p:cNvPicPr/>
          <p:nvPr/>
        </p:nvPicPr>
        <p:blipFill>
          <a:blip r:embed="rId1"/>
          <a:stretch/>
        </p:blipFill>
        <p:spPr>
          <a:xfrm>
            <a:off x="2666880" y="890640"/>
            <a:ext cx="3810240" cy="50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b2b2b2"/>
                </a:solidFill>
                <a:latin typeface="Arial"/>
              </a:rPr>
              <a:t>Homogenous or Heterogenou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lt w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r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Hydrogen perox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lad dr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undry deterg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7:15:28Z</dcterms:created>
  <dc:creator>WinuE</dc:creator>
  <dc:description/>
  <dc:language>en-US</dc:language>
  <cp:lastModifiedBy>RomaK</cp:lastModifiedBy>
  <dcterms:modified xsi:type="dcterms:W3CDTF">2015-09-02T05:58:07Z</dcterms:modified>
  <cp:revision>13</cp:revision>
  <dc:subject/>
  <dc:title>Mixtures properties of matter</dc:title>
</cp:coreProperties>
</file>