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C195-705D-4E3E-A9AD-35B13A7B88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7F5-790A-49CE-8D2A-EAAC68A9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53E-9E04-4864-8F30-BDBA63BC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E31-670F-416F-84ED-8697DB55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C09-F8C3-4585-880B-18B17D7E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A24D-65BF-4D3C-8A68-88550D49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FBF4-67EF-4F11-BCBB-7191A5A5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7267-211F-4A05-AFE0-0171B320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8F27-918C-4F2F-B013-9795DD0B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C175-0560-4AEF-911B-7DCA4AC1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51DE-72AE-43E8-ADF7-CB09CDC7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0354-197A-4E06-9870-2559BF5B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222-8DFA-4C7C-8C5E-BF62D343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BFE0-DA21-420B-928F-028FB921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BDC9-E442-4C7A-922E-914B78FC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5B88-5498-49AC-84B9-D7D94C66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BB35-49A0-4120-BCFF-D485C302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A51C-6E02-4B6F-9530-10B80104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ED8-A4B5-4A15-A6C9-FF7C5228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C98-AED2-4549-B07F-88BAD351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1B1-DD54-431F-92E7-CA3172F6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120-A799-4101-BACF-E5481A34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665-18BE-4341-BCD9-31B6DB50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058-69BC-4E26-88CD-94B59476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73E-B158-40A4-80AB-E2D3F27A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E928-AEB6-4386-BBEB-39C3A3B02B47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DC07-2B83-40F4-8D21-549D75733FCB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981080"/>
          <a:ext cx="8291520" cy="41450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00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ome common types of solutions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                          Examples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nd O in N (ai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vapor in 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 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Soda water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ic acid in 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vinegar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l in 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brine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 in Ag (Sterling sil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52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h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art of a system with uniform composi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nd properties is called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as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eter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6a00cdf3a364f7cb8f00e398b5ba7b0004-500pi"/>
          <p:cNvPicPr/>
          <p:nvPr/>
        </p:nvPicPr>
        <p:blipFill>
          <a:blip r:embed="rId1"/>
          <a:stretch/>
        </p:blipFill>
        <p:spPr>
          <a:xfrm>
            <a:off x="1116000" y="1258920"/>
            <a:ext cx="6846840" cy="4762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om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hocolate-milk"/>
          <p:cNvPicPr/>
          <p:nvPr/>
        </p:nvPicPr>
        <p:blipFill>
          <a:blip r:embed="rId1"/>
          <a:stretch/>
        </p:blipFill>
        <p:spPr>
          <a:xfrm>
            <a:off x="1835280" y="1197000"/>
            <a:ext cx="5688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5" descr="image"/>
          <p:cNvPicPr/>
          <p:nvPr/>
        </p:nvPicPr>
        <p:blipFill>
          <a:blip r:embed="rId1"/>
          <a:stretch/>
        </p:blipFill>
        <p:spPr>
          <a:xfrm>
            <a:off x="971640" y="1303200"/>
            <a:ext cx="6626160" cy="4862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2206440"/>
            <a:ext cx="417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6836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68360" y="49975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0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ractice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2.-Glass                   5.-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xture of nitrogen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Picture 6" descr="Gold_nuggets_istock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489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 mixture is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ysical blend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of two or         mo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re are two types of mixtures: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and heteroge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eterogenous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Reiki%20Salad"/>
          <p:cNvPicPr/>
          <p:nvPr/>
        </p:nvPicPr>
        <p:blipFill>
          <a:blip r:embed="rId1"/>
          <a:stretch/>
        </p:blipFill>
        <p:spPr>
          <a:xfrm>
            <a:off x="1123920" y="692280"/>
            <a:ext cx="6977160" cy="539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mix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glass2"/>
          <p:cNvPicPr/>
          <p:nvPr/>
        </p:nvPicPr>
        <p:blipFill>
          <a:blip r:embed="rId1"/>
          <a:stretch/>
        </p:blipFill>
        <p:spPr>
          <a:xfrm>
            <a:off x="2666880" y="89064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Homogenous or Heterogenou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7:15:28Z</dcterms:created>
  <dc:creator>WinuE</dc:creator>
  <dc:description/>
  <dc:language>en-US</dc:language>
  <cp:lastModifiedBy>RomaK</cp:lastModifiedBy>
  <dcterms:modified xsi:type="dcterms:W3CDTF">2015-09-02T05:58:07Z</dcterms:modified>
  <cp:revision>13</cp:revision>
  <dc:subject/>
  <dc:title>Mixtures properties of matter</dc:title>
</cp:coreProperties>
</file>