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9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0.jpeg" ContentType="image/jpeg"/>
  <Override PartName="/ppt/media/image31.png" ContentType="image/png"/>
  <Override PartName="/ppt/media/image19.jpeg" ContentType="image/jpeg"/>
  <Override PartName="/ppt/media/image11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2F33-DC46-4EEA-8B7E-9BB718526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and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6A1F-2C74-4A21-AB0B-66CEF14BE7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ars and Jupiter is and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948E-9C09-4835-875D-5C730E71C0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, the largest planet, is fif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rings, and 6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Red Spot is a storm that has been there ever since Galileo saw it 400 years a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22DB-6B0B-4926-8A7F-70ACACD062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the sixth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famous for its rings, which are easy to see with a telescope – Galileo saw them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56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BB52-A3CD-4203-9EF2-7FD4D67FA0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is a gas planet, too – all four of the outer planet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pins sideways, probably because it was hit by a comet or aste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has thin rings and 27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1648-A358-457D-BC1A-3173712928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is the farthest a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strong winds, over 400 miles an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has 1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61E9-DBC5-4AF5-8DCC-A6D45FF78C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and the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is another body now called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n irregular orbit – tilted and elong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3 moons – one is very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is, the newest body, is also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ly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AAA4-9BA9-4724-9038-3AE60DF4D7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o think ab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t least one more planet, but it may be a giant, we just don’t know yet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is always going on to help us know our way around our neighborhood –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someday YOU will travel to one of these wonderful pla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EC4B-C3B8-4AC4-A43C-24132ACE59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re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s and 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junk and tr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6A8F-13DD-47F4-A4C3-D5CCDC938A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– our very own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center of our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rd “solar” means “of the su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a medium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medium-hot, and yel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E500-061C-4401-BE44-8CB801883C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lay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is called the core – it is 27,000,00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layer is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under the chromosphere is the photosphere, where light and other forms of energy are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photosphere is the convective zone where heat is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above the core is the 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548E-5644-4006-90AD-E974D762E6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made up of g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abundant gas is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undergo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make Helium, which releases a huge amount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energy released include light, heat, and various rays, like X rays and gamma rays, which are forms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5E1D-080F-4E5C-A833-D071083AB2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416A-078A-4E35-84DF-1A3F19DCF3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-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planets are formed mostly of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i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littl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VERY H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B38A-A907-4720-8CCF-A0445E2D87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a very thick atmosphere, and this makes the temperature the highest 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bout the same size as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8F95-6D83-4DB5-9C24-192335D47B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is 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medium-thick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F9A6-F75C-40DC-ACED-1225DC4D1B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is fou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thinner atmosphere tha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urface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winds some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9D9C-8136-4F14-A148-D94BFE0B3C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4CD-5F96-4DC5-B209-A719D3A0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0A6-6F29-493D-B70A-DC220010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E3E-42B0-4846-A3F3-56752473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05A-C6AE-4C8B-BED2-C7EAC02B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48F1-A26B-4A27-9F8F-E4DFD0A0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5F5F-1D08-403D-B9B3-B3178A90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2965-0156-4EEE-922D-C6733BA7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EDB2-5292-4C73-BDF8-DDE2A7EE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6187-60DE-4A93-931B-302E5967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306E-9C43-4844-BD91-1ABCDEFC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C6FD-9F54-4A5B-9B0E-98C38A87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189-EDB9-4D7B-B965-CCEE8BBF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0FFE-E428-4B17-88B0-35489FA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C38F-4B0D-4F49-9596-2CE05F82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81F7-44DE-4DCD-B073-EFD405A1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3DE5-A4C3-45FB-A72D-0CD4921E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BB63-14D0-477B-B636-FBC535FE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AB3-2F07-4A0E-98AB-80722218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811-7DA9-49D6-8D8A-22FA8317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ED2-EB63-4CC0-8DA1-4098BCC5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E50-6BD3-4334-B223-7FDFF33E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986-3F54-4859-A979-6F82DA42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FC3-0F7B-474F-8763-97396975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A02-4C4B-4A1E-AD4F-DD34AF8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2DC7-CE01-4534-91B5-EB24B5B7814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CE1E-F301-4307-B805-4EE7893D5CE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neighborhood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tween Mars and Jupiter is and asteroid be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ts of roc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3" descr="asteroid belt.jpg"/>
          <p:cNvPicPr/>
          <p:nvPr/>
        </p:nvPicPr>
        <p:blipFill>
          <a:blip r:embed="rId2"/>
          <a:stretch/>
        </p:blipFill>
        <p:spPr>
          <a:xfrm>
            <a:off x="3581280" y="3200400"/>
            <a:ext cx="40719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, the largest planet, is fif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rings, and 6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reat Red Spot is a storm that has been there ever since Galileo saw it 400 years ago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3" descr="jupiter.jpg"/>
          <p:cNvPicPr/>
          <p:nvPr/>
        </p:nvPicPr>
        <p:blipFill>
          <a:blip r:embed="rId2"/>
          <a:stretch/>
        </p:blipFill>
        <p:spPr>
          <a:xfrm>
            <a:off x="3429000" y="4114800"/>
            <a:ext cx="25909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the sixth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lso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famous for its rings, which are easy to see with a telescope – Galileo saw them, to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s 56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3" descr="saturn.jpg"/>
          <p:cNvPicPr/>
          <p:nvPr/>
        </p:nvPicPr>
        <p:blipFill>
          <a:blip r:embed="rId2"/>
          <a:stretch/>
        </p:blipFill>
        <p:spPr>
          <a:xfrm>
            <a:off x="6094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saturns rings.jpg"/>
          <p:cNvPicPr/>
          <p:nvPr/>
        </p:nvPicPr>
        <p:blipFill>
          <a:blip r:embed="rId3"/>
          <a:stretch/>
        </p:blipFill>
        <p:spPr>
          <a:xfrm>
            <a:off x="4876920" y="3733920"/>
            <a:ext cx="33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is a gas planet, too – all four of the outer planets 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pins sideways, probably because it was hit by a comet or aster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has thin rings and 27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3" descr="uranus.jpg"/>
          <p:cNvPicPr/>
          <p:nvPr/>
        </p:nvPicPr>
        <p:blipFill>
          <a:blip r:embed="rId2"/>
          <a:stretch/>
        </p:blipFill>
        <p:spPr>
          <a:xfrm>
            <a:off x="3352680" y="4038480"/>
            <a:ext cx="25909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is the farthest awa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VERY strong winds, over 400 miles an hou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has 1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3" descr="neptune.jpg"/>
          <p:cNvPicPr/>
          <p:nvPr/>
        </p:nvPicPr>
        <p:blipFill>
          <a:blip r:embed="rId2"/>
          <a:stretch/>
        </p:blipFill>
        <p:spPr>
          <a:xfrm>
            <a:off x="3352680" y="42670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uto is another body now called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n irregular orbit – tilted and elonga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3 moons – one is very lar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is, the newest body, is also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ly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pluto.jpg"/>
          <p:cNvPicPr/>
          <p:nvPr/>
        </p:nvPicPr>
        <p:blipFill>
          <a:blip r:embed="rId2"/>
          <a:stretch/>
        </p:blipFill>
        <p:spPr>
          <a:xfrm>
            <a:off x="762120" y="43434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ris.jpg"/>
          <p:cNvPicPr/>
          <p:nvPr/>
        </p:nvPicPr>
        <p:blipFill>
          <a:blip r:embed="rId3"/>
          <a:stretch/>
        </p:blipFill>
        <p:spPr>
          <a:xfrm>
            <a:off x="4851360" y="3962520"/>
            <a:ext cx="3454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at least one more planet, but it may be a giant, we just don’t know yet…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earch is always going on to help us know our way around our neighborhood – the SOLAR SYSTE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be someday YOU will travel to one of these wonderful pla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also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eors and com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du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telli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junk and tra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3" descr="comet.jpg"/>
          <p:cNvPicPr/>
          <p:nvPr/>
        </p:nvPicPr>
        <p:blipFill>
          <a:blip r:embed="rId2"/>
          <a:stretch/>
        </p:blipFill>
        <p:spPr>
          <a:xfrm>
            <a:off x="0" y="48006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meteor.jpg"/>
          <p:cNvPicPr/>
          <p:nvPr/>
        </p:nvPicPr>
        <p:blipFill>
          <a:blip r:embed="rId3"/>
          <a:stretch/>
        </p:blipFill>
        <p:spPr>
          <a:xfrm>
            <a:off x="57150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eteor crater.jpg"/>
          <p:cNvPicPr/>
          <p:nvPr/>
        </p:nvPicPr>
        <p:blipFill>
          <a:blip r:embed="rId4"/>
          <a:stretch/>
        </p:blipFill>
        <p:spPr>
          <a:xfrm>
            <a:off x="7238880" y="5334120"/>
            <a:ext cx="1774800" cy="107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rater 2.jpg"/>
          <p:cNvPicPr/>
          <p:nvPr/>
        </p:nvPicPr>
        <p:blipFill>
          <a:blip r:embed="rId5"/>
          <a:stretch/>
        </p:blipFill>
        <p:spPr>
          <a:xfrm>
            <a:off x="1752480" y="40384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atellite.jpg"/>
          <p:cNvPicPr/>
          <p:nvPr/>
        </p:nvPicPr>
        <p:blipFill>
          <a:blip r:embed="rId6"/>
          <a:stretch/>
        </p:blipFill>
        <p:spPr>
          <a:xfrm>
            <a:off x="2895480" y="4572000"/>
            <a:ext cx="2689200" cy="188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unk.jpg"/>
          <p:cNvPicPr/>
          <p:nvPr/>
        </p:nvPicPr>
        <p:blipFill>
          <a:blip r:embed="rId7"/>
          <a:stretch/>
        </p:blipFill>
        <p:spPr>
          <a:xfrm>
            <a:off x="4876920" y="1295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the center of our solar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d “solar” means “of the sun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a medium-sized st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medium-hot, and yellow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sun.jpg"/>
          <p:cNvPicPr/>
          <p:nvPr/>
        </p:nvPicPr>
        <p:blipFill>
          <a:blip r:embed="rId2"/>
          <a:stretch/>
        </p:blipFill>
        <p:spPr>
          <a:xfrm>
            <a:off x="3200400" y="4191120"/>
            <a:ext cx="2625840" cy="25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SunIm08_eclipse2.jpg"/>
          <p:cNvPicPr/>
          <p:nvPr/>
        </p:nvPicPr>
        <p:blipFill>
          <a:blip r:embed="rId3"/>
          <a:stretch/>
        </p:blipFill>
        <p:spPr>
          <a:xfrm>
            <a:off x="6248520" y="449568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sun flare.jpg"/>
          <p:cNvPicPr/>
          <p:nvPr/>
        </p:nvPicPr>
        <p:blipFill>
          <a:blip r:embed="rId4"/>
          <a:stretch/>
        </p:blipFill>
        <p:spPr>
          <a:xfrm>
            <a:off x="380880" y="4619520"/>
            <a:ext cx="2438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has laye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iddle is called the core – it is 27,000,000 degrees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uter layer is the chro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under the chromosphere is the photosphere, where light and other forms of energy are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der the photosphere is the convective zone where heat is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above the core is the radiative zo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made up of gas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ost abundant gas is Hydroge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ydrogen is undergoing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us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make Helium, which releases a huge amount of ener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ms of energy released include light, heat, and various rays, like X rays and gamma rays, which are forms of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Content Placeholder 3" descr="sun diagram.jpg"/>
          <p:cNvPicPr/>
          <p:nvPr/>
        </p:nvPicPr>
        <p:blipFill>
          <a:blip r:embed="rId1"/>
          <a:stretch/>
        </p:blipFill>
        <p:spPr>
          <a:xfrm>
            <a:off x="3809880" y="3200400"/>
            <a:ext cx="4700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4" descr="temp graph of sun.png"/>
          <p:cNvPicPr/>
          <p:nvPr/>
        </p:nvPicPr>
        <p:blipFill>
          <a:blip r:embed="rId1"/>
          <a:stretch/>
        </p:blipFill>
        <p:spPr>
          <a:xfrm>
            <a:off x="5410080" y="3886200"/>
            <a:ext cx="353376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unActiv_sunCutaway.gif"/>
          <p:cNvPicPr/>
          <p:nvPr/>
        </p:nvPicPr>
        <p:blipFill>
          <a:blip r:embed="rId2"/>
          <a:stretch/>
        </p:blipFill>
        <p:spPr>
          <a:xfrm>
            <a:off x="609480" y="1828800"/>
            <a:ext cx="4740480" cy="373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sun-full.gif"/>
          <p:cNvPicPr/>
          <p:nvPr/>
        </p:nvPicPr>
        <p:blipFill>
          <a:blip r:embed="rId3"/>
          <a:stretch/>
        </p:blipFill>
        <p:spPr>
          <a:xfrm>
            <a:off x="5410080" y="1522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inner four planets are formed mostly of ro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rcury is fir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very little at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VERY HOT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3" descr="mercury.jpg"/>
          <p:cNvPicPr/>
          <p:nvPr/>
        </p:nvPicPr>
        <p:blipFill>
          <a:blip r:embed="rId2"/>
          <a:stretch/>
        </p:blipFill>
        <p:spPr>
          <a:xfrm>
            <a:off x="4724280" y="3657600"/>
            <a:ext cx="4197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nus is seco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 has a very thick atmosphere, and this makes the temperature the highest in the solar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about the same size as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3" descr="venus.jpg"/>
          <p:cNvPicPr/>
          <p:nvPr/>
        </p:nvPicPr>
        <p:blipFill>
          <a:blip r:embed="rId2"/>
          <a:stretch/>
        </p:blipFill>
        <p:spPr>
          <a:xfrm>
            <a:off x="304812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arth is th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 medium-thick atmosp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’s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3" descr="earth 1.jpg"/>
          <p:cNvPicPr/>
          <p:nvPr/>
        </p:nvPicPr>
        <p:blipFill>
          <a:blip r:embed="rId2"/>
          <a:stretch/>
        </p:blipFill>
        <p:spPr>
          <a:xfrm>
            <a:off x="5257800" y="3429000"/>
            <a:ext cx="3287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s is fou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a thinner atmosphere than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surface 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 winds someti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3" descr="mars.jpg"/>
          <p:cNvPicPr/>
          <p:nvPr/>
        </p:nvPicPr>
        <p:blipFill>
          <a:blip r:embed="rId2"/>
          <a:stretch/>
        </p:blipFill>
        <p:spPr>
          <a:xfrm>
            <a:off x="4419720" y="3581280"/>
            <a:ext cx="3105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21:22Z</dcterms:created>
  <dc:creator>Ector County ISD Employee</dc:creator>
  <dc:description/>
  <dc:language>en-US</dc:language>
  <cp:lastModifiedBy>RomaK</cp:lastModifiedBy>
  <dcterms:modified xsi:type="dcterms:W3CDTF">2015-07-31T23:19:38Z</dcterms:modified>
  <cp:revision>54</cp:revision>
  <dc:subject/>
  <dc:title>Our Solar system</dc:title>
</cp:coreProperties>
</file>