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9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8.jpeg" ContentType="image/jpeg"/>
  <Override PartName="/ppt/media/image30.jpeg" ContentType="image/jpeg"/>
  <Override PartName="/ppt/media/image31.png" ContentType="image/png"/>
  <Override PartName="/ppt/media/image19.jpeg" ContentType="image/jpeg"/>
  <Override PartName="/ppt/media/image11.png" ContentType="image/pn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41.jpeg" ContentType="image/jpeg"/>
  <Override PartName="/ppt/media/image3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6880-003F-453F-901F-1705CB152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and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where we 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F8A0-9858-422A-A40E-390CE700CC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ars and Jupiter is and asteroid b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qui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47C1-CB90-4238-AA5F-EFC9B620B2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, the largest planet, is fif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is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rings, and 63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Red Spot is a storm that has been there ever since Galileo saw it 400 years ag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8B74-3FF9-466A-B79B-E3F56713BC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the sixth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famous for its rings, which are easy to see with a telescope – Galileo saw them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56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C5A8-3A4D-4ADB-AB07-57C41E8785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is a gas planet, too – all four of the outer planet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pins sideways, probably because it was hit by a comet or aster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has thin rings and 27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FF41-AB37-46A9-9C8B-C58624C8BA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is the farthest a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VERY strong winds, over 400 miles an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has 13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AD91-CE64-4427-9013-20769DC1F9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and the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is another body now called a PLUT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n irregular orbit – tilted and elong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3 moons – one is very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is, the newest body, is also a Plut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only on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9C74-1139-4177-B772-8E0D2F5D32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o think ab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t least one more planet, but it may be a giant, we just don’t know yet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is always going on to help us know our way around our neighborhood –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someday YOU will travel to one of these wonderful pla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299B-B3C7-418C-8948-8CDA9C0B56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re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s and 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 junk and tr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83E2-69FD-4A45-B4BC-3EB59BE53C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– our very own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center of our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rd “solar” means “of the su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is a medium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is medium-hot, and yel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195C-18C3-4971-9A38-3762CD406C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lay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is called the core – it is 27,000,00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layer is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yer under the chromosphere is the photosphere, where light and other forms of energy are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the photosphere is the convective zone where heat is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yer above the core is the 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8918-DB3C-4218-9500-285F27010A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made up of g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abundant gas is Hydro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undergoing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make Helium, which releases a huge amount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energy released include light, heat, and various rays, like X rays and gamma rays, which are forms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B878-DBFA-4696-9E92-4EAE5E23B7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CEF4-1262-44DA-B6B1-66CEA18281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four - 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four planets are formed mostly of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i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very little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n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VERY H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056C-E6BF-4424-BDA7-35312E025E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a very thick atmosphere, and this makes the temperature the highest 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n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bout the same size as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EEB2-1B3F-48A1-8D71-B425C83ED1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is 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liqui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medium-thick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on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where we 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39C4-1961-4072-84BD-F1A09C856A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is fou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thinner atmosphere tha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urface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winds some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7063-1FDF-4931-B120-DC86EE57114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3205-03AC-47CC-BF49-BD0D4D82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2AD0-CF0C-459D-88C9-85899428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31F-58B2-4CDA-947B-354F54CB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9FA-9B0A-4BF5-BA79-1C2D588F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BB9B-51C4-409B-BBB1-E5F89503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49A0-004C-4DD1-AFDB-DC7C39D2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DE63-AC14-4EA2-8CD8-532B6A53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E3ED-9FF2-4000-B2CF-0E6EF8AC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5B18-B978-4002-8908-FA6AD288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F758-0C94-4068-BEAE-F0E0A455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4CFE-6808-45D2-A20A-D9766A5A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549-9B2B-45A9-A399-E4B886C4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0AF8-547B-4A70-873E-7FECEDC1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DEDE-3F07-48EE-AA95-3EE295B6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D6AC-A148-40D4-A605-41D5B2E2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9989-A68B-42A0-8DB1-F87DD72E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1C68-0FD9-407C-AA0B-665C9E7D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718-8AD9-478E-AE70-4C14A855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CF4A-7DBA-4BD1-895B-610C5DEC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6B4-1B34-4FA3-B7C6-39098C87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796-B056-4613-BB09-BF4FE0D4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12C-8E4E-46CD-B674-296D9144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E76-B87D-46EE-ADFB-3C6D9E71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65FD-1412-45E5-B612-96AA9458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FFE9-BF28-4501-9442-1EB7C7212C2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C57D-42BD-4286-8DDD-0388809CBCA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neighborhood where we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tween Mars and Jupiter is and asteroid be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ts of roc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liquid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Picture 3" descr="asteroid belt.jpg"/>
          <p:cNvPicPr/>
          <p:nvPr/>
        </p:nvPicPr>
        <p:blipFill>
          <a:blip r:embed="rId2"/>
          <a:stretch/>
        </p:blipFill>
        <p:spPr>
          <a:xfrm>
            <a:off x="3581280" y="3200400"/>
            <a:ext cx="40719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piter, the largest planet, is fif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piter is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rings, and 63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Great Red Spot is a storm that has been there ever since Galileo saw it 400 years ago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3" descr="jupiter.jpg"/>
          <p:cNvPicPr/>
          <p:nvPr/>
        </p:nvPicPr>
        <p:blipFill>
          <a:blip r:embed="rId2"/>
          <a:stretch/>
        </p:blipFill>
        <p:spPr>
          <a:xfrm>
            <a:off x="3429000" y="4114800"/>
            <a:ext cx="25909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turn is the sixth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also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turn is famous for its rings, which are easy to see with a telescope – Galileo saw them, to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s 56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Picture 3" descr="saturn.jpg"/>
          <p:cNvPicPr/>
          <p:nvPr/>
        </p:nvPicPr>
        <p:blipFill>
          <a:blip r:embed="rId2"/>
          <a:stretch/>
        </p:blipFill>
        <p:spPr>
          <a:xfrm>
            <a:off x="60948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saturns rings.jpg"/>
          <p:cNvPicPr/>
          <p:nvPr/>
        </p:nvPicPr>
        <p:blipFill>
          <a:blip r:embed="rId3"/>
          <a:stretch/>
        </p:blipFill>
        <p:spPr>
          <a:xfrm>
            <a:off x="4876920" y="3733920"/>
            <a:ext cx="33764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anus is a gas planet, too – all four of the outer planets 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spins sideways, probably because it was hit by a comet or aster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anus has thin rings and 27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3" descr="uranus.jpg"/>
          <p:cNvPicPr/>
          <p:nvPr/>
        </p:nvPicPr>
        <p:blipFill>
          <a:blip r:embed="rId2"/>
          <a:stretch/>
        </p:blipFill>
        <p:spPr>
          <a:xfrm>
            <a:off x="3352680" y="4038480"/>
            <a:ext cx="25909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ptune is the farthest awa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VERY strong winds, over 400 miles an hou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ptune has 13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3" descr="neptune.jpg"/>
          <p:cNvPicPr/>
          <p:nvPr/>
        </p:nvPicPr>
        <p:blipFill>
          <a:blip r:embed="rId2"/>
          <a:stretch/>
        </p:blipFill>
        <p:spPr>
          <a:xfrm>
            <a:off x="3352680" y="42670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luto is another body now called a PLUT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an irregular orbit – tilted and elongat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3 moons – one is very lar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is, the newest body, is also a Plut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only one mo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Picture 3" descr="pluto.jpg"/>
          <p:cNvPicPr/>
          <p:nvPr/>
        </p:nvPicPr>
        <p:blipFill>
          <a:blip r:embed="rId2"/>
          <a:stretch/>
        </p:blipFill>
        <p:spPr>
          <a:xfrm>
            <a:off x="762120" y="43434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eris.jpg"/>
          <p:cNvPicPr/>
          <p:nvPr/>
        </p:nvPicPr>
        <p:blipFill>
          <a:blip r:embed="rId3"/>
          <a:stretch/>
        </p:blipFill>
        <p:spPr>
          <a:xfrm>
            <a:off x="4851360" y="3962520"/>
            <a:ext cx="3454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is at least one more planet, but it may be a giant, we just don’t know yet…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earch is always going on to help us know our way around our neighborhood – the SOLAR SYSTEM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ybe someday YOU will travel to one of these wonderful pla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also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eors and come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ce du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tellit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ce junk and tras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Picture 3" descr="comet.jpg"/>
          <p:cNvPicPr/>
          <p:nvPr/>
        </p:nvPicPr>
        <p:blipFill>
          <a:blip r:embed="rId2"/>
          <a:stretch/>
        </p:blipFill>
        <p:spPr>
          <a:xfrm>
            <a:off x="0" y="480060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meteor.jpg"/>
          <p:cNvPicPr/>
          <p:nvPr/>
        </p:nvPicPr>
        <p:blipFill>
          <a:blip r:embed="rId3"/>
          <a:stretch/>
        </p:blipFill>
        <p:spPr>
          <a:xfrm>
            <a:off x="57150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eteor crater.jpg"/>
          <p:cNvPicPr/>
          <p:nvPr/>
        </p:nvPicPr>
        <p:blipFill>
          <a:blip r:embed="rId4"/>
          <a:stretch/>
        </p:blipFill>
        <p:spPr>
          <a:xfrm>
            <a:off x="7238880" y="5334120"/>
            <a:ext cx="1774800" cy="1076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rater 2.jpg"/>
          <p:cNvPicPr/>
          <p:nvPr/>
        </p:nvPicPr>
        <p:blipFill>
          <a:blip r:embed="rId5"/>
          <a:stretch/>
        </p:blipFill>
        <p:spPr>
          <a:xfrm>
            <a:off x="1752480" y="40384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atellite.jpg"/>
          <p:cNvPicPr/>
          <p:nvPr/>
        </p:nvPicPr>
        <p:blipFill>
          <a:blip r:embed="rId6"/>
          <a:stretch/>
        </p:blipFill>
        <p:spPr>
          <a:xfrm>
            <a:off x="2895480" y="4572000"/>
            <a:ext cx="2689200" cy="1882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junk.jpg"/>
          <p:cNvPicPr/>
          <p:nvPr/>
        </p:nvPicPr>
        <p:blipFill>
          <a:blip r:embed="rId7"/>
          <a:stretch/>
        </p:blipFill>
        <p:spPr>
          <a:xfrm>
            <a:off x="4876920" y="1295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is the center of our solar syst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rd “solar” means “of the sun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sun is a medium-sized st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sun is medium-hot, and yellow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sun.jpg"/>
          <p:cNvPicPr/>
          <p:nvPr/>
        </p:nvPicPr>
        <p:blipFill>
          <a:blip r:embed="rId2"/>
          <a:stretch/>
        </p:blipFill>
        <p:spPr>
          <a:xfrm>
            <a:off x="3200400" y="4191120"/>
            <a:ext cx="2625840" cy="25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SunIm08_eclipse2.jpg"/>
          <p:cNvPicPr/>
          <p:nvPr/>
        </p:nvPicPr>
        <p:blipFill>
          <a:blip r:embed="rId3"/>
          <a:stretch/>
        </p:blipFill>
        <p:spPr>
          <a:xfrm>
            <a:off x="6248520" y="4495680"/>
            <a:ext cx="221904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sun flare.jpg"/>
          <p:cNvPicPr/>
          <p:nvPr/>
        </p:nvPicPr>
        <p:blipFill>
          <a:blip r:embed="rId4"/>
          <a:stretch/>
        </p:blipFill>
        <p:spPr>
          <a:xfrm>
            <a:off x="380880" y="4619520"/>
            <a:ext cx="2438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has layer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iddle is called the core – it is 27,000,000 degrees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outer layer is the chromosphe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layer under the chromosphere is the photosphere, where light and other forms of energy are relea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der the photosphere is the convective zone where heat is relea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layer above the core is the radiative zo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is made up of gass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ost abundant gas is Hydroge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ydrogen is undergoing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usio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o make Helium, which releases a huge amount of ener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ms of energy released include light, heat, and various rays, like X rays and gamma rays, which are forms of radi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Content Placeholder 3" descr="sun diagram.jpg"/>
          <p:cNvPicPr/>
          <p:nvPr/>
        </p:nvPicPr>
        <p:blipFill>
          <a:blip r:embed="rId1"/>
          <a:stretch/>
        </p:blipFill>
        <p:spPr>
          <a:xfrm>
            <a:off x="3809880" y="3200400"/>
            <a:ext cx="4700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1" name="Picture 4" descr="temp graph of sun.png"/>
          <p:cNvPicPr/>
          <p:nvPr/>
        </p:nvPicPr>
        <p:blipFill>
          <a:blip r:embed="rId1"/>
          <a:stretch/>
        </p:blipFill>
        <p:spPr>
          <a:xfrm>
            <a:off x="5410080" y="3886200"/>
            <a:ext cx="353376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unActiv_sunCutaway.gif"/>
          <p:cNvPicPr/>
          <p:nvPr/>
        </p:nvPicPr>
        <p:blipFill>
          <a:blip r:embed="rId2"/>
          <a:stretch/>
        </p:blipFill>
        <p:spPr>
          <a:xfrm>
            <a:off x="609480" y="1828800"/>
            <a:ext cx="4740480" cy="373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sun-full.gif"/>
          <p:cNvPicPr/>
          <p:nvPr/>
        </p:nvPicPr>
        <p:blipFill>
          <a:blip r:embed="rId3"/>
          <a:stretch/>
        </p:blipFill>
        <p:spPr>
          <a:xfrm>
            <a:off x="5410080" y="1522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inner four planets are formed mostly of roc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rcury is fir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very little atmosphe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n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VERY HOT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3" descr="mercury.jpg"/>
          <p:cNvPicPr/>
          <p:nvPr/>
        </p:nvPicPr>
        <p:blipFill>
          <a:blip r:embed="rId2"/>
          <a:stretch/>
        </p:blipFill>
        <p:spPr>
          <a:xfrm>
            <a:off x="4724280" y="3657600"/>
            <a:ext cx="4197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nus is seco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 has a very thick atmosphere, and this makes the temperature the highest in the solar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n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about the same size as Ear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3" descr="venus.jpg"/>
          <p:cNvPicPr/>
          <p:nvPr/>
        </p:nvPicPr>
        <p:blipFill>
          <a:blip r:embed="rId2"/>
          <a:stretch/>
        </p:blipFill>
        <p:spPr>
          <a:xfrm>
            <a:off x="304812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arth is thir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liquid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a medium-thick atmosph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one mo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’s where we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3" descr="earth 1.jpg"/>
          <p:cNvPicPr/>
          <p:nvPr/>
        </p:nvPicPr>
        <p:blipFill>
          <a:blip r:embed="rId2"/>
          <a:stretch/>
        </p:blipFill>
        <p:spPr>
          <a:xfrm>
            <a:off x="5257800" y="3429000"/>
            <a:ext cx="3287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s is four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a thinner atmosphere than Ear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surface 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gh winds sometim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w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3" descr="mars.jpg"/>
          <p:cNvPicPr/>
          <p:nvPr/>
        </p:nvPicPr>
        <p:blipFill>
          <a:blip r:embed="rId2"/>
          <a:stretch/>
        </p:blipFill>
        <p:spPr>
          <a:xfrm>
            <a:off x="4419720" y="3581280"/>
            <a:ext cx="3105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9:21:22Z</dcterms:created>
  <dc:creator>Ector County ISD Employee</dc:creator>
  <dc:description/>
  <dc:language>en-US</dc:language>
  <cp:lastModifiedBy>RomaK</cp:lastModifiedBy>
  <dcterms:modified xsi:type="dcterms:W3CDTF">2015-07-31T23:19:38Z</dcterms:modified>
  <cp:revision>54</cp:revision>
  <dc:subject/>
  <dc:title>Our Solar system</dc:title>
</cp:coreProperties>
</file>