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1781B-7E6F-4292-9BB8-6D945E20223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OLYNOM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OLYNOMI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phs of Odd fun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phs of Odd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phs of Even fun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phs of Even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eros of a polynomial fun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real number  r is a real zero of the polynomial f (x)  if f (r) =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r is a zero of the polynomial, then r is an x – intercep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r is a zero of the polynomial f (x) the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 (x) = (x – r) p (x), where p (x) is a polynom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eros of a polynomial fun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real number  r is a real zero of the polynomial f (x)  if f (r) =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r is a zero of the polynomial, then r is an x – intercep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r is a zero of the polynomial f (x) th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 (x) = (x – r) p (x), where p (x) is a polynom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intercepts of a polynom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r is an x – intercept of a polynomial x, the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( r ) = 0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r is an x – intercept then eith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The graph crosses the x axis at r  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The graph touches the x axis at 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tercepts of a polynom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r is an x – intercept of a polynomial x, th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( r ) = 0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r is an x – intercept then ei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The graph crosses the x axis at r  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The graph touches the x axis at 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lynom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olynomial is a function of the for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th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 real numbers and n is a nonnegative integer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omain of a polynomial function is the set of re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ynomi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olynomial is a function of the fo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real numbers and n is a nonnegative integer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omain of a polynomial function is the set of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egree of Polynomial Fun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egree, of a polynomial function in one variable is the largest power of 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e Page 183 for a  summary of the properties of polynomials of degree less than or equal to tw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low is a polynomial of degre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egree of Polynomial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egree, of a polynomial function in one variable is the largest power of 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Page 183 for a  summary of the properties of polynomials of degree less than or equal to tw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w is a polynomial of degre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perties of Polynomial Fun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graph of a polynomial function is a smooth and continuous cur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smooth curve is one that contains no Sharp corners or cusp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olynomial function is continuous if its graph  has  no breaks, gaps or ho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erties of Polynomial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raph of a polynomial function is a smooth and continuous cur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mooth curve is one that contains no Sharp corners or cusp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olynomial function is continuous if its graph  has  no breaks, gaps or ho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wer Fun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ower function if degree n, is a function of the for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a is a real number,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and n &gt; 0 is an integ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           (degree 4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degree 7) ,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degree 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wer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ower function if degree n, is a function of the for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a is a real number,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and n &gt; 0 is an inte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           (degree 4)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degree 7) 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degree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phs of even power function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olynomial function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even if n     2  is even.  The functions graphed above are even. Note as n gets larger the graph becomes flatter near the origin, between (-1, 1),  but increases when x &gt; 1 and when x &lt; -1.  As |x| gets bigger and bigger, the graph increases rapidl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phs of even power func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olynomial func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even if n     2  is even.  The functions graphed above are even. Note as n gets larger the graph becomes flatter near the origin, between (-1, 1),  but increases when x &gt; 1 and when x &lt; -1.  As |x| gets bigger and bigger, the graph increases rapid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perties of an even fun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omain of an even function is the set of  re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n functions are symmetric with th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-ax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graph of an even function contains the points (0, 0) (1,1) (-1, 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erties of an even fun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omain of an even function is the set of 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n functions are symmetric with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-ax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raph of an even function contains the points (0, 0) (1,1) (-1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phs of odd power fun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olynomial function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odd if n     3  is odd.  The functions graphed above are odd. Note as n gets larger the graph becomes flatter near the origin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1 &lt; x &lt;1 but increases  when x &gt; 1  or decreases whe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 &lt; -1 .  As |x| gets bigger and bigger, the graph increases for values of x greater than 1 and decreased rapidly for values of x less than or equal to -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phs of odd power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olynomial func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odd if n     3  is odd.  The functions graphed above are odd. Note as n gets larger the graph becomes flatter near the origin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 &lt; x &lt;1 but increases  when x &gt; 1  or decreases wh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 &lt; -1 .  As |x| gets bigger and bigger, the graph increases for values of x greater than 1 and decreased rapidly for values of x less than or equal to -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perties of an odd fun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omain of an odd function is the set of  re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dd functions are symmetric with th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rig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graph of an odd function contains the points (0, 0) (1,1) (-1,-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erties of an odd fun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omain of an odd function is the set of 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dd functions are symmetric with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ig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raph of an odd function contains the points (0, 0) (1,1) (-1,-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8E83B-77C9-4587-B2F4-89CF04B66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E5596-88AA-4B9E-9DDF-0CE7DBA61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B3487-F346-4E8C-982B-E12E1D9F1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5BCBA-3196-4B2F-8218-A563ABF6D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040D0-0E6B-4832-B489-AFFCD082C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160E4-2675-4938-942C-F580A5159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D4FF8-39F2-41F2-BF26-B7D040078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05DFB-585A-46A3-8168-615609F88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C694C-53FC-4F46-9DBD-CD100CEEA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2DADF-DB5C-48E9-8228-527EA7D23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71A39-5BA9-44F4-B7FD-D61DB19DD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10F12-3FFE-4E0F-ACC0-0E3623219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4BB89-21F8-416A-AE7C-C1532A84B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37572-40AA-4405-8499-568DF36A9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0443B-BDCD-4FF0-9FA6-96BCAF5EB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C713E-4542-4FB4-92F7-CFB8561B4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B074C-40A4-419B-A656-B1D2A8318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66425-4EF8-4AA7-945B-2F6187BE2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5B768-317B-4CA9-ACD7-9F7392832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12890-7FC5-4254-82A7-D5156E9EF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E308F-2CF3-45C1-9A86-E9E58B2CA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D7001-DFE0-49F8-AA8B-0C4A39136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C4755-08C5-49B0-80FA-446F576B9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54A26-54FE-4739-9855-BF8BBABF8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22E66-745D-4D0B-96AA-83FFDD277FD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1E113-12C4-4D54-A5AD-16CAB95F770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4"/>
          <p:cNvSpPr/>
          <p:nvPr/>
        </p:nvSpPr>
        <p:spPr>
          <a:xfrm>
            <a:off x="228600" y="2590920"/>
            <a:ext cx="8381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0" spc="-1" strike="noStrike">
                <a:solidFill>
                  <a:srgbClr val="ff0000"/>
                </a:solidFill>
                <a:latin typeface="comic"/>
              </a:rPr>
              <a:t>POLYNOMIAL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Graphs of Odd function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0" name="Object 5"/>
              <p:cNvSpPr txBox="1"/>
              <p:nvPr/>
            </p:nvSpPr>
            <p:spPr>
              <a:xfrm>
                <a:off x="7467480" y="3805200"/>
                <a:ext cx="1295640" cy="4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" name="Object 10"/>
              <p:cNvSpPr txBox="1"/>
              <p:nvPr/>
            </p:nvSpPr>
            <p:spPr>
              <a:xfrm>
                <a:off x="1066680" y="3048120"/>
                <a:ext cx="1143000" cy="5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pic>
        <p:nvPicPr>
          <p:cNvPr id="192" name="Picture 4" descr=""/>
          <p:cNvPicPr/>
          <p:nvPr/>
        </p:nvPicPr>
        <p:blipFill>
          <a:blip r:embed="rId1"/>
          <a:stretch/>
        </p:blipFill>
        <p:spPr>
          <a:xfrm>
            <a:off x="2286000" y="2057400"/>
            <a:ext cx="5029200" cy="4386240"/>
          </a:xfrm>
          <a:prstGeom prst="rect">
            <a:avLst/>
          </a:prstGeom>
          <a:ln w="0">
            <a:noFill/>
          </a:ln>
        </p:spPr>
      </p:pic>
      <p:sp>
        <p:nvSpPr>
          <p:cNvPr id="193" name="Line 17"/>
          <p:cNvSpPr/>
          <p:nvPr/>
        </p:nvSpPr>
        <p:spPr>
          <a:xfrm flipH="1" flipV="1">
            <a:off x="6095520" y="3885840"/>
            <a:ext cx="12193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4" name="Object 18"/>
              <p:cNvSpPr txBox="1"/>
              <p:nvPr/>
            </p:nvSpPr>
            <p:spPr>
              <a:xfrm>
                <a:off x="1143000" y="4572000"/>
                <a:ext cx="1447920" cy="38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5" name="Line 20"/>
          <p:cNvSpPr/>
          <p:nvPr/>
        </p:nvSpPr>
        <p:spPr>
          <a:xfrm flipV="1">
            <a:off x="2362320" y="43430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21"/>
          <p:cNvSpPr/>
          <p:nvPr/>
        </p:nvSpPr>
        <p:spPr>
          <a:xfrm flipV="1">
            <a:off x="2057400" y="2971800"/>
            <a:ext cx="1600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57240">
            <a:solidFill>
              <a:srgbClr val="b2b2b2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Graphs of Even function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9" name="Object 5"/>
              <p:cNvSpPr txBox="1"/>
              <p:nvPr/>
            </p:nvSpPr>
            <p:spPr>
              <a:xfrm>
                <a:off x="6095880" y="1905120"/>
                <a:ext cx="77472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" name="Object 9"/>
              <p:cNvSpPr txBox="1"/>
              <p:nvPr/>
            </p:nvSpPr>
            <p:spPr>
              <a:xfrm>
                <a:off x="2355840" y="4921200"/>
                <a:ext cx="92700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1" name="Object 11"/>
              <p:cNvSpPr txBox="1"/>
              <p:nvPr/>
            </p:nvSpPr>
            <p:spPr>
              <a:xfrm>
                <a:off x="6934320" y="2743200"/>
                <a:ext cx="190476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pic>
        <p:nvPicPr>
          <p:cNvPr id="202" name="Picture 4" descr=""/>
          <p:cNvPicPr/>
          <p:nvPr/>
        </p:nvPicPr>
        <p:blipFill>
          <a:blip r:embed="rId1"/>
          <a:stretch/>
        </p:blipFill>
        <p:spPr>
          <a:xfrm>
            <a:off x="1752480" y="2133720"/>
            <a:ext cx="3962520" cy="3728880"/>
          </a:xfrm>
          <a:prstGeom prst="rect">
            <a:avLst/>
          </a:prstGeom>
          <a:ln w="0">
            <a:noFill/>
          </a:ln>
        </p:spPr>
      </p:pic>
      <p:sp>
        <p:nvSpPr>
          <p:cNvPr id="203" name="Line 13"/>
          <p:cNvSpPr/>
          <p:nvPr/>
        </p:nvSpPr>
        <p:spPr>
          <a:xfrm flipH="1">
            <a:off x="5105520" y="304812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14"/>
          <p:cNvSpPr/>
          <p:nvPr/>
        </p:nvSpPr>
        <p:spPr>
          <a:xfrm flipH="1">
            <a:off x="3962520" y="2209680"/>
            <a:ext cx="220968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5" name="Object 16"/>
              <p:cNvSpPr txBox="1"/>
              <p:nvPr/>
            </p:nvSpPr>
            <p:spPr>
              <a:xfrm>
                <a:off x="609480" y="4419720"/>
                <a:ext cx="1295640" cy="43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6" name="Line 19"/>
          <p:cNvSpPr/>
          <p:nvPr/>
        </p:nvSpPr>
        <p:spPr>
          <a:xfrm flipV="1">
            <a:off x="1905120" y="4419360"/>
            <a:ext cx="91440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57240">
            <a:solidFill>
              <a:srgbClr val="b2b2b2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Zeros of a polynomial function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real number 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a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eal zer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the polynomial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 (x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if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(r)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=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r is a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zero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 the polynomial, then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 is an x – intercep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r is a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zero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 the polynomial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th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 (x) = (x – r) p (x), where p (x) is a polynom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The intercepts of a polynomial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r is an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x – intercep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a polynomial x, th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( r ) = 0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r is an x – intercep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n ei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The graph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ross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x axis at r  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The graph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ouch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x axis at 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57240">
            <a:solidFill>
              <a:srgbClr val="b2b2b2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90033"/>
                </a:solidFill>
                <a:latin typeface="Times New Roman"/>
              </a:rPr>
              <a:t>Polynomial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240" y="1523520"/>
            <a:ext cx="8534520" cy="4830840"/>
          </a:xfrm>
          <a:prstGeom prst="rect">
            <a:avLst/>
          </a:prstGeom>
          <a:noFill/>
          <a:ln w="9360">
            <a:solidFill>
              <a:srgbClr val="990033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polynomial is a function of the 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6"/>
          <p:cNvSpPr/>
          <p:nvPr/>
        </p:nvSpPr>
        <p:spPr>
          <a:xfrm>
            <a:off x="1219320" y="2286000"/>
            <a:ext cx="6172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Object 7"/>
              <p:cNvSpPr txBox="1"/>
              <p:nvPr/>
            </p:nvSpPr>
            <p:spPr>
              <a:xfrm>
                <a:off x="1274760" y="2286000"/>
                <a:ext cx="7051680" cy="53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0" name="Text Box 9"/>
          <p:cNvSpPr/>
          <p:nvPr/>
        </p:nvSpPr>
        <p:spPr>
          <a:xfrm>
            <a:off x="380880" y="312408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th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0"/>
          <p:cNvSpPr/>
          <p:nvPr/>
        </p:nvSpPr>
        <p:spPr>
          <a:xfrm>
            <a:off x="1981080" y="3124080"/>
            <a:ext cx="3124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Object 11"/>
              <p:cNvSpPr txBox="1"/>
              <p:nvPr/>
            </p:nvSpPr>
            <p:spPr>
              <a:xfrm>
                <a:off x="1828800" y="3124080"/>
                <a:ext cx="3200400" cy="46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</m:sub>
                    </m:sSub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4" name="Rectangle 14"/>
          <p:cNvSpPr/>
          <p:nvPr/>
        </p:nvSpPr>
        <p:spPr>
          <a:xfrm flipV="1">
            <a:off x="1752480" y="3275640"/>
            <a:ext cx="73915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5"/>
          <p:cNvSpPr/>
          <p:nvPr/>
        </p:nvSpPr>
        <p:spPr>
          <a:xfrm>
            <a:off x="990720" y="3581280"/>
            <a:ext cx="6629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9"/>
          <p:cNvSpPr/>
          <p:nvPr/>
        </p:nvSpPr>
        <p:spPr>
          <a:xfrm>
            <a:off x="685800" y="3733920"/>
            <a:ext cx="76201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 real numbers an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a nonnegative inte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oma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a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olynomi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unction is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set of real num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20"/>
          <p:cNvSpPr/>
          <p:nvPr/>
        </p:nvSpPr>
        <p:spPr>
          <a:xfrm>
            <a:off x="5562720" y="3352680"/>
            <a:ext cx="2666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22"/>
          <p:cNvSpPr/>
          <p:nvPr/>
        </p:nvSpPr>
        <p:spPr>
          <a:xfrm>
            <a:off x="685800" y="5181480"/>
            <a:ext cx="7391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57240">
            <a:solidFill>
              <a:srgbClr val="b2b2b2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The Degree of Polynomial Functions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1"/>
          <p:cNvSpPr/>
          <p:nvPr/>
        </p:nvSpPr>
        <p:spPr>
          <a:xfrm>
            <a:off x="914400" y="1905120"/>
            <a:ext cx="7620120" cy="44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Degre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of a polynomial function in one variable is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largest power of 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3"/>
          <p:cNvSpPr/>
          <p:nvPr/>
        </p:nvSpPr>
        <p:spPr>
          <a:xfrm>
            <a:off x="838080" y="4876920"/>
            <a:ext cx="769644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e Page 183 for a  summary of the properties of polynomials of degree less than or equal to tw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5"/>
          <p:cNvSpPr/>
          <p:nvPr/>
        </p:nvSpPr>
        <p:spPr>
          <a:xfrm>
            <a:off x="990720" y="3505320"/>
            <a:ext cx="79246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low is a polynomial of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degree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2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Object 27"/>
              <p:cNvSpPr txBox="1"/>
              <p:nvPr/>
            </p:nvSpPr>
            <p:spPr>
              <a:xfrm>
                <a:off x="2438280" y="4038480"/>
                <a:ext cx="274320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8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57240">
            <a:solidFill>
              <a:srgbClr val="b2b2b2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Properties of Polynomial Functions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30592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grap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a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polynomi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unction is a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moo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ontinuou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moo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urve is one that contains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o Sharp corners or cusp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7"/>
          <p:cNvSpPr/>
          <p:nvPr/>
        </p:nvSpPr>
        <p:spPr>
          <a:xfrm>
            <a:off x="762120" y="4114800"/>
            <a:ext cx="7696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228600" y="3809880"/>
            <a:ext cx="8686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polynomi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unction is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ontinuou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ts graph  has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no breaks, gaps or ho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57240">
            <a:solidFill>
              <a:srgbClr val="b2b2b2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Power Function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power function if degree n, is a function of the for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" name="Object 5"/>
              <p:cNvSpPr txBox="1"/>
              <p:nvPr/>
            </p:nvSpPr>
            <p:spPr>
              <a:xfrm>
                <a:off x="3144960" y="2666880"/>
                <a:ext cx="1293840" cy="44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37" name="Text Box 4"/>
          <p:cNvSpPr/>
          <p:nvPr/>
        </p:nvSpPr>
        <p:spPr>
          <a:xfrm>
            <a:off x="1828800" y="3040200"/>
            <a:ext cx="22096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7"/>
          <p:cNvSpPr/>
          <p:nvPr/>
        </p:nvSpPr>
        <p:spPr>
          <a:xfrm>
            <a:off x="380880" y="3352680"/>
            <a:ext cx="7162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a is a real number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and n &gt; 0 is an inte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8"/>
          <p:cNvSpPr/>
          <p:nvPr/>
        </p:nvSpPr>
        <p:spPr>
          <a:xfrm>
            <a:off x="3962520" y="380988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" name="Object 9"/>
              <p:cNvSpPr txBox="1"/>
              <p:nvPr/>
            </p:nvSpPr>
            <p:spPr>
              <a:xfrm>
                <a:off x="3962520" y="3352680"/>
                <a:ext cx="504720" cy="37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1" name="Text Box 11"/>
          <p:cNvSpPr/>
          <p:nvPr/>
        </p:nvSpPr>
        <p:spPr>
          <a:xfrm>
            <a:off x="762120" y="4419720"/>
            <a:ext cx="777240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s           (degree 4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degree 7) 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degree 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Object 12"/>
              <p:cNvSpPr txBox="1"/>
              <p:nvPr/>
            </p:nvSpPr>
            <p:spPr>
              <a:xfrm>
                <a:off x="2133720" y="4419720"/>
                <a:ext cx="609480" cy="35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44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Object 14"/>
              <p:cNvSpPr txBox="1"/>
              <p:nvPr/>
            </p:nvSpPr>
            <p:spPr>
              <a:xfrm>
                <a:off x="2133720" y="4800600"/>
                <a:ext cx="533160" cy="36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7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46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Object 16"/>
              <p:cNvSpPr txBox="1"/>
              <p:nvPr/>
            </p:nvSpPr>
            <p:spPr>
              <a:xfrm>
                <a:off x="2133720" y="5257800"/>
                <a:ext cx="56016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8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57240">
            <a:solidFill>
              <a:srgbClr val="b2b2b2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Graphs of even power functions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Object 6"/>
              <p:cNvSpPr txBox="1"/>
              <p:nvPr/>
            </p:nvSpPr>
            <p:spPr>
              <a:xfrm>
                <a:off x="1676520" y="2743200"/>
                <a:ext cx="68580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Object 10"/>
              <p:cNvSpPr txBox="1"/>
              <p:nvPr/>
            </p:nvSpPr>
            <p:spPr>
              <a:xfrm>
                <a:off x="1994040" y="2036880"/>
                <a:ext cx="718920" cy="4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pic>
        <p:nvPicPr>
          <p:cNvPr id="152" name="Picture 4" descr=""/>
          <p:cNvPicPr/>
          <p:nvPr/>
        </p:nvPicPr>
        <p:blipFill>
          <a:blip r:embed="rId1"/>
          <a:stretch/>
        </p:blipFill>
        <p:spPr>
          <a:xfrm>
            <a:off x="3073320" y="1827360"/>
            <a:ext cx="2590920" cy="244476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5"/>
          <p:cNvSpPr/>
          <p:nvPr/>
        </p:nvSpPr>
        <p:spPr>
          <a:xfrm>
            <a:off x="2209680" y="2057400"/>
            <a:ext cx="838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9"/>
          <p:cNvSpPr/>
          <p:nvPr/>
        </p:nvSpPr>
        <p:spPr>
          <a:xfrm>
            <a:off x="2971800" y="1676520"/>
            <a:ext cx="7621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12"/>
          <p:cNvSpPr/>
          <p:nvPr/>
        </p:nvSpPr>
        <p:spPr>
          <a:xfrm>
            <a:off x="990720" y="205740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13"/>
          <p:cNvSpPr/>
          <p:nvPr/>
        </p:nvSpPr>
        <p:spPr>
          <a:xfrm>
            <a:off x="2666880" y="2209680"/>
            <a:ext cx="83844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15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14"/>
              <p:cNvSpPr txBox="1"/>
              <p:nvPr/>
            </p:nvSpPr>
            <p:spPr>
              <a:xfrm>
                <a:off x="1828800" y="1523880"/>
                <a:ext cx="91440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6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59" name="Line 16"/>
          <p:cNvSpPr/>
          <p:nvPr/>
        </p:nvSpPr>
        <p:spPr>
          <a:xfrm flipV="1">
            <a:off x="2438280" y="2666520"/>
            <a:ext cx="6098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7"/>
          <p:cNvSpPr/>
          <p:nvPr/>
        </p:nvSpPr>
        <p:spPr>
          <a:xfrm>
            <a:off x="685800" y="4343400"/>
            <a:ext cx="7848720" cy="34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olynomial func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ve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f n     2  is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ve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 The functions graphed above are even. Note as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 gets lar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graph becomes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latter near the origin, between (-1, 1),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increases when x &gt; 1 and when x &lt; -1.  As |x| gets bigger and bigger, the graph increases rapid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Object 18"/>
              <p:cNvSpPr txBox="1"/>
              <p:nvPr/>
            </p:nvSpPr>
            <p:spPr>
              <a:xfrm>
                <a:off x="4114800" y="4343400"/>
                <a:ext cx="1143000" cy="36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Object 20"/>
              <p:cNvSpPr txBox="1"/>
              <p:nvPr/>
            </p:nvSpPr>
            <p:spPr>
              <a:xfrm>
                <a:off x="6934320" y="4419720"/>
                <a:ext cx="241200" cy="30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64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38160">
            <a:solidFill>
              <a:srgbClr val="b2b2b2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Properties of an even function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doma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n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eve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unction is the set of  real nu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Eve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unctions a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ymmetri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th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y-ax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grap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n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even func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tai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e points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(0, 0) (1,1) (-1, 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57240">
            <a:solidFill>
              <a:srgbClr val="b2b2b2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Graphs of odd power function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Object 8"/>
              <p:cNvSpPr txBox="1"/>
              <p:nvPr/>
            </p:nvSpPr>
            <p:spPr>
              <a:xfrm>
                <a:off x="2762280" y="2617920"/>
                <a:ext cx="117360" cy="15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pic>
        <p:nvPicPr>
          <p:cNvPr id="170" name="Picture 5" descr=""/>
          <p:cNvPicPr/>
          <p:nvPr/>
        </p:nvPicPr>
        <p:blipFill>
          <a:blip r:embed="rId1"/>
          <a:stretch/>
        </p:blipFill>
        <p:spPr>
          <a:xfrm>
            <a:off x="2786040" y="1600200"/>
            <a:ext cx="2300400" cy="2216160"/>
          </a:xfrm>
          <a:prstGeom prst="rect">
            <a:avLst/>
          </a:prstGeom>
          <a:ln w="0">
            <a:noFill/>
          </a:ln>
        </p:spPr>
      </p:pic>
      <p:sp>
        <p:nvSpPr>
          <p:cNvPr id="171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" name="Object 6"/>
              <p:cNvSpPr txBox="1"/>
              <p:nvPr/>
            </p:nvSpPr>
            <p:spPr>
              <a:xfrm>
                <a:off x="3886200" y="3886200"/>
                <a:ext cx="990720" cy="36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73" name="Rectangle 11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4" name="Object 10"/>
              <p:cNvSpPr txBox="1"/>
              <p:nvPr/>
            </p:nvSpPr>
            <p:spPr>
              <a:xfrm>
                <a:off x="5334120" y="1600200"/>
                <a:ext cx="76176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75" name="Text Box 18"/>
          <p:cNvSpPr/>
          <p:nvPr/>
        </p:nvSpPr>
        <p:spPr>
          <a:xfrm>
            <a:off x="5257800" y="2895480"/>
            <a:ext cx="1143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6" name="Object 21"/>
              <p:cNvSpPr txBox="1"/>
              <p:nvPr/>
            </p:nvSpPr>
            <p:spPr>
              <a:xfrm>
                <a:off x="2514600" y="1600200"/>
                <a:ext cx="68580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" name="Object 23"/>
              <p:cNvSpPr txBox="1"/>
              <p:nvPr/>
            </p:nvSpPr>
            <p:spPr>
              <a:xfrm>
                <a:off x="1828800" y="2330280"/>
                <a:ext cx="762120" cy="43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7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78" name="Line 25"/>
          <p:cNvSpPr/>
          <p:nvPr/>
        </p:nvSpPr>
        <p:spPr>
          <a:xfrm>
            <a:off x="3200400" y="1905120"/>
            <a:ext cx="11430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27"/>
          <p:cNvSpPr/>
          <p:nvPr/>
        </p:nvSpPr>
        <p:spPr>
          <a:xfrm flipV="1">
            <a:off x="2590920" y="2361960"/>
            <a:ext cx="1600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28"/>
          <p:cNvSpPr/>
          <p:nvPr/>
        </p:nvSpPr>
        <p:spPr>
          <a:xfrm flipH="1">
            <a:off x="4495320" y="1828800"/>
            <a:ext cx="685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32"/>
          <p:cNvSpPr/>
          <p:nvPr/>
        </p:nvSpPr>
        <p:spPr>
          <a:xfrm>
            <a:off x="380880" y="3809880"/>
            <a:ext cx="8382240" cy="334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olynomial func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od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n     3  is odd.  The functions graphed above are odd. Note as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 gets lar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graph becomes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latter near the origin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1 &lt; x &lt;1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increases  when x &gt; 1  or decreases wh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 &lt; -1 .  As |x| gets bigger and bigger, the graph increases for values of x greater than 1 and decreased rapidly for values of x less than or equal to -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3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" name="Object 35"/>
              <p:cNvSpPr txBox="1"/>
              <p:nvPr/>
            </p:nvSpPr>
            <p:spPr>
              <a:xfrm>
                <a:off x="6477120" y="3962520"/>
                <a:ext cx="18576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84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57240">
            <a:solidFill>
              <a:srgbClr val="b2b2b2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Properties of an odd function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4"/>
          <p:cNvSpPr/>
          <p:nvPr/>
        </p:nvSpPr>
        <p:spPr>
          <a:xfrm>
            <a:off x="685800" y="1752480"/>
            <a:ext cx="7848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domai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an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od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unction is the set of  real numb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Od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unctions are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symmetri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ith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orig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grap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an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odd func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tai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 points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(0, 0) (1,1) (-1,-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0T16:34:36Z</dcterms:created>
  <dc:creator>Yvonne Powell</dc:creator>
  <dc:description/>
  <dc:language>en-US</dc:language>
  <cp:lastModifiedBy>LEGION</cp:lastModifiedBy>
  <dcterms:modified xsi:type="dcterms:W3CDTF">2017-07-06T06:38:14Z</dcterms:modified>
  <cp:revision>18</cp:revision>
  <dc:subject/>
  <dc:title>Polynomials</dc:title>
</cp:coreProperties>
</file>