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BC4ED-58E6-43A8-B1F1-1B35BF772BF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s of Odd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 of Odd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s of Even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 of Even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eros of a polynomial 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real number  r is a real zero of the polynomial f (x)  if f (r) =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r is a zero of the polynomial, then r is an x – intercep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r is a zero of the polynomial f (x) the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(x) = (x – r) p (x), where p (x) is a poly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ros of a polynomial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al number  r is a real zero of the polynomial f (x)  if f (r) 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r is a zero of the polynomial, then r is an x – intercep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r is a zero of the polynomial f (x)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(x) = (x – r) p (x), where p (x) is a poly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tercepts of a poly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r is an x – intercept of a polynomial x, the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 r ) = 0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r is an x – intercept then ei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The graph crosses the x axis at r  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The graph touches the x axis at 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tercepts of a poly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r is an x – intercept of a polynomial x,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( r ) = 0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r is an x – intercept then ei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The graph crosses the x axis at r 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The graph touches the x axis at 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lynomial is a function of the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real numbers and n is a nonnegative integer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main of a polynomial function is the set of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lynomial is a function of the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real numbers and n is a nonnegative integer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of a polynomial function is the set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gree of Polynomi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gree, of a polynomial function in one variable is the largest power of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Page 183 for a  summary of the properties of polynomials of degree less than or equal to 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low is a polynomial of degre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gree of Polynomial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gree, of a polynomial function in one variable is the largest power of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Page 183 for a  summary of the properties of polynomials of degree less than or equal to t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w is a polynomial of degre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erties of Polynomi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aph of a polynomial function is a smooth and continuous cur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mooth curve is one that contains no Sharp corners or cusp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lynomial function is continuous if its graph  has  no breaks, gaps or h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Polynomial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aph of a polynomial function is a smooth and continuous cur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mooth curve is one that contains no Sharp corners or cusp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lynomial function is continuous if its graph  has  no breaks, gaps or h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er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wer function if degree n, is a function of the for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a is a real number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and n &gt; 0 is an integ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          (degree 4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degree 7) 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degree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wer function if degree n, is a function of the for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a is a real number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and n &gt; 0 is an inte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          (degree 4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egree 7) 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egree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s of even power functi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lynomial func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even if n     2  is even.  The functions graphed above are even. Note as n gets larger the graph becomes flatter near the origin, between (-1, 1),  but increases when x &gt; 1 and when x &lt; -1.  As |x| gets bigger and bigger, the graph increases rapid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 of even power func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lynomial 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even if n     2  is even.  The functions graphed above are even. Note as n gets larger the graph becomes flatter near the origin, between (-1, 1),  but increases when x &gt; 1 and when x &lt; -1.  As |x| gets bigger and bigger, the graph increases rapid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erties of an even 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main of an even function is the set of 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n functions are symmetric with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-ax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aph of an even function contains the points (0, 0) (1,1) (-1,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an even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of an even function is the set of 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functions are symmetric with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-ax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aph of an even function contains the points (0, 0) (1,1) (-1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s of odd power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lynomial func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odd if n     3  is odd.  The functions graphed above are odd. Note as n gets larger the graph becomes flatter near the origin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 &lt; x &lt;1 but increases  when x &gt; 1  or decreases whe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&lt; -1 .  As |x| gets bigger and bigger, the graph increases for values of x greater than 1 and decreased rapidly for values of x less than or equal to -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 of odd power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lynomial 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odd if n     3  is odd.  The functions graphed above are odd. Note as n gets larger the graph becomes flatter near the origin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 &lt; x &lt;1 but increases  when x &gt; 1  or decreases w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&lt; -1 .  As |x| gets bigger and bigger, the graph increases for values of x greater than 1 and decreased rapidly for values of x less than or equal to -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erties of an odd 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main of an odd function is the set of 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dd functions are symmetric with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i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aph of an odd function contains the points (0, 0) (1,1) (-1,-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an odd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of an odd function is the set of 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d functions are symmetric with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aph of an odd function contains the points (0, 0) (1,1) (-1,-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812F-E212-48C3-AAB4-B3ED85EB8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8439-61F7-4BB6-9064-E0A216C6F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998D-E629-4D28-9638-66D04B037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070F-9C66-4712-B349-C43F681FE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B970B-025E-4F62-9A16-E47BFB9FB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B6503-4B7B-49AF-B202-921803CF8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C0138-1DFB-42FC-A475-7C82E7D97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1D6D8-E47E-4671-B69D-F04AF5964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8A148-A9CF-4CAE-866F-4564A6047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6E96B-2BFA-4330-9CF1-44D15E709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9B575-C6BD-4ADA-BE23-220662CD1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751D-CCBD-4535-BF38-C4C75F62D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1CE09-3AC5-4D20-B052-0851DB19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61243-10F7-4193-843D-525476763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1F1BA-9C9C-4983-97EA-5985B72A5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FAD9F-971E-4852-B03C-8C9B1C758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B1B12-2CFA-4ABF-B2AA-380CDB68F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A476-0C50-4A91-812E-617311DBF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4318-356D-40D2-821B-221EED8F0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2017-EE3B-4C73-BE28-297A13F7A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3FAB-D1E7-4ED0-9DF7-98D944BF2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2454-05B5-4E9A-B16E-CFA572EC3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9DD3-4C51-4379-91EF-732B0A52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54CE-C887-4650-A455-F09AB1DD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06F6C-629C-4C07-BA82-ED8E5EDFD8C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D6667-55F0-489E-981E-7B317C8EB67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228600" y="2590920"/>
            <a:ext cx="8381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0000"/>
                </a:solidFill>
                <a:latin typeface="comic"/>
              </a:rPr>
              <a:t>POLYNOMIAL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Graphs of Odd funct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5"/>
              <p:cNvSpPr txBox="1"/>
              <p:nvPr/>
            </p:nvSpPr>
            <p:spPr>
              <a:xfrm>
                <a:off x="7467480" y="3805200"/>
                <a:ext cx="129564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10"/>
              <p:cNvSpPr txBox="1"/>
              <p:nvPr/>
            </p:nvSpPr>
            <p:spPr>
              <a:xfrm>
                <a:off x="1066680" y="3048120"/>
                <a:ext cx="114300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2286000" y="2057400"/>
            <a:ext cx="5029200" cy="4386240"/>
          </a:xfrm>
          <a:prstGeom prst="rect">
            <a:avLst/>
          </a:prstGeom>
          <a:ln w="0">
            <a:noFill/>
          </a:ln>
        </p:spPr>
      </p:pic>
      <p:sp>
        <p:nvSpPr>
          <p:cNvPr id="193" name="Line 17"/>
          <p:cNvSpPr/>
          <p:nvPr/>
        </p:nvSpPr>
        <p:spPr>
          <a:xfrm flipH="1" flipV="1">
            <a:off x="6095520" y="3885840"/>
            <a:ext cx="1219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18"/>
              <p:cNvSpPr txBox="1"/>
              <p:nvPr/>
            </p:nvSpPr>
            <p:spPr>
              <a:xfrm>
                <a:off x="1143000" y="4572000"/>
                <a:ext cx="144792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5" name="Line 20"/>
          <p:cNvSpPr/>
          <p:nvPr/>
        </p:nvSpPr>
        <p:spPr>
          <a:xfrm flipV="1">
            <a:off x="2362320" y="43430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1"/>
          <p:cNvSpPr/>
          <p:nvPr/>
        </p:nvSpPr>
        <p:spPr>
          <a:xfrm flipV="1">
            <a:off x="2057400" y="2971800"/>
            <a:ext cx="1600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57240">
            <a:solidFill>
              <a:srgbClr val="b2b2b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Graphs of Even funct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Object 5"/>
              <p:cNvSpPr txBox="1"/>
              <p:nvPr/>
            </p:nvSpPr>
            <p:spPr>
              <a:xfrm>
                <a:off x="6095880" y="1905120"/>
                <a:ext cx="77472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9"/>
              <p:cNvSpPr txBox="1"/>
              <p:nvPr/>
            </p:nvSpPr>
            <p:spPr>
              <a:xfrm>
                <a:off x="2355840" y="4921200"/>
                <a:ext cx="9270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11"/>
              <p:cNvSpPr txBox="1"/>
              <p:nvPr/>
            </p:nvSpPr>
            <p:spPr>
              <a:xfrm>
                <a:off x="6934320" y="2743200"/>
                <a:ext cx="19047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202" name="Picture 4" descr=""/>
          <p:cNvPicPr/>
          <p:nvPr/>
        </p:nvPicPr>
        <p:blipFill>
          <a:blip r:embed="rId1"/>
          <a:stretch/>
        </p:blipFill>
        <p:spPr>
          <a:xfrm>
            <a:off x="1752480" y="2133720"/>
            <a:ext cx="3962520" cy="3728880"/>
          </a:xfrm>
          <a:prstGeom prst="rect">
            <a:avLst/>
          </a:prstGeom>
          <a:ln w="0">
            <a:noFill/>
          </a:ln>
        </p:spPr>
      </p:pic>
      <p:sp>
        <p:nvSpPr>
          <p:cNvPr id="203" name="Line 13"/>
          <p:cNvSpPr/>
          <p:nvPr/>
        </p:nvSpPr>
        <p:spPr>
          <a:xfrm flipH="1">
            <a:off x="5105520" y="304812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4"/>
          <p:cNvSpPr/>
          <p:nvPr/>
        </p:nvSpPr>
        <p:spPr>
          <a:xfrm flipH="1">
            <a:off x="3962520" y="2209680"/>
            <a:ext cx="22096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16"/>
              <p:cNvSpPr txBox="1"/>
              <p:nvPr/>
            </p:nvSpPr>
            <p:spPr>
              <a:xfrm>
                <a:off x="609480" y="4419720"/>
                <a:ext cx="129564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6" name="Line 19"/>
          <p:cNvSpPr/>
          <p:nvPr/>
        </p:nvSpPr>
        <p:spPr>
          <a:xfrm flipV="1">
            <a:off x="1905120" y="4419360"/>
            <a:ext cx="9144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57240">
            <a:solidFill>
              <a:srgbClr val="b2b2b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Zeros of a polynomial func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al number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eal ze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polynomia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 (x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i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(r)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r is a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zer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the polynomial, then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 is an x – interce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r is a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zer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the polynomia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th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 (x) = (x – r) p (x), where p (x) is a polynom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The intercepts of a polynomial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r is a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x – intercep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 polynomial x, th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( r ) = 0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 is an x – intercep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n ei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The graph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ros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x axis at r 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The graph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ouch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x axis at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57240">
            <a:solidFill>
              <a:srgbClr val="b2b2b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0033"/>
                </a:solidFill>
                <a:latin typeface="Times New Roman"/>
              </a:rPr>
              <a:t>Polynomial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534520" cy="4830840"/>
          </a:xfrm>
          <a:prstGeom prst="rect">
            <a:avLst/>
          </a:prstGeom>
          <a:noFill/>
          <a:ln w="9360">
            <a:solidFill>
              <a:srgbClr val="990033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polynomial is a function of the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1219320" y="2286000"/>
            <a:ext cx="617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7"/>
              <p:cNvSpPr txBox="1"/>
              <p:nvPr/>
            </p:nvSpPr>
            <p:spPr>
              <a:xfrm>
                <a:off x="1274760" y="2286000"/>
                <a:ext cx="705168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0" name="Text Box 9"/>
          <p:cNvSpPr/>
          <p:nvPr/>
        </p:nvSpPr>
        <p:spPr>
          <a:xfrm>
            <a:off x="380880" y="31240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t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1981080" y="3124080"/>
            <a:ext cx="3124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11"/>
              <p:cNvSpPr txBox="1"/>
              <p:nvPr/>
            </p:nvSpPr>
            <p:spPr>
              <a:xfrm>
                <a:off x="1828800" y="3124080"/>
                <a:ext cx="320040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4" name="Rectangle 14"/>
          <p:cNvSpPr/>
          <p:nvPr/>
        </p:nvSpPr>
        <p:spPr>
          <a:xfrm flipV="1">
            <a:off x="1752480" y="3275640"/>
            <a:ext cx="73915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990720" y="3581280"/>
            <a:ext cx="6629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9"/>
          <p:cNvSpPr/>
          <p:nvPr/>
        </p:nvSpPr>
        <p:spPr>
          <a:xfrm>
            <a:off x="685800" y="3733920"/>
            <a:ext cx="7620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real numbers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nonnegative inte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om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olynomi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 i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set of real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0"/>
          <p:cNvSpPr/>
          <p:nvPr/>
        </p:nvSpPr>
        <p:spPr>
          <a:xfrm>
            <a:off x="5562720" y="3352680"/>
            <a:ext cx="2666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2"/>
          <p:cNvSpPr/>
          <p:nvPr/>
        </p:nvSpPr>
        <p:spPr>
          <a:xfrm>
            <a:off x="685800" y="518148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57240">
            <a:solidFill>
              <a:srgbClr val="b2b2b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The Degree of Polynomial Function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914400" y="1905120"/>
            <a:ext cx="7620120" cy="44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egre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f a polynomial function in one variable is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argest power of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3"/>
          <p:cNvSpPr/>
          <p:nvPr/>
        </p:nvSpPr>
        <p:spPr>
          <a:xfrm>
            <a:off x="838080" y="4876920"/>
            <a:ext cx="769644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Page 183 for a  summary of the properties of polynomials of degree less than or equal to tw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5"/>
          <p:cNvSpPr/>
          <p:nvPr/>
        </p:nvSpPr>
        <p:spPr>
          <a:xfrm>
            <a:off x="990720" y="3505320"/>
            <a:ext cx="7924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low is a polynomial of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egre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27"/>
              <p:cNvSpPr txBox="1"/>
              <p:nvPr/>
            </p:nvSpPr>
            <p:spPr>
              <a:xfrm>
                <a:off x="2438280" y="4038480"/>
                <a:ext cx="27432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57240">
            <a:solidFill>
              <a:srgbClr val="b2b2b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Properties of Polynomial Function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rap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olynomi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 is 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moo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ntinuou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moo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urve is one that contain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 Sharp corners or cus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762120" y="4114800"/>
            <a:ext cx="769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228600" y="380988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olynomi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unction is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ntinuou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ts graph  has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o breaks, gaps or h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57240">
            <a:solidFill>
              <a:srgbClr val="b2b2b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ower Funct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ower function if degree n, is a function of the for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5"/>
              <p:cNvSpPr txBox="1"/>
              <p:nvPr/>
            </p:nvSpPr>
            <p:spPr>
              <a:xfrm>
                <a:off x="3144960" y="2666880"/>
                <a:ext cx="129384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7" name="Text Box 4"/>
          <p:cNvSpPr/>
          <p:nvPr/>
        </p:nvSpPr>
        <p:spPr>
          <a:xfrm>
            <a:off x="1828800" y="3040200"/>
            <a:ext cx="2209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380880" y="335268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a is a real number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and n &gt; 0 is an inte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3962520" y="380988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9"/>
              <p:cNvSpPr txBox="1"/>
              <p:nvPr/>
            </p:nvSpPr>
            <p:spPr>
              <a:xfrm>
                <a:off x="3962520" y="3352680"/>
                <a:ext cx="50472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1" name="Text Box 11"/>
          <p:cNvSpPr/>
          <p:nvPr/>
        </p:nvSpPr>
        <p:spPr>
          <a:xfrm>
            <a:off x="762120" y="4419720"/>
            <a:ext cx="77724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s           (degree 4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egree 7) 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egree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12"/>
              <p:cNvSpPr txBox="1"/>
              <p:nvPr/>
            </p:nvSpPr>
            <p:spPr>
              <a:xfrm>
                <a:off x="2133720" y="4419720"/>
                <a:ext cx="60948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4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14"/>
              <p:cNvSpPr txBox="1"/>
              <p:nvPr/>
            </p:nvSpPr>
            <p:spPr>
              <a:xfrm>
                <a:off x="2133720" y="4800600"/>
                <a:ext cx="53316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6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16"/>
              <p:cNvSpPr txBox="1"/>
              <p:nvPr/>
            </p:nvSpPr>
            <p:spPr>
              <a:xfrm>
                <a:off x="2133720" y="5257800"/>
                <a:ext cx="56016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57240">
            <a:solidFill>
              <a:srgbClr val="b2b2b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Graphs of even power functions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6"/>
              <p:cNvSpPr txBox="1"/>
              <p:nvPr/>
            </p:nvSpPr>
            <p:spPr>
              <a:xfrm>
                <a:off x="1676520" y="2743200"/>
                <a:ext cx="6858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10"/>
              <p:cNvSpPr txBox="1"/>
              <p:nvPr/>
            </p:nvSpPr>
            <p:spPr>
              <a:xfrm>
                <a:off x="1994040" y="2036880"/>
                <a:ext cx="71892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3073320" y="1827360"/>
            <a:ext cx="2590920" cy="244476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2209680" y="2057400"/>
            <a:ext cx="83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9"/>
          <p:cNvSpPr/>
          <p:nvPr/>
        </p:nvSpPr>
        <p:spPr>
          <a:xfrm>
            <a:off x="2971800" y="167652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2"/>
          <p:cNvSpPr/>
          <p:nvPr/>
        </p:nvSpPr>
        <p:spPr>
          <a:xfrm>
            <a:off x="990720" y="205740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3"/>
          <p:cNvSpPr/>
          <p:nvPr/>
        </p:nvSpPr>
        <p:spPr>
          <a:xfrm>
            <a:off x="2666880" y="2209680"/>
            <a:ext cx="83844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5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14"/>
              <p:cNvSpPr txBox="1"/>
              <p:nvPr/>
            </p:nvSpPr>
            <p:spPr>
              <a:xfrm>
                <a:off x="1828800" y="1523880"/>
                <a:ext cx="9144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9" name="Line 16"/>
          <p:cNvSpPr/>
          <p:nvPr/>
        </p:nvSpPr>
        <p:spPr>
          <a:xfrm flipV="1">
            <a:off x="2438280" y="2666520"/>
            <a:ext cx="6098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685800" y="4343400"/>
            <a:ext cx="784872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lynomial fun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v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 n     2  i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v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The functions graphed above are even. Note a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 gets lar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graph become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latter near the origin, between (-1, 1),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increases when x &gt; 1 and when x &lt; -1.  As |x| gets bigger and bigger, the graph increases rapid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18"/>
              <p:cNvSpPr txBox="1"/>
              <p:nvPr/>
            </p:nvSpPr>
            <p:spPr>
              <a:xfrm>
                <a:off x="4114800" y="4343400"/>
                <a:ext cx="114300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20"/>
              <p:cNvSpPr txBox="1"/>
              <p:nvPr/>
            </p:nvSpPr>
            <p:spPr>
              <a:xfrm>
                <a:off x="6934320" y="4419720"/>
                <a:ext cx="24120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38160">
            <a:solidFill>
              <a:srgbClr val="b2b2b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roperties of an even func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oma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n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v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unction is the set of  re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v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unctions a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ymmetr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y-ax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rap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n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ven fun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ai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points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0, 0) (1,1) (-1,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57240">
            <a:solidFill>
              <a:srgbClr val="b2b2b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Graphs of odd power funct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8"/>
              <p:cNvSpPr txBox="1"/>
              <p:nvPr/>
            </p:nvSpPr>
            <p:spPr>
              <a:xfrm>
                <a:off x="2762280" y="2617920"/>
                <a:ext cx="11736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70" name="Picture 5" descr=""/>
          <p:cNvPicPr/>
          <p:nvPr/>
        </p:nvPicPr>
        <p:blipFill>
          <a:blip r:embed="rId1"/>
          <a:stretch/>
        </p:blipFill>
        <p:spPr>
          <a:xfrm>
            <a:off x="2786040" y="1600200"/>
            <a:ext cx="2300400" cy="221616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6"/>
              <p:cNvSpPr txBox="1"/>
              <p:nvPr/>
            </p:nvSpPr>
            <p:spPr>
              <a:xfrm>
                <a:off x="3886200" y="3886200"/>
                <a:ext cx="99072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3" name="Rectangle 11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10"/>
              <p:cNvSpPr txBox="1"/>
              <p:nvPr/>
            </p:nvSpPr>
            <p:spPr>
              <a:xfrm>
                <a:off x="5334120" y="1600200"/>
                <a:ext cx="7617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5" name="Text Box 18"/>
          <p:cNvSpPr/>
          <p:nvPr/>
        </p:nvSpPr>
        <p:spPr>
          <a:xfrm>
            <a:off x="5257800" y="28954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21"/>
              <p:cNvSpPr txBox="1"/>
              <p:nvPr/>
            </p:nvSpPr>
            <p:spPr>
              <a:xfrm>
                <a:off x="2514600" y="1600200"/>
                <a:ext cx="68580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23"/>
              <p:cNvSpPr txBox="1"/>
              <p:nvPr/>
            </p:nvSpPr>
            <p:spPr>
              <a:xfrm>
                <a:off x="1828800" y="2330280"/>
                <a:ext cx="76212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8" name="Line 25"/>
          <p:cNvSpPr/>
          <p:nvPr/>
        </p:nvSpPr>
        <p:spPr>
          <a:xfrm>
            <a:off x="3200400" y="1905120"/>
            <a:ext cx="11430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7"/>
          <p:cNvSpPr/>
          <p:nvPr/>
        </p:nvSpPr>
        <p:spPr>
          <a:xfrm flipV="1">
            <a:off x="2590920" y="2361960"/>
            <a:ext cx="1600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28"/>
          <p:cNvSpPr/>
          <p:nvPr/>
        </p:nvSpPr>
        <p:spPr>
          <a:xfrm flipH="1">
            <a:off x="4495320" y="18288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2"/>
          <p:cNvSpPr/>
          <p:nvPr/>
        </p:nvSpPr>
        <p:spPr>
          <a:xfrm>
            <a:off x="380880" y="3809880"/>
            <a:ext cx="8382240" cy="33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lynomial fun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d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     3  is odd.  The functions graphed above are odd. Note a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 gets lar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graph become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latter near the origi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1 &lt; x &lt;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increases  when x &gt; 1  or decreases wh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&lt; -1 .  As |x| gets bigger and bigger, the graph increases for values of x greater than 1 and decreased rapidly for values of x less than or equal to -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35"/>
              <p:cNvSpPr txBox="1"/>
              <p:nvPr/>
            </p:nvSpPr>
            <p:spPr>
              <a:xfrm>
                <a:off x="6477120" y="3962520"/>
                <a:ext cx="1857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8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57240">
            <a:solidFill>
              <a:srgbClr val="b2b2b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roperties of an odd func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685800" y="1752480"/>
            <a:ext cx="784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om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an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d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unction is the set of  real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d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unctions ar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ymmetr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ri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rap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an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dd fun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ai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point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(0, 0) (1,1) (-1,-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0T16:34:36Z</dcterms:created>
  <dc:creator>Yvonne Powell</dc:creator>
  <dc:description/>
  <dc:language>en-US</dc:language>
  <cp:lastModifiedBy>LEGION</cp:lastModifiedBy>
  <dcterms:modified xsi:type="dcterms:W3CDTF">2017-07-06T06:38:14Z</dcterms:modified>
  <cp:revision>18</cp:revision>
  <dc:subject/>
  <dc:title>Polynomials</dc:title>
</cp:coreProperties>
</file>