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2158-7BFC-403A-9A74-680904CB4E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Odd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Odd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Even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Eve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s of a 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al number  r is a real zero of the polynomial f (x)  if f (r) 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 zero of the polynomial, then r is an x – intercep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 zero of the polynomial f (x) th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(x – r) p (x), where p (x) is a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s of a polynomi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al number  r is a real zero of the polynomial f (x)  if f (r) 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 zero of the polynomial, then r is an x – interce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 zero of the polynomial f (x)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(x – r) p (x), where p (x) is a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cepts of a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n x – intercept of a polynomial x, th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 r ) = 0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n x – intercept then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he graph crosses the x axis at r 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graph touches the x axis at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cepts of a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n x – intercept of a polynomial x,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 r ) = 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n x – intercept then ei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graph crosses the x axis at r 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graph touches the x axis at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is a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real numbers and n is a nonnegative integ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of a polynomial function is the set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is a function of th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real numbers and n is a nonnegative integ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a polynomial function is the set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, of a polynomial function in one variable is the largest power 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Page 183 for a  summary of the properties of polynomials of degree less than or equal to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is a polynomial of degre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gree of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gree, of a polynomial function in one variable is the largest power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Page 183 for a  summary of the properties of polynomials of degree less than or equal to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is a polynomial of degre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 polynomial function is a smooth and continuous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ooth curve is one that contains no Sharp corners or cusp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is continuous if its graph  has  no breaks, gaps or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 polynomial function is a smooth and continuous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ooth curve is one that contains no Sharp corners or cus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function is continuous if its graph  has  no breaks, gaps or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wer function if degree n, is a function of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 is a real number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and n &gt; 0 is an inte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          (degree 4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gree 7) 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gree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wer function if degree n, is a function of the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 is a real number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nd n &gt; 0 is an 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          (degree 4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gree 7) 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gre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even power fun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even if n     2  is even.  The functions graphed above are even. Note as n gets larger the graph becomes flatter near the origin, between (-1, 1),  but increases when x &gt; 1 and when x &lt; -1.  As |x| gets bigger and bigger, the graph increases rapid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even power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ven if n     2  is even.  The functions graphed above are even. Note as n gets larger the graph becomes flatter near the origin, between (-1, 1),  but increases when x &gt; 1 and when x &lt; -1.  As |x| gets bigger and bigger, the graph increases rapi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an even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of an even function is the set of 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functions are symmetric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n even function contains the points (0, 0) (1,1)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an even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an even function is the set of 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functions are symmetric with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n even function contains the points (0, 0) (1,1)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odd power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odd if n     3  is odd.  The functions graphed above are odd. Note as n gets larger the graph becomes flatter near the orig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&lt; x &lt;1 but increases  when x &gt; 1  or decreases wh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&lt; -1 .  As |x| gets bigger and bigger, the graph increases for values of x greater than 1 and decreased rapidly for values of x less than or equal to 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odd 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dd if n     3  is odd.  The functions graphed above are odd. Note as n gets larger the graph becomes flatter near the origi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&lt; x &lt;1 but increases  when x &gt; 1  or decreases w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lt; -1 .  As |x| gets bigger and bigger, the graph increases for values of x greater than 1 and decreased rapidly for values of x less than or equal to -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an odd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of an odd function is the set of 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d functions are symmetric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n odd function contains the points (0, 0) (1,1) (-1,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an od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an odd function is the set of 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functions are symmetric with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n odd function contains the points (0, 0) (1,1) (-1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E7B8-14A2-4539-A719-90FB8871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22F-82E0-4C1D-B264-0371258E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1B9-C552-47D3-A496-23C9615B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E672-E0F0-4098-82C8-433C8FC0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99C5-2A9C-4795-9EDE-291DA88D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8487-7C02-4404-9AEE-C547C9C2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2CDA-57E7-4826-B5CF-7C7AAD0E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5E50-20B5-4CD1-8BB7-B80AE23A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0B17-45FF-44DB-9114-08CDD32C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62D3-957B-4236-90AE-7F279336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0C40-C0E4-442A-918D-3530CC88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327-F688-42C5-8BC2-2AA904D0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3AE5-299B-4719-B75F-BD0177D8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6684-FBE8-4918-8DF0-32182C19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30E1-DE47-46B4-A52E-079E8D12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770E-161E-4352-8F61-0C41B7AB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CAA2-4BB1-45E3-8E20-9B919883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3351-7746-4475-98FB-E28A78DF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ED10-BB3A-45BE-818F-C7174308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D2F7-6EF9-4DA3-AB79-7BBD4B0E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4AF6-4F34-4909-9F7A-F43FD085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2ED-2F9F-47FF-859C-9ACC51B4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209B-028D-4F12-A722-BC1C340F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A1FD-BB10-460D-AC2E-EA3DDF45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0ACC-36D6-4D7E-BA3B-6D1AFFDD1B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7DD6-560F-4F88-80C8-C024F263DB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28600" y="25909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0000"/>
                </a:solidFill>
                <a:latin typeface="comic"/>
              </a:rPr>
              <a:t>POLYNOMIAL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Odd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5"/>
              <p:cNvSpPr txBox="1"/>
              <p:nvPr/>
            </p:nvSpPr>
            <p:spPr>
              <a:xfrm>
                <a:off x="7467480" y="3805200"/>
                <a:ext cx="12956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0"/>
              <p:cNvSpPr txBox="1"/>
              <p:nvPr/>
            </p:nvSpPr>
            <p:spPr>
              <a:xfrm>
                <a:off x="1066680" y="3048120"/>
                <a:ext cx="1143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5029200" cy="4386240"/>
          </a:xfrm>
          <a:prstGeom prst="rect">
            <a:avLst/>
          </a:prstGeom>
          <a:ln w="0">
            <a:noFill/>
          </a:ln>
        </p:spPr>
      </p:pic>
      <p:sp>
        <p:nvSpPr>
          <p:cNvPr id="193" name="Line 17"/>
          <p:cNvSpPr/>
          <p:nvPr/>
        </p:nvSpPr>
        <p:spPr>
          <a:xfrm flipH="1" flipV="1">
            <a:off x="6095520" y="388584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8"/>
              <p:cNvSpPr txBox="1"/>
              <p:nvPr/>
            </p:nvSpPr>
            <p:spPr>
              <a:xfrm>
                <a:off x="1143000" y="4572000"/>
                <a:ext cx="14479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Line 20"/>
          <p:cNvSpPr/>
          <p:nvPr/>
        </p:nvSpPr>
        <p:spPr>
          <a:xfrm flipV="1">
            <a:off x="2362320" y="43430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1"/>
          <p:cNvSpPr/>
          <p:nvPr/>
        </p:nvSpPr>
        <p:spPr>
          <a:xfrm flipV="1">
            <a:off x="2057400" y="297180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Even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5"/>
              <p:cNvSpPr txBox="1"/>
              <p:nvPr/>
            </p:nvSpPr>
            <p:spPr>
              <a:xfrm>
                <a:off x="6095880" y="1905120"/>
                <a:ext cx="7747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9"/>
              <p:cNvSpPr txBox="1"/>
              <p:nvPr/>
            </p:nvSpPr>
            <p:spPr>
              <a:xfrm>
                <a:off x="2355840" y="4921200"/>
                <a:ext cx="927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1"/>
              <p:cNvSpPr txBox="1"/>
              <p:nvPr/>
            </p:nvSpPr>
            <p:spPr>
              <a:xfrm>
                <a:off x="6934320" y="2743200"/>
                <a:ext cx="1904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3962520" cy="3728880"/>
          </a:xfrm>
          <a:prstGeom prst="rect">
            <a:avLst/>
          </a:prstGeom>
          <a:ln w="0">
            <a:noFill/>
          </a:ln>
        </p:spPr>
      </p:pic>
      <p:sp>
        <p:nvSpPr>
          <p:cNvPr id="203" name="Line 13"/>
          <p:cNvSpPr/>
          <p:nvPr/>
        </p:nvSpPr>
        <p:spPr>
          <a:xfrm flipH="1">
            <a:off x="5105520" y="304812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 flipH="1">
            <a:off x="3962520" y="2209680"/>
            <a:ext cx="22096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6"/>
              <p:cNvSpPr txBox="1"/>
              <p:nvPr/>
            </p:nvSpPr>
            <p:spPr>
              <a:xfrm>
                <a:off x="609480" y="4419720"/>
                <a:ext cx="129564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Line 19"/>
          <p:cNvSpPr/>
          <p:nvPr/>
        </p:nvSpPr>
        <p:spPr>
          <a:xfrm flipV="1">
            <a:off x="1905120" y="44193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eros of a polynomial fun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al number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al z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polynomi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r)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 is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e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polynomial, the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 is an x – inter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 is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e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polynomi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(x) = (x – r) p (x), where p (x) is a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e intercepts of a polynomial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 is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 – interc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polynomial x,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( r ) = 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 is an x – interc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e grap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ro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x axis at r 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e grap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u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x axis at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Polynomia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83084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lynomial is a function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219320" y="22860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7"/>
              <p:cNvSpPr txBox="1"/>
              <p:nvPr/>
            </p:nvSpPr>
            <p:spPr>
              <a:xfrm>
                <a:off x="1274760" y="2286000"/>
                <a:ext cx="70516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Text Box 9"/>
          <p:cNvSpPr/>
          <p:nvPr/>
        </p:nvSpPr>
        <p:spPr>
          <a:xfrm>
            <a:off x="380880" y="31240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981080" y="312408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1"/>
              <p:cNvSpPr txBox="1"/>
              <p:nvPr/>
            </p:nvSpPr>
            <p:spPr>
              <a:xfrm>
                <a:off x="1828800" y="3124080"/>
                <a:ext cx="32004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Rectangle 14"/>
          <p:cNvSpPr/>
          <p:nvPr/>
        </p:nvSpPr>
        <p:spPr>
          <a:xfrm flipV="1">
            <a:off x="1752480" y="3275640"/>
            <a:ext cx="73915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990720" y="35812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685800" y="373392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real number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nonnegative inte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set of re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5562720" y="33526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685800" y="51814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e Degree of Polynomial Func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914400" y="1905120"/>
            <a:ext cx="7620120" cy="44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g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f a polynomial function in one variable is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st power of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838080" y="4876920"/>
            <a:ext cx="7696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Page 183 for a  summary of the properties of polynomials of degree less than or equal to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990720" y="350532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ow is a polynomial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gre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7"/>
              <p:cNvSpPr txBox="1"/>
              <p:nvPr/>
            </p:nvSpPr>
            <p:spPr>
              <a:xfrm>
                <a:off x="2438280" y="4038480"/>
                <a:ext cx="2743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operties of Polynomial Func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o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inuo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o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rve is one that contain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 Sharp corners or cu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62120" y="411480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28600" y="38098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tinuo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s graph  ha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 breaks, gaps or h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wer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wer function if degree n, is a function of the 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5"/>
              <p:cNvSpPr txBox="1"/>
              <p:nvPr/>
            </p:nvSpPr>
            <p:spPr>
              <a:xfrm>
                <a:off x="3144960" y="2666880"/>
                <a:ext cx="12938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7" name="Text Box 4"/>
          <p:cNvSpPr/>
          <p:nvPr/>
        </p:nvSpPr>
        <p:spPr>
          <a:xfrm>
            <a:off x="1828800" y="304020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80880" y="3352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 is a real number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and n &gt; 0 is an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3962520" y="38098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3962520" y="3352680"/>
                <a:ext cx="5047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Text Box 11"/>
          <p:cNvSpPr/>
          <p:nvPr/>
        </p:nvSpPr>
        <p:spPr>
          <a:xfrm>
            <a:off x="762120" y="441972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          (degree 4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gree 7) 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gree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2133720" y="4419720"/>
                <a:ext cx="6094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4"/>
              <p:cNvSpPr txBox="1"/>
              <p:nvPr/>
            </p:nvSpPr>
            <p:spPr>
              <a:xfrm>
                <a:off x="2133720" y="4800600"/>
                <a:ext cx="53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6"/>
              <p:cNvSpPr txBox="1"/>
              <p:nvPr/>
            </p:nvSpPr>
            <p:spPr>
              <a:xfrm>
                <a:off x="2133720" y="5257800"/>
                <a:ext cx="5601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even power function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1676520" y="2743200"/>
                <a:ext cx="6858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0"/>
              <p:cNvSpPr txBox="1"/>
              <p:nvPr/>
            </p:nvSpPr>
            <p:spPr>
              <a:xfrm>
                <a:off x="1994040" y="2036880"/>
                <a:ext cx="718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073320" y="1827360"/>
            <a:ext cx="2590920" cy="24447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209680" y="205740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2971800" y="16765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990720" y="20574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2666880" y="22096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4"/>
              <p:cNvSpPr txBox="1"/>
              <p:nvPr/>
            </p:nvSpPr>
            <p:spPr>
              <a:xfrm>
                <a:off x="1828800" y="1523880"/>
                <a:ext cx="9144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9" name="Line 16"/>
          <p:cNvSpPr/>
          <p:nvPr/>
        </p:nvSpPr>
        <p:spPr>
          <a:xfrm flipV="1">
            <a:off x="2438280" y="266652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685800" y="4343400"/>
            <a:ext cx="78487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n     2 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unctions graphed above are even. Note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 gets lar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graph becom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tter near the origin, between (-1, 1),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ncreases when x &gt; 1 and when x &lt; -1.  As |x| gets bigger and bigger, the graph increases rapid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8"/>
              <p:cNvSpPr txBox="1"/>
              <p:nvPr/>
            </p:nvSpPr>
            <p:spPr>
              <a:xfrm>
                <a:off x="4114800" y="4343400"/>
                <a:ext cx="11430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0"/>
              <p:cNvSpPr txBox="1"/>
              <p:nvPr/>
            </p:nvSpPr>
            <p:spPr>
              <a:xfrm>
                <a:off x="6934320" y="4419720"/>
                <a:ext cx="2412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perties of an even fun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s the set of 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s a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me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-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oint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0, 0) (1,1) (-1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odd power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8"/>
              <p:cNvSpPr txBox="1"/>
              <p:nvPr/>
            </p:nvSpPr>
            <p:spPr>
              <a:xfrm>
                <a:off x="2762280" y="2617920"/>
                <a:ext cx="11736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2786040" y="1600200"/>
            <a:ext cx="2300400" cy="22161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6"/>
              <p:cNvSpPr txBox="1"/>
              <p:nvPr/>
            </p:nvSpPr>
            <p:spPr>
              <a:xfrm>
                <a:off x="3886200" y="3886200"/>
                <a:ext cx="9907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Rectangle 11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0"/>
              <p:cNvSpPr txBox="1"/>
              <p:nvPr/>
            </p:nvSpPr>
            <p:spPr>
              <a:xfrm>
                <a:off x="5334120" y="1600200"/>
                <a:ext cx="761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5" name="Text Box 18"/>
          <p:cNvSpPr/>
          <p:nvPr/>
        </p:nvSpPr>
        <p:spPr>
          <a:xfrm>
            <a:off x="5257800" y="2895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1"/>
              <p:cNvSpPr txBox="1"/>
              <p:nvPr/>
            </p:nvSpPr>
            <p:spPr>
              <a:xfrm>
                <a:off x="2514600" y="1600200"/>
                <a:ext cx="6858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3"/>
              <p:cNvSpPr txBox="1"/>
              <p:nvPr/>
            </p:nvSpPr>
            <p:spPr>
              <a:xfrm>
                <a:off x="1828800" y="2330280"/>
                <a:ext cx="7621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8" name="Line 25"/>
          <p:cNvSpPr/>
          <p:nvPr/>
        </p:nvSpPr>
        <p:spPr>
          <a:xfrm>
            <a:off x="3200400" y="190512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7"/>
          <p:cNvSpPr/>
          <p:nvPr/>
        </p:nvSpPr>
        <p:spPr>
          <a:xfrm flipV="1">
            <a:off x="2590920" y="236196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8"/>
          <p:cNvSpPr/>
          <p:nvPr/>
        </p:nvSpPr>
        <p:spPr>
          <a:xfrm flipH="1">
            <a:off x="4495320" y="1828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2"/>
          <p:cNvSpPr/>
          <p:nvPr/>
        </p:nvSpPr>
        <p:spPr>
          <a:xfrm>
            <a:off x="380880" y="3809880"/>
            <a:ext cx="838224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    3  is odd.  The functions graphed above are odd. Note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 gets lar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graph becom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tter near the origi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 &lt; x &lt;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ncreases  when x &gt; 1  or decreases 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&lt; -1 .  As |x| gets bigger and bigger, the graph increases for values of x greater than 1 and decreased rapidly for values of x less than or equal to 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35"/>
              <p:cNvSpPr txBox="1"/>
              <p:nvPr/>
            </p:nvSpPr>
            <p:spPr>
              <a:xfrm>
                <a:off x="6477120" y="3962520"/>
                <a:ext cx="185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perties of an odd fun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85800" y="175248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 is the set of  re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s ar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ymmet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d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oint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0, 0) (1,1) (-1,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6:34:36Z</dcterms:created>
  <dc:creator>Yvonne Powell</dc:creator>
  <dc:description/>
  <dc:language>en-US</dc:language>
  <cp:lastModifiedBy>LEGION</cp:lastModifiedBy>
  <dcterms:modified xsi:type="dcterms:W3CDTF">2017-07-06T06:38:14Z</dcterms:modified>
  <cp:revision>18</cp:revision>
  <dc:subject/>
  <dc:title>Polynomials</dc:title>
</cp:coreProperties>
</file>