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5DED-B6B0-439A-905C-4ADC44B18D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s of a polynomial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al number  r is a real zero of the polynomial f (x)  if f (r) 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, then r is an x – interce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 zero of the polynomial f (x)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cepts of a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of a polynomial x,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 r ) = 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 is an x – intercept then ei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raph crosses the x axis at r 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raph touches the x axis at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real numbers and n is a nonnegative integ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 polynomial function is the set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gree, of a polynomial function in one variable is the largest powe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is a polynomial of degre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 polynomial function is a smooth and continuous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ooth curve is one that contains no Sharp corners or cus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function is continuous if its graph  has  no breaks, gaps or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even power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ven if n     2  is even.  The functions graphed above are even. Note as n gets larger the graph becomes flatter near the origin, between (-1, 1),  but increases when x &gt; 1 and when x &lt; -1.  As |x| gets bigger and bigger, the graph increases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ev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even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even function contains the points (0, 0) (1,1) (-1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of odd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dd if n     3  is odd.  The functions graphed above are odd. Note as n gets larger the graph becomes flatter near the orig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&lt; x &lt;1 but increases  when x &gt; 1  or decreases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an od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of an odd function is the set of 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functions are symmetric with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of an odd function contains the points (0, 0) (1,1) (-1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0BF0-967B-4B3F-819D-86A23CF8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F81-E1DA-415B-9D33-5439F77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8D9E-102B-4FCC-8616-34F5F606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BAB4-3A33-4048-BFC9-BB11789E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4483-F568-438A-BD11-C0ACE755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F3F7-4F99-4F8F-9A9A-0BE9D102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9D4-08AC-4A05-A735-3DAB5A51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7624-B917-42A9-8EA7-96DA97E2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3D2A-396A-420A-9BFD-8B44EFA3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AB75-3F76-4F04-B4C1-DE0CCA6F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8C71-EE11-4653-8785-F35229B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B213-30A7-4B94-A802-E75244C6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0F4F-81CD-4C1F-A37C-BD7BEB3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6B3-B44C-496C-94E6-4F221EE9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2CD2-367B-4410-8326-C335FD27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6A0F-3088-4B2B-A196-0F7C1F46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AB4E-B98D-40BB-B02D-EBCB5ED6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20A-2D39-49BF-A477-E23ECEA3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792-979F-4F76-B584-FD39E3D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C18-19B9-4C4D-991C-BA161C40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FE83-F05C-43BD-BC3D-CF16760F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4F9-2DFA-405B-9080-E55CD60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7278-3EE9-4BCE-AAA5-B3F1A50F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25D-F076-44C5-90AF-60278A3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5314-4778-40E2-88EA-84F2A50F7F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4E33-588F-46BF-AEA2-C2F066E352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28600" y="2590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0000"/>
                </a:solidFill>
                <a:latin typeface="comic"/>
              </a:rPr>
              <a:t>POLYNOMIAL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7467480" y="3805200"/>
                <a:ext cx="12956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0"/>
              <p:cNvSpPr txBox="1"/>
              <p:nvPr/>
            </p:nvSpPr>
            <p:spPr>
              <a:xfrm>
                <a:off x="1066680" y="3048120"/>
                <a:ext cx="1143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029200" cy="4386240"/>
          </a:xfrm>
          <a:prstGeom prst="rect">
            <a:avLst/>
          </a:prstGeom>
          <a:ln w="0">
            <a:noFill/>
          </a:ln>
        </p:spPr>
      </p:pic>
      <p:sp>
        <p:nvSpPr>
          <p:cNvPr id="193" name="Line 17"/>
          <p:cNvSpPr/>
          <p:nvPr/>
        </p:nvSpPr>
        <p:spPr>
          <a:xfrm flipH="1" flipV="1">
            <a:off x="6095520" y="3885840"/>
            <a:ext cx="1219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8"/>
              <p:cNvSpPr txBox="1"/>
              <p:nvPr/>
            </p:nvSpPr>
            <p:spPr>
              <a:xfrm>
                <a:off x="1143000" y="4572000"/>
                <a:ext cx="14479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Line 20"/>
          <p:cNvSpPr/>
          <p:nvPr/>
        </p:nvSpPr>
        <p:spPr>
          <a:xfrm flipV="1">
            <a:off x="2362320" y="43430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 flipV="1">
            <a:off x="2057400" y="2971800"/>
            <a:ext cx="1600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5"/>
              <p:cNvSpPr txBox="1"/>
              <p:nvPr/>
            </p:nvSpPr>
            <p:spPr>
              <a:xfrm>
                <a:off x="6095880" y="1905120"/>
                <a:ext cx="7747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9"/>
              <p:cNvSpPr txBox="1"/>
              <p:nvPr/>
            </p:nvSpPr>
            <p:spPr>
              <a:xfrm>
                <a:off x="2355840" y="4921200"/>
                <a:ext cx="9270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1"/>
              <p:cNvSpPr txBox="1"/>
              <p:nvPr/>
            </p:nvSpPr>
            <p:spPr>
              <a:xfrm>
                <a:off x="6934320" y="2743200"/>
                <a:ext cx="19047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962520" cy="372888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 flipH="1">
            <a:off x="5105520" y="304812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 flipH="1">
            <a:off x="3962520" y="2209680"/>
            <a:ext cx="22096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6"/>
              <p:cNvSpPr txBox="1"/>
              <p:nvPr/>
            </p:nvSpPr>
            <p:spPr>
              <a:xfrm>
                <a:off x="609480" y="4419720"/>
                <a:ext cx="1295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Line 19"/>
          <p:cNvSpPr/>
          <p:nvPr/>
        </p:nvSpPr>
        <p:spPr>
          <a:xfrm flipV="1">
            <a:off x="1905120" y="44193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eros of a polynomial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 number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al 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(r)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, the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 is an x – interc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 is a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ze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polynomi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(x) = (x – r) p (x), where p (x) is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intercepts of a polynom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olynomial x,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( r ) = 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is an x – interce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ro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 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e grap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u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x axis at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0033"/>
                </a:solidFill>
                <a:latin typeface="Times New Roman"/>
              </a:rPr>
              <a:t>Polynomia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83084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is a function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219320" y="2286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1274760" y="2286000"/>
                <a:ext cx="70516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Text Box 9"/>
          <p:cNvSpPr/>
          <p:nvPr/>
        </p:nvSpPr>
        <p:spPr>
          <a:xfrm>
            <a:off x="380880" y="312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981080" y="31240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1"/>
              <p:cNvSpPr txBox="1"/>
              <p:nvPr/>
            </p:nvSpPr>
            <p:spPr>
              <a:xfrm>
                <a:off x="1828800" y="3124080"/>
                <a:ext cx="3200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Rectangle 14"/>
          <p:cNvSpPr/>
          <p:nvPr/>
        </p:nvSpPr>
        <p:spPr>
          <a:xfrm flipV="1">
            <a:off x="1752480" y="3275640"/>
            <a:ext cx="73915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990720" y="35812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685800" y="37339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real number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nonnegative inte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et of re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5562720" y="3352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685800" y="51814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e Degree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914400" y="1905120"/>
            <a:ext cx="76201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f a polynomial function in one variable is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st power of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838080" y="4876920"/>
            <a:ext cx="7696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age 183 for a  summary of the properties of polynomials of degree less than or equal to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990720" y="350532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polynomial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gre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7"/>
              <p:cNvSpPr txBox="1"/>
              <p:nvPr/>
            </p:nvSpPr>
            <p:spPr>
              <a:xfrm>
                <a:off x="2438280" y="4038480"/>
                <a:ext cx="2743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perties of Polynomial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in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o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ve is one that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Sharp corners or cus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62120" y="41148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38098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ts graph  ha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 breaks, gaps or h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wer function if degree n, is a function of the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144960" y="2666880"/>
                <a:ext cx="129384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Text Box 4"/>
          <p:cNvSpPr/>
          <p:nvPr/>
        </p:nvSpPr>
        <p:spPr>
          <a:xfrm>
            <a:off x="1828800" y="304020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80880" y="3352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is a real numbe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and n &gt; 0 is an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962520" y="3809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3962520" y="3352680"/>
                <a:ext cx="5047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762120" y="441972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          (degree 4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7)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gree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133720" y="4419720"/>
                <a:ext cx="6094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4"/>
              <p:cNvSpPr txBox="1"/>
              <p:nvPr/>
            </p:nvSpPr>
            <p:spPr>
              <a:xfrm>
                <a:off x="2133720" y="4800600"/>
                <a:ext cx="53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6"/>
              <p:cNvSpPr txBox="1"/>
              <p:nvPr/>
            </p:nvSpPr>
            <p:spPr>
              <a:xfrm>
                <a:off x="2133720" y="5257800"/>
                <a:ext cx="5601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even power function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1676520" y="2743200"/>
                <a:ext cx="68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1994040" y="2036880"/>
                <a:ext cx="718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073320" y="1827360"/>
            <a:ext cx="2590920" cy="24447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209680" y="20574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971800" y="16765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990720" y="2057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2666880" y="2209680"/>
            <a:ext cx="838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4"/>
              <p:cNvSpPr txBox="1"/>
              <p:nvPr/>
            </p:nvSpPr>
            <p:spPr>
              <a:xfrm>
                <a:off x="1828800" y="15238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9" name="Line 16"/>
          <p:cNvSpPr/>
          <p:nvPr/>
        </p:nvSpPr>
        <p:spPr>
          <a:xfrm flipV="1">
            <a:off x="2438280" y="266652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5800" y="4343400"/>
            <a:ext cx="78487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n     2 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unctions graphed above are even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 between (-1, 1),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when x &gt; 1 and when x &lt; -1.  As |x| gets bigger and bigger, the graph increases rapi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8"/>
              <p:cNvSpPr txBox="1"/>
              <p:nvPr/>
            </p:nvSpPr>
            <p:spPr>
              <a:xfrm>
                <a:off x="4114800" y="4343400"/>
                <a:ext cx="11430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0"/>
              <p:cNvSpPr txBox="1"/>
              <p:nvPr/>
            </p:nvSpPr>
            <p:spPr>
              <a:xfrm>
                <a:off x="6934320" y="4419720"/>
                <a:ext cx="24120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3816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even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n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0, 0) (1,1) (-1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raphs of odd power func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2762280" y="2617920"/>
                <a:ext cx="1173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2786040" y="1600200"/>
            <a:ext cx="230040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6"/>
              <p:cNvSpPr txBox="1"/>
              <p:nvPr/>
            </p:nvSpPr>
            <p:spPr>
              <a:xfrm>
                <a:off x="3886200" y="3886200"/>
                <a:ext cx="99072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3" name="Rectangle 11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5334120" y="1600200"/>
                <a:ext cx="7617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Text Box 18"/>
          <p:cNvSpPr/>
          <p:nvPr/>
        </p:nvSpPr>
        <p:spPr>
          <a:xfrm>
            <a:off x="5257800" y="2895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1"/>
              <p:cNvSpPr txBox="1"/>
              <p:nvPr/>
            </p:nvSpPr>
            <p:spPr>
              <a:xfrm>
                <a:off x="2514600" y="1600200"/>
                <a:ext cx="6858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23"/>
              <p:cNvSpPr txBox="1"/>
              <p:nvPr/>
            </p:nvSpPr>
            <p:spPr>
              <a:xfrm>
                <a:off x="1828800" y="2330280"/>
                <a:ext cx="7621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8" name="Line 25"/>
          <p:cNvSpPr/>
          <p:nvPr/>
        </p:nvSpPr>
        <p:spPr>
          <a:xfrm>
            <a:off x="3200400" y="19051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7"/>
          <p:cNvSpPr/>
          <p:nvPr/>
        </p:nvSpPr>
        <p:spPr>
          <a:xfrm flipV="1">
            <a:off x="2590920" y="236196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 flipH="1">
            <a:off x="449532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2"/>
          <p:cNvSpPr/>
          <p:nvPr/>
        </p:nvSpPr>
        <p:spPr>
          <a:xfrm>
            <a:off x="380880" y="3809880"/>
            <a:ext cx="8382240" cy="33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lynomia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    3  is odd.  The functions graphed above are odd. Note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gets lar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graph becom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tter near the origi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 &lt; x &lt;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ncreases  when x &gt; 1  or decreases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 -1 .  As |x| gets bigger and bigger, the graph increases for values of x greater than 1 and decreased rapidly for values of x less than or equal to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5"/>
              <p:cNvSpPr txBox="1"/>
              <p:nvPr/>
            </p:nvSpPr>
            <p:spPr>
              <a:xfrm>
                <a:off x="6477120" y="3962520"/>
                <a:ext cx="185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57240">
            <a:solidFill>
              <a:srgbClr val="b2b2b2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perties of an odd func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5800" y="175248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the set of  re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s a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mmetr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dd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poi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0, 0) (1,1) (-1,-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34:36Z</dcterms:created>
  <dc:creator>Yvonne Powell</dc:creator>
  <dc:description/>
  <dc:language>en-US</dc:language>
  <cp:lastModifiedBy>LEGION</cp:lastModifiedBy>
  <dcterms:modified xsi:type="dcterms:W3CDTF">2017-07-06T06:38:14Z</dcterms:modified>
  <cp:revision>18</cp:revision>
  <dc:subject/>
  <dc:title>Polynomials</dc:title>
</cp:coreProperties>
</file>