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.png" ContentType="image/png"/>
  <Override PartName="/ppt/media/image4.wmf" ContentType="image/x-wmf"/>
  <Override PartName="/ppt/media/image10.png" ContentType="image/png"/>
  <Override PartName="/ppt/media/image5.wmf" ContentType="image/x-wmf"/>
  <Override PartName="/ppt/media/image6.wmf" ContentType="image/x-wmf"/>
  <Override PartName="/ppt/media/image11.wmf" ContentType="image/x-wmf"/>
  <Override PartName="/ppt/media/image3.png" ContentType="image/png"/>
  <Override PartName="/ppt/media/image7.wmf" ContentType="image/x-wmf"/>
  <Override PartName="/ppt/media/image12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D250E-B5C6-46E1-A64C-6B22FA2E2C70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olynom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efining Polynom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dding Like Ter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olynomi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efining Polynomi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dding Like Te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nomials  - a number, a variable, or a product of a number and one or more variables. 4x, 20x2yw3, -3, a2b3, and 3yz are all monomia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lynomials – one or more monomials added or subtract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x + 6x2, 20xy - 4, and 3a2 - 5a + 4 are all polynomia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ocabula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nomials  - a number, a variable, or a product of a number and one or more variables. 4x, 20x2yw3, -3, a2b3, and 3yz are all monomi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nomials – one or more monomials added or subtrac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x + 6x2, 20xy - 4, and 3a2 - 5a + 4 are all polynomi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cabul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ke Ter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ke Terms refers to monomials that have the same variable(s) but may have different coefficients.  The variables in the terms must have the same pow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terms are like?      3a2b, 4ab2, 3ab, -5ab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ab2 and -5ab2 are lik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n though the others have the same variables, the exponents are not the same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a2b = 3aab, which is different from 4ab2 = 4abb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ke Te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ke Terms refers to monomials that have the same variable(s) but may have different coefficients.  The variables in the terms must have the same pow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terms are like?      3a2b, 4ab2, 3ab, -5ab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ab2 and -5ab2 are lik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though the others have the same variables, the exponents are not the same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a2b = 3aab, which is different from 4ab2 = 4abb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ke Ter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stants are like term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terms are like?      2x, -3, 5b, 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3 and 0 are lik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terms are like?      3x, 2x2, 4, 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x and x are lik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terms are like?      2wx, w, 3x, 4x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wx and 4xw are lik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ke Te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tants are like ter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terms are like?      2x, -3, 5b,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3 and 0 are lik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terms are like?      3x, 2x2, 4,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x and x are lik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terms are like?      2wx, w, 3x, 4x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wx and 4xw are lik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d:  (x2 + 3x + 1) + (4x2 +5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 1:  Underline like term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 2:  Add the coefficients of like terms, do not change the powers of the variabl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ding Polynom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x2 + 3x + 1) + (4x2 +5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ice:  ‘3x’ doesn’t have a like ter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x2 + 4x2) + 3x + (1 + 5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x2 + 3x + 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:  (x2 + 3x + 1) + (4x2 +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1:  Underline like term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2:  Add the coefficients of like terms, do not change the powers of the variabl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ing Polynomi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x2 + 3x + 1) + (4x2 +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ice:  ‘3x’ doesn’t have a like te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x2 + 4x2) + 3x + (1 + 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x2 + 3x +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people prefer to add polynomials by stacking them.  If you choose to do this, be sure to line up the like terms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ding Polynom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x2 + 3x + 1) + (4x2 +5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x2 + 3x + 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x2 + 3x + 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+  (4x2              +5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ck and add these polynomials:   (2a2+3ab+4b2) + (7a2+ab+-2b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2a2+3ab+4b2) + (7a2+ab+-2b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2a2 + 3ab + 4b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+  (7a2 + ab + -2b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9a2 + 4ab + 2b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people prefer to add polynomials by stacking them.  If you choose to do this, be sure to line up the like term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ing Polynomi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x2 + 3x + 1) + (4x2 +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x2 + 3x +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x2 + 3x +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 (4x2              +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ck and add these polynomials:   (2a2+3ab+4b2) + (7a2+ab+-2b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a2+3ab+4b2) + (7a2+ab+-2b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a2 + 3ab + 4b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 (7a2 + ab + -2b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a2 + 4ab + 2b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ding Polynom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d the following polynomials; you may stack them if you prefer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ing Polynomi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 the following polynomials; you may stack them if you prefe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btract: (3x2 + 2x + 7) - (x2 + x + 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btracting Polynom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 1:    Change subtraction to addition (Keep-Change-Change.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 2:    Underline OR line up the like terms and ad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3x2 + 2x + 7) + (- x2 + - x + - 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3x2  + 2x  + 7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+ (- x2 + - x + - 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x2    + x +  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tract: (3x2 + 2x + 7) - (x2 + x + 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tracting Polynomi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1:    Change subtraction to addition (Keep-Change-Change.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2:    Underline OR line up the like terms and ad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3x2 + 2x + 7) + (- x2 + - x + - 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3x2  + 2x  + 7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(- x2 + - x + - 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x2    + x +  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btracting Polynom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btract the following polynomials by changing to addition (Keep-Change-Change.), then add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tracting Polynomi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tract the following polynomials by changing to addition (Keep-Change-Change.), then ad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1DDDF-BFAD-435F-8702-AB233984A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E54EC-C5E8-43AC-9B24-BB9D46EE5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DE8B1-B2CF-47F9-8912-35F454052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B7FF7-12A1-493F-8D38-240F4D8C8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A8F01-FE50-44B1-BEAF-97E014332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D74CB-01AA-4349-9317-D8D254E2D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713A4-0D64-42D9-86D2-95243ACE3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8BE68-7446-4A2C-BC30-DBF4EBA20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DAA40-7A88-4EC3-848D-0198B815B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C46B4-FB96-4F58-A304-1BA669EF8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8A4A8-DB47-4813-AD20-3E611E9D7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6ED11-AAD7-441E-B622-C98DACC74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1A063-50F7-44AD-98E2-21164CB76F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5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6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7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8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9.wmf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2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3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4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5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16.wmf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11040"/>
            <a:ext cx="7772400" cy="14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200" spc="-1" strike="noStrike">
                <a:solidFill>
                  <a:srgbClr val="cc0099"/>
                </a:solidFill>
                <a:latin typeface="Times New Roman"/>
              </a:rPr>
              <a:t>Polynomials</a:t>
            </a:r>
            <a:endParaRPr b="0" lang="en-US" sz="9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16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ng Polynomi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ing Like Te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Line 4"/>
          <p:cNvSpPr/>
          <p:nvPr/>
        </p:nvSpPr>
        <p:spPr>
          <a:xfrm>
            <a:off x="0" y="990720"/>
            <a:ext cx="9144000" cy="0"/>
          </a:xfrm>
          <a:prstGeom prst="line">
            <a:avLst/>
          </a:prstGeom>
          <a:ln cap="rnd" w="101520">
            <a:solidFill>
              <a:srgbClr val="33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85800" y="1712880"/>
            <a:ext cx="7772400" cy="390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49"/>
              </a:spcBef>
              <a:buClr>
                <a:srgbClr val="3333cc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onomial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- a number, a variable, or a product of a number and one or more variables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x, 20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w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-3,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nd 3yz are all monomia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3333cc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olynomial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– one or more monomials added or subtrac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500"/>
              </a:spcBef>
              <a:buClr>
                <a:srgbClr val="3333cc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x + 6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20xy - 4, and 3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5a + 4 are all polynomia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685800" y="213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Vocabul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a89"/>
                </a:solidFill>
                <a:latin typeface="Times New Roman"/>
              </a:rPr>
              <a:t>Like Te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3"/>
          <p:cNvSpPr/>
          <p:nvPr/>
        </p:nvSpPr>
        <p:spPr>
          <a:xfrm>
            <a:off x="0" y="990720"/>
            <a:ext cx="9144000" cy="0"/>
          </a:xfrm>
          <a:prstGeom prst="line">
            <a:avLst/>
          </a:prstGeom>
          <a:ln cap="rnd" w="101520">
            <a:solidFill>
              <a:srgbClr val="00ba8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609480" y="1447920"/>
            <a:ext cx="7682040" cy="1191240"/>
          </a:xfrm>
          <a:prstGeom prst="rect">
            <a:avLst/>
          </a:prstGeom>
          <a:solidFill>
            <a:srgbClr val="fdff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ike Terms refers to monomials that have the same variable(s) but may have different coefficients.  The variables in the terms must have the same pow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8"/>
          <p:cNvSpPr/>
          <p:nvPr/>
        </p:nvSpPr>
        <p:spPr>
          <a:xfrm>
            <a:off x="625320" y="3184560"/>
            <a:ext cx="765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terms are like?      3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, 4a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3ab, -5a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9"/>
          <p:cNvSpPr/>
          <p:nvPr/>
        </p:nvSpPr>
        <p:spPr>
          <a:xfrm>
            <a:off x="2941560" y="4124160"/>
            <a:ext cx="347040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ab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and -5ab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are li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10"/>
          <p:cNvSpPr/>
          <p:nvPr/>
        </p:nvSpPr>
        <p:spPr>
          <a:xfrm>
            <a:off x="736560" y="4835520"/>
            <a:ext cx="76550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though the others have the same variables, the exponents are not the same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 = 3aab, which is different from 4a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4ab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a89"/>
                </a:solidFill>
                <a:latin typeface="Times New Roman"/>
              </a:rPr>
              <a:t>Like Te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3"/>
          <p:cNvSpPr/>
          <p:nvPr/>
        </p:nvSpPr>
        <p:spPr>
          <a:xfrm>
            <a:off x="0" y="990720"/>
            <a:ext cx="9144000" cy="0"/>
          </a:xfrm>
          <a:prstGeom prst="line">
            <a:avLst/>
          </a:prstGeom>
          <a:ln cap="rnd" w="101520">
            <a:solidFill>
              <a:srgbClr val="00ba8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609480" y="1447920"/>
            <a:ext cx="7682040" cy="459720"/>
          </a:xfrm>
          <a:prstGeom prst="rect">
            <a:avLst/>
          </a:prstGeom>
          <a:solidFill>
            <a:srgbClr val="fdff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stants are like ter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5"/>
          <p:cNvSpPr/>
          <p:nvPr/>
        </p:nvSpPr>
        <p:spPr>
          <a:xfrm>
            <a:off x="625320" y="2254320"/>
            <a:ext cx="765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terms are like?      2x, -3, 5b,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6"/>
          <p:cNvSpPr/>
          <p:nvPr/>
        </p:nvSpPr>
        <p:spPr>
          <a:xfrm>
            <a:off x="2779560" y="2908440"/>
            <a:ext cx="347040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3 and 0 are li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8"/>
          <p:cNvSpPr/>
          <p:nvPr/>
        </p:nvSpPr>
        <p:spPr>
          <a:xfrm>
            <a:off x="620640" y="3629160"/>
            <a:ext cx="765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terms are like?      3x, 2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4,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9"/>
          <p:cNvSpPr/>
          <p:nvPr/>
        </p:nvSpPr>
        <p:spPr>
          <a:xfrm>
            <a:off x="2774880" y="4282920"/>
            <a:ext cx="347040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x and x are li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10"/>
          <p:cNvSpPr/>
          <p:nvPr/>
        </p:nvSpPr>
        <p:spPr>
          <a:xfrm>
            <a:off x="615960" y="5003640"/>
            <a:ext cx="765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terms are like?      2wx, w, 3x, 4x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11"/>
          <p:cNvSpPr/>
          <p:nvPr/>
        </p:nvSpPr>
        <p:spPr>
          <a:xfrm>
            <a:off x="2770200" y="5657760"/>
            <a:ext cx="347040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wx and 4xw are li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Line 4"/>
          <p:cNvSpPr/>
          <p:nvPr/>
        </p:nvSpPr>
        <p:spPr>
          <a:xfrm>
            <a:off x="0" y="990720"/>
            <a:ext cx="9144000" cy="0"/>
          </a:xfrm>
          <a:prstGeom prst="line">
            <a:avLst/>
          </a:prstGeom>
          <a:ln cap="rnd" w="101520">
            <a:solidFill>
              <a:srgbClr val="cc00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6"/>
          <p:cNvSpPr/>
          <p:nvPr/>
        </p:nvSpPr>
        <p:spPr>
          <a:xfrm>
            <a:off x="2306520" y="1295280"/>
            <a:ext cx="4400640" cy="459720"/>
          </a:xfrm>
          <a:prstGeom prst="rect">
            <a:avLst/>
          </a:prstGeom>
          <a:solidFill>
            <a:srgbClr val="ff99ff"/>
          </a:solidFill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dd:  (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+ 3x + 1) + (4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+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7"/>
          <p:cNvSpPr/>
          <p:nvPr/>
        </p:nvSpPr>
        <p:spPr>
          <a:xfrm>
            <a:off x="789120" y="225756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tep 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nderline like term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10"/>
          <p:cNvSpPr/>
          <p:nvPr/>
        </p:nvSpPr>
        <p:spPr>
          <a:xfrm>
            <a:off x="768240" y="4262400"/>
            <a:ext cx="754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tep 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dd the coefficients of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ike term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do not change the powers of the variab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99"/>
                </a:solidFill>
                <a:latin typeface="Times New Roman"/>
              </a:rPr>
              <a:t>Adding Polynom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71"/>
          <p:cNvSpPr/>
          <p:nvPr/>
        </p:nvSpPr>
        <p:spPr>
          <a:xfrm>
            <a:off x="2263680" y="2832120"/>
            <a:ext cx="440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3x + 1) + (4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Group 81"/>
          <p:cNvGrpSpPr/>
          <p:nvPr/>
        </p:nvGrpSpPr>
        <p:grpSpPr>
          <a:xfrm>
            <a:off x="3059280" y="3244680"/>
            <a:ext cx="2313000" cy="7920"/>
            <a:chOff x="3059280" y="3244680"/>
            <a:chExt cx="2313000" cy="7920"/>
          </a:xfrm>
        </p:grpSpPr>
        <p:sp>
          <p:nvSpPr>
            <p:cNvPr id="79" name="Line 72"/>
            <p:cNvSpPr/>
            <p:nvPr/>
          </p:nvSpPr>
          <p:spPr>
            <a:xfrm>
              <a:off x="3059280" y="3244680"/>
              <a:ext cx="320400" cy="0"/>
            </a:xfrm>
            <a:prstGeom prst="line">
              <a:avLst/>
            </a:prstGeom>
            <a:ln w="28440">
              <a:solidFill>
                <a:srgbClr val="ff1b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Line 73"/>
            <p:cNvSpPr/>
            <p:nvPr/>
          </p:nvSpPr>
          <p:spPr>
            <a:xfrm>
              <a:off x="5051520" y="3252600"/>
              <a:ext cx="320760" cy="0"/>
            </a:xfrm>
            <a:prstGeom prst="line">
              <a:avLst/>
            </a:prstGeom>
            <a:ln w="28440">
              <a:solidFill>
                <a:srgbClr val="ff1b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Group 82"/>
          <p:cNvGrpSpPr/>
          <p:nvPr/>
        </p:nvGrpSpPr>
        <p:grpSpPr>
          <a:xfrm>
            <a:off x="4302000" y="3244680"/>
            <a:ext cx="1617840" cy="90000"/>
            <a:chOff x="4302000" y="3244680"/>
            <a:chExt cx="1617840" cy="90000"/>
          </a:xfrm>
        </p:grpSpPr>
        <p:grpSp>
          <p:nvGrpSpPr>
            <p:cNvPr id="82" name="Group 76"/>
            <p:cNvGrpSpPr/>
            <p:nvPr/>
          </p:nvGrpSpPr>
          <p:grpSpPr>
            <a:xfrm>
              <a:off x="4302000" y="3252600"/>
              <a:ext cx="320760" cy="82080"/>
              <a:chOff x="4302000" y="3252600"/>
              <a:chExt cx="320760" cy="82080"/>
            </a:xfrm>
          </p:grpSpPr>
          <p:sp>
            <p:nvSpPr>
              <p:cNvPr id="83" name="Line 74"/>
              <p:cNvSpPr/>
              <p:nvPr/>
            </p:nvSpPr>
            <p:spPr>
              <a:xfrm>
                <a:off x="4302000" y="3252600"/>
                <a:ext cx="320760" cy="0"/>
              </a:xfrm>
              <a:prstGeom prst="line">
                <a:avLst/>
              </a:prstGeom>
              <a:ln w="28440">
                <a:solidFill>
                  <a:srgbClr val="00a87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Line 75"/>
              <p:cNvSpPr/>
              <p:nvPr/>
            </p:nvSpPr>
            <p:spPr>
              <a:xfrm flipV="1">
                <a:off x="4314600" y="3333240"/>
                <a:ext cx="304920" cy="1440"/>
              </a:xfrm>
              <a:prstGeom prst="line">
                <a:avLst/>
              </a:prstGeom>
              <a:ln w="28440">
                <a:solidFill>
                  <a:srgbClr val="00a87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" name="Group 77"/>
            <p:cNvGrpSpPr/>
            <p:nvPr/>
          </p:nvGrpSpPr>
          <p:grpSpPr>
            <a:xfrm>
              <a:off x="5599080" y="3244680"/>
              <a:ext cx="320760" cy="82080"/>
              <a:chOff x="5599080" y="3244680"/>
              <a:chExt cx="320760" cy="82080"/>
            </a:xfrm>
          </p:grpSpPr>
          <p:sp>
            <p:nvSpPr>
              <p:cNvPr id="86" name="Line 78"/>
              <p:cNvSpPr/>
              <p:nvPr/>
            </p:nvSpPr>
            <p:spPr>
              <a:xfrm>
                <a:off x="5599080" y="3244680"/>
                <a:ext cx="320760" cy="0"/>
              </a:xfrm>
              <a:prstGeom prst="line">
                <a:avLst/>
              </a:prstGeom>
              <a:ln w="28440">
                <a:solidFill>
                  <a:srgbClr val="00a87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Line 79"/>
              <p:cNvSpPr/>
              <p:nvPr/>
            </p:nvSpPr>
            <p:spPr>
              <a:xfrm flipV="1">
                <a:off x="5611680" y="3325320"/>
                <a:ext cx="304920" cy="1440"/>
              </a:xfrm>
              <a:prstGeom prst="line">
                <a:avLst/>
              </a:prstGeom>
              <a:ln w="28440">
                <a:solidFill>
                  <a:srgbClr val="00a87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8" name="Text Box 80"/>
          <p:cNvSpPr/>
          <p:nvPr/>
        </p:nvSpPr>
        <p:spPr>
          <a:xfrm>
            <a:off x="2289240" y="3532320"/>
            <a:ext cx="495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tice:  ‘3x’ doesn’t have a like ter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83"/>
          <p:cNvSpPr/>
          <p:nvPr/>
        </p:nvSpPr>
        <p:spPr>
          <a:xfrm>
            <a:off x="2325600" y="5146560"/>
            <a:ext cx="440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4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+ 3x + (1 + 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84"/>
          <p:cNvSpPr/>
          <p:nvPr/>
        </p:nvSpPr>
        <p:spPr>
          <a:xfrm>
            <a:off x="3519360" y="5630760"/>
            <a:ext cx="1949400" cy="459720"/>
          </a:xfrm>
          <a:prstGeom prst="rect">
            <a:avLst/>
          </a:prstGeom>
          <a:noFill/>
          <a:ln w="9360">
            <a:solidFill>
              <a:srgbClr val="ff1b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+ 3x +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Line 2"/>
          <p:cNvSpPr/>
          <p:nvPr/>
        </p:nvSpPr>
        <p:spPr>
          <a:xfrm>
            <a:off x="0" y="990720"/>
            <a:ext cx="9144000" cy="0"/>
          </a:xfrm>
          <a:prstGeom prst="line">
            <a:avLst/>
          </a:prstGeom>
          <a:ln cap="rnd" w="101520">
            <a:solidFill>
              <a:srgbClr val="cc00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771480" y="1380960"/>
            <a:ext cx="754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people prefer to add polynomials by stacking them.  If you choose to do this, be sure to line up the like term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99"/>
                </a:solidFill>
                <a:latin typeface="Times New Roman"/>
              </a:rPr>
              <a:t>Adding Polynom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7"/>
          <p:cNvSpPr/>
          <p:nvPr/>
        </p:nvSpPr>
        <p:spPr>
          <a:xfrm>
            <a:off x="587520" y="2711520"/>
            <a:ext cx="339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1) + (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20"/>
          <p:cNvSpPr/>
          <p:nvPr/>
        </p:nvSpPr>
        <p:spPr>
          <a:xfrm>
            <a:off x="6073920" y="3238560"/>
            <a:ext cx="1804680" cy="459720"/>
          </a:xfrm>
          <a:prstGeom prst="rect">
            <a:avLst/>
          </a:prstGeom>
          <a:noFill/>
          <a:ln w="9360">
            <a:solidFill>
              <a:srgbClr val="ff1b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+ 3x +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21"/>
          <p:cNvSpPr/>
          <p:nvPr/>
        </p:nvSpPr>
        <p:spPr>
          <a:xfrm>
            <a:off x="4532400" y="2309760"/>
            <a:ext cx="33987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3x + 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 (4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Line 22"/>
          <p:cNvSpPr/>
          <p:nvPr/>
        </p:nvSpPr>
        <p:spPr>
          <a:xfrm>
            <a:off x="5846760" y="3151080"/>
            <a:ext cx="2073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AutoShape 23"/>
          <p:cNvSpPr/>
          <p:nvPr/>
        </p:nvSpPr>
        <p:spPr>
          <a:xfrm>
            <a:off x="4307040" y="2705040"/>
            <a:ext cx="982440" cy="447840"/>
          </a:xfrm>
          <a:prstGeom prst="rightArrow">
            <a:avLst>
              <a:gd name="adj1" fmla="val 50000"/>
              <a:gd name="adj2" fmla="val 54843"/>
            </a:avLst>
          </a:prstGeom>
          <a:solidFill>
            <a:srgbClr val="ff5f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24"/>
          <p:cNvSpPr/>
          <p:nvPr/>
        </p:nvSpPr>
        <p:spPr>
          <a:xfrm>
            <a:off x="260280" y="4189320"/>
            <a:ext cx="854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ck and add these polynomials:   (2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3ab+4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+ (7a2+ab+-2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25"/>
          <p:cNvSpPr/>
          <p:nvPr/>
        </p:nvSpPr>
        <p:spPr>
          <a:xfrm>
            <a:off x="369720" y="5151600"/>
            <a:ext cx="414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2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3ab+4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+ (7a2+ab+-2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AutoShape 26"/>
          <p:cNvSpPr/>
          <p:nvPr/>
        </p:nvSpPr>
        <p:spPr>
          <a:xfrm>
            <a:off x="4700520" y="5162400"/>
            <a:ext cx="982800" cy="447840"/>
          </a:xfrm>
          <a:prstGeom prst="rightArrow">
            <a:avLst>
              <a:gd name="adj1" fmla="val 50000"/>
              <a:gd name="adj2" fmla="val 54863"/>
            </a:avLst>
          </a:prstGeom>
          <a:solidFill>
            <a:srgbClr val="ff5f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29"/>
          <p:cNvSpPr/>
          <p:nvPr/>
        </p:nvSpPr>
        <p:spPr>
          <a:xfrm>
            <a:off x="5835600" y="4749840"/>
            <a:ext cx="2749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2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3ab + 4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 (7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ab + -2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0"/>
          <p:cNvSpPr/>
          <p:nvPr/>
        </p:nvSpPr>
        <p:spPr>
          <a:xfrm>
            <a:off x="6089760" y="5718240"/>
            <a:ext cx="244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31"/>
          <p:cNvSpPr/>
          <p:nvPr/>
        </p:nvSpPr>
        <p:spPr>
          <a:xfrm>
            <a:off x="6329520" y="5840280"/>
            <a:ext cx="2233440" cy="459720"/>
          </a:xfrm>
          <a:prstGeom prst="rect">
            <a:avLst/>
          </a:prstGeom>
          <a:noFill/>
          <a:ln w="9360">
            <a:solidFill>
              <a:srgbClr val="ff1b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9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+ 4ab + 2b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Line 2"/>
          <p:cNvSpPr/>
          <p:nvPr/>
        </p:nvSpPr>
        <p:spPr>
          <a:xfrm>
            <a:off x="0" y="990720"/>
            <a:ext cx="9144000" cy="0"/>
          </a:xfrm>
          <a:prstGeom prst="line">
            <a:avLst/>
          </a:prstGeom>
          <a:ln cap="rnd" w="101520">
            <a:solidFill>
              <a:srgbClr val="cc00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142560"/>
            <a:ext cx="7772400" cy="7621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99"/>
                </a:solidFill>
                <a:latin typeface="Times New Roman"/>
              </a:rPr>
              <a:t>Adding Polynom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Object 15"/>
          <p:cNvGraphicFramePr/>
          <p:nvPr/>
        </p:nvGraphicFramePr>
        <p:xfrm>
          <a:off x="297000" y="2470320"/>
          <a:ext cx="4565520" cy="639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0" name="Object 1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97000" y="2470320"/>
                    <a:ext cx="4565520" cy="63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" name="Object 16"/>
          <p:cNvGraphicFramePr/>
          <p:nvPr/>
        </p:nvGraphicFramePr>
        <p:xfrm>
          <a:off x="4987800" y="2538360"/>
          <a:ext cx="1479600" cy="4716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12" name="Object 1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987800" y="2538360"/>
                    <a:ext cx="1479600" cy="4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" name="Object 17"/>
          <p:cNvGraphicFramePr/>
          <p:nvPr/>
        </p:nvGraphicFramePr>
        <p:xfrm>
          <a:off x="236520" y="3592440"/>
          <a:ext cx="5873760" cy="6382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14" name="Object 1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36520" y="3592440"/>
                    <a:ext cx="5873760" cy="6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" name="Object 18"/>
          <p:cNvGraphicFramePr/>
          <p:nvPr/>
        </p:nvGraphicFramePr>
        <p:xfrm>
          <a:off x="6222960" y="3633840"/>
          <a:ext cx="2211480" cy="4716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16" name="Object 18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6222960" y="3633840"/>
                    <a:ext cx="2211480" cy="4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7" name="Object 21"/>
          <p:cNvGraphicFramePr/>
          <p:nvPr/>
        </p:nvGraphicFramePr>
        <p:xfrm>
          <a:off x="247680" y="4703760"/>
          <a:ext cx="5900760" cy="6382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18" name="Object 21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47680" y="4703760"/>
                    <a:ext cx="5900760" cy="6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9" name="Object 22"/>
          <p:cNvGraphicFramePr/>
          <p:nvPr/>
        </p:nvGraphicFramePr>
        <p:xfrm>
          <a:off x="5751360" y="5334120"/>
          <a:ext cx="2990880" cy="46980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20" name="Object 22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751360" y="5334120"/>
                    <a:ext cx="2990880" cy="46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380600"/>
            <a:ext cx="7772400" cy="82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the following polynomials; you may stack them if you pref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0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Line 4"/>
          <p:cNvSpPr/>
          <p:nvPr/>
        </p:nvSpPr>
        <p:spPr>
          <a:xfrm>
            <a:off x="41400" y="957240"/>
            <a:ext cx="9144000" cy="0"/>
          </a:xfrm>
          <a:prstGeom prst="line">
            <a:avLst/>
          </a:prstGeom>
          <a:ln cap="rnd" w="101520">
            <a:solidFill>
              <a:srgbClr val="ce7b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5"/>
          <p:cNvSpPr/>
          <p:nvPr/>
        </p:nvSpPr>
        <p:spPr>
          <a:xfrm>
            <a:off x="2335320" y="1246320"/>
            <a:ext cx="5065560" cy="459720"/>
          </a:xfrm>
          <a:prstGeom prst="rect">
            <a:avLst/>
          </a:prstGeom>
          <a:solidFill>
            <a:srgbClr val="fbb167"/>
          </a:solidFill>
          <a:ln w="9360">
            <a:solidFill>
              <a:srgbClr val="ff64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ubtract: (3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 2x + 7) - (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 x + 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417"/>
                </a:solidFill>
                <a:latin typeface="Times New Roman"/>
              </a:rPr>
              <a:t>Subtracting Polynom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44"/>
          <p:cNvSpPr/>
          <p:nvPr/>
        </p:nvSpPr>
        <p:spPr>
          <a:xfrm>
            <a:off x="166680" y="1987560"/>
            <a:ext cx="883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tep 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hange subtraction to addition (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Keep-Change-Change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49"/>
          <p:cNvSpPr/>
          <p:nvPr/>
        </p:nvSpPr>
        <p:spPr>
          <a:xfrm>
            <a:off x="779400" y="340668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tep 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nderline OR line up the like terms and ad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50"/>
          <p:cNvSpPr/>
          <p:nvPr/>
        </p:nvSpPr>
        <p:spPr>
          <a:xfrm>
            <a:off x="2028960" y="2757600"/>
            <a:ext cx="506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3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2x + 7) + (- 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- x + - 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51"/>
          <p:cNvSpPr/>
          <p:nvPr/>
        </p:nvSpPr>
        <p:spPr>
          <a:xfrm>
            <a:off x="3289320" y="4125960"/>
            <a:ext cx="2543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3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2x  + 7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(- 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- x + - 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Line 52"/>
          <p:cNvSpPr/>
          <p:nvPr/>
        </p:nvSpPr>
        <p:spPr>
          <a:xfrm>
            <a:off x="3451320" y="5097600"/>
            <a:ext cx="216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53"/>
          <p:cNvSpPr/>
          <p:nvPr/>
        </p:nvSpPr>
        <p:spPr>
          <a:xfrm>
            <a:off x="3843360" y="5234040"/>
            <a:ext cx="1919160" cy="459720"/>
          </a:xfrm>
          <a:prstGeom prst="rect">
            <a:avLst/>
          </a:prstGeom>
          <a:noFill/>
          <a:ln w="9360">
            <a:solidFill>
              <a:srgbClr val="ff64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x +  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0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7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7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8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18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Line 2"/>
          <p:cNvSpPr/>
          <p:nvPr/>
        </p:nvSpPr>
        <p:spPr>
          <a:xfrm>
            <a:off x="41400" y="957240"/>
            <a:ext cx="9144000" cy="0"/>
          </a:xfrm>
          <a:prstGeom prst="line">
            <a:avLst/>
          </a:prstGeom>
          <a:ln cap="rnd" w="101520">
            <a:solidFill>
              <a:srgbClr val="ce7b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171000"/>
            <a:ext cx="7772400" cy="7621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417"/>
                </a:solidFill>
                <a:latin typeface="Times New Roman"/>
              </a:rPr>
              <a:t>Subtracting Polynom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5" name="Object 24"/>
          <p:cNvGraphicFramePr/>
          <p:nvPr/>
        </p:nvGraphicFramePr>
        <p:xfrm>
          <a:off x="190440" y="2470320"/>
          <a:ext cx="5337360" cy="639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6" name="Object 2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0440" y="2470320"/>
                    <a:ext cx="5337360" cy="63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7" name="Object 25"/>
          <p:cNvGraphicFramePr/>
          <p:nvPr/>
        </p:nvGraphicFramePr>
        <p:xfrm>
          <a:off x="5553000" y="2500200"/>
          <a:ext cx="2286000" cy="4716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38" name="Object 2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553000" y="2500200"/>
                    <a:ext cx="2286000" cy="4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9" name="Object 26"/>
          <p:cNvGraphicFramePr/>
          <p:nvPr/>
        </p:nvGraphicFramePr>
        <p:xfrm>
          <a:off x="139680" y="3639960"/>
          <a:ext cx="5537160" cy="6382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40" name="Object 26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39680" y="3639960"/>
                    <a:ext cx="5537160" cy="6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1" name="Object 27"/>
          <p:cNvGraphicFramePr/>
          <p:nvPr/>
        </p:nvGraphicFramePr>
        <p:xfrm>
          <a:off x="5753160" y="3683160"/>
          <a:ext cx="2244600" cy="5396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42" name="Object 27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5753160" y="3683160"/>
                    <a:ext cx="2244600" cy="53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3" name="Object 28"/>
          <p:cNvGraphicFramePr/>
          <p:nvPr/>
        </p:nvGraphicFramePr>
        <p:xfrm>
          <a:off x="157320" y="4803840"/>
          <a:ext cx="5532120" cy="6382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44" name="Object 28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57320" y="4803840"/>
                    <a:ext cx="5532120" cy="6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5" name="Object 29"/>
          <p:cNvGraphicFramePr/>
          <p:nvPr/>
        </p:nvGraphicFramePr>
        <p:xfrm>
          <a:off x="5788080" y="4856040"/>
          <a:ext cx="2824200" cy="5367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46" name="Object 29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788080" y="4856040"/>
                    <a:ext cx="2824200" cy="53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324080"/>
            <a:ext cx="7772400" cy="82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tract the following polynomials by changing to addition (Keep-Change-Change.), then ad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05T23:23:32Z</dcterms:created>
  <dc:creator>Joyce DuVall</dc:creator>
  <dc:description/>
  <dc:language>en-US</dc:language>
  <cp:lastModifiedBy>LEGION</cp:lastModifiedBy>
  <dcterms:modified xsi:type="dcterms:W3CDTF">2017-07-06T06:37:05Z</dcterms:modified>
  <cp:revision>18</cp:revision>
  <dc:subject/>
  <dc:title>PowerPoint Presentation</dc:title>
</cp:coreProperties>
</file>