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C45C-7719-4194-862A-CDFFB3A167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DAC-DB82-4421-9837-1D1EBF7C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E1D-1641-4D81-8C57-8672723A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87A-D8AD-41C9-A312-027D312E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699-F457-4F71-93B5-2405D0BF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8A1-B14F-487A-B043-9A8AF239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B86-581C-4133-9E28-08511FD0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E02-ADCF-4C4E-A22F-13E38A53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86A-9DA0-4822-85A1-DF87FA2F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33B-C24B-4459-B7A0-3527CBDA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F76-35E0-4848-8A50-C99E58B7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E80-922C-4E5B-ABB1-9CB1DBF1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A37-76FC-4E16-8469-32F6A936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B42F-3C71-4F12-975B-95E54189C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cc0099"/>
                </a:solidFill>
                <a:latin typeface="Times New Roman"/>
              </a:rPr>
              <a:t>Polynomials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712880"/>
            <a:ext cx="77724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mi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a number, a variable, or a product of a number and one or more variabl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, 2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-3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3yz are all mo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one or more monomials added or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+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xy - 4, and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a + 4 are all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09480" y="1447920"/>
            <a:ext cx="7682040" cy="119124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5320" y="31845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ab, -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41560" y="41241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-5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6560" y="4835520"/>
            <a:ext cx="765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3aab, which is different from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a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9480" y="1447920"/>
            <a:ext cx="7682040" cy="45972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25320" y="225432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79560" y="290844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20640" y="36291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x,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774880" y="428292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15960" y="500364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770200" y="56577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06520" y="1295280"/>
            <a:ext cx="44006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89120" y="2257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lik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8240" y="4262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the coefficients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o not change the powers of th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263680" y="283212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3059280" y="3244680"/>
            <a:ext cx="2313000" cy="7920"/>
            <a:chOff x="3059280" y="3244680"/>
            <a:chExt cx="2313000" cy="7920"/>
          </a:xfrm>
        </p:grpSpPr>
        <p:sp>
          <p:nvSpPr>
            <p:cNvPr id="79" name="Line 72"/>
            <p:cNvSpPr/>
            <p:nvPr/>
          </p:nvSpPr>
          <p:spPr>
            <a:xfrm>
              <a:off x="3059280" y="3244680"/>
              <a:ext cx="32040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3"/>
            <p:cNvSpPr/>
            <p:nvPr/>
          </p:nvSpPr>
          <p:spPr>
            <a:xfrm>
              <a:off x="5051520" y="3252600"/>
              <a:ext cx="32076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82"/>
          <p:cNvGrpSpPr/>
          <p:nvPr/>
        </p:nvGrpSpPr>
        <p:grpSpPr>
          <a:xfrm>
            <a:off x="4302000" y="3244680"/>
            <a:ext cx="1617840" cy="90000"/>
            <a:chOff x="4302000" y="3244680"/>
            <a:chExt cx="1617840" cy="90000"/>
          </a:xfrm>
        </p:grpSpPr>
        <p:grpSp>
          <p:nvGrpSpPr>
            <p:cNvPr id="82" name="Group 76"/>
            <p:cNvGrpSpPr/>
            <p:nvPr/>
          </p:nvGrpSpPr>
          <p:grpSpPr>
            <a:xfrm>
              <a:off x="4302000" y="3252600"/>
              <a:ext cx="320760" cy="82080"/>
              <a:chOff x="4302000" y="3252600"/>
              <a:chExt cx="320760" cy="82080"/>
            </a:xfrm>
          </p:grpSpPr>
          <p:sp>
            <p:nvSpPr>
              <p:cNvPr id="83" name="Line 74"/>
              <p:cNvSpPr/>
              <p:nvPr/>
            </p:nvSpPr>
            <p:spPr>
              <a:xfrm>
                <a:off x="4302000" y="325260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5"/>
              <p:cNvSpPr/>
              <p:nvPr/>
            </p:nvSpPr>
            <p:spPr>
              <a:xfrm flipV="1">
                <a:off x="4314600" y="333324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77"/>
            <p:cNvGrpSpPr/>
            <p:nvPr/>
          </p:nvGrpSpPr>
          <p:grpSpPr>
            <a:xfrm>
              <a:off x="5599080" y="3244680"/>
              <a:ext cx="320760" cy="82080"/>
              <a:chOff x="5599080" y="3244680"/>
              <a:chExt cx="320760" cy="82080"/>
            </a:xfrm>
          </p:grpSpPr>
          <p:sp>
            <p:nvSpPr>
              <p:cNvPr id="86" name="Line 78"/>
              <p:cNvSpPr/>
              <p:nvPr/>
            </p:nvSpPr>
            <p:spPr>
              <a:xfrm>
                <a:off x="5599080" y="324468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79"/>
              <p:cNvSpPr/>
              <p:nvPr/>
            </p:nvSpPr>
            <p:spPr>
              <a:xfrm flipV="1">
                <a:off x="5611680" y="332532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Text Box 80"/>
          <p:cNvSpPr/>
          <p:nvPr/>
        </p:nvSpPr>
        <p:spPr>
          <a:xfrm>
            <a:off x="2289240" y="353232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2325600" y="5146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3x + (1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3519360" y="5630760"/>
            <a:ext cx="194940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1480" y="1380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87520" y="271152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 +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073920" y="3238560"/>
            <a:ext cx="180468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532400" y="2309760"/>
            <a:ext cx="339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846760" y="3151080"/>
            <a:ext cx="20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3"/>
          <p:cNvSpPr/>
          <p:nvPr/>
        </p:nvSpPr>
        <p:spPr>
          <a:xfrm>
            <a:off x="4307040" y="2705040"/>
            <a:ext cx="982440" cy="447840"/>
          </a:xfrm>
          <a:prstGeom prst="rightArrow">
            <a:avLst>
              <a:gd name="adj1" fmla="val 50000"/>
              <a:gd name="adj2" fmla="val 5484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60280" y="4189320"/>
            <a:ext cx="85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and add these polynomials:   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69720" y="51516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700520" y="5162400"/>
            <a:ext cx="982800" cy="447840"/>
          </a:xfrm>
          <a:prstGeom prst="rightArrow">
            <a:avLst>
              <a:gd name="adj1" fmla="val 50000"/>
              <a:gd name="adj2" fmla="val 5486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835600" y="4749840"/>
            <a:ext cx="274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ab + 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7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b + 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6089760" y="57182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329520" y="5840280"/>
            <a:ext cx="223344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4ab + 2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5"/>
          <p:cNvGraphicFramePr/>
          <p:nvPr/>
        </p:nvGraphicFramePr>
        <p:xfrm>
          <a:off x="297000" y="2470320"/>
          <a:ext cx="456552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2470320"/>
                    <a:ext cx="45655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6"/>
          <p:cNvGraphicFramePr/>
          <p:nvPr/>
        </p:nvGraphicFramePr>
        <p:xfrm>
          <a:off x="4987800" y="2538360"/>
          <a:ext cx="1479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7800" y="2538360"/>
                    <a:ext cx="147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7"/>
          <p:cNvGraphicFramePr/>
          <p:nvPr/>
        </p:nvGraphicFramePr>
        <p:xfrm>
          <a:off x="236520" y="3592440"/>
          <a:ext cx="58737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520" y="3592440"/>
                    <a:ext cx="5873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8"/>
          <p:cNvGraphicFramePr/>
          <p:nvPr/>
        </p:nvGraphicFramePr>
        <p:xfrm>
          <a:off x="6222960" y="3633840"/>
          <a:ext cx="221148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2960" y="3633840"/>
                    <a:ext cx="22114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1"/>
          <p:cNvGraphicFramePr/>
          <p:nvPr/>
        </p:nvGraphicFramePr>
        <p:xfrm>
          <a:off x="247680" y="4703760"/>
          <a:ext cx="590076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7680" y="4703760"/>
                    <a:ext cx="5900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2"/>
          <p:cNvGraphicFramePr/>
          <p:nvPr/>
        </p:nvGraphicFramePr>
        <p:xfrm>
          <a:off x="5751360" y="5334120"/>
          <a:ext cx="2990880" cy="46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51360" y="5334120"/>
                    <a:ext cx="2990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35320" y="1246320"/>
            <a:ext cx="5065560" cy="459720"/>
          </a:xfrm>
          <a:prstGeom prst="rect">
            <a:avLst/>
          </a:prstGeom>
          <a:solidFill>
            <a:srgbClr val="fbb167"/>
          </a:solidFill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(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x + 7) -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x 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6680" y="1987560"/>
            <a:ext cx="88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subtraction to addition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eep-Change-Chang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779400" y="340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OR line up the like terms and 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2028960" y="275760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+ 7) 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3289320" y="4125960"/>
            <a:ext cx="254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 + 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3451320" y="5097600"/>
            <a:ext cx="21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3843360" y="5234040"/>
            <a:ext cx="1919160" cy="459720"/>
          </a:xfrm>
          <a:prstGeom prst="rect">
            <a:avLst/>
          </a:prstGeom>
          <a:noFill/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24"/>
          <p:cNvGraphicFramePr/>
          <p:nvPr/>
        </p:nvGraphicFramePr>
        <p:xfrm>
          <a:off x="190440" y="2470320"/>
          <a:ext cx="533736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470320"/>
                    <a:ext cx="5337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5"/>
          <p:cNvGraphicFramePr/>
          <p:nvPr/>
        </p:nvGraphicFramePr>
        <p:xfrm>
          <a:off x="5553000" y="2500200"/>
          <a:ext cx="22860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3000" y="2500200"/>
                    <a:ext cx="22860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6"/>
          <p:cNvGraphicFramePr/>
          <p:nvPr/>
        </p:nvGraphicFramePr>
        <p:xfrm>
          <a:off x="139680" y="3639960"/>
          <a:ext cx="55371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680" y="3639960"/>
                    <a:ext cx="5537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7"/>
          <p:cNvGraphicFramePr/>
          <p:nvPr/>
        </p:nvGraphicFramePr>
        <p:xfrm>
          <a:off x="5753160" y="3683160"/>
          <a:ext cx="224460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53160" y="3683160"/>
                    <a:ext cx="2244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8"/>
          <p:cNvGraphicFramePr/>
          <p:nvPr/>
        </p:nvGraphicFramePr>
        <p:xfrm>
          <a:off x="157320" y="4803840"/>
          <a:ext cx="553212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320" y="4803840"/>
                    <a:ext cx="5532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9"/>
          <p:cNvGraphicFramePr/>
          <p:nvPr/>
        </p:nvGraphicFramePr>
        <p:xfrm>
          <a:off x="5788080" y="4856040"/>
          <a:ext cx="282420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88080" y="4856040"/>
                    <a:ext cx="2824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240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3:23:32Z</dcterms:created>
  <dc:creator>Joyce DuVall</dc:creator>
  <dc:description/>
  <dc:language>en-US</dc:language>
  <cp:lastModifiedBy>LEGION</cp:lastModifiedBy>
  <dcterms:modified xsi:type="dcterms:W3CDTF">2017-07-06T06:37:05Z</dcterms:modified>
  <cp:revision>18</cp:revision>
  <dc:subject/>
  <dc:title>PowerPoint Presentation</dc:title>
</cp:coreProperties>
</file>