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197F-8AB4-41C5-B14B-999ED921C9E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fin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dd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fin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dding 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mials  - a number, a variable, or a product of a number and one or more variables. 4x, 20x2yw3, -3, a2b3, and 3yz are all mo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 – one or more monomials added or subtrac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x + 6x2, 20xy - 4, and 3a2 - 5a + 4 are all poly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ials  - a number, a variable, or a product of a number and one or more variables. 4x, 20x2yw3, -3, a2b3, and 3yz are all mo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omials – one or more monomials added or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x + 6x2, 20xy - 4, and 3a2 - 5a + 4 are all poly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erms refers to monomials that have the same variable(s) but may have different coefficients.  The variables in the terms must have the same pow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3a2b, 4ab2, 3ab, -5ab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b2 and -5ab2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 though the others have the same variables, the exponents are not the sam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a2b = 3aab, which is different from 4ab2 = 4ab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 refers to monomials that have the same variable(s) but may have different coefficients.  The variables in the terms must have the same p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3a2b, 4ab2, 3ab, -5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ab2 and -5ab2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ough the others have the same variables, the exponents are not the sam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a2b = 3aab, which is different from 4ab2 = 4ab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ants are like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2x, -3, 5b,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 and 0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3x, 2x2, 4,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 and x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2wx, w, 3x, 4x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wx and 4xw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tants ar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2x, -3, 5b,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 and 0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3x, 2x2, 4,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 and x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2wx, w, 3x, 4x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wx and 4xw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:  (x2 + 3x + 1) + (4x2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Underline like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Add the coefficients of like terms, do not change the powers of the variab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ice:  ‘3x’ doesn’t have a like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4x2) + 3x + (1 +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:  (x2 + 3x + 1) + (4x2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Underline like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Add the coefficients of like terms, do not change the powers of the variab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:  ‘3x’ doesn’t have a like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4x2) + 3x + (1 + 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eople prefer to add polynomials by stacking them.  If you choose to do this, be sure to line up the like term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3x +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 (4x2             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ck and add these polynomials:   (2a2+3ab+4b2) + (7a2+ab+-2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a2+3ab+4b2) + (7a2+ab+-2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a2 + 3ab + 4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 (7a2 + ab + -2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a2 + 4ab + 2b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eople prefer to add polynomials by stacking them.  If you choose to do this, be sure to line up the like ter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3x +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 (4x2             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ck and add these polynomials:   (2a2+3ab+4b2) + (7a2+ab+-2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a2+3ab+4b2) + (7a2+ab+-2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a2 + 3ab + 4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 (7a2 + ab + -2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a2 + 4ab + 2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the following polynomials; you may stack them if you pref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 following polynomials; you may stack them if you pref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: (3x2 + 2x + 7) - (x2 + x +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  Change subtraction to addition (Keep-Change-Change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  Underline OR line up the like terms and ad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x2 + 2x + 7) + (- x2 + - x + -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x2  + 2x  + 7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(- x2 + - x + -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2    + x +  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: (3x2 + 2x + 7) - (x2 + 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  Change subtraction to addition (Keep-Change-Change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  Underline OR line up the like terms and ad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x2 + 2x + 7) + (- x2 + - x + -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x2  + 2x  + 7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(- x2 + - x + -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2    + x +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 the following polynomials by changing to addition (Keep-Change-Change.), then ad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 the following polynomials by changing to addition (Keep-Change-Change.), then ad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5AE9-AE86-445B-B1B9-AD972A418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F046-04DA-4F79-827C-BDF6BD81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99EC-1C08-4FE0-9D97-61D82BD47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106E-89CD-4C80-B7DB-AF988D976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E9B1-9C2C-4D60-8764-60F6BC0A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52EE-075E-4079-B26D-13868A1A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ED34-ECBE-4DE4-BFD6-5D8AA58B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895A-90F2-4C3D-BA18-CD170092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28FD-7D24-4F6F-A182-95F6F9E4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BB8F-1CA5-4193-8862-07D1E131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CE87-F0BE-4715-8FE7-A7401EB4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21BE-4EF4-40A9-9044-9787AA83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3C0C-13CA-4562-9406-202C0DCFE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6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11040"/>
            <a:ext cx="7772400" cy="14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200" spc="-1" strike="noStrike">
                <a:solidFill>
                  <a:srgbClr val="cc0099"/>
                </a:solidFill>
                <a:latin typeface="Times New Roman"/>
              </a:rPr>
              <a:t>Polynomials</a:t>
            </a:r>
            <a:endParaRPr b="0" lang="en-US" sz="9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Polynom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ng Like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4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712880"/>
            <a:ext cx="7772400" cy="39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nomial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a number, a variable, or a product of a number and one or more variables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x, 20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-3,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3yz are all monomi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lynomial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one or more monomials added or subtra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x + 6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20xy - 4, and 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5a + 4 are all polynom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a89"/>
                </a:solidFill>
                <a:latin typeface="Times New Roman"/>
              </a:rPr>
              <a:t>Like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3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00ba8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09480" y="1447920"/>
            <a:ext cx="7682040" cy="1191240"/>
          </a:xfrm>
          <a:prstGeom prst="rect">
            <a:avLst/>
          </a:prstGeom>
          <a:solidFill>
            <a:srgbClr val="fd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ke Terms refers to monomials that have the same variable(s) but may have different coefficients.  The variables in the terms must have the same pow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625320" y="318456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, 4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3ab, -5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2941560" y="412416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a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-5a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736560" y="4835520"/>
            <a:ext cx="7655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though the others have the same variables, the exponents are not the sam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= 3aab, which is different from 4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ab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a89"/>
                </a:solidFill>
                <a:latin typeface="Times New Roman"/>
              </a:rPr>
              <a:t>Like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3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00ba8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609480" y="1447920"/>
            <a:ext cx="7682040" cy="459720"/>
          </a:xfrm>
          <a:prstGeom prst="rect">
            <a:avLst/>
          </a:prstGeom>
          <a:solidFill>
            <a:srgbClr val="fd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tants are like te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625320" y="225432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2x, -3, 5b,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779560" y="290844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3 and 0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620640" y="362916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3x, 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4,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2774880" y="428292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x and x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615960" y="500364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2wx, w, 3x, 4x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2770200" y="565776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wx and 4xw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4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2306520" y="1295280"/>
            <a:ext cx="4400640" cy="459720"/>
          </a:xfrm>
          <a:prstGeom prst="rect">
            <a:avLst/>
          </a:prstGeom>
          <a:solidFill>
            <a:srgbClr val="ff99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:  (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3x + 1) + (4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789120" y="225756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rline like te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768240" y="42624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 the coefficients of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ke term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do not change the powers of the vari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Add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1"/>
          <p:cNvSpPr/>
          <p:nvPr/>
        </p:nvSpPr>
        <p:spPr>
          <a:xfrm>
            <a:off x="2263680" y="283212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x + 1) + (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Group 81"/>
          <p:cNvGrpSpPr/>
          <p:nvPr/>
        </p:nvGrpSpPr>
        <p:grpSpPr>
          <a:xfrm>
            <a:off x="3059280" y="3244680"/>
            <a:ext cx="2313000" cy="7920"/>
            <a:chOff x="3059280" y="3244680"/>
            <a:chExt cx="2313000" cy="7920"/>
          </a:xfrm>
        </p:grpSpPr>
        <p:sp>
          <p:nvSpPr>
            <p:cNvPr id="79" name="Line 72"/>
            <p:cNvSpPr/>
            <p:nvPr/>
          </p:nvSpPr>
          <p:spPr>
            <a:xfrm>
              <a:off x="3059280" y="3244680"/>
              <a:ext cx="320400" cy="0"/>
            </a:xfrm>
            <a:prstGeom prst="line">
              <a:avLst/>
            </a:prstGeom>
            <a:ln w="28440">
              <a:solidFill>
                <a:srgbClr val="ff1b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73"/>
            <p:cNvSpPr/>
            <p:nvPr/>
          </p:nvSpPr>
          <p:spPr>
            <a:xfrm>
              <a:off x="5051520" y="3252600"/>
              <a:ext cx="320760" cy="0"/>
            </a:xfrm>
            <a:prstGeom prst="line">
              <a:avLst/>
            </a:prstGeom>
            <a:ln w="28440">
              <a:solidFill>
                <a:srgbClr val="ff1b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82"/>
          <p:cNvGrpSpPr/>
          <p:nvPr/>
        </p:nvGrpSpPr>
        <p:grpSpPr>
          <a:xfrm>
            <a:off x="4302000" y="3244680"/>
            <a:ext cx="1617840" cy="90000"/>
            <a:chOff x="4302000" y="3244680"/>
            <a:chExt cx="1617840" cy="90000"/>
          </a:xfrm>
        </p:grpSpPr>
        <p:grpSp>
          <p:nvGrpSpPr>
            <p:cNvPr id="82" name="Group 76"/>
            <p:cNvGrpSpPr/>
            <p:nvPr/>
          </p:nvGrpSpPr>
          <p:grpSpPr>
            <a:xfrm>
              <a:off x="4302000" y="3252600"/>
              <a:ext cx="320760" cy="82080"/>
              <a:chOff x="4302000" y="3252600"/>
              <a:chExt cx="320760" cy="82080"/>
            </a:xfrm>
          </p:grpSpPr>
          <p:sp>
            <p:nvSpPr>
              <p:cNvPr id="83" name="Line 74"/>
              <p:cNvSpPr/>
              <p:nvPr/>
            </p:nvSpPr>
            <p:spPr>
              <a:xfrm>
                <a:off x="4302000" y="3252600"/>
                <a:ext cx="320760" cy="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Line 75"/>
              <p:cNvSpPr/>
              <p:nvPr/>
            </p:nvSpPr>
            <p:spPr>
              <a:xfrm flipV="1">
                <a:off x="4314600" y="3333240"/>
                <a:ext cx="304920" cy="144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Group 77"/>
            <p:cNvGrpSpPr/>
            <p:nvPr/>
          </p:nvGrpSpPr>
          <p:grpSpPr>
            <a:xfrm>
              <a:off x="5599080" y="3244680"/>
              <a:ext cx="320760" cy="82080"/>
              <a:chOff x="5599080" y="3244680"/>
              <a:chExt cx="320760" cy="82080"/>
            </a:xfrm>
          </p:grpSpPr>
          <p:sp>
            <p:nvSpPr>
              <p:cNvPr id="86" name="Line 78"/>
              <p:cNvSpPr/>
              <p:nvPr/>
            </p:nvSpPr>
            <p:spPr>
              <a:xfrm>
                <a:off x="5599080" y="3244680"/>
                <a:ext cx="320760" cy="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Line 79"/>
              <p:cNvSpPr/>
              <p:nvPr/>
            </p:nvSpPr>
            <p:spPr>
              <a:xfrm flipV="1">
                <a:off x="5611680" y="3325320"/>
                <a:ext cx="304920" cy="144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" name="Text Box 80"/>
          <p:cNvSpPr/>
          <p:nvPr/>
        </p:nvSpPr>
        <p:spPr>
          <a:xfrm>
            <a:off x="2289240" y="3532320"/>
            <a:ext cx="49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ice:  ‘3x’ doesn’t have a like te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3"/>
          <p:cNvSpPr/>
          <p:nvPr/>
        </p:nvSpPr>
        <p:spPr>
          <a:xfrm>
            <a:off x="2325600" y="514656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3x + (1 +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4"/>
          <p:cNvSpPr/>
          <p:nvPr/>
        </p:nvSpPr>
        <p:spPr>
          <a:xfrm>
            <a:off x="3519360" y="5630760"/>
            <a:ext cx="1949400" cy="459720"/>
          </a:xfrm>
          <a:prstGeom prst="rect">
            <a:avLst/>
          </a:prstGeom>
          <a:noFill/>
          <a:ln w="9360">
            <a:solidFill>
              <a:srgbClr val="ff1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3x 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2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771480" y="138096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eople prefer to add polynomials by stacking them.  If you choose to do this, be sure to line up the like term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Add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587520" y="2711520"/>
            <a:ext cx="33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) + (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0"/>
          <p:cNvSpPr/>
          <p:nvPr/>
        </p:nvSpPr>
        <p:spPr>
          <a:xfrm>
            <a:off x="6073920" y="3238560"/>
            <a:ext cx="1804680" cy="459720"/>
          </a:xfrm>
          <a:prstGeom prst="rect">
            <a:avLst/>
          </a:prstGeom>
          <a:noFill/>
          <a:ln w="9360">
            <a:solidFill>
              <a:srgbClr val="ff1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3x 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4532400" y="2309760"/>
            <a:ext cx="3398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x +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(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22"/>
          <p:cNvSpPr/>
          <p:nvPr/>
        </p:nvSpPr>
        <p:spPr>
          <a:xfrm>
            <a:off x="5846760" y="3151080"/>
            <a:ext cx="207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23"/>
          <p:cNvSpPr/>
          <p:nvPr/>
        </p:nvSpPr>
        <p:spPr>
          <a:xfrm>
            <a:off x="4307040" y="2705040"/>
            <a:ext cx="982440" cy="447840"/>
          </a:xfrm>
          <a:prstGeom prst="rightArrow">
            <a:avLst>
              <a:gd name="adj1" fmla="val 50000"/>
              <a:gd name="adj2" fmla="val 54843"/>
            </a:avLst>
          </a:prstGeom>
          <a:solidFill>
            <a:srgbClr val="ff5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260280" y="4189320"/>
            <a:ext cx="85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ck and add these polynomials:   (2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3ab+4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(7a2+ab+-2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5"/>
          <p:cNvSpPr/>
          <p:nvPr/>
        </p:nvSpPr>
        <p:spPr>
          <a:xfrm>
            <a:off x="369720" y="5151600"/>
            <a:ext cx="41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3ab+4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(7a2+ab+-2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26"/>
          <p:cNvSpPr/>
          <p:nvPr/>
        </p:nvSpPr>
        <p:spPr>
          <a:xfrm>
            <a:off x="4700520" y="5162400"/>
            <a:ext cx="982800" cy="447840"/>
          </a:xfrm>
          <a:prstGeom prst="rightArrow">
            <a:avLst>
              <a:gd name="adj1" fmla="val 50000"/>
              <a:gd name="adj2" fmla="val 54863"/>
            </a:avLst>
          </a:prstGeom>
          <a:solidFill>
            <a:srgbClr val="ff5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5835600" y="4749840"/>
            <a:ext cx="274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ab + 4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(7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ab + -2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0"/>
          <p:cNvSpPr/>
          <p:nvPr/>
        </p:nvSpPr>
        <p:spPr>
          <a:xfrm>
            <a:off x="6089760" y="5718240"/>
            <a:ext cx="24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1"/>
          <p:cNvSpPr/>
          <p:nvPr/>
        </p:nvSpPr>
        <p:spPr>
          <a:xfrm>
            <a:off x="6329520" y="5840280"/>
            <a:ext cx="2233440" cy="459720"/>
          </a:xfrm>
          <a:prstGeom prst="rect">
            <a:avLst/>
          </a:prstGeom>
          <a:noFill/>
          <a:ln w="9360">
            <a:solidFill>
              <a:srgbClr val="ff1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4ab + 2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2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Add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5"/>
          <p:cNvGraphicFramePr/>
          <p:nvPr/>
        </p:nvGraphicFramePr>
        <p:xfrm>
          <a:off x="297000" y="2470320"/>
          <a:ext cx="456552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000" y="2470320"/>
                    <a:ext cx="456552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6"/>
          <p:cNvGraphicFramePr/>
          <p:nvPr/>
        </p:nvGraphicFramePr>
        <p:xfrm>
          <a:off x="4987800" y="2538360"/>
          <a:ext cx="1479600" cy="47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2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87800" y="2538360"/>
                    <a:ext cx="14796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7"/>
          <p:cNvGraphicFramePr/>
          <p:nvPr/>
        </p:nvGraphicFramePr>
        <p:xfrm>
          <a:off x="236520" y="3592440"/>
          <a:ext cx="5873760" cy="63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4" name="Object 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36520" y="3592440"/>
                    <a:ext cx="58737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8"/>
          <p:cNvGraphicFramePr/>
          <p:nvPr/>
        </p:nvGraphicFramePr>
        <p:xfrm>
          <a:off x="6222960" y="3633840"/>
          <a:ext cx="2211480" cy="471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6" name="Object 1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222960" y="3633840"/>
                    <a:ext cx="22114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21"/>
          <p:cNvGraphicFramePr/>
          <p:nvPr/>
        </p:nvGraphicFramePr>
        <p:xfrm>
          <a:off x="247680" y="4703760"/>
          <a:ext cx="5900760" cy="638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8" name="Object 2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7680" y="4703760"/>
                    <a:ext cx="59007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22"/>
          <p:cNvGraphicFramePr/>
          <p:nvPr/>
        </p:nvGraphicFramePr>
        <p:xfrm>
          <a:off x="5751360" y="5334120"/>
          <a:ext cx="2990880" cy="469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0" name="Object 2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751360" y="5334120"/>
                    <a:ext cx="299088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380600"/>
            <a:ext cx="777240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the following polynomials; you may stack them if you pref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4"/>
          <p:cNvSpPr/>
          <p:nvPr/>
        </p:nvSpPr>
        <p:spPr>
          <a:xfrm>
            <a:off x="41400" y="957240"/>
            <a:ext cx="9144000" cy="0"/>
          </a:xfrm>
          <a:prstGeom prst="line">
            <a:avLst/>
          </a:prstGeom>
          <a:ln cap="rnd" w="101520">
            <a:solidFill>
              <a:srgbClr val="ce7b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335320" y="1246320"/>
            <a:ext cx="5065560" cy="459720"/>
          </a:xfrm>
          <a:prstGeom prst="rect">
            <a:avLst/>
          </a:prstGeom>
          <a:solidFill>
            <a:srgbClr val="fbb167"/>
          </a:solidFill>
          <a:ln w="9360">
            <a:solidFill>
              <a:srgbClr val="ff6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tract: (3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2x + 7) - (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x +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417"/>
                </a:solidFill>
                <a:latin typeface="Times New Roman"/>
              </a:rPr>
              <a:t>Subtract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4"/>
          <p:cNvSpPr/>
          <p:nvPr/>
        </p:nvSpPr>
        <p:spPr>
          <a:xfrm>
            <a:off x="166680" y="1987560"/>
            <a:ext cx="88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nge subtraction to addition 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Keep-Change-Change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9"/>
          <p:cNvSpPr/>
          <p:nvPr/>
        </p:nvSpPr>
        <p:spPr>
          <a:xfrm>
            <a:off x="779400" y="34066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rline OR line up the like terms and ad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50"/>
          <p:cNvSpPr/>
          <p:nvPr/>
        </p:nvSpPr>
        <p:spPr>
          <a:xfrm>
            <a:off x="2028960" y="2757600"/>
            <a:ext cx="50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x + 7) + (-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- x + -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1"/>
          <p:cNvSpPr/>
          <p:nvPr/>
        </p:nvSpPr>
        <p:spPr>
          <a:xfrm>
            <a:off x="3289320" y="4125960"/>
            <a:ext cx="2543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x  + 7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(-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- x + -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52"/>
          <p:cNvSpPr/>
          <p:nvPr/>
        </p:nvSpPr>
        <p:spPr>
          <a:xfrm>
            <a:off x="3451320" y="5097600"/>
            <a:ext cx="216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3"/>
          <p:cNvSpPr/>
          <p:nvPr/>
        </p:nvSpPr>
        <p:spPr>
          <a:xfrm>
            <a:off x="3843360" y="5234040"/>
            <a:ext cx="1919160" cy="459720"/>
          </a:xfrm>
          <a:prstGeom prst="rect">
            <a:avLst/>
          </a:prstGeom>
          <a:noFill/>
          <a:ln w="9360">
            <a:solidFill>
              <a:srgbClr val="ff6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 + 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2"/>
          <p:cNvSpPr/>
          <p:nvPr/>
        </p:nvSpPr>
        <p:spPr>
          <a:xfrm>
            <a:off x="41400" y="957240"/>
            <a:ext cx="9144000" cy="0"/>
          </a:xfrm>
          <a:prstGeom prst="line">
            <a:avLst/>
          </a:prstGeom>
          <a:ln cap="rnd" w="101520">
            <a:solidFill>
              <a:srgbClr val="ce7b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417"/>
                </a:solidFill>
                <a:latin typeface="Times New Roman"/>
              </a:rPr>
              <a:t>Subtract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Object 24"/>
          <p:cNvGraphicFramePr/>
          <p:nvPr/>
        </p:nvGraphicFramePr>
        <p:xfrm>
          <a:off x="190440" y="2470320"/>
          <a:ext cx="533736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Object 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440" y="2470320"/>
                    <a:ext cx="533736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25"/>
          <p:cNvGraphicFramePr/>
          <p:nvPr/>
        </p:nvGraphicFramePr>
        <p:xfrm>
          <a:off x="5553000" y="2500200"/>
          <a:ext cx="2286000" cy="47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8" name="Object 2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53000" y="2500200"/>
                    <a:ext cx="22860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26"/>
          <p:cNvGraphicFramePr/>
          <p:nvPr/>
        </p:nvGraphicFramePr>
        <p:xfrm>
          <a:off x="139680" y="3639960"/>
          <a:ext cx="5537160" cy="63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0" name="Object 2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9680" y="3639960"/>
                    <a:ext cx="55371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27"/>
          <p:cNvGraphicFramePr/>
          <p:nvPr/>
        </p:nvGraphicFramePr>
        <p:xfrm>
          <a:off x="5753160" y="3683160"/>
          <a:ext cx="2244600" cy="539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2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53160" y="3683160"/>
                    <a:ext cx="224460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28"/>
          <p:cNvGraphicFramePr/>
          <p:nvPr/>
        </p:nvGraphicFramePr>
        <p:xfrm>
          <a:off x="157320" y="4803840"/>
          <a:ext cx="5532120" cy="638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4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7320" y="4803840"/>
                    <a:ext cx="553212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29"/>
          <p:cNvGraphicFramePr/>
          <p:nvPr/>
        </p:nvGraphicFramePr>
        <p:xfrm>
          <a:off x="5788080" y="4856040"/>
          <a:ext cx="2824200" cy="536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6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788080" y="4856040"/>
                    <a:ext cx="282420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324080"/>
            <a:ext cx="777240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act the following polynomials by changing to addition (Keep-Change-Change.), then ad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5T23:23:32Z</dcterms:created>
  <dc:creator>Joyce DuVall</dc:creator>
  <dc:description/>
  <dc:language>en-US</dc:language>
  <cp:lastModifiedBy>LEGION</cp:lastModifiedBy>
  <dcterms:modified xsi:type="dcterms:W3CDTF">2017-07-06T06:37:05Z</dcterms:modified>
  <cp:revision>18</cp:revision>
  <dc:subject/>
  <dc:title>PowerPoint Presentation</dc:title>
</cp:coreProperties>
</file>