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1DD8-3CD3-4C16-A71E-DBB54D5C8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ga Serge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ien-Akademie 2004, September 19 – Octob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lga Serge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rien-Akademie 2004, September 19 – Octob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f polynomials over Z will not be    more fine-grained, but will only be coarser than factorization over a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            has complex roots and thus it is irreducible over Z. But it is factorizable over an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f polynomials over Z will not be    more fine-grained, but will only be coarser than factorization over a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            has complex roots and thus it is irreducible over Z. But it is factorizable over an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ver     - theoretical basi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ver     - theoretical basi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ny use of this theor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now understand that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n fact equal to a system of linear equations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fact that we are over      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ecause almost all the binomials are divided by 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ny use of this theor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now understand that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n fact equal to a system of linear equations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fact that we are over      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ecause almost all the binomials are divided by 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nsion of its solution space is k, where k is the number of irreducible factors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nsion of its solution space is k, where k is the number of irreducible factors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, we will get all the k factors: for two different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element        from the bas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, we will get all the k factors: for two different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element        from the bas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this is the la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this is the la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the algorithms and the required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based on Hensel lif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of the algorith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correctness prob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the algorithms and the required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based on Hensel lif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of the algorith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correctness prob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free decomposition compu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be factorization of    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. So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ivide       by              and thus get a polynomial free of squa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now and on, cont(f)=1 and GCD(f,f’)=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free decomposition compu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be factorization of    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. So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ivide       by              and thus get a polynomial free of squa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now and on, cont(f)=1 and GCD(f,f’)=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     , as needed, into true divisors of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     , as needed, into true divisors of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these prime modulo, we compare square free decom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, apply one of the univariate finite field factorization algorith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these prime modulo, we compare square free decom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, apply one of the univariate finite field factorization algorith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ecisely, if we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all Hensel continuation of this factorization a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ecisely, if we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all Hensel continuation of this factorization a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ma (Hen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then for any factorization                             , satisfying the above conditions, there exists its Hensel contin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lynomials                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uniquely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ma (Hen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then for any factorization                             , satisfying the above conditions, there exists its Hensel contin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lynomials                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uniquely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(Mignotte)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(Mignotte)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n upper bound for the coefficients factors of f, say M. We then choose l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     be a factor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n upper bound for the coefficients factors of f, say M. We then choose l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     be a factor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k letting not to perform excessive trial divis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eck failed for integers, there is no need to perform it for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k letting not to perform excessive trial divis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eck failed for integers, there is no need to perform it for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symptotically Goo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, Lenstra, Lovasz. Factoring polynomials with rational coefficients. 19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 takes                          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, Lenstra, Lovasz. Factoring polynomials with rational coefficients. 19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akes                          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et               is called a lattice, if there exists a basis                    in         such, 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et               is called a lattice, if there exists a basis                    in         such, 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an irreducible factor      of f in Z[x] such,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arched f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terms,          will imply that the coefficients of       are the points of some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    will imply that the coefficients of       are ‘not too large’ (in other words, a short vector in the lattice corresponds to the searched irreducible facto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an irreducible factor      of f in Z[x] such,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arched f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terms,          will imply that the coefficients of       are the points of some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    will imply that the coefficients of       are ‘not too large’ (in other words, a short vector in the lattice corresponds to the searched irreducible facto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ing up, we need an algorithm for constructing an irreducible factor       of f  given an irreducible factor h modulo p (with lc(h)=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onvenient to generalize the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 irreducible factor h modulo       of  square free polynomial f, with lc(h)=1, find irreducible      such that          modulo 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ing up, we need an algorithm for constructing an irreducible factor       of f  given an irreducible factor h modulo p (with lc(h)=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onvenient to generalize the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 irreducible factor h modulo       of  square free polynomial f, with lc(h)=1, find irreducible      such that          modulo 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hink of polynomials of degree less than or equal to m as of point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 polynomials from S form a lattice L with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hink of polynomials of degree less than or equal to m as of point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 polynomials from S form a lattice L with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2.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                                 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for some                                  (1) Let t be the largest of such j.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2.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                                 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for some                                  (1) Let t be the largest of such j.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For the lattice with b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reduced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        then                    and the algorithm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,                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For the lattice with b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reduced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        then                    and the algorithm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,                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deg h &lt; deg f=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least k for which                                  is held with m=n-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actorization                      calculate its Hensel lif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 be the greatest integ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auxiliary algorithm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we don’t get it, deg      &gt; n-1 and      is equal to f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deg h &lt; deg f=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least k for which                                  is held with m=n-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actorization                      calculate its Hensel lif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 be the greatest integ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auxiliary algorithm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we don’t get it, deg      &gt; n-1 and      is equal to f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s and simplifications, which were used in the case of univariate polynomials, are not proper when dealing with multivariat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ing this type of square free decomposition before factoring F leads to exponential intermediate expression sw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s and simplifications, which were used in the case of univariate polynomials, are not proper when dealing with multivariat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ing this type of square free decomposition before factoring F leads to exponential intermediate expression sw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approach used to factor multivariate polynomials is much the same as the exponential time algorithm for u.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approach used to factor multivariate polynomials is much the same as the exponential time algorithm for u.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irreducibility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be an irreducible polynomial over Q and let R(N) denote the number of n-tuples over Z with |xi|&lt;N such that                               is reducible. Then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ere c depends only on the degree of F.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irreducibility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be an irreducible polynomial over Q and let R(N) denote the number of n-tuples over Z with |xi|&lt;N such that                               is reducible. Then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ere c depends only on the degree of F.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theorem: 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upper bound on the number of random point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ach can not be applied when working over finit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theorem: 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upper bound on the number of random point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ach can not be applied when working over finit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tini’s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be an irreducible polynomial of R[Z],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is an intergal domain. Let the degree of      in      be 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total degree of the                  in         be        . Let L be a subset of       of cardinalit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                                                                    is irreducible ov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tini’s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be an irreducible polynomial of R[Z],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is an intergal domain. Let the degree of      in      be 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total degree of the                  in         be        . Let L be a subset of       of cardinalit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                                                                    is irreducible ov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K. Lenstra, H. W. Lenstra and Lovasz – polynomial time algorithm using basic reduction techniques for latt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K. Lenstra, H. W. Lenstra and Lovasz – polynomial time algorithm using basic reduction techniques for latt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uld try to monicize F(Z), but this increases the size of the coefficients of F and in most cases in not worthwhi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uld try to monicize F(Z), but this increases the size of the coefficients of F and in most cases in not worthwhi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5900-7729-4ADB-A861-6E3AD9BD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2A29-EC7E-4DC5-B7BB-A69773A0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42D8-04FA-4989-BE3E-FCC19119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0188-9A8D-457E-9A94-88BCEC8B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8BC0-356A-49C5-B20F-BCBD0BF6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C529-6815-445A-95E5-2C4303FC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CD07-81A7-4FD3-836A-D4BD49C4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998A-693E-46C5-82AB-D68C0F2B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F3EA-730D-41C9-BA23-E1E6D1E1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F2C1-BB20-4BC4-8DBA-8F87A4A4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612C-DA5B-41C5-9574-AB409979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BAA6-B357-40C7-95F4-7FBFB86E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. </a:t>
            </a:r>
            <a:fld id="{512FC9B6-369C-4098-A30A-F769B9F37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 Sergee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erien-Akademie 2004, September 19 – Octob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ctorization of polynomials over </a:t>
            </a:r>
            <a:r>
              <a:rPr b="0" lang="en-GB" sz="32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ill not be    mo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ine-graine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but will only b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oarse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n factorization over a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example,             has complex roots and thus it is irreducible over </a:t>
            </a:r>
            <a:r>
              <a:rPr b="0" lang="en-GB" sz="32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 But it is factorizable over any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instanc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5"/>
              <p:cNvSpPr txBox="1"/>
              <p:nvPr/>
            </p:nvSpPr>
            <p:spPr>
              <a:xfrm>
                <a:off x="2819520" y="3505320"/>
                <a:ext cx="102852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7"/>
              <p:cNvSpPr txBox="1"/>
              <p:nvPr/>
            </p:nvSpPr>
            <p:spPr>
              <a:xfrm>
                <a:off x="2895480" y="4952880"/>
                <a:ext cx="4724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4952880" y="2514600"/>
                <a:ext cx="48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2362320" y="44956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o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be a polynomial with coefficient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, we get rid of squ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1143000" y="1676520"/>
                <a:ext cx="30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8"/>
              <p:cNvSpPr txBox="1"/>
              <p:nvPr/>
            </p:nvSpPr>
            <p:spPr>
              <a:xfrm>
                <a:off x="6324480" y="15238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9"/>
              <p:cNvSpPr txBox="1"/>
              <p:nvPr/>
            </p:nvSpPr>
            <p:spPr>
              <a:xfrm>
                <a:off x="1143000" y="2514600"/>
                <a:ext cx="63244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o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3"/>
              <p:cNvSpPr txBox="1"/>
              <p:nvPr/>
            </p:nvSpPr>
            <p:spPr>
              <a:xfrm>
                <a:off x="685800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o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be a polynomial with coefficient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, we get rid of squ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143000" y="1676520"/>
                <a:ext cx="30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6324480" y="15238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1143000" y="2514600"/>
                <a:ext cx="63244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o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762120" y="3809880"/>
                <a:ext cx="8001000" cy="243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is free of squar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e proceed with </m:t>
                        </m:r>
                        <m:r>
                          <m:t xml:space="preserve">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the case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⋮</m:t>
                            </m:r>
                            <m:r>
                              <m:t xml:space="preserve">p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,deg</m:t>
                        </m:r>
                        <m:r>
                          <m:t xml:space="preserve">g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factorisation of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can be 'constructed' out of factorisation of 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8"/>
              <p:cNvSpPr txBox="1"/>
              <p:nvPr/>
            </p:nvSpPr>
            <p:spPr>
              <a:xfrm>
                <a:off x="685800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Factorization over     - theoretical basi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3"/>
              <p:cNvSpPr txBox="1"/>
              <p:nvPr/>
            </p:nvSpPr>
            <p:spPr>
              <a:xfrm>
                <a:off x="457200" y="1701720"/>
                <a:ext cx="8229600" cy="432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or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Let f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e a monic polynomial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Let h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:  h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≡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h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Let 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h satisfies h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uthermore, there is 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e-to-one correspondence between tuples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ch</m:t>
                        </m:r>
                        <m:r>
                          <m:rPr>
                            <m:lit/>
                            <m:nor/>
                          </m:rPr>
                          <m:t xml:space="preserve">polynomials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h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426708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Is there any use of this theor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us now understand that the eq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in fact equal to a system of linear equations 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e to the fact that we are over      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ecause almost all the binomials are divided by 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2895480" y="2209680"/>
                <a:ext cx="20574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≡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6858000" y="2743200"/>
                <a:ext cx="395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7"/>
              <p:cNvSpPr txBox="1"/>
              <p:nvPr/>
            </p:nvSpPr>
            <p:spPr>
              <a:xfrm>
                <a:off x="533520" y="3429000"/>
                <a:ext cx="57909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dee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let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4495680" y="3962520"/>
                <a:ext cx="395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1"/>
              <p:cNvSpPr txBox="1"/>
              <p:nvPr/>
            </p:nvSpPr>
            <p:spPr>
              <a:xfrm>
                <a:off x="1676520" y="4724280"/>
                <a:ext cx="56386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n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1295280" y="1600200"/>
                <a:ext cx="5639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6"/>
              <p:cNvSpPr txBox="1"/>
              <p:nvPr/>
            </p:nvSpPr>
            <p:spPr>
              <a:xfrm>
                <a:off x="2590920" y="2133720"/>
                <a:ext cx="2895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p>
                    </m:sSup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Rectangle 7"/>
          <p:cNvSpPr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we get a system of linear eq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2514600" y="3886200"/>
                <a:ext cx="33526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n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295280" y="1600200"/>
                <a:ext cx="5639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590920" y="2133720"/>
                <a:ext cx="2895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p>
                    </m:sSup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Rectangle 7"/>
          <p:cNvSpPr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we get a system of linear eq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dimension of its solution space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the number of irreducible factor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8"/>
              <p:cNvSpPr txBox="1"/>
              <p:nvPr/>
            </p:nvSpPr>
            <p:spPr>
              <a:xfrm>
                <a:off x="2514600" y="3886200"/>
                <a:ext cx="33526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The last slide about finite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now know, how many factor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                         to be a basis. 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 then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irre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&gt;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search for                                    ,  for all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result, we get a number of divisors of 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&lt;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calculate                                       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5"/>
              <p:cNvSpPr txBox="1"/>
              <p:nvPr/>
            </p:nvSpPr>
            <p:spPr>
              <a:xfrm>
                <a:off x="1219320" y="2514600"/>
                <a:ext cx="198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7924680" y="2895480"/>
                <a:ext cx="9144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9"/>
              <p:cNvSpPr txBox="1"/>
              <p:nvPr/>
            </p:nvSpPr>
            <p:spPr>
              <a:xfrm>
                <a:off x="6095880" y="335268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0"/>
              <p:cNvSpPr txBox="1"/>
              <p:nvPr/>
            </p:nvSpPr>
            <p:spPr>
              <a:xfrm>
                <a:off x="3124080" y="3809880"/>
                <a:ext cx="2743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1"/>
              <p:cNvSpPr txBox="1"/>
              <p:nvPr/>
            </p:nvSpPr>
            <p:spPr>
              <a:xfrm>
                <a:off x="4419720" y="2971800"/>
                <a:ext cx="2584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The last slide about finite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now know, how many factor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                         to be a basis. 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 then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irre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&gt;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search for                                    ,  for all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result, we get a number of divisors of 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&lt;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calculate                                       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the end, we will get all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actors: for two different fa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exists an element        from the bas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1219320" y="2514600"/>
                <a:ext cx="198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7924680" y="2895480"/>
                <a:ext cx="9144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7"/>
              <p:cNvSpPr txBox="1"/>
              <p:nvPr/>
            </p:nvSpPr>
            <p:spPr>
              <a:xfrm>
                <a:off x="6095880" y="335268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8"/>
              <p:cNvSpPr txBox="1"/>
              <p:nvPr/>
            </p:nvSpPr>
            <p:spPr>
              <a:xfrm>
                <a:off x="3124080" y="3809880"/>
                <a:ext cx="2743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4419720" y="2971800"/>
                <a:ext cx="2584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8381880" y="4648320"/>
                <a:ext cx="7621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3"/>
              <p:cNvSpPr txBox="1"/>
              <p:nvPr/>
            </p:nvSpPr>
            <p:spPr>
              <a:xfrm>
                <a:off x="533520" y="5181480"/>
                <a:ext cx="784836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there is </m:t>
                    </m:r>
                    <m:r>
                      <m:t xml:space="preserve">h</m:t>
                    </m:r>
                    <m:r>
                      <m:t xml:space="preserve">: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4"/>
              <p:cNvSpPr txBox="1"/>
              <p:nvPr/>
            </p:nvSpPr>
            <p:spPr>
              <a:xfrm>
                <a:off x="3429000" y="556272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5"/>
              <p:cNvSpPr txBox="1"/>
              <p:nvPr/>
            </p:nvSpPr>
            <p:spPr>
              <a:xfrm>
                <a:off x="533520" y="6019920"/>
                <a:ext cx="67053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No, this is the last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457200" y="2514600"/>
                <a:ext cx="822960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now instead of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e can take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randoml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osen from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and calculate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probability we will get a nontrivial factorization o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ry beginnin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ivariate Factor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verview of the algorithms and the required simpl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oring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orization based on Hensel lif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LL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ultivariate Fact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blems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dea of the algorith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alysis of correctness probabi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over </a:t>
            </a:r>
            <a:r>
              <a:rPr b="0" lang="en-US" sz="3600" spc="-1" strike="noStrike">
                <a:solidFill>
                  <a:srgbClr val="003300"/>
                </a:solidFill>
                <a:latin typeface="GoudyHandtooled BT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compu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      be factorization o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                                . So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divide       by              and thus get a polynomial free of squa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now and o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(f)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CD(f,f’)=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1143000" y="2362320"/>
                <a:ext cx="2133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1295280" y="3200400"/>
                <a:ext cx="24386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5181480" y="3200400"/>
                <a:ext cx="2971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9"/>
              <p:cNvSpPr txBox="1"/>
              <p:nvPr/>
            </p:nvSpPr>
            <p:spPr>
              <a:xfrm>
                <a:off x="2514600" y="40384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0"/>
              <p:cNvSpPr txBox="1"/>
              <p:nvPr/>
            </p:nvSpPr>
            <p:spPr>
              <a:xfrm>
                <a:off x="3276720" y="4038480"/>
                <a:ext cx="914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3"/>
              <p:cNvSpPr txBox="1"/>
              <p:nvPr/>
            </p:nvSpPr>
            <p:spPr>
              <a:xfrm>
                <a:off x="5867280" y="24382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1"/>
              <p:cNvSpPr txBox="1"/>
              <p:nvPr/>
            </p:nvSpPr>
            <p:spPr>
              <a:xfrm>
                <a:off x="7620120" y="28195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2"/>
              <p:cNvSpPr txBox="1"/>
              <p:nvPr/>
            </p:nvSpPr>
            <p:spPr>
              <a:xfrm>
                <a:off x="2438280" y="373392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Newton’s iteration to lift the        to factors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2438280" y="373392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5334120" y="449568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 rot="10800000">
                <a:off x="8077320" y="441936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8"/>
              <p:cNvSpPr txBox="1"/>
              <p:nvPr/>
            </p:nvSpPr>
            <p:spPr>
              <a:xfrm rot="10800000">
                <a:off x="2286000" y="5029200"/>
                <a:ext cx="4495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7620120" y="28195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Newton’s iteration to lift the        to factors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the      , as needed, into true divisors of 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2438280" y="365760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5257800" y="426708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 rot="10800000">
                <a:off x="8153280" y="411444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9"/>
              <p:cNvSpPr txBox="1"/>
              <p:nvPr/>
            </p:nvSpPr>
            <p:spPr>
              <a:xfrm rot="10800000">
                <a:off x="2590920" y="4800600"/>
                <a:ext cx="4495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3"/>
              <p:cNvSpPr txBox="1"/>
              <p:nvPr/>
            </p:nvSpPr>
            <p:spPr>
              <a:xfrm>
                <a:off x="2819520" y="5486400"/>
                <a:ext cx="334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4"/>
              <p:cNvSpPr txBox="1"/>
              <p:nvPr/>
            </p:nvSpPr>
            <p:spPr>
              <a:xfrm>
                <a:off x="7086600" y="54864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5"/>
              <p:cNvSpPr txBox="1"/>
              <p:nvPr/>
            </p:nvSpPr>
            <p:spPr>
              <a:xfrm>
                <a:off x="7543800" y="2666880"/>
                <a:ext cx="399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primes in the first step are those for which the factorization of     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 close as possible to the factorization of      over Z. This is a reason to t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mes and pick the one that fiv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ars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3124080" y="31240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3124080" y="34290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primes in the first step are those for which the factorization of    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 close as possible to the factorization of      over Z. This is a reason to t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mes and pick the one that fiv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ars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these prime modulo, we compare square free decom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, apply one of the univariate finite field factorization algorith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3048120" y="327672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6"/>
              <p:cNvSpPr txBox="1"/>
              <p:nvPr/>
            </p:nvSpPr>
            <p:spPr>
              <a:xfrm>
                <a:off x="3048120" y="358128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use this factorization to get the factorization o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5"/>
              <p:cNvSpPr txBox="1"/>
              <p:nvPr/>
            </p:nvSpPr>
            <p:spPr>
              <a:xfrm>
                <a:off x="2666880" y="1219320"/>
                <a:ext cx="2971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7"/>
              <p:cNvSpPr txBox="1"/>
              <p:nvPr/>
            </p:nvSpPr>
            <p:spPr>
              <a:xfrm>
                <a:off x="1523880" y="2133720"/>
                <a:ext cx="46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use this factorization to get the factorization o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precisely, if we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cal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ensel continu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is factorization a fact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2666880" y="1219320"/>
                <a:ext cx="2971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1523880" y="2133720"/>
                <a:ext cx="46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2971800" y="4876920"/>
                <a:ext cx="2743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1"/>
              <p:cNvSpPr txBox="1"/>
              <p:nvPr/>
            </p:nvSpPr>
            <p:spPr>
              <a:xfrm>
                <a:off x="3809880" y="2743200"/>
                <a:ext cx="426744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2"/>
              <p:cNvSpPr txBox="1"/>
              <p:nvPr/>
            </p:nvSpPr>
            <p:spPr>
              <a:xfrm>
                <a:off x="2362320" y="5562720"/>
                <a:ext cx="44956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mma (Hens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then for any factorization                             , satisfying the above conditions, there exists its Hensel continu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nd the polynomials                 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ined uniquely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914400" y="2133720"/>
                <a:ext cx="6350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4952880" y="2057400"/>
                <a:ext cx="1981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914400" y="2819520"/>
                <a:ext cx="23623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9"/>
              <p:cNvSpPr txBox="1"/>
              <p:nvPr/>
            </p:nvSpPr>
            <p:spPr>
              <a:xfrm>
                <a:off x="6019920" y="2819520"/>
                <a:ext cx="12189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and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0"/>
              <p:cNvSpPr txBox="1"/>
              <p:nvPr/>
            </p:nvSpPr>
            <p:spPr>
              <a:xfrm>
                <a:off x="3886200" y="3276720"/>
                <a:ext cx="609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, ‘Use Newton’s iteration to lift the      to factors modulo     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ng the bounds on the coefficients of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5486400" y="160020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5"/>
              <p:cNvSpPr txBox="1"/>
              <p:nvPr/>
            </p:nvSpPr>
            <p:spPr>
              <a:xfrm rot="10800000">
                <a:off x="8001000" y="152352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, ‘Use Newton’s iteration to lift the      to factors modulo     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ng the bounds on the coefficients of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 (Mignotte) 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5486400" y="160020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5"/>
              <p:cNvSpPr txBox="1"/>
              <p:nvPr/>
            </p:nvSpPr>
            <p:spPr>
              <a:xfrm rot="10800000">
                <a:off x="8001000" y="152352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7"/>
              <p:cNvSpPr txBox="1"/>
              <p:nvPr/>
            </p:nvSpPr>
            <p:spPr>
              <a:xfrm>
                <a:off x="533520" y="4267080"/>
                <a:ext cx="7391160" cy="19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⋮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≤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j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</m:e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n upper bound for the coefficients factor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ay M. We then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           be a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8"/>
              <p:cNvSpPr txBox="1"/>
              <p:nvPr/>
            </p:nvSpPr>
            <p:spPr>
              <a:xfrm>
                <a:off x="4114800" y="1981080"/>
                <a:ext cx="22035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c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9"/>
              <p:cNvSpPr txBox="1"/>
              <p:nvPr/>
            </p:nvSpPr>
            <p:spPr>
              <a:xfrm>
                <a:off x="838080" y="2819520"/>
                <a:ext cx="2743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∈</m:t>
                    </m:r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12"/>
              <p:cNvSpPr txBox="1"/>
              <p:nvPr/>
            </p:nvSpPr>
            <p:spPr>
              <a:xfrm>
                <a:off x="457200" y="3733920"/>
                <a:ext cx="708660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≡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polynomial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 can be uniquely reconstructed from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because  -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&lt;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most time consuming step.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we have a potential factor of     modulo    , to convert it to a factor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 test division to see if it is actually a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6"/>
              <p:cNvSpPr txBox="1"/>
              <p:nvPr/>
            </p:nvSpPr>
            <p:spPr>
              <a:xfrm>
                <a:off x="5105520" y="25146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7"/>
              <p:cNvSpPr txBox="1"/>
              <p:nvPr/>
            </p:nvSpPr>
            <p:spPr>
              <a:xfrm rot="10800000">
                <a:off x="6324480" y="243792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most time consuming step.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we have a potential factor of     modulo    , to convert it to a factor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 test division to see if it is actually a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ck letting not to perform excessive trial divi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check failed for integers, there is no need to perform it for poly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6"/>
              <p:cNvSpPr txBox="1"/>
              <p:nvPr/>
            </p:nvSpPr>
            <p:spPr>
              <a:xfrm>
                <a:off x="5105520" y="243828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7"/>
              <p:cNvSpPr txBox="1"/>
              <p:nvPr/>
            </p:nvSpPr>
            <p:spPr>
              <a:xfrm rot="10800000">
                <a:off x="6324480" y="228564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8"/>
              <p:cNvSpPr txBox="1"/>
              <p:nvPr/>
            </p:nvSpPr>
            <p:spPr>
              <a:xfrm>
                <a:off x="1143000" y="457200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t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nstra, Lenstra, Lovasz. Factoring polynomials with rational coefficients. 198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gorithm takes                          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5"/>
              <p:cNvSpPr txBox="1"/>
              <p:nvPr/>
            </p:nvSpPr>
            <p:spPr>
              <a:xfrm>
                <a:off x="2590920" y="3809880"/>
                <a:ext cx="18986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f</m:t>
                        </m:r>
                      </m:e>
                    </m: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symptotically Good Algorithms: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ubset               is called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atti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if there exists a basis                    in         such, 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5"/>
              <p:cNvSpPr txBox="1"/>
              <p:nvPr/>
            </p:nvSpPr>
            <p:spPr>
              <a:xfrm>
                <a:off x="2057400" y="2743200"/>
                <a:ext cx="8380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⊂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6"/>
              <p:cNvSpPr txBox="1"/>
              <p:nvPr/>
            </p:nvSpPr>
            <p:spPr>
              <a:xfrm>
                <a:off x="3886200" y="312408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7"/>
              <p:cNvSpPr txBox="1"/>
              <p:nvPr/>
            </p:nvSpPr>
            <p:spPr>
              <a:xfrm>
                <a:off x="1905120" y="3124080"/>
                <a:ext cx="1143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8"/>
              <p:cNvSpPr txBox="1"/>
              <p:nvPr/>
            </p:nvSpPr>
            <p:spPr>
              <a:xfrm>
                <a:off x="1905120" y="3733920"/>
                <a:ext cx="41907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Z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Z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eginning is the same with the previous algorithm: th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factored modulo prime numb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the power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mputed, using Hensel’s techni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eginning is the same with the previous algorithm: th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factored modulo prime numb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the power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mputed, using Hensel’s techni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fter this an irreducible factor     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such,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searched f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our terms,          will imply that the coefficients of       are the points of som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          will imply that the coefficients of       are ‘not too large’ (in other words, 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hort vector in the latti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rresponds to the searched irreducible factor)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4343400" y="33526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6"/>
              <p:cNvSpPr txBox="1"/>
              <p:nvPr/>
            </p:nvSpPr>
            <p:spPr>
              <a:xfrm>
                <a:off x="7315200" y="3429000"/>
                <a:ext cx="1523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2209680" y="4191120"/>
                <a:ext cx="6098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8"/>
              <p:cNvSpPr txBox="1"/>
              <p:nvPr/>
            </p:nvSpPr>
            <p:spPr>
              <a:xfrm>
                <a:off x="7086600" y="419112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9"/>
              <p:cNvSpPr txBox="1"/>
              <p:nvPr/>
            </p:nvSpPr>
            <p:spPr>
              <a:xfrm>
                <a:off x="2057400" y="4952880"/>
                <a:ext cx="6094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0"/>
              <p:cNvSpPr txBox="1"/>
              <p:nvPr/>
            </p:nvSpPr>
            <p:spPr>
              <a:xfrm>
                <a:off x="6934320" y="495288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mming up, we need an algorithm for constructing an irreducible factor      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ith 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convenient to generalize the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      of  square fre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find irreducible      such that          modul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4"/>
              <p:cNvSpPr txBox="1"/>
              <p:nvPr/>
            </p:nvSpPr>
            <p:spPr>
              <a:xfrm>
                <a:off x="3124080" y="19810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6"/>
              <p:cNvSpPr txBox="1"/>
              <p:nvPr/>
            </p:nvSpPr>
            <p:spPr>
              <a:xfrm>
                <a:off x="5105520" y="320040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6248520" y="358128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8"/>
              <p:cNvSpPr txBox="1"/>
              <p:nvPr/>
            </p:nvSpPr>
            <p:spPr>
              <a:xfrm>
                <a:off x="7772400" y="3581280"/>
                <a:ext cx="6094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,      belongs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8"/>
              <p:cNvSpPr txBox="1"/>
              <p:nvPr/>
            </p:nvSpPr>
            <p:spPr>
              <a:xfrm>
                <a:off x="2286000" y="38098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914400" y="380988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,      belongs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 can think of polynomials of degree less than or equal to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s of point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n the polynomials from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form a lattice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with ba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8"/>
              <p:cNvSpPr txBox="1"/>
              <p:nvPr/>
            </p:nvSpPr>
            <p:spPr>
              <a:xfrm>
                <a:off x="2286000" y="38098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9"/>
              <p:cNvSpPr txBox="1"/>
              <p:nvPr/>
            </p:nvSpPr>
            <p:spPr>
              <a:xfrm>
                <a:off x="914400" y="380988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1"/>
              <p:cNvSpPr txBox="1"/>
              <p:nvPr/>
            </p:nvSpPr>
            <p:spPr>
              <a:xfrm>
                <a:off x="2362320" y="5029200"/>
                <a:ext cx="4952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↔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13"/>
              <p:cNvSpPr txBox="1"/>
              <p:nvPr/>
            </p:nvSpPr>
            <p:spPr>
              <a:xfrm>
                <a:off x="2286000" y="6019920"/>
                <a:ext cx="4419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&lt;</m:t>
                    </m:r>
                    <m:r>
                      <m:t xml:space="preserve">l</m:t>
                    </m:r>
                    <m:r>
                      <m:t xml:space="preserve">;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: two theor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orem 1. If a polynomial           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5"/>
              <p:cNvSpPr txBox="1"/>
              <p:nvPr/>
            </p:nvSpPr>
            <p:spPr>
              <a:xfrm>
                <a:off x="39625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6"/>
              <p:cNvSpPr txBox="1"/>
              <p:nvPr/>
            </p:nvSpPr>
            <p:spPr>
              <a:xfrm>
                <a:off x="990720" y="2209680"/>
                <a:ext cx="6019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 particular, 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: two theor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orem 1. If a polynomial           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orem 2. 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se that                                  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se that for some                                  (1) 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e the largest of suc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5"/>
              <p:cNvSpPr txBox="1"/>
              <p:nvPr/>
            </p:nvSpPr>
            <p:spPr>
              <a:xfrm>
                <a:off x="39625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6"/>
              <p:cNvSpPr txBox="1"/>
              <p:nvPr/>
            </p:nvSpPr>
            <p:spPr>
              <a:xfrm>
                <a:off x="990720" y="2209680"/>
                <a:ext cx="6019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 particular, 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8"/>
              <p:cNvSpPr txBox="1"/>
              <p:nvPr/>
            </p:nvSpPr>
            <p:spPr>
              <a:xfrm>
                <a:off x="2514600" y="2971800"/>
                <a:ext cx="47624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e a reduced basis of the lattice 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9"/>
              <p:cNvSpPr txBox="1"/>
              <p:nvPr/>
            </p:nvSpPr>
            <p:spPr>
              <a:xfrm>
                <a:off x="2286000" y="358128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0"/>
              <p:cNvSpPr txBox="1"/>
              <p:nvPr/>
            </p:nvSpPr>
            <p:spPr>
              <a:xfrm>
                <a:off x="1905120" y="4572000"/>
                <a:ext cx="3581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⇔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1"/>
              <p:cNvSpPr txBox="1"/>
              <p:nvPr/>
            </p:nvSpPr>
            <p:spPr>
              <a:xfrm>
                <a:off x="3962520" y="5029200"/>
                <a:ext cx="25146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2"/>
              <p:cNvSpPr txBox="1"/>
              <p:nvPr/>
            </p:nvSpPr>
            <p:spPr>
              <a:xfrm>
                <a:off x="914400" y="6019920"/>
                <a:ext cx="72388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holds for j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uxiliar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fixed m, the algorithm checks if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it is, the algorithm calculat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degr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prim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natur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ls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is irreducible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not divided by               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tural                 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7"/>
              <p:cNvSpPr txBox="1"/>
              <p:nvPr/>
            </p:nvSpPr>
            <p:spPr>
              <a:xfrm>
                <a:off x="4419720" y="2133720"/>
                <a:ext cx="276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9"/>
              <p:cNvSpPr txBox="1"/>
              <p:nvPr/>
            </p:nvSpPr>
            <p:spPr>
              <a:xfrm>
                <a:off x="609480" y="3429000"/>
                <a:ext cx="236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10"/>
              <p:cNvSpPr txBox="1"/>
              <p:nvPr/>
            </p:nvSpPr>
            <p:spPr>
              <a:xfrm>
                <a:off x="2743200" y="3809880"/>
                <a:ext cx="1143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1"/>
              <p:cNvSpPr txBox="1"/>
              <p:nvPr/>
            </p:nvSpPr>
            <p:spPr>
              <a:xfrm>
                <a:off x="1447920" y="4267080"/>
                <a:ext cx="129528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2"/>
              <p:cNvSpPr txBox="1"/>
              <p:nvPr/>
            </p:nvSpPr>
            <p:spPr>
              <a:xfrm>
                <a:off x="4114800" y="396252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uxiliar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fixed m, the algorithm checks if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it is, the algorithm calculat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degr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prim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natur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ls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is irreducible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not divided by               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tural                 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lattice wit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d  reduced ba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        then                    and the algorithm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wise,                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1981080" y="6019920"/>
                <a:ext cx="1143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5"/>
              <p:cNvSpPr txBox="1"/>
              <p:nvPr/>
            </p:nvSpPr>
            <p:spPr>
              <a:xfrm>
                <a:off x="4419720" y="2133720"/>
                <a:ext cx="276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6"/>
              <p:cNvSpPr txBox="1"/>
              <p:nvPr/>
            </p:nvSpPr>
            <p:spPr>
              <a:xfrm>
                <a:off x="609480" y="3429000"/>
                <a:ext cx="236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2743200" y="3809880"/>
                <a:ext cx="1143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8"/>
              <p:cNvSpPr txBox="1"/>
              <p:nvPr/>
            </p:nvSpPr>
            <p:spPr>
              <a:xfrm>
                <a:off x="1447920" y="4267080"/>
                <a:ext cx="129528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9"/>
              <p:cNvSpPr txBox="1"/>
              <p:nvPr/>
            </p:nvSpPr>
            <p:spPr>
              <a:xfrm>
                <a:off x="4114800" y="396252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10"/>
              <p:cNvSpPr txBox="1"/>
              <p:nvPr/>
            </p:nvSpPr>
            <p:spPr>
              <a:xfrm>
                <a:off x="4572000" y="4572000"/>
                <a:ext cx="4419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&lt;</m:t>
                    </m:r>
                    <m:r>
                      <m:t xml:space="preserve">l</m:t>
                    </m:r>
                    <m:r>
                      <m:t xml:space="preserve">;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11"/>
              <p:cNvSpPr txBox="1"/>
              <p:nvPr/>
            </p:nvSpPr>
            <p:spPr>
              <a:xfrm>
                <a:off x="2895480" y="5105520"/>
                <a:ext cx="10670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12"/>
              <p:cNvSpPr txBox="1"/>
              <p:nvPr/>
            </p:nvSpPr>
            <p:spPr>
              <a:xfrm>
                <a:off x="990720" y="5486400"/>
                <a:ext cx="16761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14"/>
              <p:cNvSpPr txBox="1"/>
              <p:nvPr/>
            </p:nvSpPr>
            <p:spPr>
              <a:xfrm>
                <a:off x="3429000" y="556272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5"/>
              <p:cNvSpPr txBox="1"/>
              <p:nvPr/>
            </p:nvSpPr>
            <p:spPr>
              <a:xfrm>
                <a:off x="3657600" y="6019920"/>
                <a:ext cx="19051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00"/>
                </a:solidFill>
                <a:latin typeface="Arial"/>
              </a:rPr>
              <a:t>The main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alculation of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de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 de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=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culate the leas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or which                                  is held 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=n-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factorization                      calculate its Hensel lif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u be the greatest integ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 the auxiliary algorithm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til we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if we don’t get it, deg      &gt; n-1 and      is equal to f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4"/>
              <p:cNvSpPr txBox="1"/>
              <p:nvPr/>
            </p:nvSpPr>
            <p:spPr>
              <a:xfrm>
                <a:off x="2514600" y="16002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5"/>
              <p:cNvSpPr txBox="1"/>
              <p:nvPr/>
            </p:nvSpPr>
            <p:spPr>
              <a:xfrm>
                <a:off x="4343400" y="274320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7"/>
              <p:cNvSpPr txBox="1"/>
              <p:nvPr/>
            </p:nvSpPr>
            <p:spPr>
              <a:xfrm>
                <a:off x="3124080" y="3809880"/>
                <a:ext cx="15242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h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8"/>
              <p:cNvSpPr txBox="1"/>
              <p:nvPr/>
            </p:nvSpPr>
            <p:spPr>
              <a:xfrm>
                <a:off x="3048120" y="4191120"/>
                <a:ext cx="18288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hg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9"/>
              <p:cNvSpPr txBox="1"/>
              <p:nvPr/>
            </p:nvSpPr>
            <p:spPr>
              <a:xfrm>
                <a:off x="5334120" y="4191120"/>
                <a:ext cx="14475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0"/>
              <p:cNvSpPr txBox="1"/>
              <p:nvPr/>
            </p:nvSpPr>
            <p:spPr>
              <a:xfrm>
                <a:off x="4038480" y="4648320"/>
                <a:ext cx="1524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≤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/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u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11"/>
              <p:cNvSpPr txBox="1"/>
              <p:nvPr/>
            </p:nvSpPr>
            <p:spPr>
              <a:xfrm>
                <a:off x="4572000" y="4952880"/>
                <a:ext cx="34290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u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u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12"/>
              <p:cNvSpPr txBox="1"/>
              <p:nvPr/>
            </p:nvSpPr>
            <p:spPr>
              <a:xfrm>
                <a:off x="2133720" y="548640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3"/>
              <p:cNvSpPr txBox="1"/>
              <p:nvPr/>
            </p:nvSpPr>
            <p:spPr>
              <a:xfrm>
                <a:off x="3809880" y="59436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14"/>
              <p:cNvSpPr txBox="1"/>
              <p:nvPr/>
            </p:nvSpPr>
            <p:spPr>
              <a:xfrm>
                <a:off x="5486400" y="59436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Multivariate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reductions and simplifications, which were used in the case of univariate polynomials, are not proper when dealing with multivariate 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forming this type of square free decomposition before factoring F leads to exponential intermediate expression swel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5"/>
              <p:cNvSpPr txBox="1"/>
              <p:nvPr/>
            </p:nvSpPr>
            <p:spPr>
              <a:xfrm>
                <a:off x="457200" y="2590920"/>
                <a:ext cx="65530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v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v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non-zero term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304920" y="3352680"/>
                <a:ext cx="8534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7"/>
              <p:cNvSpPr txBox="1"/>
              <p:nvPr/>
            </p:nvSpPr>
            <p:spPr>
              <a:xfrm>
                <a:off x="304920" y="3809880"/>
                <a:ext cx="335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8"/>
              <p:cNvSpPr txBox="1"/>
              <p:nvPr/>
            </p:nvSpPr>
            <p:spPr>
              <a:xfrm>
                <a:off x="304920" y="4267080"/>
                <a:ext cx="990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9"/>
              <p:cNvSpPr txBox="1"/>
              <p:nvPr/>
            </p:nvSpPr>
            <p:spPr>
              <a:xfrm>
                <a:off x="304920" y="4724280"/>
                <a:ext cx="57909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has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on-zero terms, and the factorization of 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as only 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 non-zero term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, which uses Hensel lifting techniques and factorization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Multivariate factorization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he basic approach used to factor multivariate polynomials is much the same as the exponential time algorithm for u.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ilbert irreducibility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e an irreducible polynomial over </a:t>
            </a:r>
            <a:r>
              <a:rPr b="0" lang="ru-RU" sz="2400" spc="-1" strike="noStrike">
                <a:solidFill>
                  <a:srgbClr val="000000"/>
                </a:solidFill>
                <a:latin typeface="GoudyHandtooled BT"/>
              </a:rPr>
              <a:t>Q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nd let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R(N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denote the number of n-tuples over </a:t>
            </a:r>
            <a:r>
              <a:rPr b="0" lang="ru-RU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|&lt;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such that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is reducible. Then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depends only on the degree of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5"/>
              <p:cNvSpPr txBox="1"/>
              <p:nvPr/>
            </p:nvSpPr>
            <p:spPr>
              <a:xfrm>
                <a:off x="1143000" y="1600200"/>
                <a:ext cx="2133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8"/>
              <p:cNvSpPr txBox="1"/>
              <p:nvPr/>
            </p:nvSpPr>
            <p:spPr>
              <a:xfrm>
                <a:off x="1523880" y="2286000"/>
                <a:ext cx="21337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9"/>
              <p:cNvSpPr txBox="1"/>
              <p:nvPr/>
            </p:nvSpPr>
            <p:spPr>
              <a:xfrm>
                <a:off x="838080" y="2743200"/>
                <a:ext cx="2971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ilbert theorem: disad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re is no upper bound on the number of random points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 approach can not be applied when working over finite fi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Bertini’s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                         be an irreducible polynomial of R[Z],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nd       is an intergal domain. Let the degree of      in      be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the total degree of the                  in         be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e a subset of       of cardinality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hen                                                                                                     is irreducible ov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6"/>
              <p:cNvSpPr txBox="1"/>
              <p:nvPr/>
            </p:nvSpPr>
            <p:spPr>
              <a:xfrm>
                <a:off x="990720" y="1676520"/>
                <a:ext cx="19047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7"/>
              <p:cNvSpPr txBox="1"/>
              <p:nvPr/>
            </p:nvSpPr>
            <p:spPr>
              <a:xfrm>
                <a:off x="533520" y="2057400"/>
                <a:ext cx="2057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8"/>
              <p:cNvSpPr txBox="1"/>
              <p:nvPr/>
            </p:nvSpPr>
            <p:spPr>
              <a:xfrm>
                <a:off x="3200400" y="2057400"/>
                <a:ext cx="35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9"/>
              <p:cNvSpPr txBox="1"/>
              <p:nvPr/>
            </p:nvSpPr>
            <p:spPr>
              <a:xfrm>
                <a:off x="1219320" y="2514600"/>
                <a:ext cx="2808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10"/>
              <p:cNvSpPr txBox="1"/>
              <p:nvPr/>
            </p:nvSpPr>
            <p:spPr>
              <a:xfrm>
                <a:off x="8458200" y="2133720"/>
                <a:ext cx="304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11"/>
              <p:cNvSpPr txBox="1"/>
              <p:nvPr/>
            </p:nvSpPr>
            <p:spPr>
              <a:xfrm>
                <a:off x="3886200" y="2590920"/>
                <a:ext cx="9907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13"/>
              <p:cNvSpPr txBox="1"/>
              <p:nvPr/>
            </p:nvSpPr>
            <p:spPr>
              <a:xfrm>
                <a:off x="3809880" y="3733920"/>
                <a:ext cx="1143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14"/>
              <p:cNvSpPr txBox="1"/>
              <p:nvPr/>
            </p:nvSpPr>
            <p:spPr>
              <a:xfrm>
                <a:off x="5410080" y="380988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5"/>
              <p:cNvSpPr txBox="1"/>
              <p:nvPr/>
            </p:nvSpPr>
            <p:spPr>
              <a:xfrm>
                <a:off x="6324480" y="373392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6"/>
              <p:cNvSpPr txBox="1"/>
              <p:nvPr/>
            </p:nvSpPr>
            <p:spPr>
              <a:xfrm>
                <a:off x="2133720" y="4114800"/>
                <a:ext cx="3585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7"/>
              <p:cNvSpPr txBox="1"/>
              <p:nvPr/>
            </p:nvSpPr>
            <p:spPr>
              <a:xfrm>
                <a:off x="4191120" y="403848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8"/>
              <p:cNvSpPr txBox="1"/>
              <p:nvPr/>
            </p:nvSpPr>
            <p:spPr>
              <a:xfrm>
                <a:off x="1447920" y="4495680"/>
                <a:ext cx="3835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19"/>
              <p:cNvSpPr txBox="1"/>
              <p:nvPr/>
            </p:nvSpPr>
            <p:spPr>
              <a:xfrm>
                <a:off x="3429000" y="4876920"/>
                <a:ext cx="34862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, which uses Hensel lifting techniques and factorization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K. Lenstra, H. W. Lenstra and Lovasz – polynomial time algorithm using basic reduction techniques for latt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simplifi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simpl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use of GCD computations or modular interpolation techni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  <a:ea typeface="Arial"/>
              </a:rPr>
              <a:t>Univariate Factorization – simplifi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use of GCD computations or modular interpolation techni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ould try to monic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ut this increases the size of the coefficien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n most cases in not worthwhi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914400" y="5257800"/>
                <a:ext cx="7315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33:39Z</dcterms:created>
  <dc:creator>Olya</dc:creator>
  <dc:description/>
  <dc:language>en-US</dc:language>
  <cp:lastModifiedBy>LEGION</cp:lastModifiedBy>
  <cp:lastPrinted>2004-09-18T01:06:00Z</cp:lastPrinted>
  <dcterms:modified xsi:type="dcterms:W3CDTF">2017-07-06T06:36:31Z</dcterms:modified>
  <cp:revision>122</cp:revision>
  <dc:subject/>
  <dc:title>PF</dc:title>
</cp:coreProperties>
</file>