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427B-3EB7-4553-9A65-C72555984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9AB-CA5C-4A9D-99E8-86301C02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B3B-F798-421B-AC64-41315E3E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AEE-DA94-43ED-A9C1-A91F953E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8A4-4C5D-462A-A3A5-50BF9D8C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D53-1B2C-4FA5-9DA6-D0400A44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608-F9D5-4C70-A719-EA7CCF60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C09-F8FE-4946-A0CA-A0356C4B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F0B-1DE7-42AD-B848-245BDB41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FA3-F14D-4C4F-836D-47CD987C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77F-6896-45CA-8E0A-742C55D3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D2B-0EBD-4082-8B45-DA0F3887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C82-B8A6-4377-92D8-71859458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</a:t>
            </a:r>
            <a:fld id="{339E9AEE-4DD1-4E44-B398-D47933A53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 Serge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rien-Akademie 2004, September 19 – Octob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torization of polynomials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ll not be    mo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ne-grain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but will only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ars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n factorization over a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example,             has complex roots and thus it is irreducible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But it is factorizable over any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insta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819520" y="3505320"/>
                <a:ext cx="10285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895480" y="4952880"/>
                <a:ext cx="4724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952880" y="251460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362320" y="44956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762120" y="3809880"/>
                <a:ext cx="800100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is free of squar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proceed with 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e case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⋮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deg</m:t>
                        </m:r>
                        <m:r>
                          <m:t xml:space="preserve">g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factorisation of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can be 'constructed' out of factorisation of 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Factorization over     - theoretical bas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457200" y="1701720"/>
                <a:ext cx="8229600" cy="432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a monic polynomial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h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 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≡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 satisfies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uthermore, there is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to-one correspondence between tuple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ch</m:t>
                        </m:r>
                        <m:r>
                          <m:rPr>
                            <m:lit/>
                            <m:nor/>
                          </m:rPr>
                          <m:t xml:space="preserve">polynomials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h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426708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Is there any use of this theor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s now understand that th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in fact equal to a system of linear equations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e to the fact that we are over      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cause almost all the binomials are divided by 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895480" y="2209680"/>
                <a:ext cx="2057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6858000" y="274320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533520" y="3429000"/>
                <a:ext cx="5790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ee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4495680" y="396252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676520" y="4724280"/>
                <a:ext cx="5638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mension of its solution spac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irreducible factor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, we will get 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actors: for two different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exists an element        from the bas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381880" y="4648320"/>
                <a:ext cx="762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533520" y="5181480"/>
                <a:ext cx="7848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there is </m:t>
                    </m:r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4"/>
              <p:cNvSpPr txBox="1"/>
              <p:nvPr/>
            </p:nvSpPr>
            <p:spPr>
              <a:xfrm>
                <a:off x="3429000" y="556272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533520" y="6019920"/>
                <a:ext cx="6705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No, this is the las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457200" y="2514600"/>
                <a:ext cx="82296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now instead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can tak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random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sen from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nd calculat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probability we will get a nontrivial factorization o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ry beginn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ariate Fact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of the algorithms and the required simpl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ng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zation based on Hensel l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LL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variate Fact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dea of the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sis of correctness prob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over </a:t>
            </a:r>
            <a:r>
              <a:rPr b="0" lang="en-US" sz="3600" spc="-1" strike="noStrike">
                <a:solidFill>
                  <a:srgbClr val="003300"/>
                </a:solidFill>
                <a:latin typeface="GoudyHandtooled BT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comp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be factorization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                               . So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ivide       by              and thus get a polynomial free of squ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ow and 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(f)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CD(f,f’)=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143000" y="2362320"/>
                <a:ext cx="2133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295280" y="3200400"/>
                <a:ext cx="2438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5181480" y="320040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2514600" y="40384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3276720" y="403848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3"/>
              <p:cNvSpPr txBox="1"/>
              <p:nvPr/>
            </p:nvSpPr>
            <p:spPr>
              <a:xfrm>
                <a:off x="5867280" y="24382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334120" y="44956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 rot="10800000">
                <a:off x="8077320" y="441936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 rot="10800000">
                <a:off x="2286000" y="50292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     , as needed, into true divisors of 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438280" y="365760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5257800" y="42670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 rot="10800000">
                <a:off x="8153280" y="41144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 rot="10800000">
                <a:off x="2590920" y="48006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3"/>
              <p:cNvSpPr txBox="1"/>
              <p:nvPr/>
            </p:nvSpPr>
            <p:spPr>
              <a:xfrm>
                <a:off x="2819520" y="5486400"/>
                <a:ext cx="33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7086600" y="54864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5"/>
              <p:cNvSpPr txBox="1"/>
              <p:nvPr/>
            </p:nvSpPr>
            <p:spPr>
              <a:xfrm>
                <a:off x="7543800" y="2666880"/>
                <a:ext cx="39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3124080" y="31240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124080" y="34290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se prime modulo, we compare square free de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, apply one of the univariate finite field factorization algorith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3048120" y="327672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048120" y="3581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precisely, if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ca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ensel continu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is factorization a fact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2971800" y="4876920"/>
                <a:ext cx="2743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3809880" y="2743200"/>
                <a:ext cx="42674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2"/>
              <p:cNvSpPr txBox="1"/>
              <p:nvPr/>
            </p:nvSpPr>
            <p:spPr>
              <a:xfrm>
                <a:off x="2362320" y="5562720"/>
                <a:ext cx="4495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mma (Hen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then for any factorization                             , satisfying the above conditions, there exists its Hensel continu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the polynomials         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d uniquely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914400" y="2133720"/>
                <a:ext cx="635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952880" y="2057400"/>
                <a:ext cx="198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914400" y="2819520"/>
                <a:ext cx="23623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019920" y="2819520"/>
                <a:ext cx="1218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and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3886200" y="327672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Mignotte)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533520" y="4267080"/>
                <a:ext cx="739116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⋮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n upper bound for the coefficients fa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M. We then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     be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4114800" y="1981080"/>
                <a:ext cx="2203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838080" y="281952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∈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2"/>
              <p:cNvSpPr txBox="1"/>
              <p:nvPr/>
            </p:nvSpPr>
            <p:spPr>
              <a:xfrm>
                <a:off x="457200" y="3733920"/>
                <a:ext cx="70866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lynomial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can be uniquely reconstructed fro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ecause  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5105520" y="25146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 rot="10800000">
                <a:off x="6324480" y="243792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 letting not to perform excessive trial di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heck failed for integers, there is no need to perform it for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105520" y="2438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 rot="10800000">
                <a:off x="6324480" y="22856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1143000" y="457200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stra, Lenstra, Lovasz. Factoring polynomials with rational coefficients. 198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hm takes                          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590920" y="3809880"/>
                <a:ext cx="1898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symptotically Good Algorithms: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ubset              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tti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f there exists a basis                    in         such, 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2057400" y="2743200"/>
                <a:ext cx="838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3886200" y="31240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905120" y="312408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1905120" y="3733920"/>
                <a:ext cx="41907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Z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this an irreducible factor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such,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searched f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r terms,          will imply that the coefficients of       are the points of som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          will imply that the coefficients of       are ‘not too large’ (in other words, 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hort vector in the latti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rresponds to the searched irreducible factor)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4343400" y="33526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315200" y="3429000"/>
                <a:ext cx="152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2209680" y="4191120"/>
                <a:ext cx="6098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7086600" y="4191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2057400" y="4952880"/>
                <a:ext cx="609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6934320" y="49528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ing up, we need an algorithm for constructing an irreducible factor 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ith 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convenient to generalize 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      of  square fre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find irreducible      such that         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3124080" y="19810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105520" y="32004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6248520" y="35812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7772400" y="3581280"/>
                <a:ext cx="6094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 can think of polynomials of degree less than or equal to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s of poi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the polynomials from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form a lattic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th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9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2362320" y="5029200"/>
                <a:ext cx="4952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↔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3"/>
              <p:cNvSpPr txBox="1"/>
              <p:nvPr/>
            </p:nvSpPr>
            <p:spPr>
              <a:xfrm>
                <a:off x="2286000" y="601992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2.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       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for some                                  (1) 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the largest of suc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2514600" y="2971800"/>
                <a:ext cx="4762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e a reduced basis of the lattice 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2286000" y="358128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1905120" y="4572000"/>
                <a:ext cx="3581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3962520" y="5029200"/>
                <a:ext cx="2514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2"/>
              <p:cNvSpPr txBox="1"/>
              <p:nvPr/>
            </p:nvSpPr>
            <p:spPr>
              <a:xfrm>
                <a:off x="914400" y="6019920"/>
                <a:ext cx="7238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holds for 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2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lattice wit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 reduced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        then                    and the algorithm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wise,             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981080" y="60199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4572000" y="457200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2895480" y="5105520"/>
                <a:ext cx="106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2"/>
              <p:cNvSpPr txBox="1"/>
              <p:nvPr/>
            </p:nvSpPr>
            <p:spPr>
              <a:xfrm>
                <a:off x="990720" y="5486400"/>
                <a:ext cx="1676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3429000" y="556272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"/>
              <p:cNvSpPr txBox="1"/>
              <p:nvPr/>
            </p:nvSpPr>
            <p:spPr>
              <a:xfrm>
                <a:off x="3657600" y="6019920"/>
                <a:ext cx="1905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00"/>
                </a:solidFill>
                <a:latin typeface="Arial"/>
              </a:rPr>
              <a:t>The main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lculation of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 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=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the leas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which                                  is held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=n-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factorization                      calculate its Hensel l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 be the greatest integ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 the auxiliary algorithm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til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if we don’t get it, deg      &gt; n-1 and      is equal to f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2514600" y="1600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343400" y="274320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3124080" y="3809880"/>
                <a:ext cx="1524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8"/>
              <p:cNvSpPr txBox="1"/>
              <p:nvPr/>
            </p:nvSpPr>
            <p:spPr>
              <a:xfrm>
                <a:off x="3048120" y="4191120"/>
                <a:ext cx="182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hg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5334120" y="4191120"/>
                <a:ext cx="1447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0"/>
              <p:cNvSpPr txBox="1"/>
              <p:nvPr/>
            </p:nvSpPr>
            <p:spPr>
              <a:xfrm>
                <a:off x="4038480" y="464832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572000" y="4952880"/>
                <a:ext cx="3429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2133720" y="54864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3"/>
              <p:cNvSpPr txBox="1"/>
              <p:nvPr/>
            </p:nvSpPr>
            <p:spPr>
              <a:xfrm>
                <a:off x="380988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14"/>
              <p:cNvSpPr txBox="1"/>
              <p:nvPr/>
            </p:nvSpPr>
            <p:spPr>
              <a:xfrm>
                <a:off x="548640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ductions and simplifications, which were used in the case of univariate polynomials, are not proper when dealing with multivariate 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ing this type of square free decomposition before factoring F leads to exponential intermediate expression s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457200" y="2590920"/>
                <a:ext cx="655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non-zero term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304920" y="3352680"/>
                <a:ext cx="8534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304920" y="3809880"/>
                <a:ext cx="335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304920" y="4267080"/>
                <a:ext cx="990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304920" y="4724280"/>
                <a:ext cx="5790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on-zero terms, and the factorization of 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only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non-zero 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 basic approach used to factor multivariate polynomials is much the same as the exponential time algorithm for u.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irreducibil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n irreducible polynomial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(N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note the number of n-tuples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&lt;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such that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s reducible. Then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pends only on the degree of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1143000" y="160020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1523880" y="2286000"/>
                <a:ext cx="2133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838080" y="2743200"/>
                <a:ext cx="29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theorem: dis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re is no upper bound on the number of random point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approach can not be applied when working over finit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Bertini’s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be an irreducible polynomial of R[Z]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      is an intergal domain. Let the degree of      in      b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the total degree of the                  in         be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 subset of       of cardinality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n                                                                                                     is irreducible o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990720" y="1676520"/>
                <a:ext cx="1904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7"/>
              <p:cNvSpPr txBox="1"/>
              <p:nvPr/>
            </p:nvSpPr>
            <p:spPr>
              <a:xfrm>
                <a:off x="533520" y="2057400"/>
                <a:ext cx="2057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8"/>
              <p:cNvSpPr txBox="1"/>
              <p:nvPr/>
            </p:nvSpPr>
            <p:spPr>
              <a:xfrm>
                <a:off x="3200400" y="205740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1219320" y="2514600"/>
                <a:ext cx="280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0"/>
              <p:cNvSpPr txBox="1"/>
              <p:nvPr/>
            </p:nvSpPr>
            <p:spPr>
              <a:xfrm>
                <a:off x="8458200" y="21337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1"/>
              <p:cNvSpPr txBox="1"/>
              <p:nvPr/>
            </p:nvSpPr>
            <p:spPr>
              <a:xfrm>
                <a:off x="3886200" y="2590920"/>
                <a:ext cx="990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3"/>
              <p:cNvSpPr txBox="1"/>
              <p:nvPr/>
            </p:nvSpPr>
            <p:spPr>
              <a:xfrm>
                <a:off x="3809880" y="3733920"/>
                <a:ext cx="1143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4"/>
              <p:cNvSpPr txBox="1"/>
              <p:nvPr/>
            </p:nvSpPr>
            <p:spPr>
              <a:xfrm>
                <a:off x="5410080" y="380988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5"/>
              <p:cNvSpPr txBox="1"/>
              <p:nvPr/>
            </p:nvSpPr>
            <p:spPr>
              <a:xfrm>
                <a:off x="6324480" y="37339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6"/>
              <p:cNvSpPr txBox="1"/>
              <p:nvPr/>
            </p:nvSpPr>
            <p:spPr>
              <a:xfrm>
                <a:off x="2133720" y="4114800"/>
                <a:ext cx="358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7"/>
              <p:cNvSpPr txBox="1"/>
              <p:nvPr/>
            </p:nvSpPr>
            <p:spPr>
              <a:xfrm>
                <a:off x="4191120" y="40384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8"/>
              <p:cNvSpPr txBox="1"/>
              <p:nvPr/>
            </p:nvSpPr>
            <p:spPr>
              <a:xfrm>
                <a:off x="1447920" y="4495680"/>
                <a:ext cx="3835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9"/>
              <p:cNvSpPr txBox="1"/>
              <p:nvPr/>
            </p:nvSpPr>
            <p:spPr>
              <a:xfrm>
                <a:off x="3429000" y="4876920"/>
                <a:ext cx="34862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K. Lenstra, H. W. Lenstra and Lovasz – polynomial time algorithm using basic reduction techniques for latt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  <a:ea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uld try to monic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this increases the size of the coefficien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 most cases in not worthwhi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914400" y="5257800"/>
                <a:ext cx="7315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33:39Z</dcterms:created>
  <dc:creator>Olya</dc:creator>
  <dc:description/>
  <dc:language>en-US</dc:language>
  <cp:lastModifiedBy>LEGION</cp:lastModifiedBy>
  <cp:lastPrinted>2004-09-18T01:06:00Z</cp:lastPrinted>
  <dcterms:modified xsi:type="dcterms:W3CDTF">2017-07-06T06:36:31Z</dcterms:modified>
  <cp:revision>122</cp:revision>
  <dc:subject/>
  <dc:title>PF</dc:title>
</cp:coreProperties>
</file>