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6FA5-F901-48DE-BD1D-966F7BBE7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B79-3E7A-4366-8BF6-F6FB666A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EBE-E68D-4200-B8A0-4D585575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94B-7DB2-421C-B4FA-E1C906F7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F53-3B9A-4586-802B-E63CC7C5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A26-0B31-467A-A757-9AEAC2AB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585-2F8B-48C9-A3EA-882773BE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258-5A0C-49E2-A9B5-C8CA6C78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D9E-8E42-4FA7-9F3E-D9A1E40D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F45B-0453-4548-8294-C2287A62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3D1-0DBB-49E1-A205-E717B209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B4F-0C2C-4FE5-AEB7-EED2DC2D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56FB-07BC-46FE-96FC-4449EAB5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A157-CA2C-4827-BBBD-B9D1766C1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umbers 1-20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0" descr="MCj02907090000[1]"/>
          <p:cNvPicPr/>
          <p:nvPr/>
        </p:nvPicPr>
        <p:blipFill>
          <a:blip r:embed="rId1"/>
          <a:stretch/>
        </p:blipFill>
        <p:spPr>
          <a:xfrm>
            <a:off x="6121440" y="304920"/>
            <a:ext cx="2031840" cy="1969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909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34324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343240" y="1981080"/>
            <a:ext cx="45147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l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62320" y="1981080"/>
            <a:ext cx="459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l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133720" y="2057400"/>
            <a:ext cx="4971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09680" y="1981080"/>
            <a:ext cx="48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209680" y="205740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2209680" y="198108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133720" y="1905120"/>
            <a:ext cx="49719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352680" y="175248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zer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286000" y="2171880"/>
            <a:ext cx="459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4955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955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276720" y="1866960"/>
            <a:ext cx="274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66880" y="209556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re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59092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6:18Z</dcterms:modified>
  <cp:revision>79</cp:revision>
  <dc:subject/>
  <dc:title>Sunday</dc:title>
</cp:coreProperties>
</file>