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63E3-A6A7-451E-8135-6BF33090D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E71-6AB8-41F0-ADFC-A562B0A3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790-7227-4107-AEF1-AD0BE24B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86A-EC5E-4A81-BC1D-CF742FC7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13F-69FD-41DB-9FC8-F0A6AC60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143-AFAE-4382-A5A7-B87A5C33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22E-62DA-49AF-ADB4-7442025B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91F-BD7C-46AD-B75F-9D302A15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20F-41B3-4501-AB9C-5904BAA7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B4E-400A-41BD-B73C-3AF4BCA7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E6B-4CDF-4E60-9548-9D2A179F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1D0-69DE-47BB-93B2-6D954AF6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3AF-D060-46CB-8B7F-CB47182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8877-D7D1-4307-A237-4982D468A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9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18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65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71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63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75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81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LEGION</cp:lastModifiedBy>
  <dcterms:modified xsi:type="dcterms:W3CDTF">2017-07-06T06:36:06Z</dcterms:modified>
  <cp:revision>34</cp:revision>
  <dc:subject/>
  <dc:title>Multiply Polynomials</dc:title>
</cp:coreProperties>
</file>