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3F90-00F6-407A-B499-9920A4AD1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ethod is the Box Method. This method works for every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 - 19x –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 – 34p +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+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14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14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8ab – 6ba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+ 2ab – 1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a2 – 2ab – 12b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(x2 - 5x + 4) - 5(x2 - 5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+ 8x - 5x2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0x2 - 5x2 + 8x + 25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-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You cannot use FOIL because they are not BOTH binomials.  You must use the distributive property or box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Multiply (2x - 5)(x2 - 5x + 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bin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3 – 15x2 + 33x -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ly (2p + 1)(p2 – 3p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p3 + 2p3 + p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+ 7y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2 – 7y  –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istributive property, multiply 2x(5x + 8) + 3(5x + 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16x + 15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x2 + 31x +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FOIL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method is ONLY used when you multiply 2 binomials. It is an acronym and tells you which terms to multip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tells you to multiply the FIR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tells you to multiply the OUT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ells you to multiply the INNER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tells you to multiply the LAST terms of each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7y + 3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2 + 10y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AF1-2DD8-45CE-88C4-F9EBDD44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4B3-0AA0-4D37-BA32-5C975DC8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0B8-8910-42CE-B746-254FE27E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13D1-9F0E-4409-88F6-4D34ECE8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FE2-A5E6-4C81-B2ED-E7DFB6B9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E46-FA1E-4CD4-AA52-2D3E47E8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272-1A95-49FE-85AB-109247E0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9CA-E342-47E0-AC6B-BAFCBC3A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0E8-73D9-427D-BA9D-7B42AF7A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245-67FF-4971-BCAA-28A5EE69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EC8-CEFA-4C7B-9630-32C9AB10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34B-11B5-4942-908C-C1188890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0B0E-64C6-472C-86BE-B531F95A1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83988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002760"/>
            <a:ext cx="86868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two polynomials using the FOIL method, Box method and the distributive prope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: A.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87560" y="632448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30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hird method is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ox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his method works for every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’s how you do i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(3x – 5)(5x +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box. Write a polynomial on the top and side of a box. It does not matter which goes 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ill be modeled in the next problem along with F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952880" y="1905120"/>
          <a:ext cx="3810240" cy="411480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Multiply (3x - 5)(5x +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15x</a:t>
            </a:r>
            <a:r>
              <a:rPr b="1" lang="en-US" sz="36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 - 19x –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94" name="Text Box 24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4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96" name="Oval 29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Text Box 25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3000" y="6126120"/>
            <a:ext cx="90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have 3 techniques. Pick the one you like the b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rc 39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rc 40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rc 41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rc 43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2889360" y="2590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6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7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Multiply (7p - 2)(3p -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ner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st terms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1p</a:t>
            </a:r>
            <a:r>
              <a:rPr b="1" lang="en-US" sz="36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 – 34p +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76920" y="1981080"/>
          <a:ext cx="3809880" cy="4114800"/>
        </p:xfrm>
        <a:graphic>
          <a:graphicData uri="http://schemas.openxmlformats.org/drawingml/2006/table">
            <a:tbl>
              <a:tblPr/>
              <a:tblGrid>
                <a:gridCol w="1269720"/>
                <a:gridCol w="1270080"/>
                <a:gridCol w="1270080"/>
              </a:tblGrid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160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26"/>
          <p:cNvSpPr/>
          <p:nvPr/>
        </p:nvSpPr>
        <p:spPr>
          <a:xfrm>
            <a:off x="627372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7"/>
          <p:cNvGrpSpPr/>
          <p:nvPr/>
        </p:nvGrpSpPr>
        <p:grpSpPr>
          <a:xfrm>
            <a:off x="6172200" y="3352680"/>
            <a:ext cx="2514600" cy="2743200"/>
            <a:chOff x="6172200" y="3352680"/>
            <a:chExt cx="2514600" cy="2743200"/>
          </a:xfrm>
        </p:grpSpPr>
        <p:sp>
          <p:nvSpPr>
            <p:cNvPr id="118" name="Oval 28"/>
            <p:cNvSpPr/>
            <p:nvPr/>
          </p:nvSpPr>
          <p:spPr>
            <a:xfrm>
              <a:off x="6172200" y="47242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7467480" y="3352680"/>
              <a:ext cx="121932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 rot="18931800">
              <a:off x="6400800" y="4309560"/>
              <a:ext cx="20988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Text Box 31"/>
          <p:cNvSpPr/>
          <p:nvPr/>
        </p:nvSpPr>
        <p:spPr>
          <a:xfrm>
            <a:off x="617220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7467480" y="37162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7493040" y="506556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rc 35"/>
          <p:cNvSpPr/>
          <p:nvPr/>
        </p:nvSpPr>
        <p:spPr>
          <a:xfrm flipH="1">
            <a:off x="4648320" y="642960"/>
            <a:ext cx="175248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rc 36"/>
          <p:cNvSpPr/>
          <p:nvPr/>
        </p:nvSpPr>
        <p:spPr>
          <a:xfrm flipH="1">
            <a:off x="4648320" y="533520"/>
            <a:ext cx="2743200" cy="3808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37"/>
          <p:cNvSpPr/>
          <p:nvPr/>
        </p:nvSpPr>
        <p:spPr>
          <a:xfrm flipH="1" flipV="1">
            <a:off x="5486400" y="1447200"/>
            <a:ext cx="914400" cy="15228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38"/>
          <p:cNvSpPr/>
          <p:nvPr/>
        </p:nvSpPr>
        <p:spPr>
          <a:xfrm flipH="1" flipV="1">
            <a:off x="5486400" y="1447200"/>
            <a:ext cx="190512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2889360" y="192096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3"/>
          <p:cNvSpPr/>
          <p:nvPr/>
        </p:nvSpPr>
        <p:spPr>
          <a:xfrm>
            <a:off x="2895480" y="2666880"/>
            <a:ext cx="1143000" cy="1295640"/>
          </a:xfrm>
          <a:prstGeom prst="rect">
            <a:avLst/>
          </a:prstGeom>
          <a:solidFill>
            <a:srgbClr val="c2d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2889360" y="2590920"/>
            <a:ext cx="11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8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2889360" y="32464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6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2889360" y="3914640"/>
            <a:ext cx="88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y + 4)(y –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7y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7y 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rShape1"/>
          <p:cNvSpPr/>
          <p:nvPr/>
        </p:nvSpPr>
        <p:spPr>
          <a:xfrm rot="10800000">
            <a:off x="253800" y="142524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a – 3b)(2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rShape1"/>
          <p:cNvSpPr/>
          <p:nvPr/>
        </p:nvSpPr>
        <p:spPr>
          <a:xfrm rot="10800000">
            <a:off x="223560" y="31906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4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ab – 6ba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ab – 12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and 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8x + 25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- 15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523880" y="2540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use FOIL because they are not BOTH binomials.  You must use the distributive property or box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5"/>
          <p:cNvSpPr/>
          <p:nvPr/>
        </p:nvSpPr>
        <p:spPr>
          <a:xfrm>
            <a:off x="3429000" y="41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3352680" y="5532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4699080" y="4160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4648320" y="5532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rc 33"/>
          <p:cNvSpPr/>
          <p:nvPr/>
        </p:nvSpPr>
        <p:spPr>
          <a:xfrm flipH="1">
            <a:off x="4037760" y="228600"/>
            <a:ext cx="1600200" cy="2714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rc 34"/>
          <p:cNvSpPr/>
          <p:nvPr/>
        </p:nvSpPr>
        <p:spPr>
          <a:xfrm flipH="1">
            <a:off x="4038480" y="2286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rc 35"/>
          <p:cNvSpPr/>
          <p:nvPr/>
        </p:nvSpPr>
        <p:spPr>
          <a:xfrm flipH="1" flipV="1">
            <a:off x="4876200" y="838080"/>
            <a:ext cx="609480" cy="123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rc 36"/>
          <p:cNvSpPr/>
          <p:nvPr/>
        </p:nvSpPr>
        <p:spPr>
          <a:xfrm flipH="1" flipV="1">
            <a:off x="4876920" y="838080"/>
            <a:ext cx="1371600" cy="1526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0"/>
          <p:cNvSpPr/>
          <p:nvPr/>
        </p:nvSpPr>
        <p:spPr>
          <a:xfrm>
            <a:off x="6426360" y="4160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1"/>
          <p:cNvSpPr/>
          <p:nvPr/>
        </p:nvSpPr>
        <p:spPr>
          <a:xfrm>
            <a:off x="6502320" y="5532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rc 72"/>
          <p:cNvSpPr/>
          <p:nvPr/>
        </p:nvSpPr>
        <p:spPr>
          <a:xfrm flipH="1">
            <a:off x="4037760" y="144360"/>
            <a:ext cx="3124440" cy="31284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rc 73"/>
          <p:cNvSpPr/>
          <p:nvPr/>
        </p:nvSpPr>
        <p:spPr>
          <a:xfrm flipH="1" flipV="1">
            <a:off x="4876920" y="761400"/>
            <a:ext cx="2286000" cy="228600"/>
          </a:xfrm>
          <a:custGeom>
            <a:avLst/>
            <a:gdLst/>
            <a:ahLst/>
            <a:rect l="l" t="t" r="r" b="b"/>
            <a:pathLst>
              <a:path fill="none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</a:path>
              <a:path stroke="0" w="43173" h="23469">
                <a:moveTo>
                  <a:pt x="81" y="23468"/>
                </a:moveTo>
                <a:cubicBezTo>
                  <a:pt x="27" y="22847"/>
                  <a:pt x="0" y="2222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06" y="-1"/>
                  <a:pt x="42593" y="9020"/>
                  <a:pt x="43172" y="20512"/>
                </a:cubicBezTo>
                <a:lnTo>
                  <a:pt x="21600" y="21600"/>
                </a:lnTo>
                <a:lnTo>
                  <a:pt x="81" y="23468"/>
                </a:lnTo>
                <a:close/>
              </a:path>
            </a:pathLst>
          </a:custGeom>
          <a:noFill/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8"/>
          <p:cNvSpPr/>
          <p:nvPr/>
        </p:nvSpPr>
        <p:spPr>
          <a:xfrm>
            <a:off x="7772400" y="4724280"/>
            <a:ext cx="123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3880" y="1397160"/>
          <a:ext cx="6096240" cy="40892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4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  <a:tr h="1379520"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  <a:tc>
                  <a:txBody>
                    <a:bodyPr lIns="90000" rIns="90000" tIns="32004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2d3fe"/>
                    </a:solidFill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Multiply (2x - 5)(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5x + 4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like te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3429000" y="3017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6"/>
          <p:cNvGrpSpPr/>
          <p:nvPr/>
        </p:nvGrpSpPr>
        <p:grpSpPr>
          <a:xfrm>
            <a:off x="3048120" y="2743200"/>
            <a:ext cx="3047400" cy="2743200"/>
            <a:chOff x="3048120" y="2743200"/>
            <a:chExt cx="3047400" cy="2743200"/>
          </a:xfrm>
        </p:grpSpPr>
        <p:sp>
          <p:nvSpPr>
            <p:cNvPr id="165" name="Oval 27"/>
            <p:cNvSpPr/>
            <p:nvPr/>
          </p:nvSpPr>
          <p:spPr>
            <a:xfrm>
              <a:off x="3048120" y="41148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28"/>
            <p:cNvSpPr/>
            <p:nvPr/>
          </p:nvSpPr>
          <p:spPr>
            <a:xfrm>
              <a:off x="4617720" y="2743200"/>
              <a:ext cx="14778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 rot="18931800">
              <a:off x="3324960" y="3700080"/>
              <a:ext cx="254340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30"/>
          <p:cNvSpPr/>
          <p:nvPr/>
        </p:nvSpPr>
        <p:spPr>
          <a:xfrm>
            <a:off x="3352680" y="4389480"/>
            <a:ext cx="11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1"/>
          <p:cNvSpPr/>
          <p:nvPr/>
        </p:nvSpPr>
        <p:spPr>
          <a:xfrm>
            <a:off x="4699080" y="301788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2"/>
          <p:cNvGrpSpPr/>
          <p:nvPr/>
        </p:nvGrpSpPr>
        <p:grpSpPr>
          <a:xfrm>
            <a:off x="4572000" y="2743200"/>
            <a:ext cx="3047760" cy="2743200"/>
            <a:chOff x="4572000" y="2743200"/>
            <a:chExt cx="3047760" cy="2743200"/>
          </a:xfrm>
        </p:grpSpPr>
        <p:sp>
          <p:nvSpPr>
            <p:cNvPr id="171" name="Oval 33"/>
            <p:cNvSpPr/>
            <p:nvPr/>
          </p:nvSpPr>
          <p:spPr>
            <a:xfrm>
              <a:off x="4572000" y="41148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34"/>
            <p:cNvSpPr/>
            <p:nvPr/>
          </p:nvSpPr>
          <p:spPr>
            <a:xfrm>
              <a:off x="6141960" y="2743200"/>
              <a:ext cx="1477800" cy="137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 rot="18931800">
              <a:off x="4848840" y="3700080"/>
              <a:ext cx="2543760" cy="79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4648320" y="4389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2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1"/>
          <p:cNvSpPr/>
          <p:nvPr/>
        </p:nvSpPr>
        <p:spPr>
          <a:xfrm>
            <a:off x="6426360" y="3017880"/>
            <a:ext cx="11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6502320" y="438948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5"/>
          <p:cNvSpPr/>
          <p:nvPr/>
        </p:nvSpPr>
        <p:spPr>
          <a:xfrm>
            <a:off x="2309760" y="5775480"/>
            <a:ext cx="44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– 15x</a:t>
            </a:r>
            <a:r>
              <a:rPr b="0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 + 33x -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 (2p + 1)(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p +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 +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y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y  –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three techniques you can use for multiplying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est part about it is that they are all the same! Huh? Whaddaya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all about how you write it…Here they 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x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 back, relax (but make sure to write this down), and I’ll show y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Multiply. (2x + 3)(5x +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multipl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 +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x + 8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16x + 15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0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+ 31x + 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ortcut of the distributive property is called the </a:t>
            </a:r>
            <a:r>
              <a:rPr b="1" lang="en-US" sz="4000" spc="-1" strike="noStrike" u="sng">
                <a:solidFill>
                  <a:srgbClr val="00279f"/>
                </a:solidFill>
                <a:uFillTx/>
                <a:latin typeface="Times New Roman"/>
              </a:rPr>
              <a:t>FOI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IL metho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ONLY used when you multiply 2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inomial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It is an acronym and tells you which terms to multip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)  Use the FOIL method to multiply the following binomial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3200400" y="1828800"/>
            <a:ext cx="1601640" cy="355680"/>
            <a:chOff x="3200400" y="1828800"/>
            <a:chExt cx="1601640" cy="355680"/>
          </a:xfrm>
        </p:grpSpPr>
        <p:sp>
          <p:nvSpPr>
            <p:cNvPr id="63" name="Arc 5"/>
            <p:cNvSpPr/>
            <p:nvPr/>
          </p:nvSpPr>
          <p:spPr>
            <a:xfrm rot="10800000">
              <a:off x="402732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6"/>
            <p:cNvSpPr/>
            <p:nvPr/>
          </p:nvSpPr>
          <p:spPr>
            <a:xfrm rot="10800000">
              <a:off x="3200400" y="1828800"/>
              <a:ext cx="7747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3276720" y="1752480"/>
            <a:ext cx="2439720" cy="355680"/>
            <a:chOff x="3276720" y="1752480"/>
            <a:chExt cx="2439720" cy="355680"/>
          </a:xfrm>
        </p:grpSpPr>
        <p:sp>
          <p:nvSpPr>
            <p:cNvPr id="69" name="Arc 5"/>
            <p:cNvSpPr/>
            <p:nvPr/>
          </p:nvSpPr>
          <p:spPr>
            <a:xfrm rot="10800000">
              <a:off x="452268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rc 6"/>
            <p:cNvSpPr/>
            <p:nvPr/>
          </p:nvSpPr>
          <p:spPr>
            <a:xfrm rot="10800000">
              <a:off x="3276720" y="1752480"/>
              <a:ext cx="11937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N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280" y="4876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4114800" y="1752480"/>
            <a:ext cx="687240" cy="355680"/>
            <a:chOff x="4114800" y="1752480"/>
            <a:chExt cx="687240" cy="355680"/>
          </a:xfrm>
        </p:grpSpPr>
        <p:sp>
          <p:nvSpPr>
            <p:cNvPr id="75" name="Arc 5"/>
            <p:cNvSpPr/>
            <p:nvPr/>
          </p:nvSpPr>
          <p:spPr>
            <a:xfrm rot="10800000">
              <a:off x="448452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6"/>
            <p:cNvSpPr/>
            <p:nvPr/>
          </p:nvSpPr>
          <p:spPr>
            <a:xfrm rot="10800000">
              <a:off x="4114800" y="1752480"/>
              <a:ext cx="31752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y + 3)(y + 7). 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lls you to multipl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erms of each binom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358092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7y + 3y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10y +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4114800" y="1143000"/>
            <a:ext cx="1525680" cy="355680"/>
            <a:chOff x="4114800" y="1143000"/>
            <a:chExt cx="1525680" cy="355680"/>
          </a:xfrm>
        </p:grpSpPr>
        <p:sp>
          <p:nvSpPr>
            <p:cNvPr id="81" name="Arc 5"/>
            <p:cNvSpPr/>
            <p:nvPr/>
          </p:nvSpPr>
          <p:spPr>
            <a:xfrm rot="10800000">
              <a:off x="490392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rc 6"/>
            <p:cNvSpPr/>
            <p:nvPr/>
          </p:nvSpPr>
          <p:spPr>
            <a:xfrm rot="10800000">
              <a:off x="4114800" y="1143000"/>
              <a:ext cx="736560" cy="355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FOIL reminds you to multiply th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n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LEGION</cp:lastModifiedBy>
  <dcterms:modified xsi:type="dcterms:W3CDTF">2017-07-06T06:36:06Z</dcterms:modified>
  <cp:revision>34</cp:revision>
  <dc:subject/>
  <dc:title>Multiply Polynomials</dc:title>
</cp:coreProperties>
</file>