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92D5-E9C4-4352-A2E3-03FAFB15E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B13-E701-4C3A-AB44-41B9B1C2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8C4-574C-4D22-A865-D9DF3D2B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0A8-F702-4945-8900-484D0A3F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FDF-9687-45D4-864B-3DF47978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52D-B39A-4FF3-B5D8-A21D9658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737-F9F4-4878-A963-14BB058B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E3E-8A0F-4957-8C4D-6EE5CC82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B40-011A-44A3-8047-0976D820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808-A4FB-4D44-98A4-D3976354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D09-8CD5-4264-9516-76942AC2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5CD-2E82-438E-8B00-F4B0BF8C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A1C-C56D-4229-AAA7-B9B0770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BB13-456C-4D4D-9DD9-02DA5865B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9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18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65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71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63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75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81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LEGION</cp:lastModifiedBy>
  <dcterms:modified xsi:type="dcterms:W3CDTF">2017-07-06T06:36:06Z</dcterms:modified>
  <cp:revision>34</cp:revision>
  <dc:subject/>
  <dc:title>Multiply Polynomials</dc:title>
</cp:coreProperties>
</file>