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EB35-36E6-4C09-906B-E79914D69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(-4) =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4 = 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(-4) =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4 = 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fra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# • top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# • botto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fra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# • top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# • botto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sy way to determine the sign of the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negative signs -&gt; Odd -&gt;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odd number of negatives, the answer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even number of negatives, the answer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sy way to determine the sign of the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negative signs -&gt; Odd -&gt;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odd number of negatives, the answer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even number of negatives, the answer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- even # of negative sign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- even # of negative sign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8DD-F688-4AFB-BEEC-AE0DD837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AEF4-CB0A-416B-944A-CEAD6D58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EC7A-7967-4CF2-B357-13BFF985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21B-D369-4EDF-9465-DA5E1C1D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D65D-A437-4C70-B935-C1ABD09F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6291-4DDE-4D41-AF1D-99475F09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706-515E-409A-B573-E40BD23F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665-7160-441F-9F57-CBAF6C11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33EE-548B-41AB-9C15-180B7DAD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B30-871D-4EAA-996F-6A836E30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DF7-D271-44F9-8961-21D6E7DC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5D3-D19C-4A90-A015-AD2E24CA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C565-49FE-467E-9478-5C32C2712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1030320"/>
            <a:ext cx="7848720" cy="167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295280" y="60199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rShape1"/>
          <p:cNvSpPr/>
          <p:nvPr/>
        </p:nvSpPr>
        <p:spPr>
          <a:xfrm>
            <a:off x="223920" y="336852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126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ultiply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(-7) • (-4) = 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(-7) • 4 = -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33520" y="7632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9"/>
          <p:cNvGrpSpPr/>
          <p:nvPr/>
        </p:nvGrpSpPr>
        <p:grpSpPr>
          <a:xfrm>
            <a:off x="533520" y="2819520"/>
            <a:ext cx="2437920" cy="1025280"/>
            <a:chOff x="533520" y="2819520"/>
            <a:chExt cx="2437920" cy="1025280"/>
          </a:xfrm>
        </p:grpSpPr>
        <p:graphicFrame>
          <p:nvGraphicFramePr>
            <p:cNvPr id="57" name="Object 5"/>
            <p:cNvGraphicFramePr/>
            <p:nvPr/>
          </p:nvGraphicFramePr>
          <p:xfrm>
            <a:off x="1295280" y="2819520"/>
            <a:ext cx="1676160" cy="102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2819520"/>
                      <a:ext cx="1676160" cy="102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Text Box 6"/>
            <p:cNvSpPr/>
            <p:nvPr/>
          </p:nvSpPr>
          <p:spPr>
            <a:xfrm>
              <a:off x="533520" y="2930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Text Box 7"/>
          <p:cNvSpPr/>
          <p:nvPr/>
        </p:nvSpPr>
        <p:spPr>
          <a:xfrm>
            <a:off x="3429000" y="28954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12"/>
          <p:cNvGraphicFramePr/>
          <p:nvPr/>
        </p:nvGraphicFramePr>
        <p:xfrm>
          <a:off x="1143000" y="4237200"/>
          <a:ext cx="1905120" cy="10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237200"/>
                    <a:ext cx="190512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1523880" y="5410080"/>
          <a:ext cx="10620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5410080"/>
                    <a:ext cx="1062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Group 17"/>
          <p:cNvGrpSpPr/>
          <p:nvPr/>
        </p:nvGrpSpPr>
        <p:grpSpPr>
          <a:xfrm>
            <a:off x="2971800" y="5562720"/>
            <a:ext cx="2057400" cy="703440"/>
            <a:chOff x="2971800" y="5562720"/>
            <a:chExt cx="2057400" cy="703440"/>
          </a:xfrm>
        </p:grpSpPr>
        <p:sp>
          <p:nvSpPr>
            <p:cNvPr id="66" name="Text Box 14"/>
            <p:cNvSpPr/>
            <p:nvPr/>
          </p:nvSpPr>
          <p:spPr>
            <a:xfrm>
              <a:off x="2971800" y="55627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5"/>
            <p:cNvSpPr/>
            <p:nvPr/>
          </p:nvSpPr>
          <p:spPr>
            <a:xfrm>
              <a:off x="3657600" y="55627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c0128"/>
                  </a:solidFill>
                  <a:latin typeface="Times New Roman"/>
                </a:rPr>
                <a:t>-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6"/>
          <p:cNvSpPr/>
          <p:nvPr/>
        </p:nvSpPr>
        <p:spPr>
          <a:xfrm>
            <a:off x="4648320" y="4267080"/>
            <a:ext cx="4114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ultiplying frac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op # • top 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ottom # • bottom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3658680" y="1905120"/>
            <a:ext cx="13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-24x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rShape1"/>
          <p:cNvSpPr/>
          <p:nvPr/>
        </p:nvSpPr>
        <p:spPr>
          <a:xfrm>
            <a:off x="223920" y="270828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75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rShape1"/>
          <p:cNvSpPr/>
          <p:nvPr/>
        </p:nvSpPr>
        <p:spPr>
          <a:xfrm>
            <a:off x="223920" y="270828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82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7"/>
          <p:cNvGrpSpPr/>
          <p:nvPr/>
        </p:nvGrpSpPr>
        <p:grpSpPr>
          <a:xfrm>
            <a:off x="762120" y="533520"/>
            <a:ext cx="2958840" cy="1176120"/>
            <a:chOff x="762120" y="533520"/>
            <a:chExt cx="2958840" cy="1176120"/>
          </a:xfrm>
        </p:grpSpPr>
        <p:graphicFrame>
          <p:nvGraphicFramePr>
            <p:cNvPr id="86" name="Object 5"/>
            <p:cNvGraphicFramePr/>
            <p:nvPr/>
          </p:nvGraphicFramePr>
          <p:xfrm>
            <a:off x="1447920" y="533520"/>
            <a:ext cx="2273040" cy="117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533520"/>
                      <a:ext cx="2273040" cy="11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Text Box 6"/>
            <p:cNvSpPr/>
            <p:nvPr/>
          </p:nvSpPr>
          <p:spPr>
            <a:xfrm>
              <a:off x="762120" y="6094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12"/>
          <p:cNvGrpSpPr/>
          <p:nvPr/>
        </p:nvGrpSpPr>
        <p:grpSpPr>
          <a:xfrm>
            <a:off x="1371600" y="2286000"/>
            <a:ext cx="1611360" cy="1397160"/>
            <a:chOff x="1371600" y="2286000"/>
            <a:chExt cx="1611360" cy="1397160"/>
          </a:xfrm>
        </p:grpSpPr>
        <p:graphicFrame>
          <p:nvGraphicFramePr>
            <p:cNvPr id="90" name="Object 8"/>
            <p:cNvGraphicFramePr/>
            <p:nvPr/>
          </p:nvGraphicFramePr>
          <p:xfrm>
            <a:off x="2133720" y="2286000"/>
            <a:ext cx="849240" cy="139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33720" y="2286000"/>
                      <a:ext cx="849240" cy="13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Text Box 10"/>
            <p:cNvSpPr/>
            <p:nvPr/>
          </p:nvSpPr>
          <p:spPr>
            <a:xfrm>
              <a:off x="1371600" y="25750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3"/>
          <p:cNvGrpSpPr/>
          <p:nvPr/>
        </p:nvGrpSpPr>
        <p:grpSpPr>
          <a:xfrm>
            <a:off x="1371600" y="4114800"/>
            <a:ext cx="1482840" cy="1447920"/>
            <a:chOff x="1371600" y="4114800"/>
            <a:chExt cx="1482840" cy="1447920"/>
          </a:xfrm>
        </p:grpSpPr>
        <p:graphicFrame>
          <p:nvGraphicFramePr>
            <p:cNvPr id="94" name="Object 9"/>
            <p:cNvGraphicFramePr/>
            <p:nvPr/>
          </p:nvGraphicFramePr>
          <p:xfrm>
            <a:off x="2286000" y="4114800"/>
            <a:ext cx="568440" cy="1447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5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4114800"/>
                      <a:ext cx="56844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Text Box 11"/>
            <p:cNvSpPr/>
            <p:nvPr/>
          </p:nvSpPr>
          <p:spPr>
            <a:xfrm>
              <a:off x="1371600" y="447984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rShape1"/>
          <p:cNvSpPr/>
          <p:nvPr/>
        </p:nvSpPr>
        <p:spPr>
          <a:xfrm>
            <a:off x="223920" y="255600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102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228600" y="152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 easy way to determine the sign of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28600" y="51339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 negative sign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&gt;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d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&gt;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swer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-4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04920" y="8380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you have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d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umber of negatives, the answer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eg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you have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v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umber of negatives, the answer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osi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04920" y="3200400"/>
            <a:ext cx="85341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4"/>
          <p:cNvGrpSpPr/>
          <p:nvPr/>
        </p:nvGrpSpPr>
        <p:grpSpPr>
          <a:xfrm>
            <a:off x="609480" y="152280"/>
            <a:ext cx="5410440" cy="2036880"/>
            <a:chOff x="609480" y="152280"/>
            <a:chExt cx="5410440" cy="2036880"/>
          </a:xfrm>
        </p:grpSpPr>
        <p:sp>
          <p:nvSpPr>
            <p:cNvPr id="111" name="Text Box 4"/>
            <p:cNvSpPr/>
            <p:nvPr/>
          </p:nvSpPr>
          <p:spPr>
            <a:xfrm>
              <a:off x="3276720" y="152280"/>
              <a:ext cx="26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ast one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13"/>
            <p:cNvGrpSpPr/>
            <p:nvPr/>
          </p:nvGrpSpPr>
          <p:grpSpPr>
            <a:xfrm>
              <a:off x="609480" y="914400"/>
              <a:ext cx="5410440" cy="1274760"/>
              <a:chOff x="609480" y="914400"/>
              <a:chExt cx="5410440" cy="1274760"/>
            </a:xfrm>
          </p:grpSpPr>
          <p:sp>
            <p:nvSpPr>
              <p:cNvPr id="113" name="Text Box 5"/>
              <p:cNvSpPr/>
              <p:nvPr/>
            </p:nvSpPr>
            <p:spPr>
              <a:xfrm>
                <a:off x="609480" y="1050840"/>
                <a:ext cx="762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5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4" name="Object 6"/>
              <p:cNvGraphicFramePr/>
              <p:nvPr/>
            </p:nvGraphicFramePr>
            <p:xfrm>
              <a:off x="1371600" y="914400"/>
              <a:ext cx="4648320" cy="1274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5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914400"/>
                        <a:ext cx="4648320" cy="127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16" name="Text Box 7"/>
          <p:cNvSpPr/>
          <p:nvPr/>
        </p:nvSpPr>
        <p:spPr>
          <a:xfrm>
            <a:off x="609480" y="220968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Posi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even # of negative signs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14400" y="3611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581280" y="61563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=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2362320" y="4191120"/>
          <a:ext cx="4038480" cy="19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191120"/>
                    <a:ext cx="403848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0:49:38Z</dcterms:created>
  <dc:creator>Skip Tyler</dc:creator>
  <dc:description/>
  <dc:language>en-US</dc:language>
  <cp:lastModifiedBy>LEGION</cp:lastModifiedBy>
  <dcterms:modified xsi:type="dcterms:W3CDTF">2017-07-06T06:35:56Z</dcterms:modified>
  <cp:revision>23</cp:revision>
  <dc:subject/>
  <dc:title>Multiply Rational Numbers</dc:title>
</cp:coreProperties>
</file>