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94C72-14CB-4771-AB3E-D5CD09C8F2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rational num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: n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jectiv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udent will be able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igned by Skip Tyler, Varina High School and Nicole Kessinger Deep Run High Sch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rational num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: n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jectiv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udent will be able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igned by Skip Tyler, Varina High School and Nicole Kessinger Deep Run High Sch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sign of the product of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-3)(-4)(-5)(0)(-1)(-6)(-91)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i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g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h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sign of the product of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-3)(-4)(-5)(0)(-1)(-6)(-91)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i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g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h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ing R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If the numbers have the same signs then the product is posit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-7) • (-4) = 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If the numbers have different signs then the product is negat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-7) • 4 = -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ing R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If the numbers have the same signs then the product is posit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-7) • (-4) = 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If the numbers have different signs then the product is negat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-7) • 4 = -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(3x)(-8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 both numbers as a fra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ss-cancel if possi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ing fraction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 # • top #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tom # • bottom#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4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(3x)(-8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 both numbers as a fra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ss-cancel if possi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ing fraction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 # • top #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tom # • bottom#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4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multiplying two negative numbers, the product is negat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multiplying two negative numbers, the product is negat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multiplying a negative number and a positive number, use the sign of the larger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multiplying a negative number and a positive number, use the sign of the larger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ultiply: (-3)(4)(-2)(-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-7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-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: (-3)(4)(-2)(-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7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asy way to determine the sign of the ans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negative signs -&gt; Odd -&gt; answer is neg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4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you have an odd number of negatives, the answer is negat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you have an even number of negatives, the answer is posit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)  (-2)(-8)(3)(-1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you have an even or odd number of negative sig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asy way to determine the sign of the ans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negative signs -&gt; Odd -&gt; answer is neg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4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you have an odd number of negatives, the answer is negat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you have an even number of negatives, the answer is posit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)  (-2)(-8)(3)(-1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you have an even or odd number of negative sig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itive or negative answ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itive - even # of negative signs 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 all numbers as fractions and multip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itive or negative answ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itive - even # of negative signs 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 all numbers as fractions and multip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0511-A77A-423B-BD3F-12D7F4679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2C4C-154C-465D-823E-610114AB8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F632-583C-4258-BAE4-C3121D8DF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37C1-0D92-4082-A852-F14D04F63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BE2F-9FA1-4B37-8A25-D11FECD3C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7AE1-B760-474E-BFBC-1D5308CEB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A45B-3C74-4CBE-AA66-76188FC7D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8BC3-8F20-46B8-B70A-1491F30C1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4B96-E1EC-4694-A168-D8E456E11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5222-ED82-429F-897A-9CF7D8314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6F89-2D91-421F-A0B0-B1056887F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B54F-BC38-4E5D-A2F7-36A64FBD9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13FC8-7A6E-4B45-ADF2-270721C2DE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eaec5e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85800" y="3429000"/>
            <a:ext cx="7772400" cy="2171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ultiply rational number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OL: no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685800" y="1030320"/>
            <a:ext cx="7848720" cy="167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Objective</a:t>
            </a:r>
            <a:br>
              <a:rPr sz="60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tudent will be able to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1295280" y="6019920"/>
            <a:ext cx="716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signed by Skip Tyler, Varina High School and Nicole Kessinger Deep Run High Scho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the sign of the product of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-3)(-4)(-5)(0)(-1)(-6)(-91)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114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ga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u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CorShape1"/>
          <p:cNvSpPr/>
          <p:nvPr/>
        </p:nvSpPr>
        <p:spPr>
          <a:xfrm>
            <a:off x="223920" y="3368520"/>
            <a:ext cx="291960" cy="29232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AnswerNow"/>
          <p:cNvGrpSpPr/>
          <p:nvPr/>
        </p:nvGrpSpPr>
        <p:grpSpPr>
          <a:xfrm>
            <a:off x="304920" y="4572000"/>
            <a:ext cx="4444920" cy="698400"/>
            <a:chOff x="304920" y="4572000"/>
            <a:chExt cx="4444920" cy="698400"/>
          </a:xfrm>
        </p:grpSpPr>
        <p:sp>
          <p:nvSpPr>
            <p:cNvPr id="126" name="ANShape"/>
            <p:cNvSpPr/>
            <p:nvPr/>
          </p:nvSpPr>
          <p:spPr>
            <a:xfrm>
              <a:off x="2368440" y="4572000"/>
              <a:ext cx="317160" cy="317520"/>
            </a:xfrm>
            <a:prstGeom prst="smileyFace">
              <a:avLst>
                <a:gd name="adj" fmla="val 9282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ff9900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ANText"/>
            <p:cNvSpPr/>
            <p:nvPr/>
          </p:nvSpPr>
          <p:spPr>
            <a:xfrm>
              <a:off x="304920" y="4762440"/>
              <a:ext cx="4444920" cy="5079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nswer No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8cf4ea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Multiplying R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)  If the numbers have the same signs then the product is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positiv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c0128"/>
                </a:solidFill>
                <a:latin typeface="Times New Roman"/>
              </a:rPr>
              <a:t>(-7) • (-4) = 2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)  If the numbers have different signs then the product is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negativ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c0128"/>
                </a:solidFill>
                <a:latin typeface="Times New Roman"/>
              </a:rPr>
              <a:t>(-7) • 4 = -2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d49fff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533520" y="76320"/>
            <a:ext cx="82296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)  (3x)(-8y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Group 9"/>
          <p:cNvGrpSpPr/>
          <p:nvPr/>
        </p:nvGrpSpPr>
        <p:grpSpPr>
          <a:xfrm>
            <a:off x="533520" y="2819520"/>
            <a:ext cx="2437920" cy="1025280"/>
            <a:chOff x="533520" y="2819520"/>
            <a:chExt cx="2437920" cy="1025280"/>
          </a:xfrm>
        </p:grpSpPr>
        <p:graphicFrame>
          <p:nvGraphicFramePr>
            <p:cNvPr id="57" name="Object 5"/>
            <p:cNvGraphicFramePr/>
            <p:nvPr/>
          </p:nvGraphicFramePr>
          <p:xfrm>
            <a:off x="1295280" y="2819520"/>
            <a:ext cx="1676160" cy="10252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8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295280" y="2819520"/>
                      <a:ext cx="1676160" cy="1025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9" name="Text Box 6"/>
            <p:cNvSpPr/>
            <p:nvPr/>
          </p:nvSpPr>
          <p:spPr>
            <a:xfrm>
              <a:off x="533520" y="293040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2)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" name="Text Box 7"/>
          <p:cNvSpPr/>
          <p:nvPr/>
        </p:nvSpPr>
        <p:spPr>
          <a:xfrm>
            <a:off x="3429000" y="2895480"/>
            <a:ext cx="5486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ite both numbers as a fra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oss-cancel if possi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Object 12"/>
          <p:cNvGraphicFramePr/>
          <p:nvPr/>
        </p:nvGraphicFramePr>
        <p:xfrm>
          <a:off x="1143000" y="4237200"/>
          <a:ext cx="1905120" cy="1020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2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4237200"/>
                    <a:ext cx="1905120" cy="102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Object 13"/>
          <p:cNvGraphicFramePr/>
          <p:nvPr/>
        </p:nvGraphicFramePr>
        <p:xfrm>
          <a:off x="1523880" y="5410080"/>
          <a:ext cx="1062000" cy="1143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4" name="Object 1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23880" y="5410080"/>
                    <a:ext cx="10620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5" name="Group 17"/>
          <p:cNvGrpSpPr/>
          <p:nvPr/>
        </p:nvGrpSpPr>
        <p:grpSpPr>
          <a:xfrm>
            <a:off x="2971800" y="5562720"/>
            <a:ext cx="2057400" cy="703440"/>
            <a:chOff x="2971800" y="5562720"/>
            <a:chExt cx="2057400" cy="703440"/>
          </a:xfrm>
        </p:grpSpPr>
        <p:sp>
          <p:nvSpPr>
            <p:cNvPr id="66" name="Text Box 14"/>
            <p:cNvSpPr/>
            <p:nvPr/>
          </p:nvSpPr>
          <p:spPr>
            <a:xfrm>
              <a:off x="2971800" y="5562720"/>
              <a:ext cx="762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Text Box 15"/>
            <p:cNvSpPr/>
            <p:nvPr/>
          </p:nvSpPr>
          <p:spPr>
            <a:xfrm>
              <a:off x="3657600" y="5562720"/>
              <a:ext cx="1371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c0128"/>
                  </a:solidFill>
                  <a:latin typeface="Times New Roman"/>
                </a:rPr>
                <a:t>-16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Text Box 16"/>
          <p:cNvSpPr/>
          <p:nvPr/>
        </p:nvSpPr>
        <p:spPr>
          <a:xfrm>
            <a:off x="4648320" y="4267080"/>
            <a:ext cx="41148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Multiplying fraction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top # • top #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Bottom # • bottom#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18"/>
          <p:cNvSpPr/>
          <p:nvPr/>
        </p:nvSpPr>
        <p:spPr>
          <a:xfrm>
            <a:off x="3658680" y="1905120"/>
            <a:ext cx="136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c0128"/>
                </a:solidFill>
                <a:latin typeface="Times New Roman"/>
              </a:rPr>
              <a:t>-24x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en multiplying two negative numbers, the product is negativ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1148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CorShape1"/>
          <p:cNvSpPr/>
          <p:nvPr/>
        </p:nvSpPr>
        <p:spPr>
          <a:xfrm>
            <a:off x="223920" y="2708280"/>
            <a:ext cx="291960" cy="29196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AnswerNow"/>
          <p:cNvGrpSpPr/>
          <p:nvPr/>
        </p:nvGrpSpPr>
        <p:grpSpPr>
          <a:xfrm>
            <a:off x="304920" y="4572000"/>
            <a:ext cx="4444920" cy="698400"/>
            <a:chOff x="304920" y="4572000"/>
            <a:chExt cx="4444920" cy="698400"/>
          </a:xfrm>
        </p:grpSpPr>
        <p:sp>
          <p:nvSpPr>
            <p:cNvPr id="75" name="ANShape"/>
            <p:cNvSpPr/>
            <p:nvPr/>
          </p:nvSpPr>
          <p:spPr>
            <a:xfrm>
              <a:off x="2368440" y="4572000"/>
              <a:ext cx="317160" cy="317520"/>
            </a:xfrm>
            <a:prstGeom prst="smileyFace">
              <a:avLst>
                <a:gd name="adj" fmla="val 9282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ff9900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ANText"/>
            <p:cNvSpPr/>
            <p:nvPr/>
          </p:nvSpPr>
          <p:spPr>
            <a:xfrm>
              <a:off x="304920" y="4762440"/>
              <a:ext cx="4444920" cy="5079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nswer No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en multiplying a negative number and a positive number, use the sign of the larger numb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1148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CorShape1"/>
          <p:cNvSpPr/>
          <p:nvPr/>
        </p:nvSpPr>
        <p:spPr>
          <a:xfrm>
            <a:off x="223920" y="2708280"/>
            <a:ext cx="291960" cy="29196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AnswerNow"/>
          <p:cNvGrpSpPr/>
          <p:nvPr/>
        </p:nvGrpSpPr>
        <p:grpSpPr>
          <a:xfrm>
            <a:off x="304920" y="4572000"/>
            <a:ext cx="4444920" cy="698400"/>
            <a:chOff x="304920" y="4572000"/>
            <a:chExt cx="4444920" cy="698400"/>
          </a:xfrm>
        </p:grpSpPr>
        <p:sp>
          <p:nvSpPr>
            <p:cNvPr id="82" name="ANShape"/>
            <p:cNvSpPr/>
            <p:nvPr/>
          </p:nvSpPr>
          <p:spPr>
            <a:xfrm>
              <a:off x="2368440" y="4572000"/>
              <a:ext cx="317160" cy="317520"/>
            </a:xfrm>
            <a:prstGeom prst="smileyFace">
              <a:avLst>
                <a:gd name="adj" fmla="val 9282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ff9900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ANText"/>
            <p:cNvSpPr/>
            <p:nvPr/>
          </p:nvSpPr>
          <p:spPr>
            <a:xfrm>
              <a:off x="304920" y="4762440"/>
              <a:ext cx="4444920" cy="5079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nswer No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da4b5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7"/>
          <p:cNvGrpSpPr/>
          <p:nvPr/>
        </p:nvGrpSpPr>
        <p:grpSpPr>
          <a:xfrm>
            <a:off x="762120" y="533520"/>
            <a:ext cx="2958840" cy="1176120"/>
            <a:chOff x="762120" y="533520"/>
            <a:chExt cx="2958840" cy="1176120"/>
          </a:xfrm>
        </p:grpSpPr>
        <p:graphicFrame>
          <p:nvGraphicFramePr>
            <p:cNvPr id="86" name="Object 5"/>
            <p:cNvGraphicFramePr/>
            <p:nvPr/>
          </p:nvGraphicFramePr>
          <p:xfrm>
            <a:off x="1447920" y="533520"/>
            <a:ext cx="2273040" cy="1176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7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447920" y="533520"/>
                      <a:ext cx="2273040" cy="1176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8" name="Text Box 6"/>
            <p:cNvSpPr/>
            <p:nvPr/>
          </p:nvSpPr>
          <p:spPr>
            <a:xfrm>
              <a:off x="762120" y="609480"/>
              <a:ext cx="685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3)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Group 12"/>
          <p:cNvGrpSpPr/>
          <p:nvPr/>
        </p:nvGrpSpPr>
        <p:grpSpPr>
          <a:xfrm>
            <a:off x="1371600" y="2286000"/>
            <a:ext cx="1611360" cy="1397160"/>
            <a:chOff x="1371600" y="2286000"/>
            <a:chExt cx="1611360" cy="1397160"/>
          </a:xfrm>
        </p:grpSpPr>
        <p:graphicFrame>
          <p:nvGraphicFramePr>
            <p:cNvPr id="90" name="Object 8"/>
            <p:cNvGraphicFramePr/>
            <p:nvPr/>
          </p:nvGraphicFramePr>
          <p:xfrm>
            <a:off x="2133720" y="2286000"/>
            <a:ext cx="849240" cy="1397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1" name="Object 8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133720" y="2286000"/>
                      <a:ext cx="849240" cy="1397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2" name="Text Box 10"/>
            <p:cNvSpPr/>
            <p:nvPr/>
          </p:nvSpPr>
          <p:spPr>
            <a:xfrm>
              <a:off x="1371600" y="2575080"/>
              <a:ext cx="685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Group 13"/>
          <p:cNvGrpSpPr/>
          <p:nvPr/>
        </p:nvGrpSpPr>
        <p:grpSpPr>
          <a:xfrm>
            <a:off x="1371600" y="4114800"/>
            <a:ext cx="1482840" cy="1447920"/>
            <a:chOff x="1371600" y="4114800"/>
            <a:chExt cx="1482840" cy="1447920"/>
          </a:xfrm>
        </p:grpSpPr>
        <p:graphicFrame>
          <p:nvGraphicFramePr>
            <p:cNvPr id="94" name="Object 9"/>
            <p:cNvGraphicFramePr/>
            <p:nvPr/>
          </p:nvGraphicFramePr>
          <p:xfrm>
            <a:off x="2286000" y="4114800"/>
            <a:ext cx="568440" cy="14479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5" name="Object 9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286000" y="4114800"/>
                      <a:ext cx="568440" cy="1447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6" name="Text Box 11"/>
            <p:cNvSpPr/>
            <p:nvPr/>
          </p:nvSpPr>
          <p:spPr>
            <a:xfrm>
              <a:off x="1371600" y="4479840"/>
              <a:ext cx="685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ply: (-3)(4)(-2)(-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114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7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3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CorShape1"/>
          <p:cNvSpPr/>
          <p:nvPr/>
        </p:nvSpPr>
        <p:spPr>
          <a:xfrm>
            <a:off x="223920" y="2556000"/>
            <a:ext cx="291960" cy="29196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AnswerNow"/>
          <p:cNvGrpSpPr/>
          <p:nvPr/>
        </p:nvGrpSpPr>
        <p:grpSpPr>
          <a:xfrm>
            <a:off x="304920" y="4572000"/>
            <a:ext cx="4444920" cy="698400"/>
            <a:chOff x="304920" y="4572000"/>
            <a:chExt cx="4444920" cy="698400"/>
          </a:xfrm>
        </p:grpSpPr>
        <p:sp>
          <p:nvSpPr>
            <p:cNvPr id="102" name="ANShape"/>
            <p:cNvSpPr/>
            <p:nvPr/>
          </p:nvSpPr>
          <p:spPr>
            <a:xfrm>
              <a:off x="2368440" y="4572000"/>
              <a:ext cx="317160" cy="317520"/>
            </a:xfrm>
            <a:prstGeom prst="smileyFace">
              <a:avLst>
                <a:gd name="adj" fmla="val 9282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ff9900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ANText"/>
            <p:cNvSpPr/>
            <p:nvPr/>
          </p:nvSpPr>
          <p:spPr>
            <a:xfrm>
              <a:off x="304920" y="4762440"/>
              <a:ext cx="4444920" cy="5079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nswer No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eaec5e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6"/>
          <p:cNvSpPr/>
          <p:nvPr/>
        </p:nvSpPr>
        <p:spPr>
          <a:xfrm>
            <a:off x="228600" y="152280"/>
            <a:ext cx="861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n easy way to determine the sign of the ans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228600" y="513396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3 negative signs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-&gt; </a:t>
            </a: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Odd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-&gt; </a:t>
            </a: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answer is negat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-48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304920" y="838080"/>
            <a:ext cx="8610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en you have an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od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number of negatives, the answer is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negativ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en you have an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eve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number of negatives, the answer is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positiv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0"/>
          <p:cNvSpPr/>
          <p:nvPr/>
        </p:nvSpPr>
        <p:spPr>
          <a:xfrm>
            <a:off x="304920" y="3200400"/>
            <a:ext cx="853416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4)  (-2)(-8)(3)(-10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o you have an even or odd number of negative sign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8cf4ea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Group 14"/>
          <p:cNvGrpSpPr/>
          <p:nvPr/>
        </p:nvGrpSpPr>
        <p:grpSpPr>
          <a:xfrm>
            <a:off x="609480" y="152280"/>
            <a:ext cx="5410440" cy="2036880"/>
            <a:chOff x="609480" y="152280"/>
            <a:chExt cx="5410440" cy="2036880"/>
          </a:xfrm>
        </p:grpSpPr>
        <p:sp>
          <p:nvSpPr>
            <p:cNvPr id="111" name="Text Box 4"/>
            <p:cNvSpPr/>
            <p:nvPr/>
          </p:nvSpPr>
          <p:spPr>
            <a:xfrm>
              <a:off x="3276720" y="152280"/>
              <a:ext cx="26668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Last one!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" name="Group 13"/>
            <p:cNvGrpSpPr/>
            <p:nvPr/>
          </p:nvGrpSpPr>
          <p:grpSpPr>
            <a:xfrm>
              <a:off x="609480" y="914400"/>
              <a:ext cx="5410440" cy="1274760"/>
              <a:chOff x="609480" y="914400"/>
              <a:chExt cx="5410440" cy="1274760"/>
            </a:xfrm>
          </p:grpSpPr>
          <p:sp>
            <p:nvSpPr>
              <p:cNvPr id="113" name="Text Box 5"/>
              <p:cNvSpPr/>
              <p:nvPr/>
            </p:nvSpPr>
            <p:spPr>
              <a:xfrm>
                <a:off x="609480" y="1050840"/>
                <a:ext cx="7621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Times New Roman"/>
                  </a:rPr>
                  <a:t>5)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14" name="Object 6"/>
              <p:cNvGraphicFramePr/>
              <p:nvPr/>
            </p:nvGraphicFramePr>
            <p:xfrm>
              <a:off x="1371600" y="914400"/>
              <a:ext cx="4648320" cy="127476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15" name="Object 6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1371600" y="914400"/>
                        <a:ext cx="4648320" cy="1274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sp>
        <p:nvSpPr>
          <p:cNvPr id="116" name="Text Box 7"/>
          <p:cNvSpPr/>
          <p:nvPr/>
        </p:nvSpPr>
        <p:spPr>
          <a:xfrm>
            <a:off x="609480" y="2209680"/>
            <a:ext cx="8077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ositive or negative answer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c0128"/>
                </a:solidFill>
                <a:latin typeface="Times New Roman"/>
              </a:rPr>
              <a:t>Positiv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- even # of negative signs (4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914400" y="361152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e all numbers as fractions and multip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581280" y="615636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c0128"/>
                </a:solidFill>
                <a:latin typeface="Times New Roman"/>
              </a:rPr>
              <a:t>=1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Object 11"/>
          <p:cNvGraphicFramePr/>
          <p:nvPr/>
        </p:nvGraphicFramePr>
        <p:xfrm>
          <a:off x="2362320" y="4191120"/>
          <a:ext cx="4038480" cy="1957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0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62320" y="4191120"/>
                    <a:ext cx="4038480" cy="195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8T00:49:38Z</dcterms:created>
  <dc:creator>Skip Tyler</dc:creator>
  <dc:description/>
  <dc:language>en-US</dc:language>
  <cp:lastModifiedBy>LEGION</cp:lastModifiedBy>
  <dcterms:modified xsi:type="dcterms:W3CDTF">2017-07-06T06:35:56Z</dcterms:modified>
  <cp:revision>23</cp:revision>
  <dc:subject/>
  <dc:title>Multiply Rational Numbers</dc:title>
</cp:coreProperties>
</file>