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DC583-1F77-43D4-9547-2B46BB1A5CF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tory Algebr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Gloss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t One of Nine Un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ntroductory Algebra</a:t>
            </a:r>
            <a:br>
              <a:rPr sz="1200"/>
            </a:b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 Glossary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Unit One of Nine Units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me number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atural number (except one) that has only one and itself as facto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 3, 5, 7, 11, 13, and 17 are prime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prime number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natural number (except one) that has only one and itself as factors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2, 3, 5, 7, 11, 13, and 17 are prime numbers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site number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mposite number has at least one factor other than itself and o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omposite number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composite number has at least one factor other than itself and one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atest common factor (GCF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gest common factor of a list of integers or the largest term that is a factor of all terms in the polynomia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greatest common factor (GCF)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largest common factor of a list of integers or the largest term that is a factor of all terms in the polynomial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est term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raction is in lowest terms when there are no common factors in the numerator and denominator (except 1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lowest term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fraction is in lowest terms when there are no common factors in the numerator and denominator (except 1)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iprocal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irs of numbers whose product is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/3 and 3 are reciproc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reciprocal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Pairs of numbers whose product is 1: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1/3 and 3 are reciprocals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otie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swer to a division probl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quotient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answer to a division problem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swer to an addition probl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sum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answer to an addition problem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st common denominator (LCD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several denominators, the smallest expression that is divisible by all the denominators is called the least common denominato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least common denominator (LCD)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Given several denominators, the smallest expression that is divisible by all the denominators is called the least common denominator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ed number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hole number and a fraction written together and understood to be their su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mixed number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whole number and a fraction written together and understood to be their sum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c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swer to a subtraction probl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difference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answer to a subtraction problem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LC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Introductory Algebra Glossary is simpl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hru the slide show and check your knowledge of definitions before you display th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ntroduction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WELCOME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Using the Introductory Algebra Glossary is simple.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lick thru the slide show and check your knowledge of definitions before you display them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onent (power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that indicates how many times a factor is repeate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23 the exponent is thre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exponent (power)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number that indicates how many times a factor is repeated: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Given 23 the exponent is three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that is a repeated factor when written with an exponent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23 the base is tw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base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number that is a repeated factor when written with an exponent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Given 23 the base is two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onential expressio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or letter (variable) written with an exponent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 23 or x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exponential expression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number or letter (variable) written with an exponent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Examples: 23 or x6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ing symbol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entheses, ( ), square brackets, [ ], or fraction ba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grouping symbol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Parentheses, ( ), square brackets, [ ], or fraction bars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ariable is a symbol used to represent an unknown numb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term 3x the variable is x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variable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variable is a symbol used to represent an unknown number: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n the term 3x the variable is x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ebraic expressio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y collection of numbers or variables joined by the basic operations of addition, subtraction, multiplication, or division (except by zero), or the operation of taking roo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lgebraic expression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ny collection of numbers or variables joined by the basic operations of addition, subtraction, multiplication, or division (except by zero), or the operation of taking roots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tio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tatement that two algebraic expressions are equal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:  4x = 5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equation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statement that two algebraic expressions are equal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Example:  4x = 5y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 of an equatio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y replacement for the variable that makes the equation tru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solution of an equation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ny replacement for the variable that makes the equation true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llection of objec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set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collection of objects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ments (members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bjects that belong to a s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elements (members)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objects that belong to a set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ural number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s used for counting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{1, 2, 3, 4, ...}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natural number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numbers used for counting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{1, 2, 3, 4, ...}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lin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ine with a scale that is used to show how numbers relate to each oth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number line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line with a scale that is used to show how numbers relate to each other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gative number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located to the left of zero on a number li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negative number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number located to the left of zero on a number line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ve number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located to the right of zero on the number li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positive number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number located to the right of zero on the number line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gned number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s that can be written with a positive or negative sig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signed number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Numbers that can be written with a positive or negative sign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ger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t of integers 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{...-3, -2, -1, 0, 1, 2, 3,...}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nteger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set of integers is: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{...-3, -2, -1, 0, 1, 2, 3,...}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 of a number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int on a number line that corresponds to a number is its grap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graph of a number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point on a number line that corresponds to a number is its graph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number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numbers can be written as the quotient of two integers, with denominator not zer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rational number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Rational numbers can be written as the quotient of two integers, with denominator not zero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t-builder notatio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t-builder notation is used to describe a set of numbers without actually having to list all of the ele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set-builder notation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Set-builder notation is used to describe a set of numbers without actually having to list all of the elements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rational number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rational numbers cannot be written as the quotient of two integers but can be represented by points on the number li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rrational number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rrational numbers cannot be written as the quotient of two integers but can be represented by points on the number line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numbers that can be represented by points on the number line, that is, all rational and irrational numbe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real number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ll numbers that can be represented by points on the number line, that is, all rational and irrational numbers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le number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t of whole numbers 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{0, 1, 2, 3, 4, 5, ...}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whole number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set of whole numbers is: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{0, 1, 2, 3, 4, 5, ...}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tive invers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numbers that are the same distance from zero on a number line but on opposite sides of zero. The sum of two additive inverses equals zer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dditive inverse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wo numbers that are the same distance from zero on a number line but on opposite sides of zero. The sum of two additive inverses equals zero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lute valu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stance between zero and a number on a number li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bsolute value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distance between zero and a number on a number line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icative inverse (reciprocal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ultiplicative inverse of a nonzero real number a is 1/a. The product of multiplicative inverses is 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multiplicative inverse (reciprocal)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multiplicative inverse of a nonzero real number a is 1/a. The product of multiplicative inverses is one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utative property of additio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rder of numbers in an addition problem can be changed without changing the sum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+ 4 + 3 = 3 + 6 +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ommutative property of addition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order of numbers in an addition problem can be changed without changing the sum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6 + 4 + 3 = 3 + 6 + 4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utative property of multiplic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duct in a multiplication problem remains the same regardless of the order of the factor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• 4 = 4 •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ommutative property of multiplication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product in a multiplication problem remains the same regardless of the order of the factors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6 • 4 = 4 • 6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ociative property of additio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y in which numbers being added are grouped does not change the sum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+ (3 + 2) = (6 + 3) +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ssociative property of addition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way in which numbers being added are grouped does not change the sum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6 + (3 + 2) = (6 + 3) + 2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ociative property of multiplicatio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y in which numbers being multiplied are grouped does not change the produc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• (2 • 3) = (6 • 2) •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ssociative property of multiplication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way in which numbers being multiplied are grouped does not change the product: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6 • (2 • 3) = (6 • 2) • 3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ty property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m of zero and any number equals the number, and the product of one and any number equals the number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+ 0 = x        x • 1 =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dentity property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sum of zero and any number equals the number, and the product of one and any number equals the number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X + 0 = x        x • 1 = x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rse property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added to its opposite is zero and a number multiplied by its reciprocal is on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+ (-1) = 0       1 • (1/2) =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nverse property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number added to its opposite is zero and a number multiplied by its reciprocal is one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1 + (-1) = 0       1 • (1/2) = 1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ive proper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ny real numbers a, b, and c, the distributive property states that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(b + c) = ab + a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distributive property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For any real numbers a, b, and c, the distributive property states that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(b + c) = ab + ac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erator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above the fraction bar that shows how many equivalent parts are being consider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numerator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number above the fraction bar that shows how many equivalent parts are being considered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rm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, a variable, or the product or quotient of a number and one or more variables raised to powe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erm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number, a variable, or the product or quotient of a number and one or more variables raised to powers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erical coefficie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erical factor in a term. In the term 6x2 the numerical coefficient is 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numerical coefficient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numerical factor in a term. In the term 6x2 the numerical coefficient is 6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term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 variables raised to exactly the same powers.  The terms 2x2 and 7x2 are like ter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like term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same variables raised to exactly the same powers.  The terms 2x2 and 7x2 are like terms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like term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rms that do not have the same variable or the variables are not raised to the same powers. The terms 2x2 and 7x3 are unlike term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unlike term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erms that do not have the same variable or the variables are not raised to the same powers. The terms 2x2 and 7x3 are unlike terms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bining like term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ethod of adding or subtracting like terms by using the properties of real numbe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x2 + 7x2 = 9x2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ombining like term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method of adding or subtracting like terms by using the properties of real numbers: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2x2 + 7x2 = 9x2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urn t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tory Alge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ated b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mes Q. Jaco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Return to </a:t>
            </a:r>
            <a:br>
              <a:rPr sz="1200"/>
            </a:b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ntroductory Algebra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reated by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James Q. Jacobs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omina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below the fraction bar in a fraction. It shows the number of equal parts in a who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denominator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number below the fraction bar in a fraction. It shows the number of equal parts in a whole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y number that divides evenly (without remainder) into the given number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, 2, 3 and 6 are factors of 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factor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ny number that divides evenly (without remainder) into the given number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1, 2, 3 and 6 are factors of 6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swer to a multiplication probl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is the product of 2 times 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product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answer to a multiplication problem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6 is the product of 2 times 3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ed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is factored by writing it as the product of two or more numbe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is factored as 2 times 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factored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number is factored by writing it as the product of two or more numbers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6 is factored as 2 times 3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91184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3200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9118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9118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32004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32004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9118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9118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9118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32004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32004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9118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3200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9118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3200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91184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  <a:p>
            <a:pPr lvl="1" marL="270720" indent="-27072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  <a:p>
            <a:pPr lvl="2" marL="270720" indent="-270720">
              <a:spcBef>
                <a:spcPts val="799"/>
              </a:spcBef>
              <a:buClr>
                <a:srgbClr val="cc66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  <a:p>
            <a:pPr lvl="3" marL="270720" indent="-27072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  <a:p>
            <a:pPr lvl="4" marL="270720" indent="-270720">
              <a:spcBef>
                <a:spcPts val="799"/>
              </a:spcBef>
              <a:buClr>
                <a:srgbClr val="cc66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  <a:p>
            <a:pPr lvl="5" marL="270720" indent="-270720">
              <a:spcBef>
                <a:spcPts val="799"/>
              </a:spcBef>
              <a:buClr>
                <a:srgbClr val="cc66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  <a:p>
            <a:pPr lvl="6" marL="270720" indent="-270720">
              <a:spcBef>
                <a:spcPts val="799"/>
              </a:spcBef>
              <a:buClr>
                <a:srgbClr val="cc66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hyperlink" Target="http://www.jqjacobs.net/edu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50021"/>
                </a:solidFill>
                <a:latin typeface="Arial"/>
              </a:rPr>
              <a:t>Introductory Algebra</a:t>
            </a:r>
            <a:br>
              <a:rPr sz="6000"/>
            </a:br>
            <a:r>
              <a:rPr b="1" lang="en-US" sz="6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a50021"/>
                </a:solidFill>
                <a:latin typeface="Arial"/>
              </a:rPr>
              <a:t>Glossary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Unit One of Nine Units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prime number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natural number (except one) that has only one and itself as factors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2, 3, 5, 7, 11, 13, and 17 are prime numbers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composite number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composite number has at least one factor other than itself and one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greatest common factor (GCF)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largest common factor of a list of integers or the largest term that is a factor of all terms in the polynomial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lowest term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fraction is in lowest terms when there are no common factors in the numerator and denominator (except 1)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reciprocal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Pairs of numbers whose product is 1: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1/3 and 3 are reciprocals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quotient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answer to a division problem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sum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answer to an addition problem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least common denominator (LCD)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Given several denominators, the smallest expression that is divisible by all the denominators is called the least common denominator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mixed number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whole number and a fraction written together and understood to be their sum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difference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answer to a subtraction problem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WELCOME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Using the Introductory Algebra Glossary is simple.  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lick thru the slide show and check your knowledge of definitions before you display the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exponent (power)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number that indicates how many times a factor is repeated: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Given 2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the exponent is three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base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number that is a repeated factor when written with an exponent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Given 2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the base is two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exponential expression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number or letter (variable) written with an exponent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Examples: 2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or 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6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grouping symbol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Parentheses, ( ), square brackets, [ ], or fraction bars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variable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variable is a symbol used to represent an unknown number: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In the term 3x the variable is x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algebraic expression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ny collection of numbers or variables joined by the basic operations of addition, subtraction, multiplication, or division (except by zero), or the operation of taking roots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equation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statement that two algebraic expressions are equal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Example:  4x = 5y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solution of an equation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ny replacement for the variable that makes the equation true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set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collection of objects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elements (members)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objects that belong to a set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natural number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numbers used for counting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{1, 2, 3, 4, ...}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number line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line with a scale that is used to show how numbers relate to each other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negative number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number located to the left of zero on a number line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positive number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number located to the right of zero on the number line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signed number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Numbers that can be written with a positive or negative sign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integer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set of integers is: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{...-3, -2, -1, 0, 1, 2, 3,...}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graph of a number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point on a number line that corresponds to a number is its graph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rational number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Rational numbers can be written as the quotient of two integers, with denominator not zero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set-builder notation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Set-builder notation is used to describe a set of numbers without actually having to list all of the elements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irrational number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Irrational numbers cannot be written as the quotient of two integers but can be represented by points on the number line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real number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ll numbers that can be represented by points on the number line, that is, all rational and irrational numbers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whole number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set of whole numbers is: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{0, 1, 2, 3, 4, 5, ...}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additive inverse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wo numbers that are the same distance from zero on a number line but on opposite sides of zero. The sum of two additive inverses equals zero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absolute value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distance between zero and a number on a number line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multiplicative inverse (reciprocal)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multiplicative inverse of a nonzero real number a is 1/a. The product of multiplicative inverses is one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commutative property of addition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order of numbers in an addition problem can be changed without changing the sum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6 + 4 + 3 = 3 + 6 + 4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commutative property of multiplication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product in a multiplication problem remains the same regardless of the order of the factors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6 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  <a:ea typeface="Arial"/>
              </a:rPr>
              <a:t>• 4 = 4 • 6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associative property of addition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way in which numbers being added are grouped does not change the sum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6 + (3 + 2) = (6 + 3) + 2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associative property of multiplication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way in which numbers being multiplied are grouped does not change the product: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6 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  <a:ea typeface="Arial"/>
              </a:rPr>
              <a:t>• (2 • 3) = (6 • 2) • 3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identity property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sum of zero and any number equals the number, and the product of one and any number equals the number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X + 0 = x        x 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  <a:ea typeface="Arial"/>
              </a:rPr>
              <a:t>• 1 = x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inverse property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number added to its opposite is zero and a number multiplied by its reciprocal is one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1 + (-1) = 0       1 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  <a:ea typeface="Arial"/>
              </a:rPr>
              <a:t>• (1/2) = 1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distributive property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For any real numbers a, b, and c, the distributive property states that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(b + c) = ab + ac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numerator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number above the fraction bar that shows how many equivalent parts are being considered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term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number, a variable, or the product or quotient of a number and one or more variables raised to powers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numerical coefficient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numerical factor in a term. In the term 6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the numerical coefficient is 6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like term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same variables raised to exactly the same powers.  The terms 2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and 7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are like terms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unlike term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erms that do not have the same variable or the variables are not raised to the same powers. The terms 2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and 7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are unlike terms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combining like term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method of adding or subtracting like terms by using the properties of real numbers: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2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+ 7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= 9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Return to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 </a:t>
            </a:r>
            <a:br>
              <a:rPr sz="5400"/>
            </a:br>
            <a:r>
              <a:rPr b="0" lang="en-US" sz="5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Introductory Algebra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Created by 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James Q. Jacobs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denominator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number below the fraction bar in a fraction. It shows the number of equal parts in a whole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factor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ny number that divides evenly (without remainder) into the given number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1, 2, 3 and 6 are factors of 6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product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answer to a multiplication problem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6 is the product of 2 times 3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factored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number is factored by writing it as the product of two or more numbers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6 is factored as 2 times 3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23:25:39Z</dcterms:created>
  <dc:creator>cacsmc</dc:creator>
  <dc:description/>
  <dc:language>en-US</dc:language>
  <cp:lastModifiedBy>LEGION</cp:lastModifiedBy>
  <dcterms:modified xsi:type="dcterms:W3CDTF">2017-07-06T06:35:47Z</dcterms:modified>
  <cp:revision>11</cp:revision>
  <dc:subject/>
  <dc:title>Introductory Algebra</dc:title>
</cp:coreProperties>
</file>