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24FD-50F8-4608-AE2D-5CEA261A7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7AC-E39B-405D-B338-FA76D883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42C-92DE-4FBF-98F4-2F16EFB4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EE1-9C5D-48D9-99BB-29DEB7AD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4D2-F08D-4DD4-8723-64321ACD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85A-EB1F-4E9A-A807-A1FA2283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048-57A0-4A90-81B0-3F0280DA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8A5-BC85-420B-B8B0-DE061E92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8C3-8621-4817-92F5-59E12ED1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E67-C619-4AC7-85AE-D096FE28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BE9-80A6-442C-A63F-166A31CC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1F3-E324-4D00-A8C7-7197EE8D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B60-D44F-41D0-907E-D4F365F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A918-41A2-4D81-8F93-995EF9D37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ection-2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g.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tre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6hematite-streak10"/>
          <p:cNvPicPr/>
          <p:nvPr/>
        </p:nvPicPr>
        <p:blipFill>
          <a:blip r:embed="rId1"/>
          <a:stretch/>
        </p:blipFill>
        <p:spPr>
          <a:xfrm>
            <a:off x="0" y="3487680"/>
            <a:ext cx="41148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limonite-streak10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2286000" y="3663360"/>
            <a:ext cx="3303720" cy="2203920"/>
            <a:chOff x="2286000" y="3663360"/>
            <a:chExt cx="3303720" cy="2203920"/>
          </a:xfrm>
        </p:grpSpPr>
        <p:sp>
          <p:nvSpPr>
            <p:cNvPr id="107" name="AutoShape 10"/>
            <p:cNvSpPr/>
            <p:nvPr/>
          </p:nvSpPr>
          <p:spPr>
            <a:xfrm>
              <a:off x="2286000" y="5334120"/>
              <a:ext cx="1905120" cy="533160"/>
            </a:xfrm>
            <a:prstGeom prst="leftArrow">
              <a:avLst>
                <a:gd name="adj1" fmla="val 50000"/>
                <a:gd name="adj2" fmla="val 893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 rot="12650400">
              <a:off x="3593880" y="4138200"/>
              <a:ext cx="2000160" cy="533520"/>
            </a:xfrm>
            <a:prstGeom prst="leftArrow">
              <a:avLst>
                <a:gd name="adj1" fmla="val 50000"/>
                <a:gd name="adj2" fmla="val 937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3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33ff"/>
                </a:solidFill>
                <a:uFillTx/>
                <a:latin typeface="Arial"/>
              </a:rPr>
              <a:t>Cleav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99"/>
                </a:solidFill>
                <a:uFillTx/>
                <a:latin typeface="Alba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way that mineral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6calcite-cleavage2"/>
          <p:cNvPicPr/>
          <p:nvPr/>
        </p:nvPicPr>
        <p:blipFill>
          <a:blip r:embed="rId1"/>
          <a:stretch/>
        </p:blipFill>
        <p:spPr>
          <a:xfrm>
            <a:off x="4876920" y="3998880"/>
            <a:ext cx="4038480" cy="285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01_cleavage_of_mica"/>
          <p:cNvPicPr/>
          <p:nvPr/>
        </p:nvPicPr>
        <p:blipFill>
          <a:blip r:embed="rId2"/>
          <a:stretch/>
        </p:blipFill>
        <p:spPr>
          <a:xfrm>
            <a:off x="152280" y="4017960"/>
            <a:ext cx="4114800" cy="2840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and </a:t>
            </a:r>
            <a:r>
              <a:rPr b="1" lang="en-US" sz="5400" spc="-1" strike="noStrike" u="sng">
                <a:solidFill>
                  <a:srgbClr val="ff3399"/>
                </a:solidFill>
                <a:uFillTx/>
                <a:latin typeface="Arial"/>
              </a:rPr>
              <a:t>Fracture!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457360" y="3686040"/>
            <a:ext cx="4229280" cy="3171960"/>
            <a:chOff x="2457360" y="3686040"/>
            <a:chExt cx="4229280" cy="3171960"/>
          </a:xfrm>
        </p:grpSpPr>
        <p:pic>
          <p:nvPicPr>
            <p:cNvPr id="118" name="Picture 5" descr="Quartz_ConchoidalFracture"/>
            <p:cNvPicPr/>
            <p:nvPr/>
          </p:nvPicPr>
          <p:blipFill>
            <a:blip r:embed="rId1"/>
            <a:stretch/>
          </p:blipFill>
          <p:spPr>
            <a:xfrm>
              <a:off x="2457360" y="3686040"/>
              <a:ext cx="42292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5410080" y="3886200"/>
              <a:ext cx="12193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Identify the minerals below for 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alite"/>
          <p:cNvPicPr/>
          <p:nvPr/>
        </p:nvPicPr>
        <p:blipFill>
          <a:blip r:embed="rId1"/>
          <a:stretch/>
        </p:blipFill>
        <p:spPr>
          <a:xfrm>
            <a:off x="32767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38080" y="1600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72200" y="16765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M22-Quartz-var-A"/>
          <p:cNvPicPr/>
          <p:nvPr/>
        </p:nvPicPr>
        <p:blipFill>
          <a:blip r:embed="rId2"/>
          <a:stretch/>
        </p:blipFill>
        <p:spPr>
          <a:xfrm>
            <a:off x="3319560" y="1652760"/>
            <a:ext cx="2381040" cy="16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fracture-%255b%255d-garnet-(pyrope)-BADPHOTO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4361040" y="3245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Mineral Cleavage"/>
          <p:cNvPicPr/>
          <p:nvPr/>
        </p:nvPicPr>
        <p:blipFill>
          <a:blip r:embed="rId4"/>
          <a:stretch/>
        </p:blipFill>
        <p:spPr>
          <a:xfrm>
            <a:off x="3438360" y="1523880"/>
            <a:ext cx="2267280" cy="168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Name This Mineral.....magnesium carbonate"/>
          <p:cNvPicPr/>
          <p:nvPr/>
        </p:nvPicPr>
        <p:blipFill>
          <a:blip r:embed="rId5"/>
          <a:stretch/>
        </p:blipFill>
        <p:spPr>
          <a:xfrm>
            <a:off x="3143160" y="147636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Name This Mineral.....rhombohedral cleavage; hardness between 2.5 and 5.5; reacts to dilute HCl"/>
          <p:cNvPicPr/>
          <p:nvPr/>
        </p:nvPicPr>
        <p:blipFill>
          <a:blip r:embed="rId6"/>
          <a:stretch/>
        </p:blipFill>
        <p:spPr>
          <a:xfrm>
            <a:off x="3314880" y="1322280"/>
            <a:ext cx="2628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1092E-006 L -0.3125 0.06244 E">
                                      <p:cBhvr>
                                        <p:cTn id="38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3562E-006 L 0.30677 0.07007 E">
                                      <p:cBhvr>
                                        <p:cTn id="3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2544E-006 L 0.28333 0.31082 E">
                                      <p:cBhvr>
                                        <p:cTn id="40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8529E-007 L -0.30833 0.27683 E">
                                      <p:cBhvr>
                                        <p:cTn id="41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519E-006 L 0.28333 0.55296 E">
                                      <p:cBhvr>
                                        <p:cTn id="4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518E-006 L -0.33125 0.51988 E">
                                      <p:cBhvr>
                                        <p:cTn id="4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rain pop movie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m and M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ShockwaveFlash1"/>
          <p:cNvGraphicFramePr/>
          <p:nvPr/>
        </p:nvGraphicFramePr>
        <p:xfrm>
          <a:off x="0" y="838080"/>
          <a:ext cx="8839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83908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arance:luster,color and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ShockwaveFlash1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to find and process go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gold_bullion_coins"/>
          <p:cNvPicPr/>
          <p:nvPr/>
        </p:nvPicPr>
        <p:blipFill>
          <a:blip r:embed="rId1"/>
          <a:stretch/>
        </p:blipFill>
        <p:spPr>
          <a:xfrm>
            <a:off x="57240" y="220968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us gold coins"/>
          <p:cNvPicPr/>
          <p:nvPr/>
        </p:nvPicPr>
        <p:blipFill>
          <a:blip r:embed="rId2"/>
          <a:stretch/>
        </p:blipFill>
        <p:spPr>
          <a:xfrm>
            <a:off x="2090880" y="838080"/>
            <a:ext cx="210024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Gold%203"/>
          <p:cNvPicPr/>
          <p:nvPr/>
        </p:nvPicPr>
        <p:blipFill>
          <a:blip r:embed="rId3"/>
          <a:stretch/>
        </p:blipFill>
        <p:spPr>
          <a:xfrm>
            <a:off x="7620120" y="838080"/>
            <a:ext cx="1523880" cy="10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WindowsMediaPlayer1"/>
          <p:cNvGraphicFramePr/>
          <p:nvPr/>
        </p:nvGraphicFramePr>
        <p:xfrm>
          <a:off x="933480" y="1886040"/>
          <a:ext cx="7270560" cy="495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3480" y="1886040"/>
                    <a:ext cx="72705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 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Gemstones, Rajasthan Travel"/>
          <p:cNvPicPr/>
          <p:nvPr/>
        </p:nvPicPr>
        <p:blipFill>
          <a:blip r:embed="rId1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gemstones"/>
          <p:cNvPicPr/>
          <p:nvPr/>
        </p:nvPicPr>
        <p:blipFill>
          <a:blip r:embed="rId2"/>
          <a:stretch/>
        </p:blipFill>
        <p:spPr>
          <a:xfrm>
            <a:off x="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ic_loose_gemstones"/>
          <p:cNvPicPr/>
          <p:nvPr/>
        </p:nvPicPr>
        <p:blipFill>
          <a:blip r:embed="rId3"/>
          <a:stretch/>
        </p:blipFill>
        <p:spPr>
          <a:xfrm>
            <a:off x="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gemstones"/>
          <p:cNvPicPr/>
          <p:nvPr/>
        </p:nvPicPr>
        <p:blipFill>
          <a:blip r:embed="rId4"/>
          <a:stretch/>
        </p:blipFill>
        <p:spPr>
          <a:xfrm>
            <a:off x="0" y="14479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emstones, Rajasthan Travel"/>
          <p:cNvPicPr/>
          <p:nvPr/>
        </p:nvPicPr>
        <p:blipFill>
          <a:blip r:embed="rId5"/>
          <a:stretch/>
        </p:blipFill>
        <p:spPr>
          <a:xfrm>
            <a:off x="79884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gemstones"/>
          <p:cNvPicPr/>
          <p:nvPr/>
        </p:nvPicPr>
        <p:blipFill>
          <a:blip r:embed="rId6"/>
          <a:stretch/>
        </p:blipFill>
        <p:spPr>
          <a:xfrm>
            <a:off x="798840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pic_loose_gemstones"/>
          <p:cNvPicPr/>
          <p:nvPr/>
        </p:nvPicPr>
        <p:blipFill>
          <a:blip r:embed="rId7"/>
          <a:stretch/>
        </p:blipFill>
        <p:spPr>
          <a:xfrm>
            <a:off x="798840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gemstones"/>
          <p:cNvPicPr/>
          <p:nvPr/>
        </p:nvPicPr>
        <p:blipFill>
          <a:blip r:embed="rId8"/>
          <a:stretch/>
        </p:blipFill>
        <p:spPr>
          <a:xfrm>
            <a:off x="7988400" y="1447920"/>
            <a:ext cx="11430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WindowsMediaPlayer1"/>
          <p:cNvGraphicFramePr/>
          <p:nvPr/>
        </p:nvGraphicFramePr>
        <p:xfrm>
          <a:off x="1157400" y="1828800"/>
          <a:ext cx="6932520" cy="502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WindowsMediaPlayer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7400" y="1828800"/>
                    <a:ext cx="69325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lba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’ll lea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properties used to identify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s using physical properties such as hardness and st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ner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ineral appear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yrite"/>
          <p:cNvPicPr/>
          <p:nvPr/>
        </p:nvPicPr>
        <p:blipFill>
          <a:blip r:embed="rId1"/>
          <a:stretch/>
        </p:blipFill>
        <p:spPr>
          <a:xfrm>
            <a:off x="228600" y="369108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old%202_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rdn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612800"/>
            <a:ext cx="1611000" cy="4041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8480" y="1324080"/>
            <a:ext cx="7086600" cy="304560"/>
          </a:xfrm>
          <a:prstGeom prst="rect">
            <a:avLst/>
          </a:prstGeom>
          <a:solidFill>
            <a:srgbClr val="2f1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hs 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28640"/>
            <a:ext cx="7086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68480" y="1566720"/>
            <a:ext cx="178740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819520" y="1552680"/>
            <a:ext cx="9903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1925640"/>
            <a:ext cx="484056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 easily scratch i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068480" y="1324080"/>
            <a:ext cx="7084800" cy="4343400"/>
          </a:xfrm>
          <a:prstGeom prst="rect">
            <a:avLst/>
          </a:prstGeom>
          <a:noFill/>
          <a:ln w="381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_x0008_prev.jpg                                                       00013FCE_x0007_MacOS 9                        B5FADE23: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8880" y="5956200"/>
            <a:ext cx="74304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x0008_next.jpg                                                       00013FCE_x0007_MacOS 9                        B5FADE23: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56200"/>
            <a:ext cx="742680" cy="749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043520" y="15969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1066320" y="24242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1068120" y="272556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1058400" y="32083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1072800" y="35226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060200" y="37987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1050480" y="42958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064880" y="45799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1077480" y="48434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064880" y="51292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1055160" y="19350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3905280" y="161280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690640" y="162864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uste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1" lang="en-US" sz="4000" spc="-1" strike="noStrike">
                <a:solidFill>
                  <a:srgbClr val="777777"/>
                </a:solidFill>
                <a:latin typeface="Arial"/>
              </a:rPr>
              <a:t>metal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nonmetal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uorite_ky1b"/>
          <p:cNvPicPr/>
          <p:nvPr/>
        </p:nvPicPr>
        <p:blipFill>
          <a:blip r:embed="rId2"/>
          <a:stretch/>
        </p:blipFill>
        <p:spPr>
          <a:xfrm>
            <a:off x="5181480" y="3505320"/>
            <a:ext cx="3733920" cy="3276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361960" y="2819520"/>
            <a:ext cx="609480" cy="18288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486400" y="2895480"/>
            <a:ext cx="914400" cy="1752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-gold-bar-724490"/>
          <p:cNvPicPr/>
          <p:nvPr/>
        </p:nvPicPr>
        <p:blipFill>
          <a:blip r:embed="rId1"/>
          <a:stretch/>
        </p:blipFill>
        <p:spPr>
          <a:xfrm>
            <a:off x="76320" y="502920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mp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weight of an equal volume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has specific gravity of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gold is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 times heav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plash-of-single-drop-in-still-water-pink-and-cyan-rotated-and-cropped-AJHD"/>
          <p:cNvPicPr/>
          <p:nvPr/>
        </p:nvPicPr>
        <p:blipFill>
          <a:blip r:embed="rId2"/>
          <a:stretch/>
        </p:blipFill>
        <p:spPr>
          <a:xfrm>
            <a:off x="6248520" y="4967280"/>
            <a:ext cx="1812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0"/>
          <p:cNvGrpSpPr/>
          <p:nvPr/>
        </p:nvGrpSpPr>
        <p:grpSpPr>
          <a:xfrm>
            <a:off x="2819520" y="5500800"/>
            <a:ext cx="3124080" cy="976320"/>
            <a:chOff x="2819520" y="5500800"/>
            <a:chExt cx="3124080" cy="976320"/>
          </a:xfrm>
        </p:grpSpPr>
        <p:sp>
          <p:nvSpPr>
            <p:cNvPr id="97" name="AutoShape 8"/>
            <p:cNvSpPr/>
            <p:nvPr/>
          </p:nvSpPr>
          <p:spPr>
            <a:xfrm>
              <a:off x="2819520" y="6019920"/>
              <a:ext cx="3124080" cy="457200"/>
            </a:xfrm>
            <a:prstGeom prst="leftArrow">
              <a:avLst>
                <a:gd name="adj1" fmla="val 50000"/>
                <a:gd name="adj2" fmla="val 1708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050280" y="5500800"/>
              <a:ext cx="27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 times heav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ineral Density: Specific Gravity"/>
          <p:cNvPicPr/>
          <p:nvPr/>
        </p:nvPicPr>
        <p:blipFill>
          <a:blip r:embed="rId1"/>
          <a:stretch/>
        </p:blipFill>
        <p:spPr>
          <a:xfrm>
            <a:off x="152280" y="1200240"/>
            <a:ext cx="8991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21:09:41Z</dcterms:created>
  <dc:creator>fsa</dc:creator>
  <dc:description/>
  <dc:language>en-US</dc:language>
  <cp:lastModifiedBy>RomaK</cp:lastModifiedBy>
  <dcterms:modified xsi:type="dcterms:W3CDTF">2015-09-02T05:57:54Z</dcterms:modified>
  <cp:revision>19</cp:revision>
  <dc:subject/>
  <dc:title>Section-2  Mineral Identification pg.68</dc:title>
</cp:coreProperties>
</file>