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5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6.wmf" ContentType="image/x-wmf"/>
  <Override PartName="/ppt/media/image14.wmf" ContentType="image/x-wmf"/>
  <Override PartName="/ppt/media/image1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F7A3-1E25-415B-8489-8E2DC2544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188-464C-40D9-A9FE-B10F7293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E2E-5C50-4B29-9758-0B50AA1B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34B-D321-4414-8D66-D17CEC9B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097-94D3-42B5-8480-64BEEE95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4B84-85C1-41C6-874A-163B213A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BB71-1298-4795-AE90-607E03EB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F3FE-2668-4B08-9D86-469B7D9E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BDDD-B485-4F02-AB50-82551C5F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91F3-C950-47C0-83D7-3E66D7F7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ECA9-3E18-4F99-B22C-AD7E7BE1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6599-9F12-4363-A51A-407A1426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60D-E48F-448D-BA8F-EF1E9EB7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44AC-293F-4669-B094-5C890E40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A833-0076-4422-B474-0C24F168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D921-042A-46BD-A44C-F38560CB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D849-11E9-42B3-B344-EF18C4D6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EE1B-23AD-4BCA-8CA8-BDDD1386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E94-9D34-44DE-B2DB-E8A91417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8D9-D46A-4FFF-BA78-845E2211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557-188E-466F-8930-B20060C4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1D0-1ADB-484F-A247-9D30B3E0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A36-58EB-49E7-B967-48B1F716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BDD-D074-4186-BE17-791471F8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681-1ED7-4A17-A755-D7EC9FB8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CCC5-B49C-4659-B085-6AE5D4901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CB0E-0D09-4122-B3C6-FFFA79562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74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57.xml"/><Relationship Id="rId28" Type="http://schemas.openxmlformats.org/officeDocument/2006/relationships/slide" Target="slide74.xml"/><Relationship Id="rId29" Type="http://schemas.openxmlformats.org/officeDocument/2006/relationships/slide" Target="slide61.xml"/><Relationship Id="rId30" Type="http://schemas.openxmlformats.org/officeDocument/2006/relationships/slide" Target="slide63.xml"/><Relationship Id="rId31" Type="http://schemas.openxmlformats.org/officeDocument/2006/relationships/slide" Target="slide65.xml"/><Relationship Id="rId32" Type="http://schemas.openxmlformats.org/officeDocument/2006/relationships/slide" Target="slide67.xml"/><Relationship Id="rId33" Type="http://schemas.openxmlformats.org/officeDocument/2006/relationships/slide" Target="slide69.xml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ELC1424.WAV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0" name="RNDO1424.WAV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1" name="FADE1424.WAV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jeopardy"/>
          <p:cNvPicPr/>
          <p:nvPr/>
        </p:nvPicPr>
        <p:blipFill>
          <a:blip r:embed="rId5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0"/>
          <p:cNvSpPr/>
          <p:nvPr/>
        </p:nvSpPr>
        <p:spPr>
          <a:xfrm>
            <a:off x="3048120" y="6499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73648" presetSubtype="170701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69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6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5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762120" y="1155600"/>
            <a:ext cx="7696080" cy="45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m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8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a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838080" y="1200240"/>
            <a:ext cx="7620120" cy="44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lt;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 &gt; x - 3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1111320"/>
            <a:ext cx="7772400" cy="45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0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 + (-3) &gt; -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t &gt; -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62120" y="1155600"/>
            <a:ext cx="7619760" cy="463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y &lt; -2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762120" y="91440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5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447920" y="1523880"/>
            <a:ext cx="63244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x &lt; -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3336840" y="3919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WILL1439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86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4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295280" y="1469880"/>
            <a:ext cx="6629400" cy="390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2 &gt; 6k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20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k &l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762120" y="1155600"/>
            <a:ext cx="761976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475000" y="2849400"/>
          <a:ext cx="450540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5000" y="2849400"/>
                    <a:ext cx="45054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6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11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762120" y="1155600"/>
            <a:ext cx="76197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ify.</a:t>
            </a:r>
            <a:endParaRPr b="1" lang="en-US" sz="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4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8"/>
          <p:cNvGraphicFramePr/>
          <p:nvPr/>
        </p:nvGraphicFramePr>
        <p:xfrm>
          <a:off x="2405160" y="3232080"/>
          <a:ext cx="4257720" cy="30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5160" y="3232080"/>
                    <a:ext cx="42577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-1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762120" y="1155600"/>
            <a:ext cx="761976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57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7"/>
          <p:cNvGraphicFramePr/>
          <p:nvPr/>
        </p:nvGraphicFramePr>
        <p:xfrm>
          <a:off x="2612880" y="3232080"/>
          <a:ext cx="4222800" cy="30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2880" y="3232080"/>
                    <a:ext cx="42228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10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x - 1 &gt; 5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71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7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762120" y="15238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n + 3 &lt; 7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2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"/>
          <p:cNvSpPr/>
          <p:nvPr/>
        </p:nvSpPr>
        <p:spPr>
          <a:xfrm>
            <a:off x="7680240" y="6078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9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530600" y="41482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&lt; 2 - 3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5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838080" y="120024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066680" y="1155600"/>
            <a:ext cx="731520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06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9"/>
          <p:cNvGraphicFramePr/>
          <p:nvPr/>
        </p:nvGraphicFramePr>
        <p:xfrm>
          <a:off x="1974960" y="2819520"/>
          <a:ext cx="5499000" cy="32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4960" y="2819520"/>
                    <a:ext cx="549900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5"/>
          <p:cNvSpPr txBox="1"/>
          <p:nvPr/>
        </p:nvSpPr>
        <p:spPr>
          <a:xfrm>
            <a:off x="1371600" y="1155600"/>
            <a:ext cx="632448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19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10"/>
          <p:cNvGraphicFramePr/>
          <p:nvPr/>
        </p:nvGraphicFramePr>
        <p:xfrm>
          <a:off x="1306440" y="2971800"/>
          <a:ext cx="6685200" cy="30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2971800"/>
                    <a:ext cx="66852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1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371600" y="1828800"/>
            <a:ext cx="6553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7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2" name="WordArt 8"/>
          <p:cNvSpPr txBox="1"/>
          <p:nvPr/>
        </p:nvSpPr>
        <p:spPr>
          <a:xfrm>
            <a:off x="914400" y="137160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mber is grea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 -3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3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90720" y="2057400"/>
            <a:ext cx="7162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8" name="WordArt 7"/>
          <p:cNvSpPr txBox="1"/>
          <p:nvPr/>
        </p:nvSpPr>
        <p:spPr>
          <a:xfrm>
            <a:off x="762120" y="1828800"/>
            <a:ext cx="76197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5"/>
          <p:cNvSpPr txBox="1"/>
          <p:nvPr/>
        </p:nvSpPr>
        <p:spPr>
          <a:xfrm>
            <a:off x="762120" y="1371600"/>
            <a:ext cx="76197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less than a numb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less than 9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4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838080" y="1600200"/>
            <a:ext cx="7543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- 2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1066680" y="1676520"/>
            <a:ext cx="7162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(5x + 2) - 7x &gt; 3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5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0" name="WordArt 7"/>
          <p:cNvSpPr txBox="1"/>
          <p:nvPr/>
        </p:nvSpPr>
        <p:spPr>
          <a:xfrm>
            <a:off x="762120" y="1447920"/>
            <a:ext cx="7619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1752480" y="99072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66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Object 7"/>
          <p:cNvGraphicFramePr/>
          <p:nvPr/>
        </p:nvGraphicFramePr>
        <p:xfrm>
          <a:off x="2314440" y="3232080"/>
          <a:ext cx="4540320" cy="28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3232080"/>
                    <a:ext cx="45403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73" name="WordArt 7"/>
          <p:cNvSpPr txBox="1"/>
          <p:nvPr/>
        </p:nvSpPr>
        <p:spPr>
          <a:xfrm>
            <a:off x="1447920" y="1752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     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graphicFrame>
        <p:nvGraphicFramePr>
          <p:cNvPr id="375" name="Object 10"/>
          <p:cNvGraphicFramePr/>
          <p:nvPr/>
        </p:nvGraphicFramePr>
        <p:xfrm>
          <a:off x="2784600" y="3232080"/>
          <a:ext cx="25495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4600" y="3232080"/>
                    <a:ext cx="25495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time1549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WordArt 8"/>
          <p:cNvSpPr txBox="1"/>
          <p:nvPr/>
        </p:nvSpPr>
        <p:spPr>
          <a:xfrm>
            <a:off x="838080" y="1905120"/>
            <a:ext cx="7391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I have 5 apples and you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 away 3 apples, how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apples do you have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6" name="WordArt 7"/>
          <p:cNvSpPr txBox="1"/>
          <p:nvPr/>
        </p:nvSpPr>
        <p:spPr>
          <a:xfrm>
            <a:off x="762120" y="1219320"/>
            <a:ext cx="76197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3 apples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You took them!)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2" name="WordArt 7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=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9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3"/>
          <p:cNvSpPr txBox="1"/>
          <p:nvPr/>
        </p:nvSpPr>
        <p:spPr>
          <a:xfrm>
            <a:off x="762120" y="2590920"/>
            <a:ext cx="7696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8" name="WordArt 7"/>
          <p:cNvSpPr txBox="1"/>
          <p:nvPr/>
        </p:nvSpPr>
        <p:spPr>
          <a:xfrm>
            <a:off x="762120" y="1523880"/>
            <a:ext cx="7619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Closed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04" name="WordArt 9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762120" y="12952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Open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62120" y="1866960"/>
            <a:ext cx="76197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1523880" y="1447920"/>
            <a:ext cx="6172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lef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WordArt 11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 -2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7"/>
          <p:cNvSpPr txBox="1"/>
          <p:nvPr/>
        </p:nvSpPr>
        <p:spPr>
          <a:xfrm>
            <a:off x="762120" y="1066680"/>
            <a:ext cx="761976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7" name="WordArt 10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2 &lt; y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7"/>
          <p:cNvSpPr txBox="1"/>
          <p:nvPr/>
        </p:nvSpPr>
        <p:spPr>
          <a:xfrm>
            <a:off x="762120" y="1295280"/>
            <a:ext cx="76197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49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95520" cy="15876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62120" y="2133720"/>
            <a:ext cx="76960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914400" y="121932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intersect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1" name="WordArt 8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10" descr=""/>
          <p:cNvPicPr/>
          <p:nvPr/>
        </p:nvPicPr>
        <p:blipFill>
          <a:blip r:embed="rId2"/>
          <a:stretch/>
        </p:blipFill>
        <p:spPr>
          <a:xfrm>
            <a:off x="3324240" y="3962520"/>
            <a:ext cx="2495520" cy="15872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121932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un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3" name="WordArt 7"/>
          <p:cNvSpPr txBox="1"/>
          <p:nvPr/>
        </p:nvSpPr>
        <p:spPr>
          <a:xfrm>
            <a:off x="838080" y="17524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y &lt; -6 or 3y &gt; 0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14400" y="1981080"/>
            <a:ext cx="74674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3 or y &gt; 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4" name="WordArt 6"/>
          <p:cNvSpPr txBox="1"/>
          <p:nvPr/>
        </p:nvSpPr>
        <p:spPr>
          <a:xfrm>
            <a:off x="800280" y="17146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3x &gt; 6 and 2x &gt; -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838080" y="190512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3 &lt; x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2"/>
          <p:cNvSpPr txBox="1"/>
          <p:nvPr/>
        </p:nvSpPr>
        <p:spPr>
          <a:xfrm>
            <a:off x="838080" y="182880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8 &lt; 2z - 4 &lt; 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2"/>
          <p:cNvSpPr txBox="1"/>
          <p:nvPr/>
        </p:nvSpPr>
        <p:spPr>
          <a:xfrm>
            <a:off x="838080" y="19051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2 &lt; z &l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5343480" y="419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3"/>
          <p:cNvSpPr txBox="1"/>
          <p:nvPr/>
        </p:nvSpPr>
        <p:spPr>
          <a:xfrm>
            <a:off x="914400" y="4572000"/>
            <a:ext cx="74674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Comic Sans MS"/>
              </a:rPr>
              <a:t>Perime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1143000" y="175248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7620120" y="19810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6934320" y="35812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981080" y="121932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019920" y="167652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666880" y="3276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jeop1627.wav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13" name="WordArt 7"/>
          <p:cNvSpPr txBox="1"/>
          <p:nvPr/>
        </p:nvSpPr>
        <p:spPr>
          <a:xfrm>
            <a:off x="762120" y="1447920"/>
            <a:ext cx="76960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erimeter of the given rectangle is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least 92 cm. Using the diagram, writ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equality representing the perimeter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14" name="time1627.wav" descr=""/>
          <p:cNvPicPr/>
          <p:nvPr/>
        </p:nvPicPr>
        <p:blipFill>
          <a:blip r:embed="rId2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13"/>
          <p:cNvGrpSpPr/>
          <p:nvPr/>
        </p:nvGrpSpPr>
        <p:grpSpPr>
          <a:xfrm>
            <a:off x="3429000" y="4214880"/>
            <a:ext cx="3162600" cy="1576440"/>
            <a:chOff x="3429000" y="4214880"/>
            <a:chExt cx="3162600" cy="1576440"/>
          </a:xfrm>
        </p:grpSpPr>
        <p:sp>
          <p:nvSpPr>
            <p:cNvPr id="516" name="Rectangle 10"/>
            <p:cNvSpPr/>
            <p:nvPr/>
          </p:nvSpPr>
          <p:spPr>
            <a:xfrm>
              <a:off x="3429000" y="4648320"/>
              <a:ext cx="220968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639760" y="49183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3x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902760" y="4214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x + 3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3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1" name="Picture 4" descr="hh01633_"/>
          <p:cNvPicPr/>
          <p:nvPr/>
        </p:nvPicPr>
        <p:blipFill>
          <a:blip r:embed="rId1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99072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8x + 6 &gt;= 9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295280" y="1295280"/>
            <a:ext cx="67820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11"/>
          <p:cNvSpPr/>
          <p:nvPr/>
        </p:nvSpPr>
        <p:spPr>
          <a:xfrm>
            <a:off x="5257800" y="3276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8" name="AutoShape 15"/>
          <p:cNvSpPr/>
          <p:nvPr/>
        </p:nvSpPr>
        <p:spPr>
          <a:xfrm>
            <a:off x="3200400" y="16765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30" name="CHIM1642.WAV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4"/>
          <p:cNvSpPr/>
          <p:nvPr/>
        </p:nvSpPr>
        <p:spPr>
          <a:xfrm>
            <a:off x="1371600" y="91440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3" y="685798"/>
                </a:lnTo>
                <a:lnTo>
                  <a:pt x="342900" y="523901"/>
                </a:lnTo>
                <a:lnTo>
                  <a:pt x="130977" y="685798"/>
                </a:lnTo>
                <a:lnTo>
                  <a:pt x="211926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990720" y="15238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7086600" y="15238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7620120" y="19051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5" name="AutoShape 8"/>
          <p:cNvSpPr/>
          <p:nvPr/>
        </p:nvSpPr>
        <p:spPr>
          <a:xfrm>
            <a:off x="914400" y="9907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8195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7" name="AutoShape 10"/>
          <p:cNvSpPr/>
          <p:nvPr/>
        </p:nvSpPr>
        <p:spPr>
          <a:xfrm>
            <a:off x="71629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8" name="AutoShape 12"/>
          <p:cNvSpPr/>
          <p:nvPr/>
        </p:nvSpPr>
        <p:spPr>
          <a:xfrm>
            <a:off x="3733920" y="54100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4191120" y="50292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0" name="AutoShape 14"/>
          <p:cNvSpPr/>
          <p:nvPr/>
        </p:nvSpPr>
        <p:spPr>
          <a:xfrm>
            <a:off x="3429000" y="48769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89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9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189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jeopardy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pic>
        <p:nvPicPr>
          <p:cNvPr id="545" name="time165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28954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2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9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28600" y="3049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9" name="Text Box 52">
            <a:hlinkClick r:id="rId11" action="ppaction://hlinksldjump"/>
          </p:cNvPr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0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1" name="WordArt 77"/>
          <p:cNvSpPr txBox="1"/>
          <p:nvPr/>
        </p:nvSpPr>
        <p:spPr>
          <a:xfrm>
            <a:off x="7772400" y="299880"/>
            <a:ext cx="1219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78"/>
          <p:cNvSpPr txBox="1"/>
          <p:nvPr/>
        </p:nvSpPr>
        <p:spPr>
          <a:xfrm>
            <a:off x="6248520" y="457200"/>
            <a:ext cx="1230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79"/>
          <p:cNvSpPr txBox="1"/>
          <p:nvPr/>
        </p:nvSpPr>
        <p:spPr>
          <a:xfrm>
            <a:off x="4753080" y="446040"/>
            <a:ext cx="12063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WordArt 81"/>
          <p:cNvSpPr txBox="1"/>
          <p:nvPr/>
        </p:nvSpPr>
        <p:spPr>
          <a:xfrm>
            <a:off x="3257640" y="426960"/>
            <a:ext cx="1128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5" name="boar1455.wav" descr=""/>
          <p:cNvPicPr/>
          <p:nvPr/>
        </p:nvPicPr>
        <p:blipFill>
          <a:blip r:embed="rId3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8"/>
          <p:cNvSpPr txBox="1"/>
          <p:nvPr/>
        </p:nvSpPr>
        <p:spPr>
          <a:xfrm>
            <a:off x="1778040" y="3301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762120" y="122724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- 3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2" name="time1455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EGION</cp:lastModifiedBy>
  <dcterms:modified xsi:type="dcterms:W3CDTF">2017-07-06T06:35:22Z</dcterms:modified>
  <cp:revision>175</cp:revision>
  <dc:subject/>
  <dc:title>No Slide Title</dc:title>
</cp:coreProperties>
</file>