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16.png" ContentType="image/png"/>
  <Override PartName="/ppt/media/image15.wmf" ContentType="image/x-wmf"/>
  <Override PartName="/ppt/media/projctor.wav" ContentType="audio/x-wav"/>
  <Override PartName="/ppt/media/image8.wmf" ContentType="image/x-wmf"/>
  <Override PartName="/ppt/media/CHIMES.WAV" ContentType="audio/x-wav"/>
  <Override PartName="/ppt/media/image6.wmf" ContentType="image/x-wmf"/>
  <Override PartName="/ppt/media/image14.wmf" ContentType="image/x-wmf"/>
  <Override PartName="/ppt/media/image1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9DF2-CEC4-4D3F-AFD1-8CAB4BE66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m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 + a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lt;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-2 &gt; x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 + (-3) &gt;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 &gt; -1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 + y &lt;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5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x &lt;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2 &gt; 6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k &l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6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a &gt; -1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x - 1 &gt;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2n + 3 &lt;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&lt; 2 - 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lt; -7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i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-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&gt; -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inequa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less than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ess than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n - 2 &lt; 9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(5x + 2) - 7x &gt; 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x &g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     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have 5 apples and 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3 apples,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apples do you ha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3 apples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took them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=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Closed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dot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Open dot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lt; 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lef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x &gt; -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graphing 2 &lt; 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de this par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igh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ntersect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1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shaded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Ven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union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2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-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y &lt; -6 or 3y &gt;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y &lt; -3 or y &gt; 0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3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x &gt; 6 and 2x &gt; 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3 &lt; x &lt; -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4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8 &lt; 2z - 4 &l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-2 &lt; z &lt; 4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500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eopar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meter of the given rectangle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 92 cm. Using the diagram, 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equality representing the perime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sta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e put down y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tool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for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8x + 6 &gt;= 92"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's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luck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e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ily Double Roun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/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/D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 - 3 &lt;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AAA-9C86-48C9-B49E-D44C3C3D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DF1A-3136-4292-BF8C-0A0C34C1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17D0-3403-4ABB-BDF2-92C9FBC1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C82-6F6C-48CB-BE04-97D96906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1B9F-1281-40A4-87DC-EE7DDB27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F777-C58E-4B2A-9FA7-203CA409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DAEA-FCEA-4A27-B250-5ED84BA3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7458-F29F-4B35-9D41-8EF73858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0394-A70C-4A3A-84D5-9FA3C616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1069-5120-4F57-8872-928766EF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E11C-7E31-439E-945B-5E42A7B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052-E3A7-4880-8987-41091708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62A8-4583-4B0D-827E-955EB3A8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6762-8670-4179-A886-31E8B925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2E70-1EDE-4E5A-9AB2-A6849759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B33B-8299-4AF1-B49B-A95F4D45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4163-33B3-4674-A48D-43178970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8B96-D0F2-41B1-A81C-2C7E61E8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208A-73CC-4022-BEB3-C6C9E326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559-E2FC-4F88-92FF-528A611A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AE93-F14C-4644-8383-D2640FF1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CF9-1A80-4B16-B3F7-2DC9BB64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B0B4-24D9-4598-AC03-07A1904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CC0-D467-4493-B424-129013F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579D-B38B-43F0-B614-369DA988A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8130-C3CC-4082-9824-BA90C4856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74.xml"/><Relationship Id="rId12" Type="http://schemas.openxmlformats.org/officeDocument/2006/relationships/slide" Target="slide27.xml"/><Relationship Id="rId13" Type="http://schemas.openxmlformats.org/officeDocument/2006/relationships/slide" Target="slide29.xml"/><Relationship Id="rId14" Type="http://schemas.openxmlformats.org/officeDocument/2006/relationships/slide" Target="slide31.xml"/><Relationship Id="rId15" Type="http://schemas.openxmlformats.org/officeDocument/2006/relationships/slide" Target="slide33.xml"/><Relationship Id="rId16" Type="http://schemas.openxmlformats.org/officeDocument/2006/relationships/slide" Target="slide35.xml"/><Relationship Id="rId17" Type="http://schemas.openxmlformats.org/officeDocument/2006/relationships/slide" Target="slide37.xml"/><Relationship Id="rId18" Type="http://schemas.openxmlformats.org/officeDocument/2006/relationships/slide" Target="slide39.xml"/><Relationship Id="rId19" Type="http://schemas.openxmlformats.org/officeDocument/2006/relationships/slide" Target="slide41.xml"/><Relationship Id="rId20" Type="http://schemas.openxmlformats.org/officeDocument/2006/relationships/slide" Target="slide43.xml"/><Relationship Id="rId21" Type="http://schemas.openxmlformats.org/officeDocument/2006/relationships/slide" Target="slide45.xml"/><Relationship Id="rId22" Type="http://schemas.openxmlformats.org/officeDocument/2006/relationships/slide" Target="slide47.xml"/><Relationship Id="rId23" Type="http://schemas.openxmlformats.org/officeDocument/2006/relationships/slide" Target="slide49.xml"/><Relationship Id="rId24" Type="http://schemas.openxmlformats.org/officeDocument/2006/relationships/slide" Target="slide51.xml"/><Relationship Id="rId25" Type="http://schemas.openxmlformats.org/officeDocument/2006/relationships/slide" Target="slide53.xml"/><Relationship Id="rId26" Type="http://schemas.openxmlformats.org/officeDocument/2006/relationships/slide" Target="slide55.xml"/><Relationship Id="rId27" Type="http://schemas.openxmlformats.org/officeDocument/2006/relationships/slide" Target="slide57.xml"/><Relationship Id="rId28" Type="http://schemas.openxmlformats.org/officeDocument/2006/relationships/slide" Target="slide74.xml"/><Relationship Id="rId29" Type="http://schemas.openxmlformats.org/officeDocument/2006/relationships/slide" Target="slide61.xml"/><Relationship Id="rId30" Type="http://schemas.openxmlformats.org/officeDocument/2006/relationships/slide" Target="slide63.xml"/><Relationship Id="rId31" Type="http://schemas.openxmlformats.org/officeDocument/2006/relationships/slide" Target="slide65.xml"/><Relationship Id="rId32" Type="http://schemas.openxmlformats.org/officeDocument/2006/relationships/slide" Target="slide67.xml"/><Relationship Id="rId33" Type="http://schemas.openxmlformats.org/officeDocument/2006/relationships/slide" Target="slide69.xml"/><Relationship Id="rId34" Type="http://schemas.openxmlformats.org/officeDocument/2006/relationships/image" Target="../media/image3.pn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ELC1424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0" name="RNDO1424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91" name="FADE1424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jeopardy"/>
          <p:cNvPicPr/>
          <p:nvPr/>
        </p:nvPicPr>
        <p:blipFill>
          <a:blip r:embed="rId5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0"/>
          <p:cNvSpPr/>
          <p:nvPr/>
        </p:nvSpPr>
        <p:spPr>
          <a:xfrm>
            <a:off x="3048120" y="64990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12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73648" presetSubtype="170701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46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6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67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95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762120" y="1155600"/>
            <a:ext cx="7696080" cy="453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m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a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8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838080" y="1200240"/>
            <a:ext cx="7620120" cy="44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lt;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69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 &gt; x - 3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74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685800" y="1111320"/>
            <a:ext cx="7772400" cy="45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0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 + (-3) &gt; -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time1471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t &gt; -1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5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62120" y="1155600"/>
            <a:ext cx="7619760" cy="463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 + y &lt; -2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96" name="time1471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762120" y="91440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5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1447920" y="1523880"/>
            <a:ext cx="632448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x &lt; -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08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3336840" y="39196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WILL143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867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4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5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WordArt 5"/>
          <p:cNvSpPr txBox="1"/>
          <p:nvPr/>
        </p:nvSpPr>
        <p:spPr>
          <a:xfrm>
            <a:off x="1295280" y="1469880"/>
            <a:ext cx="6629400" cy="390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2 &gt; 6k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20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5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k &l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6" name="AutoShape 9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62120" y="1155600"/>
            <a:ext cx="7619760" cy="18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31" name="time1486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ct 8"/>
          <p:cNvGraphicFramePr/>
          <p:nvPr/>
        </p:nvGraphicFramePr>
        <p:xfrm>
          <a:off x="2475000" y="2849400"/>
          <a:ext cx="4505400" cy="33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75000" y="2849400"/>
                    <a:ext cx="45054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38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6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AutoShape 11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WordArt 5"/>
          <p:cNvSpPr txBox="1"/>
          <p:nvPr/>
        </p:nvSpPr>
        <p:spPr>
          <a:xfrm>
            <a:off x="762120" y="1155600"/>
            <a:ext cx="7619760" cy="22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mplify.</a:t>
            </a:r>
            <a:endParaRPr b="1" lang="en-US" sz="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44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Object 8"/>
          <p:cNvGraphicFramePr/>
          <p:nvPr/>
        </p:nvGraphicFramePr>
        <p:xfrm>
          <a:off x="2405160" y="3232080"/>
          <a:ext cx="4257720" cy="300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5160" y="3232080"/>
                    <a:ext cx="4257720" cy="30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1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a &gt; -1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2" name="AutoShape 8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762120" y="1155600"/>
            <a:ext cx="7619760" cy="204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57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8" name="Object 7"/>
          <p:cNvGraphicFramePr/>
          <p:nvPr/>
        </p:nvGraphicFramePr>
        <p:xfrm>
          <a:off x="2612880" y="3232080"/>
          <a:ext cx="4222800" cy="3044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2880" y="3232080"/>
                    <a:ext cx="42228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4" name="WordArt 8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10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0" name="WordArt 7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x - 1 &gt; 5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71" name="time1502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1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990720" y="1143000"/>
            <a:ext cx="72388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7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762120" y="15238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2n + 3 &lt; 7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82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8"/>
          <p:cNvSpPr/>
          <p:nvPr/>
        </p:nvSpPr>
        <p:spPr>
          <a:xfrm>
            <a:off x="7680240" y="607860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89" name="AutoShape 7">
            <a:hlinkClick r:id="rId1" action="ppaction://hlinksldjump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4530600" y="414828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762120" y="1155600"/>
            <a:ext cx="7619760" cy="448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 &lt; 2 - 3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295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838080" y="120024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WordArt 5"/>
          <p:cNvSpPr txBox="1"/>
          <p:nvPr/>
        </p:nvSpPr>
        <p:spPr>
          <a:xfrm>
            <a:off x="1066680" y="1155600"/>
            <a:ext cx="731520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06" name="time1517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Object 9"/>
          <p:cNvGraphicFramePr/>
          <p:nvPr/>
        </p:nvGraphicFramePr>
        <p:xfrm>
          <a:off x="1974960" y="2819520"/>
          <a:ext cx="5499000" cy="327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74960" y="2819520"/>
                    <a:ext cx="549900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4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WordArt 5"/>
          <p:cNvSpPr txBox="1"/>
          <p:nvPr/>
        </p:nvSpPr>
        <p:spPr>
          <a:xfrm>
            <a:off x="1371600" y="1155600"/>
            <a:ext cx="632448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19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0" name="Object 10"/>
          <p:cNvGraphicFramePr/>
          <p:nvPr/>
        </p:nvGraphicFramePr>
        <p:xfrm>
          <a:off x="1306440" y="2971800"/>
          <a:ext cx="6685200" cy="30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971800"/>
                    <a:ext cx="6685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1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1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371600" y="1828800"/>
            <a:ext cx="6553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lt; -7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7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2" name="WordArt 8"/>
          <p:cNvSpPr txBox="1"/>
          <p:nvPr/>
        </p:nvSpPr>
        <p:spPr>
          <a:xfrm>
            <a:off x="914400" y="1371600"/>
            <a:ext cx="746748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number is grea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n -3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33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90720" y="2057400"/>
            <a:ext cx="71625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38" name="WordArt 7"/>
          <p:cNvSpPr txBox="1"/>
          <p:nvPr/>
        </p:nvSpPr>
        <p:spPr>
          <a:xfrm>
            <a:off x="762120" y="1828800"/>
            <a:ext cx="76197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&gt; -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5"/>
          <p:cNvSpPr txBox="1"/>
          <p:nvPr/>
        </p:nvSpPr>
        <p:spPr>
          <a:xfrm>
            <a:off x="762120" y="1371600"/>
            <a:ext cx="76197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e an inequality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 less than a numb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less than 9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44" name="time1533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838080" y="1600200"/>
            <a:ext cx="7543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n - 2 &lt; 9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WordArt 5"/>
          <p:cNvSpPr txBox="1"/>
          <p:nvPr/>
        </p:nvSpPr>
        <p:spPr>
          <a:xfrm>
            <a:off x="1066680" y="1676520"/>
            <a:ext cx="716292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(5x + 2) - 7x &gt; 38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5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0" name="WordArt 7"/>
          <p:cNvSpPr txBox="1"/>
          <p:nvPr/>
        </p:nvSpPr>
        <p:spPr>
          <a:xfrm>
            <a:off x="762120" y="1447920"/>
            <a:ext cx="761976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x &g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WordArt 5"/>
          <p:cNvSpPr txBox="1"/>
          <p:nvPr/>
        </p:nvSpPr>
        <p:spPr>
          <a:xfrm>
            <a:off x="1752480" y="990720"/>
            <a:ext cx="52578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66" name="time1549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7" name="Object 7"/>
          <p:cNvGraphicFramePr/>
          <p:nvPr/>
        </p:nvGraphicFramePr>
        <p:xfrm>
          <a:off x="2314440" y="3232080"/>
          <a:ext cx="4540320" cy="281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4440" y="3232080"/>
                    <a:ext cx="4540320" cy="28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73" name="WordArt 7"/>
          <p:cNvSpPr txBox="1"/>
          <p:nvPr/>
        </p:nvSpPr>
        <p:spPr>
          <a:xfrm>
            <a:off x="1447920" y="1752480"/>
            <a:ext cx="64008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     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74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graphicFrame>
        <p:nvGraphicFramePr>
          <p:cNvPr id="375" name="Object 10"/>
          <p:cNvGraphicFramePr/>
          <p:nvPr/>
        </p:nvGraphicFramePr>
        <p:xfrm>
          <a:off x="2784600" y="3232080"/>
          <a:ext cx="25495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84600" y="3232080"/>
                    <a:ext cx="25495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time1549.wav" descr=""/>
          <p:cNvPicPr/>
          <p:nvPr/>
        </p:nvPicPr>
        <p:blipFill>
          <a:blip r:embed="rId1"/>
          <a:stretch/>
        </p:blipFill>
        <p:spPr>
          <a:xfrm>
            <a:off x="79246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WordArt 8"/>
          <p:cNvSpPr txBox="1"/>
          <p:nvPr/>
        </p:nvSpPr>
        <p:spPr>
          <a:xfrm>
            <a:off x="838080" y="1905120"/>
            <a:ext cx="73915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f I have 5 apples and you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ake away 3 apples, how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ny apples do you have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1" dur="1" fill="hold"/>
                                        <p:tgtEl>
                                          <p:spTgt spid="3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6" name="WordArt 7"/>
          <p:cNvSpPr txBox="1"/>
          <p:nvPr/>
        </p:nvSpPr>
        <p:spPr>
          <a:xfrm>
            <a:off x="762120" y="1219320"/>
            <a:ext cx="761976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3 apples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(You took them!)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87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2" name="WordArt 7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=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9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1" fill="hold"/>
                                        <p:tgtEl>
                                          <p:spTgt spid="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"/>
          <p:cNvSpPr txBox="1"/>
          <p:nvPr/>
        </p:nvSpPr>
        <p:spPr>
          <a:xfrm>
            <a:off x="762120" y="2590920"/>
            <a:ext cx="76960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398" name="WordArt 7"/>
          <p:cNvSpPr txBox="1"/>
          <p:nvPr/>
        </p:nvSpPr>
        <p:spPr>
          <a:xfrm>
            <a:off x="762120" y="1523880"/>
            <a:ext cx="7619760" cy="38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Closed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99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ime1564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is type of dot go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n the 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1" fill="hold"/>
                                        <p:tgtEl>
                                          <p:spTgt spid="4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762120" y="1295280"/>
            <a:ext cx="761976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Open dot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15" name="WordArt 9"/>
          <p:cNvSpPr txBox="1"/>
          <p:nvPr/>
        </p:nvSpPr>
        <p:spPr>
          <a:xfrm>
            <a:off x="762120" y="1866960"/>
            <a:ext cx="761976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lt; 3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7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0" name="WordArt 7"/>
          <p:cNvSpPr txBox="1"/>
          <p:nvPr/>
        </p:nvSpPr>
        <p:spPr>
          <a:xfrm>
            <a:off x="1523880" y="1447920"/>
            <a:ext cx="61722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lef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3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26" name="WordArt 11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x &gt; -2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7"/>
          <p:cNvSpPr txBox="1"/>
          <p:nvPr/>
        </p:nvSpPr>
        <p:spPr>
          <a:xfrm>
            <a:off x="762120" y="1066680"/>
            <a:ext cx="7619760" cy="472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29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2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ime1580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7" name="WordArt 10"/>
          <p:cNvSpPr txBox="1"/>
          <p:nvPr/>
        </p:nvSpPr>
        <p:spPr>
          <a:xfrm>
            <a:off x="838080" y="1828800"/>
            <a:ext cx="762012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graphing 2 &lt; y,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e this part of th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mber lin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WordArt 7"/>
          <p:cNvSpPr txBox="1"/>
          <p:nvPr/>
        </p:nvSpPr>
        <p:spPr>
          <a:xfrm>
            <a:off x="762120" y="1295280"/>
            <a:ext cx="761976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right of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4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3" name="AutoShape 8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49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4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95520" cy="15876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762120" y="2133720"/>
            <a:ext cx="76960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WordArt 2"/>
          <p:cNvSpPr txBox="1"/>
          <p:nvPr/>
        </p:nvSpPr>
        <p:spPr>
          <a:xfrm>
            <a:off x="914400" y="1219320"/>
            <a:ext cx="7391520" cy="43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intersect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5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time1595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1" name="WordArt 8"/>
          <p:cNvSpPr txBox="1"/>
          <p:nvPr/>
        </p:nvSpPr>
        <p:spPr>
          <a:xfrm>
            <a:off x="838080" y="1371600"/>
            <a:ext cx="7543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scribe the shaded region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the Venn diagram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2" name="Picture 10" descr=""/>
          <p:cNvPicPr/>
          <p:nvPr/>
        </p:nvPicPr>
        <p:blipFill>
          <a:blip r:embed="rId2"/>
          <a:stretch/>
        </p:blipFill>
        <p:spPr>
          <a:xfrm>
            <a:off x="3324240" y="3962520"/>
            <a:ext cx="2495520" cy="1587240"/>
          </a:xfrm>
          <a:prstGeom prst="rect">
            <a:avLst/>
          </a:prstGeom>
          <a:ln w="0">
            <a:noFill/>
          </a:ln>
        </p:spPr>
      </p:pic>
      <p:sp>
        <p:nvSpPr>
          <p:cNvPr id="4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3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4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WordArt 2"/>
          <p:cNvSpPr txBox="1"/>
          <p:nvPr/>
        </p:nvSpPr>
        <p:spPr>
          <a:xfrm>
            <a:off x="1219320" y="1523880"/>
            <a:ext cx="68580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union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65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73" name="WordArt 7"/>
          <p:cNvSpPr txBox="1"/>
          <p:nvPr/>
        </p:nvSpPr>
        <p:spPr>
          <a:xfrm>
            <a:off x="838080" y="17524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y &lt; -6 or 3y &gt; 0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4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WordArt 2"/>
          <p:cNvSpPr txBox="1"/>
          <p:nvPr/>
        </p:nvSpPr>
        <p:spPr>
          <a:xfrm>
            <a:off x="914400" y="1981080"/>
            <a:ext cx="74674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y &lt; -3 or y &gt; 0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76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79" name="AutoShape 9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84" name="WordArt 6"/>
          <p:cNvSpPr txBox="1"/>
          <p:nvPr/>
        </p:nvSpPr>
        <p:spPr>
          <a:xfrm>
            <a:off x="800280" y="1714680"/>
            <a:ext cx="75438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3x &gt; 6 and 2x &gt; -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1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2"/>
          <p:cNvSpPr txBox="1"/>
          <p:nvPr/>
        </p:nvSpPr>
        <p:spPr>
          <a:xfrm>
            <a:off x="838080" y="19051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3 &lt; x &lt; -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87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2"/>
          <p:cNvSpPr txBox="1"/>
          <p:nvPr/>
        </p:nvSpPr>
        <p:spPr>
          <a:xfrm>
            <a:off x="838080" y="1828800"/>
            <a:ext cx="7620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-8 &lt; 2z - 4 &lt; 4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time1611.wav" descr=""/>
          <p:cNvPicPr/>
          <p:nvPr/>
        </p:nvPicPr>
        <p:blipFill>
          <a:blip r:embed="rId1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1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2"/>
          <p:cNvSpPr txBox="1"/>
          <p:nvPr/>
        </p:nvSpPr>
        <p:spPr>
          <a:xfrm>
            <a:off x="838080" y="19051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-2 &lt; z &lt; 4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498" name="WordArt 3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343480" y="41990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05" name="WordArt 3"/>
          <p:cNvSpPr txBox="1"/>
          <p:nvPr/>
        </p:nvSpPr>
        <p:spPr>
          <a:xfrm>
            <a:off x="914400" y="4572000"/>
            <a:ext cx="746748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00"/>
                    </a:gs>
                    <a:gs pos="50000">
                      <a:srgbClr val="ffff00"/>
                    </a:gs>
                    <a:gs pos="100000">
                      <a:srgbClr val="767600"/>
                    </a:gs>
                  </a:gsLst>
                  <a:lin ang="5400000"/>
                </a:gradFill>
                <a:latin typeface="Comic Sans MS"/>
              </a:rPr>
              <a:t>Perimet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00"/>
                  </a:gs>
                  <a:gs pos="50000">
                    <a:srgbClr val="ffff00"/>
                  </a:gs>
                  <a:gs pos="100000">
                    <a:srgbClr val="7676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506" name="AutoShape 5"/>
          <p:cNvSpPr/>
          <p:nvPr/>
        </p:nvSpPr>
        <p:spPr>
          <a:xfrm>
            <a:off x="1143000" y="175248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7" name="AutoShape 6"/>
          <p:cNvSpPr/>
          <p:nvPr/>
        </p:nvSpPr>
        <p:spPr>
          <a:xfrm>
            <a:off x="7620120" y="19810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2f00"/>
              </a:gs>
              <a:gs pos="50000">
                <a:srgbClr val="ff6600"/>
              </a:gs>
              <a:gs pos="100000">
                <a:srgbClr val="76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8" name="AutoShape 7"/>
          <p:cNvSpPr/>
          <p:nvPr/>
        </p:nvSpPr>
        <p:spPr>
          <a:xfrm>
            <a:off x="6934320" y="358128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09" name="AutoShape 8"/>
          <p:cNvSpPr/>
          <p:nvPr/>
        </p:nvSpPr>
        <p:spPr>
          <a:xfrm>
            <a:off x="1981080" y="1219320"/>
            <a:ext cx="76212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007600"/>
              </a:gs>
              <a:gs pos="50000">
                <a:srgbClr val="00ff00"/>
              </a:gs>
              <a:gs pos="100000">
                <a:srgbClr val="00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0" name="AutoShape 9"/>
          <p:cNvSpPr/>
          <p:nvPr/>
        </p:nvSpPr>
        <p:spPr>
          <a:xfrm>
            <a:off x="6019920" y="1676520"/>
            <a:ext cx="761760" cy="685800"/>
          </a:xfrm>
          <a:custGeom>
            <a:avLst/>
            <a:gdLst/>
            <a:ahLst/>
            <a:rect l="l" t="t" r="r" b="b"/>
            <a:pathLst>
              <a:path w="762000" h="685800">
                <a:moveTo>
                  <a:pt x="1" y="261952"/>
                </a:moveTo>
                <a:lnTo>
                  <a:pt x="291060" y="261953"/>
                </a:lnTo>
                <a:lnTo>
                  <a:pt x="381000" y="0"/>
                </a:lnTo>
                <a:lnTo>
                  <a:pt x="470940" y="261953"/>
                </a:lnTo>
                <a:lnTo>
                  <a:pt x="761999" y="261952"/>
                </a:lnTo>
                <a:lnTo>
                  <a:pt x="526526" y="423846"/>
                </a:lnTo>
                <a:lnTo>
                  <a:pt x="616470" y="685798"/>
                </a:lnTo>
                <a:lnTo>
                  <a:pt x="381000" y="523901"/>
                </a:lnTo>
                <a:lnTo>
                  <a:pt x="145530" y="685798"/>
                </a:lnTo>
                <a:lnTo>
                  <a:pt x="235474" y="423846"/>
                </a:lnTo>
                <a:lnTo>
                  <a:pt x="1" y="261952"/>
                </a:lnTo>
                <a:close/>
              </a:path>
            </a:pathLst>
          </a:custGeom>
          <a:gradFill rotWithShape="0">
            <a:gsLst>
              <a:gs pos="0">
                <a:srgbClr val="760000"/>
              </a:gs>
              <a:gs pos="50000">
                <a:srgbClr val="ff0000"/>
              </a:gs>
              <a:gs pos="100000">
                <a:srgbClr val="76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1066680" y="1447920"/>
            <a:ext cx="70106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666880" y="3276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jeop1627.wav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513" name="WordArt 7"/>
          <p:cNvSpPr txBox="1"/>
          <p:nvPr/>
        </p:nvSpPr>
        <p:spPr>
          <a:xfrm>
            <a:off x="762120" y="1447920"/>
            <a:ext cx="76960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erimeter of the given rectangle is 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 least 92 cm. Using the diagram, write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inequality representing the perimeter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14" name="time1627.wav" descr=""/>
          <p:cNvPicPr/>
          <p:nvPr/>
        </p:nvPicPr>
        <p:blipFill>
          <a:blip r:embed="rId2"/>
          <a:stretch/>
        </p:blipFill>
        <p:spPr>
          <a:xfrm>
            <a:off x="7924680" y="-38088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515" name="Group 13"/>
          <p:cNvGrpSpPr/>
          <p:nvPr/>
        </p:nvGrpSpPr>
        <p:grpSpPr>
          <a:xfrm>
            <a:off x="3429000" y="4214880"/>
            <a:ext cx="3162600" cy="1576440"/>
            <a:chOff x="3429000" y="4214880"/>
            <a:chExt cx="3162600" cy="1576440"/>
          </a:xfrm>
        </p:grpSpPr>
        <p:sp>
          <p:nvSpPr>
            <p:cNvPr id="516" name="Rectangle 10"/>
            <p:cNvSpPr/>
            <p:nvPr/>
          </p:nvSpPr>
          <p:spPr>
            <a:xfrm>
              <a:off x="3429000" y="4648320"/>
              <a:ext cx="220968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5639760" y="491832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3x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  <p:sp>
          <p:nvSpPr>
            <p:cNvPr id="518" name="Rectangle 12"/>
            <p:cNvSpPr/>
            <p:nvPr/>
          </p:nvSpPr>
          <p:spPr>
            <a:xfrm>
              <a:off x="3902760" y="4214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</a:rPr>
                <a:t>x + 3 cm</a:t>
              </a:r>
              <a:endParaRPr b="0" lang="en-US" sz="2400" spc="-1" strike="noStrike">
                <a:solidFill>
                  <a:srgbClr val="005fbe"/>
                </a:solidFill>
                <a:latin typeface="Times New Roman"/>
              </a:endParaRPr>
            </a:p>
          </p:txBody>
        </p:sp>
      </p:grp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20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5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WordArt 3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1" name="Picture 4" descr="hh01633_"/>
          <p:cNvPicPr/>
          <p:nvPr/>
        </p:nvPicPr>
        <p:blipFill>
          <a:blip r:embed="rId1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0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WordArt 2"/>
          <p:cNvSpPr txBox="1"/>
          <p:nvPr/>
        </p:nvSpPr>
        <p:spPr>
          <a:xfrm>
            <a:off x="990720" y="1523880"/>
            <a:ext cx="73152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8x + 6 &gt;= 92"?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295280" y="1295280"/>
            <a:ext cx="678204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AutoShape 11"/>
          <p:cNvSpPr/>
          <p:nvPr/>
        </p:nvSpPr>
        <p:spPr>
          <a:xfrm>
            <a:off x="5257800" y="3276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8"/>
                </a:lnTo>
                <a:lnTo>
                  <a:pt x="739765" y="914398"/>
                </a:lnTo>
                <a:lnTo>
                  <a:pt x="457200" y="698535"/>
                </a:lnTo>
                <a:lnTo>
                  <a:pt x="174635" y="914398"/>
                </a:lnTo>
                <a:lnTo>
                  <a:pt x="282568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8" name="AutoShape 15"/>
          <p:cNvSpPr/>
          <p:nvPr/>
        </p:nvSpPr>
        <p:spPr>
          <a:xfrm>
            <a:off x="3200400" y="16765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2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30" name="CHIM1642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31" name="AutoShape 4"/>
          <p:cNvSpPr/>
          <p:nvPr/>
        </p:nvSpPr>
        <p:spPr>
          <a:xfrm>
            <a:off x="1371600" y="914400"/>
            <a:ext cx="685800" cy="685800"/>
          </a:xfrm>
          <a:custGeom>
            <a:avLst/>
            <a:gdLst/>
            <a:ahLst/>
            <a:rect l="l" t="t" r="r" b="b"/>
            <a:pathLst>
              <a:path w="685800" h="685800">
                <a:moveTo>
                  <a:pt x="1" y="261952"/>
                </a:moveTo>
                <a:lnTo>
                  <a:pt x="261954" y="261953"/>
                </a:lnTo>
                <a:lnTo>
                  <a:pt x="342900" y="0"/>
                </a:lnTo>
                <a:lnTo>
                  <a:pt x="423846" y="261953"/>
                </a:lnTo>
                <a:lnTo>
                  <a:pt x="685799" y="261952"/>
                </a:lnTo>
                <a:lnTo>
                  <a:pt x="473874" y="423846"/>
                </a:lnTo>
                <a:lnTo>
                  <a:pt x="554823" y="685798"/>
                </a:lnTo>
                <a:lnTo>
                  <a:pt x="342900" y="523901"/>
                </a:lnTo>
                <a:lnTo>
                  <a:pt x="130977" y="685798"/>
                </a:lnTo>
                <a:lnTo>
                  <a:pt x="211926" y="423846"/>
                </a:lnTo>
                <a:lnTo>
                  <a:pt x="1" y="261952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2" name="AutoShape 5"/>
          <p:cNvSpPr/>
          <p:nvPr/>
        </p:nvSpPr>
        <p:spPr>
          <a:xfrm>
            <a:off x="990720" y="15238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3" name="AutoShape 6"/>
          <p:cNvSpPr/>
          <p:nvPr/>
        </p:nvSpPr>
        <p:spPr>
          <a:xfrm>
            <a:off x="7086600" y="15238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4" name="AutoShape 7"/>
          <p:cNvSpPr/>
          <p:nvPr/>
        </p:nvSpPr>
        <p:spPr>
          <a:xfrm>
            <a:off x="7620120" y="19051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5" name="AutoShape 8"/>
          <p:cNvSpPr/>
          <p:nvPr/>
        </p:nvSpPr>
        <p:spPr>
          <a:xfrm>
            <a:off x="914400" y="9907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8195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7" name="AutoShape 10"/>
          <p:cNvSpPr/>
          <p:nvPr/>
        </p:nvSpPr>
        <p:spPr>
          <a:xfrm>
            <a:off x="7162920" y="2209680"/>
            <a:ext cx="533160" cy="533520"/>
          </a:xfrm>
          <a:custGeom>
            <a:avLst/>
            <a:gdLst/>
            <a:ahLst/>
            <a:rect l="l" t="t" r="r" b="b"/>
            <a:pathLst>
              <a:path w="533400" h="533400">
                <a:moveTo>
                  <a:pt x="1" y="203740"/>
                </a:moveTo>
                <a:lnTo>
                  <a:pt x="203742" y="203742"/>
                </a:lnTo>
                <a:lnTo>
                  <a:pt x="266700" y="0"/>
                </a:lnTo>
                <a:lnTo>
                  <a:pt x="329658" y="203742"/>
                </a:lnTo>
                <a:lnTo>
                  <a:pt x="533399" y="203740"/>
                </a:lnTo>
                <a:lnTo>
                  <a:pt x="368569" y="329658"/>
                </a:lnTo>
                <a:lnTo>
                  <a:pt x="431529" y="533399"/>
                </a:lnTo>
                <a:lnTo>
                  <a:pt x="266700" y="407479"/>
                </a:lnTo>
                <a:lnTo>
                  <a:pt x="101871" y="533399"/>
                </a:lnTo>
                <a:lnTo>
                  <a:pt x="164831" y="329658"/>
                </a:lnTo>
                <a:lnTo>
                  <a:pt x="1" y="20374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3733920" y="54100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4191120" y="50292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0" name="AutoShape 14"/>
          <p:cNvSpPr/>
          <p:nvPr/>
        </p:nvSpPr>
        <p:spPr>
          <a:xfrm>
            <a:off x="3429000" y="4876920"/>
            <a:ext cx="380880" cy="38088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1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89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9"/>
                            </p:stCondLst>
                            <p:childTnLst>
                              <p:par>
                                <p:cTn id="3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189"/>
                            </p:stCondLst>
                            <p:childTnLst>
                              <p:par>
                                <p:cTn id="3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jeopardy"/>
          <p:cNvPicPr/>
          <p:nvPr/>
        </p:nvPicPr>
        <p:blipFill>
          <a:blip r:embed="rId1"/>
          <a:stretch/>
        </p:blipFill>
        <p:spPr>
          <a:xfrm>
            <a:off x="228600" y="1219320"/>
            <a:ext cx="8610480" cy="4572000"/>
          </a:xfrm>
          <a:prstGeom prst="rect">
            <a:avLst/>
          </a:prstGeom>
          <a:ln w="0">
            <a:noFill/>
          </a:ln>
        </p:spPr>
      </p:pic>
      <p:pic>
        <p:nvPicPr>
          <p:cNvPr id="545" name="time165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2895480" y="5943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9ff95"/>
                </a:solidFill>
                <a:latin typeface="Capitals"/>
              </a:rPr>
              <a:t>With Mr. Tyler</a:t>
            </a:r>
            <a:endParaRPr b="0" lang="en-US" sz="24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5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479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28600" y="3049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dd/Sub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2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3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6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19" name="Text Box 52">
            <a:hlinkClick r:id="rId11" action="ppaction://hlinksldjump"/>
          </p:cNvPr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0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1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2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3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4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5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6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7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8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29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0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1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2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3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4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5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1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6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7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8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39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0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sp>
        <p:nvSpPr>
          <p:cNvPr id="141" name="WordArt 77"/>
          <p:cNvSpPr txBox="1"/>
          <p:nvPr/>
        </p:nvSpPr>
        <p:spPr>
          <a:xfrm>
            <a:off x="7772400" y="299880"/>
            <a:ext cx="12193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ompound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Inequalitie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78"/>
          <p:cNvSpPr txBox="1"/>
          <p:nvPr/>
        </p:nvSpPr>
        <p:spPr>
          <a:xfrm>
            <a:off x="6248520" y="457200"/>
            <a:ext cx="123012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raphing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WordArt 79"/>
          <p:cNvSpPr txBox="1"/>
          <p:nvPr/>
        </p:nvSpPr>
        <p:spPr>
          <a:xfrm>
            <a:off x="4753080" y="446040"/>
            <a:ext cx="120636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scellaneous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3257640" y="426960"/>
            <a:ext cx="11286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2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45" name="boar1455.wav" descr=""/>
          <p:cNvPicPr/>
          <p:nvPr/>
        </p:nvPicPr>
        <p:blipFill>
          <a:blip r:embed="rId3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88"/>
          <p:cNvSpPr txBox="1"/>
          <p:nvPr/>
        </p:nvSpPr>
        <p:spPr>
          <a:xfrm>
            <a:off x="1778040" y="330120"/>
            <a:ext cx="111744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1-step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ult/Div</a:t>
            </a:r>
            <a:endParaRPr b="1" lang="en-US" sz="8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762120" y="1227240"/>
            <a:ext cx="7619760" cy="44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lve.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 - 3 &lt; 6</a:t>
            </a:r>
            <a:endParaRPr b="1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5fbe"/>
              </a:solidFill>
              <a:latin typeface="Times New Roman"/>
            </a:endParaRPr>
          </a:p>
        </p:txBody>
      </p:sp>
      <p:pic>
        <p:nvPicPr>
          <p:cNvPr id="152" name="time1455.wav" descr=""/>
          <p:cNvPicPr/>
          <p:nvPr/>
        </p:nvPicPr>
        <p:blipFill>
          <a:blip r:embed="rId1"/>
          <a:stretch/>
        </p:blipFill>
        <p:spPr>
          <a:xfrm>
            <a:off x="7924680" y="-5335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5fb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LEGION</cp:lastModifiedBy>
  <dcterms:modified xsi:type="dcterms:W3CDTF">2017-07-06T06:35:22Z</dcterms:modified>
  <cp:revision>175</cp:revision>
  <dc:subject/>
  <dc:title>No Slide Title</dc:title>
</cp:coreProperties>
</file>